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50E-BE86-4A90-AF0F-8D487395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C40-9DA1-4EF5-B9D0-A61E5F56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D08-E56D-4591-8C41-A4F86F94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755-F09E-4670-80AE-003B30D0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A6BD-002F-498B-8794-21A9107E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D0F-0CE6-4378-B766-5B92E891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B8B2-B89A-44DF-9259-D937AA95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3243-5855-41BE-9D54-0909EE8C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FDFF-189B-41D2-BAF8-9D949E9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2902-A0C0-4C92-BD80-2D1F3EFA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F625-99AF-4258-ABEC-B1173F84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BC3-9E55-44BE-891B-8BE6A09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BE3F-C83D-4DBE-B63A-11398E9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160-9C21-448F-8702-D59B22F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7716-6C90-4C1D-9DE1-9F3BE77F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5D2D-FA9B-434C-A253-5E7B4414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B134-418D-4529-8BBF-67E50718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2C4-2402-4561-8E51-8F8D4957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1F1-99AF-4857-87D4-C3270D9B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CDA-1855-4B9E-BB8B-E70149D6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2B0-9433-4910-99D7-12B3B1A2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7AA-2100-4B9C-B518-CFD921CE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6B5-AF6D-4200-A932-172EDBD7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ED8-A402-4C8E-9868-EDD94D0C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6183-0651-47D5-B9BA-4DAD458CE4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76AE-93D5-491E-9263-0B87FCD415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Шар</a:t>
            </a:r>
            <a:br>
              <a:rPr sz="8000"/>
            </a:b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дип Эмма Эрес-ооловна учитель математики МБОУ «Хову-Аксныксая СОШ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емля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000160" y="1599840"/>
            <a:ext cx="5857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земной шар"/>
          <p:cNvPicPr/>
          <p:nvPr/>
        </p:nvPicPr>
        <p:blipFill>
          <a:blip r:embed="rId1"/>
          <a:stretch/>
        </p:blipFill>
        <p:spPr>
          <a:xfrm>
            <a:off x="1857240" y="1500120"/>
            <a:ext cx="6072480" cy="509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508720" y="907920"/>
            <a:ext cx="3178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ружность арены во всех цирках мира имеет длину 40,8 м. Найдите диаметр и площадь арены. Результат округлите  до целы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цирк"/>
          <p:cNvPicPr/>
          <p:nvPr/>
        </p:nvPicPr>
        <p:blipFill>
          <a:blip r:embed="rId1"/>
          <a:stretch/>
        </p:blipFill>
        <p:spPr>
          <a:xfrm>
            <a:off x="0" y="357120"/>
            <a:ext cx="5364000" cy="63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ар и его эле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00160" y="1357200"/>
            <a:ext cx="521496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990800" y="1484280"/>
            <a:ext cx="5162400" cy="45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.25 изучить, № 845 - на «3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№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71 – на «4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№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72 – на «5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Итоги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ового узнали на урок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у научилис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зывается радиусом шара? Диаметром шар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ое сфер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ценки за урок поставьте себе са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е поняли и заработали баллы при решении пример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Picture 8" descr="окружность1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18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окружность2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е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иаметры стволо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эвкалипта, с=25 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)мамонтова дерев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=32 м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мамонтово дерево"/>
          <p:cNvPicPr/>
          <p:nvPr/>
        </p:nvPicPr>
        <p:blipFill>
          <a:blip r:embed="rId1"/>
          <a:stretch/>
        </p:blipFill>
        <p:spPr>
          <a:xfrm>
            <a:off x="468360" y="333360"/>
            <a:ext cx="3166920" cy="56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ствола эвкалипта 8,1 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ствола мамонтова дерева 10,3 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79640" y="333360"/>
            <a:ext cx="52052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танкинская телебашня в Москве опирается на площадку, имеющую форму кольца. Диаметр наружной окружности 63 м, а внутренней окружности 44 м.  Вычислите площадь фундамента Останкинской телебашн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4" descr="останкино"/>
          <p:cNvPicPr/>
          <p:nvPr/>
        </p:nvPicPr>
        <p:blipFill>
          <a:blip r:embed="rId1"/>
          <a:stretch/>
        </p:blipFill>
        <p:spPr>
          <a:xfrm>
            <a:off x="0" y="0"/>
            <a:ext cx="3597120" cy="6840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4119480" y="3860640"/>
            <a:ext cx="434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779640" y="333360"/>
            <a:ext cx="52052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танкинская телебашня в Москве опирается на площадку, имеющую форму кольца. Диаметр наружной окружности 63 м, а внутренней окружности 44 м.  Вычислите площадь фундамента Останкинской телебашн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останкино"/>
          <p:cNvPicPr/>
          <p:nvPr/>
        </p:nvPicPr>
        <p:blipFill>
          <a:blip r:embed="rId1"/>
          <a:stretch/>
        </p:blipFill>
        <p:spPr>
          <a:xfrm>
            <a:off x="0" y="0"/>
            <a:ext cx="3597120" cy="6840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119480" y="3860640"/>
            <a:ext cx="434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95640" y="44370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525   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848200" y="4221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здушный ша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4" descr="вздушный шар"/>
          <p:cNvPicPr/>
          <p:nvPr/>
        </p:nvPicPr>
        <p:blipFill>
          <a:blip r:embed="rId1"/>
          <a:stretch/>
        </p:blipFill>
        <p:spPr>
          <a:xfrm>
            <a:off x="500040" y="1500120"/>
            <a:ext cx="8143920" cy="516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4" descr="мяч"/>
          <p:cNvPicPr/>
          <p:nvPr/>
        </p:nvPicPr>
        <p:blipFill>
          <a:blip r:embed="rId1"/>
          <a:stretch/>
        </p:blipFill>
        <p:spPr>
          <a:xfrm>
            <a:off x="428760" y="214200"/>
            <a:ext cx="8215200" cy="587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7:21Z</dcterms:created>
  <dc:creator>МОУ СОШ №14</dc:creator>
  <dc:description/>
  <dc:language>en-US</dc:language>
  <cp:lastModifiedBy>Admin</cp:lastModifiedBy>
  <dcterms:modified xsi:type="dcterms:W3CDTF">2012-03-08T01:26:05Z</dcterms:modified>
  <cp:revision>10</cp:revision>
  <dc:subject/>
  <dc:title>Шар </dc:title>
</cp:coreProperties>
</file>