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204-44FD-4DF5-B5A1-9BC9C6FC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931-6F89-4E79-8350-0FF580F1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CBC-EA93-4A34-92AB-14E969F3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AF3-06B1-4315-8D59-178D44D1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653-3F87-4664-BE22-9B5E7816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FBB-734C-4B24-B4C6-6A238028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232-1162-4A43-A0CE-00353D08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3BD-AD6F-40A4-9131-B4494585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2E7-90B2-4A56-9F84-23C96E9E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86C-AE62-4003-AB97-47D2B493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7A8-2CF7-4921-BABC-6EAA155A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20C-7BC7-418B-B860-741D8734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DDC7-EE86-4DFB-A66E-53F6E9EE5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404640"/>
            <a:ext cx="5343480" cy="8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ansverse section of a Leaf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1773360"/>
            <a:ext cx="2836800" cy="360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89080" y="45086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49800" y="23493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3800" y="364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080" y="22050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xy c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2492280"/>
            <a:ext cx="165744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95640" y="3573000"/>
            <a:ext cx="20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651640" y="2565360"/>
            <a:ext cx="1296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643280" y="4508640"/>
            <a:ext cx="19447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5840" y="404640"/>
            <a:ext cx="86072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780000" y="260280"/>
            <a:ext cx="1879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Question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125360"/>
            <a:ext cx="7848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Which gas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ed 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photo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Which gas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duc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photo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What two things does the plant need for photosynthesis but aren’t exactly used up in the proc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What colour of light does chlorophyll refl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What is the whole point of photo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What does the plant store glucose 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 What colour does iodine go if there is lots of this storage sub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Does a plant do respiration as well as photo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What is respi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 Does respiration produce or use up carbon diox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780000" y="260280"/>
            <a:ext cx="1879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nswer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125360"/>
            <a:ext cx="7848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Chlorophyll and sun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G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For a plant to produce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St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Using glucose and oxygen to mak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 Pro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18:49:45Z</dcterms:created>
  <dc:creator>joe scrivens</dc:creator>
  <dc:description/>
  <dc:language>en-US</dc:language>
  <cp:lastModifiedBy>jscrivens</cp:lastModifiedBy>
  <dcterms:modified xsi:type="dcterms:W3CDTF">2006-01-31T17:12:58Z</dcterms:modified>
  <cp:revision>12</cp:revision>
  <dc:subject/>
  <dc:title>Slide 1</dc:title>
</cp:coreProperties>
</file>