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4.png" ContentType="image/png"/>
  <Override PartName="/ppt/media/image27.png" ContentType="image/png"/>
  <Override PartName="/ppt/media/image5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19.jpeg" ContentType="image/jpeg"/>
  <Override PartName="/ppt/media/image25.png" ContentType="image/png"/>
  <Override PartName="/ppt/media/image2.png" ContentType="image/png"/>
  <Override PartName="/ppt/media/image7.wmf" ContentType="image/x-wmf"/>
  <Override PartName="/ppt/media/image30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F24-94BC-468F-9083-A33A6E2B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B94-DDD4-43DC-ACC2-F45A78BF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476-499A-42B4-B680-857900F7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54B-4F5E-4A6E-B9D4-20E81FF8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0A33-49EF-4AED-9101-1584CD55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4828-8402-4F41-B64A-A31758C2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BDC0-7391-4505-8A0D-3F549328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4A3A-E114-491A-97D1-E2E89D85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40B2-09CD-4910-A0FE-05CADD7D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3FFD-2528-484E-BF72-BE151DB4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C069-4FC8-4D2B-9697-D84963DC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319-8736-4E48-A27B-C9CAE6F2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7FBA-4DE1-4EEC-B63F-5A0F7A3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BBCE-E5CA-4D45-8D27-46FF08B9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CF63-4779-4090-ABFC-849DC8DD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AA99-DB24-4450-B63F-569476A2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4DF5-153A-4455-8032-445B2419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E40-0BD8-45E5-BD2E-377D395D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2EB-7CDE-4304-8C95-27FF6D05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759-27B0-45DF-B97D-5F460C5F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8D1-7E4F-464B-B35C-1D48C070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239-23D1-4954-908A-766E7DF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F12-8A4C-4F41-B5F9-099EBBFD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EF0-4C65-4CE2-A5A9-55131993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75A7-05D2-4115-9A2B-77119E432B5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7663-9EA5-48D7-9398-A2744CA62C2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79640" y="1557360"/>
            <a:ext cx="47530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70818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сштаб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70818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6237360"/>
            <a:ext cx="1582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4103640" cy="2292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635280" y="5661000"/>
            <a:ext cx="14414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6 класс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86760" y="1916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43640" y="184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198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08000" y="1341360"/>
            <a:ext cx="59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66"/>
                </a:solidFill>
                <a:latin typeface="Comic Sans MS"/>
              </a:rPr>
              <a:t>Что такое масштаб?</a:t>
            </a:r>
            <a:endParaRPr b="0" lang="en-US" sz="7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691080" y="3789360"/>
            <a:ext cx="190476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635040" y="1197000"/>
            <a:ext cx="7622280" cy="3839040"/>
            <a:chOff x="635040" y="1197000"/>
            <a:chExt cx="7622280" cy="3839040"/>
          </a:xfrm>
        </p:grpSpPr>
        <p:grpSp>
          <p:nvGrpSpPr>
            <p:cNvPr id="256" name=""/>
            <p:cNvGrpSpPr/>
            <p:nvPr/>
          </p:nvGrpSpPr>
          <p:grpSpPr>
            <a:xfrm>
              <a:off x="635040" y="1197000"/>
              <a:ext cx="7622280" cy="3839040"/>
              <a:chOff x="635040" y="1197000"/>
              <a:chExt cx="7622280" cy="383904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718920" y="1197000"/>
                <a:ext cx="7538400" cy="3638520"/>
                <a:chOff x="718920" y="1197000"/>
                <a:chExt cx="7538400" cy="36385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767880" y="1204920"/>
                  <a:ext cx="7489440" cy="35272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718920" y="1197000"/>
                  <a:ext cx="7536960" cy="3638520"/>
                  <a:chOff x="718920" y="1197000"/>
                  <a:chExt cx="7536960" cy="3638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718920" y="1900080"/>
                    <a:ext cx="148896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938" h="1849">
                        <a:moveTo>
                          <a:pt x="27" y="230"/>
                        </a:moveTo>
                        <a:cubicBezTo>
                          <a:pt x="52" y="206"/>
                          <a:pt x="111" y="121"/>
                          <a:pt x="182" y="85"/>
                        </a:cubicBezTo>
                        <a:cubicBezTo>
                          <a:pt x="253" y="49"/>
                          <a:pt x="357" y="0"/>
                          <a:pt x="453" y="12"/>
                        </a:cubicBezTo>
                        <a:cubicBezTo>
                          <a:pt x="550" y="24"/>
                          <a:pt x="686" y="97"/>
                          <a:pt x="764" y="158"/>
                        </a:cubicBezTo>
                        <a:cubicBezTo>
                          <a:pt x="764" y="158"/>
                          <a:pt x="899" y="279"/>
                          <a:pt x="918" y="376"/>
                        </a:cubicBezTo>
                        <a:cubicBezTo>
                          <a:pt x="938" y="473"/>
                          <a:pt x="918" y="637"/>
                          <a:pt x="880" y="739"/>
                        </a:cubicBezTo>
                        <a:cubicBezTo>
                          <a:pt x="841" y="842"/>
                          <a:pt x="756" y="899"/>
                          <a:pt x="718" y="989"/>
                        </a:cubicBezTo>
                        <a:cubicBezTo>
                          <a:pt x="679" y="1080"/>
                          <a:pt x="720" y="1242"/>
                          <a:pt x="702" y="1333"/>
                        </a:cubicBezTo>
                        <a:cubicBezTo>
                          <a:pt x="684" y="1424"/>
                          <a:pt x="664" y="1485"/>
                          <a:pt x="609" y="1538"/>
                        </a:cubicBezTo>
                        <a:cubicBezTo>
                          <a:pt x="564" y="1599"/>
                          <a:pt x="446" y="1630"/>
                          <a:pt x="375" y="1648"/>
                        </a:cubicBezTo>
                        <a:cubicBezTo>
                          <a:pt x="304" y="1666"/>
                          <a:pt x="240" y="1654"/>
                          <a:pt x="182" y="1648"/>
                        </a:cubicBezTo>
                        <a:cubicBezTo>
                          <a:pt x="124" y="1642"/>
                          <a:pt x="52" y="1849"/>
                          <a:pt x="26" y="1613"/>
                        </a:cubicBezTo>
                        <a:cubicBezTo>
                          <a:pt x="0" y="1376"/>
                          <a:pt x="27" y="518"/>
                          <a:pt x="27" y="230"/>
                        </a:cubicBez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66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92240" y="1197000"/>
                    <a:ext cx="266364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1920240" y="3130560"/>
                    <a:ext cx="583200" cy="666720"/>
                    <a:chOff x="1920240" y="3130560"/>
                    <a:chExt cx="583200" cy="66672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 flipH="1">
                      <a:off x="1920240" y="3147840"/>
                      <a:ext cx="71280" cy="649440"/>
                    </a:xfrm>
                    <a:prstGeom prst="line">
                      <a:avLst/>
                    </a:prstGeom>
                    <a:ln w="38160">
                      <a:solidFill>
                        <a:srgbClr val="f8f8f8"/>
                      </a:solidFill>
                      <a:miter/>
                      <a:headEnd len="med" type="oval" w="med"/>
                      <a:tail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rot="5638800">
                      <a:off x="2098800" y="3039840"/>
                      <a:ext cx="287280" cy="502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3300"/>
                    </a:solidFill>
                    <a:ln w="5724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65" name=""/>
              <p:cNvSpPr/>
              <p:nvPr/>
            </p:nvSpPr>
            <p:spPr>
              <a:xfrm rot="20671800">
                <a:off x="3073320" y="2599920"/>
                <a:ext cx="158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8 см</a:t>
                </a:r>
                <a:endParaRPr b="0" lang="en-US" sz="2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776240" y="3868560"/>
                <a:ext cx="1295280" cy="11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лагерь туристов</a:t>
                </a:r>
                <a:endParaRPr b="0" lang="en-US" sz="2000" spc="-1" strike="noStrike">
                  <a:solidFill>
                    <a:srgbClr val="f8f8f8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272600">
                <a:off x="685080" y="2774520"/>
                <a:ext cx="1542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озеро Глубокое</a:t>
                </a:r>
                <a:endParaRPr b="0" lang="en-US" sz="20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68960" y="2716200"/>
                <a:ext cx="136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лес</a:t>
                </a:r>
                <a:endParaRPr b="0" lang="en-US" sz="20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flipV="1">
              <a:off x="1979640" y="2707920"/>
              <a:ext cx="367200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82560" y="260280"/>
            <a:ext cx="792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59280" y="4553280"/>
            <a:ext cx="3745080" cy="1572840"/>
            <a:chOff x="4859280" y="4553280"/>
            <a:chExt cx="3745080" cy="1572840"/>
          </a:xfrm>
        </p:grpSpPr>
        <p:sp>
          <p:nvSpPr>
            <p:cNvPr id="272" name=""/>
            <p:cNvSpPr/>
            <p:nvPr/>
          </p:nvSpPr>
          <p:spPr>
            <a:xfrm>
              <a:off x="4859280" y="5300640"/>
              <a:ext cx="374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все размеры на карте уменьшены в 5 000 раз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660000">
              <a:off x="7195320" y="4825080"/>
              <a:ext cx="852480" cy="288720"/>
            </a:xfrm>
            <a:prstGeom prst="rightArrow">
              <a:avLst>
                <a:gd name="adj1" fmla="val 50000"/>
                <a:gd name="adj2" fmla="val 73815"/>
              </a:avLst>
            </a:prstGeom>
            <a:solidFill>
              <a:srgbClr val="ff33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971640" y="1341360"/>
            <a:ext cx="431640" cy="142920"/>
          </a:xfrm>
          <a:prstGeom prst="triangle">
            <a:avLst>
              <a:gd name="adj" fmla="val 50000"/>
            </a:avLst>
          </a:prstGeom>
          <a:solidFill>
            <a:srgbClr val="f8d3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1484280"/>
            <a:ext cx="289080" cy="216000"/>
          </a:xfrm>
          <a:prstGeom prst="rect">
            <a:avLst/>
          </a:prstGeom>
          <a:solidFill>
            <a:srgbClr val="d2a7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55640" y="1773360"/>
            <a:ext cx="1368360" cy="712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195640" y="1483920"/>
            <a:ext cx="1152360" cy="2890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348000" y="1197000"/>
            <a:ext cx="1295280" cy="2872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9" name="plant"/>
          <p:cNvSpPr/>
          <p:nvPr/>
        </p:nvSpPr>
        <p:spPr>
          <a:xfrm>
            <a:off x="5148360" y="2133720"/>
            <a:ext cx="257040" cy="2570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0" name="Tree"/>
          <p:cNvSpPr/>
          <p:nvPr/>
        </p:nvSpPr>
        <p:spPr>
          <a:xfrm>
            <a:off x="3276720" y="1484280"/>
            <a:ext cx="328320" cy="5446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1" name="Tree"/>
          <p:cNvSpPr/>
          <p:nvPr/>
        </p:nvSpPr>
        <p:spPr>
          <a:xfrm>
            <a:off x="2556000" y="1557360"/>
            <a:ext cx="328320" cy="544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2" name="Tree"/>
          <p:cNvSpPr/>
          <p:nvPr/>
        </p:nvSpPr>
        <p:spPr>
          <a:xfrm>
            <a:off x="4478400" y="1197000"/>
            <a:ext cx="328680" cy="544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3" name="Tree"/>
          <p:cNvSpPr/>
          <p:nvPr/>
        </p:nvSpPr>
        <p:spPr>
          <a:xfrm>
            <a:off x="3851280" y="1413000"/>
            <a:ext cx="328680" cy="544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268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анция  Озерное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19600" y="3141720"/>
            <a:ext cx="3524400" cy="1582560"/>
          </a:xfrm>
          <a:custGeom>
            <a:avLst/>
            <a:gdLst/>
            <a:ahLst/>
            <a:rect l="l" t="t" r="r" b="b"/>
            <a:pathLst>
              <a:path w="2220" h="997">
                <a:moveTo>
                  <a:pt x="427" y="277"/>
                </a:moveTo>
                <a:lnTo>
                  <a:pt x="587" y="90"/>
                </a:lnTo>
                <a:lnTo>
                  <a:pt x="905" y="0"/>
                </a:lnTo>
                <a:lnTo>
                  <a:pt x="1495" y="45"/>
                </a:lnTo>
                <a:lnTo>
                  <a:pt x="1857" y="0"/>
                </a:lnTo>
                <a:lnTo>
                  <a:pt x="2084" y="45"/>
                </a:lnTo>
                <a:lnTo>
                  <a:pt x="2175" y="136"/>
                </a:lnTo>
                <a:lnTo>
                  <a:pt x="2220" y="181"/>
                </a:lnTo>
                <a:lnTo>
                  <a:pt x="2220" y="680"/>
                </a:lnTo>
                <a:lnTo>
                  <a:pt x="1268" y="680"/>
                </a:lnTo>
                <a:lnTo>
                  <a:pt x="1268" y="997"/>
                </a:lnTo>
                <a:lnTo>
                  <a:pt x="134" y="997"/>
                </a:lnTo>
                <a:lnTo>
                  <a:pt x="19" y="781"/>
                </a:lnTo>
                <a:cubicBezTo>
                  <a:pt x="0" y="709"/>
                  <a:pt x="8" y="620"/>
                  <a:pt x="19" y="565"/>
                </a:cubicBezTo>
                <a:cubicBezTo>
                  <a:pt x="26" y="512"/>
                  <a:pt x="50" y="498"/>
                  <a:pt x="88" y="453"/>
                </a:cubicBezTo>
                <a:cubicBezTo>
                  <a:pt x="115" y="404"/>
                  <a:pt x="166" y="363"/>
                  <a:pt x="211" y="333"/>
                </a:cubicBezTo>
                <a:cubicBezTo>
                  <a:pt x="256" y="303"/>
                  <a:pt x="320" y="271"/>
                  <a:pt x="361" y="272"/>
                </a:cubicBezTo>
                <a:lnTo>
                  <a:pt x="427" y="277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08720" y="35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76720" y="1341360"/>
            <a:ext cx="71640" cy="142920"/>
          </a:xfrm>
          <a:prstGeom prst="can">
            <a:avLst>
              <a:gd name="adj" fmla="val 25000"/>
            </a:avLst>
          </a:prstGeom>
          <a:solidFill>
            <a:srgbClr val="fbe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56000" y="1844640"/>
            <a:ext cx="71640" cy="142920"/>
          </a:xfrm>
          <a:prstGeom prst="can">
            <a:avLst>
              <a:gd name="adj" fmla="val 25000"/>
            </a:avLst>
          </a:prstGeom>
          <a:solidFill>
            <a:srgbClr val="fbe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76720" y="1628640"/>
            <a:ext cx="71640" cy="142920"/>
          </a:xfrm>
          <a:prstGeom prst="can">
            <a:avLst>
              <a:gd name="adj" fmla="val 25000"/>
            </a:avLst>
          </a:prstGeom>
          <a:solidFill>
            <a:srgbClr val="fbe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1268280"/>
            <a:ext cx="71280" cy="142920"/>
          </a:xfrm>
          <a:prstGeom prst="can">
            <a:avLst>
              <a:gd name="adj" fmla="val 25000"/>
            </a:avLst>
          </a:prstGeom>
          <a:solidFill>
            <a:srgbClr val="fbe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0360" y="4221000"/>
            <a:ext cx="2303640" cy="459720"/>
          </a:xfrm>
          <a:prstGeom prst="rect">
            <a:avLst/>
          </a:prstGeom>
          <a:solidFill>
            <a:srgbClr val="f8f8f8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 1 : 5 0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86760" y="1916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43640" y="184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6720" y="198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34920" y="1844640"/>
            <a:ext cx="7417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Например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на карте 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8 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в действительности 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8 м = 800 см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0000" y="38412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Масштаб –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это отношение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длины отрезка на карте или плане к его действительной длине на местности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94000" y="5373720"/>
            <a:ext cx="21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или  1 : 10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194640" y="4005360"/>
            <a:ext cx="3945960" cy="1150560"/>
            <a:chOff x="3194640" y="4005360"/>
            <a:chExt cx="3945960" cy="115056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4930920" y="4005360"/>
                  <a:ext cx="87948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8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6299280" y="4076640"/>
                  <a:ext cx="84132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2" name=""/>
            <p:cNvSpPr/>
            <p:nvPr/>
          </p:nvSpPr>
          <p:spPr>
            <a:xfrm>
              <a:off x="3194640" y="4365360"/>
              <a:ext cx="312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8 : 800 = </a:t>
              </a: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	</a:t>
              </a: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	</a:t>
              </a:r>
              <a:r>
                <a:rPr b="0" lang="en-US" sz="2800" spc="-1" strike="noStrike">
                  <a:solidFill>
                    <a:srgbClr val="f8f8f8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68720" y="378936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Составим отношение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86760" y="1916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43640" y="184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76720" y="198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7628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Если размеры на карте меньше, чем размеры в действительности, то масштаб записывают так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1640" y="227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М  1 : 100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00360" y="342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М  1 : 500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24000" y="472428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М  1 : 1 000 000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5589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Такой масштаб называется численным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286760" y="1916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43640" y="184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76720" y="198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08000" y="1341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Масштаб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    1 : 100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50160" y="2492280"/>
            <a:ext cx="61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показывает, что размеры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уменьшены в 100 раз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86760" y="1916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184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76720" y="198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8000" y="1341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Масштаб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    1 : 500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50160" y="2637000"/>
            <a:ext cx="61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показывает, что размеры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уменьшены в 500 раз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3930840" cy="45370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286760" y="1916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43640" y="184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198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7280" y="5300640"/>
            <a:ext cx="21589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М 1 : 1 0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19640" y="292428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это означает, что все размеры на карте уменьшены в 1 000 раз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8660000">
            <a:off x="4788720" y="4723200"/>
            <a:ext cx="1150920" cy="289080"/>
          </a:xfrm>
          <a:prstGeom prst="rightArrow">
            <a:avLst>
              <a:gd name="adj1" fmla="val 50000"/>
              <a:gd name="adj2" fmla="val 99533"/>
            </a:avLst>
          </a:prstGeom>
          <a:solidFill>
            <a:srgbClr val="ff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86760" y="1916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184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98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3640" y="5300640"/>
            <a:ext cx="237636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М  1 : 600 0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692360" y="665280"/>
            <a:ext cx="4746600" cy="55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3429000"/>
            <a:ext cx="158436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М  5 : 1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203640" y="4869000"/>
            <a:ext cx="1081080" cy="811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670200" y="83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Паук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95840" y="368784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0542" y="10269"/>
                </a:moveTo>
                <a:cubicBezTo>
                  <a:pt x="10542" y="10261"/>
                  <a:pt x="10542" y="10252"/>
                  <a:pt x="10542" y="10244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529000" y="2133720"/>
            <a:ext cx="2114280" cy="2233440"/>
            <a:chOff x="2529000" y="2133720"/>
            <a:chExt cx="2114280" cy="2233440"/>
          </a:xfrm>
        </p:grpSpPr>
        <p:grpSp>
          <p:nvGrpSpPr>
            <p:cNvPr id="345" name=""/>
            <p:cNvGrpSpPr/>
            <p:nvPr/>
          </p:nvGrpSpPr>
          <p:grpSpPr>
            <a:xfrm>
              <a:off x="2529000" y="2133720"/>
              <a:ext cx="2114280" cy="2233440"/>
              <a:chOff x="2529000" y="2133720"/>
              <a:chExt cx="2114280" cy="22334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2529000" y="2133720"/>
                <a:ext cx="2114280" cy="2233440"/>
                <a:chOff x="2529000" y="2133720"/>
                <a:chExt cx="2114280" cy="223344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2529000" y="2133720"/>
                  <a:ext cx="2114280" cy="2233440"/>
                  <a:chOff x="2529000" y="2133720"/>
                  <a:chExt cx="2114280" cy="2233440"/>
                </a:xfrm>
              </p:grpSpPr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529000" y="2133720"/>
                    <a:ext cx="2114280" cy="2233440"/>
                    <a:chOff x="2529000" y="2133720"/>
                    <a:chExt cx="2114280" cy="2233440"/>
                  </a:xfrm>
                </p:grpSpPr>
                <p:grpSp>
                  <p:nvGrpSpPr>
                    <p:cNvPr id="349" name=""/>
                    <p:cNvGrpSpPr/>
                    <p:nvPr/>
                  </p:nvGrpSpPr>
                  <p:grpSpPr>
                    <a:xfrm>
                      <a:off x="2529000" y="2133720"/>
                      <a:ext cx="2114280" cy="2232000"/>
                      <a:chOff x="2529000" y="2133720"/>
                      <a:chExt cx="2114280" cy="2232000"/>
                    </a:xfrm>
                  </p:grpSpPr>
                  <p:grpSp>
                    <p:nvGrpSpPr>
                      <p:cNvPr id="350" name=""/>
                      <p:cNvGrpSpPr/>
                      <p:nvPr/>
                    </p:nvGrpSpPr>
                    <p:grpSpPr>
                      <a:xfrm>
                        <a:off x="2529000" y="2133720"/>
                        <a:ext cx="2114280" cy="2232000"/>
                        <a:chOff x="2529000" y="2133720"/>
                        <a:chExt cx="2114280" cy="2232000"/>
                      </a:xfrm>
                    </p:grpSpPr>
                    <p:grpSp>
                      <p:nvGrpSpPr>
                        <p:cNvPr id="351" name=""/>
                        <p:cNvGrpSpPr/>
                        <p:nvPr/>
                      </p:nvGrpSpPr>
                      <p:grpSpPr>
                        <a:xfrm>
                          <a:off x="2529000" y="2133720"/>
                          <a:ext cx="2114280" cy="2232000"/>
                          <a:chOff x="2529000" y="2133720"/>
                          <a:chExt cx="2114280" cy="2232000"/>
                        </a:xfrm>
                      </p:grpSpPr>
                      <p:grpSp>
                        <p:nvGrpSpPr>
                          <p:cNvPr id="352" name=""/>
                          <p:cNvGrpSpPr/>
                          <p:nvPr/>
                        </p:nvGrpSpPr>
                        <p:grpSpPr>
                          <a:xfrm>
                            <a:off x="2529000" y="2133720"/>
                            <a:ext cx="2114280" cy="2232000"/>
                            <a:chOff x="2529000" y="2133720"/>
                            <a:chExt cx="2114280" cy="2232000"/>
                          </a:xfrm>
                        </p:grpSpPr>
                        <p:grpSp>
                          <p:nvGrpSpPr>
                            <p:cNvPr id="353" name=""/>
                            <p:cNvGrpSpPr/>
                            <p:nvPr/>
                          </p:nvGrpSpPr>
                          <p:grpSpPr>
                            <a:xfrm>
                              <a:off x="2529000" y="2133720"/>
                              <a:ext cx="2114280" cy="2232000"/>
                              <a:chOff x="2529000" y="2133720"/>
                              <a:chExt cx="2114280" cy="2232000"/>
                            </a:xfrm>
                          </p:grpSpPr>
                          <p:grpSp>
                            <p:nvGrpSpPr>
                              <p:cNvPr id="354" name=""/>
                              <p:cNvGrpSpPr/>
                              <p:nvPr/>
                            </p:nvGrpSpPr>
                            <p:grpSpPr>
                              <a:xfrm>
                                <a:off x="2529000" y="2133720"/>
                                <a:ext cx="2114280" cy="2232000"/>
                                <a:chOff x="2529000" y="2133720"/>
                                <a:chExt cx="2114280" cy="2232000"/>
                              </a:xfrm>
                            </p:grpSpPr>
                            <p:grpSp>
                              <p:nvGrpSpPr>
                                <p:cNvPr id="355" name=""/>
                                <p:cNvGrpSpPr/>
                                <p:nvPr/>
                              </p:nvGrpSpPr>
                              <p:grpSpPr>
                                <a:xfrm>
                                  <a:off x="2529000" y="2133720"/>
                                  <a:ext cx="2114280" cy="2232000"/>
                                  <a:chOff x="2529000" y="2133720"/>
                                  <a:chExt cx="2114280" cy="2232000"/>
                                </a:xfrm>
                              </p:grpSpPr>
                              <p:pic>
                                <p:nvPicPr>
                                  <p:cNvPr id="356" name="" descr=""/>
                                  <p:cNvPicPr/>
                                  <p:nvPr/>
                                </p:nvPicPr>
                                <p:blipFill>
                                  <a:blip r:embed="rId2"/>
                                  <a:stretch/>
                                </p:blipFill>
                                <p:spPr>
                                  <a:xfrm>
                                    <a:off x="2529000" y="2133720"/>
                                    <a:ext cx="2114280" cy="2232000"/>
                                  </a:xfrm>
                                  <a:prstGeom prst="rect">
                                    <a:avLst/>
                                  </a:prstGeom>
                                  <a:ln w="0">
                                    <a:noFill/>
                                  </a:ln>
                                </p:spPr>
                              </p:pic>
                              <p:sp>
                                <p:nvSpPr>
                                  <p:cNvPr id="357" name=""/>
                                  <p:cNvSpPr/>
                                  <p:nvPr/>
                                </p:nvSpPr>
                                <p:spPr>
                                  <a:xfrm>
                                    <a:off x="3681360" y="4006800"/>
                                    <a:ext cx="142200" cy="21600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8f8f8"/>
                                  </a:solidFill>
                                  <a:ln w="9360">
                                    <a:solidFill>
                                      <a:srgbClr val="f8f8f8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f8f8f8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8" name=""/>
                                  <p:cNvSpPr/>
                                  <p:nvPr/>
                                </p:nvSpPr>
                                <p:spPr>
                                  <a:xfrm>
                                    <a:off x="2600280" y="3681360"/>
                                    <a:ext cx="288360" cy="3603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8f8f8"/>
                                  </a:solidFill>
                                  <a:ln w="9360">
                                    <a:solidFill>
                                      <a:srgbClr val="f8f8f8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f8f8f8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9" name=""/>
                                  <p:cNvSpPr/>
                                  <p:nvPr/>
                                </p:nvSpPr>
                                <p:spPr>
                                  <a:xfrm>
                                    <a:off x="4257360" y="3681360"/>
                                    <a:ext cx="288720" cy="3603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8f8f8"/>
                                  </a:solidFill>
                                  <a:ln w="9360">
                                    <a:solidFill>
                                      <a:srgbClr val="f8f8f8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f8f8f8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0" name=""/>
                                  <p:cNvSpPr/>
                                  <p:nvPr/>
                                </p:nvSpPr>
                                <p:spPr>
                                  <a:xfrm>
                                    <a:off x="2815920" y="2278080"/>
                                    <a:ext cx="288720" cy="3603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8f8f8"/>
                                  </a:solidFill>
                                  <a:ln w="9360">
                                    <a:solidFill>
                                      <a:srgbClr val="f8f8f8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f8f8f8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1" name=""/>
                                  <p:cNvSpPr/>
                                  <p:nvPr/>
                                </p:nvSpPr>
                                <p:spPr>
                                  <a:xfrm>
                                    <a:off x="4257360" y="2133720"/>
                                    <a:ext cx="288720" cy="36036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rgbClr val="f8f8f8"/>
                                  </a:solidFill>
                                  <a:ln w="9360">
                                    <a:solidFill>
                                      <a:srgbClr val="f8f8f8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f8f8f8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62" name=""/>
                                <p:cNvSpPr/>
                                <p:nvPr/>
                              </p:nvSpPr>
                              <p:spPr>
                                <a:xfrm>
                                  <a:off x="3678120" y="3552840"/>
                                  <a:ext cx="215280" cy="2523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8f8f8"/>
                                </a:solidFill>
                                <a:ln w="9360">
                                  <a:solidFill>
                                    <a:srgbClr val="f8f8f8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f8f8f8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63" name=""/>
                              <p:cNvSpPr/>
                              <p:nvPr/>
                            </p:nvSpPr>
                            <p:spPr>
                              <a:xfrm>
                                <a:off x="4039920" y="2782800"/>
                                <a:ext cx="217080" cy="2160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8f8f8"/>
                              </a:solidFill>
                              <a:ln w="9360">
                                <a:solidFill>
                                  <a:srgbClr val="f8f8f8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8f8f8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64" name=""/>
                            <p:cNvSpPr/>
                            <p:nvPr/>
                          </p:nvSpPr>
                          <p:spPr>
                            <a:xfrm>
                              <a:off x="4039920" y="3035520"/>
                              <a:ext cx="144000" cy="215640"/>
                            </a:xfrm>
                            <a:prstGeom prst="ellipse">
                              <a:avLst/>
                            </a:prstGeom>
                            <a:solidFill>
                              <a:srgbClr val="f8f8f8"/>
                            </a:solidFill>
                            <a:ln w="9360">
                              <a:solidFill>
                                <a:srgbClr val="f8f8f8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8f8f8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65" name=""/>
                          <p:cNvSpPr/>
                          <p:nvPr/>
                        </p:nvSpPr>
                        <p:spPr>
                          <a:xfrm>
                            <a:off x="2960640" y="2782800"/>
                            <a:ext cx="215280" cy="216000"/>
                          </a:xfrm>
                          <a:prstGeom prst="ellipse">
                            <a:avLst/>
                          </a:prstGeom>
                          <a:solidFill>
                            <a:srgbClr val="f8f8f8"/>
                          </a:solidFill>
                          <a:ln w="9360">
                            <a:solidFill>
                              <a:srgbClr val="f8f8f8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>
                          <a:off x="3354120" y="2206800"/>
                          <a:ext cx="576000" cy="17928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9360">
                          <a:solidFill>
                            <a:srgbClr val="f8f8f8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3536640" y="2349720"/>
                        <a:ext cx="286920" cy="288720"/>
                      </a:xfrm>
                      <a:prstGeom prst="ellipse">
                        <a:avLst/>
                      </a:prstGeom>
                      <a:solidFill>
                        <a:srgbClr val="f8f8f8"/>
                      </a:solidFill>
                      <a:ln w="9360">
                        <a:solidFill>
                          <a:srgbClr val="f8f8f8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8f8f8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3536640" y="3646440"/>
                      <a:ext cx="286920" cy="720720"/>
                    </a:xfrm>
                    <a:prstGeom prst="rect">
                      <a:avLst/>
                    </a:prstGeom>
                    <a:solidFill>
                      <a:srgbClr val="f8f8f8"/>
                    </a:solidFill>
                    <a:ln w="936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9" name=""/>
                  <p:cNvSpPr/>
                  <p:nvPr/>
                </p:nvSpPr>
                <p:spPr>
                  <a:xfrm>
                    <a:off x="3679560" y="2710080"/>
                    <a:ext cx="286920" cy="287280"/>
                  </a:xfrm>
                  <a:prstGeom prst="ellipse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f8f8f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0" name=""/>
                <p:cNvSpPr/>
                <p:nvPr/>
              </p:nvSpPr>
              <p:spPr>
                <a:xfrm>
                  <a:off x="3127320" y="2300400"/>
                  <a:ext cx="1260000" cy="1411200"/>
                </a:xfrm>
                <a:custGeom>
                  <a:avLst/>
                  <a:gdLst/>
                  <a:ahLst/>
                  <a:rect l="l" t="t" r="r" b="b"/>
                  <a:pathLst>
                    <a:path w="3498" h="3920">
                      <a:moveTo>
                        <a:pt x="12849" y="6276"/>
                      </a:moveTo>
                      <a:cubicBezTo>
                        <a:pt x="12849" y="6335"/>
                        <a:pt x="12828" y="6340"/>
                        <a:pt x="12824" y="6375"/>
                      </a:cubicBezTo>
                      <a:cubicBezTo>
                        <a:pt x="12817" y="6431"/>
                        <a:pt x="12803" y="6379"/>
                        <a:pt x="12774" y="6375"/>
                      </a:cubicBezTo>
                      <a:cubicBezTo>
                        <a:pt x="12766" y="6375"/>
                        <a:pt x="12758" y="6375"/>
                        <a:pt x="12750" y="6375"/>
                      </a:cubicBezTo>
                      <a:cubicBezTo>
                        <a:pt x="12750" y="6397"/>
                        <a:pt x="12781" y="6467"/>
                        <a:pt x="12774" y="6474"/>
                      </a:cubicBezTo>
                      <a:cubicBezTo>
                        <a:pt x="12756" y="6493"/>
                        <a:pt x="12647" y="6498"/>
                        <a:pt x="12725" y="6524"/>
                      </a:cubicBezTo>
                      <a:cubicBezTo>
                        <a:pt x="12737" y="6559"/>
                        <a:pt x="12738" y="6559"/>
                        <a:pt x="12750" y="6524"/>
                      </a:cubicBezTo>
                      <a:cubicBezTo>
                        <a:pt x="12750" y="6596"/>
                        <a:pt x="12743" y="6636"/>
                        <a:pt x="12725" y="6672"/>
                      </a:cubicBezTo>
                      <a:cubicBezTo>
                        <a:pt x="12709" y="6704"/>
                        <a:pt x="12700" y="6697"/>
                        <a:pt x="12700" y="6747"/>
                      </a:cubicBezTo>
                      <a:cubicBezTo>
                        <a:pt x="12700" y="6763"/>
                        <a:pt x="12700" y="6780"/>
                        <a:pt x="12700" y="6796"/>
                      </a:cubicBezTo>
                      <a:cubicBezTo>
                        <a:pt x="12700" y="6863"/>
                        <a:pt x="12700" y="6758"/>
                        <a:pt x="12700" y="6747"/>
                      </a:cubicBezTo>
                      <a:cubicBezTo>
                        <a:pt x="12700" y="6667"/>
                        <a:pt x="12678" y="6733"/>
                        <a:pt x="12650" y="6697"/>
                      </a:cubicBezTo>
                      <a:cubicBezTo>
                        <a:pt x="12629" y="6671"/>
                        <a:pt x="12650" y="6704"/>
                        <a:pt x="12650" y="6747"/>
                      </a:cubicBezTo>
                      <a:cubicBezTo>
                        <a:pt x="12650" y="6755"/>
                        <a:pt x="12650" y="6764"/>
                        <a:pt x="12650" y="6772"/>
                      </a:cubicBezTo>
                      <a:cubicBezTo>
                        <a:pt x="12598" y="6772"/>
                        <a:pt x="12669" y="6759"/>
                        <a:pt x="12675" y="6747"/>
                      </a:cubicBezTo>
                      <a:cubicBezTo>
                        <a:pt x="12684" y="6728"/>
                        <a:pt x="12700" y="6678"/>
                        <a:pt x="12700" y="6722"/>
                      </a:cubicBezTo>
                      <a:cubicBezTo>
                        <a:pt x="12700" y="6730"/>
                        <a:pt x="12700" y="6739"/>
                        <a:pt x="12700" y="6747"/>
                      </a:cubicBezTo>
                      <a:cubicBezTo>
                        <a:pt x="12700" y="6790"/>
                        <a:pt x="12721" y="6729"/>
                        <a:pt x="12725" y="6722"/>
                      </a:cubicBezTo>
                      <a:cubicBezTo>
                        <a:pt x="12749" y="6674"/>
                        <a:pt x="12687" y="6556"/>
                        <a:pt x="12750" y="6548"/>
                      </a:cubicBezTo>
                      <a:cubicBezTo>
                        <a:pt x="12783" y="6544"/>
                        <a:pt x="12790" y="6509"/>
                        <a:pt x="12799" y="6474"/>
                      </a:cubicBezTo>
                      <a:cubicBezTo>
                        <a:pt x="12799" y="6530"/>
                        <a:pt x="12779" y="6508"/>
                        <a:pt x="12774" y="6548"/>
                      </a:cubicBezTo>
                      <a:cubicBezTo>
                        <a:pt x="12764" y="6626"/>
                        <a:pt x="12770" y="6699"/>
                        <a:pt x="12750" y="6747"/>
                      </a:cubicBezTo>
                      <a:cubicBezTo>
                        <a:pt x="12732" y="6791"/>
                        <a:pt x="12769" y="6810"/>
                        <a:pt x="12774" y="6821"/>
                      </a:cubicBezTo>
                      <a:cubicBezTo>
                        <a:pt x="12797" y="6869"/>
                        <a:pt x="12757" y="6931"/>
                        <a:pt x="12750" y="6945"/>
                      </a:cubicBezTo>
                      <a:cubicBezTo>
                        <a:pt x="12739" y="6969"/>
                        <a:pt x="12729" y="7013"/>
                        <a:pt x="12725" y="7020"/>
                      </a:cubicBezTo>
                      <a:cubicBezTo>
                        <a:pt x="12709" y="7053"/>
                        <a:pt x="12700" y="7045"/>
                        <a:pt x="12700" y="7094"/>
                      </a:cubicBezTo>
                      <a:cubicBezTo>
                        <a:pt x="12700" y="7102"/>
                        <a:pt x="12700" y="7111"/>
                        <a:pt x="12700" y="7119"/>
                      </a:cubicBezTo>
                      <a:cubicBezTo>
                        <a:pt x="12700" y="7045"/>
                        <a:pt x="12700" y="7019"/>
                        <a:pt x="12700" y="6945"/>
                      </a:cubicBezTo>
                      <a:cubicBezTo>
                        <a:pt x="12700" y="6912"/>
                        <a:pt x="12700" y="6879"/>
                        <a:pt x="12700" y="6846"/>
                      </a:cubicBezTo>
                      <a:cubicBezTo>
                        <a:pt x="12700" y="6959"/>
                        <a:pt x="12706" y="6824"/>
                        <a:pt x="12700" y="6821"/>
                      </a:cubicBezTo>
                      <a:cubicBezTo>
                        <a:pt x="12687" y="6816"/>
                        <a:pt x="12651" y="6937"/>
                        <a:pt x="12650" y="6945"/>
                      </a:cubicBezTo>
                      <a:cubicBezTo>
                        <a:pt x="12645" y="6991"/>
                        <a:pt x="12661" y="6990"/>
                        <a:pt x="12650" y="6995"/>
                      </a:cubicBezTo>
                      <a:cubicBezTo>
                        <a:pt x="12611" y="7011"/>
                        <a:pt x="12626" y="7027"/>
                        <a:pt x="12626" y="6970"/>
                      </a:cubicBezTo>
                      <a:cubicBezTo>
                        <a:pt x="12626" y="6962"/>
                        <a:pt x="12626" y="6953"/>
                        <a:pt x="12626" y="6945"/>
                      </a:cubicBezTo>
                      <a:cubicBezTo>
                        <a:pt x="12626" y="6967"/>
                        <a:pt x="12623" y="7148"/>
                        <a:pt x="12601" y="7119"/>
                      </a:cubicBezTo>
                      <a:cubicBezTo>
                        <a:pt x="12601" y="7094"/>
                        <a:pt x="12601" y="7086"/>
                        <a:pt x="12601" y="7069"/>
                      </a:cubicBezTo>
                    </a:path>
                    <a:path w="3498" h="3920">
                      <a:moveTo>
                        <a:pt x="12353" y="7169"/>
                      </a:moveTo>
                      <a:cubicBezTo>
                        <a:pt x="12411" y="7188"/>
                        <a:pt x="12343" y="7214"/>
                        <a:pt x="12378" y="7243"/>
                      </a:cubicBezTo>
                      <a:cubicBezTo>
                        <a:pt x="12407" y="7267"/>
                        <a:pt x="12402" y="7292"/>
                        <a:pt x="12402" y="7342"/>
                      </a:cubicBezTo>
                      <a:cubicBezTo>
                        <a:pt x="12402" y="7383"/>
                        <a:pt x="12402" y="7425"/>
                        <a:pt x="12402" y="7466"/>
                      </a:cubicBezTo>
                      <a:cubicBezTo>
                        <a:pt x="12402" y="7423"/>
                        <a:pt x="12389" y="7178"/>
                        <a:pt x="12378" y="7193"/>
                      </a:cubicBezTo>
                      <a:cubicBezTo>
                        <a:pt x="12354" y="7227"/>
                        <a:pt x="12353" y="7272"/>
                        <a:pt x="12353" y="7317"/>
                      </a:cubicBezTo>
                      <a:cubicBezTo>
                        <a:pt x="12345" y="7325"/>
                        <a:pt x="12336" y="7334"/>
                        <a:pt x="12328" y="7342"/>
                      </a:cubicBezTo>
                      <a:cubicBezTo>
                        <a:pt x="12328" y="7301"/>
                        <a:pt x="12368" y="7324"/>
                        <a:pt x="12328" y="7317"/>
                      </a:cubicBezTo>
                      <a:cubicBezTo>
                        <a:pt x="12287" y="7309"/>
                        <a:pt x="12303" y="7217"/>
                        <a:pt x="12303" y="7193"/>
                      </a:cubicBezTo>
                      <a:cubicBezTo>
                        <a:pt x="12261" y="7207"/>
                        <a:pt x="12278" y="7242"/>
                        <a:pt x="12278" y="7293"/>
                      </a:cubicBezTo>
                      <a:cubicBezTo>
                        <a:pt x="12278" y="7416"/>
                        <a:pt x="12254" y="7286"/>
                        <a:pt x="12254" y="7243"/>
                      </a:cubicBezTo>
                      <a:cubicBezTo>
                        <a:pt x="12254" y="7317"/>
                        <a:pt x="12254" y="7343"/>
                        <a:pt x="12254" y="7417"/>
                      </a:cubicBezTo>
                      <a:cubicBezTo>
                        <a:pt x="12254" y="7470"/>
                        <a:pt x="12278" y="7476"/>
                        <a:pt x="12278" y="7417"/>
                      </a:cubicBezTo>
                      <a:cubicBezTo>
                        <a:pt x="12278" y="7400"/>
                        <a:pt x="12278" y="7384"/>
                        <a:pt x="12278" y="7367"/>
                      </a:cubicBezTo>
                      <a:cubicBezTo>
                        <a:pt x="12316" y="7380"/>
                        <a:pt x="12303" y="7396"/>
                        <a:pt x="12303" y="7441"/>
                      </a:cubicBezTo>
                      <a:cubicBezTo>
                        <a:pt x="12303" y="7449"/>
                        <a:pt x="12303" y="7458"/>
                        <a:pt x="12303" y="7466"/>
                      </a:cubicBezTo>
                      <a:cubicBezTo>
                        <a:pt x="12303" y="7551"/>
                        <a:pt x="12314" y="7392"/>
                        <a:pt x="12278" y="7441"/>
                      </a:cubicBezTo>
                      <a:cubicBezTo>
                        <a:pt x="12278" y="7474"/>
                        <a:pt x="12278" y="7491"/>
                        <a:pt x="12278" y="7516"/>
                      </a:cubicBezTo>
                      <a:cubicBezTo>
                        <a:pt x="12278" y="7394"/>
                        <a:pt x="12263" y="7224"/>
                        <a:pt x="12303" y="7144"/>
                      </a:cubicBezTo>
                      <a:cubicBezTo>
                        <a:pt x="12356" y="7038"/>
                        <a:pt x="12291" y="6834"/>
                        <a:pt x="12328" y="6722"/>
                      </a:cubicBezTo>
                      <a:cubicBezTo>
                        <a:pt x="12342" y="6679"/>
                        <a:pt x="12342" y="6681"/>
                        <a:pt x="12353" y="6648"/>
                      </a:cubicBezTo>
                    </a:path>
                    <a:path w="3498" h="3920">
                      <a:moveTo>
                        <a:pt x="12353" y="7615"/>
                      </a:moveTo>
                      <a:cubicBezTo>
                        <a:pt x="12353" y="7690"/>
                        <a:pt x="12348" y="7750"/>
                        <a:pt x="12328" y="7789"/>
                      </a:cubicBezTo>
                      <a:cubicBezTo>
                        <a:pt x="12309" y="7826"/>
                        <a:pt x="12328" y="7794"/>
                        <a:pt x="12328" y="7764"/>
                      </a:cubicBezTo>
                      <a:cubicBezTo>
                        <a:pt x="12328" y="7685"/>
                        <a:pt x="12348" y="7856"/>
                        <a:pt x="12303" y="7813"/>
                      </a:cubicBezTo>
                      <a:cubicBezTo>
                        <a:pt x="12290" y="7801"/>
                        <a:pt x="12303" y="7735"/>
                        <a:pt x="12303" y="7714"/>
                      </a:cubicBezTo>
                      <a:cubicBezTo>
                        <a:pt x="12303" y="7647"/>
                        <a:pt x="12303" y="7731"/>
                        <a:pt x="12303" y="7739"/>
                      </a:cubicBezTo>
                      <a:cubicBezTo>
                        <a:pt x="12303" y="7780"/>
                        <a:pt x="12303" y="7706"/>
                        <a:pt x="12303" y="7665"/>
                      </a:cubicBezTo>
                      <a:cubicBezTo>
                        <a:pt x="12303" y="7640"/>
                        <a:pt x="12303" y="7632"/>
                        <a:pt x="12303" y="7615"/>
                      </a:cubicBezTo>
                      <a:cubicBezTo>
                        <a:pt x="12303" y="7620"/>
                        <a:pt x="12308" y="7728"/>
                        <a:pt x="12278" y="7689"/>
                      </a:cubicBezTo>
                      <a:cubicBezTo>
                        <a:pt x="12249" y="7652"/>
                        <a:pt x="12294" y="7567"/>
                        <a:pt x="12303" y="7541"/>
                      </a:cubicBezTo>
                      <a:cubicBezTo>
                        <a:pt x="12303" y="7516"/>
                        <a:pt x="12303" y="7508"/>
                        <a:pt x="12303" y="7541"/>
                      </a:cubicBezTo>
                    </a:path>
                    <a:path w="3498" h="3920">
                      <a:moveTo>
                        <a:pt x="12105" y="8706"/>
                      </a:moveTo>
                      <a:cubicBezTo>
                        <a:pt x="12120" y="8767"/>
                        <a:pt x="12155" y="8734"/>
                        <a:pt x="12179" y="8781"/>
                      </a:cubicBezTo>
                      <a:cubicBezTo>
                        <a:pt x="12179" y="8806"/>
                        <a:pt x="12179" y="8814"/>
                        <a:pt x="12204" y="8806"/>
                      </a:cubicBezTo>
                    </a:path>
                    <a:path w="3498" h="3920">
                      <a:moveTo>
                        <a:pt x="12328" y="6102"/>
                      </a:moveTo>
                      <a:cubicBezTo>
                        <a:pt x="12328" y="6149"/>
                        <a:pt x="12313" y="6188"/>
                        <a:pt x="12353" y="6201"/>
                      </a:cubicBezTo>
                      <a:cubicBezTo>
                        <a:pt x="12343" y="6161"/>
                        <a:pt x="12335" y="6138"/>
                        <a:pt x="12303" y="6127"/>
                      </a:cubicBezTo>
                      <a:cubicBezTo>
                        <a:pt x="12303" y="6211"/>
                        <a:pt x="12304" y="6279"/>
                        <a:pt x="12328" y="6350"/>
                      </a:cubicBezTo>
                      <a:cubicBezTo>
                        <a:pt x="12339" y="6382"/>
                        <a:pt x="12343" y="6419"/>
                        <a:pt x="12353" y="6449"/>
                      </a:cubicBezTo>
                      <a:cubicBezTo>
                        <a:pt x="12379" y="6527"/>
                        <a:pt x="12348" y="6681"/>
                        <a:pt x="12328" y="6722"/>
                      </a:cubicBezTo>
                      <a:cubicBezTo>
                        <a:pt x="12319" y="6741"/>
                        <a:pt x="12319" y="6718"/>
                        <a:pt x="12303" y="6672"/>
                      </a:cubicBezTo>
                      <a:cubicBezTo>
                        <a:pt x="12286" y="6621"/>
                        <a:pt x="12295" y="6460"/>
                        <a:pt x="12328" y="6449"/>
                      </a:cubicBezTo>
                      <a:cubicBezTo>
                        <a:pt x="12328" y="6379"/>
                        <a:pt x="12328" y="6532"/>
                        <a:pt x="12328" y="6548"/>
                      </a:cubicBezTo>
                      <a:cubicBezTo>
                        <a:pt x="12328" y="6644"/>
                        <a:pt x="12360" y="6820"/>
                        <a:pt x="12303" y="6896"/>
                      </a:cubicBezTo>
                    </a:path>
                    <a:path w="3498" h="3920">
                      <a:moveTo>
                        <a:pt x="12427" y="6772"/>
                      </a:moveTo>
                      <a:cubicBezTo>
                        <a:pt x="12414" y="6759"/>
                        <a:pt x="12355" y="6688"/>
                        <a:pt x="12328" y="6722"/>
                      </a:cubicBezTo>
                      <a:cubicBezTo>
                        <a:pt x="12328" y="6747"/>
                        <a:pt x="12328" y="6755"/>
                        <a:pt x="12328" y="6772"/>
                      </a:cubicBezTo>
                      <a:cubicBezTo>
                        <a:pt x="12320" y="6742"/>
                        <a:pt x="12286" y="6685"/>
                        <a:pt x="12278" y="6747"/>
                      </a:cubicBezTo>
                      <a:cubicBezTo>
                        <a:pt x="12274" y="6779"/>
                        <a:pt x="12268" y="6850"/>
                        <a:pt x="12254" y="6821"/>
                      </a:cubicBezTo>
                      <a:cubicBezTo>
                        <a:pt x="12254" y="6813"/>
                        <a:pt x="12254" y="6804"/>
                        <a:pt x="12254" y="6796"/>
                      </a:cubicBezTo>
                      <a:cubicBezTo>
                        <a:pt x="12264" y="6827"/>
                        <a:pt x="12297" y="6841"/>
                        <a:pt x="12303" y="6796"/>
                      </a:cubicBezTo>
                      <a:cubicBezTo>
                        <a:pt x="12311" y="6734"/>
                        <a:pt x="12303" y="6811"/>
                        <a:pt x="12303" y="6821"/>
                      </a:cubicBezTo>
                      <a:cubicBezTo>
                        <a:pt x="12303" y="6774"/>
                        <a:pt x="12321" y="6738"/>
                        <a:pt x="12328" y="6722"/>
                      </a:cubicBezTo>
                      <a:cubicBezTo>
                        <a:pt x="12341" y="6693"/>
                        <a:pt x="12329" y="6660"/>
                        <a:pt x="12353" y="6648"/>
                      </a:cubicBezTo>
                      <a:cubicBezTo>
                        <a:pt x="12378" y="6648"/>
                        <a:pt x="12386" y="6648"/>
                        <a:pt x="12378" y="6623"/>
                      </a:cubicBezTo>
                      <a:cubicBezTo>
                        <a:pt x="12410" y="6648"/>
                        <a:pt x="12438" y="6655"/>
                        <a:pt x="12452" y="6697"/>
                      </a:cubicBezTo>
                      <a:cubicBezTo>
                        <a:pt x="12468" y="6745"/>
                        <a:pt x="12434" y="6758"/>
                        <a:pt x="12427" y="6772"/>
                      </a:cubicBezTo>
                      <a:cubicBezTo>
                        <a:pt x="12407" y="6811"/>
                        <a:pt x="12420" y="6846"/>
                        <a:pt x="12402" y="6871"/>
                      </a:cubicBezTo>
                      <a:cubicBezTo>
                        <a:pt x="12360" y="6931"/>
                        <a:pt x="12393" y="6924"/>
                        <a:pt x="12353" y="6871"/>
                      </a:cubicBezTo>
                    </a:path>
                    <a:path w="3498" h="3920">
                      <a:moveTo>
                        <a:pt x="12303" y="6697"/>
                      </a:moveTo>
                      <a:cubicBezTo>
                        <a:pt x="12303" y="6672"/>
                        <a:pt x="12303" y="6664"/>
                        <a:pt x="12278" y="6672"/>
                      </a:cubicBezTo>
                      <a:cubicBezTo>
                        <a:pt x="12296" y="6746"/>
                        <a:pt x="12285" y="6691"/>
                        <a:pt x="12278" y="6772"/>
                      </a:cubicBezTo>
                      <a:cubicBezTo>
                        <a:pt x="12274" y="6816"/>
                        <a:pt x="12268" y="6834"/>
                        <a:pt x="12303" y="6846"/>
                      </a:cubicBezTo>
                    </a:path>
                    <a:path w="3498" h="3920">
                      <a:moveTo>
                        <a:pt x="12502" y="7218"/>
                      </a:moveTo>
                      <a:cubicBezTo>
                        <a:pt x="12502" y="7269"/>
                        <a:pt x="12480" y="7327"/>
                        <a:pt x="12477" y="7342"/>
                      </a:cubicBezTo>
                      <a:cubicBezTo>
                        <a:pt x="12466" y="7397"/>
                        <a:pt x="12489" y="7424"/>
                        <a:pt x="12502" y="7466"/>
                      </a:cubicBezTo>
                      <a:cubicBezTo>
                        <a:pt x="12502" y="7474"/>
                        <a:pt x="12502" y="7483"/>
                        <a:pt x="12502" y="7491"/>
                      </a:cubicBezTo>
                      <a:cubicBezTo>
                        <a:pt x="12472" y="7501"/>
                        <a:pt x="12461" y="7525"/>
                        <a:pt x="12477" y="7466"/>
                      </a:cubicBezTo>
                      <a:cubicBezTo>
                        <a:pt x="12490" y="7419"/>
                        <a:pt x="12528" y="7396"/>
                        <a:pt x="12526" y="7367"/>
                      </a:cubicBezTo>
                      <a:cubicBezTo>
                        <a:pt x="12523" y="7331"/>
                        <a:pt x="12485" y="7328"/>
                        <a:pt x="12477" y="7293"/>
                      </a:cubicBezTo>
                      <a:cubicBezTo>
                        <a:pt x="12469" y="7261"/>
                        <a:pt x="12477" y="7276"/>
                        <a:pt x="12477" y="7243"/>
                      </a:cubicBezTo>
                      <a:cubicBezTo>
                        <a:pt x="12463" y="7271"/>
                        <a:pt x="12456" y="7287"/>
                        <a:pt x="12452" y="7293"/>
                      </a:cubicBezTo>
                      <a:cubicBezTo>
                        <a:pt x="12438" y="7313"/>
                        <a:pt x="12411" y="7341"/>
                        <a:pt x="12402" y="7392"/>
                      </a:cubicBezTo>
                      <a:cubicBezTo>
                        <a:pt x="12381" y="7515"/>
                        <a:pt x="12341" y="7480"/>
                        <a:pt x="12303" y="7541"/>
                      </a:cubicBezTo>
                      <a:cubicBezTo>
                        <a:pt x="12286" y="7569"/>
                        <a:pt x="12303" y="7615"/>
                        <a:pt x="12303" y="7541"/>
                      </a:cubicBezTo>
                      <a:cubicBezTo>
                        <a:pt x="12303" y="7458"/>
                        <a:pt x="12303" y="7425"/>
                        <a:pt x="12303" y="7342"/>
                      </a:cubicBezTo>
                      <a:cubicBezTo>
                        <a:pt x="12303" y="7300"/>
                        <a:pt x="12337" y="7225"/>
                        <a:pt x="12328" y="7193"/>
                      </a:cubicBezTo>
                      <a:cubicBezTo>
                        <a:pt x="12313" y="7141"/>
                        <a:pt x="12252" y="7244"/>
                        <a:pt x="12229" y="7293"/>
                      </a:cubicBezTo>
                      <a:cubicBezTo>
                        <a:pt x="12229" y="7309"/>
                        <a:pt x="12229" y="7326"/>
                        <a:pt x="12229" y="7342"/>
                      </a:cubicBezTo>
                      <a:cubicBezTo>
                        <a:pt x="12234" y="7287"/>
                        <a:pt x="12240" y="7245"/>
                        <a:pt x="12254" y="7193"/>
                      </a:cubicBezTo>
                      <a:cubicBezTo>
                        <a:pt x="12186" y="7172"/>
                        <a:pt x="12258" y="7190"/>
                        <a:pt x="12229" y="7243"/>
                      </a:cubicBezTo>
                      <a:cubicBezTo>
                        <a:pt x="12213" y="7272"/>
                        <a:pt x="12211" y="7185"/>
                        <a:pt x="12204" y="7218"/>
                      </a:cubicBezTo>
                      <a:cubicBezTo>
                        <a:pt x="12191" y="7282"/>
                        <a:pt x="12182" y="7255"/>
                        <a:pt x="12179" y="7317"/>
                      </a:cubicBezTo>
                      <a:cubicBezTo>
                        <a:pt x="12173" y="7419"/>
                        <a:pt x="12179" y="7298"/>
                        <a:pt x="12179" y="7392"/>
                      </a:cubicBezTo>
                      <a:cubicBezTo>
                        <a:pt x="12179" y="7417"/>
                        <a:pt x="12179" y="7441"/>
                        <a:pt x="12179" y="7466"/>
                      </a:cubicBezTo>
                      <a:cubicBezTo>
                        <a:pt x="12208" y="7437"/>
                        <a:pt x="12207" y="7357"/>
                        <a:pt x="12229" y="7392"/>
                      </a:cubicBezTo>
                      <a:cubicBezTo>
                        <a:pt x="12240" y="7410"/>
                        <a:pt x="12229" y="7499"/>
                        <a:pt x="12229" y="7516"/>
                      </a:cubicBezTo>
                      <a:cubicBezTo>
                        <a:pt x="12253" y="7452"/>
                        <a:pt x="12254" y="7411"/>
                        <a:pt x="12254" y="7342"/>
                      </a:cubicBezTo>
                      <a:cubicBezTo>
                        <a:pt x="12254" y="7283"/>
                        <a:pt x="12261" y="7246"/>
                        <a:pt x="12278" y="7218"/>
                      </a:cubicBezTo>
                      <a:cubicBezTo>
                        <a:pt x="12298" y="7186"/>
                        <a:pt x="12319" y="7194"/>
                        <a:pt x="12353" y="7169"/>
                      </a:cubicBezTo>
                      <a:cubicBezTo>
                        <a:pt x="12365" y="7160"/>
                        <a:pt x="12409" y="7116"/>
                        <a:pt x="12427" y="7169"/>
                      </a:cubicBezTo>
                      <a:cubicBezTo>
                        <a:pt x="12448" y="7230"/>
                        <a:pt x="12415" y="7198"/>
                        <a:pt x="12477" y="7218"/>
                      </a:cubicBezTo>
                      <a:cubicBezTo>
                        <a:pt x="12477" y="7162"/>
                        <a:pt x="12493" y="7113"/>
                        <a:pt x="12452" y="7094"/>
                      </a:cubicBezTo>
                      <a:cubicBezTo>
                        <a:pt x="12405" y="7072"/>
                        <a:pt x="12368" y="7107"/>
                        <a:pt x="12353" y="7119"/>
                      </a:cubicBezTo>
                      <a:cubicBezTo>
                        <a:pt x="12329" y="7138"/>
                        <a:pt x="12323" y="7149"/>
                        <a:pt x="12303" y="7169"/>
                      </a:cubicBezTo>
                      <a:cubicBezTo>
                        <a:pt x="12286" y="7186"/>
                        <a:pt x="12271" y="7201"/>
                        <a:pt x="12254" y="7218"/>
                      </a:cubicBezTo>
                      <a:cubicBezTo>
                        <a:pt x="12232" y="7240"/>
                        <a:pt x="12235" y="7252"/>
                        <a:pt x="12229" y="7293"/>
                      </a:cubicBezTo>
                      <a:cubicBezTo>
                        <a:pt x="12237" y="7239"/>
                        <a:pt x="12232" y="7246"/>
                        <a:pt x="12254" y="7218"/>
                      </a:cubicBezTo>
                      <a:cubicBezTo>
                        <a:pt x="12291" y="7170"/>
                        <a:pt x="12276" y="7214"/>
                        <a:pt x="12303" y="7218"/>
                      </a:cubicBezTo>
                      <a:cubicBezTo>
                        <a:pt x="12376" y="7229"/>
                        <a:pt x="12322" y="7220"/>
                        <a:pt x="12353" y="7268"/>
                      </a:cubicBezTo>
                      <a:cubicBezTo>
                        <a:pt x="12365" y="7286"/>
                        <a:pt x="12395" y="7310"/>
                        <a:pt x="12402" y="7317"/>
                      </a:cubicBezTo>
                      <a:cubicBezTo>
                        <a:pt x="12402" y="7276"/>
                        <a:pt x="12412" y="7283"/>
                        <a:pt x="12402" y="7243"/>
                      </a:cubicBezTo>
                      <a:cubicBezTo>
                        <a:pt x="12390" y="7196"/>
                        <a:pt x="12374" y="7190"/>
                        <a:pt x="12353" y="7169"/>
                      </a:cubicBezTo>
                      <a:cubicBezTo>
                        <a:pt x="12326" y="7143"/>
                        <a:pt x="12333" y="7149"/>
                        <a:pt x="12278" y="7144"/>
                      </a:cubicBezTo>
                      <a:cubicBezTo>
                        <a:pt x="12270" y="7144"/>
                        <a:pt x="12262" y="7144"/>
                        <a:pt x="12254" y="7144"/>
                      </a:cubicBezTo>
                      <a:cubicBezTo>
                        <a:pt x="12236" y="7173"/>
                        <a:pt x="12247" y="7182"/>
                        <a:pt x="12229" y="7218"/>
                      </a:cubicBezTo>
                      <a:cubicBezTo>
                        <a:pt x="12212" y="7252"/>
                        <a:pt x="12207" y="7243"/>
                        <a:pt x="12204" y="7293"/>
                      </a:cubicBezTo>
                      <a:cubicBezTo>
                        <a:pt x="12199" y="7369"/>
                        <a:pt x="12186" y="7475"/>
                        <a:pt x="12179" y="7516"/>
                      </a:cubicBezTo>
                      <a:cubicBezTo>
                        <a:pt x="12179" y="7532"/>
                        <a:pt x="12179" y="7549"/>
                        <a:pt x="12179" y="7565"/>
                      </a:cubicBezTo>
                      <a:cubicBezTo>
                        <a:pt x="12171" y="7503"/>
                        <a:pt x="12157" y="7457"/>
                        <a:pt x="12154" y="7392"/>
                      </a:cubicBezTo>
                      <a:cubicBezTo>
                        <a:pt x="12150" y="7309"/>
                        <a:pt x="12144" y="7212"/>
                        <a:pt x="12179" y="7169"/>
                      </a:cubicBezTo>
                      <a:cubicBezTo>
                        <a:pt x="12199" y="7144"/>
                        <a:pt x="12218" y="7157"/>
                        <a:pt x="12254" y="7144"/>
                      </a:cubicBezTo>
                      <a:cubicBezTo>
                        <a:pt x="12291" y="7131"/>
                        <a:pt x="12310" y="7122"/>
                        <a:pt x="12353" y="7119"/>
                      </a:cubicBezTo>
                      <a:cubicBezTo>
                        <a:pt x="12412" y="7115"/>
                        <a:pt x="12403" y="7130"/>
                        <a:pt x="12427" y="7169"/>
                      </a:cubicBezTo>
                      <a:cubicBezTo>
                        <a:pt x="12444" y="7196"/>
                        <a:pt x="12471" y="7264"/>
                        <a:pt x="12477" y="7293"/>
                      </a:cubicBezTo>
                      <a:cubicBezTo>
                        <a:pt x="12490" y="7360"/>
                        <a:pt x="12474" y="7435"/>
                        <a:pt x="12452" y="7466"/>
                      </a:cubicBezTo>
                      <a:cubicBezTo>
                        <a:pt x="12428" y="7499"/>
                        <a:pt x="12416" y="7492"/>
                        <a:pt x="12378" y="7516"/>
                      </a:cubicBezTo>
                      <a:cubicBezTo>
                        <a:pt x="12363" y="7525"/>
                        <a:pt x="12335" y="7562"/>
                        <a:pt x="12328" y="7565"/>
                      </a:cubicBezTo>
                      <a:cubicBezTo>
                        <a:pt x="12320" y="7565"/>
                        <a:pt x="12311" y="7565"/>
                        <a:pt x="12303" y="7565"/>
                      </a:cubicBezTo>
                      <a:cubicBezTo>
                        <a:pt x="12342" y="7588"/>
                        <a:pt x="12365" y="7573"/>
                        <a:pt x="12402" y="7590"/>
                      </a:cubicBezTo>
                      <a:cubicBezTo>
                        <a:pt x="12439" y="7607"/>
                        <a:pt x="12425" y="7617"/>
                        <a:pt x="12427" y="7665"/>
                      </a:cubicBezTo>
                      <a:cubicBezTo>
                        <a:pt x="12429" y="7704"/>
                        <a:pt x="12447" y="7764"/>
                        <a:pt x="12402" y="7764"/>
                      </a:cubicBezTo>
                      <a:cubicBezTo>
                        <a:pt x="12386" y="7764"/>
                        <a:pt x="12365" y="7702"/>
                        <a:pt x="12303" y="7764"/>
                      </a:cubicBezTo>
                      <a:cubicBezTo>
                        <a:pt x="12303" y="7772"/>
                        <a:pt x="12303" y="7781"/>
                        <a:pt x="12303" y="7789"/>
                      </a:cubicBezTo>
                      <a:cubicBezTo>
                        <a:pt x="12298" y="7754"/>
                        <a:pt x="12293" y="7673"/>
                        <a:pt x="12278" y="7640"/>
                      </a:cubicBezTo>
                      <a:cubicBezTo>
                        <a:pt x="12257" y="7594"/>
                        <a:pt x="12230" y="7661"/>
                        <a:pt x="12229" y="7665"/>
                      </a:cubicBezTo>
                      <a:cubicBezTo>
                        <a:pt x="12225" y="7677"/>
                        <a:pt x="12229" y="7817"/>
                        <a:pt x="12229" y="7739"/>
                      </a:cubicBezTo>
                      <a:cubicBezTo>
                        <a:pt x="12229" y="7714"/>
                        <a:pt x="12229" y="7706"/>
                        <a:pt x="12229" y="7689"/>
                      </a:cubicBezTo>
                      <a:cubicBezTo>
                        <a:pt x="12229" y="7739"/>
                        <a:pt x="12238" y="7774"/>
                        <a:pt x="12204" y="7813"/>
                      </a:cubicBezTo>
                      <a:cubicBezTo>
                        <a:pt x="12180" y="7841"/>
                        <a:pt x="12131" y="7927"/>
                        <a:pt x="12129" y="7938"/>
                      </a:cubicBezTo>
                      <a:cubicBezTo>
                        <a:pt x="12129" y="7962"/>
                        <a:pt x="12129" y="7971"/>
                        <a:pt x="12129" y="7987"/>
                      </a:cubicBezTo>
                      <a:cubicBezTo>
                        <a:pt x="12144" y="7972"/>
                        <a:pt x="12214" y="7925"/>
                        <a:pt x="12229" y="7888"/>
                      </a:cubicBezTo>
                      <a:cubicBezTo>
                        <a:pt x="12251" y="7836"/>
                        <a:pt x="12211" y="7846"/>
                        <a:pt x="12278" y="7838"/>
                      </a:cubicBezTo>
                      <a:cubicBezTo>
                        <a:pt x="12328" y="7832"/>
                        <a:pt x="12361" y="7816"/>
                        <a:pt x="12378" y="7838"/>
                      </a:cubicBezTo>
                      <a:cubicBezTo>
                        <a:pt x="12399" y="7865"/>
                        <a:pt x="12400" y="7920"/>
                        <a:pt x="12402" y="7962"/>
                      </a:cubicBezTo>
                      <a:cubicBezTo>
                        <a:pt x="12402" y="7987"/>
                        <a:pt x="12402" y="7995"/>
                        <a:pt x="12402" y="8012"/>
                      </a:cubicBezTo>
                      <a:cubicBezTo>
                        <a:pt x="12402" y="7957"/>
                        <a:pt x="12388" y="7954"/>
                        <a:pt x="12402" y="7962"/>
                      </a:cubicBezTo>
                      <a:cubicBezTo>
                        <a:pt x="12427" y="7977"/>
                        <a:pt x="12422" y="8006"/>
                        <a:pt x="12427" y="7938"/>
                      </a:cubicBezTo>
                      <a:cubicBezTo>
                        <a:pt x="12432" y="7866"/>
                        <a:pt x="12444" y="7794"/>
                        <a:pt x="12452" y="7913"/>
                      </a:cubicBezTo>
                      <a:cubicBezTo>
                        <a:pt x="12454" y="7946"/>
                        <a:pt x="12473" y="7888"/>
                        <a:pt x="12452" y="7913"/>
                      </a:cubicBezTo>
                      <a:cubicBezTo>
                        <a:pt x="12399" y="7975"/>
                        <a:pt x="12419" y="8020"/>
                        <a:pt x="12353" y="8086"/>
                      </a:cubicBezTo>
                      <a:cubicBezTo>
                        <a:pt x="12331" y="8108"/>
                        <a:pt x="12319" y="8105"/>
                        <a:pt x="12278" y="8111"/>
                      </a:cubicBezTo>
                      <a:cubicBezTo>
                        <a:pt x="12278" y="8030"/>
                        <a:pt x="12289" y="7934"/>
                        <a:pt x="12303" y="7888"/>
                      </a:cubicBezTo>
                      <a:cubicBezTo>
                        <a:pt x="12303" y="7880"/>
                        <a:pt x="12303" y="7871"/>
                        <a:pt x="12303" y="7863"/>
                      </a:cubicBezTo>
                      <a:cubicBezTo>
                        <a:pt x="12309" y="7904"/>
                        <a:pt x="12322" y="7924"/>
                        <a:pt x="12328" y="7962"/>
                      </a:cubicBezTo>
                      <a:cubicBezTo>
                        <a:pt x="12342" y="8043"/>
                        <a:pt x="12316" y="8120"/>
                        <a:pt x="12303" y="8186"/>
                      </a:cubicBezTo>
                      <a:cubicBezTo>
                        <a:pt x="12290" y="8250"/>
                        <a:pt x="12289" y="8328"/>
                        <a:pt x="12278" y="8384"/>
                      </a:cubicBezTo>
                      <a:cubicBezTo>
                        <a:pt x="12247" y="8538"/>
                        <a:pt x="12278" y="8963"/>
                        <a:pt x="12278" y="8806"/>
                      </a:cubicBezTo>
                      <a:cubicBezTo>
                        <a:pt x="12278" y="8748"/>
                        <a:pt x="12278" y="8690"/>
                        <a:pt x="12278" y="8632"/>
                      </a:cubicBezTo>
                    </a:path>
                    <a:path w="3498" h="3920">
                      <a:moveTo>
                        <a:pt x="12452" y="8905"/>
                      </a:moveTo>
                      <a:cubicBezTo>
                        <a:pt x="12402" y="8922"/>
                        <a:pt x="12448" y="8933"/>
                        <a:pt x="12402" y="8880"/>
                      </a:cubicBezTo>
                      <a:cubicBezTo>
                        <a:pt x="12394" y="8872"/>
                        <a:pt x="12386" y="8863"/>
                        <a:pt x="12378" y="8855"/>
                      </a:cubicBezTo>
                      <a:cubicBezTo>
                        <a:pt x="12378" y="8880"/>
                        <a:pt x="12378" y="8888"/>
                        <a:pt x="12378" y="8905"/>
                      </a:cubicBezTo>
                      <a:cubicBezTo>
                        <a:pt x="12315" y="8905"/>
                        <a:pt x="12342" y="8911"/>
                        <a:pt x="12328" y="8905"/>
                      </a:cubicBezTo>
                      <a:cubicBezTo>
                        <a:pt x="12302" y="8895"/>
                        <a:pt x="12302" y="8922"/>
                        <a:pt x="12278" y="8930"/>
                      </a:cubicBezTo>
                      <a:cubicBezTo>
                        <a:pt x="12242" y="8917"/>
                        <a:pt x="12254" y="8899"/>
                        <a:pt x="12254" y="8855"/>
                      </a:cubicBezTo>
                      <a:cubicBezTo>
                        <a:pt x="12182" y="8855"/>
                        <a:pt x="12234" y="8833"/>
                        <a:pt x="12179" y="8806"/>
                      </a:cubicBezTo>
                      <a:cubicBezTo>
                        <a:pt x="12171" y="8806"/>
                        <a:pt x="12162" y="8806"/>
                        <a:pt x="12154" y="8806"/>
                      </a:cubicBezTo>
                    </a:path>
                    <a:path w="3498" h="3920">
                      <a:moveTo>
                        <a:pt x="12278" y="6300"/>
                      </a:moveTo>
                      <a:cubicBezTo>
                        <a:pt x="12289" y="6355"/>
                        <a:pt x="12303" y="6390"/>
                        <a:pt x="12303" y="6449"/>
                      </a:cubicBezTo>
                      <a:cubicBezTo>
                        <a:pt x="12303" y="6491"/>
                        <a:pt x="12278" y="6458"/>
                        <a:pt x="12303" y="6424"/>
                      </a:cubicBezTo>
                      <a:cubicBezTo>
                        <a:pt x="12311" y="6416"/>
                        <a:pt x="12320" y="6408"/>
                        <a:pt x="12328" y="6400"/>
                      </a:cubicBezTo>
                    </a:path>
                    <a:path w="3498" h="3920">
                      <a:moveTo>
                        <a:pt x="12477" y="8310"/>
                      </a:moveTo>
                      <a:cubicBezTo>
                        <a:pt x="12452" y="8310"/>
                        <a:pt x="12427" y="8310"/>
                        <a:pt x="12402" y="8310"/>
                      </a:cubicBezTo>
                      <a:cubicBezTo>
                        <a:pt x="12421" y="8365"/>
                        <a:pt x="12450" y="8301"/>
                        <a:pt x="12477" y="8334"/>
                      </a:cubicBezTo>
                      <a:cubicBezTo>
                        <a:pt x="12485" y="8344"/>
                        <a:pt x="12524" y="8379"/>
                        <a:pt x="12526" y="8384"/>
                      </a:cubicBezTo>
                      <a:cubicBezTo>
                        <a:pt x="12544" y="8421"/>
                        <a:pt x="12530" y="8430"/>
                        <a:pt x="12551" y="8458"/>
                      </a:cubicBezTo>
                      <a:cubicBezTo>
                        <a:pt x="12581" y="8497"/>
                        <a:pt x="12589" y="8557"/>
                        <a:pt x="12601" y="8607"/>
                      </a:cubicBezTo>
                      <a:cubicBezTo>
                        <a:pt x="12614" y="8664"/>
                        <a:pt x="12601" y="8558"/>
                        <a:pt x="12601" y="8533"/>
                      </a:cubicBezTo>
                      <a:cubicBezTo>
                        <a:pt x="12601" y="8496"/>
                        <a:pt x="12566" y="8502"/>
                        <a:pt x="12551" y="8458"/>
                      </a:cubicBezTo>
                      <a:cubicBezTo>
                        <a:pt x="12534" y="8408"/>
                        <a:pt x="12478" y="8288"/>
                        <a:pt x="12526" y="8310"/>
                      </a:cubicBezTo>
                      <a:cubicBezTo>
                        <a:pt x="12552" y="8322"/>
                        <a:pt x="12574" y="8385"/>
                        <a:pt x="12576" y="8409"/>
                      </a:cubicBezTo>
                      <a:cubicBezTo>
                        <a:pt x="12581" y="8478"/>
                        <a:pt x="12569" y="8524"/>
                        <a:pt x="12551" y="8558"/>
                      </a:cubicBezTo>
                      <a:cubicBezTo>
                        <a:pt x="12517" y="8624"/>
                        <a:pt x="12552" y="8756"/>
                        <a:pt x="12526" y="8806"/>
                      </a:cubicBezTo>
                      <a:cubicBezTo>
                        <a:pt x="12514" y="8829"/>
                        <a:pt x="12484" y="8841"/>
                        <a:pt x="12477" y="8855"/>
                      </a:cubicBezTo>
                      <a:cubicBezTo>
                        <a:pt x="12477" y="8863"/>
                        <a:pt x="12477" y="8872"/>
                        <a:pt x="12477" y="8880"/>
                      </a:cubicBezTo>
                    </a:path>
                    <a:path w="3498" h="3920">
                      <a:moveTo>
                        <a:pt x="13444" y="5234"/>
                      </a:moveTo>
                      <a:cubicBezTo>
                        <a:pt x="13452" y="5234"/>
                        <a:pt x="13461" y="5234"/>
                        <a:pt x="13469" y="5234"/>
                      </a:cubicBezTo>
                      <a:cubicBezTo>
                        <a:pt x="13482" y="5196"/>
                        <a:pt x="13498" y="5209"/>
                        <a:pt x="13543" y="5209"/>
                      </a:cubicBezTo>
                      <a:cubicBezTo>
                        <a:pt x="13576" y="5209"/>
                        <a:pt x="13610" y="5209"/>
                        <a:pt x="13643" y="5209"/>
                      </a:cubicBezTo>
                      <a:cubicBezTo>
                        <a:pt x="13630" y="5249"/>
                        <a:pt x="13631" y="5219"/>
                        <a:pt x="13618" y="5259"/>
                      </a:cubicBezTo>
                    </a:path>
                    <a:path w="3498" h="3920">
                      <a:moveTo>
                        <a:pt x="11261" y="5259"/>
                      </a:moveTo>
                      <a:cubicBezTo>
                        <a:pt x="11261" y="5251"/>
                        <a:pt x="11261" y="5242"/>
                        <a:pt x="11261" y="5234"/>
                      </a:cubicBezTo>
                      <a:cubicBezTo>
                        <a:pt x="11195" y="5234"/>
                        <a:pt x="11129" y="5234"/>
                        <a:pt x="11063" y="5234"/>
                      </a:cubicBezTo>
                      <a:cubicBezTo>
                        <a:pt x="11052" y="5202"/>
                        <a:pt x="11029" y="5194"/>
                        <a:pt x="10988" y="5184"/>
                      </a:cubicBezTo>
                      <a:cubicBezTo>
                        <a:pt x="10975" y="5224"/>
                        <a:pt x="10977" y="5194"/>
                        <a:pt x="10964" y="5234"/>
                      </a:cubicBezTo>
                      <a:cubicBezTo>
                        <a:pt x="10998" y="5246"/>
                        <a:pt x="10988" y="5242"/>
                        <a:pt x="10988" y="5283"/>
                      </a:cubicBezTo>
                      <a:cubicBezTo>
                        <a:pt x="11013" y="5283"/>
                        <a:pt x="11021" y="5283"/>
                        <a:pt x="11013" y="5308"/>
                      </a:cubicBezTo>
                    </a:path>
                    <a:path w="3498" h="3920">
                      <a:moveTo>
                        <a:pt x="11609" y="5234"/>
                      </a:moveTo>
                      <a:cubicBezTo>
                        <a:pt x="11559" y="5234"/>
                        <a:pt x="11510" y="5234"/>
                        <a:pt x="11460" y="5234"/>
                      </a:cubicBezTo>
                      <a:cubicBezTo>
                        <a:pt x="11492" y="5282"/>
                        <a:pt x="11458" y="5259"/>
                        <a:pt x="11410" y="5259"/>
                      </a:cubicBezTo>
                      <a:cubicBezTo>
                        <a:pt x="11385" y="5259"/>
                        <a:pt x="11361" y="5259"/>
                        <a:pt x="11336" y="5259"/>
                      </a:cubicBezTo>
                    </a:path>
                    <a:path w="3498" h="3920">
                      <a:moveTo>
                        <a:pt x="13444" y="5234"/>
                      </a:moveTo>
                      <a:cubicBezTo>
                        <a:pt x="13388" y="5234"/>
                        <a:pt x="13411" y="5254"/>
                        <a:pt x="13370" y="5259"/>
                      </a:cubicBezTo>
                      <a:cubicBezTo>
                        <a:pt x="13325" y="5265"/>
                        <a:pt x="13293" y="5283"/>
                        <a:pt x="13246" y="5283"/>
                      </a:cubicBezTo>
                      <a:cubicBezTo>
                        <a:pt x="13221" y="5283"/>
                        <a:pt x="13213" y="5283"/>
                        <a:pt x="13196" y="5283"/>
                      </a:cubicBezTo>
                      <a:cubicBezTo>
                        <a:pt x="13232" y="5337"/>
                        <a:pt x="13267" y="5294"/>
                        <a:pt x="13320" y="5283"/>
                      </a:cubicBezTo>
                      <a:cubicBezTo>
                        <a:pt x="13374" y="5272"/>
                        <a:pt x="13451" y="5310"/>
                        <a:pt x="13469" y="5259"/>
                      </a:cubicBezTo>
                      <a:cubicBezTo>
                        <a:pt x="13413" y="5259"/>
                        <a:pt x="13435" y="5239"/>
                        <a:pt x="13395" y="5234"/>
                      </a:cubicBezTo>
                      <a:cubicBezTo>
                        <a:pt x="13363" y="5230"/>
                        <a:pt x="13327" y="5234"/>
                        <a:pt x="13295" y="5234"/>
                      </a:cubicBezTo>
                      <a:cubicBezTo>
                        <a:pt x="13371" y="5234"/>
                        <a:pt x="13326" y="5234"/>
                        <a:pt x="13271" y="5234"/>
                      </a:cubicBezTo>
                      <a:cubicBezTo>
                        <a:pt x="13122" y="5234"/>
                        <a:pt x="12973" y="5234"/>
                        <a:pt x="12824" y="5234"/>
                      </a:cubicBezTo>
                    </a:path>
                    <a:path w="3498" h="3920">
                      <a:moveTo>
                        <a:pt x="11757" y="7020"/>
                      </a:moveTo>
                      <a:cubicBezTo>
                        <a:pt x="11725" y="7009"/>
                        <a:pt x="11727" y="6980"/>
                        <a:pt x="11708" y="6970"/>
                      </a:cubicBezTo>
                      <a:cubicBezTo>
                        <a:pt x="11683" y="6970"/>
                        <a:pt x="11675" y="6970"/>
                        <a:pt x="11683" y="6995"/>
                      </a:cubicBezTo>
                      <a:cubicBezTo>
                        <a:pt x="11683" y="6970"/>
                        <a:pt x="11683" y="6946"/>
                        <a:pt x="11683" y="6921"/>
                      </a:cubicBezTo>
                      <a:cubicBezTo>
                        <a:pt x="11720" y="6956"/>
                        <a:pt x="11727" y="6985"/>
                        <a:pt x="11757" y="7020"/>
                      </a:cubicBezTo>
                      <a:cubicBezTo>
                        <a:pt x="11792" y="7060"/>
                        <a:pt x="11886" y="7114"/>
                        <a:pt x="11906" y="7144"/>
                      </a:cubicBezTo>
                      <a:cubicBezTo>
                        <a:pt x="11916" y="7160"/>
                        <a:pt x="11931" y="7251"/>
                        <a:pt x="11931" y="7193"/>
                      </a:cubicBezTo>
                      <a:cubicBezTo>
                        <a:pt x="11931" y="7137"/>
                        <a:pt x="11927" y="7061"/>
                        <a:pt x="11881" y="7020"/>
                      </a:cubicBezTo>
                      <a:cubicBezTo>
                        <a:pt x="11856" y="6998"/>
                        <a:pt x="11857" y="6912"/>
                        <a:pt x="11857" y="6945"/>
                      </a:cubicBezTo>
                      <a:cubicBezTo>
                        <a:pt x="11857" y="6982"/>
                        <a:pt x="11892" y="6977"/>
                        <a:pt x="11906" y="7020"/>
                      </a:cubicBezTo>
                      <a:cubicBezTo>
                        <a:pt x="11925" y="7078"/>
                        <a:pt x="11978" y="7061"/>
                        <a:pt x="12005" y="7094"/>
                      </a:cubicBezTo>
                      <a:cubicBezTo>
                        <a:pt x="12028" y="7122"/>
                        <a:pt x="12030" y="7229"/>
                        <a:pt x="12030" y="7193"/>
                      </a:cubicBezTo>
                      <a:cubicBezTo>
                        <a:pt x="12030" y="7137"/>
                        <a:pt x="12043" y="7119"/>
                        <a:pt x="12055" y="7094"/>
                      </a:cubicBezTo>
                      <a:cubicBezTo>
                        <a:pt x="12078" y="7048"/>
                        <a:pt x="12104" y="7099"/>
                        <a:pt x="12129" y="7069"/>
                      </a:cubicBezTo>
                      <a:cubicBezTo>
                        <a:pt x="12151" y="7041"/>
                        <a:pt x="12153" y="7045"/>
                        <a:pt x="12204" y="7045"/>
                      </a:cubicBezTo>
                      <a:cubicBezTo>
                        <a:pt x="12255" y="7045"/>
                        <a:pt x="12438" y="7045"/>
                        <a:pt x="12402" y="7045"/>
                      </a:cubicBezTo>
                      <a:cubicBezTo>
                        <a:pt x="12378" y="7045"/>
                        <a:pt x="12369" y="7045"/>
                        <a:pt x="12353" y="7045"/>
                      </a:cubicBezTo>
                    </a:path>
                    <a:path w="3498" h="3920">
                      <a:moveTo>
                        <a:pt x="11757" y="7094"/>
                      </a:moveTo>
                      <a:cubicBezTo>
                        <a:pt x="11550" y="7094"/>
                        <a:pt x="10980" y="7094"/>
                        <a:pt x="11187" y="7094"/>
                      </a:cubicBezTo>
                      <a:cubicBezTo>
                        <a:pt x="11256" y="7094"/>
                        <a:pt x="11297" y="7084"/>
                        <a:pt x="11361" y="7069"/>
                      </a:cubicBezTo>
                      <a:cubicBezTo>
                        <a:pt x="11430" y="7053"/>
                        <a:pt x="11517" y="7062"/>
                        <a:pt x="11559" y="7045"/>
                      </a:cubicBezTo>
                      <a:cubicBezTo>
                        <a:pt x="11594" y="7031"/>
                        <a:pt x="11776" y="7045"/>
                        <a:pt x="11733" y="7045"/>
                      </a:cubicBezTo>
                      <a:cubicBezTo>
                        <a:pt x="11526" y="7045"/>
                        <a:pt x="11319" y="7045"/>
                        <a:pt x="11112" y="7045"/>
                      </a:cubicBezTo>
                    </a:path>
                    <a:path w="3498" h="3920">
                      <a:moveTo>
                        <a:pt x="13494" y="7020"/>
                      </a:moveTo>
                      <a:cubicBezTo>
                        <a:pt x="13411" y="7020"/>
                        <a:pt x="13329" y="7020"/>
                        <a:pt x="13246" y="7020"/>
                      </a:cubicBezTo>
                      <a:cubicBezTo>
                        <a:pt x="13233" y="7058"/>
                        <a:pt x="13216" y="7045"/>
                        <a:pt x="13171" y="7045"/>
                      </a:cubicBezTo>
                      <a:cubicBezTo>
                        <a:pt x="13146" y="7045"/>
                        <a:pt x="13138" y="7045"/>
                        <a:pt x="13146" y="7069"/>
                      </a:cubicBezTo>
                    </a:path>
                    <a:path w="3498" h="3920">
                      <a:moveTo>
                        <a:pt x="12898" y="7144"/>
                      </a:moveTo>
                      <a:cubicBezTo>
                        <a:pt x="12923" y="7144"/>
                        <a:pt x="12931" y="7144"/>
                        <a:pt x="12948" y="7144"/>
                      </a:cubicBezTo>
                    </a:path>
                    <a:path w="3498" h="3920">
                      <a:moveTo>
                        <a:pt x="13990" y="8558"/>
                      </a:moveTo>
                      <a:cubicBezTo>
                        <a:pt x="13918" y="8558"/>
                        <a:pt x="13855" y="8563"/>
                        <a:pt x="13816" y="8582"/>
                      </a:cubicBezTo>
                      <a:cubicBezTo>
                        <a:pt x="13749" y="8614"/>
                        <a:pt x="13799" y="8582"/>
                        <a:pt x="13866" y="8582"/>
                      </a:cubicBezTo>
                      <a:cubicBezTo>
                        <a:pt x="14039" y="8582"/>
                        <a:pt x="14306" y="8612"/>
                        <a:pt x="14436" y="8558"/>
                      </a:cubicBezTo>
                      <a:cubicBezTo>
                        <a:pt x="14444" y="8558"/>
                        <a:pt x="14453" y="8558"/>
                        <a:pt x="14461" y="8558"/>
                      </a:cubicBezTo>
                      <a:cubicBezTo>
                        <a:pt x="14301" y="8558"/>
                        <a:pt x="14147" y="8562"/>
                        <a:pt x="13990" y="8582"/>
                      </a:cubicBezTo>
                      <a:cubicBezTo>
                        <a:pt x="13823" y="8603"/>
                        <a:pt x="13638" y="8582"/>
                        <a:pt x="13469" y="8582"/>
                      </a:cubicBezTo>
                    </a:path>
                    <a:path w="3498" h="3920">
                      <a:moveTo>
                        <a:pt x="12799" y="8458"/>
                      </a:moveTo>
                      <a:cubicBezTo>
                        <a:pt x="12799" y="8489"/>
                        <a:pt x="12807" y="8525"/>
                        <a:pt x="12824" y="8533"/>
                      </a:cubicBezTo>
                      <a:cubicBezTo>
                        <a:pt x="12832" y="8533"/>
                        <a:pt x="12841" y="8533"/>
                        <a:pt x="12849" y="8533"/>
                      </a:cubicBezTo>
                      <a:cubicBezTo>
                        <a:pt x="12846" y="8524"/>
                        <a:pt x="12800" y="8478"/>
                        <a:pt x="12824" y="8458"/>
                      </a:cubicBezTo>
                      <a:cubicBezTo>
                        <a:pt x="12848" y="8438"/>
                        <a:pt x="12842" y="8420"/>
                        <a:pt x="12874" y="8409"/>
                      </a:cubicBezTo>
                    </a:path>
                    <a:path w="3498" h="3920">
                      <a:moveTo>
                        <a:pt x="11956" y="8930"/>
                      </a:moveTo>
                      <a:cubicBezTo>
                        <a:pt x="11956" y="8954"/>
                        <a:pt x="11956" y="8963"/>
                        <a:pt x="11956" y="8979"/>
                      </a:cubicBezTo>
                      <a:cubicBezTo>
                        <a:pt x="11958" y="8972"/>
                        <a:pt x="11991" y="8911"/>
                        <a:pt x="12005" y="8930"/>
                      </a:cubicBezTo>
                      <a:cubicBezTo>
                        <a:pt x="12034" y="8969"/>
                        <a:pt x="12055" y="9004"/>
                        <a:pt x="12030" y="9004"/>
                      </a:cubicBezTo>
                      <a:cubicBezTo>
                        <a:pt x="11988" y="9004"/>
                        <a:pt x="12005" y="9077"/>
                        <a:pt x="12005" y="9029"/>
                      </a:cubicBezTo>
                      <a:cubicBezTo>
                        <a:pt x="12005" y="8955"/>
                        <a:pt x="12005" y="8880"/>
                        <a:pt x="12005" y="8806"/>
                      </a:cubicBezTo>
                    </a:path>
                    <a:path w="3498" h="3920">
                      <a:moveTo>
                        <a:pt x="11956" y="8781"/>
                      </a:moveTo>
                      <a:cubicBezTo>
                        <a:pt x="11956" y="8829"/>
                        <a:pt x="11939" y="8806"/>
                        <a:pt x="11931" y="8781"/>
                      </a:cubicBezTo>
                    </a:path>
                    <a:path w="3498" h="3920">
                      <a:moveTo>
                        <a:pt x="12204" y="8632"/>
                      </a:moveTo>
                      <a:cubicBezTo>
                        <a:pt x="12204" y="8624"/>
                        <a:pt x="12204" y="8615"/>
                        <a:pt x="12204" y="8607"/>
                      </a:cubicBezTo>
                    </a:path>
                    <a:path w="3498" h="3920">
                      <a:moveTo>
                        <a:pt x="11906" y="6722"/>
                      </a:moveTo>
                      <a:cubicBezTo>
                        <a:pt x="11919" y="6760"/>
                        <a:pt x="11931" y="6743"/>
                        <a:pt x="11931" y="6796"/>
                      </a:cubicBezTo>
                      <a:cubicBezTo>
                        <a:pt x="11931" y="6852"/>
                        <a:pt x="11918" y="6871"/>
                        <a:pt x="11906" y="6896"/>
                      </a:cubicBezTo>
                      <a:cubicBezTo>
                        <a:pt x="11886" y="6937"/>
                        <a:pt x="11938" y="6988"/>
                        <a:pt x="11881" y="6995"/>
                      </a:cubicBezTo>
                      <a:cubicBezTo>
                        <a:pt x="11873" y="6995"/>
                        <a:pt x="11865" y="6995"/>
                        <a:pt x="11857" y="6995"/>
                      </a:cubicBezTo>
                      <a:cubicBezTo>
                        <a:pt x="11858" y="6997"/>
                        <a:pt x="11904" y="7067"/>
                        <a:pt x="11906" y="7069"/>
                      </a:cubicBezTo>
                      <a:cubicBezTo>
                        <a:pt x="11931" y="7069"/>
                        <a:pt x="11939" y="7069"/>
                        <a:pt x="11956" y="7069"/>
                      </a:cubicBezTo>
                      <a:cubicBezTo>
                        <a:pt x="11943" y="7109"/>
                        <a:pt x="11944" y="7079"/>
                        <a:pt x="11931" y="7119"/>
                      </a:cubicBezTo>
                      <a:cubicBezTo>
                        <a:pt x="11938" y="7098"/>
                        <a:pt x="11937" y="7055"/>
                        <a:pt x="11906" y="7094"/>
                      </a:cubicBezTo>
                      <a:cubicBezTo>
                        <a:pt x="11896" y="7107"/>
                        <a:pt x="11906" y="7175"/>
                        <a:pt x="11906" y="7193"/>
                      </a:cubicBezTo>
                      <a:cubicBezTo>
                        <a:pt x="11864" y="7193"/>
                        <a:pt x="11847" y="7188"/>
                        <a:pt x="11832" y="7144"/>
                      </a:cubicBezTo>
                      <a:cubicBezTo>
                        <a:pt x="11832" y="7136"/>
                        <a:pt x="11832" y="7127"/>
                        <a:pt x="11832" y="7119"/>
                      </a:cubicBezTo>
                      <a:cubicBezTo>
                        <a:pt x="11832" y="7165"/>
                        <a:pt x="11852" y="7177"/>
                        <a:pt x="11857" y="7218"/>
                      </a:cubicBezTo>
                      <a:cubicBezTo>
                        <a:pt x="11861" y="7256"/>
                        <a:pt x="11903" y="7258"/>
                        <a:pt x="11906" y="7218"/>
                      </a:cubicBezTo>
                      <a:cubicBezTo>
                        <a:pt x="11906" y="7202"/>
                        <a:pt x="11906" y="7185"/>
                        <a:pt x="11906" y="7169"/>
                      </a:cubicBezTo>
                      <a:cubicBezTo>
                        <a:pt x="11910" y="7181"/>
                        <a:pt x="11957" y="7221"/>
                        <a:pt x="11981" y="7193"/>
                      </a:cubicBezTo>
                      <a:cubicBezTo>
                        <a:pt x="11996" y="7176"/>
                        <a:pt x="12028" y="7136"/>
                        <a:pt x="12030" y="7119"/>
                      </a:cubicBezTo>
                      <a:cubicBezTo>
                        <a:pt x="12034" y="7086"/>
                        <a:pt x="12048" y="7093"/>
                        <a:pt x="12080" y="7069"/>
                      </a:cubicBezTo>
                      <a:cubicBezTo>
                        <a:pt x="12024" y="7069"/>
                        <a:pt x="12046" y="7089"/>
                        <a:pt x="12005" y="7094"/>
                      </a:cubicBezTo>
                      <a:cubicBezTo>
                        <a:pt x="11964" y="7099"/>
                        <a:pt x="11996" y="7106"/>
                        <a:pt x="11956" y="7119"/>
                      </a:cubicBezTo>
                    </a:path>
                    <a:path w="3498" h="3920">
                      <a:moveTo>
                        <a:pt x="11807" y="7193"/>
                      </a:moveTo>
                      <a:cubicBezTo>
                        <a:pt x="11799" y="7193"/>
                        <a:pt x="11790" y="7193"/>
                        <a:pt x="11782" y="7193"/>
                      </a:cubicBezTo>
                    </a:path>
                    <a:path w="3498" h="3920">
                      <a:moveTo>
                        <a:pt x="11733" y="7169"/>
                      </a:moveTo>
                      <a:cubicBezTo>
                        <a:pt x="11698" y="7157"/>
                        <a:pt x="11709" y="7123"/>
                        <a:pt x="11658" y="7119"/>
                      </a:cubicBezTo>
                      <a:cubicBezTo>
                        <a:pt x="11588" y="7114"/>
                        <a:pt x="11520" y="7127"/>
                        <a:pt x="11485" y="7144"/>
                      </a:cubicBezTo>
                      <a:cubicBezTo>
                        <a:pt x="11477" y="7144"/>
                        <a:pt x="11468" y="7144"/>
                        <a:pt x="11460" y="7144"/>
                      </a:cubicBezTo>
                      <a:cubicBezTo>
                        <a:pt x="11460" y="7080"/>
                        <a:pt x="11452" y="7094"/>
                        <a:pt x="11385" y="7094"/>
                      </a:cubicBezTo>
                      <a:cubicBezTo>
                        <a:pt x="11347" y="7094"/>
                        <a:pt x="11365" y="7069"/>
                        <a:pt x="11311" y="7069"/>
                      </a:cubicBezTo>
                      <a:cubicBezTo>
                        <a:pt x="11243" y="7069"/>
                        <a:pt x="11226" y="7076"/>
                        <a:pt x="11187" y="7094"/>
                      </a:cubicBezTo>
                      <a:cubicBezTo>
                        <a:pt x="11130" y="7120"/>
                        <a:pt x="11101" y="7119"/>
                        <a:pt x="11038" y="7119"/>
                      </a:cubicBezTo>
                      <a:cubicBezTo>
                        <a:pt x="11021" y="7119"/>
                        <a:pt x="11005" y="7119"/>
                        <a:pt x="10988" y="7119"/>
                      </a:cubicBezTo>
                      <a:cubicBezTo>
                        <a:pt x="11087" y="7119"/>
                        <a:pt x="11187" y="7119"/>
                        <a:pt x="11286" y="7119"/>
                      </a:cubicBezTo>
                    </a:path>
                    <a:path w="3498" h="3920">
                      <a:moveTo>
                        <a:pt x="13543" y="5283"/>
                      </a:moveTo>
                      <a:cubicBezTo>
                        <a:pt x="13506" y="5296"/>
                        <a:pt x="13522" y="5308"/>
                        <a:pt x="13469" y="5308"/>
                      </a:cubicBezTo>
                      <a:cubicBezTo>
                        <a:pt x="13428" y="5308"/>
                        <a:pt x="13403" y="5309"/>
                        <a:pt x="13370" y="5333"/>
                      </a:cubicBezTo>
                      <a:cubicBezTo>
                        <a:pt x="13346" y="5350"/>
                        <a:pt x="13355" y="5396"/>
                        <a:pt x="13370" y="5308"/>
                      </a:cubicBezTo>
                      <a:cubicBezTo>
                        <a:pt x="13433" y="5300"/>
                        <a:pt x="13482" y="5269"/>
                        <a:pt x="13543" y="5259"/>
                      </a:cubicBezTo>
                      <a:cubicBezTo>
                        <a:pt x="13572" y="5254"/>
                        <a:pt x="13612" y="5259"/>
                        <a:pt x="13643" y="5259"/>
                      </a:cubicBezTo>
                    </a:path>
                    <a:path w="3498" h="3920">
                      <a:moveTo>
                        <a:pt x="11311" y="5333"/>
                      </a:moveTo>
                      <a:cubicBezTo>
                        <a:pt x="11342" y="5333"/>
                        <a:pt x="11353" y="5307"/>
                        <a:pt x="11361" y="5283"/>
                      </a:cubicBezTo>
                    </a:path>
                    <a:path w="3498" h="3920">
                      <a:moveTo>
                        <a:pt x="12402" y="7069"/>
                      </a:moveTo>
                      <a:cubicBezTo>
                        <a:pt x="12336" y="7069"/>
                        <a:pt x="12270" y="7069"/>
                        <a:pt x="12204" y="7069"/>
                      </a:cubicBezTo>
                      <a:cubicBezTo>
                        <a:pt x="12242" y="7069"/>
                        <a:pt x="12292" y="7068"/>
                        <a:pt x="12303" y="7045"/>
                      </a:cubicBezTo>
                      <a:cubicBezTo>
                        <a:pt x="12322" y="7007"/>
                        <a:pt x="12346" y="7020"/>
                        <a:pt x="12402" y="7020"/>
                      </a:cubicBezTo>
                      <a:cubicBezTo>
                        <a:pt x="12452" y="7020"/>
                        <a:pt x="12501" y="7020"/>
                        <a:pt x="12551" y="7020"/>
                      </a:cubicBezTo>
                      <a:cubicBezTo>
                        <a:pt x="12551" y="7071"/>
                        <a:pt x="12536" y="7073"/>
                        <a:pt x="12526" y="7094"/>
                      </a:cubicBezTo>
                      <a:cubicBezTo>
                        <a:pt x="12526" y="7119"/>
                        <a:pt x="12526" y="7127"/>
                        <a:pt x="12502" y="7119"/>
                      </a:cubicBezTo>
                      <a:cubicBezTo>
                        <a:pt x="12464" y="7106"/>
                        <a:pt x="12481" y="7094"/>
                        <a:pt x="12427" y="7094"/>
                      </a:cubicBezTo>
                      <a:cubicBezTo>
                        <a:pt x="12372" y="7094"/>
                        <a:pt x="12327" y="7109"/>
                        <a:pt x="12303" y="7119"/>
                      </a:cubicBezTo>
                      <a:cubicBezTo>
                        <a:pt x="12258" y="7138"/>
                        <a:pt x="12240" y="7100"/>
                        <a:pt x="12229" y="7094"/>
                      </a:cubicBezTo>
                      <a:cubicBezTo>
                        <a:pt x="12221" y="7094"/>
                        <a:pt x="12212" y="7094"/>
                        <a:pt x="12204" y="7094"/>
                      </a:cubicBezTo>
                      <a:cubicBezTo>
                        <a:pt x="12165" y="7107"/>
                        <a:pt x="12183" y="7155"/>
                        <a:pt x="12154" y="7169"/>
                      </a:cubicBezTo>
                      <a:cubicBezTo>
                        <a:pt x="12128" y="7182"/>
                        <a:pt x="12109" y="7183"/>
                        <a:pt x="12105" y="7218"/>
                      </a:cubicBezTo>
                      <a:cubicBezTo>
                        <a:pt x="12100" y="7262"/>
                        <a:pt x="12119" y="7255"/>
                        <a:pt x="12080" y="7268"/>
                      </a:cubicBezTo>
                    </a:path>
                    <a:path w="3498" h="3920">
                      <a:moveTo>
                        <a:pt x="13097" y="7169"/>
                      </a:moveTo>
                      <a:cubicBezTo>
                        <a:pt x="13130" y="7169"/>
                        <a:pt x="13163" y="7169"/>
                        <a:pt x="13196" y="7169"/>
                      </a:cubicBezTo>
                      <a:cubicBezTo>
                        <a:pt x="13083" y="7169"/>
                        <a:pt x="12981" y="7169"/>
                        <a:pt x="12874" y="7193"/>
                      </a:cubicBezTo>
                      <a:cubicBezTo>
                        <a:pt x="12859" y="7196"/>
                        <a:pt x="12706" y="7193"/>
                        <a:pt x="12774" y="7193"/>
                      </a:cubicBezTo>
                      <a:cubicBezTo>
                        <a:pt x="12824" y="7193"/>
                        <a:pt x="12883" y="7173"/>
                        <a:pt x="12898" y="7169"/>
                      </a:cubicBezTo>
                      <a:cubicBezTo>
                        <a:pt x="12961" y="7152"/>
                        <a:pt x="12945" y="7144"/>
                        <a:pt x="13022" y="7144"/>
                      </a:cubicBezTo>
                      <a:cubicBezTo>
                        <a:pt x="13091" y="7144"/>
                        <a:pt x="13107" y="7125"/>
                        <a:pt x="13122" y="7169"/>
                      </a:cubicBezTo>
                      <a:cubicBezTo>
                        <a:pt x="13105" y="7190"/>
                        <a:pt x="13082" y="7238"/>
                        <a:pt x="13072" y="7243"/>
                      </a:cubicBezTo>
                      <a:cubicBezTo>
                        <a:pt x="13011" y="7274"/>
                        <a:pt x="12917" y="7290"/>
                        <a:pt x="12849" y="7293"/>
                      </a:cubicBezTo>
                      <a:cubicBezTo>
                        <a:pt x="12775" y="7297"/>
                        <a:pt x="12795" y="7326"/>
                        <a:pt x="12799" y="7317"/>
                      </a:cubicBezTo>
                      <a:cubicBezTo>
                        <a:pt x="12799" y="7293"/>
                        <a:pt x="12799" y="7285"/>
                        <a:pt x="12824" y="7293"/>
                      </a:cubicBezTo>
                    </a:path>
                    <a:path w="3498" h="3920">
                      <a:moveTo>
                        <a:pt x="11807" y="6846"/>
                      </a:moveTo>
                      <a:cubicBezTo>
                        <a:pt x="11807" y="6871"/>
                        <a:pt x="11807" y="6879"/>
                        <a:pt x="11807" y="6896"/>
                      </a:cubicBezTo>
                    </a:path>
                    <a:path w="3498" h="3920">
                      <a:moveTo>
                        <a:pt x="11584" y="8310"/>
                      </a:moveTo>
                      <a:cubicBezTo>
                        <a:pt x="11584" y="8359"/>
                        <a:pt x="11584" y="8409"/>
                        <a:pt x="11584" y="8458"/>
                      </a:cubicBezTo>
                      <a:cubicBezTo>
                        <a:pt x="11546" y="8471"/>
                        <a:pt x="11563" y="8483"/>
                        <a:pt x="11509" y="8483"/>
                      </a:cubicBezTo>
                      <a:cubicBezTo>
                        <a:pt x="11509" y="8508"/>
                        <a:pt x="11509" y="8516"/>
                        <a:pt x="11534" y="8508"/>
                      </a:cubicBezTo>
                    </a:path>
                    <a:path w="3498" h="3920">
                      <a:moveTo>
                        <a:pt x="11534" y="8607"/>
                      </a:moveTo>
                      <a:cubicBezTo>
                        <a:pt x="11526" y="8607"/>
                        <a:pt x="11517" y="8607"/>
                        <a:pt x="11509" y="8607"/>
                      </a:cubicBezTo>
                      <a:cubicBezTo>
                        <a:pt x="11509" y="8649"/>
                        <a:pt x="11519" y="8645"/>
                        <a:pt x="11485" y="8657"/>
                      </a:cubicBezTo>
                      <a:cubicBezTo>
                        <a:pt x="11472" y="8695"/>
                        <a:pt x="11460" y="8677"/>
                        <a:pt x="11460" y="8731"/>
                      </a:cubicBezTo>
                      <a:cubicBezTo>
                        <a:pt x="11485" y="8731"/>
                        <a:pt x="11509" y="8731"/>
                        <a:pt x="11534" y="8731"/>
                      </a:cubicBezTo>
                    </a:path>
                    <a:path w="3498" h="3920">
                      <a:moveTo>
                        <a:pt x="11534" y="8806"/>
                      </a:moveTo>
                      <a:cubicBezTo>
                        <a:pt x="11526" y="8806"/>
                        <a:pt x="11517" y="8806"/>
                        <a:pt x="11509" y="8806"/>
                      </a:cubicBezTo>
                      <a:cubicBezTo>
                        <a:pt x="11509" y="8847"/>
                        <a:pt x="11509" y="8889"/>
                        <a:pt x="11509" y="8930"/>
                      </a:cubicBezTo>
                      <a:cubicBezTo>
                        <a:pt x="11468" y="8930"/>
                        <a:pt x="11472" y="8920"/>
                        <a:pt x="11460" y="8954"/>
                      </a:cubicBezTo>
                    </a:path>
                    <a:path w="3498" h="3920">
                      <a:moveTo>
                        <a:pt x="11683" y="8508"/>
                      </a:moveTo>
                      <a:cubicBezTo>
                        <a:pt x="11683" y="8533"/>
                        <a:pt x="11683" y="8557"/>
                        <a:pt x="11683" y="8582"/>
                      </a:cubicBezTo>
                      <a:cubicBezTo>
                        <a:pt x="11645" y="8595"/>
                        <a:pt x="11658" y="8612"/>
                        <a:pt x="11658" y="8657"/>
                      </a:cubicBezTo>
                      <a:cubicBezTo>
                        <a:pt x="11658" y="8673"/>
                        <a:pt x="11658" y="8690"/>
                        <a:pt x="11658" y="8706"/>
                      </a:cubicBezTo>
                      <a:cubicBezTo>
                        <a:pt x="11616" y="8727"/>
                        <a:pt x="11621" y="8769"/>
                        <a:pt x="11584" y="8781"/>
                      </a:cubicBezTo>
                    </a:path>
                    <a:path w="3498" h="3920">
                      <a:moveTo>
                        <a:pt x="11633" y="8508"/>
                      </a:moveTo>
                      <a:cubicBezTo>
                        <a:pt x="11641" y="8508"/>
                        <a:pt x="11650" y="8508"/>
                        <a:pt x="11658" y="8508"/>
                      </a:cubicBezTo>
                      <a:cubicBezTo>
                        <a:pt x="11648" y="8547"/>
                        <a:pt x="11633" y="8563"/>
                        <a:pt x="11633" y="8607"/>
                      </a:cubicBezTo>
                    </a:path>
                    <a:path w="3498" h="3920">
                      <a:moveTo>
                        <a:pt x="11708" y="8285"/>
                      </a:moveTo>
                      <a:cubicBezTo>
                        <a:pt x="11708" y="8340"/>
                        <a:pt x="11696" y="8356"/>
                        <a:pt x="11683" y="8409"/>
                      </a:cubicBezTo>
                      <a:cubicBezTo>
                        <a:pt x="11674" y="8445"/>
                        <a:pt x="11683" y="8496"/>
                        <a:pt x="11683" y="8533"/>
                      </a:cubicBezTo>
                      <a:cubicBezTo>
                        <a:pt x="11652" y="8543"/>
                        <a:pt x="11644" y="8551"/>
                        <a:pt x="11633" y="8582"/>
                      </a:cubicBezTo>
                    </a:path>
                    <a:path w="3498" h="3920">
                      <a:moveTo>
                        <a:pt x="11460" y="8706"/>
                      </a:moveTo>
                      <a:cubicBezTo>
                        <a:pt x="11402" y="8725"/>
                        <a:pt x="11470" y="8753"/>
                        <a:pt x="11435" y="8781"/>
                      </a:cubicBezTo>
                      <a:cubicBezTo>
                        <a:pt x="11406" y="8804"/>
                        <a:pt x="11410" y="8802"/>
                        <a:pt x="11410" y="8855"/>
                      </a:cubicBezTo>
                      <a:cubicBezTo>
                        <a:pt x="11410" y="8889"/>
                        <a:pt x="11390" y="9025"/>
                        <a:pt x="11410" y="8979"/>
                      </a:cubicBezTo>
                      <a:cubicBezTo>
                        <a:pt x="11430" y="8939"/>
                        <a:pt x="11439" y="8933"/>
                        <a:pt x="11435" y="8905"/>
                      </a:cubicBezTo>
                    </a:path>
                    <a:path w="3498" h="3920">
                      <a:moveTo>
                        <a:pt x="11609" y="8607"/>
                      </a:moveTo>
                      <a:cubicBezTo>
                        <a:pt x="11609" y="8661"/>
                        <a:pt x="11597" y="8644"/>
                        <a:pt x="11584" y="8682"/>
                      </a:cubicBezTo>
                    </a:path>
                    <a:path w="3498" h="3920">
                      <a:moveTo>
                        <a:pt x="13022" y="8434"/>
                      </a:moveTo>
                      <a:cubicBezTo>
                        <a:pt x="13060" y="8446"/>
                        <a:pt x="13047" y="8463"/>
                        <a:pt x="13047" y="8508"/>
                      </a:cubicBezTo>
                      <a:cubicBezTo>
                        <a:pt x="13047" y="8563"/>
                        <a:pt x="13028" y="8667"/>
                        <a:pt x="13072" y="8682"/>
                      </a:cubicBezTo>
                      <a:cubicBezTo>
                        <a:pt x="13112" y="8669"/>
                        <a:pt x="13103" y="8694"/>
                        <a:pt x="13122" y="8657"/>
                      </a:cubicBezTo>
                      <a:cubicBezTo>
                        <a:pt x="13131" y="8639"/>
                        <a:pt x="13146" y="8587"/>
                        <a:pt x="13146" y="8632"/>
                      </a:cubicBezTo>
                      <a:cubicBezTo>
                        <a:pt x="13089" y="8652"/>
                        <a:pt x="13137" y="8652"/>
                        <a:pt x="13146" y="8632"/>
                      </a:cubicBezTo>
                      <a:cubicBezTo>
                        <a:pt x="13153" y="8617"/>
                        <a:pt x="13146" y="8575"/>
                        <a:pt x="13146" y="8558"/>
                      </a:cubicBezTo>
                      <a:cubicBezTo>
                        <a:pt x="13097" y="8574"/>
                        <a:pt x="13141" y="8587"/>
                        <a:pt x="13146" y="8632"/>
                      </a:cubicBezTo>
                      <a:cubicBezTo>
                        <a:pt x="13150" y="8673"/>
                        <a:pt x="13171" y="8686"/>
                        <a:pt x="13171" y="8731"/>
                      </a:cubicBezTo>
                      <a:cubicBezTo>
                        <a:pt x="13171" y="8775"/>
                        <a:pt x="13209" y="8793"/>
                        <a:pt x="13221" y="8830"/>
                      </a:cubicBezTo>
                      <a:cubicBezTo>
                        <a:pt x="13221" y="8838"/>
                        <a:pt x="13221" y="8847"/>
                        <a:pt x="13221" y="8855"/>
                      </a:cubicBezTo>
                      <a:cubicBezTo>
                        <a:pt x="13221" y="8897"/>
                        <a:pt x="13242" y="8838"/>
                        <a:pt x="13246" y="8830"/>
                      </a:cubicBezTo>
                      <a:cubicBezTo>
                        <a:pt x="13275" y="8775"/>
                        <a:pt x="13246" y="8577"/>
                        <a:pt x="13221" y="8558"/>
                      </a:cubicBezTo>
                      <a:cubicBezTo>
                        <a:pt x="13179" y="8527"/>
                        <a:pt x="13171" y="8506"/>
                        <a:pt x="13171" y="8458"/>
                      </a:cubicBezTo>
                      <a:cubicBezTo>
                        <a:pt x="13171" y="8450"/>
                        <a:pt x="13171" y="8442"/>
                        <a:pt x="13171" y="8434"/>
                      </a:cubicBezTo>
                      <a:cubicBezTo>
                        <a:pt x="13171" y="8490"/>
                        <a:pt x="13193" y="8700"/>
                        <a:pt x="13146" y="8706"/>
                      </a:cubicBezTo>
                      <a:cubicBezTo>
                        <a:pt x="13105" y="8711"/>
                        <a:pt x="13107" y="8718"/>
                        <a:pt x="13122" y="8756"/>
                      </a:cubicBezTo>
                      <a:cubicBezTo>
                        <a:pt x="13136" y="8790"/>
                        <a:pt x="13167" y="8818"/>
                        <a:pt x="13171" y="8855"/>
                      </a:cubicBezTo>
                      <a:cubicBezTo>
                        <a:pt x="13171" y="8880"/>
                        <a:pt x="13171" y="8888"/>
                        <a:pt x="13196" y="8880"/>
                      </a:cubicBezTo>
                    </a:path>
                    <a:path w="3498" h="3920">
                      <a:moveTo>
                        <a:pt x="11956" y="8434"/>
                      </a:moveTo>
                      <a:cubicBezTo>
                        <a:pt x="11956" y="8484"/>
                        <a:pt x="11967" y="8492"/>
                        <a:pt x="11981" y="8533"/>
                      </a:cubicBezTo>
                      <a:cubicBezTo>
                        <a:pt x="11989" y="8556"/>
                        <a:pt x="11990" y="8579"/>
                        <a:pt x="12005" y="8607"/>
                      </a:cubicBezTo>
                      <a:cubicBezTo>
                        <a:pt x="12034" y="8659"/>
                        <a:pt x="12073" y="8602"/>
                        <a:pt x="12080" y="8657"/>
                      </a:cubicBezTo>
                      <a:cubicBezTo>
                        <a:pt x="12085" y="8696"/>
                        <a:pt x="12114" y="8685"/>
                        <a:pt x="12129" y="8731"/>
                      </a:cubicBezTo>
                      <a:cubicBezTo>
                        <a:pt x="12129" y="8739"/>
                        <a:pt x="12129" y="8748"/>
                        <a:pt x="12129" y="8756"/>
                      </a:cubicBezTo>
                      <a:cubicBezTo>
                        <a:pt x="12140" y="8722"/>
                        <a:pt x="12168" y="8727"/>
                        <a:pt x="12179" y="8706"/>
                      </a:cubicBezTo>
                      <a:cubicBezTo>
                        <a:pt x="12195" y="8675"/>
                        <a:pt x="12242" y="8682"/>
                        <a:pt x="12254" y="8657"/>
                      </a:cubicBezTo>
                      <a:cubicBezTo>
                        <a:pt x="12261" y="8642"/>
                        <a:pt x="12254" y="8599"/>
                        <a:pt x="12254" y="8582"/>
                      </a:cubicBezTo>
                      <a:cubicBezTo>
                        <a:pt x="12254" y="8615"/>
                        <a:pt x="12254" y="8649"/>
                        <a:pt x="12254" y="8682"/>
                      </a:cubicBezTo>
                      <a:cubicBezTo>
                        <a:pt x="12254" y="8649"/>
                        <a:pt x="12264" y="8577"/>
                        <a:pt x="12278" y="8607"/>
                      </a:cubicBezTo>
                      <a:cubicBezTo>
                        <a:pt x="12292" y="8637"/>
                        <a:pt x="12313" y="8577"/>
                        <a:pt x="12328" y="8607"/>
                      </a:cubicBezTo>
                      <a:cubicBezTo>
                        <a:pt x="12334" y="8620"/>
                        <a:pt x="12343" y="8709"/>
                        <a:pt x="12353" y="8632"/>
                      </a:cubicBezTo>
                      <a:cubicBezTo>
                        <a:pt x="12357" y="8600"/>
                        <a:pt x="12405" y="8465"/>
                        <a:pt x="12427" y="8533"/>
                      </a:cubicBezTo>
                      <a:cubicBezTo>
                        <a:pt x="12427" y="8558"/>
                        <a:pt x="12427" y="8566"/>
                        <a:pt x="12427" y="8582"/>
                      </a:cubicBezTo>
                      <a:cubicBezTo>
                        <a:pt x="12427" y="8533"/>
                        <a:pt x="12421" y="8528"/>
                        <a:pt x="12452" y="8508"/>
                      </a:cubicBezTo>
                      <a:cubicBezTo>
                        <a:pt x="12442" y="8547"/>
                        <a:pt x="12427" y="8563"/>
                        <a:pt x="12427" y="8607"/>
                      </a:cubicBezTo>
                      <a:cubicBezTo>
                        <a:pt x="12427" y="8589"/>
                        <a:pt x="12459" y="8514"/>
                        <a:pt x="12477" y="8558"/>
                      </a:cubicBezTo>
                      <a:cubicBezTo>
                        <a:pt x="12493" y="8598"/>
                        <a:pt x="12477" y="8686"/>
                        <a:pt x="12477" y="8731"/>
                      </a:cubicBezTo>
                      <a:cubicBezTo>
                        <a:pt x="12477" y="8680"/>
                        <a:pt x="12492" y="8678"/>
                        <a:pt x="12502" y="8657"/>
                      </a:cubicBezTo>
                      <a:cubicBezTo>
                        <a:pt x="12517" y="8627"/>
                        <a:pt x="12486" y="8650"/>
                        <a:pt x="12477" y="8682"/>
                      </a:cubicBezTo>
                      <a:cubicBezTo>
                        <a:pt x="12477" y="8698"/>
                        <a:pt x="12477" y="8715"/>
                        <a:pt x="12477" y="8731"/>
                      </a:cubicBezTo>
                      <a:cubicBezTo>
                        <a:pt x="12494" y="8647"/>
                        <a:pt x="12541" y="8674"/>
                        <a:pt x="12576" y="8632"/>
                      </a:cubicBezTo>
                      <a:cubicBezTo>
                        <a:pt x="12609" y="8592"/>
                        <a:pt x="12601" y="8619"/>
                        <a:pt x="12601" y="8682"/>
                      </a:cubicBezTo>
                      <a:cubicBezTo>
                        <a:pt x="12639" y="8669"/>
                        <a:pt x="12626" y="8652"/>
                        <a:pt x="12626" y="8607"/>
                      </a:cubicBezTo>
                      <a:cubicBezTo>
                        <a:pt x="12626" y="8528"/>
                        <a:pt x="12647" y="8593"/>
                        <a:pt x="12675" y="8558"/>
                      </a:cubicBezTo>
                      <a:cubicBezTo>
                        <a:pt x="12697" y="8531"/>
                        <a:pt x="12687" y="8521"/>
                        <a:pt x="12725" y="8508"/>
                      </a:cubicBezTo>
                    </a:path>
                    <a:path w="3498" h="3920">
                      <a:moveTo>
                        <a:pt x="12154" y="8533"/>
                      </a:moveTo>
                      <a:cubicBezTo>
                        <a:pt x="12154" y="8566"/>
                        <a:pt x="12154" y="8599"/>
                        <a:pt x="12154" y="8632"/>
                      </a:cubicBezTo>
                      <a:cubicBezTo>
                        <a:pt x="12129" y="8632"/>
                        <a:pt x="12121" y="8632"/>
                        <a:pt x="12129" y="8657"/>
                      </a:cubicBezTo>
                    </a:path>
                    <a:path w="3498" h="3920">
                      <a:moveTo>
                        <a:pt x="11931" y="8458"/>
                      </a:moveTo>
                      <a:cubicBezTo>
                        <a:pt x="11931" y="8499"/>
                        <a:pt x="11931" y="8541"/>
                        <a:pt x="11931" y="8582"/>
                      </a:cubicBezTo>
                      <a:cubicBezTo>
                        <a:pt x="11970" y="8595"/>
                        <a:pt x="11958" y="8621"/>
                        <a:pt x="11981" y="8657"/>
                      </a:cubicBezTo>
                      <a:cubicBezTo>
                        <a:pt x="12003" y="8679"/>
                        <a:pt x="12011" y="8684"/>
                        <a:pt x="12005" y="8706"/>
                      </a:cubicBezTo>
                      <a:cubicBezTo>
                        <a:pt x="12055" y="8718"/>
                        <a:pt x="12055" y="8730"/>
                        <a:pt x="12055" y="8781"/>
                      </a:cubicBezTo>
                      <a:cubicBezTo>
                        <a:pt x="12095" y="8791"/>
                        <a:pt x="12095" y="8790"/>
                        <a:pt x="12105" y="8830"/>
                      </a:cubicBezTo>
                      <a:cubicBezTo>
                        <a:pt x="12139" y="8842"/>
                        <a:pt x="12132" y="8868"/>
                        <a:pt x="12179" y="8880"/>
                      </a:cubicBezTo>
                      <a:cubicBezTo>
                        <a:pt x="12192" y="8918"/>
                        <a:pt x="12209" y="8905"/>
                        <a:pt x="12254" y="8905"/>
                      </a:cubicBezTo>
                    </a:path>
                    <a:path w="3498" h="3920">
                      <a:moveTo>
                        <a:pt x="11683" y="6871"/>
                      </a:moveTo>
                      <a:lnTo>
                        <a:pt x="11683" y="6871"/>
                      </a:lnTo>
                    </a:path>
                    <a:path w="3498" h="3920">
                      <a:moveTo>
                        <a:pt x="11633" y="6921"/>
                      </a:moveTo>
                      <a:lnTo>
                        <a:pt x="11633" y="6921"/>
                      </a:lnTo>
                    </a:path>
                    <a:path w="3498" h="3920">
                      <a:moveTo>
                        <a:pt x="12898" y="6871"/>
                      </a:moveTo>
                      <a:cubicBezTo>
                        <a:pt x="12953" y="6871"/>
                        <a:pt x="12953" y="6871"/>
                        <a:pt x="12898" y="6871"/>
                      </a:cubicBezTo>
                    </a:path>
                    <a:path w="3498" h="3920">
                      <a:moveTo>
                        <a:pt x="12576" y="8731"/>
                      </a:moveTo>
                      <a:cubicBezTo>
                        <a:pt x="12568" y="8731"/>
                        <a:pt x="12559" y="8731"/>
                        <a:pt x="12551" y="8731"/>
                      </a:cubicBezTo>
                      <a:cubicBezTo>
                        <a:pt x="12551" y="8774"/>
                        <a:pt x="12561" y="8769"/>
                        <a:pt x="12526" y="8781"/>
                      </a:cubicBezTo>
                      <a:cubicBezTo>
                        <a:pt x="12516" y="8813"/>
                        <a:pt x="12509" y="8820"/>
                        <a:pt x="12477" y="8830"/>
                      </a:cubicBezTo>
                    </a:path>
                    <a:path w="3498" h="3920">
                      <a:moveTo>
                        <a:pt x="11733" y="8607"/>
                      </a:moveTo>
                      <a:cubicBezTo>
                        <a:pt x="11741" y="8615"/>
                        <a:pt x="11749" y="8624"/>
                        <a:pt x="11757" y="8632"/>
                      </a:cubicBezTo>
                    </a:path>
                    <a:path w="3498" h="3920">
                      <a:moveTo>
                        <a:pt x="11633" y="8384"/>
                      </a:moveTo>
                      <a:cubicBezTo>
                        <a:pt x="11598" y="8384"/>
                        <a:pt x="11646" y="8387"/>
                        <a:pt x="11658" y="8434"/>
                      </a:cubicBezTo>
                    </a:path>
                    <a:path w="3498" h="3920">
                      <a:moveTo>
                        <a:pt x="11633" y="8607"/>
                      </a:moveTo>
                      <a:cubicBezTo>
                        <a:pt x="11578" y="8607"/>
                        <a:pt x="11591" y="8614"/>
                        <a:pt x="11559" y="8657"/>
                      </a:cubicBezTo>
                    </a:path>
                    <a:path w="3498" h="3920">
                      <a:moveTo>
                        <a:pt x="11534" y="8830"/>
                      </a:moveTo>
                      <a:cubicBezTo>
                        <a:pt x="11526" y="8830"/>
                        <a:pt x="11517" y="8830"/>
                        <a:pt x="11509" y="8830"/>
                      </a:cubicBezTo>
                      <a:cubicBezTo>
                        <a:pt x="11498" y="8865"/>
                        <a:pt x="11502" y="8855"/>
                        <a:pt x="11460" y="8855"/>
                      </a:cubicBezTo>
                      <a:cubicBezTo>
                        <a:pt x="11460" y="8909"/>
                        <a:pt x="11448" y="8892"/>
                        <a:pt x="11435" y="8930"/>
                      </a:cubicBezTo>
                    </a:path>
                    <a:path w="3498" h="3920">
                      <a:moveTo>
                        <a:pt x="11410" y="9079"/>
                      </a:moveTo>
                      <a:cubicBezTo>
                        <a:pt x="11410" y="9087"/>
                        <a:pt x="11410" y="9095"/>
                        <a:pt x="11410" y="9103"/>
                      </a:cubicBezTo>
                    </a:path>
                    <a:path w="3498" h="3920">
                      <a:moveTo>
                        <a:pt x="13171" y="8434"/>
                      </a:moveTo>
                      <a:cubicBezTo>
                        <a:pt x="13129" y="8434"/>
                        <a:pt x="13146" y="8473"/>
                        <a:pt x="13146" y="8508"/>
                      </a:cubicBezTo>
                    </a:path>
                    <a:path w="3498" h="3920">
                      <a:moveTo>
                        <a:pt x="13196" y="8731"/>
                      </a:moveTo>
                      <a:cubicBezTo>
                        <a:pt x="13196" y="8739"/>
                        <a:pt x="13196" y="8748"/>
                        <a:pt x="13196" y="8756"/>
                      </a:cubicBezTo>
                      <a:cubicBezTo>
                        <a:pt x="13156" y="8769"/>
                        <a:pt x="13171" y="8804"/>
                        <a:pt x="13171" y="8855"/>
                      </a:cubicBezTo>
                      <a:cubicBezTo>
                        <a:pt x="13171" y="8863"/>
                        <a:pt x="13171" y="8872"/>
                        <a:pt x="13171" y="8880"/>
                      </a:cubicBezTo>
                    </a:path>
                    <a:path w="3498" h="3920">
                      <a:moveTo>
                        <a:pt x="13246" y="8830"/>
                      </a:moveTo>
                      <a:cubicBezTo>
                        <a:pt x="13246" y="8871"/>
                        <a:pt x="13246" y="8913"/>
                        <a:pt x="13246" y="8954"/>
                      </a:cubicBezTo>
                    </a:path>
                    <a:path w="3498" h="3920">
                      <a:moveTo>
                        <a:pt x="13221" y="8533"/>
                      </a:moveTo>
                      <a:cubicBezTo>
                        <a:pt x="13221" y="8541"/>
                        <a:pt x="13221" y="8550"/>
                        <a:pt x="13221" y="8558"/>
                      </a:cubicBezTo>
                    </a:path>
                    <a:path w="3498" h="3920">
                      <a:moveTo>
                        <a:pt x="12254" y="8186"/>
                      </a:moveTo>
                      <a:cubicBezTo>
                        <a:pt x="12232" y="8201"/>
                        <a:pt x="12208" y="8231"/>
                        <a:pt x="12204" y="8260"/>
                      </a:cubicBezTo>
                      <a:cubicBezTo>
                        <a:pt x="12197" y="8316"/>
                        <a:pt x="12204" y="8378"/>
                        <a:pt x="12204" y="8434"/>
                      </a:cubicBezTo>
                      <a:cubicBezTo>
                        <a:pt x="12268" y="8434"/>
                        <a:pt x="12254" y="8441"/>
                        <a:pt x="12254" y="8508"/>
                      </a:cubicBezTo>
                    </a:path>
                    <a:path w="3498" h="3920">
                      <a:moveTo>
                        <a:pt x="12427" y="8186"/>
                      </a:moveTo>
                      <a:cubicBezTo>
                        <a:pt x="12427" y="8270"/>
                        <a:pt x="12422" y="8331"/>
                        <a:pt x="12402" y="8409"/>
                      </a:cubicBezTo>
                      <a:cubicBezTo>
                        <a:pt x="12393" y="8446"/>
                        <a:pt x="12402" y="8495"/>
                        <a:pt x="12402" y="8533"/>
                      </a:cubicBezTo>
                      <a:cubicBezTo>
                        <a:pt x="12356" y="8517"/>
                        <a:pt x="12391" y="8516"/>
                        <a:pt x="12402" y="8483"/>
                      </a:cubicBezTo>
                    </a:path>
                    <a:path w="3498" h="3920">
                      <a:moveTo>
                        <a:pt x="12502" y="8310"/>
                      </a:moveTo>
                      <a:cubicBezTo>
                        <a:pt x="12502" y="8338"/>
                        <a:pt x="12491" y="8380"/>
                        <a:pt x="12477" y="8384"/>
                      </a:cubicBezTo>
                      <a:cubicBezTo>
                        <a:pt x="12418" y="8400"/>
                        <a:pt x="12418" y="8411"/>
                        <a:pt x="12402" y="8458"/>
                      </a:cubicBezTo>
                      <a:cubicBezTo>
                        <a:pt x="12434" y="8458"/>
                        <a:pt x="12479" y="8459"/>
                        <a:pt x="12452" y="8508"/>
                      </a:cubicBezTo>
                      <a:cubicBezTo>
                        <a:pt x="12444" y="8516"/>
                        <a:pt x="12435" y="8525"/>
                        <a:pt x="12427" y="8533"/>
                      </a:cubicBezTo>
                      <a:cubicBezTo>
                        <a:pt x="12492" y="8546"/>
                        <a:pt x="12472" y="8568"/>
                        <a:pt x="12427" y="8582"/>
                      </a:cubicBezTo>
                    </a:path>
                    <a:path w="3498" h="3920">
                      <a:moveTo>
                        <a:pt x="12551" y="8260"/>
                      </a:moveTo>
                      <a:cubicBezTo>
                        <a:pt x="12551" y="8293"/>
                        <a:pt x="12551" y="8326"/>
                        <a:pt x="12551" y="8359"/>
                      </a:cubicBezTo>
                      <a:cubicBezTo>
                        <a:pt x="12509" y="8359"/>
                        <a:pt x="12513" y="8349"/>
                        <a:pt x="12502" y="8384"/>
                      </a:cubicBezTo>
                      <a:cubicBezTo>
                        <a:pt x="12480" y="8391"/>
                        <a:pt x="12463" y="8426"/>
                        <a:pt x="12452" y="8458"/>
                      </a:cubicBezTo>
                      <a:cubicBezTo>
                        <a:pt x="12437" y="8503"/>
                        <a:pt x="12403" y="8469"/>
                        <a:pt x="12378" y="8508"/>
                      </a:cubicBezTo>
                    </a:path>
                    <a:path w="3498" h="3920">
                      <a:moveTo>
                        <a:pt x="12526" y="8483"/>
                      </a:moveTo>
                      <a:cubicBezTo>
                        <a:pt x="12526" y="8508"/>
                        <a:pt x="12526" y="8516"/>
                        <a:pt x="12526" y="8533"/>
                      </a:cubicBezTo>
                      <a:cubicBezTo>
                        <a:pt x="12477" y="8550"/>
                        <a:pt x="12504" y="8594"/>
                        <a:pt x="12427" y="8607"/>
                      </a:cubicBezTo>
                      <a:cubicBezTo>
                        <a:pt x="12360" y="8618"/>
                        <a:pt x="12434" y="8657"/>
                        <a:pt x="12328" y="8657"/>
                      </a:cubicBezTo>
                    </a:path>
                    <a:path w="3498" h="3920">
                      <a:moveTo>
                        <a:pt x="12129" y="8310"/>
                      </a:moveTo>
                      <a:cubicBezTo>
                        <a:pt x="12129" y="8334"/>
                        <a:pt x="12129" y="8343"/>
                        <a:pt x="12129" y="8359"/>
                      </a:cubicBezTo>
                      <a:cubicBezTo>
                        <a:pt x="12093" y="8372"/>
                        <a:pt x="12105" y="8390"/>
                        <a:pt x="12105" y="8434"/>
                      </a:cubicBezTo>
                      <a:cubicBezTo>
                        <a:pt x="12063" y="8447"/>
                        <a:pt x="12082" y="8493"/>
                        <a:pt x="12105" y="8533"/>
                      </a:cubicBezTo>
                      <a:cubicBezTo>
                        <a:pt x="12127" y="8555"/>
                        <a:pt x="12135" y="8560"/>
                        <a:pt x="12129" y="8582"/>
                      </a:cubicBezTo>
                      <a:cubicBezTo>
                        <a:pt x="12188" y="8582"/>
                        <a:pt x="12193" y="8595"/>
                        <a:pt x="12229" y="8607"/>
                      </a:cubicBezTo>
                    </a:path>
                    <a:path w="3498" h="3920">
                      <a:moveTo>
                        <a:pt x="12254" y="8855"/>
                      </a:moveTo>
                      <a:cubicBezTo>
                        <a:pt x="12254" y="8911"/>
                        <a:pt x="12260" y="8898"/>
                        <a:pt x="12303" y="8930"/>
                      </a:cubicBezTo>
                      <a:cubicBezTo>
                        <a:pt x="12308" y="8915"/>
                        <a:pt x="12326" y="8823"/>
                        <a:pt x="12353" y="8806"/>
                      </a:cubicBezTo>
                      <a:cubicBezTo>
                        <a:pt x="12369" y="8806"/>
                        <a:pt x="12386" y="8806"/>
                        <a:pt x="12402" y="8806"/>
                      </a:cubicBezTo>
                      <a:cubicBezTo>
                        <a:pt x="12390" y="8728"/>
                        <a:pt x="12385" y="8769"/>
                        <a:pt x="12328" y="8731"/>
                      </a:cubicBezTo>
                      <a:cubicBezTo>
                        <a:pt x="12305" y="8708"/>
                        <a:pt x="12301" y="8700"/>
                        <a:pt x="12278" y="8706"/>
                      </a:cubicBezTo>
                    </a:path>
                    <a:path w="3498" h="3920">
                      <a:moveTo>
                        <a:pt x="11956" y="6474"/>
                      </a:moveTo>
                      <a:cubicBezTo>
                        <a:pt x="11956" y="6517"/>
                        <a:pt x="11966" y="6512"/>
                        <a:pt x="11931" y="6524"/>
                      </a:cubicBezTo>
                    </a:path>
                    <a:path w="3498" h="3920">
                      <a:moveTo>
                        <a:pt x="11906" y="6648"/>
                      </a:moveTo>
                      <a:cubicBezTo>
                        <a:pt x="11898" y="6648"/>
                        <a:pt x="11889" y="6648"/>
                        <a:pt x="11881" y="6648"/>
                      </a:cubicBezTo>
                    </a:path>
                    <a:path w="3498" h="3920">
                      <a:moveTo>
                        <a:pt x="13072" y="5680"/>
                      </a:moveTo>
                      <a:cubicBezTo>
                        <a:pt x="13072" y="5688"/>
                        <a:pt x="13072" y="5697"/>
                        <a:pt x="13072" y="5705"/>
                      </a:cubicBezTo>
                    </a:path>
                    <a:path w="3498" h="3920">
                      <a:moveTo>
                        <a:pt x="12923" y="6028"/>
                      </a:moveTo>
                      <a:lnTo>
                        <a:pt x="12923" y="6028"/>
                      </a:lnTo>
                    </a:path>
                    <a:path w="3498" h="3920">
                      <a:moveTo>
                        <a:pt x="12849" y="6350"/>
                      </a:moveTo>
                      <a:lnTo>
                        <a:pt x="12849" y="6350"/>
                      </a:lnTo>
                    </a:path>
                    <a:path w="3498" h="3920">
                      <a:moveTo>
                        <a:pt x="11782" y="6003"/>
                      </a:moveTo>
                      <a:lnTo>
                        <a:pt x="11782" y="6003"/>
                      </a:lnTo>
                    </a:path>
                    <a:path w="3498" h="3920">
                      <a:moveTo>
                        <a:pt x="11112" y="5283"/>
                      </a:moveTo>
                      <a:lnTo>
                        <a:pt x="11112" y="5283"/>
                      </a:lnTo>
                    </a:path>
                    <a:path w="3498" h="3920">
                      <a:moveTo>
                        <a:pt x="11013" y="5234"/>
                      </a:moveTo>
                      <a:lnTo>
                        <a:pt x="11013" y="5234"/>
                      </a:lnTo>
                    </a:path>
                    <a:path w="3498" h="3920">
                      <a:moveTo>
                        <a:pt x="13568" y="5234"/>
                      </a:moveTo>
                      <a:lnTo>
                        <a:pt x="13568" y="5234"/>
                      </a:lnTo>
                    </a:path>
                    <a:path w="3498" h="3920">
                      <a:moveTo>
                        <a:pt x="12254" y="7045"/>
                      </a:moveTo>
                      <a:cubicBezTo>
                        <a:pt x="12246" y="7045"/>
                        <a:pt x="12237" y="7045"/>
                        <a:pt x="12229" y="7045"/>
                      </a:cubicBezTo>
                    </a:path>
                    <a:path w="3498" h="3920">
                      <a:moveTo>
                        <a:pt x="12204" y="7045"/>
                      </a:moveTo>
                      <a:cubicBezTo>
                        <a:pt x="12179" y="7045"/>
                        <a:pt x="12171" y="7045"/>
                        <a:pt x="12179" y="7069"/>
                      </a:cubicBezTo>
                    </a:path>
                    <a:path w="3498" h="3920">
                      <a:moveTo>
                        <a:pt x="12105" y="7119"/>
                      </a:moveTo>
                      <a:cubicBezTo>
                        <a:pt x="12105" y="7144"/>
                        <a:pt x="12105" y="7152"/>
                        <a:pt x="12105" y="7169"/>
                      </a:cubicBezTo>
                    </a:path>
                    <a:path w="3498" h="3920">
                      <a:moveTo>
                        <a:pt x="12402" y="7045"/>
                      </a:moveTo>
                      <a:cubicBezTo>
                        <a:pt x="12447" y="7045"/>
                        <a:pt x="12468" y="7038"/>
                        <a:pt x="12502" y="7069"/>
                      </a:cubicBezTo>
                      <a:cubicBezTo>
                        <a:pt x="12528" y="7092"/>
                        <a:pt x="12551" y="7119"/>
                        <a:pt x="12576" y="7144"/>
                      </a:cubicBezTo>
                    </a:path>
                    <a:path w="3498" h="3920">
                      <a:moveTo>
                        <a:pt x="12378" y="8210"/>
                      </a:moveTo>
                      <a:cubicBezTo>
                        <a:pt x="12363" y="8283"/>
                        <a:pt x="12367" y="8359"/>
                        <a:pt x="12353" y="8434"/>
                      </a:cubicBezTo>
                      <a:cubicBezTo>
                        <a:pt x="12338" y="8512"/>
                        <a:pt x="12306" y="8579"/>
                        <a:pt x="12303" y="8657"/>
                      </a:cubicBezTo>
                      <a:cubicBezTo>
                        <a:pt x="12303" y="8725"/>
                        <a:pt x="12306" y="8744"/>
                        <a:pt x="12278" y="8781"/>
                      </a:cubicBezTo>
                      <a:cubicBezTo>
                        <a:pt x="12278" y="8688"/>
                        <a:pt x="12278" y="8466"/>
                        <a:pt x="12278" y="8458"/>
                      </a:cubicBezTo>
                      <a:cubicBezTo>
                        <a:pt x="12278" y="8416"/>
                        <a:pt x="12303" y="8385"/>
                        <a:pt x="12303" y="8334"/>
                      </a:cubicBezTo>
                      <a:cubicBezTo>
                        <a:pt x="12303" y="8257"/>
                        <a:pt x="12279" y="8071"/>
                        <a:pt x="12328" y="8086"/>
                      </a:cubicBezTo>
                    </a:path>
                    <a:path w="3498" h="3920">
                      <a:moveTo>
                        <a:pt x="12427" y="8062"/>
                      </a:moveTo>
                      <a:cubicBezTo>
                        <a:pt x="12427" y="8120"/>
                        <a:pt x="12427" y="8177"/>
                        <a:pt x="12427" y="8235"/>
                      </a:cubicBezTo>
                    </a:path>
                  </a:pathLst>
                </a:custGeom>
                <a:noFill/>
                <a:ln cap="rnd" w="349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2600280" y="3575160"/>
                <a:ext cx="360000" cy="2872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538360" y="3471840"/>
              <a:ext cx="2017080" cy="142920"/>
            </a:xfrm>
            <a:custGeom>
              <a:avLst/>
              <a:gdLst/>
              <a:ahLst/>
              <a:rect l="l" t="t" r="r" b="b"/>
              <a:pathLst>
                <a:path w="5606" h="398">
                  <a:moveTo>
                    <a:pt x="11311" y="14015"/>
                  </a:moveTo>
                  <a:cubicBezTo>
                    <a:pt x="11136" y="14015"/>
                    <a:pt x="10950" y="14022"/>
                    <a:pt x="10790" y="13990"/>
                  </a:cubicBezTo>
                  <a:cubicBezTo>
                    <a:pt x="10756" y="13983"/>
                    <a:pt x="10717" y="13970"/>
                    <a:pt x="10691" y="13965"/>
                  </a:cubicBezTo>
                  <a:cubicBezTo>
                    <a:pt x="10581" y="13943"/>
                    <a:pt x="10415" y="13976"/>
                    <a:pt x="10344" y="13990"/>
                  </a:cubicBezTo>
                  <a:cubicBezTo>
                    <a:pt x="10311" y="13997"/>
                    <a:pt x="10302" y="14008"/>
                    <a:pt x="10269" y="14015"/>
                  </a:cubicBezTo>
                  <a:cubicBezTo>
                    <a:pt x="10064" y="14057"/>
                    <a:pt x="9809" y="14015"/>
                    <a:pt x="9599" y="14015"/>
                  </a:cubicBezTo>
                  <a:cubicBezTo>
                    <a:pt x="9632" y="14015"/>
                    <a:pt x="9616" y="14015"/>
                    <a:pt x="9649" y="14015"/>
                  </a:cubicBezTo>
                  <a:cubicBezTo>
                    <a:pt x="9694" y="14015"/>
                    <a:pt x="9708" y="14033"/>
                    <a:pt x="9748" y="14039"/>
                  </a:cubicBezTo>
                  <a:cubicBezTo>
                    <a:pt x="10063" y="14090"/>
                    <a:pt x="10582" y="14070"/>
                    <a:pt x="10864" y="14015"/>
                  </a:cubicBezTo>
                  <a:cubicBezTo>
                    <a:pt x="10948" y="13999"/>
                    <a:pt x="11085" y="14000"/>
                    <a:pt x="11137" y="13990"/>
                  </a:cubicBezTo>
                  <a:cubicBezTo>
                    <a:pt x="11178" y="13982"/>
                    <a:pt x="11196" y="13973"/>
                    <a:pt x="11237" y="13965"/>
                  </a:cubicBezTo>
                  <a:cubicBezTo>
                    <a:pt x="11261" y="13960"/>
                    <a:pt x="11287" y="13968"/>
                    <a:pt x="11311" y="13965"/>
                  </a:cubicBezTo>
                  <a:cubicBezTo>
                    <a:pt x="11293" y="13953"/>
                    <a:pt x="11261" y="13923"/>
                    <a:pt x="11212" y="13915"/>
                  </a:cubicBezTo>
                  <a:cubicBezTo>
                    <a:pt x="11020" y="13883"/>
                    <a:pt x="10721" y="13909"/>
                    <a:pt x="10567" y="13940"/>
                  </a:cubicBezTo>
                  <a:cubicBezTo>
                    <a:pt x="10534" y="13947"/>
                    <a:pt x="10525" y="13958"/>
                    <a:pt x="10492" y="13965"/>
                  </a:cubicBezTo>
                  <a:cubicBezTo>
                    <a:pt x="10452" y="13973"/>
                    <a:pt x="10352" y="13989"/>
                    <a:pt x="10344" y="13990"/>
                  </a:cubicBezTo>
                  <a:cubicBezTo>
                    <a:pt x="10277" y="14000"/>
                    <a:pt x="10209" y="14004"/>
                    <a:pt x="10145" y="14015"/>
                  </a:cubicBezTo>
                  <a:cubicBezTo>
                    <a:pt x="10068" y="14028"/>
                    <a:pt x="9942" y="14030"/>
                    <a:pt x="9897" y="14039"/>
                  </a:cubicBezTo>
                  <a:cubicBezTo>
                    <a:pt x="9859" y="14046"/>
                    <a:pt x="9780" y="14063"/>
                    <a:pt x="9773" y="14064"/>
                  </a:cubicBezTo>
                  <a:cubicBezTo>
                    <a:pt x="9724" y="14074"/>
                    <a:pt x="9698" y="14081"/>
                    <a:pt x="9649" y="14089"/>
                  </a:cubicBezTo>
                  <a:cubicBezTo>
                    <a:pt x="9589" y="14099"/>
                    <a:pt x="9495" y="14099"/>
                    <a:pt x="9451" y="14064"/>
                  </a:cubicBezTo>
                  <a:cubicBezTo>
                    <a:pt x="9430" y="14047"/>
                    <a:pt x="9409" y="14021"/>
                    <a:pt x="9376" y="14015"/>
                  </a:cubicBezTo>
                  <a:cubicBezTo>
                    <a:pt x="9351" y="14015"/>
                    <a:pt x="9343" y="14015"/>
                    <a:pt x="9327" y="14015"/>
                  </a:cubicBezTo>
                </a:path>
                <a:path w="5606" h="398">
                  <a:moveTo>
                    <a:pt x="14932" y="13990"/>
                  </a:moveTo>
                  <a:cubicBezTo>
                    <a:pt x="14720" y="13990"/>
                    <a:pt x="14393" y="13990"/>
                    <a:pt x="14263" y="13990"/>
                  </a:cubicBezTo>
                  <a:cubicBezTo>
                    <a:pt x="14215" y="13990"/>
                    <a:pt x="14119" y="14014"/>
                    <a:pt x="14114" y="14015"/>
                  </a:cubicBezTo>
                  <a:cubicBezTo>
                    <a:pt x="13934" y="14041"/>
                    <a:pt x="13744" y="14012"/>
                    <a:pt x="13568" y="14039"/>
                  </a:cubicBezTo>
                  <a:cubicBezTo>
                    <a:pt x="13503" y="14049"/>
                    <a:pt x="13371" y="14055"/>
                    <a:pt x="13320" y="14015"/>
                  </a:cubicBezTo>
                  <a:cubicBezTo>
                    <a:pt x="13283" y="13986"/>
                    <a:pt x="13300" y="13978"/>
                    <a:pt x="13295" y="13940"/>
                  </a:cubicBezTo>
                  <a:cubicBezTo>
                    <a:pt x="13351" y="13922"/>
                    <a:pt x="13333" y="13954"/>
                    <a:pt x="13345" y="13891"/>
                  </a:cubicBezTo>
                  <a:cubicBezTo>
                    <a:pt x="13345" y="13883"/>
                    <a:pt x="13345" y="13874"/>
                    <a:pt x="13345" y="13866"/>
                  </a:cubicBezTo>
                  <a:cubicBezTo>
                    <a:pt x="13361" y="13882"/>
                    <a:pt x="13390" y="13911"/>
                    <a:pt x="13419" y="13940"/>
                  </a:cubicBezTo>
                  <a:cubicBezTo>
                    <a:pt x="13451" y="13972"/>
                    <a:pt x="13449" y="13993"/>
                    <a:pt x="13469" y="14015"/>
                  </a:cubicBezTo>
                  <a:cubicBezTo>
                    <a:pt x="13512" y="14062"/>
                    <a:pt x="13491" y="14040"/>
                    <a:pt x="13519" y="14089"/>
                  </a:cubicBezTo>
                  <a:cubicBezTo>
                    <a:pt x="13537" y="14120"/>
                    <a:pt x="13604" y="14160"/>
                    <a:pt x="13568" y="14163"/>
                  </a:cubicBezTo>
                  <a:cubicBezTo>
                    <a:pt x="13562" y="14163"/>
                    <a:pt x="13511" y="14125"/>
                    <a:pt x="13494" y="14114"/>
                  </a:cubicBezTo>
                  <a:cubicBezTo>
                    <a:pt x="13469" y="14114"/>
                    <a:pt x="13461" y="14114"/>
                    <a:pt x="13469" y="14089"/>
                  </a:cubicBezTo>
                  <a:cubicBezTo>
                    <a:pt x="13469" y="14150"/>
                    <a:pt x="13464" y="14188"/>
                    <a:pt x="13494" y="14238"/>
                  </a:cubicBezTo>
                  <a:cubicBezTo>
                    <a:pt x="13483" y="14210"/>
                    <a:pt x="13482" y="14165"/>
                    <a:pt x="13469" y="14139"/>
                  </a:cubicBezTo>
                  <a:cubicBezTo>
                    <a:pt x="13452" y="14105"/>
                    <a:pt x="13438" y="14097"/>
                    <a:pt x="13419" y="14064"/>
                  </a:cubicBezTo>
                  <a:cubicBezTo>
                    <a:pt x="13395" y="14022"/>
                    <a:pt x="13360" y="14043"/>
                    <a:pt x="13345" y="13990"/>
                  </a:cubicBezTo>
                  <a:cubicBezTo>
                    <a:pt x="13331" y="13941"/>
                    <a:pt x="13307" y="13955"/>
                    <a:pt x="13295" y="13915"/>
                  </a:cubicBezTo>
                  <a:cubicBezTo>
                    <a:pt x="13275" y="13845"/>
                    <a:pt x="13279" y="13904"/>
                    <a:pt x="13246" y="13866"/>
                  </a:cubicBezTo>
                  <a:cubicBezTo>
                    <a:pt x="13246" y="13858"/>
                    <a:pt x="13246" y="13849"/>
                    <a:pt x="13246" y="13841"/>
                  </a:cubicBezTo>
                </a:path>
                <a:path w="5606" h="398">
                  <a:moveTo>
                    <a:pt x="12923" y="13915"/>
                  </a:moveTo>
                  <a:cubicBezTo>
                    <a:pt x="12969" y="13926"/>
                    <a:pt x="12979" y="13939"/>
                    <a:pt x="12998" y="13965"/>
                  </a:cubicBezTo>
                  <a:cubicBezTo>
                    <a:pt x="13013" y="13986"/>
                    <a:pt x="13044" y="14033"/>
                    <a:pt x="13047" y="14039"/>
                  </a:cubicBezTo>
                  <a:cubicBezTo>
                    <a:pt x="13065" y="14074"/>
                    <a:pt x="13043" y="14076"/>
                    <a:pt x="13072" y="14114"/>
                  </a:cubicBezTo>
                  <a:cubicBezTo>
                    <a:pt x="13072" y="14053"/>
                    <a:pt x="13044" y="14064"/>
                    <a:pt x="13022" y="14015"/>
                  </a:cubicBezTo>
                  <a:cubicBezTo>
                    <a:pt x="13010" y="13988"/>
                    <a:pt x="12978" y="13949"/>
                    <a:pt x="12973" y="13940"/>
                  </a:cubicBezTo>
                  <a:cubicBezTo>
                    <a:pt x="12965" y="13923"/>
                    <a:pt x="12952" y="13880"/>
                    <a:pt x="12923" y="13866"/>
                  </a:cubicBezTo>
                  <a:cubicBezTo>
                    <a:pt x="12915" y="13866"/>
                    <a:pt x="12906" y="13866"/>
                    <a:pt x="12898" y="13866"/>
                  </a:cubicBezTo>
                  <a:cubicBezTo>
                    <a:pt x="12898" y="13902"/>
                    <a:pt x="12905" y="13938"/>
                    <a:pt x="12923" y="13965"/>
                  </a:cubicBezTo>
                  <a:cubicBezTo>
                    <a:pt x="12931" y="13973"/>
                    <a:pt x="12940" y="13982"/>
                    <a:pt x="12948" y="13990"/>
                  </a:cubicBezTo>
                  <a:cubicBezTo>
                    <a:pt x="12890" y="13990"/>
                    <a:pt x="12832" y="13990"/>
                    <a:pt x="12774" y="13990"/>
                  </a:cubicBezTo>
                  <a:cubicBezTo>
                    <a:pt x="12846" y="13990"/>
                    <a:pt x="12794" y="14012"/>
                    <a:pt x="12849" y="14039"/>
                  </a:cubicBezTo>
                  <a:cubicBezTo>
                    <a:pt x="12877" y="14053"/>
                    <a:pt x="12911" y="14040"/>
                    <a:pt x="12923" y="14064"/>
                  </a:cubicBezTo>
                  <a:cubicBezTo>
                    <a:pt x="12936" y="14089"/>
                    <a:pt x="12939" y="14111"/>
                    <a:pt x="12973" y="14114"/>
                  </a:cubicBezTo>
                  <a:cubicBezTo>
                    <a:pt x="13030" y="14118"/>
                    <a:pt x="13052" y="14105"/>
                    <a:pt x="13072" y="14163"/>
                  </a:cubicBezTo>
                  <a:cubicBezTo>
                    <a:pt x="13072" y="14171"/>
                    <a:pt x="13072" y="14180"/>
                    <a:pt x="13072" y="14188"/>
                  </a:cubicBezTo>
                </a:path>
                <a:path w="5606" h="398">
                  <a:moveTo>
                    <a:pt x="11733" y="13866"/>
                  </a:moveTo>
                  <a:cubicBezTo>
                    <a:pt x="11741" y="13866"/>
                    <a:pt x="11749" y="13866"/>
                    <a:pt x="11757" y="13866"/>
                  </a:cubicBezTo>
                  <a:cubicBezTo>
                    <a:pt x="11767" y="13907"/>
                    <a:pt x="11802" y="13922"/>
                    <a:pt x="11807" y="13965"/>
                  </a:cubicBezTo>
                  <a:cubicBezTo>
                    <a:pt x="11812" y="14011"/>
                    <a:pt x="11852" y="14019"/>
                    <a:pt x="11857" y="14064"/>
                  </a:cubicBezTo>
                  <a:cubicBezTo>
                    <a:pt x="11857" y="14072"/>
                    <a:pt x="11857" y="14081"/>
                    <a:pt x="11857" y="14089"/>
                  </a:cubicBezTo>
                  <a:cubicBezTo>
                    <a:pt x="11814" y="14089"/>
                    <a:pt x="11819" y="14079"/>
                    <a:pt x="11807" y="14114"/>
                  </a:cubicBezTo>
                  <a:cubicBezTo>
                    <a:pt x="11855" y="14130"/>
                    <a:pt x="11818" y="14130"/>
                    <a:pt x="11807" y="14163"/>
                  </a:cubicBezTo>
                  <a:cubicBezTo>
                    <a:pt x="11807" y="14139"/>
                    <a:pt x="11807" y="14130"/>
                    <a:pt x="11807" y="14114"/>
                  </a:cubicBezTo>
                </a:path>
              </a:pathLst>
            </a:custGeom>
            <a:noFill/>
            <a:ln cap="rnd"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2627280" y="3860640"/>
            <a:ext cx="81000" cy="204840"/>
          </a:xfrm>
          <a:custGeom>
            <a:avLst/>
            <a:gdLst/>
            <a:ahLst/>
            <a:rect l="l" t="t" r="r" b="b"/>
            <a:pathLst>
              <a:path w="51" h="129">
                <a:moveTo>
                  <a:pt x="11" y="0"/>
                </a:moveTo>
                <a:cubicBezTo>
                  <a:pt x="18" y="22"/>
                  <a:pt x="30" y="39"/>
                  <a:pt x="39" y="60"/>
                </a:cubicBezTo>
                <a:cubicBezTo>
                  <a:pt x="42" y="68"/>
                  <a:pt x="44" y="76"/>
                  <a:pt x="47" y="84"/>
                </a:cubicBezTo>
                <a:cubicBezTo>
                  <a:pt x="48" y="88"/>
                  <a:pt x="51" y="96"/>
                  <a:pt x="51" y="96"/>
                </a:cubicBezTo>
                <a:cubicBezTo>
                  <a:pt x="51" y="96"/>
                  <a:pt x="46" y="80"/>
                  <a:pt x="43" y="72"/>
                </a:cubicBezTo>
                <a:cubicBezTo>
                  <a:pt x="36" y="52"/>
                  <a:pt x="32" y="39"/>
                  <a:pt x="19" y="20"/>
                </a:cubicBezTo>
                <a:cubicBezTo>
                  <a:pt x="16" y="16"/>
                  <a:pt x="11" y="8"/>
                  <a:pt x="11" y="8"/>
                </a:cubicBezTo>
                <a:cubicBezTo>
                  <a:pt x="0" y="40"/>
                  <a:pt x="37" y="86"/>
                  <a:pt x="47" y="116"/>
                </a:cubicBezTo>
                <a:cubicBezTo>
                  <a:pt x="51" y="129"/>
                  <a:pt x="42" y="89"/>
                  <a:pt x="39" y="76"/>
                </a:cubicBezTo>
                <a:cubicBezTo>
                  <a:pt x="34" y="52"/>
                  <a:pt x="25" y="29"/>
                  <a:pt x="11" y="8"/>
                </a:cubicBezTo>
                <a:cubicBezTo>
                  <a:pt x="4" y="30"/>
                  <a:pt x="16" y="40"/>
                  <a:pt x="23" y="60"/>
                </a:cubicBezTo>
                <a:cubicBezTo>
                  <a:pt x="16" y="0"/>
                  <a:pt x="16" y="20"/>
                  <a:pt x="23" y="36"/>
                </a:cubicBezTo>
                <a:cubicBezTo>
                  <a:pt x="28" y="47"/>
                  <a:pt x="35" y="56"/>
                  <a:pt x="35" y="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48360" y="4508640"/>
            <a:ext cx="2952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М  100 000 000 : 1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376" name="0800502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4859280" cy="1869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517840" y="9079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Молекула метана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2381040" cy="2667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160800" y="4365720"/>
            <a:ext cx="2965320" cy="1017360"/>
          </a:xfrm>
          <a:custGeom>
            <a:avLst/>
            <a:gdLst/>
            <a:ahLst/>
            <a:rect l="l" t="t" r="r" b="b"/>
            <a:pathLst>
              <a:path w="8236" h="2829">
                <a:moveTo>
                  <a:pt x="3597" y="13320"/>
                </a:moveTo>
                <a:cubicBezTo>
                  <a:pt x="3597" y="13408"/>
                  <a:pt x="3585" y="13486"/>
                  <a:pt x="3572" y="13568"/>
                </a:cubicBezTo>
                <a:cubicBezTo>
                  <a:pt x="3560" y="13642"/>
                  <a:pt x="3563" y="13695"/>
                  <a:pt x="3547" y="13767"/>
                </a:cubicBezTo>
                <a:cubicBezTo>
                  <a:pt x="3528" y="13854"/>
                  <a:pt x="3536" y="13928"/>
                  <a:pt x="3522" y="14015"/>
                </a:cubicBezTo>
                <a:cubicBezTo>
                  <a:pt x="3512" y="14076"/>
                  <a:pt x="3496" y="14170"/>
                  <a:pt x="3473" y="14238"/>
                </a:cubicBezTo>
                <a:cubicBezTo>
                  <a:pt x="3460" y="14276"/>
                  <a:pt x="3461" y="14324"/>
                  <a:pt x="3448" y="14362"/>
                </a:cubicBezTo>
                <a:cubicBezTo>
                  <a:pt x="3431" y="14412"/>
                  <a:pt x="3435" y="14455"/>
                  <a:pt x="3423" y="14511"/>
                </a:cubicBezTo>
                <a:cubicBezTo>
                  <a:pt x="3410" y="14572"/>
                  <a:pt x="3367" y="14606"/>
                  <a:pt x="3349" y="14660"/>
                </a:cubicBezTo>
                <a:cubicBezTo>
                  <a:pt x="3331" y="14714"/>
                  <a:pt x="3326" y="14774"/>
                  <a:pt x="3324" y="14833"/>
                </a:cubicBezTo>
                <a:cubicBezTo>
                  <a:pt x="3321" y="14895"/>
                  <a:pt x="3330" y="14932"/>
                  <a:pt x="3299" y="14982"/>
                </a:cubicBezTo>
                <a:cubicBezTo>
                  <a:pt x="3249" y="15063"/>
                  <a:pt x="3250" y="15111"/>
                  <a:pt x="3225" y="15205"/>
                </a:cubicBezTo>
                <a:cubicBezTo>
                  <a:pt x="3211" y="15260"/>
                  <a:pt x="3178" y="15312"/>
                  <a:pt x="3175" y="15379"/>
                </a:cubicBezTo>
                <a:cubicBezTo>
                  <a:pt x="3173" y="15435"/>
                  <a:pt x="3158" y="15475"/>
                  <a:pt x="3150" y="15528"/>
                </a:cubicBezTo>
                <a:cubicBezTo>
                  <a:pt x="3144" y="15570"/>
                  <a:pt x="3143" y="15638"/>
                  <a:pt x="3125" y="15677"/>
                </a:cubicBezTo>
                <a:cubicBezTo>
                  <a:pt x="3108" y="15714"/>
                  <a:pt x="3117" y="15751"/>
                  <a:pt x="3076" y="15751"/>
                </a:cubicBezTo>
                <a:cubicBezTo>
                  <a:pt x="3030" y="15751"/>
                  <a:pt x="3057" y="15717"/>
                  <a:pt x="3051" y="15677"/>
                </a:cubicBezTo>
              </a:path>
              <a:path w="8236" h="2829">
                <a:moveTo>
                  <a:pt x="3497" y="14387"/>
                </a:moveTo>
                <a:cubicBezTo>
                  <a:pt x="3510" y="14356"/>
                  <a:pt x="3503" y="14317"/>
                  <a:pt x="3522" y="14288"/>
                </a:cubicBezTo>
                <a:cubicBezTo>
                  <a:pt x="3535" y="14267"/>
                  <a:pt x="3563" y="14197"/>
                  <a:pt x="3572" y="14188"/>
                </a:cubicBezTo>
                <a:cubicBezTo>
                  <a:pt x="3601" y="14157"/>
                  <a:pt x="3646" y="14095"/>
                  <a:pt x="3671" y="14064"/>
                </a:cubicBezTo>
                <a:cubicBezTo>
                  <a:pt x="3707" y="14019"/>
                  <a:pt x="3755" y="13966"/>
                  <a:pt x="3770" y="13940"/>
                </a:cubicBezTo>
                <a:cubicBezTo>
                  <a:pt x="3787" y="13909"/>
                  <a:pt x="3782" y="13893"/>
                  <a:pt x="3795" y="13866"/>
                </a:cubicBezTo>
                <a:cubicBezTo>
                  <a:pt x="3796" y="13863"/>
                  <a:pt x="3836" y="13798"/>
                  <a:pt x="3845" y="13791"/>
                </a:cubicBezTo>
                <a:cubicBezTo>
                  <a:pt x="3892" y="13756"/>
                  <a:pt x="3915" y="13715"/>
                  <a:pt x="3969" y="13692"/>
                </a:cubicBezTo>
                <a:cubicBezTo>
                  <a:pt x="4013" y="13674"/>
                  <a:pt x="4037" y="13682"/>
                  <a:pt x="4068" y="13667"/>
                </a:cubicBezTo>
                <a:cubicBezTo>
                  <a:pt x="4084" y="13659"/>
                  <a:pt x="4104" y="13654"/>
                  <a:pt x="4142" y="13643"/>
                </a:cubicBezTo>
                <a:cubicBezTo>
                  <a:pt x="4154" y="13640"/>
                  <a:pt x="4194" y="13620"/>
                  <a:pt x="4242" y="13618"/>
                </a:cubicBezTo>
                <a:cubicBezTo>
                  <a:pt x="4275" y="13618"/>
                  <a:pt x="4291" y="13618"/>
                  <a:pt x="4316" y="13618"/>
                </a:cubicBezTo>
                <a:cubicBezTo>
                  <a:pt x="4316" y="13705"/>
                  <a:pt x="4298" y="13785"/>
                  <a:pt x="4291" y="13866"/>
                </a:cubicBezTo>
                <a:cubicBezTo>
                  <a:pt x="4286" y="13929"/>
                  <a:pt x="4270" y="14014"/>
                  <a:pt x="4266" y="14064"/>
                </a:cubicBezTo>
                <a:cubicBezTo>
                  <a:pt x="4256" y="14180"/>
                  <a:pt x="4254" y="14301"/>
                  <a:pt x="4242" y="14412"/>
                </a:cubicBezTo>
                <a:cubicBezTo>
                  <a:pt x="4233" y="14499"/>
                  <a:pt x="4235" y="14489"/>
                  <a:pt x="4217" y="14585"/>
                </a:cubicBezTo>
                <a:cubicBezTo>
                  <a:pt x="4201" y="14673"/>
                  <a:pt x="4190" y="14772"/>
                  <a:pt x="4167" y="14858"/>
                </a:cubicBezTo>
                <a:cubicBezTo>
                  <a:pt x="4144" y="14945"/>
                  <a:pt x="4078" y="15074"/>
                  <a:pt x="4068" y="15106"/>
                </a:cubicBezTo>
                <a:cubicBezTo>
                  <a:pt x="4056" y="15146"/>
                  <a:pt x="4049" y="15221"/>
                  <a:pt x="4043" y="15255"/>
                </a:cubicBezTo>
                <a:cubicBezTo>
                  <a:pt x="4033" y="15314"/>
                  <a:pt x="4033" y="15371"/>
                  <a:pt x="4018" y="15429"/>
                </a:cubicBezTo>
                <a:cubicBezTo>
                  <a:pt x="4004" y="15481"/>
                  <a:pt x="3976" y="15548"/>
                  <a:pt x="3969" y="15602"/>
                </a:cubicBezTo>
                <a:cubicBezTo>
                  <a:pt x="3963" y="15648"/>
                  <a:pt x="3957" y="15662"/>
                  <a:pt x="3944" y="15701"/>
                </a:cubicBezTo>
                <a:cubicBezTo>
                  <a:pt x="3949" y="15640"/>
                  <a:pt x="3951" y="15612"/>
                  <a:pt x="3969" y="15553"/>
                </a:cubicBezTo>
                <a:cubicBezTo>
                  <a:pt x="3987" y="15492"/>
                  <a:pt x="3981" y="15442"/>
                  <a:pt x="3994" y="15379"/>
                </a:cubicBezTo>
                <a:cubicBezTo>
                  <a:pt x="4001" y="15346"/>
                  <a:pt x="4029" y="15183"/>
                  <a:pt x="4043" y="15156"/>
                </a:cubicBezTo>
                <a:cubicBezTo>
                  <a:pt x="4058" y="15127"/>
                  <a:pt x="4084" y="15119"/>
                  <a:pt x="4093" y="15056"/>
                </a:cubicBezTo>
                <a:cubicBezTo>
                  <a:pt x="4103" y="14985"/>
                  <a:pt x="4105" y="14922"/>
                  <a:pt x="4142" y="14858"/>
                </a:cubicBezTo>
                <a:cubicBezTo>
                  <a:pt x="4183" y="14788"/>
                  <a:pt x="4251" y="14779"/>
                  <a:pt x="4291" y="14709"/>
                </a:cubicBezTo>
                <a:cubicBezTo>
                  <a:pt x="4317" y="14662"/>
                  <a:pt x="4339" y="14627"/>
                  <a:pt x="4366" y="14585"/>
                </a:cubicBezTo>
                <a:cubicBezTo>
                  <a:pt x="4378" y="14566"/>
                  <a:pt x="4374" y="14506"/>
                  <a:pt x="4390" y="14486"/>
                </a:cubicBezTo>
                <a:cubicBezTo>
                  <a:pt x="4414" y="14456"/>
                  <a:pt x="4441" y="14462"/>
                  <a:pt x="4465" y="14412"/>
                </a:cubicBezTo>
                <a:cubicBezTo>
                  <a:pt x="4488" y="14364"/>
                  <a:pt x="4547" y="14276"/>
                  <a:pt x="4564" y="14238"/>
                </a:cubicBezTo>
                <a:cubicBezTo>
                  <a:pt x="4598" y="14162"/>
                  <a:pt x="4631" y="14119"/>
                  <a:pt x="4663" y="14064"/>
                </a:cubicBezTo>
                <a:cubicBezTo>
                  <a:pt x="4682" y="14031"/>
                  <a:pt x="4694" y="14013"/>
                  <a:pt x="4713" y="13965"/>
                </a:cubicBezTo>
                <a:cubicBezTo>
                  <a:pt x="4734" y="13913"/>
                  <a:pt x="4775" y="13911"/>
                  <a:pt x="4787" y="13891"/>
                </a:cubicBezTo>
                <a:cubicBezTo>
                  <a:pt x="4815" y="13847"/>
                  <a:pt x="4808" y="13872"/>
                  <a:pt x="4837" y="13841"/>
                </a:cubicBezTo>
                <a:cubicBezTo>
                  <a:pt x="4861" y="13815"/>
                  <a:pt x="4851" y="13809"/>
                  <a:pt x="4887" y="13791"/>
                </a:cubicBezTo>
                <a:cubicBezTo>
                  <a:pt x="4915" y="13777"/>
                  <a:pt x="4926" y="13784"/>
                  <a:pt x="4961" y="13767"/>
                </a:cubicBezTo>
                <a:cubicBezTo>
                  <a:pt x="4972" y="13762"/>
                  <a:pt x="5013" y="13710"/>
                  <a:pt x="5035" y="13717"/>
                </a:cubicBezTo>
                <a:cubicBezTo>
                  <a:pt x="5085" y="13734"/>
                  <a:pt x="5077" y="13779"/>
                  <a:pt x="5085" y="13816"/>
                </a:cubicBezTo>
                <a:cubicBezTo>
                  <a:pt x="5117" y="13972"/>
                  <a:pt x="5073" y="14171"/>
                  <a:pt x="5060" y="14312"/>
                </a:cubicBezTo>
                <a:cubicBezTo>
                  <a:pt x="5055" y="14365"/>
                  <a:pt x="5041" y="14418"/>
                  <a:pt x="5035" y="14436"/>
                </a:cubicBezTo>
                <a:cubicBezTo>
                  <a:pt x="5022" y="14475"/>
                  <a:pt x="5023" y="14522"/>
                  <a:pt x="5011" y="14560"/>
                </a:cubicBezTo>
                <a:cubicBezTo>
                  <a:pt x="4995" y="14611"/>
                  <a:pt x="4997" y="14658"/>
                  <a:pt x="4986" y="14709"/>
                </a:cubicBezTo>
                <a:cubicBezTo>
                  <a:pt x="4974" y="14762"/>
                  <a:pt x="4943" y="14803"/>
                  <a:pt x="4936" y="14858"/>
                </a:cubicBezTo>
                <a:cubicBezTo>
                  <a:pt x="4926" y="14933"/>
                  <a:pt x="4929" y="14981"/>
                  <a:pt x="4911" y="15056"/>
                </a:cubicBezTo>
                <a:cubicBezTo>
                  <a:pt x="4893" y="15130"/>
                  <a:pt x="4882" y="15207"/>
                  <a:pt x="4862" y="15280"/>
                </a:cubicBezTo>
                <a:cubicBezTo>
                  <a:pt x="4853" y="15315"/>
                  <a:pt x="4851" y="15348"/>
                  <a:pt x="4837" y="15404"/>
                </a:cubicBezTo>
                <a:cubicBezTo>
                  <a:pt x="4823" y="15461"/>
                  <a:pt x="4829" y="15449"/>
                  <a:pt x="4812" y="15503"/>
                </a:cubicBezTo>
                <a:cubicBezTo>
                  <a:pt x="4799" y="15543"/>
                  <a:pt x="4789" y="15553"/>
                  <a:pt x="4787" y="15602"/>
                </a:cubicBezTo>
                <a:cubicBezTo>
                  <a:pt x="4785" y="15652"/>
                  <a:pt x="4787" y="15701"/>
                  <a:pt x="4787" y="15751"/>
                </a:cubicBezTo>
                <a:cubicBezTo>
                  <a:pt x="4820" y="15748"/>
                  <a:pt x="4829" y="15731"/>
                  <a:pt x="4862" y="15726"/>
                </a:cubicBezTo>
                <a:cubicBezTo>
                  <a:pt x="4924" y="15717"/>
                  <a:pt x="4987" y="15715"/>
                  <a:pt x="5035" y="15677"/>
                </a:cubicBezTo>
                <a:cubicBezTo>
                  <a:pt x="5068" y="15651"/>
                  <a:pt x="5063" y="15656"/>
                  <a:pt x="5110" y="15627"/>
                </a:cubicBezTo>
                <a:cubicBezTo>
                  <a:pt x="5152" y="15601"/>
                  <a:pt x="5257" y="15585"/>
                  <a:pt x="5283" y="15553"/>
                </a:cubicBezTo>
                <a:cubicBezTo>
                  <a:pt x="5329" y="15495"/>
                  <a:pt x="5339" y="15494"/>
                  <a:pt x="5383" y="15453"/>
                </a:cubicBezTo>
                <a:cubicBezTo>
                  <a:pt x="5399" y="15438"/>
                  <a:pt x="5392" y="15419"/>
                  <a:pt x="5407" y="15404"/>
                </a:cubicBezTo>
              </a:path>
              <a:path w="8236" h="2829">
                <a:moveTo>
                  <a:pt x="6648" y="14908"/>
                </a:moveTo>
                <a:cubicBezTo>
                  <a:pt x="6648" y="14829"/>
                  <a:pt x="6647" y="14753"/>
                  <a:pt x="6623" y="14709"/>
                </a:cubicBezTo>
                <a:cubicBezTo>
                  <a:pt x="6591" y="14649"/>
                  <a:pt x="6593" y="14686"/>
                  <a:pt x="6548" y="14660"/>
                </a:cubicBezTo>
                <a:cubicBezTo>
                  <a:pt x="6537" y="14654"/>
                  <a:pt x="6500" y="14624"/>
                  <a:pt x="6474" y="14610"/>
                </a:cubicBezTo>
                <a:cubicBezTo>
                  <a:pt x="6442" y="14593"/>
                  <a:pt x="6414" y="14587"/>
                  <a:pt x="6375" y="14585"/>
                </a:cubicBezTo>
                <a:cubicBezTo>
                  <a:pt x="6294" y="14580"/>
                  <a:pt x="6195" y="14601"/>
                  <a:pt x="6152" y="14610"/>
                </a:cubicBezTo>
                <a:cubicBezTo>
                  <a:pt x="6103" y="14620"/>
                  <a:pt x="6114" y="14628"/>
                  <a:pt x="6077" y="14635"/>
                </a:cubicBezTo>
                <a:cubicBezTo>
                  <a:pt x="6036" y="14643"/>
                  <a:pt x="6019" y="14653"/>
                  <a:pt x="5978" y="14660"/>
                </a:cubicBezTo>
                <a:cubicBezTo>
                  <a:pt x="5934" y="14667"/>
                  <a:pt x="5932" y="14663"/>
                  <a:pt x="5904" y="14684"/>
                </a:cubicBezTo>
                <a:cubicBezTo>
                  <a:pt x="5884" y="14699"/>
                  <a:pt x="5851" y="14717"/>
                  <a:pt x="5829" y="14734"/>
                </a:cubicBezTo>
                <a:cubicBezTo>
                  <a:pt x="5825" y="14737"/>
                  <a:pt x="5783" y="14791"/>
                  <a:pt x="5779" y="14808"/>
                </a:cubicBezTo>
                <a:cubicBezTo>
                  <a:pt x="5762" y="14880"/>
                  <a:pt x="5781" y="14825"/>
                  <a:pt x="5730" y="14858"/>
                </a:cubicBezTo>
                <a:cubicBezTo>
                  <a:pt x="5702" y="14876"/>
                  <a:pt x="5698" y="14880"/>
                  <a:pt x="5680" y="14908"/>
                </a:cubicBezTo>
                <a:cubicBezTo>
                  <a:pt x="5661" y="14937"/>
                  <a:pt x="5669" y="14977"/>
                  <a:pt x="5655" y="15007"/>
                </a:cubicBezTo>
                <a:cubicBezTo>
                  <a:pt x="5646" y="15026"/>
                  <a:pt x="5612" y="15051"/>
                  <a:pt x="5606" y="15081"/>
                </a:cubicBezTo>
                <a:cubicBezTo>
                  <a:pt x="5597" y="15125"/>
                  <a:pt x="5603" y="15129"/>
                  <a:pt x="5581" y="15156"/>
                </a:cubicBezTo>
                <a:cubicBezTo>
                  <a:pt x="5559" y="15182"/>
                  <a:pt x="5559" y="15175"/>
                  <a:pt x="5556" y="15230"/>
                </a:cubicBezTo>
                <a:cubicBezTo>
                  <a:pt x="5554" y="15272"/>
                  <a:pt x="5546" y="15294"/>
                  <a:pt x="5531" y="15329"/>
                </a:cubicBezTo>
                <a:cubicBezTo>
                  <a:pt x="5515" y="15366"/>
                  <a:pt x="5520" y="15391"/>
                  <a:pt x="5507" y="15429"/>
                </a:cubicBezTo>
                <a:cubicBezTo>
                  <a:pt x="5494" y="15469"/>
                  <a:pt x="5485" y="15479"/>
                  <a:pt x="5482" y="15528"/>
                </a:cubicBezTo>
                <a:cubicBezTo>
                  <a:pt x="5479" y="15585"/>
                  <a:pt x="5482" y="15644"/>
                  <a:pt x="5482" y="15701"/>
                </a:cubicBezTo>
                <a:cubicBezTo>
                  <a:pt x="5515" y="15706"/>
                  <a:pt x="5524" y="15720"/>
                  <a:pt x="5556" y="15726"/>
                </a:cubicBezTo>
                <a:cubicBezTo>
                  <a:pt x="5595" y="15734"/>
                  <a:pt x="5619" y="15745"/>
                  <a:pt x="5655" y="15751"/>
                </a:cubicBezTo>
                <a:cubicBezTo>
                  <a:pt x="5718" y="15762"/>
                  <a:pt x="5776" y="15749"/>
                  <a:pt x="5804" y="15726"/>
                </a:cubicBezTo>
                <a:cubicBezTo>
                  <a:pt x="5832" y="15703"/>
                  <a:pt x="5859" y="15711"/>
                  <a:pt x="5904" y="15677"/>
                </a:cubicBezTo>
                <a:cubicBezTo>
                  <a:pt x="5940" y="15650"/>
                  <a:pt x="5931" y="15657"/>
                  <a:pt x="5978" y="15627"/>
                </a:cubicBezTo>
                <a:cubicBezTo>
                  <a:pt x="5980" y="15625"/>
                  <a:pt x="6071" y="15582"/>
                  <a:pt x="6077" y="15577"/>
                </a:cubicBezTo>
                <a:cubicBezTo>
                  <a:pt x="6107" y="15552"/>
                  <a:pt x="6135" y="15520"/>
                  <a:pt x="6152" y="15503"/>
                </a:cubicBezTo>
                <a:cubicBezTo>
                  <a:pt x="6185" y="15470"/>
                  <a:pt x="6198" y="15473"/>
                  <a:pt x="6251" y="15429"/>
                </a:cubicBezTo>
                <a:cubicBezTo>
                  <a:pt x="6286" y="15400"/>
                  <a:pt x="6292" y="15347"/>
                  <a:pt x="6325" y="15304"/>
                </a:cubicBezTo>
                <a:cubicBezTo>
                  <a:pt x="6344" y="15280"/>
                  <a:pt x="6372" y="15298"/>
                  <a:pt x="6400" y="15280"/>
                </a:cubicBezTo>
                <a:cubicBezTo>
                  <a:pt x="6434" y="15258"/>
                  <a:pt x="6461" y="15243"/>
                  <a:pt x="6474" y="15205"/>
                </a:cubicBezTo>
                <a:cubicBezTo>
                  <a:pt x="6503" y="15118"/>
                  <a:pt x="6498" y="15175"/>
                  <a:pt x="6524" y="15131"/>
                </a:cubicBezTo>
                <a:cubicBezTo>
                  <a:pt x="6536" y="15111"/>
                  <a:pt x="6593" y="15018"/>
                  <a:pt x="6598" y="15007"/>
                </a:cubicBezTo>
                <a:cubicBezTo>
                  <a:pt x="6615" y="14968"/>
                  <a:pt x="6610" y="14924"/>
                  <a:pt x="6623" y="14883"/>
                </a:cubicBezTo>
                <a:cubicBezTo>
                  <a:pt x="6623" y="14882"/>
                  <a:pt x="6663" y="14820"/>
                  <a:pt x="6672" y="14808"/>
                </a:cubicBezTo>
                <a:cubicBezTo>
                  <a:pt x="6682" y="14795"/>
                  <a:pt x="6706" y="14756"/>
                  <a:pt x="6722" y="14734"/>
                </a:cubicBezTo>
                <a:cubicBezTo>
                  <a:pt x="6739" y="14711"/>
                  <a:pt x="6729" y="14696"/>
                  <a:pt x="6747" y="14660"/>
                </a:cubicBezTo>
                <a:cubicBezTo>
                  <a:pt x="6762" y="14631"/>
                  <a:pt x="6773" y="14634"/>
                  <a:pt x="6796" y="14610"/>
                </a:cubicBezTo>
                <a:cubicBezTo>
                  <a:pt x="6796" y="14652"/>
                  <a:pt x="6774" y="14701"/>
                  <a:pt x="6772" y="14709"/>
                </a:cubicBezTo>
                <a:cubicBezTo>
                  <a:pt x="6763" y="14758"/>
                  <a:pt x="6755" y="14747"/>
                  <a:pt x="6747" y="14784"/>
                </a:cubicBezTo>
                <a:cubicBezTo>
                  <a:pt x="6737" y="14833"/>
                  <a:pt x="6725" y="14858"/>
                  <a:pt x="6722" y="14908"/>
                </a:cubicBezTo>
                <a:cubicBezTo>
                  <a:pt x="6720" y="14948"/>
                  <a:pt x="6714" y="14970"/>
                  <a:pt x="6697" y="15007"/>
                </a:cubicBezTo>
                <a:cubicBezTo>
                  <a:pt x="6688" y="15027"/>
                  <a:pt x="6656" y="15021"/>
                  <a:pt x="6648" y="15056"/>
                </a:cubicBezTo>
                <a:cubicBezTo>
                  <a:pt x="6630" y="15135"/>
                  <a:pt x="6629" y="15081"/>
                  <a:pt x="6598" y="15131"/>
                </a:cubicBezTo>
                <a:cubicBezTo>
                  <a:pt x="6568" y="15180"/>
                  <a:pt x="6571" y="15202"/>
                  <a:pt x="6548" y="15230"/>
                </a:cubicBezTo>
                <a:cubicBezTo>
                  <a:pt x="6537" y="15243"/>
                  <a:pt x="6484" y="15278"/>
                  <a:pt x="6474" y="15304"/>
                </a:cubicBezTo>
                <a:cubicBezTo>
                  <a:pt x="6463" y="15332"/>
                  <a:pt x="6454" y="15376"/>
                  <a:pt x="6449" y="15404"/>
                </a:cubicBezTo>
                <a:cubicBezTo>
                  <a:pt x="6432" y="15505"/>
                  <a:pt x="6449" y="15663"/>
                  <a:pt x="6474" y="15726"/>
                </a:cubicBezTo>
                <a:cubicBezTo>
                  <a:pt x="6489" y="15762"/>
                  <a:pt x="6503" y="15810"/>
                  <a:pt x="6524" y="15825"/>
                </a:cubicBezTo>
                <a:cubicBezTo>
                  <a:pt x="6568" y="15857"/>
                  <a:pt x="6590" y="15847"/>
                  <a:pt x="6648" y="15850"/>
                </a:cubicBezTo>
                <a:cubicBezTo>
                  <a:pt x="6703" y="15853"/>
                  <a:pt x="6724" y="15855"/>
                  <a:pt x="6747" y="15825"/>
                </a:cubicBezTo>
                <a:cubicBezTo>
                  <a:pt x="6792" y="15768"/>
                  <a:pt x="6796" y="15777"/>
                  <a:pt x="6871" y="15751"/>
                </a:cubicBezTo>
                <a:cubicBezTo>
                  <a:pt x="6924" y="15732"/>
                  <a:pt x="6975" y="15703"/>
                  <a:pt x="7020" y="15677"/>
                </a:cubicBezTo>
                <a:cubicBezTo>
                  <a:pt x="7085" y="15640"/>
                  <a:pt x="7127" y="15669"/>
                  <a:pt x="7193" y="15652"/>
                </a:cubicBezTo>
                <a:cubicBezTo>
                  <a:pt x="7291" y="15626"/>
                  <a:pt x="7235" y="15549"/>
                  <a:pt x="7293" y="15503"/>
                </a:cubicBezTo>
                <a:cubicBezTo>
                  <a:pt x="7317" y="15484"/>
                  <a:pt x="7371" y="15470"/>
                  <a:pt x="7392" y="15453"/>
                </a:cubicBezTo>
                <a:cubicBezTo>
                  <a:pt x="7406" y="15442"/>
                  <a:pt x="7411" y="15421"/>
                  <a:pt x="7441" y="15404"/>
                </a:cubicBezTo>
              </a:path>
              <a:path w="8236" h="2829">
                <a:moveTo>
                  <a:pt x="7987" y="14511"/>
                </a:moveTo>
                <a:cubicBezTo>
                  <a:pt x="7987" y="14536"/>
                  <a:pt x="7987" y="14544"/>
                  <a:pt x="7987" y="14560"/>
                </a:cubicBezTo>
                <a:cubicBezTo>
                  <a:pt x="7967" y="14586"/>
                  <a:pt x="7970" y="14559"/>
                  <a:pt x="7962" y="14610"/>
                </a:cubicBezTo>
                <a:cubicBezTo>
                  <a:pt x="7942" y="14645"/>
                  <a:pt x="7949" y="14607"/>
                  <a:pt x="7938" y="14684"/>
                </a:cubicBezTo>
                <a:cubicBezTo>
                  <a:pt x="7918" y="14710"/>
                  <a:pt x="7921" y="14683"/>
                  <a:pt x="7913" y="14734"/>
                </a:cubicBezTo>
                <a:cubicBezTo>
                  <a:pt x="7890" y="14771"/>
                  <a:pt x="7900" y="14728"/>
                  <a:pt x="7888" y="14808"/>
                </a:cubicBezTo>
                <a:cubicBezTo>
                  <a:pt x="7868" y="14834"/>
                  <a:pt x="7871" y="14807"/>
                  <a:pt x="7863" y="14858"/>
                </a:cubicBezTo>
                <a:cubicBezTo>
                  <a:pt x="7842" y="14874"/>
                  <a:pt x="7834" y="14867"/>
                  <a:pt x="7813" y="14883"/>
                </a:cubicBezTo>
                <a:cubicBezTo>
                  <a:pt x="7813" y="14924"/>
                  <a:pt x="7813" y="14966"/>
                  <a:pt x="7813" y="15007"/>
                </a:cubicBezTo>
                <a:cubicBezTo>
                  <a:pt x="7807" y="15016"/>
                  <a:pt x="7770" y="15047"/>
                  <a:pt x="7764" y="15056"/>
                </a:cubicBezTo>
                <a:cubicBezTo>
                  <a:pt x="7764" y="15089"/>
                  <a:pt x="7764" y="15123"/>
                  <a:pt x="7764" y="15156"/>
                </a:cubicBezTo>
                <a:cubicBezTo>
                  <a:pt x="7749" y="15181"/>
                  <a:pt x="7742" y="15177"/>
                  <a:pt x="7739" y="15230"/>
                </a:cubicBezTo>
                <a:cubicBezTo>
                  <a:pt x="7739" y="15255"/>
                  <a:pt x="7739" y="15263"/>
                  <a:pt x="7739" y="15280"/>
                </a:cubicBezTo>
                <a:cubicBezTo>
                  <a:pt x="7715" y="15319"/>
                  <a:pt x="7726" y="15269"/>
                  <a:pt x="7714" y="15354"/>
                </a:cubicBezTo>
                <a:cubicBezTo>
                  <a:pt x="7694" y="15369"/>
                  <a:pt x="7685" y="15364"/>
                  <a:pt x="7665" y="15379"/>
                </a:cubicBezTo>
                <a:cubicBezTo>
                  <a:pt x="7665" y="15420"/>
                  <a:pt x="7665" y="15462"/>
                  <a:pt x="7665" y="15503"/>
                </a:cubicBezTo>
                <a:cubicBezTo>
                  <a:pt x="7644" y="15518"/>
                  <a:pt x="7636" y="15512"/>
                  <a:pt x="7615" y="15528"/>
                </a:cubicBezTo>
                <a:cubicBezTo>
                  <a:pt x="7606" y="15580"/>
                  <a:pt x="7611" y="15550"/>
                  <a:pt x="7590" y="15577"/>
                </a:cubicBezTo>
                <a:cubicBezTo>
                  <a:pt x="7575" y="15598"/>
                  <a:pt x="7580" y="15606"/>
                  <a:pt x="7565" y="15627"/>
                </a:cubicBezTo>
                <a:cubicBezTo>
                  <a:pt x="7552" y="15650"/>
                  <a:pt x="7548" y="15653"/>
                  <a:pt x="7541" y="15701"/>
                </a:cubicBezTo>
                <a:cubicBezTo>
                  <a:pt x="7521" y="15727"/>
                  <a:pt x="7524" y="15700"/>
                  <a:pt x="7516" y="15751"/>
                </a:cubicBezTo>
                <a:cubicBezTo>
                  <a:pt x="7499" y="15779"/>
                  <a:pt x="7513" y="15800"/>
                  <a:pt x="7491" y="15825"/>
                </a:cubicBezTo>
                <a:cubicBezTo>
                  <a:pt x="7483" y="15825"/>
                  <a:pt x="7474" y="15825"/>
                  <a:pt x="7466" y="15825"/>
                </a:cubicBezTo>
              </a:path>
              <a:path w="8236" h="2829">
                <a:moveTo>
                  <a:pt x="7764" y="15304"/>
                </a:moveTo>
                <a:cubicBezTo>
                  <a:pt x="7781" y="15265"/>
                  <a:pt x="7783" y="15274"/>
                  <a:pt x="7789" y="15230"/>
                </a:cubicBezTo>
                <a:cubicBezTo>
                  <a:pt x="7836" y="15224"/>
                  <a:pt x="7846" y="15226"/>
                  <a:pt x="7888" y="15205"/>
                </a:cubicBezTo>
                <a:cubicBezTo>
                  <a:pt x="7917" y="15190"/>
                  <a:pt x="7926" y="15197"/>
                  <a:pt x="7962" y="15180"/>
                </a:cubicBezTo>
                <a:cubicBezTo>
                  <a:pt x="7978" y="15172"/>
                  <a:pt x="8016" y="15143"/>
                  <a:pt x="8037" y="15131"/>
                </a:cubicBezTo>
                <a:cubicBezTo>
                  <a:pt x="8054" y="15190"/>
                  <a:pt x="8037" y="15161"/>
                  <a:pt x="8086" y="15205"/>
                </a:cubicBezTo>
                <a:cubicBezTo>
                  <a:pt x="8111" y="15228"/>
                  <a:pt x="8118" y="15262"/>
                  <a:pt x="8161" y="15304"/>
                </a:cubicBezTo>
                <a:cubicBezTo>
                  <a:pt x="8181" y="15324"/>
                  <a:pt x="8195" y="15327"/>
                  <a:pt x="8235" y="15329"/>
                </a:cubicBezTo>
                <a:cubicBezTo>
                  <a:pt x="8284" y="15332"/>
                  <a:pt x="8343" y="15322"/>
                  <a:pt x="8384" y="15304"/>
                </a:cubicBezTo>
                <a:cubicBezTo>
                  <a:pt x="8399" y="15297"/>
                  <a:pt x="8428" y="15270"/>
                  <a:pt x="8458" y="15255"/>
                </a:cubicBezTo>
                <a:cubicBezTo>
                  <a:pt x="8482" y="15243"/>
                  <a:pt x="8465" y="15199"/>
                  <a:pt x="8483" y="15180"/>
                </a:cubicBezTo>
                <a:cubicBezTo>
                  <a:pt x="8509" y="15152"/>
                  <a:pt x="8556" y="15121"/>
                  <a:pt x="8582" y="15081"/>
                </a:cubicBezTo>
                <a:cubicBezTo>
                  <a:pt x="8609" y="15040"/>
                  <a:pt x="8626" y="14985"/>
                  <a:pt x="8632" y="14957"/>
                </a:cubicBezTo>
                <a:cubicBezTo>
                  <a:pt x="8642" y="14908"/>
                  <a:pt x="8650" y="14920"/>
                  <a:pt x="8657" y="14883"/>
                </a:cubicBezTo>
                <a:cubicBezTo>
                  <a:pt x="8672" y="14807"/>
                  <a:pt x="8671" y="14847"/>
                  <a:pt x="8706" y="14808"/>
                </a:cubicBezTo>
                <a:cubicBezTo>
                  <a:pt x="8728" y="14784"/>
                  <a:pt x="8747" y="14791"/>
                  <a:pt x="8756" y="14759"/>
                </a:cubicBezTo>
                <a:cubicBezTo>
                  <a:pt x="8770" y="14709"/>
                  <a:pt x="8757" y="14707"/>
                  <a:pt x="8781" y="14660"/>
                </a:cubicBezTo>
                <a:cubicBezTo>
                  <a:pt x="8785" y="14652"/>
                  <a:pt x="8822" y="14618"/>
                  <a:pt x="8830" y="14610"/>
                </a:cubicBezTo>
                <a:cubicBezTo>
                  <a:pt x="8813" y="14639"/>
                  <a:pt x="8824" y="14649"/>
                  <a:pt x="8806" y="14684"/>
                </a:cubicBezTo>
                <a:cubicBezTo>
                  <a:pt x="8790" y="14716"/>
                  <a:pt x="8803" y="14740"/>
                  <a:pt x="8781" y="14784"/>
                </a:cubicBezTo>
                <a:cubicBezTo>
                  <a:pt x="8764" y="14818"/>
                  <a:pt x="8741" y="14811"/>
                  <a:pt x="8706" y="14833"/>
                </a:cubicBezTo>
                <a:cubicBezTo>
                  <a:pt x="8681" y="14849"/>
                  <a:pt x="8697" y="14878"/>
                  <a:pt x="8682" y="14908"/>
                </a:cubicBezTo>
                <a:cubicBezTo>
                  <a:pt x="8674" y="14924"/>
                  <a:pt x="8645" y="14931"/>
                  <a:pt x="8632" y="14957"/>
                </a:cubicBezTo>
                <a:cubicBezTo>
                  <a:pt x="8611" y="15001"/>
                  <a:pt x="8625" y="15065"/>
                  <a:pt x="8607" y="15106"/>
                </a:cubicBezTo>
                <a:cubicBezTo>
                  <a:pt x="8606" y="15108"/>
                  <a:pt x="8534" y="15154"/>
                  <a:pt x="8533" y="15156"/>
                </a:cubicBezTo>
                <a:cubicBezTo>
                  <a:pt x="8517" y="15187"/>
                  <a:pt x="8488" y="15196"/>
                  <a:pt x="8483" y="15205"/>
                </a:cubicBezTo>
                <a:cubicBezTo>
                  <a:pt x="8472" y="15226"/>
                  <a:pt x="8461" y="15282"/>
                  <a:pt x="8458" y="15304"/>
                </a:cubicBezTo>
                <a:cubicBezTo>
                  <a:pt x="8451" y="15355"/>
                  <a:pt x="8456" y="15375"/>
                  <a:pt x="8434" y="15404"/>
                </a:cubicBezTo>
                <a:cubicBezTo>
                  <a:pt x="8413" y="15430"/>
                  <a:pt x="8412" y="15424"/>
                  <a:pt x="8409" y="15478"/>
                </a:cubicBezTo>
                <a:cubicBezTo>
                  <a:pt x="8406" y="15533"/>
                  <a:pt x="8392" y="15513"/>
                  <a:pt x="8384" y="15553"/>
                </a:cubicBezTo>
                <a:cubicBezTo>
                  <a:pt x="8369" y="15627"/>
                  <a:pt x="8368" y="15818"/>
                  <a:pt x="8409" y="15850"/>
                </a:cubicBezTo>
                <a:cubicBezTo>
                  <a:pt x="8448" y="15880"/>
                  <a:pt x="8459" y="15872"/>
                  <a:pt x="8508" y="15875"/>
                </a:cubicBezTo>
                <a:cubicBezTo>
                  <a:pt x="8548" y="15877"/>
                  <a:pt x="8577" y="15851"/>
                  <a:pt x="8582" y="15850"/>
                </a:cubicBezTo>
                <a:cubicBezTo>
                  <a:pt x="8637" y="15839"/>
                  <a:pt x="8703" y="15833"/>
                  <a:pt x="8756" y="15825"/>
                </a:cubicBezTo>
                <a:cubicBezTo>
                  <a:pt x="8834" y="15813"/>
                  <a:pt x="8791" y="15811"/>
                  <a:pt x="8830" y="15776"/>
                </a:cubicBezTo>
                <a:cubicBezTo>
                  <a:pt x="8855" y="15754"/>
                  <a:pt x="8848" y="15735"/>
                  <a:pt x="8880" y="15726"/>
                </a:cubicBezTo>
                <a:cubicBezTo>
                  <a:pt x="8943" y="15708"/>
                  <a:pt x="8910" y="15737"/>
                  <a:pt x="8930" y="15677"/>
                </a:cubicBezTo>
              </a:path>
              <a:path w="8236" h="2829">
                <a:moveTo>
                  <a:pt x="9079" y="15677"/>
                </a:moveTo>
                <a:cubicBezTo>
                  <a:pt x="9070" y="15714"/>
                  <a:pt x="9052" y="15685"/>
                  <a:pt x="9079" y="15751"/>
                </a:cubicBezTo>
                <a:cubicBezTo>
                  <a:pt x="9095" y="15791"/>
                  <a:pt x="9088" y="15794"/>
                  <a:pt x="9103" y="15825"/>
                </a:cubicBezTo>
                <a:cubicBezTo>
                  <a:pt x="9108" y="15835"/>
                  <a:pt x="9119" y="15892"/>
                  <a:pt x="9128" y="15900"/>
                </a:cubicBezTo>
                <a:cubicBezTo>
                  <a:pt x="9157" y="15927"/>
                  <a:pt x="9165" y="15961"/>
                  <a:pt x="9203" y="15974"/>
                </a:cubicBezTo>
                <a:cubicBezTo>
                  <a:pt x="9274" y="15999"/>
                  <a:pt x="9392" y="15960"/>
                  <a:pt x="9426" y="15949"/>
                </a:cubicBezTo>
                <a:cubicBezTo>
                  <a:pt x="9466" y="15936"/>
                  <a:pt x="9511" y="15942"/>
                  <a:pt x="9550" y="15925"/>
                </a:cubicBezTo>
                <a:cubicBezTo>
                  <a:pt x="9589" y="15909"/>
                  <a:pt x="9593" y="15913"/>
                  <a:pt x="9624" y="15900"/>
                </a:cubicBezTo>
                <a:cubicBezTo>
                  <a:pt x="9665" y="15883"/>
                  <a:pt x="9670" y="15865"/>
                  <a:pt x="9699" y="15850"/>
                </a:cubicBezTo>
                <a:cubicBezTo>
                  <a:pt x="9730" y="15834"/>
                  <a:pt x="9726" y="15819"/>
                  <a:pt x="9748" y="15801"/>
                </a:cubicBezTo>
                <a:cubicBezTo>
                  <a:pt x="9772" y="15782"/>
                  <a:pt x="9803" y="15798"/>
                  <a:pt x="9823" y="15776"/>
                </a:cubicBezTo>
                <a:cubicBezTo>
                  <a:pt x="9837" y="15761"/>
                  <a:pt x="9861" y="15740"/>
                  <a:pt x="9872" y="15726"/>
                </a:cubicBezTo>
                <a:cubicBezTo>
                  <a:pt x="9893" y="15699"/>
                  <a:pt x="9894" y="15687"/>
                  <a:pt x="9922" y="15652"/>
                </a:cubicBezTo>
                <a:cubicBezTo>
                  <a:pt x="9941" y="15628"/>
                  <a:pt x="9926" y="15597"/>
                  <a:pt x="9947" y="15577"/>
                </a:cubicBezTo>
                <a:cubicBezTo>
                  <a:pt x="9972" y="15554"/>
                  <a:pt x="9977" y="15560"/>
                  <a:pt x="9996" y="15528"/>
                </a:cubicBezTo>
                <a:cubicBezTo>
                  <a:pt x="10014" y="15498"/>
                  <a:pt x="10008" y="15479"/>
                  <a:pt x="10021" y="15453"/>
                </a:cubicBezTo>
                <a:cubicBezTo>
                  <a:pt x="10042" y="15412"/>
                  <a:pt x="10033" y="15399"/>
                  <a:pt x="10046" y="15354"/>
                </a:cubicBezTo>
                <a:cubicBezTo>
                  <a:pt x="10048" y="15346"/>
                  <a:pt x="10088" y="15296"/>
                  <a:pt x="10096" y="15280"/>
                </a:cubicBezTo>
                <a:cubicBezTo>
                  <a:pt x="10116" y="15239"/>
                  <a:pt x="10117" y="15250"/>
                  <a:pt x="10120" y="15180"/>
                </a:cubicBezTo>
                <a:cubicBezTo>
                  <a:pt x="10122" y="15132"/>
                  <a:pt x="10138" y="15124"/>
                  <a:pt x="10145" y="15106"/>
                </a:cubicBezTo>
                <a:cubicBezTo>
                  <a:pt x="10158" y="15074"/>
                  <a:pt x="10166" y="15056"/>
                  <a:pt x="10170" y="15032"/>
                </a:cubicBezTo>
                <a:cubicBezTo>
                  <a:pt x="10184" y="14954"/>
                  <a:pt x="10167" y="14872"/>
                  <a:pt x="10145" y="14808"/>
                </a:cubicBezTo>
                <a:cubicBezTo>
                  <a:pt x="10131" y="14766"/>
                  <a:pt x="10109" y="14757"/>
                  <a:pt x="10096" y="14734"/>
                </a:cubicBezTo>
                <a:cubicBezTo>
                  <a:pt x="10073" y="14694"/>
                  <a:pt x="10096" y="14673"/>
                  <a:pt x="10046" y="14635"/>
                </a:cubicBezTo>
                <a:cubicBezTo>
                  <a:pt x="10019" y="14615"/>
                  <a:pt x="10025" y="14614"/>
                  <a:pt x="9971" y="14610"/>
                </a:cubicBezTo>
                <a:cubicBezTo>
                  <a:pt x="9885" y="14603"/>
                  <a:pt x="9794" y="14605"/>
                  <a:pt x="9723" y="14635"/>
                </a:cubicBezTo>
                <a:cubicBezTo>
                  <a:pt x="9695" y="14647"/>
                  <a:pt x="9693" y="14692"/>
                  <a:pt x="9674" y="14709"/>
                </a:cubicBezTo>
                <a:cubicBezTo>
                  <a:pt x="9652" y="14728"/>
                  <a:pt x="9627" y="14724"/>
                  <a:pt x="9599" y="14759"/>
                </a:cubicBezTo>
                <a:cubicBezTo>
                  <a:pt x="9583" y="14778"/>
                  <a:pt x="9563" y="14792"/>
                  <a:pt x="9550" y="14808"/>
                </a:cubicBezTo>
                <a:cubicBezTo>
                  <a:pt x="9529" y="14834"/>
                  <a:pt x="9511" y="14827"/>
                  <a:pt x="9500" y="14858"/>
                </a:cubicBezTo>
                <a:cubicBezTo>
                  <a:pt x="9481" y="14913"/>
                  <a:pt x="9482" y="14949"/>
                  <a:pt x="9475" y="15007"/>
                </a:cubicBezTo>
                <a:cubicBezTo>
                  <a:pt x="9466" y="15077"/>
                  <a:pt x="9485" y="15146"/>
                  <a:pt x="9500" y="15180"/>
                </a:cubicBezTo>
                <a:cubicBezTo>
                  <a:pt x="9516" y="15217"/>
                  <a:pt x="9500" y="15232"/>
                  <a:pt x="9525" y="15255"/>
                </a:cubicBezTo>
                <a:cubicBezTo>
                  <a:pt x="9554" y="15282"/>
                  <a:pt x="9572" y="15298"/>
                  <a:pt x="9599" y="15304"/>
                </a:cubicBezTo>
                <a:cubicBezTo>
                  <a:pt x="9655" y="15317"/>
                  <a:pt x="9730" y="15282"/>
                  <a:pt x="9748" y="15280"/>
                </a:cubicBezTo>
                <a:cubicBezTo>
                  <a:pt x="9804" y="15273"/>
                  <a:pt x="9865" y="15280"/>
                  <a:pt x="9922" y="15280"/>
                </a:cubicBezTo>
                <a:cubicBezTo>
                  <a:pt x="9959" y="15228"/>
                  <a:pt x="9913" y="15263"/>
                  <a:pt x="9971" y="15230"/>
                </a:cubicBezTo>
                <a:cubicBezTo>
                  <a:pt x="9998" y="15215"/>
                  <a:pt x="10001" y="15193"/>
                  <a:pt x="10021" y="15180"/>
                </a:cubicBezTo>
                <a:cubicBezTo>
                  <a:pt x="10046" y="15163"/>
                  <a:pt x="10051" y="15147"/>
                  <a:pt x="10071" y="15131"/>
                </a:cubicBezTo>
                <a:cubicBezTo>
                  <a:pt x="10094" y="15112"/>
                  <a:pt x="10100" y="15075"/>
                  <a:pt x="10120" y="15056"/>
                </a:cubicBezTo>
                <a:cubicBezTo>
                  <a:pt x="10138" y="15040"/>
                  <a:pt x="10153" y="15022"/>
                  <a:pt x="10170" y="15007"/>
                </a:cubicBezTo>
                <a:cubicBezTo>
                  <a:pt x="10179" y="14998"/>
                  <a:pt x="10213" y="14961"/>
                  <a:pt x="10220" y="14957"/>
                </a:cubicBezTo>
                <a:cubicBezTo>
                  <a:pt x="10253" y="14937"/>
                  <a:pt x="10265" y="14943"/>
                  <a:pt x="10319" y="14932"/>
                </a:cubicBezTo>
                <a:cubicBezTo>
                  <a:pt x="10355" y="14882"/>
                  <a:pt x="10311" y="14915"/>
                  <a:pt x="10368" y="14883"/>
                </a:cubicBezTo>
                <a:cubicBezTo>
                  <a:pt x="10402" y="14864"/>
                  <a:pt x="10397" y="14864"/>
                  <a:pt x="10418" y="14833"/>
                </a:cubicBezTo>
                <a:cubicBezTo>
                  <a:pt x="10438" y="14805"/>
                  <a:pt x="10454" y="14779"/>
                  <a:pt x="10468" y="14759"/>
                </a:cubicBezTo>
                <a:cubicBezTo>
                  <a:pt x="10487" y="14732"/>
                  <a:pt x="10468" y="14703"/>
                  <a:pt x="10492" y="14684"/>
                </a:cubicBezTo>
                <a:cubicBezTo>
                  <a:pt x="10529" y="14656"/>
                  <a:pt x="10470" y="14705"/>
                  <a:pt x="10468" y="14709"/>
                </a:cubicBezTo>
                <a:cubicBezTo>
                  <a:pt x="10450" y="14745"/>
                  <a:pt x="10458" y="14755"/>
                  <a:pt x="10443" y="14784"/>
                </a:cubicBezTo>
                <a:cubicBezTo>
                  <a:pt x="10434" y="14802"/>
                  <a:pt x="10405" y="14834"/>
                  <a:pt x="10393" y="14858"/>
                </a:cubicBezTo>
                <a:cubicBezTo>
                  <a:pt x="10380" y="14884"/>
                  <a:pt x="10371" y="14912"/>
                  <a:pt x="10368" y="14932"/>
                </a:cubicBezTo>
                <a:cubicBezTo>
                  <a:pt x="10360" y="14976"/>
                  <a:pt x="10354" y="14987"/>
                  <a:pt x="10344" y="15007"/>
                </a:cubicBezTo>
                <a:cubicBezTo>
                  <a:pt x="10331" y="15034"/>
                  <a:pt x="10323" y="15060"/>
                  <a:pt x="10319" y="15081"/>
                </a:cubicBezTo>
                <a:cubicBezTo>
                  <a:pt x="10310" y="15136"/>
                  <a:pt x="10314" y="15158"/>
                  <a:pt x="10294" y="15205"/>
                </a:cubicBezTo>
                <a:cubicBezTo>
                  <a:pt x="10282" y="15234"/>
                  <a:pt x="10286" y="15245"/>
                  <a:pt x="10269" y="15280"/>
                </a:cubicBezTo>
                <a:cubicBezTo>
                  <a:pt x="10252" y="15315"/>
                  <a:pt x="10256" y="15325"/>
                  <a:pt x="10244" y="15354"/>
                </a:cubicBezTo>
                <a:cubicBezTo>
                  <a:pt x="10226" y="15398"/>
                  <a:pt x="10223" y="15382"/>
                  <a:pt x="10220" y="15453"/>
                </a:cubicBezTo>
                <a:cubicBezTo>
                  <a:pt x="10218" y="15502"/>
                  <a:pt x="10196" y="15590"/>
                  <a:pt x="10195" y="15602"/>
                </a:cubicBezTo>
                <a:cubicBezTo>
                  <a:pt x="10182" y="15706"/>
                  <a:pt x="10209" y="15811"/>
                  <a:pt x="10220" y="15900"/>
                </a:cubicBezTo>
                <a:cubicBezTo>
                  <a:pt x="10226" y="15945"/>
                  <a:pt x="10209" y="15964"/>
                  <a:pt x="10244" y="15999"/>
                </a:cubicBezTo>
                <a:cubicBezTo>
                  <a:pt x="10277" y="16032"/>
                  <a:pt x="10295" y="16029"/>
                  <a:pt x="10319" y="16049"/>
                </a:cubicBezTo>
                <a:cubicBezTo>
                  <a:pt x="10364" y="16086"/>
                  <a:pt x="10373" y="16079"/>
                  <a:pt x="10418" y="16098"/>
                </a:cubicBezTo>
                <a:cubicBezTo>
                  <a:pt x="10418" y="16098"/>
                  <a:pt x="10493" y="16145"/>
                  <a:pt x="10517" y="16148"/>
                </a:cubicBezTo>
                <a:cubicBezTo>
                  <a:pt x="10625" y="16164"/>
                  <a:pt x="10772" y="16131"/>
                  <a:pt x="10840" y="16123"/>
                </a:cubicBezTo>
                <a:cubicBezTo>
                  <a:pt x="10893" y="16117"/>
                  <a:pt x="10911" y="16114"/>
                  <a:pt x="10964" y="16098"/>
                </a:cubicBezTo>
                <a:cubicBezTo>
                  <a:pt x="11027" y="16079"/>
                  <a:pt x="11099" y="16090"/>
                  <a:pt x="11162" y="16073"/>
                </a:cubicBezTo>
                <a:cubicBezTo>
                  <a:pt x="11163" y="16073"/>
                  <a:pt x="11231" y="16029"/>
                  <a:pt x="11237" y="16024"/>
                </a:cubicBezTo>
                <a:cubicBezTo>
                  <a:pt x="11244" y="16017"/>
                  <a:pt x="11282" y="15980"/>
                  <a:pt x="11286" y="15974"/>
                </a:cubicBezTo>
                <a:cubicBezTo>
                  <a:pt x="11286" y="15966"/>
                  <a:pt x="11286" y="15957"/>
                  <a:pt x="11286" y="1594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68800" y="588960"/>
            <a:ext cx="1724040" cy="723960"/>
          </a:xfrm>
          <a:custGeom>
            <a:avLst/>
            <a:gdLst/>
            <a:ahLst/>
            <a:rect l="l" t="t" r="r" b="b"/>
            <a:pathLst>
              <a:path w="4788" h="2010">
                <a:moveTo>
                  <a:pt x="9302" y="2059"/>
                </a:moveTo>
                <a:cubicBezTo>
                  <a:pt x="9307" y="2012"/>
                  <a:pt x="9320" y="1979"/>
                  <a:pt x="9327" y="1935"/>
                </a:cubicBezTo>
                <a:cubicBezTo>
                  <a:pt x="9336" y="1879"/>
                  <a:pt x="9334" y="1887"/>
                  <a:pt x="9351" y="1836"/>
                </a:cubicBezTo>
                <a:cubicBezTo>
                  <a:pt x="9370" y="1779"/>
                  <a:pt x="9383" y="1768"/>
                  <a:pt x="9401" y="1736"/>
                </a:cubicBezTo>
                <a:cubicBezTo>
                  <a:pt x="9418" y="1706"/>
                  <a:pt x="9435" y="1681"/>
                  <a:pt x="9451" y="1662"/>
                </a:cubicBezTo>
                <a:cubicBezTo>
                  <a:pt x="9476" y="1633"/>
                  <a:pt x="9471" y="1640"/>
                  <a:pt x="9525" y="1637"/>
                </a:cubicBezTo>
                <a:cubicBezTo>
                  <a:pt x="9582" y="1634"/>
                  <a:pt x="9598" y="1639"/>
                  <a:pt x="9624" y="1662"/>
                </a:cubicBezTo>
                <a:cubicBezTo>
                  <a:pt x="9653" y="1687"/>
                  <a:pt x="9681" y="1745"/>
                  <a:pt x="9699" y="1761"/>
                </a:cubicBezTo>
                <a:cubicBezTo>
                  <a:pt x="9734" y="1791"/>
                  <a:pt x="9724" y="1802"/>
                  <a:pt x="9748" y="1836"/>
                </a:cubicBezTo>
                <a:cubicBezTo>
                  <a:pt x="9782" y="1883"/>
                  <a:pt x="9792" y="1877"/>
                  <a:pt x="9798" y="1935"/>
                </a:cubicBezTo>
                <a:cubicBezTo>
                  <a:pt x="9803" y="1976"/>
                  <a:pt x="9808" y="1999"/>
                  <a:pt x="9823" y="2034"/>
                </a:cubicBezTo>
                <a:cubicBezTo>
                  <a:pt x="9828" y="2046"/>
                  <a:pt x="9867" y="2095"/>
                  <a:pt x="9872" y="2133"/>
                </a:cubicBezTo>
                <a:cubicBezTo>
                  <a:pt x="9886" y="2237"/>
                  <a:pt x="9885" y="2387"/>
                  <a:pt x="9897" y="2456"/>
                </a:cubicBezTo>
                <a:cubicBezTo>
                  <a:pt x="9934" y="2676"/>
                  <a:pt x="9895" y="2994"/>
                  <a:pt x="9872" y="3175"/>
                </a:cubicBezTo>
                <a:cubicBezTo>
                  <a:pt x="9863" y="3245"/>
                  <a:pt x="9867" y="3287"/>
                  <a:pt x="9847" y="3324"/>
                </a:cubicBezTo>
                <a:cubicBezTo>
                  <a:pt x="9821" y="3374"/>
                  <a:pt x="9820" y="3396"/>
                  <a:pt x="9798" y="3423"/>
                </a:cubicBezTo>
                <a:cubicBezTo>
                  <a:pt x="9767" y="3461"/>
                  <a:pt x="9788" y="3492"/>
                  <a:pt x="9748" y="3522"/>
                </a:cubicBezTo>
                <a:cubicBezTo>
                  <a:pt x="9713" y="3548"/>
                  <a:pt x="9691" y="3561"/>
                  <a:pt x="9649" y="3572"/>
                </a:cubicBezTo>
                <a:cubicBezTo>
                  <a:pt x="9605" y="3584"/>
                  <a:pt x="9603" y="3575"/>
                  <a:pt x="9575" y="3597"/>
                </a:cubicBezTo>
                <a:cubicBezTo>
                  <a:pt x="9548" y="3618"/>
                  <a:pt x="9536" y="3603"/>
                  <a:pt x="9500" y="3621"/>
                </a:cubicBezTo>
                <a:cubicBezTo>
                  <a:pt x="9477" y="3632"/>
                  <a:pt x="9458" y="3643"/>
                  <a:pt x="9401" y="3646"/>
                </a:cubicBezTo>
                <a:cubicBezTo>
                  <a:pt x="9364" y="3648"/>
                  <a:pt x="9330" y="3638"/>
                  <a:pt x="9302" y="3621"/>
                </a:cubicBezTo>
                <a:cubicBezTo>
                  <a:pt x="9287" y="3612"/>
                  <a:pt x="9267" y="3567"/>
                  <a:pt x="9252" y="3547"/>
                </a:cubicBezTo>
                <a:cubicBezTo>
                  <a:pt x="9234" y="3524"/>
                  <a:pt x="9209" y="3514"/>
                  <a:pt x="9178" y="3473"/>
                </a:cubicBezTo>
                <a:cubicBezTo>
                  <a:pt x="9160" y="3450"/>
                  <a:pt x="9133" y="3409"/>
                  <a:pt x="9103" y="3373"/>
                </a:cubicBezTo>
                <a:cubicBezTo>
                  <a:pt x="9095" y="3365"/>
                  <a:pt x="9087" y="3357"/>
                  <a:pt x="9079" y="3349"/>
                </a:cubicBezTo>
              </a:path>
              <a:path w="4788" h="2010">
                <a:moveTo>
                  <a:pt x="9351" y="2679"/>
                </a:moveTo>
                <a:cubicBezTo>
                  <a:pt x="9376" y="2679"/>
                  <a:pt x="9384" y="2679"/>
                  <a:pt x="9401" y="2679"/>
                </a:cubicBezTo>
                <a:cubicBezTo>
                  <a:pt x="9414" y="2717"/>
                  <a:pt x="9430" y="2704"/>
                  <a:pt x="9475" y="2704"/>
                </a:cubicBezTo>
                <a:cubicBezTo>
                  <a:pt x="9542" y="2704"/>
                  <a:pt x="9756" y="2729"/>
                  <a:pt x="9773" y="2679"/>
                </a:cubicBezTo>
              </a:path>
              <a:path w="4788" h="2010">
                <a:moveTo>
                  <a:pt x="10666" y="2530"/>
                </a:moveTo>
                <a:cubicBezTo>
                  <a:pt x="10666" y="2786"/>
                  <a:pt x="10666" y="3043"/>
                  <a:pt x="10666" y="3299"/>
                </a:cubicBezTo>
                <a:cubicBezTo>
                  <a:pt x="10644" y="3314"/>
                  <a:pt x="10621" y="3356"/>
                  <a:pt x="10616" y="3398"/>
                </a:cubicBezTo>
                <a:cubicBezTo>
                  <a:pt x="10610" y="3450"/>
                  <a:pt x="10637" y="3507"/>
                  <a:pt x="10592" y="3522"/>
                </a:cubicBezTo>
              </a:path>
              <a:path w="4788" h="2010">
                <a:moveTo>
                  <a:pt x="10691" y="3001"/>
                </a:moveTo>
                <a:cubicBezTo>
                  <a:pt x="10709" y="2971"/>
                  <a:pt x="10713" y="2975"/>
                  <a:pt x="10716" y="2927"/>
                </a:cubicBezTo>
                <a:cubicBezTo>
                  <a:pt x="10718" y="2888"/>
                  <a:pt x="10739" y="2834"/>
                  <a:pt x="10740" y="2828"/>
                </a:cubicBezTo>
                <a:cubicBezTo>
                  <a:pt x="10749" y="2779"/>
                  <a:pt x="10757" y="2790"/>
                  <a:pt x="10765" y="2753"/>
                </a:cubicBezTo>
                <a:cubicBezTo>
                  <a:pt x="10775" y="2706"/>
                  <a:pt x="10775" y="2678"/>
                  <a:pt x="10790" y="2654"/>
                </a:cubicBezTo>
                <a:cubicBezTo>
                  <a:pt x="10815" y="2614"/>
                  <a:pt x="10810" y="2621"/>
                  <a:pt x="10864" y="2580"/>
                </a:cubicBezTo>
                <a:cubicBezTo>
                  <a:pt x="10902" y="2552"/>
                  <a:pt x="10876" y="2538"/>
                  <a:pt x="10939" y="2530"/>
                </a:cubicBezTo>
                <a:cubicBezTo>
                  <a:pt x="10963" y="2527"/>
                  <a:pt x="10989" y="2530"/>
                  <a:pt x="11013" y="2530"/>
                </a:cubicBezTo>
                <a:cubicBezTo>
                  <a:pt x="11020" y="2579"/>
                  <a:pt x="11020" y="2571"/>
                  <a:pt x="11038" y="2604"/>
                </a:cubicBezTo>
                <a:cubicBezTo>
                  <a:pt x="11055" y="2636"/>
                  <a:pt x="11061" y="2665"/>
                  <a:pt x="11063" y="2704"/>
                </a:cubicBezTo>
                <a:cubicBezTo>
                  <a:pt x="11065" y="2756"/>
                  <a:pt x="11082" y="2784"/>
                  <a:pt x="11088" y="2828"/>
                </a:cubicBezTo>
                <a:cubicBezTo>
                  <a:pt x="11114" y="3025"/>
                  <a:pt x="11088" y="3571"/>
                  <a:pt x="11088" y="3373"/>
                </a:cubicBezTo>
                <a:cubicBezTo>
                  <a:pt x="11088" y="3290"/>
                  <a:pt x="11100" y="3226"/>
                  <a:pt x="11112" y="3150"/>
                </a:cubicBezTo>
                <a:cubicBezTo>
                  <a:pt x="11119" y="3109"/>
                  <a:pt x="11131" y="3088"/>
                  <a:pt x="11137" y="3051"/>
                </a:cubicBezTo>
                <a:cubicBezTo>
                  <a:pt x="11144" y="3007"/>
                  <a:pt x="11141" y="3004"/>
                  <a:pt x="11162" y="2977"/>
                </a:cubicBezTo>
                <a:cubicBezTo>
                  <a:pt x="11182" y="2952"/>
                  <a:pt x="11184" y="2945"/>
                  <a:pt x="11187" y="2902"/>
                </a:cubicBezTo>
                <a:cubicBezTo>
                  <a:pt x="11190" y="2847"/>
                  <a:pt x="11204" y="2869"/>
                  <a:pt x="11212" y="2828"/>
                </a:cubicBezTo>
                <a:cubicBezTo>
                  <a:pt x="11221" y="2781"/>
                  <a:pt x="11223" y="2753"/>
                  <a:pt x="11237" y="2729"/>
                </a:cubicBezTo>
                <a:cubicBezTo>
                  <a:pt x="11255" y="2699"/>
                  <a:pt x="11258" y="2701"/>
                  <a:pt x="11261" y="2654"/>
                </a:cubicBezTo>
                <a:cubicBezTo>
                  <a:pt x="11263" y="2610"/>
                  <a:pt x="11266" y="2605"/>
                  <a:pt x="11286" y="2580"/>
                </a:cubicBezTo>
                <a:cubicBezTo>
                  <a:pt x="11313" y="2547"/>
                  <a:pt x="11322" y="2555"/>
                  <a:pt x="11361" y="2530"/>
                </a:cubicBezTo>
                <a:cubicBezTo>
                  <a:pt x="11390" y="2511"/>
                  <a:pt x="11388" y="2508"/>
                  <a:pt x="11435" y="2505"/>
                </a:cubicBezTo>
                <a:cubicBezTo>
                  <a:pt x="11498" y="2501"/>
                  <a:pt x="11480" y="2522"/>
                  <a:pt x="11509" y="2555"/>
                </a:cubicBezTo>
                <a:cubicBezTo>
                  <a:pt x="11528" y="2576"/>
                  <a:pt x="11548" y="2583"/>
                  <a:pt x="11559" y="2629"/>
                </a:cubicBezTo>
                <a:cubicBezTo>
                  <a:pt x="11606" y="2826"/>
                  <a:pt x="11551" y="3107"/>
                  <a:pt x="11584" y="3274"/>
                </a:cubicBezTo>
                <a:cubicBezTo>
                  <a:pt x="11593" y="3321"/>
                  <a:pt x="11591" y="3332"/>
                  <a:pt x="11609" y="3373"/>
                </a:cubicBezTo>
                <a:cubicBezTo>
                  <a:pt x="11621" y="3401"/>
                  <a:pt x="11650" y="3458"/>
                  <a:pt x="11683" y="3473"/>
                </a:cubicBezTo>
                <a:cubicBezTo>
                  <a:pt x="11725" y="3493"/>
                  <a:pt x="11835" y="3473"/>
                  <a:pt x="11881" y="3473"/>
                </a:cubicBezTo>
                <a:cubicBezTo>
                  <a:pt x="11907" y="3394"/>
                  <a:pt x="11926" y="3438"/>
                  <a:pt x="12005" y="3398"/>
                </a:cubicBezTo>
                <a:cubicBezTo>
                  <a:pt x="12033" y="3384"/>
                  <a:pt x="12059" y="3365"/>
                  <a:pt x="12080" y="3349"/>
                </a:cubicBezTo>
                <a:cubicBezTo>
                  <a:pt x="12106" y="3330"/>
                  <a:pt x="12117" y="3327"/>
                  <a:pt x="12154" y="3299"/>
                </a:cubicBezTo>
                <a:cubicBezTo>
                  <a:pt x="12174" y="3284"/>
                  <a:pt x="12185" y="3289"/>
                  <a:pt x="12204" y="3274"/>
                </a:cubicBezTo>
              </a:path>
              <a:path w="4788" h="2010">
                <a:moveTo>
                  <a:pt x="12973" y="2555"/>
                </a:moveTo>
                <a:cubicBezTo>
                  <a:pt x="12964" y="2564"/>
                  <a:pt x="12931" y="2626"/>
                  <a:pt x="12923" y="2629"/>
                </a:cubicBezTo>
                <a:cubicBezTo>
                  <a:pt x="12907" y="2629"/>
                  <a:pt x="12890" y="2629"/>
                  <a:pt x="12874" y="2629"/>
                </a:cubicBezTo>
                <a:cubicBezTo>
                  <a:pt x="12867" y="2681"/>
                  <a:pt x="12857" y="2665"/>
                  <a:pt x="12849" y="2704"/>
                </a:cubicBezTo>
                <a:cubicBezTo>
                  <a:pt x="12838" y="2759"/>
                  <a:pt x="12829" y="2796"/>
                  <a:pt x="12824" y="2828"/>
                </a:cubicBezTo>
                <a:cubicBezTo>
                  <a:pt x="12816" y="2879"/>
                  <a:pt x="12807" y="2929"/>
                  <a:pt x="12799" y="2977"/>
                </a:cubicBezTo>
                <a:cubicBezTo>
                  <a:pt x="12788" y="3043"/>
                  <a:pt x="12785" y="3112"/>
                  <a:pt x="12774" y="3175"/>
                </a:cubicBezTo>
                <a:cubicBezTo>
                  <a:pt x="12766" y="3223"/>
                  <a:pt x="12797" y="3263"/>
                  <a:pt x="12799" y="3274"/>
                </a:cubicBezTo>
                <a:cubicBezTo>
                  <a:pt x="12806" y="3307"/>
                  <a:pt x="12817" y="3316"/>
                  <a:pt x="12824" y="3349"/>
                </a:cubicBezTo>
                <a:cubicBezTo>
                  <a:pt x="12839" y="3421"/>
                  <a:pt x="12824" y="3366"/>
                  <a:pt x="12874" y="3398"/>
                </a:cubicBezTo>
                <a:cubicBezTo>
                  <a:pt x="12895" y="3412"/>
                  <a:pt x="12945" y="3472"/>
                  <a:pt x="12948" y="3473"/>
                </a:cubicBezTo>
                <a:cubicBezTo>
                  <a:pt x="13034" y="3498"/>
                  <a:pt x="13198" y="3469"/>
                  <a:pt x="13246" y="3448"/>
                </a:cubicBezTo>
                <a:cubicBezTo>
                  <a:pt x="13284" y="3431"/>
                  <a:pt x="13334" y="3416"/>
                  <a:pt x="13370" y="3398"/>
                </a:cubicBezTo>
                <a:cubicBezTo>
                  <a:pt x="13420" y="3373"/>
                  <a:pt x="13425" y="3315"/>
                  <a:pt x="13444" y="3274"/>
                </a:cubicBezTo>
                <a:cubicBezTo>
                  <a:pt x="13468" y="3220"/>
                  <a:pt x="13471" y="3150"/>
                  <a:pt x="13494" y="3101"/>
                </a:cubicBezTo>
                <a:cubicBezTo>
                  <a:pt x="13512" y="3061"/>
                  <a:pt x="13557" y="2995"/>
                  <a:pt x="13568" y="2952"/>
                </a:cubicBezTo>
                <a:cubicBezTo>
                  <a:pt x="13584" y="2890"/>
                  <a:pt x="13607" y="2815"/>
                  <a:pt x="13618" y="2753"/>
                </a:cubicBezTo>
                <a:cubicBezTo>
                  <a:pt x="13630" y="2679"/>
                  <a:pt x="13624" y="2589"/>
                  <a:pt x="13593" y="2530"/>
                </a:cubicBezTo>
                <a:cubicBezTo>
                  <a:pt x="13573" y="2493"/>
                  <a:pt x="13563" y="2477"/>
                  <a:pt x="13543" y="2456"/>
                </a:cubicBezTo>
                <a:cubicBezTo>
                  <a:pt x="13522" y="2435"/>
                  <a:pt x="13516" y="2417"/>
                  <a:pt x="13469" y="2406"/>
                </a:cubicBezTo>
                <a:cubicBezTo>
                  <a:pt x="13397" y="2389"/>
                  <a:pt x="13281" y="2409"/>
                  <a:pt x="13246" y="2431"/>
                </a:cubicBezTo>
                <a:cubicBezTo>
                  <a:pt x="13214" y="2451"/>
                  <a:pt x="13215" y="2441"/>
                  <a:pt x="13171" y="2456"/>
                </a:cubicBezTo>
                <a:cubicBezTo>
                  <a:pt x="13137" y="2468"/>
                  <a:pt x="13132" y="2495"/>
                  <a:pt x="13097" y="2505"/>
                </a:cubicBezTo>
                <a:cubicBezTo>
                  <a:pt x="13054" y="2517"/>
                  <a:pt x="13050" y="2507"/>
                  <a:pt x="13022" y="2530"/>
                </a:cubicBezTo>
                <a:cubicBezTo>
                  <a:pt x="12989" y="2557"/>
                  <a:pt x="13014" y="2532"/>
                  <a:pt x="12998" y="2580"/>
                </a:cubicBezTo>
              </a:path>
              <a:path w="4788" h="2010">
                <a:moveTo>
                  <a:pt x="13519" y="2505"/>
                </a:moveTo>
                <a:cubicBezTo>
                  <a:pt x="13519" y="2538"/>
                  <a:pt x="13519" y="2571"/>
                  <a:pt x="13519" y="2604"/>
                </a:cubicBezTo>
                <a:cubicBezTo>
                  <a:pt x="13558" y="2617"/>
                  <a:pt x="13543" y="2624"/>
                  <a:pt x="13543" y="2679"/>
                </a:cubicBezTo>
                <a:cubicBezTo>
                  <a:pt x="13586" y="2679"/>
                  <a:pt x="13581" y="2669"/>
                  <a:pt x="13593" y="2704"/>
                </a:cubicBezTo>
                <a:cubicBezTo>
                  <a:pt x="13632" y="2714"/>
                  <a:pt x="13648" y="2729"/>
                  <a:pt x="13692" y="2729"/>
                </a:cubicBezTo>
                <a:cubicBezTo>
                  <a:pt x="13717" y="2729"/>
                  <a:pt x="13725" y="2729"/>
                  <a:pt x="13742" y="2729"/>
                </a:cubicBezTo>
                <a:cubicBezTo>
                  <a:pt x="13755" y="2689"/>
                  <a:pt x="13790" y="2704"/>
                  <a:pt x="13841" y="2704"/>
                </a:cubicBezTo>
                <a:cubicBezTo>
                  <a:pt x="13849" y="2704"/>
                  <a:pt x="13858" y="2704"/>
                  <a:pt x="13866" y="2704"/>
                </a:cubicBezTo>
              </a:path>
              <a:path w="4788" h="2010">
                <a:moveTo>
                  <a:pt x="12204" y="3324"/>
                </a:moveTo>
                <a:cubicBezTo>
                  <a:pt x="12212" y="3324"/>
                  <a:pt x="12221" y="3324"/>
                  <a:pt x="12229" y="3324"/>
                </a:cubicBezTo>
                <a:cubicBezTo>
                  <a:pt x="12229" y="3260"/>
                  <a:pt x="12237" y="3274"/>
                  <a:pt x="12303" y="3274"/>
                </a:cubicBezTo>
                <a:cubicBezTo>
                  <a:pt x="12303" y="3232"/>
                  <a:pt x="12293" y="3236"/>
                  <a:pt x="12328" y="3225"/>
                </a:cubicBezTo>
                <a:cubicBezTo>
                  <a:pt x="12341" y="3187"/>
                  <a:pt x="12353" y="3204"/>
                  <a:pt x="12353" y="3150"/>
                </a:cubicBezTo>
                <a:cubicBezTo>
                  <a:pt x="12353" y="3142"/>
                  <a:pt x="12353" y="3133"/>
                  <a:pt x="12353" y="3125"/>
                </a:cubicBezTo>
                <a:cubicBezTo>
                  <a:pt x="12414" y="3125"/>
                  <a:pt x="12427" y="3139"/>
                  <a:pt x="12427" y="3076"/>
                </a:cubicBezTo>
                <a:cubicBezTo>
                  <a:pt x="12450" y="3068"/>
                  <a:pt x="12466" y="3033"/>
                  <a:pt x="12477" y="3001"/>
                </a:cubicBezTo>
                <a:cubicBezTo>
                  <a:pt x="12477" y="2977"/>
                  <a:pt x="12477" y="2968"/>
                  <a:pt x="12477" y="2952"/>
                </a:cubicBezTo>
                <a:cubicBezTo>
                  <a:pt x="12502" y="2952"/>
                  <a:pt x="12526" y="2952"/>
                  <a:pt x="12551" y="2952"/>
                </a:cubicBezTo>
                <a:cubicBezTo>
                  <a:pt x="12564" y="2912"/>
                  <a:pt x="12563" y="2942"/>
                  <a:pt x="12576" y="2902"/>
                </a:cubicBezTo>
                <a:cubicBezTo>
                  <a:pt x="12611" y="2890"/>
                  <a:pt x="12601" y="2895"/>
                  <a:pt x="12601" y="2853"/>
                </a:cubicBezTo>
                <a:cubicBezTo>
                  <a:pt x="12643" y="2853"/>
                  <a:pt x="12639" y="2863"/>
                  <a:pt x="12650" y="2828"/>
                </a:cubicBezTo>
                <a:cubicBezTo>
                  <a:pt x="12690" y="2815"/>
                  <a:pt x="12660" y="2816"/>
                  <a:pt x="12700" y="2803"/>
                </a:cubicBezTo>
                <a:cubicBezTo>
                  <a:pt x="12701" y="2800"/>
                  <a:pt x="12722" y="2732"/>
                  <a:pt x="12725" y="2729"/>
                </a:cubicBezTo>
                <a:cubicBezTo>
                  <a:pt x="12733" y="2729"/>
                  <a:pt x="12742" y="2729"/>
                  <a:pt x="12750" y="2729"/>
                </a:cubicBezTo>
              </a:path>
              <a:path w="4788" h="2010">
                <a:moveTo>
                  <a:pt x="9897" y="3349"/>
                </a:moveTo>
                <a:cubicBezTo>
                  <a:pt x="9905" y="3349"/>
                  <a:pt x="9914" y="3349"/>
                  <a:pt x="9922" y="3349"/>
                </a:cubicBezTo>
                <a:cubicBezTo>
                  <a:pt x="9922" y="3297"/>
                  <a:pt x="9919" y="3299"/>
                  <a:pt x="9971" y="3299"/>
                </a:cubicBezTo>
                <a:cubicBezTo>
                  <a:pt x="9979" y="3299"/>
                  <a:pt x="9988" y="3299"/>
                  <a:pt x="9996" y="3299"/>
                </a:cubicBezTo>
                <a:cubicBezTo>
                  <a:pt x="9996" y="3247"/>
                  <a:pt x="9994" y="3249"/>
                  <a:pt x="10046" y="3249"/>
                </a:cubicBezTo>
                <a:cubicBezTo>
                  <a:pt x="10059" y="3212"/>
                  <a:pt x="10071" y="3228"/>
                  <a:pt x="10071" y="3175"/>
                </a:cubicBezTo>
                <a:cubicBezTo>
                  <a:pt x="10123" y="3175"/>
                  <a:pt x="10120" y="3177"/>
                  <a:pt x="10120" y="3125"/>
                </a:cubicBezTo>
                <a:cubicBezTo>
                  <a:pt x="10168" y="3125"/>
                  <a:pt x="10175" y="3130"/>
                  <a:pt x="10195" y="3101"/>
                </a:cubicBezTo>
                <a:cubicBezTo>
                  <a:pt x="10229" y="3090"/>
                  <a:pt x="10225" y="3066"/>
                  <a:pt x="10269" y="3051"/>
                </a:cubicBezTo>
                <a:cubicBezTo>
                  <a:pt x="10294" y="3051"/>
                  <a:pt x="10302" y="3051"/>
                  <a:pt x="10319" y="3051"/>
                </a:cubicBezTo>
                <a:cubicBezTo>
                  <a:pt x="10332" y="3011"/>
                  <a:pt x="10331" y="3041"/>
                  <a:pt x="10344" y="3001"/>
                </a:cubicBezTo>
                <a:cubicBezTo>
                  <a:pt x="10389" y="2986"/>
                  <a:pt x="10369" y="2977"/>
                  <a:pt x="10443" y="2977"/>
                </a:cubicBezTo>
                <a:cubicBezTo>
                  <a:pt x="10456" y="2937"/>
                  <a:pt x="10455" y="2967"/>
                  <a:pt x="10468" y="2927"/>
                </a:cubicBezTo>
                <a:cubicBezTo>
                  <a:pt x="10502" y="2915"/>
                  <a:pt x="10492" y="2919"/>
                  <a:pt x="10492" y="2877"/>
                </a:cubicBezTo>
                <a:cubicBezTo>
                  <a:pt x="10534" y="2877"/>
                  <a:pt x="10530" y="2887"/>
                  <a:pt x="10542" y="2853"/>
                </a:cubicBezTo>
                <a:cubicBezTo>
                  <a:pt x="10577" y="2841"/>
                  <a:pt x="10567" y="2846"/>
                  <a:pt x="10567" y="2803"/>
                </a:cubicBezTo>
                <a:cubicBezTo>
                  <a:pt x="10606" y="2790"/>
                  <a:pt x="10577" y="2791"/>
                  <a:pt x="10616" y="2778"/>
                </a:cubicBezTo>
                <a:cubicBezTo>
                  <a:pt x="10629" y="2739"/>
                  <a:pt x="10628" y="2768"/>
                  <a:pt x="10641" y="2729"/>
                </a:cubicBezTo>
                <a:cubicBezTo>
                  <a:pt x="10666" y="2729"/>
                  <a:pt x="10674" y="2729"/>
                  <a:pt x="10666" y="270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5589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Comic Sans MS"/>
              </a:rPr>
              <a:t>Она поможет нам понять что же такое масштаб и как им пользоватьс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86760" y="1916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443640" y="184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76720" y="198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59280" y="234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М   5 : 1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43280" y="342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М  500 : 1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19280" y="4797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М  100 000 000 : 1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4200" y="692280"/>
            <a:ext cx="806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Если размеры на рисунке  больше, чем размеры в действительности, то масштаб записывают так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286760" y="1916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443640" y="184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76720" y="198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08000" y="1341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Масштаб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    5 : 1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50160" y="2492280"/>
            <a:ext cx="61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показывает, что размеры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увеличены в  5 раз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86760" y="1916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443640" y="184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76720" y="198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8000" y="1341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Масштаб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    500 : 1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50160" y="2492280"/>
            <a:ext cx="61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показывает, что размеры 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увеличены в  500 раз.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286760" y="1916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43640" y="1844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76720" y="198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92360" y="1268280"/>
            <a:ext cx="1871640" cy="5814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1 : 100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92720" y="1268280"/>
            <a:ext cx="2087640" cy="5814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1 : 500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40464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24000" y="476280"/>
            <a:ext cx="47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Ответьте на вопросы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03280" y="3068640"/>
            <a:ext cx="7345440" cy="947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В каком из масштабов карта более подробная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79600" y="2492280"/>
            <a:ext cx="719604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Какой  из этих масштабов крупнее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32000" y="3500280"/>
            <a:ext cx="7056360" cy="20224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Во сколько раз расстояние на местности больше, чем на плане, если местность изображена в масштабе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 : 100 ? ;    1 : 500 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2492280"/>
            <a:ext cx="647640" cy="503280"/>
          </a:xfrm>
          <a:custGeom>
            <a:avLst/>
            <a:gdLst>
              <a:gd name="textAreaLeft" fmla="*/ 152280 w 647640"/>
              <a:gd name="textAreaRight" fmla="*/ 495000 w 64764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dcb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9640" y="3068640"/>
            <a:ext cx="647640" cy="503280"/>
          </a:xfrm>
          <a:custGeom>
            <a:avLst/>
            <a:gdLst>
              <a:gd name="textAreaLeft" fmla="*/ 152280 w 647640"/>
              <a:gd name="textAreaRight" fmla="*/ 495000 w 64764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dcb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3645000"/>
            <a:ext cx="647640" cy="503280"/>
          </a:xfrm>
          <a:custGeom>
            <a:avLst/>
            <a:gdLst>
              <a:gd name="textAreaLeft" fmla="*/ 152280 w 647640"/>
              <a:gd name="textAreaRight" fmla="*/ 495000 w 64764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dcb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635040" y="1197000"/>
            <a:ext cx="7622280" cy="3839040"/>
            <a:chOff x="635040" y="1197000"/>
            <a:chExt cx="7622280" cy="3839040"/>
          </a:xfrm>
        </p:grpSpPr>
        <p:grpSp>
          <p:nvGrpSpPr>
            <p:cNvPr id="413" name=""/>
            <p:cNvGrpSpPr/>
            <p:nvPr/>
          </p:nvGrpSpPr>
          <p:grpSpPr>
            <a:xfrm>
              <a:off x="635040" y="1197000"/>
              <a:ext cx="7622280" cy="3839040"/>
              <a:chOff x="635040" y="1197000"/>
              <a:chExt cx="7622280" cy="383904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718920" y="1197000"/>
                <a:ext cx="7538400" cy="3638520"/>
                <a:chOff x="718920" y="1197000"/>
                <a:chExt cx="7538400" cy="36385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767880" y="1204920"/>
                  <a:ext cx="7489440" cy="35272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718920" y="1197000"/>
                  <a:ext cx="7536960" cy="3638520"/>
                  <a:chOff x="718920" y="1197000"/>
                  <a:chExt cx="7536960" cy="363852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718920" y="1900080"/>
                    <a:ext cx="148896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938" h="1849">
                        <a:moveTo>
                          <a:pt x="27" y="230"/>
                        </a:moveTo>
                        <a:cubicBezTo>
                          <a:pt x="52" y="206"/>
                          <a:pt x="111" y="121"/>
                          <a:pt x="182" y="85"/>
                        </a:cubicBezTo>
                        <a:cubicBezTo>
                          <a:pt x="253" y="49"/>
                          <a:pt x="357" y="0"/>
                          <a:pt x="453" y="12"/>
                        </a:cubicBezTo>
                        <a:cubicBezTo>
                          <a:pt x="550" y="24"/>
                          <a:pt x="686" y="97"/>
                          <a:pt x="764" y="158"/>
                        </a:cubicBezTo>
                        <a:cubicBezTo>
                          <a:pt x="764" y="158"/>
                          <a:pt x="899" y="279"/>
                          <a:pt x="918" y="376"/>
                        </a:cubicBezTo>
                        <a:cubicBezTo>
                          <a:pt x="938" y="473"/>
                          <a:pt x="918" y="637"/>
                          <a:pt x="880" y="739"/>
                        </a:cubicBezTo>
                        <a:cubicBezTo>
                          <a:pt x="841" y="842"/>
                          <a:pt x="756" y="899"/>
                          <a:pt x="718" y="989"/>
                        </a:cubicBezTo>
                        <a:cubicBezTo>
                          <a:pt x="679" y="1080"/>
                          <a:pt x="720" y="1242"/>
                          <a:pt x="702" y="1333"/>
                        </a:cubicBezTo>
                        <a:cubicBezTo>
                          <a:pt x="684" y="1424"/>
                          <a:pt x="664" y="1485"/>
                          <a:pt x="609" y="1538"/>
                        </a:cubicBezTo>
                        <a:cubicBezTo>
                          <a:pt x="564" y="1599"/>
                          <a:pt x="446" y="1630"/>
                          <a:pt x="375" y="1648"/>
                        </a:cubicBezTo>
                        <a:cubicBezTo>
                          <a:pt x="304" y="1666"/>
                          <a:pt x="240" y="1654"/>
                          <a:pt x="182" y="1648"/>
                        </a:cubicBezTo>
                        <a:cubicBezTo>
                          <a:pt x="124" y="1642"/>
                          <a:pt x="52" y="1849"/>
                          <a:pt x="26" y="1613"/>
                        </a:cubicBezTo>
                        <a:cubicBezTo>
                          <a:pt x="0" y="1376"/>
                          <a:pt x="27" y="518"/>
                          <a:pt x="27" y="230"/>
                        </a:cubicBez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66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4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92240" y="1197000"/>
                    <a:ext cx="266364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1920240" y="3130560"/>
                    <a:ext cx="583200" cy="666720"/>
                    <a:chOff x="1920240" y="3130560"/>
                    <a:chExt cx="583200" cy="66672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flipH="1">
                      <a:off x="1920240" y="3147840"/>
                      <a:ext cx="71280" cy="649440"/>
                    </a:xfrm>
                    <a:prstGeom prst="line">
                      <a:avLst/>
                    </a:prstGeom>
                    <a:ln w="38160">
                      <a:solidFill>
                        <a:srgbClr val="f8f8f8"/>
                      </a:solidFill>
                      <a:miter/>
                      <a:headEnd len="med" type="oval" w="med"/>
                      <a:tail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rot="5638800">
                      <a:off x="2098800" y="3039840"/>
                      <a:ext cx="287280" cy="502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3300"/>
                    </a:solidFill>
                    <a:ln w="57240">
                      <a:solidFill>
                        <a:srgbClr val="f8f8f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22" name=""/>
              <p:cNvSpPr/>
              <p:nvPr/>
            </p:nvSpPr>
            <p:spPr>
              <a:xfrm rot="20671800">
                <a:off x="3073320" y="2599920"/>
                <a:ext cx="158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8 см</a:t>
                </a:r>
                <a:endParaRPr b="0" lang="en-US" sz="2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776240" y="3868560"/>
                <a:ext cx="1295280" cy="11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лагерь туристов</a:t>
                </a:r>
                <a:endParaRPr b="0" lang="en-US" sz="2000" spc="-1" strike="noStrike">
                  <a:solidFill>
                    <a:srgbClr val="f8f8f8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9272600">
                <a:off x="685080" y="2774520"/>
                <a:ext cx="1542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озеро Глубокое</a:t>
                </a:r>
                <a:endParaRPr b="0" lang="en-US" sz="20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68960" y="2716200"/>
                <a:ext cx="136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лес</a:t>
                </a:r>
                <a:endParaRPr b="0" lang="en-US" sz="20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 flipV="1">
              <a:off x="1979640" y="2707920"/>
              <a:ext cx="367200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258920" y="5084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см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5000 = 40 000 см = 400 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32720" y="4221000"/>
            <a:ext cx="1511280" cy="459720"/>
          </a:xfrm>
          <a:prstGeom prst="rect">
            <a:avLst/>
          </a:prstGeom>
          <a:solidFill>
            <a:srgbClr val="f8f8f8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바탕"/>
              </a:rPr>
              <a:t>1 : 5 0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2560" y="26028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Определите расстояние от стоянки туристов до леса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20560800">
            <a:off x="3059280" y="3168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0 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042920" y="1268280"/>
            <a:ext cx="360360" cy="433440"/>
            <a:chOff x="1042920" y="1268280"/>
            <a:chExt cx="360360" cy="433440"/>
          </a:xfrm>
        </p:grpSpPr>
        <p:sp>
          <p:nvSpPr>
            <p:cNvPr id="432" name=""/>
            <p:cNvSpPr/>
            <p:nvPr/>
          </p:nvSpPr>
          <p:spPr>
            <a:xfrm>
              <a:off x="1042920" y="1268280"/>
              <a:ext cx="360360" cy="216000"/>
            </a:xfrm>
            <a:prstGeom prst="triangle">
              <a:avLst>
                <a:gd name="adj" fmla="val 50000"/>
              </a:avLst>
            </a:prstGeom>
            <a:solidFill>
              <a:srgbClr val="f8d34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42920" y="1484280"/>
              <a:ext cx="360360" cy="217440"/>
            </a:xfrm>
            <a:prstGeom prst="rect">
              <a:avLst/>
            </a:prstGeom>
            <a:solidFill>
              <a:srgbClr val="f8d34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V="1">
            <a:off x="755640" y="1773360"/>
            <a:ext cx="1368360" cy="712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195640" y="1483920"/>
            <a:ext cx="1152360" cy="2890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48000" y="1197000"/>
            <a:ext cx="1295280" cy="2872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7" name="Tree"/>
          <p:cNvSpPr/>
          <p:nvPr/>
        </p:nvSpPr>
        <p:spPr>
          <a:xfrm>
            <a:off x="3276720" y="1484280"/>
            <a:ext cx="328320" cy="5446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8" name="Tree"/>
          <p:cNvSpPr/>
          <p:nvPr/>
        </p:nvSpPr>
        <p:spPr>
          <a:xfrm>
            <a:off x="2556000" y="1557360"/>
            <a:ext cx="328320" cy="544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9" name="Tree"/>
          <p:cNvSpPr/>
          <p:nvPr/>
        </p:nvSpPr>
        <p:spPr>
          <a:xfrm>
            <a:off x="4478400" y="1197000"/>
            <a:ext cx="328680" cy="544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0" name="Tree"/>
          <p:cNvSpPr/>
          <p:nvPr/>
        </p:nvSpPr>
        <p:spPr>
          <a:xfrm>
            <a:off x="3851280" y="1413000"/>
            <a:ext cx="328680" cy="5443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16000" y="1268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анция  Озерное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19600" y="3141720"/>
            <a:ext cx="3524400" cy="1582560"/>
          </a:xfrm>
          <a:custGeom>
            <a:avLst/>
            <a:gdLst/>
            <a:ahLst/>
            <a:rect l="l" t="t" r="r" b="b"/>
            <a:pathLst>
              <a:path w="2220" h="997">
                <a:moveTo>
                  <a:pt x="427" y="277"/>
                </a:moveTo>
                <a:lnTo>
                  <a:pt x="587" y="90"/>
                </a:lnTo>
                <a:lnTo>
                  <a:pt x="905" y="0"/>
                </a:lnTo>
                <a:lnTo>
                  <a:pt x="1495" y="45"/>
                </a:lnTo>
                <a:lnTo>
                  <a:pt x="1857" y="0"/>
                </a:lnTo>
                <a:lnTo>
                  <a:pt x="2084" y="45"/>
                </a:lnTo>
                <a:lnTo>
                  <a:pt x="2175" y="136"/>
                </a:lnTo>
                <a:lnTo>
                  <a:pt x="2220" y="181"/>
                </a:lnTo>
                <a:lnTo>
                  <a:pt x="2220" y="680"/>
                </a:lnTo>
                <a:lnTo>
                  <a:pt x="1268" y="680"/>
                </a:lnTo>
                <a:lnTo>
                  <a:pt x="1268" y="997"/>
                </a:lnTo>
                <a:lnTo>
                  <a:pt x="134" y="997"/>
                </a:lnTo>
                <a:lnTo>
                  <a:pt x="19" y="781"/>
                </a:lnTo>
                <a:cubicBezTo>
                  <a:pt x="0" y="709"/>
                  <a:pt x="8" y="620"/>
                  <a:pt x="19" y="565"/>
                </a:cubicBezTo>
                <a:cubicBezTo>
                  <a:pt x="26" y="512"/>
                  <a:pt x="50" y="498"/>
                  <a:pt x="88" y="453"/>
                </a:cubicBezTo>
                <a:cubicBezTo>
                  <a:pt x="115" y="404"/>
                  <a:pt x="166" y="363"/>
                  <a:pt x="211" y="333"/>
                </a:cubicBezTo>
                <a:cubicBezTo>
                  <a:pt x="256" y="303"/>
                  <a:pt x="320" y="271"/>
                  <a:pt x="361" y="272"/>
                </a:cubicBezTo>
                <a:lnTo>
                  <a:pt x="427" y="277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508720" y="35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4" name="plant"/>
          <p:cNvSpPr/>
          <p:nvPr/>
        </p:nvSpPr>
        <p:spPr>
          <a:xfrm>
            <a:off x="7667640" y="3141720"/>
            <a:ext cx="257040" cy="2570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5" name="plant"/>
          <p:cNvSpPr/>
          <p:nvPr/>
        </p:nvSpPr>
        <p:spPr>
          <a:xfrm>
            <a:off x="7308720" y="2997360"/>
            <a:ext cx="257400" cy="2570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6" name="plant"/>
          <p:cNvSpPr/>
          <p:nvPr/>
        </p:nvSpPr>
        <p:spPr>
          <a:xfrm>
            <a:off x="7956720" y="3213000"/>
            <a:ext cx="257040" cy="2574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940360" y="4221000"/>
            <a:ext cx="2303640" cy="459720"/>
          </a:xfrm>
          <a:prstGeom prst="rect">
            <a:avLst/>
          </a:prstGeom>
          <a:solidFill>
            <a:srgbClr val="f8f8f8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 1 : 5 0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1484280"/>
            <a:ext cx="172728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1 : 2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547640" y="692280"/>
            <a:ext cx="68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Объясните, что показывает масштаб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42920" y="1484280"/>
            <a:ext cx="647640" cy="503280"/>
          </a:xfrm>
          <a:custGeom>
            <a:avLst/>
            <a:gdLst>
              <a:gd name="textAreaLeft" fmla="*/ 152280 w 647640"/>
              <a:gd name="textAreaRight" fmla="*/ 495000 w 64764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dcb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42920" y="2421000"/>
            <a:ext cx="647640" cy="503280"/>
          </a:xfrm>
          <a:custGeom>
            <a:avLst/>
            <a:gdLst>
              <a:gd name="textAreaLeft" fmla="*/ 152280 w 647640"/>
              <a:gd name="textAreaRight" fmla="*/ 495000 w 64764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dcb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042920" y="4581360"/>
            <a:ext cx="647640" cy="503280"/>
          </a:xfrm>
          <a:custGeom>
            <a:avLst/>
            <a:gdLst>
              <a:gd name="textAreaLeft" fmla="*/ 152280 w 647640"/>
              <a:gd name="textAreaRight" fmla="*/ 495000 w 64764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dcb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42920" y="3429000"/>
            <a:ext cx="647640" cy="503280"/>
          </a:xfrm>
          <a:custGeom>
            <a:avLst/>
            <a:gdLst>
              <a:gd name="textAreaLeft" fmla="*/ 152280 w 647640"/>
              <a:gd name="textAreaRight" fmla="*/ 495000 w 64764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dcb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340000" y="4581360"/>
            <a:ext cx="1944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500 000 : 1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340000" y="3429000"/>
            <a:ext cx="172728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50 : 1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40000" y="2421000"/>
            <a:ext cx="230328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1 : 200 0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1280" y="40464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340000" y="1484280"/>
            <a:ext cx="6335640" cy="825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Чему равен масштаб карты, если детали на ней уменьшены в 30 раз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84360" y="692280"/>
            <a:ext cx="47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Ответьте на вопросы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42920" y="1484280"/>
            <a:ext cx="647640" cy="503280"/>
          </a:xfrm>
          <a:custGeom>
            <a:avLst/>
            <a:gdLst>
              <a:gd name="textAreaLeft" fmla="*/ 152280 w 647640"/>
              <a:gd name="textAreaRight" fmla="*/ 495000 w 64764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dcb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42920" y="3176640"/>
            <a:ext cx="647640" cy="503280"/>
          </a:xfrm>
          <a:custGeom>
            <a:avLst/>
            <a:gdLst>
              <a:gd name="textAreaLeft" fmla="*/ 152280 w 647640"/>
              <a:gd name="textAreaRight" fmla="*/ 495000 w 64764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dcb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42920" y="4653000"/>
            <a:ext cx="647640" cy="503280"/>
          </a:xfrm>
          <a:custGeom>
            <a:avLst/>
            <a:gdLst>
              <a:gd name="textAreaLeft" fmla="*/ 152280 w 647640"/>
              <a:gd name="textAreaRight" fmla="*/ 495000 w 64764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dcb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1280" y="40464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68360" y="2998800"/>
            <a:ext cx="6336000" cy="825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Чему равен масштаб карты, если детали на ней уменьшены в 300 раз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68360" y="4437000"/>
            <a:ext cx="6336000" cy="825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Чему равен масштаб карты, если детали на ней увеличены в 50 раз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708360" y="2349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1 : 30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35280" y="3789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1 : 300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64000" y="544500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50 : 1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706920" y="364500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11280" y="40464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0920" y="5300640"/>
            <a:ext cx="1727280" cy="520560"/>
          </a:xfrm>
          <a:prstGeom prst="rect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30 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1640" y="5300640"/>
            <a:ext cx="1727280" cy="520560"/>
          </a:xfrm>
          <a:prstGeom prst="rect">
            <a:avLst/>
          </a:prstGeom>
          <a:solidFill>
            <a:srgbClr val="51f2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 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443640" y="5300640"/>
            <a:ext cx="1727280" cy="520560"/>
          </a:xfrm>
          <a:prstGeom prst="rect">
            <a:avLst/>
          </a:prstGeom>
          <a:solidFill>
            <a:srgbClr val="f8f8f8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м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06560" y="1844640"/>
            <a:ext cx="6335640" cy="1252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Длина детали на чертеже 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см. Чему равна длина детали в действительности, если масштаб равен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914560" y="3860640"/>
            <a:ext cx="172728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 : 1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627280" y="1052640"/>
            <a:ext cx="47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Ответьте на вопросы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651640" y="3259080"/>
            <a:ext cx="2232000" cy="1249200"/>
            <a:chOff x="5651640" y="3259080"/>
            <a:chExt cx="2232000" cy="1249200"/>
          </a:xfrm>
        </p:grpSpPr>
        <p:sp>
          <p:nvSpPr>
            <p:cNvPr id="480" name=""/>
            <p:cNvSpPr/>
            <p:nvPr/>
          </p:nvSpPr>
          <p:spPr>
            <a:xfrm>
              <a:off x="5723280" y="4003560"/>
              <a:ext cx="2160360" cy="504720"/>
            </a:xfrm>
            <a:prstGeom prst="plus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51640" y="3690720"/>
              <a:ext cx="2232000" cy="2556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83640" y="32590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6 см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2700360" y="476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Цв</a:t>
            </a:r>
            <a:r>
              <a:rPr b="0" lang="en-US" sz="3200" spc="-1" strike="noStrike">
                <a:solidFill>
                  <a:srgbClr val="51f200"/>
                </a:solidFill>
                <a:latin typeface="Comic Sans MS"/>
              </a:rPr>
              <a:t>етн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ой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дик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та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н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1280" y="40464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79640" y="5013360"/>
            <a:ext cx="1727280" cy="520560"/>
          </a:xfrm>
          <a:prstGeom prst="rect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2 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40360" y="5013360"/>
            <a:ext cx="1726920" cy="520560"/>
          </a:xfrm>
          <a:prstGeom prst="rect">
            <a:avLst/>
          </a:prstGeom>
          <a:solidFill>
            <a:srgbClr val="51f2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 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372360" y="5013360"/>
            <a:ext cx="1726920" cy="520560"/>
          </a:xfrm>
          <a:prstGeom prst="rect">
            <a:avLst/>
          </a:prstGeom>
          <a:solidFill>
            <a:srgbClr val="f8f8f8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35280" y="836640"/>
            <a:ext cx="6335640" cy="1252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Длина детали на чертеже 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см. Чему равна длина детали в действительности, если масштаб равен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43280" y="3573360"/>
            <a:ext cx="172728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2 : 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508720" y="2421000"/>
            <a:ext cx="2232000" cy="1249200"/>
            <a:chOff x="5508720" y="2421000"/>
            <a:chExt cx="2232000" cy="1249200"/>
          </a:xfrm>
        </p:grpSpPr>
        <p:sp>
          <p:nvSpPr>
            <p:cNvPr id="492" name=""/>
            <p:cNvSpPr/>
            <p:nvPr/>
          </p:nvSpPr>
          <p:spPr>
            <a:xfrm>
              <a:off x="5580360" y="3165480"/>
              <a:ext cx="2160360" cy="504720"/>
            </a:xfrm>
            <a:prstGeom prst="plus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08720" y="2852640"/>
              <a:ext cx="2232000" cy="2556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0720" y="242100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6 см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0464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5013360"/>
            <a:ext cx="1727280" cy="520560"/>
          </a:xfrm>
          <a:prstGeom prst="rect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40360" y="5013360"/>
            <a:ext cx="1726920" cy="520560"/>
          </a:xfrm>
          <a:prstGeom prst="rect">
            <a:avLst/>
          </a:prstGeom>
          <a:solidFill>
            <a:srgbClr val="51f2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372360" y="5013360"/>
            <a:ext cx="1726920" cy="520560"/>
          </a:xfrm>
          <a:prstGeom prst="rect">
            <a:avLst/>
          </a:prstGeom>
          <a:solidFill>
            <a:srgbClr val="f8f8f8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м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08000" y="1268280"/>
            <a:ext cx="633600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Длина детали в действительности 2 см. Чему равна длина детали на чертеже, если масштаб равен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43280" y="3573360"/>
            <a:ext cx="172728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2 : 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580000" y="2492280"/>
            <a:ext cx="2305080" cy="1441440"/>
            <a:chOff x="5580000" y="2492280"/>
            <a:chExt cx="2305080" cy="1441440"/>
          </a:xfrm>
        </p:grpSpPr>
        <p:sp>
          <p:nvSpPr>
            <p:cNvPr id="503" name=""/>
            <p:cNvSpPr/>
            <p:nvPr/>
          </p:nvSpPr>
          <p:spPr>
            <a:xfrm>
              <a:off x="5580000" y="3429000"/>
              <a:ext cx="2160720" cy="504720"/>
            </a:xfrm>
            <a:prstGeom prst="plus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5580000" y="2492280"/>
              <a:ext cx="2305080" cy="459720"/>
              <a:chOff x="5580000" y="2492280"/>
              <a:chExt cx="2305080" cy="459720"/>
            </a:xfrm>
          </p:grpSpPr>
          <p:sp>
            <p:nvSpPr>
              <p:cNvPr id="505" name=""/>
              <p:cNvSpPr/>
              <p:nvPr/>
            </p:nvSpPr>
            <p:spPr>
              <a:xfrm>
                <a:off x="5580000" y="2924280"/>
                <a:ext cx="2305080" cy="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12000" y="2492280"/>
                <a:ext cx="9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2 см</a:t>
                </a: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66920" y="692280"/>
            <a:ext cx="655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1) Отношением называется...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2) Отношение показывает во сколько раз  ....  или ...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472428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Ответ: масса мыши больше массы слона в 50 раз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2781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Масса мыши 200 грамм, а масса слона 4 тонны. Чья масса больше и во сколько раз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4259520" cy="695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24720" y="4941720"/>
            <a:ext cx="1158840" cy="12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40464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79640" y="5013360"/>
            <a:ext cx="1727280" cy="520560"/>
          </a:xfrm>
          <a:prstGeom prst="rect">
            <a:avLst/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0 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40360" y="5013360"/>
            <a:ext cx="1726920" cy="520560"/>
          </a:xfrm>
          <a:prstGeom prst="rect">
            <a:avLst/>
          </a:prstGeom>
          <a:solidFill>
            <a:srgbClr val="51f2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72360" y="5013360"/>
            <a:ext cx="1726920" cy="520560"/>
          </a:xfrm>
          <a:prstGeom prst="rect">
            <a:avLst/>
          </a:prstGeom>
          <a:solidFill>
            <a:srgbClr val="f8f8f8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м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1197000"/>
            <a:ext cx="633600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Длина детали в действительности 2 см. Чему равна длина детали на чертеже, если масштаб равен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43280" y="3573360"/>
            <a:ext cx="172728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 : 5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580000" y="2492280"/>
            <a:ext cx="2305080" cy="1441440"/>
            <a:chOff x="5580000" y="2492280"/>
            <a:chExt cx="2305080" cy="1441440"/>
          </a:xfrm>
        </p:grpSpPr>
        <p:sp>
          <p:nvSpPr>
            <p:cNvPr id="515" name=""/>
            <p:cNvSpPr/>
            <p:nvPr/>
          </p:nvSpPr>
          <p:spPr>
            <a:xfrm>
              <a:off x="5580000" y="3429000"/>
              <a:ext cx="2160720" cy="504720"/>
            </a:xfrm>
            <a:prstGeom prst="plus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5580000" y="2492280"/>
              <a:ext cx="2305080" cy="459720"/>
              <a:chOff x="5580000" y="2492280"/>
              <a:chExt cx="2305080" cy="459720"/>
            </a:xfrm>
          </p:grpSpPr>
          <p:sp>
            <p:nvSpPr>
              <p:cNvPr id="517" name=""/>
              <p:cNvSpPr/>
              <p:nvPr/>
            </p:nvSpPr>
            <p:spPr>
              <a:xfrm>
                <a:off x="5580000" y="2924280"/>
                <a:ext cx="2305080" cy="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12000" y="2492280"/>
                <a:ext cx="9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2 см</a:t>
                </a:r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396" h="21600">
                <a:moveTo>
                  <a:pt x="21692" y="3794"/>
                </a:moveTo>
                <a:lnTo>
                  <a:pt x="35705" y="10800"/>
                </a:lnTo>
                <a:lnTo>
                  <a:pt x="21692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692360" y="2190600"/>
            <a:ext cx="5153040" cy="2476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724040" y="4660920"/>
            <a:ext cx="1330200" cy="768240"/>
          </a:xfrm>
          <a:custGeom>
            <a:avLst/>
            <a:gdLst/>
            <a:ahLst/>
            <a:rect l="l" t="t" r="r" b="b"/>
            <a:pathLst>
              <a:path w="3697" h="2134">
                <a:moveTo>
                  <a:pt x="5358" y="13221"/>
                </a:moveTo>
                <a:cubicBezTo>
                  <a:pt x="5387" y="13280"/>
                  <a:pt x="5386" y="13259"/>
                  <a:pt x="5407" y="13320"/>
                </a:cubicBezTo>
                <a:cubicBezTo>
                  <a:pt x="5431" y="13389"/>
                  <a:pt x="5459" y="13414"/>
                  <a:pt x="5507" y="13469"/>
                </a:cubicBezTo>
                <a:cubicBezTo>
                  <a:pt x="5543" y="13510"/>
                  <a:pt x="5508" y="13517"/>
                  <a:pt x="5531" y="13593"/>
                </a:cubicBezTo>
                <a:cubicBezTo>
                  <a:pt x="5543" y="13632"/>
                  <a:pt x="5574" y="13680"/>
                  <a:pt x="5581" y="13717"/>
                </a:cubicBezTo>
                <a:cubicBezTo>
                  <a:pt x="5592" y="13774"/>
                  <a:pt x="5598" y="13835"/>
                  <a:pt x="5606" y="13891"/>
                </a:cubicBezTo>
                <a:cubicBezTo>
                  <a:pt x="5615" y="13953"/>
                  <a:pt x="5629" y="14006"/>
                  <a:pt x="5631" y="14064"/>
                </a:cubicBezTo>
                <a:cubicBezTo>
                  <a:pt x="5634" y="14144"/>
                  <a:pt x="5647" y="14211"/>
                  <a:pt x="5655" y="14288"/>
                </a:cubicBezTo>
                <a:cubicBezTo>
                  <a:pt x="5672" y="14442"/>
                  <a:pt x="5678" y="14720"/>
                  <a:pt x="5631" y="14833"/>
                </a:cubicBezTo>
                <a:cubicBezTo>
                  <a:pt x="5605" y="14896"/>
                  <a:pt x="5608" y="14910"/>
                  <a:pt x="5556" y="14957"/>
                </a:cubicBezTo>
                <a:cubicBezTo>
                  <a:pt x="5527" y="14983"/>
                  <a:pt x="5522" y="15005"/>
                  <a:pt x="5507" y="15056"/>
                </a:cubicBezTo>
                <a:cubicBezTo>
                  <a:pt x="5468" y="15062"/>
                  <a:pt x="5455" y="15086"/>
                  <a:pt x="5432" y="15081"/>
                </a:cubicBezTo>
                <a:cubicBezTo>
                  <a:pt x="5418" y="15078"/>
                  <a:pt x="5350" y="15069"/>
                  <a:pt x="5333" y="15056"/>
                </a:cubicBezTo>
                <a:cubicBezTo>
                  <a:pt x="5302" y="15033"/>
                  <a:pt x="5273" y="14966"/>
                  <a:pt x="5259" y="14932"/>
                </a:cubicBezTo>
                <a:cubicBezTo>
                  <a:pt x="5231" y="14864"/>
                  <a:pt x="5183" y="14823"/>
                  <a:pt x="5159" y="14759"/>
                </a:cubicBezTo>
                <a:cubicBezTo>
                  <a:pt x="5141" y="14713"/>
                  <a:pt x="5129" y="14698"/>
                  <a:pt x="5110" y="14660"/>
                </a:cubicBezTo>
              </a:path>
              <a:path w="3697" h="2134">
                <a:moveTo>
                  <a:pt x="5854" y="13791"/>
                </a:moveTo>
                <a:cubicBezTo>
                  <a:pt x="5854" y="13896"/>
                  <a:pt x="5866" y="13991"/>
                  <a:pt x="5879" y="14089"/>
                </a:cubicBezTo>
                <a:cubicBezTo>
                  <a:pt x="5892" y="14189"/>
                  <a:pt x="5919" y="14243"/>
                  <a:pt x="5928" y="14337"/>
                </a:cubicBezTo>
                <a:cubicBezTo>
                  <a:pt x="5937" y="14431"/>
                  <a:pt x="5975" y="14473"/>
                  <a:pt x="6003" y="14560"/>
                </a:cubicBezTo>
                <a:cubicBezTo>
                  <a:pt x="6022" y="14621"/>
                  <a:pt x="5985" y="14654"/>
                  <a:pt x="6028" y="14709"/>
                </a:cubicBezTo>
                <a:cubicBezTo>
                  <a:pt x="6061" y="14751"/>
                  <a:pt x="6026" y="14798"/>
                  <a:pt x="6052" y="14833"/>
                </a:cubicBezTo>
                <a:cubicBezTo>
                  <a:pt x="6069" y="14857"/>
                  <a:pt x="6077" y="14831"/>
                  <a:pt x="6077" y="14883"/>
                </a:cubicBezTo>
              </a:path>
              <a:path w="3697" h="2134">
                <a:moveTo>
                  <a:pt x="4787" y="14089"/>
                </a:moveTo>
                <a:cubicBezTo>
                  <a:pt x="4787" y="13901"/>
                  <a:pt x="4716" y="13555"/>
                  <a:pt x="4812" y="13395"/>
                </a:cubicBezTo>
                <a:cubicBezTo>
                  <a:pt x="4837" y="13352"/>
                  <a:pt x="4895" y="13325"/>
                  <a:pt x="4936" y="13295"/>
                </a:cubicBezTo>
                <a:cubicBezTo>
                  <a:pt x="4967" y="13272"/>
                  <a:pt x="4968" y="13271"/>
                  <a:pt x="5035" y="13271"/>
                </a:cubicBezTo>
                <a:cubicBezTo>
                  <a:pt x="5337" y="13271"/>
                  <a:pt x="6160" y="13423"/>
                  <a:pt x="6424" y="13246"/>
                </a:cubicBezTo>
                <a:cubicBezTo>
                  <a:pt x="6481" y="13208"/>
                  <a:pt x="6519" y="13094"/>
                  <a:pt x="6548" y="13072"/>
                </a:cubicBezTo>
                <a:cubicBezTo>
                  <a:pt x="6576" y="13044"/>
                  <a:pt x="6590" y="13035"/>
                  <a:pt x="6623" y="13047"/>
                </a:cubicBezTo>
                <a:cubicBezTo>
                  <a:pt x="6623" y="13014"/>
                  <a:pt x="6623" y="12981"/>
                  <a:pt x="6623" y="12948"/>
                </a:cubicBezTo>
              </a:path>
              <a:path w="3697" h="2134">
                <a:moveTo>
                  <a:pt x="6226" y="14387"/>
                </a:moveTo>
                <a:cubicBezTo>
                  <a:pt x="6229" y="14386"/>
                  <a:pt x="6297" y="14365"/>
                  <a:pt x="6300" y="14362"/>
                </a:cubicBezTo>
                <a:cubicBezTo>
                  <a:pt x="6308" y="14351"/>
                  <a:pt x="6324" y="14265"/>
                  <a:pt x="6325" y="14263"/>
                </a:cubicBezTo>
                <a:cubicBezTo>
                  <a:pt x="6341" y="14230"/>
                  <a:pt x="6350" y="14238"/>
                  <a:pt x="6350" y="14188"/>
                </a:cubicBezTo>
                <a:cubicBezTo>
                  <a:pt x="6350" y="14132"/>
                  <a:pt x="6370" y="14155"/>
                  <a:pt x="6375" y="14114"/>
                </a:cubicBezTo>
                <a:cubicBezTo>
                  <a:pt x="6378" y="14090"/>
                  <a:pt x="6375" y="14063"/>
                  <a:pt x="6375" y="14039"/>
                </a:cubicBezTo>
                <a:cubicBezTo>
                  <a:pt x="6337" y="14052"/>
                  <a:pt x="6346" y="14061"/>
                  <a:pt x="6325" y="14089"/>
                </a:cubicBezTo>
                <a:cubicBezTo>
                  <a:pt x="6296" y="14127"/>
                  <a:pt x="6300" y="14140"/>
                  <a:pt x="6300" y="14188"/>
                </a:cubicBezTo>
                <a:cubicBezTo>
                  <a:pt x="6300" y="14234"/>
                  <a:pt x="6320" y="14247"/>
                  <a:pt x="6325" y="14288"/>
                </a:cubicBezTo>
                <a:cubicBezTo>
                  <a:pt x="6330" y="14328"/>
                  <a:pt x="6350" y="14341"/>
                  <a:pt x="6350" y="14387"/>
                </a:cubicBezTo>
                <a:cubicBezTo>
                  <a:pt x="6350" y="14443"/>
                  <a:pt x="6375" y="14480"/>
                  <a:pt x="6375" y="14536"/>
                </a:cubicBezTo>
                <a:cubicBezTo>
                  <a:pt x="6375" y="14582"/>
                  <a:pt x="6371" y="14645"/>
                  <a:pt x="6400" y="14660"/>
                </a:cubicBezTo>
                <a:cubicBezTo>
                  <a:pt x="6408" y="14660"/>
                  <a:pt x="6416" y="14660"/>
                  <a:pt x="6424" y="14660"/>
                </a:cubicBezTo>
                <a:cubicBezTo>
                  <a:pt x="6448" y="14652"/>
                  <a:pt x="6471" y="14651"/>
                  <a:pt x="6499" y="14635"/>
                </a:cubicBezTo>
                <a:cubicBezTo>
                  <a:pt x="6527" y="14607"/>
                  <a:pt x="6536" y="14593"/>
                  <a:pt x="6524" y="14560"/>
                </a:cubicBezTo>
                <a:cubicBezTo>
                  <a:pt x="6551" y="14560"/>
                  <a:pt x="6610" y="14549"/>
                  <a:pt x="6623" y="14536"/>
                </a:cubicBezTo>
                <a:cubicBezTo>
                  <a:pt x="6646" y="14513"/>
                  <a:pt x="6658" y="14516"/>
                  <a:pt x="6672" y="14486"/>
                </a:cubicBezTo>
                <a:cubicBezTo>
                  <a:pt x="6688" y="14452"/>
                  <a:pt x="6685" y="14472"/>
                  <a:pt x="6697" y="14436"/>
                </a:cubicBezTo>
              </a:path>
              <a:path w="3697" h="2134">
                <a:moveTo>
                  <a:pt x="6350" y="14114"/>
                </a:moveTo>
                <a:cubicBezTo>
                  <a:pt x="6350" y="14062"/>
                  <a:pt x="6364" y="14061"/>
                  <a:pt x="6375" y="14039"/>
                </a:cubicBezTo>
                <a:cubicBezTo>
                  <a:pt x="6391" y="14007"/>
                  <a:pt x="6400" y="14015"/>
                  <a:pt x="6400" y="13965"/>
                </a:cubicBezTo>
                <a:cubicBezTo>
                  <a:pt x="6400" y="13928"/>
                  <a:pt x="6460" y="13919"/>
                  <a:pt x="6499" y="13915"/>
                </a:cubicBezTo>
                <a:cubicBezTo>
                  <a:pt x="6532" y="13912"/>
                  <a:pt x="6580" y="13905"/>
                  <a:pt x="6598" y="13940"/>
                </a:cubicBezTo>
                <a:cubicBezTo>
                  <a:pt x="6622" y="13989"/>
                  <a:pt x="6580" y="14050"/>
                  <a:pt x="6573" y="14064"/>
                </a:cubicBezTo>
                <a:cubicBezTo>
                  <a:pt x="6560" y="14090"/>
                  <a:pt x="6557" y="14110"/>
                  <a:pt x="6524" y="14114"/>
                </a:cubicBezTo>
                <a:cubicBezTo>
                  <a:pt x="6485" y="14119"/>
                  <a:pt x="6496" y="14152"/>
                  <a:pt x="6474" y="14163"/>
                </a:cubicBezTo>
                <a:cubicBezTo>
                  <a:pt x="6468" y="14166"/>
                  <a:pt x="6404" y="14183"/>
                  <a:pt x="6400" y="14188"/>
                </a:cubicBezTo>
                <a:cubicBezTo>
                  <a:pt x="6384" y="14209"/>
                  <a:pt x="6384" y="14211"/>
                  <a:pt x="6375" y="14238"/>
                </a:cubicBezTo>
              </a:path>
              <a:path w="3697" h="2134">
                <a:moveTo>
                  <a:pt x="7045" y="13940"/>
                </a:moveTo>
                <a:cubicBezTo>
                  <a:pt x="7073" y="13988"/>
                  <a:pt x="7089" y="14032"/>
                  <a:pt x="7094" y="14089"/>
                </a:cubicBezTo>
                <a:cubicBezTo>
                  <a:pt x="7101" y="14177"/>
                  <a:pt x="7145" y="14534"/>
                  <a:pt x="7119" y="14585"/>
                </a:cubicBezTo>
                <a:cubicBezTo>
                  <a:pt x="7111" y="14585"/>
                  <a:pt x="7102" y="14585"/>
                  <a:pt x="7094" y="14585"/>
                </a:cubicBezTo>
              </a:path>
              <a:path w="3697" h="2134">
                <a:moveTo>
                  <a:pt x="6846" y="13990"/>
                </a:moveTo>
                <a:cubicBezTo>
                  <a:pt x="6886" y="13977"/>
                  <a:pt x="6902" y="13965"/>
                  <a:pt x="6970" y="13965"/>
                </a:cubicBezTo>
                <a:cubicBezTo>
                  <a:pt x="7056" y="13965"/>
                  <a:pt x="7116" y="13954"/>
                  <a:pt x="7193" y="13940"/>
                </a:cubicBezTo>
                <a:cubicBezTo>
                  <a:pt x="7251" y="13930"/>
                  <a:pt x="7374" y="13968"/>
                  <a:pt x="7392" y="13915"/>
                </a:cubicBezTo>
              </a:path>
              <a:path w="3697" h="2134">
                <a:moveTo>
                  <a:pt x="7516" y="14560"/>
                </a:moveTo>
                <a:cubicBezTo>
                  <a:pt x="7563" y="14576"/>
                  <a:pt x="7542" y="14574"/>
                  <a:pt x="7615" y="14585"/>
                </a:cubicBezTo>
                <a:cubicBezTo>
                  <a:pt x="7642" y="14506"/>
                  <a:pt x="7639" y="14565"/>
                  <a:pt x="7665" y="14486"/>
                </a:cubicBezTo>
                <a:cubicBezTo>
                  <a:pt x="7714" y="14469"/>
                  <a:pt x="7715" y="14471"/>
                  <a:pt x="7739" y="14436"/>
                </a:cubicBezTo>
                <a:cubicBezTo>
                  <a:pt x="7747" y="14424"/>
                  <a:pt x="7757" y="14342"/>
                  <a:pt x="7764" y="14337"/>
                </a:cubicBezTo>
                <a:cubicBezTo>
                  <a:pt x="7820" y="14292"/>
                  <a:pt x="7773" y="14291"/>
                  <a:pt x="7813" y="14238"/>
                </a:cubicBezTo>
                <a:cubicBezTo>
                  <a:pt x="7827" y="14219"/>
                  <a:pt x="7846" y="14185"/>
                  <a:pt x="7863" y="14163"/>
                </a:cubicBezTo>
                <a:cubicBezTo>
                  <a:pt x="7892" y="14125"/>
                  <a:pt x="7888" y="14112"/>
                  <a:pt x="7888" y="14064"/>
                </a:cubicBezTo>
                <a:cubicBezTo>
                  <a:pt x="7888" y="14009"/>
                  <a:pt x="7895" y="13989"/>
                  <a:pt x="7863" y="13965"/>
                </a:cubicBezTo>
                <a:cubicBezTo>
                  <a:pt x="7817" y="13931"/>
                  <a:pt x="7820" y="13921"/>
                  <a:pt x="7764" y="13915"/>
                </a:cubicBezTo>
                <a:cubicBezTo>
                  <a:pt x="7724" y="13911"/>
                  <a:pt x="7734" y="13955"/>
                  <a:pt x="7714" y="13965"/>
                </a:cubicBezTo>
                <a:cubicBezTo>
                  <a:pt x="7683" y="13980"/>
                  <a:pt x="7686" y="14001"/>
                  <a:pt x="7665" y="14015"/>
                </a:cubicBezTo>
                <a:cubicBezTo>
                  <a:pt x="7634" y="14036"/>
                  <a:pt x="7640" y="14037"/>
                  <a:pt x="7640" y="14089"/>
                </a:cubicBezTo>
                <a:cubicBezTo>
                  <a:pt x="7640" y="14122"/>
                  <a:pt x="7640" y="14155"/>
                  <a:pt x="7640" y="14188"/>
                </a:cubicBezTo>
                <a:cubicBezTo>
                  <a:pt x="7687" y="14188"/>
                  <a:pt x="7723" y="14170"/>
                  <a:pt x="7739" y="14163"/>
                </a:cubicBezTo>
                <a:cubicBezTo>
                  <a:pt x="7772" y="14163"/>
                  <a:pt x="7780" y="14155"/>
                  <a:pt x="7764" y="14114"/>
                </a:cubicBezTo>
                <a:cubicBezTo>
                  <a:pt x="7836" y="14099"/>
                  <a:pt x="7858" y="14047"/>
                  <a:pt x="7888" y="14039"/>
                </a:cubicBezTo>
                <a:cubicBezTo>
                  <a:pt x="7970" y="14017"/>
                  <a:pt x="7944" y="14065"/>
                  <a:pt x="7962" y="13990"/>
                </a:cubicBezTo>
                <a:cubicBezTo>
                  <a:pt x="8022" y="14010"/>
                  <a:pt x="7969" y="14023"/>
                  <a:pt x="7962" y="14039"/>
                </a:cubicBezTo>
                <a:cubicBezTo>
                  <a:pt x="7930" y="14112"/>
                  <a:pt x="7968" y="14298"/>
                  <a:pt x="7987" y="14337"/>
                </a:cubicBezTo>
                <a:cubicBezTo>
                  <a:pt x="8004" y="14371"/>
                  <a:pt x="7998" y="14407"/>
                  <a:pt x="8037" y="14412"/>
                </a:cubicBezTo>
                <a:cubicBezTo>
                  <a:pt x="8110" y="14421"/>
                  <a:pt x="8198" y="14406"/>
                  <a:pt x="8235" y="14387"/>
                </a:cubicBezTo>
                <a:cubicBezTo>
                  <a:pt x="8310" y="14350"/>
                  <a:pt x="8319" y="14420"/>
                  <a:pt x="8334" y="14312"/>
                </a:cubicBezTo>
                <a:cubicBezTo>
                  <a:pt x="8369" y="14312"/>
                  <a:pt x="8408" y="14306"/>
                  <a:pt x="8434" y="14288"/>
                </a:cubicBezTo>
                <a:cubicBezTo>
                  <a:pt x="8469" y="14264"/>
                  <a:pt x="8473" y="14269"/>
                  <a:pt x="8483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19640" y="4822920"/>
            <a:ext cx="1635120" cy="677880"/>
          </a:xfrm>
          <a:custGeom>
            <a:avLst/>
            <a:gdLst/>
            <a:ahLst/>
            <a:rect l="l" t="t" r="r" b="b"/>
            <a:pathLst>
              <a:path w="4540" h="1886">
                <a:moveTo>
                  <a:pt x="10096" y="13543"/>
                </a:moveTo>
                <a:cubicBezTo>
                  <a:pt x="10096" y="13587"/>
                  <a:pt x="10073" y="13634"/>
                  <a:pt x="10071" y="13643"/>
                </a:cubicBezTo>
                <a:cubicBezTo>
                  <a:pt x="10058" y="13706"/>
                  <a:pt x="10049" y="13680"/>
                  <a:pt x="10046" y="13742"/>
                </a:cubicBezTo>
                <a:cubicBezTo>
                  <a:pt x="10042" y="13834"/>
                  <a:pt x="10032" y="13960"/>
                  <a:pt x="10021" y="14015"/>
                </a:cubicBezTo>
                <a:cubicBezTo>
                  <a:pt x="10011" y="14063"/>
                  <a:pt x="10003" y="14052"/>
                  <a:pt x="9996" y="14089"/>
                </a:cubicBezTo>
                <a:cubicBezTo>
                  <a:pt x="9986" y="14138"/>
                  <a:pt x="9979" y="14164"/>
                  <a:pt x="9971" y="14213"/>
                </a:cubicBezTo>
                <a:cubicBezTo>
                  <a:pt x="9948" y="14353"/>
                  <a:pt x="9968" y="14553"/>
                  <a:pt x="9947" y="14660"/>
                </a:cubicBezTo>
                <a:cubicBezTo>
                  <a:pt x="9940" y="14698"/>
                  <a:pt x="9923" y="14777"/>
                  <a:pt x="9922" y="14784"/>
                </a:cubicBezTo>
                <a:cubicBezTo>
                  <a:pt x="9905" y="14866"/>
                  <a:pt x="9905" y="15007"/>
                  <a:pt x="9897" y="15056"/>
                </a:cubicBezTo>
                <a:cubicBezTo>
                  <a:pt x="9890" y="15100"/>
                  <a:pt x="9893" y="15104"/>
                  <a:pt x="9872" y="15131"/>
                </a:cubicBezTo>
                <a:cubicBezTo>
                  <a:pt x="9856" y="15151"/>
                  <a:pt x="9841" y="15182"/>
                  <a:pt x="9823" y="15205"/>
                </a:cubicBezTo>
                <a:cubicBezTo>
                  <a:pt x="9807" y="15225"/>
                  <a:pt x="9785" y="15228"/>
                  <a:pt x="9748" y="15230"/>
                </a:cubicBezTo>
                <a:cubicBezTo>
                  <a:pt x="9705" y="15233"/>
                  <a:pt x="9699" y="15235"/>
                  <a:pt x="9674" y="15255"/>
                </a:cubicBezTo>
                <a:cubicBezTo>
                  <a:pt x="9668" y="15260"/>
                  <a:pt x="9636" y="15308"/>
                  <a:pt x="9599" y="15280"/>
                </a:cubicBezTo>
                <a:cubicBezTo>
                  <a:pt x="9554" y="15246"/>
                  <a:pt x="9566" y="15224"/>
                  <a:pt x="9550" y="15180"/>
                </a:cubicBezTo>
                <a:cubicBezTo>
                  <a:pt x="9527" y="15116"/>
                  <a:pt x="9539" y="15073"/>
                  <a:pt x="9525" y="15007"/>
                </a:cubicBezTo>
                <a:cubicBezTo>
                  <a:pt x="9515" y="14963"/>
                  <a:pt x="9504" y="14929"/>
                  <a:pt x="9500" y="14883"/>
                </a:cubicBezTo>
                <a:cubicBezTo>
                  <a:pt x="9500" y="14875"/>
                  <a:pt x="9500" y="14866"/>
                  <a:pt x="9500" y="14858"/>
                </a:cubicBezTo>
              </a:path>
              <a:path w="4540" h="1886">
                <a:moveTo>
                  <a:pt x="9773" y="14114"/>
                </a:moveTo>
                <a:cubicBezTo>
                  <a:pt x="9773" y="14081"/>
                  <a:pt x="9773" y="14048"/>
                  <a:pt x="9773" y="14015"/>
                </a:cubicBezTo>
                <a:cubicBezTo>
                  <a:pt x="9833" y="13985"/>
                  <a:pt x="9819" y="14037"/>
                  <a:pt x="9823" y="13940"/>
                </a:cubicBezTo>
                <a:cubicBezTo>
                  <a:pt x="9825" y="13886"/>
                  <a:pt x="9869" y="13805"/>
                  <a:pt x="9872" y="13791"/>
                </a:cubicBezTo>
                <a:cubicBezTo>
                  <a:pt x="9883" y="13742"/>
                  <a:pt x="9891" y="13724"/>
                  <a:pt x="9897" y="13692"/>
                </a:cubicBezTo>
                <a:cubicBezTo>
                  <a:pt x="9906" y="13648"/>
                  <a:pt x="9900" y="13645"/>
                  <a:pt x="9922" y="13618"/>
                </a:cubicBezTo>
                <a:cubicBezTo>
                  <a:pt x="9924" y="13615"/>
                  <a:pt x="9964" y="13549"/>
                  <a:pt x="9971" y="13543"/>
                </a:cubicBezTo>
                <a:cubicBezTo>
                  <a:pt x="10042" y="13483"/>
                  <a:pt x="10001" y="13522"/>
                  <a:pt x="10021" y="13444"/>
                </a:cubicBezTo>
                <a:cubicBezTo>
                  <a:pt x="10088" y="13429"/>
                  <a:pt x="10073" y="13406"/>
                  <a:pt x="10096" y="13395"/>
                </a:cubicBezTo>
                <a:cubicBezTo>
                  <a:pt x="10144" y="13371"/>
                  <a:pt x="10257" y="13397"/>
                  <a:pt x="10294" y="13419"/>
                </a:cubicBezTo>
                <a:cubicBezTo>
                  <a:pt x="10306" y="13427"/>
                  <a:pt x="10337" y="13466"/>
                  <a:pt x="10344" y="13494"/>
                </a:cubicBezTo>
                <a:cubicBezTo>
                  <a:pt x="10352" y="13526"/>
                  <a:pt x="10362" y="13536"/>
                  <a:pt x="10368" y="13568"/>
                </a:cubicBezTo>
                <a:cubicBezTo>
                  <a:pt x="10388" y="13671"/>
                  <a:pt x="10356" y="13827"/>
                  <a:pt x="10344" y="13891"/>
                </a:cubicBezTo>
                <a:cubicBezTo>
                  <a:pt x="10332" y="13952"/>
                  <a:pt x="10326" y="13951"/>
                  <a:pt x="10319" y="13990"/>
                </a:cubicBezTo>
                <a:cubicBezTo>
                  <a:pt x="10311" y="14034"/>
                  <a:pt x="10316" y="14037"/>
                  <a:pt x="10294" y="14064"/>
                </a:cubicBezTo>
                <a:cubicBezTo>
                  <a:pt x="10279" y="14083"/>
                  <a:pt x="10241" y="14119"/>
                  <a:pt x="10220" y="14139"/>
                </a:cubicBezTo>
                <a:cubicBezTo>
                  <a:pt x="10198" y="14161"/>
                  <a:pt x="10193" y="14200"/>
                  <a:pt x="10170" y="14238"/>
                </a:cubicBezTo>
                <a:cubicBezTo>
                  <a:pt x="10167" y="14243"/>
                  <a:pt x="10127" y="14281"/>
                  <a:pt x="10120" y="14288"/>
                </a:cubicBezTo>
                <a:cubicBezTo>
                  <a:pt x="10098" y="14310"/>
                  <a:pt x="10091" y="14337"/>
                  <a:pt x="10071" y="14362"/>
                </a:cubicBezTo>
                <a:cubicBezTo>
                  <a:pt x="10050" y="14388"/>
                  <a:pt x="9997" y="14436"/>
                  <a:pt x="10021" y="14412"/>
                </a:cubicBezTo>
                <a:cubicBezTo>
                  <a:pt x="10037" y="14396"/>
                  <a:pt x="10055" y="14378"/>
                  <a:pt x="10071" y="14362"/>
                </a:cubicBezTo>
                <a:cubicBezTo>
                  <a:pt x="10119" y="14314"/>
                  <a:pt x="10141" y="14314"/>
                  <a:pt x="10170" y="14288"/>
                </a:cubicBezTo>
                <a:cubicBezTo>
                  <a:pt x="10195" y="14265"/>
                  <a:pt x="10209" y="14281"/>
                  <a:pt x="10244" y="14263"/>
                </a:cubicBezTo>
                <a:cubicBezTo>
                  <a:pt x="10279" y="14245"/>
                  <a:pt x="10270" y="14237"/>
                  <a:pt x="10294" y="14213"/>
                </a:cubicBezTo>
                <a:cubicBezTo>
                  <a:pt x="10314" y="14193"/>
                  <a:pt x="10329" y="14190"/>
                  <a:pt x="10368" y="14188"/>
                </a:cubicBezTo>
                <a:cubicBezTo>
                  <a:pt x="10419" y="14185"/>
                  <a:pt x="10479" y="14186"/>
                  <a:pt x="10517" y="14213"/>
                </a:cubicBezTo>
                <a:cubicBezTo>
                  <a:pt x="10546" y="14234"/>
                  <a:pt x="10579" y="14279"/>
                  <a:pt x="10592" y="14288"/>
                </a:cubicBezTo>
                <a:cubicBezTo>
                  <a:pt x="10642" y="14321"/>
                  <a:pt x="10619" y="14309"/>
                  <a:pt x="10641" y="14362"/>
                </a:cubicBezTo>
                <a:cubicBezTo>
                  <a:pt x="10659" y="14407"/>
                  <a:pt x="10681" y="14400"/>
                  <a:pt x="10691" y="14436"/>
                </a:cubicBezTo>
                <a:cubicBezTo>
                  <a:pt x="10727" y="14570"/>
                  <a:pt x="10685" y="14812"/>
                  <a:pt x="10666" y="14908"/>
                </a:cubicBezTo>
                <a:cubicBezTo>
                  <a:pt x="10657" y="14951"/>
                  <a:pt x="10663" y="14955"/>
                  <a:pt x="10641" y="14982"/>
                </a:cubicBezTo>
                <a:cubicBezTo>
                  <a:pt x="10619" y="15010"/>
                  <a:pt x="10595" y="15010"/>
                  <a:pt x="10567" y="15032"/>
                </a:cubicBezTo>
                <a:cubicBezTo>
                  <a:pt x="10535" y="15057"/>
                  <a:pt x="10527" y="15053"/>
                  <a:pt x="10468" y="15056"/>
                </a:cubicBezTo>
                <a:cubicBezTo>
                  <a:pt x="10420" y="15059"/>
                  <a:pt x="10406" y="15056"/>
                  <a:pt x="10368" y="15032"/>
                </a:cubicBezTo>
                <a:cubicBezTo>
                  <a:pt x="10343" y="15017"/>
                  <a:pt x="10322" y="15015"/>
                  <a:pt x="10294" y="14982"/>
                </a:cubicBezTo>
                <a:cubicBezTo>
                  <a:pt x="10264" y="14946"/>
                  <a:pt x="10261" y="14936"/>
                  <a:pt x="10244" y="14908"/>
                </a:cubicBezTo>
                <a:cubicBezTo>
                  <a:pt x="10219" y="14866"/>
                  <a:pt x="10223" y="14858"/>
                  <a:pt x="10220" y="14808"/>
                </a:cubicBezTo>
                <a:cubicBezTo>
                  <a:pt x="10216" y="14740"/>
                  <a:pt x="10216" y="14719"/>
                  <a:pt x="10195" y="14684"/>
                </a:cubicBezTo>
              </a:path>
              <a:path w="4540" h="1886">
                <a:moveTo>
                  <a:pt x="11534" y="14486"/>
                </a:moveTo>
                <a:cubicBezTo>
                  <a:pt x="11528" y="14423"/>
                  <a:pt x="11539" y="14395"/>
                  <a:pt x="11509" y="14362"/>
                </a:cubicBezTo>
                <a:cubicBezTo>
                  <a:pt x="11497" y="14349"/>
                  <a:pt x="11468" y="14319"/>
                  <a:pt x="11435" y="14312"/>
                </a:cubicBezTo>
                <a:cubicBezTo>
                  <a:pt x="11386" y="14302"/>
                  <a:pt x="11375" y="14332"/>
                  <a:pt x="11361" y="14337"/>
                </a:cubicBezTo>
                <a:cubicBezTo>
                  <a:pt x="11354" y="14340"/>
                  <a:pt x="11292" y="14355"/>
                  <a:pt x="11286" y="14362"/>
                </a:cubicBezTo>
                <a:cubicBezTo>
                  <a:pt x="11270" y="14380"/>
                  <a:pt x="11253" y="14395"/>
                  <a:pt x="11237" y="14412"/>
                </a:cubicBezTo>
                <a:cubicBezTo>
                  <a:pt x="11214" y="14436"/>
                  <a:pt x="11198" y="14430"/>
                  <a:pt x="11187" y="14461"/>
                </a:cubicBezTo>
                <a:cubicBezTo>
                  <a:pt x="11171" y="14508"/>
                  <a:pt x="11176" y="14528"/>
                  <a:pt x="11162" y="14560"/>
                </a:cubicBezTo>
                <a:cubicBezTo>
                  <a:pt x="11158" y="14568"/>
                  <a:pt x="11147" y="14606"/>
                  <a:pt x="11137" y="14635"/>
                </a:cubicBezTo>
                <a:cubicBezTo>
                  <a:pt x="11133" y="14646"/>
                  <a:pt x="11097" y="14690"/>
                  <a:pt x="11088" y="14709"/>
                </a:cubicBezTo>
                <a:cubicBezTo>
                  <a:pt x="11071" y="14744"/>
                  <a:pt x="11072" y="14734"/>
                  <a:pt x="11063" y="14784"/>
                </a:cubicBezTo>
                <a:cubicBezTo>
                  <a:pt x="11049" y="14863"/>
                  <a:pt x="11051" y="14994"/>
                  <a:pt x="11088" y="15056"/>
                </a:cubicBezTo>
                <a:cubicBezTo>
                  <a:pt x="11093" y="15064"/>
                  <a:pt x="11155" y="15102"/>
                  <a:pt x="11162" y="15106"/>
                </a:cubicBezTo>
                <a:cubicBezTo>
                  <a:pt x="11170" y="15106"/>
                  <a:pt x="11179" y="15106"/>
                  <a:pt x="11187" y="15106"/>
                </a:cubicBezTo>
                <a:cubicBezTo>
                  <a:pt x="11209" y="15090"/>
                  <a:pt x="11231" y="15068"/>
                  <a:pt x="11261" y="15056"/>
                </a:cubicBezTo>
                <a:cubicBezTo>
                  <a:pt x="11270" y="15053"/>
                  <a:pt x="11327" y="15016"/>
                  <a:pt x="11336" y="15007"/>
                </a:cubicBezTo>
                <a:cubicBezTo>
                  <a:pt x="11380" y="14959"/>
                  <a:pt x="11322" y="14982"/>
                  <a:pt x="11410" y="14932"/>
                </a:cubicBezTo>
                <a:cubicBezTo>
                  <a:pt x="11469" y="14898"/>
                  <a:pt x="11456" y="14937"/>
                  <a:pt x="11485" y="14883"/>
                </a:cubicBezTo>
                <a:cubicBezTo>
                  <a:pt x="11505" y="14846"/>
                  <a:pt x="11516" y="14777"/>
                  <a:pt x="11534" y="14759"/>
                </a:cubicBezTo>
                <a:cubicBezTo>
                  <a:pt x="11558" y="14735"/>
                  <a:pt x="11566" y="14744"/>
                  <a:pt x="11584" y="14709"/>
                </a:cubicBezTo>
                <a:cubicBezTo>
                  <a:pt x="11602" y="14674"/>
                  <a:pt x="11595" y="14664"/>
                  <a:pt x="11609" y="14635"/>
                </a:cubicBezTo>
                <a:cubicBezTo>
                  <a:pt x="11624" y="14605"/>
                  <a:pt x="11612" y="14586"/>
                  <a:pt x="11633" y="14560"/>
                </a:cubicBezTo>
                <a:cubicBezTo>
                  <a:pt x="11641" y="14550"/>
                  <a:pt x="11673" y="14520"/>
                  <a:pt x="11683" y="14511"/>
                </a:cubicBezTo>
                <a:cubicBezTo>
                  <a:pt x="11716" y="14480"/>
                  <a:pt x="11710" y="14483"/>
                  <a:pt x="11733" y="14436"/>
                </a:cubicBezTo>
                <a:cubicBezTo>
                  <a:pt x="11743" y="14416"/>
                  <a:pt x="11773" y="14391"/>
                  <a:pt x="11782" y="14362"/>
                </a:cubicBezTo>
                <a:cubicBezTo>
                  <a:pt x="11782" y="14354"/>
                  <a:pt x="11782" y="14345"/>
                  <a:pt x="11782" y="14337"/>
                </a:cubicBezTo>
                <a:cubicBezTo>
                  <a:pt x="11769" y="14375"/>
                  <a:pt x="11761" y="14384"/>
                  <a:pt x="11757" y="14412"/>
                </a:cubicBezTo>
                <a:cubicBezTo>
                  <a:pt x="11747" y="14482"/>
                  <a:pt x="11752" y="14466"/>
                  <a:pt x="11733" y="14511"/>
                </a:cubicBezTo>
                <a:cubicBezTo>
                  <a:pt x="11721" y="14539"/>
                  <a:pt x="11725" y="14551"/>
                  <a:pt x="11708" y="14585"/>
                </a:cubicBezTo>
                <a:cubicBezTo>
                  <a:pt x="11691" y="14619"/>
                  <a:pt x="11695" y="14632"/>
                  <a:pt x="11683" y="14660"/>
                </a:cubicBezTo>
                <a:cubicBezTo>
                  <a:pt x="11668" y="14696"/>
                  <a:pt x="11667" y="14684"/>
                  <a:pt x="11658" y="14734"/>
                </a:cubicBezTo>
                <a:cubicBezTo>
                  <a:pt x="11651" y="14775"/>
                  <a:pt x="11639" y="14793"/>
                  <a:pt x="11633" y="14808"/>
                </a:cubicBezTo>
                <a:cubicBezTo>
                  <a:pt x="11614" y="14855"/>
                  <a:pt x="11631" y="14864"/>
                  <a:pt x="11609" y="14908"/>
                </a:cubicBezTo>
                <a:cubicBezTo>
                  <a:pt x="11592" y="14942"/>
                  <a:pt x="11590" y="14932"/>
                  <a:pt x="11584" y="14982"/>
                </a:cubicBezTo>
                <a:cubicBezTo>
                  <a:pt x="11579" y="15022"/>
                  <a:pt x="11584" y="15066"/>
                  <a:pt x="11584" y="15106"/>
                </a:cubicBezTo>
                <a:cubicBezTo>
                  <a:pt x="11642" y="15101"/>
                  <a:pt x="11681" y="15093"/>
                  <a:pt x="11708" y="15081"/>
                </a:cubicBezTo>
                <a:cubicBezTo>
                  <a:pt x="11709" y="15080"/>
                  <a:pt x="11778" y="15037"/>
                  <a:pt x="11782" y="15032"/>
                </a:cubicBezTo>
                <a:cubicBezTo>
                  <a:pt x="11802" y="15007"/>
                  <a:pt x="11793" y="14991"/>
                  <a:pt x="11832" y="14982"/>
                </a:cubicBezTo>
                <a:cubicBezTo>
                  <a:pt x="11901" y="14966"/>
                  <a:pt x="11882" y="14945"/>
                  <a:pt x="11906" y="14932"/>
                </a:cubicBezTo>
                <a:cubicBezTo>
                  <a:pt x="11929" y="14920"/>
                  <a:pt x="11988" y="14931"/>
                  <a:pt x="12005" y="14908"/>
                </a:cubicBezTo>
                <a:cubicBezTo>
                  <a:pt x="12020" y="14888"/>
                  <a:pt x="12047" y="14843"/>
                  <a:pt x="12055" y="14833"/>
                </a:cubicBezTo>
                <a:cubicBezTo>
                  <a:pt x="12072" y="14809"/>
                  <a:pt x="12059" y="14761"/>
                  <a:pt x="12080" y="14734"/>
                </a:cubicBezTo>
                <a:cubicBezTo>
                  <a:pt x="12105" y="14702"/>
                  <a:pt x="12103" y="14735"/>
                  <a:pt x="12129" y="14684"/>
                </a:cubicBezTo>
                <a:cubicBezTo>
                  <a:pt x="12137" y="14669"/>
                  <a:pt x="12178" y="14639"/>
                  <a:pt x="12179" y="14635"/>
                </a:cubicBezTo>
                <a:cubicBezTo>
                  <a:pt x="12193" y="14585"/>
                  <a:pt x="12182" y="14588"/>
                  <a:pt x="12204" y="14560"/>
                </a:cubicBezTo>
                <a:cubicBezTo>
                  <a:pt x="12219" y="14540"/>
                  <a:pt x="12236" y="14514"/>
                  <a:pt x="12254" y="14486"/>
                </a:cubicBezTo>
                <a:cubicBezTo>
                  <a:pt x="12270" y="14461"/>
                  <a:pt x="12268" y="14434"/>
                  <a:pt x="12278" y="14412"/>
                </a:cubicBezTo>
                <a:cubicBezTo>
                  <a:pt x="12291" y="14383"/>
                  <a:pt x="12286" y="14372"/>
                  <a:pt x="12303" y="14337"/>
                </a:cubicBezTo>
                <a:cubicBezTo>
                  <a:pt x="12304" y="14335"/>
                  <a:pt x="12320" y="14304"/>
                  <a:pt x="12328" y="14288"/>
                </a:cubicBezTo>
                <a:cubicBezTo>
                  <a:pt x="12315" y="14325"/>
                  <a:pt x="12307" y="14334"/>
                  <a:pt x="12303" y="14362"/>
                </a:cubicBezTo>
                <a:cubicBezTo>
                  <a:pt x="12297" y="14403"/>
                  <a:pt x="12283" y="14420"/>
                  <a:pt x="12278" y="14461"/>
                </a:cubicBezTo>
                <a:cubicBezTo>
                  <a:pt x="12271" y="14516"/>
                  <a:pt x="12268" y="14526"/>
                  <a:pt x="12254" y="14560"/>
                </a:cubicBezTo>
                <a:cubicBezTo>
                  <a:pt x="12237" y="14600"/>
                  <a:pt x="12245" y="14603"/>
                  <a:pt x="12229" y="14635"/>
                </a:cubicBezTo>
                <a:cubicBezTo>
                  <a:pt x="12207" y="14679"/>
                  <a:pt x="12223" y="14668"/>
                  <a:pt x="12204" y="14734"/>
                </a:cubicBezTo>
                <a:cubicBezTo>
                  <a:pt x="12189" y="14787"/>
                  <a:pt x="12200" y="14780"/>
                  <a:pt x="12179" y="14833"/>
                </a:cubicBezTo>
                <a:cubicBezTo>
                  <a:pt x="12175" y="14842"/>
                  <a:pt x="12163" y="14876"/>
                  <a:pt x="12154" y="14908"/>
                </a:cubicBezTo>
                <a:cubicBezTo>
                  <a:pt x="12145" y="14940"/>
                  <a:pt x="12138" y="14950"/>
                  <a:pt x="12129" y="14982"/>
                </a:cubicBezTo>
                <a:cubicBezTo>
                  <a:pt x="12125" y="14996"/>
                  <a:pt x="12084" y="15031"/>
                  <a:pt x="12080" y="15056"/>
                </a:cubicBezTo>
                <a:cubicBezTo>
                  <a:pt x="12072" y="15102"/>
                  <a:pt x="12065" y="15111"/>
                  <a:pt x="12055" y="15131"/>
                </a:cubicBezTo>
                <a:cubicBezTo>
                  <a:pt x="12037" y="15166"/>
                  <a:pt x="12045" y="15176"/>
                  <a:pt x="12030" y="15205"/>
                </a:cubicBezTo>
                <a:cubicBezTo>
                  <a:pt x="12030" y="15172"/>
                  <a:pt x="12021" y="15188"/>
                  <a:pt x="12030" y="15156"/>
                </a:cubicBezTo>
                <a:cubicBezTo>
                  <a:pt x="12043" y="15110"/>
                  <a:pt x="12075" y="15100"/>
                  <a:pt x="12080" y="15081"/>
                </a:cubicBezTo>
                <a:cubicBezTo>
                  <a:pt x="12092" y="15038"/>
                  <a:pt x="12097" y="14975"/>
                  <a:pt x="12105" y="14957"/>
                </a:cubicBezTo>
                <a:cubicBezTo>
                  <a:pt x="12118" y="14927"/>
                  <a:pt x="12109" y="14909"/>
                  <a:pt x="12129" y="14883"/>
                </a:cubicBezTo>
                <a:cubicBezTo>
                  <a:pt x="12149" y="14856"/>
                  <a:pt x="12148" y="14846"/>
                  <a:pt x="12179" y="14833"/>
                </a:cubicBezTo>
                <a:cubicBezTo>
                  <a:pt x="12214" y="14818"/>
                  <a:pt x="12288" y="14814"/>
                  <a:pt x="12303" y="14808"/>
                </a:cubicBezTo>
                <a:cubicBezTo>
                  <a:pt x="12331" y="14797"/>
                  <a:pt x="12345" y="14801"/>
                  <a:pt x="12378" y="14784"/>
                </a:cubicBezTo>
                <a:cubicBezTo>
                  <a:pt x="12403" y="14771"/>
                  <a:pt x="12411" y="14742"/>
                  <a:pt x="12427" y="14734"/>
                </a:cubicBezTo>
                <a:cubicBezTo>
                  <a:pt x="12439" y="14728"/>
                  <a:pt x="12491" y="14697"/>
                  <a:pt x="12502" y="14684"/>
                </a:cubicBezTo>
                <a:cubicBezTo>
                  <a:pt x="12531" y="14649"/>
                  <a:pt x="12570" y="14575"/>
                  <a:pt x="12576" y="14560"/>
                </a:cubicBezTo>
                <a:cubicBezTo>
                  <a:pt x="12593" y="14519"/>
                  <a:pt x="12619" y="14489"/>
                  <a:pt x="12626" y="14461"/>
                </a:cubicBezTo>
                <a:cubicBezTo>
                  <a:pt x="12639" y="14413"/>
                  <a:pt x="12626" y="14390"/>
                  <a:pt x="12650" y="14362"/>
                </a:cubicBezTo>
                <a:cubicBezTo>
                  <a:pt x="12661" y="14350"/>
                  <a:pt x="12700" y="14313"/>
                  <a:pt x="12700" y="14362"/>
                </a:cubicBezTo>
                <a:cubicBezTo>
                  <a:pt x="12700" y="14403"/>
                  <a:pt x="12686" y="14421"/>
                  <a:pt x="12675" y="14461"/>
                </a:cubicBezTo>
                <a:cubicBezTo>
                  <a:pt x="12671" y="14475"/>
                  <a:pt x="12631" y="14510"/>
                  <a:pt x="12626" y="14536"/>
                </a:cubicBezTo>
                <a:cubicBezTo>
                  <a:pt x="12616" y="14596"/>
                  <a:pt x="12606" y="14598"/>
                  <a:pt x="12601" y="14635"/>
                </a:cubicBezTo>
                <a:cubicBezTo>
                  <a:pt x="12592" y="14707"/>
                  <a:pt x="12595" y="14689"/>
                  <a:pt x="12576" y="14734"/>
                </a:cubicBezTo>
                <a:cubicBezTo>
                  <a:pt x="12559" y="14774"/>
                  <a:pt x="12567" y="14777"/>
                  <a:pt x="12551" y="14808"/>
                </a:cubicBezTo>
                <a:cubicBezTo>
                  <a:pt x="12530" y="14850"/>
                  <a:pt x="12529" y="14837"/>
                  <a:pt x="12526" y="14908"/>
                </a:cubicBezTo>
                <a:cubicBezTo>
                  <a:pt x="12524" y="14954"/>
                  <a:pt x="12509" y="14965"/>
                  <a:pt x="12502" y="14982"/>
                </a:cubicBezTo>
                <a:cubicBezTo>
                  <a:pt x="12489" y="15014"/>
                  <a:pt x="12481" y="15032"/>
                  <a:pt x="12477" y="15056"/>
                </a:cubicBezTo>
                <a:cubicBezTo>
                  <a:pt x="12468" y="15108"/>
                  <a:pt x="12476" y="15136"/>
                  <a:pt x="12502" y="15156"/>
                </a:cubicBezTo>
                <a:cubicBezTo>
                  <a:pt x="12525" y="15174"/>
                  <a:pt x="12567" y="15197"/>
                  <a:pt x="12601" y="15180"/>
                </a:cubicBezTo>
                <a:cubicBezTo>
                  <a:pt x="12630" y="15166"/>
                  <a:pt x="12628" y="15155"/>
                  <a:pt x="12650" y="15131"/>
                </a:cubicBezTo>
                <a:cubicBezTo>
                  <a:pt x="12671" y="15108"/>
                  <a:pt x="12705" y="15102"/>
                  <a:pt x="12725" y="15081"/>
                </a:cubicBezTo>
                <a:cubicBezTo>
                  <a:pt x="12748" y="15056"/>
                  <a:pt x="12740" y="15049"/>
                  <a:pt x="12774" y="15032"/>
                </a:cubicBezTo>
                <a:cubicBezTo>
                  <a:pt x="12810" y="15014"/>
                  <a:pt x="12820" y="15022"/>
                  <a:pt x="12849" y="15007"/>
                </a:cubicBezTo>
                <a:cubicBezTo>
                  <a:pt x="12878" y="14992"/>
                  <a:pt x="12897" y="15003"/>
                  <a:pt x="12923" y="14982"/>
                </a:cubicBezTo>
                <a:cubicBezTo>
                  <a:pt x="12937" y="14971"/>
                  <a:pt x="12932" y="14921"/>
                  <a:pt x="12948" y="14908"/>
                </a:cubicBezTo>
                <a:cubicBezTo>
                  <a:pt x="12986" y="14878"/>
                  <a:pt x="12967" y="14893"/>
                  <a:pt x="12998" y="14858"/>
                </a:cubicBezTo>
                <a:cubicBezTo>
                  <a:pt x="13012" y="14841"/>
                  <a:pt x="13029" y="14812"/>
                  <a:pt x="13047" y="14784"/>
                </a:cubicBezTo>
                <a:cubicBezTo>
                  <a:pt x="13065" y="14756"/>
                  <a:pt x="13026" y="14775"/>
                  <a:pt x="13022" y="14808"/>
                </a:cubicBezTo>
                <a:cubicBezTo>
                  <a:pt x="13018" y="14845"/>
                  <a:pt x="13002" y="14881"/>
                  <a:pt x="12998" y="14908"/>
                </a:cubicBezTo>
                <a:cubicBezTo>
                  <a:pt x="12993" y="14941"/>
                  <a:pt x="12978" y="14949"/>
                  <a:pt x="12973" y="14982"/>
                </a:cubicBezTo>
                <a:cubicBezTo>
                  <a:pt x="12963" y="15041"/>
                  <a:pt x="12954" y="15164"/>
                  <a:pt x="12998" y="15205"/>
                </a:cubicBezTo>
                <a:cubicBezTo>
                  <a:pt x="13054" y="15257"/>
                  <a:pt x="13025" y="15207"/>
                  <a:pt x="13072" y="15205"/>
                </a:cubicBezTo>
                <a:cubicBezTo>
                  <a:pt x="13110" y="15203"/>
                  <a:pt x="13195" y="15207"/>
                  <a:pt x="13221" y="15180"/>
                </a:cubicBezTo>
                <a:cubicBezTo>
                  <a:pt x="13239" y="15161"/>
                  <a:pt x="13252" y="15090"/>
                  <a:pt x="13271" y="15081"/>
                </a:cubicBezTo>
                <a:cubicBezTo>
                  <a:pt x="13311" y="15063"/>
                  <a:pt x="13320" y="15075"/>
                  <a:pt x="13345" y="15056"/>
                </a:cubicBezTo>
                <a:cubicBezTo>
                  <a:pt x="13415" y="15002"/>
                  <a:pt x="13348" y="15021"/>
                  <a:pt x="13395" y="14957"/>
                </a:cubicBezTo>
                <a:cubicBezTo>
                  <a:pt x="13411" y="14935"/>
                  <a:pt x="13429" y="14938"/>
                  <a:pt x="13444" y="14908"/>
                </a:cubicBezTo>
                <a:cubicBezTo>
                  <a:pt x="13461" y="14873"/>
                  <a:pt x="13444" y="14856"/>
                  <a:pt x="13469" y="14833"/>
                </a:cubicBezTo>
                <a:cubicBezTo>
                  <a:pt x="13491" y="14812"/>
                  <a:pt x="13512" y="14823"/>
                  <a:pt x="13519" y="14784"/>
                </a:cubicBezTo>
                <a:cubicBezTo>
                  <a:pt x="13530" y="14725"/>
                  <a:pt x="13531" y="14665"/>
                  <a:pt x="13543" y="14635"/>
                </a:cubicBezTo>
                <a:cubicBezTo>
                  <a:pt x="13557" y="14602"/>
                  <a:pt x="13564" y="14585"/>
                  <a:pt x="13568" y="14560"/>
                </a:cubicBezTo>
                <a:cubicBezTo>
                  <a:pt x="13584" y="14467"/>
                  <a:pt x="13587" y="14289"/>
                  <a:pt x="13543" y="14213"/>
                </a:cubicBezTo>
                <a:cubicBezTo>
                  <a:pt x="13525" y="14181"/>
                  <a:pt x="13489" y="14174"/>
                  <a:pt x="13469" y="14163"/>
                </a:cubicBezTo>
                <a:cubicBezTo>
                  <a:pt x="13440" y="14147"/>
                  <a:pt x="13441" y="14137"/>
                  <a:pt x="13395" y="14139"/>
                </a:cubicBezTo>
                <a:cubicBezTo>
                  <a:pt x="13342" y="14142"/>
                  <a:pt x="13358" y="14151"/>
                  <a:pt x="13320" y="14163"/>
                </a:cubicBezTo>
                <a:cubicBezTo>
                  <a:pt x="13315" y="14165"/>
                  <a:pt x="13252" y="14206"/>
                  <a:pt x="13246" y="14213"/>
                </a:cubicBezTo>
                <a:cubicBezTo>
                  <a:pt x="13215" y="14247"/>
                  <a:pt x="13238" y="14254"/>
                  <a:pt x="13221" y="14312"/>
                </a:cubicBezTo>
                <a:cubicBezTo>
                  <a:pt x="13218" y="14321"/>
                  <a:pt x="13198" y="14346"/>
                  <a:pt x="13196" y="14387"/>
                </a:cubicBezTo>
                <a:cubicBezTo>
                  <a:pt x="13193" y="14453"/>
                  <a:pt x="13190" y="14508"/>
                  <a:pt x="13221" y="14560"/>
                </a:cubicBezTo>
                <a:cubicBezTo>
                  <a:pt x="13224" y="14565"/>
                  <a:pt x="13289" y="14608"/>
                  <a:pt x="13295" y="14610"/>
                </a:cubicBezTo>
                <a:cubicBezTo>
                  <a:pt x="13370" y="14636"/>
                  <a:pt x="13505" y="14600"/>
                  <a:pt x="13543" y="14585"/>
                </a:cubicBezTo>
                <a:cubicBezTo>
                  <a:pt x="13578" y="14571"/>
                  <a:pt x="13569" y="14554"/>
                  <a:pt x="13593" y="14536"/>
                </a:cubicBezTo>
                <a:cubicBezTo>
                  <a:pt x="13621" y="14515"/>
                  <a:pt x="13621" y="14511"/>
                  <a:pt x="13643" y="14486"/>
                </a:cubicBezTo>
                <a:cubicBezTo>
                  <a:pt x="13691" y="14431"/>
                  <a:pt x="13668" y="14438"/>
                  <a:pt x="13692" y="14387"/>
                </a:cubicBezTo>
                <a:cubicBezTo>
                  <a:pt x="13706" y="14357"/>
                  <a:pt x="13712" y="14336"/>
                  <a:pt x="13717" y="14312"/>
                </a:cubicBezTo>
                <a:cubicBezTo>
                  <a:pt x="13717" y="14304"/>
                  <a:pt x="13717" y="14296"/>
                  <a:pt x="13717" y="14288"/>
                </a:cubicBezTo>
                <a:cubicBezTo>
                  <a:pt x="13714" y="14321"/>
                  <a:pt x="13697" y="14329"/>
                  <a:pt x="13692" y="14362"/>
                </a:cubicBezTo>
                <a:cubicBezTo>
                  <a:pt x="13682" y="14437"/>
                  <a:pt x="13672" y="14570"/>
                  <a:pt x="13667" y="14610"/>
                </a:cubicBezTo>
                <a:cubicBezTo>
                  <a:pt x="13652" y="14728"/>
                  <a:pt x="13681" y="14855"/>
                  <a:pt x="13692" y="14957"/>
                </a:cubicBezTo>
                <a:cubicBezTo>
                  <a:pt x="13697" y="15008"/>
                  <a:pt x="13690" y="15014"/>
                  <a:pt x="13717" y="15056"/>
                </a:cubicBezTo>
                <a:cubicBezTo>
                  <a:pt x="13744" y="15098"/>
                  <a:pt x="13731" y="15104"/>
                  <a:pt x="13791" y="15106"/>
                </a:cubicBezTo>
                <a:cubicBezTo>
                  <a:pt x="13835" y="15107"/>
                  <a:pt x="13876" y="15095"/>
                  <a:pt x="13915" y="15081"/>
                </a:cubicBezTo>
                <a:cubicBezTo>
                  <a:pt x="13949" y="15068"/>
                  <a:pt x="13960" y="15053"/>
                  <a:pt x="13990" y="15032"/>
                </a:cubicBezTo>
                <a:cubicBezTo>
                  <a:pt x="14018" y="15013"/>
                  <a:pt x="14026" y="14992"/>
                  <a:pt x="14039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64080" y="4919760"/>
            <a:ext cx="1982880" cy="546120"/>
          </a:xfrm>
          <a:custGeom>
            <a:avLst/>
            <a:gdLst/>
            <a:ahLst/>
            <a:rect l="l" t="t" r="r" b="b"/>
            <a:pathLst>
              <a:path w="5508" h="1514">
                <a:moveTo>
                  <a:pt x="15825" y="13692"/>
                </a:moveTo>
                <a:cubicBezTo>
                  <a:pt x="15817" y="13692"/>
                  <a:pt x="15809" y="13692"/>
                  <a:pt x="15801" y="13692"/>
                </a:cubicBezTo>
                <a:cubicBezTo>
                  <a:pt x="15793" y="13743"/>
                  <a:pt x="15796" y="13716"/>
                  <a:pt x="15776" y="13742"/>
                </a:cubicBezTo>
                <a:cubicBezTo>
                  <a:pt x="15772" y="13781"/>
                  <a:pt x="15755" y="13807"/>
                  <a:pt x="15751" y="13816"/>
                </a:cubicBezTo>
                <a:cubicBezTo>
                  <a:pt x="15751" y="13866"/>
                  <a:pt x="15751" y="13915"/>
                  <a:pt x="15751" y="13965"/>
                </a:cubicBezTo>
                <a:cubicBezTo>
                  <a:pt x="15737" y="13989"/>
                  <a:pt x="15729" y="13987"/>
                  <a:pt x="15726" y="14039"/>
                </a:cubicBezTo>
                <a:cubicBezTo>
                  <a:pt x="15723" y="14094"/>
                  <a:pt x="15704" y="14133"/>
                  <a:pt x="15701" y="14188"/>
                </a:cubicBezTo>
                <a:cubicBezTo>
                  <a:pt x="15697" y="14251"/>
                  <a:pt x="15684" y="14304"/>
                  <a:pt x="15677" y="14362"/>
                </a:cubicBezTo>
                <a:cubicBezTo>
                  <a:pt x="15664" y="14465"/>
                  <a:pt x="15677" y="14579"/>
                  <a:pt x="15677" y="14684"/>
                </a:cubicBezTo>
                <a:cubicBezTo>
                  <a:pt x="15659" y="14714"/>
                  <a:pt x="15652" y="14742"/>
                  <a:pt x="15652" y="14808"/>
                </a:cubicBezTo>
                <a:cubicBezTo>
                  <a:pt x="15652" y="14833"/>
                  <a:pt x="15652" y="14841"/>
                  <a:pt x="15652" y="14858"/>
                </a:cubicBezTo>
                <a:cubicBezTo>
                  <a:pt x="15638" y="14882"/>
                  <a:pt x="15630" y="14880"/>
                  <a:pt x="15627" y="14932"/>
                </a:cubicBezTo>
                <a:cubicBezTo>
                  <a:pt x="15627" y="14957"/>
                  <a:pt x="15627" y="14965"/>
                  <a:pt x="15627" y="14982"/>
                </a:cubicBezTo>
                <a:cubicBezTo>
                  <a:pt x="15607" y="15008"/>
                  <a:pt x="15610" y="14981"/>
                  <a:pt x="15602" y="15032"/>
                </a:cubicBezTo>
                <a:cubicBezTo>
                  <a:pt x="15581" y="15047"/>
                  <a:pt x="15574" y="15041"/>
                  <a:pt x="15553" y="15056"/>
                </a:cubicBezTo>
                <a:cubicBezTo>
                  <a:pt x="15538" y="15077"/>
                  <a:pt x="15544" y="15085"/>
                  <a:pt x="15528" y="15106"/>
                </a:cubicBezTo>
                <a:cubicBezTo>
                  <a:pt x="15496" y="15125"/>
                  <a:pt x="15501" y="15124"/>
                  <a:pt x="15453" y="15131"/>
                </a:cubicBezTo>
                <a:cubicBezTo>
                  <a:pt x="15428" y="15146"/>
                  <a:pt x="15430" y="15149"/>
                  <a:pt x="15379" y="15156"/>
                </a:cubicBezTo>
                <a:cubicBezTo>
                  <a:pt x="15359" y="15163"/>
                  <a:pt x="15308" y="15180"/>
                  <a:pt x="15255" y="15180"/>
                </a:cubicBezTo>
                <a:cubicBezTo>
                  <a:pt x="15240" y="15146"/>
                  <a:pt x="15220" y="15124"/>
                  <a:pt x="15205" y="15106"/>
                </a:cubicBezTo>
                <a:cubicBezTo>
                  <a:pt x="15198" y="15060"/>
                  <a:pt x="15205" y="15073"/>
                  <a:pt x="15180" y="15032"/>
                </a:cubicBezTo>
              </a:path>
              <a:path w="5508" h="1514">
                <a:moveTo>
                  <a:pt x="15900" y="13767"/>
                </a:moveTo>
                <a:cubicBezTo>
                  <a:pt x="15880" y="13786"/>
                  <a:pt x="15856" y="13809"/>
                  <a:pt x="15850" y="13841"/>
                </a:cubicBezTo>
                <a:cubicBezTo>
                  <a:pt x="15844" y="13872"/>
                  <a:pt x="15829" y="13917"/>
                  <a:pt x="15825" y="13940"/>
                </a:cubicBezTo>
                <a:cubicBezTo>
                  <a:pt x="15803" y="14069"/>
                  <a:pt x="15832" y="14224"/>
                  <a:pt x="15850" y="14337"/>
                </a:cubicBezTo>
                <a:cubicBezTo>
                  <a:pt x="15862" y="14410"/>
                  <a:pt x="15864" y="14497"/>
                  <a:pt x="15875" y="14560"/>
                </a:cubicBezTo>
                <a:cubicBezTo>
                  <a:pt x="15881" y="14593"/>
                  <a:pt x="15893" y="14602"/>
                  <a:pt x="15900" y="14635"/>
                </a:cubicBezTo>
                <a:cubicBezTo>
                  <a:pt x="15911" y="14692"/>
                  <a:pt x="15905" y="14677"/>
                  <a:pt x="15925" y="14734"/>
                </a:cubicBezTo>
                <a:cubicBezTo>
                  <a:pt x="15939" y="14776"/>
                  <a:pt x="15964" y="14790"/>
                  <a:pt x="15974" y="14833"/>
                </a:cubicBezTo>
                <a:cubicBezTo>
                  <a:pt x="15985" y="14882"/>
                  <a:pt x="15972" y="14888"/>
                  <a:pt x="15999" y="14932"/>
                </a:cubicBezTo>
                <a:cubicBezTo>
                  <a:pt x="16017" y="14961"/>
                  <a:pt x="16021" y="14968"/>
                  <a:pt x="16049" y="15007"/>
                </a:cubicBezTo>
                <a:cubicBezTo>
                  <a:pt x="16049" y="15032"/>
                  <a:pt x="16049" y="15040"/>
                  <a:pt x="16073" y="15032"/>
                </a:cubicBezTo>
                <a:cubicBezTo>
                  <a:pt x="16096" y="15009"/>
                  <a:pt x="16102" y="14983"/>
                  <a:pt x="16123" y="14957"/>
                </a:cubicBezTo>
                <a:cubicBezTo>
                  <a:pt x="16146" y="14929"/>
                  <a:pt x="16133" y="14924"/>
                  <a:pt x="16148" y="14883"/>
                </a:cubicBezTo>
                <a:cubicBezTo>
                  <a:pt x="16149" y="14880"/>
                  <a:pt x="16187" y="14821"/>
                  <a:pt x="16197" y="14808"/>
                </a:cubicBezTo>
                <a:cubicBezTo>
                  <a:pt x="16207" y="14795"/>
                  <a:pt x="16234" y="14724"/>
                  <a:pt x="16247" y="14709"/>
                </a:cubicBezTo>
                <a:cubicBezTo>
                  <a:pt x="16278" y="14672"/>
                  <a:pt x="16305" y="14683"/>
                  <a:pt x="16321" y="14610"/>
                </a:cubicBezTo>
                <a:cubicBezTo>
                  <a:pt x="16334" y="14550"/>
                  <a:pt x="16344" y="14564"/>
                  <a:pt x="16371" y="14511"/>
                </a:cubicBezTo>
                <a:cubicBezTo>
                  <a:pt x="16398" y="14457"/>
                  <a:pt x="16398" y="14454"/>
                  <a:pt x="16421" y="14412"/>
                </a:cubicBezTo>
                <a:cubicBezTo>
                  <a:pt x="16429" y="14398"/>
                  <a:pt x="16470" y="14338"/>
                  <a:pt x="16470" y="14337"/>
                </a:cubicBezTo>
                <a:cubicBezTo>
                  <a:pt x="16478" y="14292"/>
                  <a:pt x="16493" y="14199"/>
                  <a:pt x="16495" y="14188"/>
                </a:cubicBezTo>
                <a:cubicBezTo>
                  <a:pt x="16508" y="14125"/>
                  <a:pt x="16517" y="14151"/>
                  <a:pt x="16520" y="14089"/>
                </a:cubicBezTo>
                <a:cubicBezTo>
                  <a:pt x="16528" y="13949"/>
                  <a:pt x="16520" y="13807"/>
                  <a:pt x="16520" y="13667"/>
                </a:cubicBezTo>
                <a:cubicBezTo>
                  <a:pt x="16520" y="13780"/>
                  <a:pt x="16512" y="13892"/>
                  <a:pt x="16495" y="13990"/>
                </a:cubicBezTo>
                <a:cubicBezTo>
                  <a:pt x="16487" y="14036"/>
                  <a:pt x="16475" y="14103"/>
                  <a:pt x="16470" y="14139"/>
                </a:cubicBezTo>
                <a:cubicBezTo>
                  <a:pt x="16447" y="14315"/>
                  <a:pt x="16472" y="14524"/>
                  <a:pt x="16495" y="14684"/>
                </a:cubicBezTo>
                <a:cubicBezTo>
                  <a:pt x="16500" y="14720"/>
                  <a:pt x="16515" y="14757"/>
                  <a:pt x="16520" y="14784"/>
                </a:cubicBezTo>
                <a:cubicBezTo>
                  <a:pt x="16528" y="14831"/>
                  <a:pt x="16534" y="14837"/>
                  <a:pt x="16545" y="14858"/>
                </a:cubicBezTo>
                <a:cubicBezTo>
                  <a:pt x="16555" y="14877"/>
                  <a:pt x="16583" y="14928"/>
                  <a:pt x="16594" y="14932"/>
                </a:cubicBezTo>
                <a:cubicBezTo>
                  <a:pt x="16642" y="14949"/>
                  <a:pt x="16709" y="14910"/>
                  <a:pt x="16718" y="14908"/>
                </a:cubicBezTo>
                <a:cubicBezTo>
                  <a:pt x="16771" y="14898"/>
                  <a:pt x="16765" y="14906"/>
                  <a:pt x="16793" y="14883"/>
                </a:cubicBezTo>
                <a:cubicBezTo>
                  <a:pt x="16801" y="14877"/>
                  <a:pt x="16840" y="14834"/>
                  <a:pt x="16842" y="14833"/>
                </a:cubicBezTo>
                <a:cubicBezTo>
                  <a:pt x="16850" y="14833"/>
                  <a:pt x="16859" y="14833"/>
                  <a:pt x="16867" y="14833"/>
                </a:cubicBezTo>
              </a:path>
              <a:path w="5508" h="1514">
                <a:moveTo>
                  <a:pt x="17636" y="14536"/>
                </a:moveTo>
                <a:cubicBezTo>
                  <a:pt x="17636" y="14478"/>
                  <a:pt x="17620" y="14433"/>
                  <a:pt x="17611" y="14387"/>
                </a:cubicBezTo>
                <a:cubicBezTo>
                  <a:pt x="17598" y="14325"/>
                  <a:pt x="17608" y="14358"/>
                  <a:pt x="17562" y="14312"/>
                </a:cubicBezTo>
                <a:cubicBezTo>
                  <a:pt x="17542" y="14292"/>
                  <a:pt x="17532" y="14274"/>
                  <a:pt x="17487" y="14263"/>
                </a:cubicBezTo>
                <a:cubicBezTo>
                  <a:pt x="17423" y="14248"/>
                  <a:pt x="17342" y="14266"/>
                  <a:pt x="17314" y="14288"/>
                </a:cubicBezTo>
                <a:cubicBezTo>
                  <a:pt x="17290" y="14307"/>
                  <a:pt x="17285" y="14317"/>
                  <a:pt x="17264" y="14337"/>
                </a:cubicBezTo>
                <a:cubicBezTo>
                  <a:pt x="17240" y="14361"/>
                  <a:pt x="17246" y="14378"/>
                  <a:pt x="17214" y="14387"/>
                </a:cubicBezTo>
                <a:cubicBezTo>
                  <a:pt x="17172" y="14399"/>
                  <a:pt x="17168" y="14390"/>
                  <a:pt x="17140" y="14412"/>
                </a:cubicBezTo>
                <a:cubicBezTo>
                  <a:pt x="17120" y="14428"/>
                  <a:pt x="17117" y="14449"/>
                  <a:pt x="17115" y="14486"/>
                </a:cubicBezTo>
                <a:cubicBezTo>
                  <a:pt x="17112" y="14530"/>
                  <a:pt x="17110" y="14535"/>
                  <a:pt x="17090" y="14560"/>
                </a:cubicBezTo>
                <a:cubicBezTo>
                  <a:pt x="17071" y="14584"/>
                  <a:pt x="17068" y="14592"/>
                  <a:pt x="17066" y="14635"/>
                </a:cubicBezTo>
                <a:cubicBezTo>
                  <a:pt x="17063" y="14687"/>
                  <a:pt x="17084" y="14720"/>
                  <a:pt x="17090" y="14759"/>
                </a:cubicBezTo>
                <a:cubicBezTo>
                  <a:pt x="17098" y="14813"/>
                  <a:pt x="17108" y="14824"/>
                  <a:pt x="17115" y="14858"/>
                </a:cubicBezTo>
                <a:cubicBezTo>
                  <a:pt x="17121" y="14887"/>
                  <a:pt x="17120" y="14924"/>
                  <a:pt x="17140" y="14932"/>
                </a:cubicBezTo>
                <a:cubicBezTo>
                  <a:pt x="17193" y="14952"/>
                  <a:pt x="17268" y="14924"/>
                  <a:pt x="17289" y="14908"/>
                </a:cubicBezTo>
                <a:cubicBezTo>
                  <a:pt x="17316" y="14886"/>
                  <a:pt x="17327" y="14901"/>
                  <a:pt x="17363" y="14883"/>
                </a:cubicBezTo>
                <a:cubicBezTo>
                  <a:pt x="17363" y="14883"/>
                  <a:pt x="17409" y="14837"/>
                  <a:pt x="17413" y="14833"/>
                </a:cubicBezTo>
                <a:cubicBezTo>
                  <a:pt x="17429" y="14817"/>
                  <a:pt x="17446" y="14800"/>
                  <a:pt x="17462" y="14784"/>
                </a:cubicBezTo>
                <a:cubicBezTo>
                  <a:pt x="17486" y="14760"/>
                  <a:pt x="17473" y="14748"/>
                  <a:pt x="17487" y="14709"/>
                </a:cubicBezTo>
                <a:cubicBezTo>
                  <a:pt x="17490" y="14700"/>
                  <a:pt x="17527" y="14654"/>
                  <a:pt x="17537" y="14635"/>
                </a:cubicBezTo>
                <a:cubicBezTo>
                  <a:pt x="17561" y="14590"/>
                  <a:pt x="17604" y="14572"/>
                  <a:pt x="17611" y="14560"/>
                </a:cubicBezTo>
                <a:cubicBezTo>
                  <a:pt x="17624" y="14536"/>
                  <a:pt x="17632" y="14437"/>
                  <a:pt x="17636" y="14412"/>
                </a:cubicBezTo>
                <a:cubicBezTo>
                  <a:pt x="17644" y="14366"/>
                  <a:pt x="17642" y="14353"/>
                  <a:pt x="17661" y="14312"/>
                </a:cubicBezTo>
                <a:cubicBezTo>
                  <a:pt x="17674" y="14284"/>
                  <a:pt x="17669" y="14272"/>
                  <a:pt x="17686" y="14238"/>
                </a:cubicBezTo>
                <a:cubicBezTo>
                  <a:pt x="17698" y="14214"/>
                  <a:pt x="17735" y="14189"/>
                  <a:pt x="17711" y="14213"/>
                </a:cubicBezTo>
                <a:cubicBezTo>
                  <a:pt x="17700" y="14224"/>
                  <a:pt x="17663" y="14281"/>
                  <a:pt x="17661" y="14288"/>
                </a:cubicBezTo>
                <a:cubicBezTo>
                  <a:pt x="17651" y="14328"/>
                  <a:pt x="17644" y="14346"/>
                  <a:pt x="17636" y="14387"/>
                </a:cubicBezTo>
                <a:cubicBezTo>
                  <a:pt x="17624" y="14447"/>
                  <a:pt x="17617" y="14557"/>
                  <a:pt x="17611" y="14585"/>
                </a:cubicBezTo>
                <a:cubicBezTo>
                  <a:pt x="17596" y="14658"/>
                  <a:pt x="17593" y="14829"/>
                  <a:pt x="17636" y="14883"/>
                </a:cubicBezTo>
                <a:cubicBezTo>
                  <a:pt x="17657" y="14909"/>
                  <a:pt x="17647" y="14921"/>
                  <a:pt x="17686" y="14932"/>
                </a:cubicBezTo>
                <a:cubicBezTo>
                  <a:pt x="17738" y="14947"/>
                  <a:pt x="17771" y="14915"/>
                  <a:pt x="17810" y="14908"/>
                </a:cubicBezTo>
                <a:cubicBezTo>
                  <a:pt x="17849" y="14900"/>
                  <a:pt x="17929" y="14884"/>
                  <a:pt x="17934" y="14883"/>
                </a:cubicBezTo>
                <a:cubicBezTo>
                  <a:pt x="17978" y="14874"/>
                  <a:pt x="17981" y="14880"/>
                  <a:pt x="18008" y="14858"/>
                </a:cubicBezTo>
                <a:cubicBezTo>
                  <a:pt x="18037" y="14835"/>
                  <a:pt x="18051" y="14836"/>
                  <a:pt x="18058" y="14784"/>
                </a:cubicBezTo>
                <a:cubicBezTo>
                  <a:pt x="18058" y="14767"/>
                  <a:pt x="18058" y="14751"/>
                  <a:pt x="18058" y="14734"/>
                </a:cubicBezTo>
              </a:path>
              <a:path w="5508" h="1514">
                <a:moveTo>
                  <a:pt x="18355" y="14114"/>
                </a:moveTo>
                <a:cubicBezTo>
                  <a:pt x="18348" y="14127"/>
                  <a:pt x="18344" y="14161"/>
                  <a:pt x="18331" y="14188"/>
                </a:cubicBezTo>
                <a:cubicBezTo>
                  <a:pt x="18321" y="14208"/>
                  <a:pt x="18287" y="14232"/>
                  <a:pt x="18281" y="14263"/>
                </a:cubicBezTo>
                <a:cubicBezTo>
                  <a:pt x="18271" y="14312"/>
                  <a:pt x="18263" y="14300"/>
                  <a:pt x="18256" y="14337"/>
                </a:cubicBezTo>
                <a:cubicBezTo>
                  <a:pt x="18249" y="14370"/>
                  <a:pt x="18238" y="14379"/>
                  <a:pt x="18231" y="14412"/>
                </a:cubicBezTo>
                <a:cubicBezTo>
                  <a:pt x="18221" y="14459"/>
                  <a:pt x="18214" y="14450"/>
                  <a:pt x="18207" y="14486"/>
                </a:cubicBezTo>
                <a:cubicBezTo>
                  <a:pt x="18200" y="14524"/>
                  <a:pt x="18183" y="14603"/>
                  <a:pt x="18182" y="14610"/>
                </a:cubicBezTo>
                <a:cubicBezTo>
                  <a:pt x="18166" y="14688"/>
                  <a:pt x="18188" y="14770"/>
                  <a:pt x="18207" y="14833"/>
                </a:cubicBezTo>
                <a:cubicBezTo>
                  <a:pt x="18207" y="14841"/>
                  <a:pt x="18207" y="14850"/>
                  <a:pt x="18207" y="14858"/>
                </a:cubicBezTo>
                <a:cubicBezTo>
                  <a:pt x="18250" y="14852"/>
                  <a:pt x="18255" y="14854"/>
                  <a:pt x="18281" y="14833"/>
                </a:cubicBezTo>
                <a:cubicBezTo>
                  <a:pt x="18307" y="14812"/>
                  <a:pt x="18299" y="14793"/>
                  <a:pt x="18331" y="14784"/>
                </a:cubicBezTo>
                <a:cubicBezTo>
                  <a:pt x="18373" y="14772"/>
                  <a:pt x="18377" y="14781"/>
                  <a:pt x="18405" y="14759"/>
                </a:cubicBezTo>
                <a:cubicBezTo>
                  <a:pt x="18429" y="14739"/>
                  <a:pt x="18447" y="14742"/>
                  <a:pt x="18479" y="14709"/>
                </a:cubicBezTo>
                <a:cubicBezTo>
                  <a:pt x="18501" y="14687"/>
                  <a:pt x="18509" y="14660"/>
                  <a:pt x="18529" y="14635"/>
                </a:cubicBezTo>
                <a:cubicBezTo>
                  <a:pt x="18539" y="14623"/>
                  <a:pt x="18567" y="14597"/>
                  <a:pt x="18579" y="14585"/>
                </a:cubicBezTo>
                <a:cubicBezTo>
                  <a:pt x="18602" y="14562"/>
                  <a:pt x="18619" y="14567"/>
                  <a:pt x="18628" y="14536"/>
                </a:cubicBezTo>
                <a:cubicBezTo>
                  <a:pt x="18640" y="14494"/>
                  <a:pt x="18642" y="14481"/>
                  <a:pt x="18653" y="14461"/>
                </a:cubicBezTo>
                <a:cubicBezTo>
                  <a:pt x="18670" y="14429"/>
                  <a:pt x="18693" y="14422"/>
                  <a:pt x="18703" y="14387"/>
                </a:cubicBezTo>
                <a:cubicBezTo>
                  <a:pt x="18715" y="14344"/>
                  <a:pt x="18706" y="14340"/>
                  <a:pt x="18728" y="14312"/>
                </a:cubicBezTo>
                <a:cubicBezTo>
                  <a:pt x="18747" y="14288"/>
                  <a:pt x="18750" y="14281"/>
                  <a:pt x="18752" y="14238"/>
                </a:cubicBezTo>
                <a:cubicBezTo>
                  <a:pt x="18753" y="14213"/>
                  <a:pt x="18752" y="14188"/>
                  <a:pt x="18752" y="14163"/>
                </a:cubicBezTo>
                <a:cubicBezTo>
                  <a:pt x="18770" y="14199"/>
                  <a:pt x="18760" y="14174"/>
                  <a:pt x="18752" y="14238"/>
                </a:cubicBezTo>
                <a:cubicBezTo>
                  <a:pt x="18745" y="14295"/>
                  <a:pt x="18752" y="14307"/>
                  <a:pt x="18728" y="14337"/>
                </a:cubicBezTo>
                <a:cubicBezTo>
                  <a:pt x="18695" y="14379"/>
                  <a:pt x="18722" y="14394"/>
                  <a:pt x="18703" y="14436"/>
                </a:cubicBezTo>
                <a:cubicBezTo>
                  <a:pt x="18690" y="14465"/>
                  <a:pt x="18695" y="14476"/>
                  <a:pt x="18678" y="14511"/>
                </a:cubicBezTo>
                <a:cubicBezTo>
                  <a:pt x="18668" y="14531"/>
                  <a:pt x="18634" y="14554"/>
                  <a:pt x="18628" y="14585"/>
                </a:cubicBezTo>
                <a:cubicBezTo>
                  <a:pt x="18622" y="14617"/>
                  <a:pt x="18610" y="14628"/>
                  <a:pt x="18604" y="14660"/>
                </a:cubicBezTo>
                <a:cubicBezTo>
                  <a:pt x="18591" y="14726"/>
                  <a:pt x="18618" y="14781"/>
                  <a:pt x="18628" y="14833"/>
                </a:cubicBezTo>
                <a:cubicBezTo>
                  <a:pt x="18639" y="14889"/>
                  <a:pt x="18618" y="14876"/>
                  <a:pt x="18678" y="14883"/>
                </a:cubicBezTo>
                <a:cubicBezTo>
                  <a:pt x="18731" y="14890"/>
                  <a:pt x="18730" y="14876"/>
                  <a:pt x="18752" y="14858"/>
                </a:cubicBezTo>
                <a:cubicBezTo>
                  <a:pt x="18779" y="14836"/>
                  <a:pt x="18790" y="14851"/>
                  <a:pt x="18827" y="14833"/>
                </a:cubicBezTo>
                <a:cubicBezTo>
                  <a:pt x="18856" y="14818"/>
                  <a:pt x="18853" y="14807"/>
                  <a:pt x="18876" y="14784"/>
                </a:cubicBezTo>
                <a:cubicBezTo>
                  <a:pt x="18893" y="14767"/>
                  <a:pt x="18909" y="14751"/>
                  <a:pt x="18926" y="14734"/>
                </a:cubicBezTo>
                <a:cubicBezTo>
                  <a:pt x="18950" y="14710"/>
                  <a:pt x="18934" y="14695"/>
                  <a:pt x="18951" y="14660"/>
                </a:cubicBezTo>
                <a:cubicBezTo>
                  <a:pt x="18966" y="14631"/>
                  <a:pt x="18977" y="14633"/>
                  <a:pt x="19000" y="14610"/>
                </a:cubicBezTo>
                <a:cubicBezTo>
                  <a:pt x="19023" y="14586"/>
                  <a:pt x="19043" y="14593"/>
                  <a:pt x="19050" y="14560"/>
                </a:cubicBezTo>
                <a:cubicBezTo>
                  <a:pt x="19061" y="14509"/>
                  <a:pt x="19051" y="14491"/>
                  <a:pt x="19075" y="14461"/>
                </a:cubicBezTo>
                <a:cubicBezTo>
                  <a:pt x="19095" y="14435"/>
                  <a:pt x="19115" y="14443"/>
                  <a:pt x="19124" y="14412"/>
                </a:cubicBezTo>
                <a:cubicBezTo>
                  <a:pt x="19135" y="14372"/>
                  <a:pt x="19143" y="14353"/>
                  <a:pt x="19149" y="14312"/>
                </a:cubicBezTo>
                <a:cubicBezTo>
                  <a:pt x="19154" y="14277"/>
                  <a:pt x="19174" y="14215"/>
                  <a:pt x="19174" y="14213"/>
                </a:cubicBezTo>
                <a:cubicBezTo>
                  <a:pt x="19185" y="14159"/>
                  <a:pt x="19182" y="14142"/>
                  <a:pt x="19199" y="14114"/>
                </a:cubicBezTo>
                <a:cubicBezTo>
                  <a:pt x="19199" y="14157"/>
                  <a:pt x="19176" y="14205"/>
                  <a:pt x="19174" y="14213"/>
                </a:cubicBezTo>
                <a:cubicBezTo>
                  <a:pt x="19162" y="14271"/>
                  <a:pt x="19153" y="14386"/>
                  <a:pt x="19149" y="14412"/>
                </a:cubicBezTo>
                <a:cubicBezTo>
                  <a:pt x="19141" y="14462"/>
                  <a:pt x="19132" y="14448"/>
                  <a:pt x="19124" y="14486"/>
                </a:cubicBezTo>
                <a:cubicBezTo>
                  <a:pt x="19115" y="14530"/>
                  <a:pt x="19103" y="14621"/>
                  <a:pt x="19100" y="14635"/>
                </a:cubicBezTo>
                <a:cubicBezTo>
                  <a:pt x="19092" y="14677"/>
                  <a:pt x="19081" y="14866"/>
                  <a:pt x="19124" y="14883"/>
                </a:cubicBezTo>
                <a:cubicBezTo>
                  <a:pt x="19179" y="14904"/>
                  <a:pt x="19252" y="14875"/>
                  <a:pt x="19273" y="14858"/>
                </a:cubicBezTo>
                <a:cubicBezTo>
                  <a:pt x="19309" y="14829"/>
                  <a:pt x="19320" y="14859"/>
                  <a:pt x="19372" y="14833"/>
                </a:cubicBezTo>
                <a:cubicBezTo>
                  <a:pt x="19401" y="14818"/>
                  <a:pt x="19399" y="14807"/>
                  <a:pt x="19422" y="14784"/>
                </a:cubicBezTo>
                <a:cubicBezTo>
                  <a:pt x="19429" y="14777"/>
                  <a:pt x="19483" y="14724"/>
                  <a:pt x="19472" y="14709"/>
                </a:cubicBezTo>
                <a:cubicBezTo>
                  <a:pt x="19467" y="14701"/>
                  <a:pt x="19408" y="14690"/>
                  <a:pt x="19397" y="14684"/>
                </a:cubicBezTo>
              </a:path>
              <a:path w="5508" h="1514">
                <a:moveTo>
                  <a:pt x="20315" y="14412"/>
                </a:moveTo>
                <a:cubicBezTo>
                  <a:pt x="20315" y="14345"/>
                  <a:pt x="20317" y="14297"/>
                  <a:pt x="20290" y="14263"/>
                </a:cubicBezTo>
                <a:cubicBezTo>
                  <a:pt x="20263" y="14230"/>
                  <a:pt x="20258" y="14207"/>
                  <a:pt x="20241" y="14188"/>
                </a:cubicBezTo>
                <a:cubicBezTo>
                  <a:pt x="20200" y="14142"/>
                  <a:pt x="20183" y="14160"/>
                  <a:pt x="20141" y="14139"/>
                </a:cubicBezTo>
                <a:cubicBezTo>
                  <a:pt x="20119" y="14128"/>
                  <a:pt x="20118" y="14117"/>
                  <a:pt x="20067" y="14114"/>
                </a:cubicBezTo>
                <a:cubicBezTo>
                  <a:pt x="20009" y="14111"/>
                  <a:pt x="19994" y="14118"/>
                  <a:pt x="19968" y="14139"/>
                </a:cubicBezTo>
                <a:cubicBezTo>
                  <a:pt x="19941" y="14160"/>
                  <a:pt x="19929" y="14145"/>
                  <a:pt x="19893" y="14163"/>
                </a:cubicBezTo>
                <a:cubicBezTo>
                  <a:pt x="19864" y="14178"/>
                  <a:pt x="19853" y="14181"/>
                  <a:pt x="19844" y="14213"/>
                </a:cubicBezTo>
                <a:cubicBezTo>
                  <a:pt x="19828" y="14268"/>
                  <a:pt x="19845" y="14280"/>
                  <a:pt x="19819" y="14312"/>
                </a:cubicBezTo>
                <a:cubicBezTo>
                  <a:pt x="19798" y="14338"/>
                  <a:pt x="19778" y="14330"/>
                  <a:pt x="19769" y="14362"/>
                </a:cubicBezTo>
                <a:cubicBezTo>
                  <a:pt x="19760" y="14393"/>
                  <a:pt x="19751" y="14404"/>
                  <a:pt x="19745" y="14436"/>
                </a:cubicBezTo>
                <a:cubicBezTo>
                  <a:pt x="19722" y="14554"/>
                  <a:pt x="19749" y="14704"/>
                  <a:pt x="19769" y="14808"/>
                </a:cubicBezTo>
                <a:cubicBezTo>
                  <a:pt x="19776" y="14845"/>
                  <a:pt x="19772" y="14866"/>
                  <a:pt x="19794" y="14883"/>
                </a:cubicBezTo>
                <a:cubicBezTo>
                  <a:pt x="19809" y="14894"/>
                  <a:pt x="19852" y="14898"/>
                  <a:pt x="19869" y="14908"/>
                </a:cubicBezTo>
                <a:cubicBezTo>
                  <a:pt x="19875" y="14902"/>
                  <a:pt x="19961" y="14846"/>
                  <a:pt x="19968" y="14833"/>
                </a:cubicBezTo>
                <a:cubicBezTo>
                  <a:pt x="19985" y="14800"/>
                  <a:pt x="20011" y="14732"/>
                  <a:pt x="20017" y="14709"/>
                </a:cubicBezTo>
                <a:cubicBezTo>
                  <a:pt x="20036" y="14638"/>
                  <a:pt x="20015" y="14693"/>
                  <a:pt x="20067" y="14660"/>
                </a:cubicBezTo>
                <a:cubicBezTo>
                  <a:pt x="20081" y="14651"/>
                  <a:pt x="20082" y="14591"/>
                  <a:pt x="20092" y="14585"/>
                </a:cubicBezTo>
                <a:cubicBezTo>
                  <a:pt x="20146" y="14550"/>
                  <a:pt x="20106" y="14590"/>
                  <a:pt x="20141" y="14536"/>
                </a:cubicBezTo>
                <a:cubicBezTo>
                  <a:pt x="20166" y="14496"/>
                  <a:pt x="20173" y="14490"/>
                  <a:pt x="20191" y="14461"/>
                </a:cubicBezTo>
                <a:cubicBezTo>
                  <a:pt x="20200" y="14446"/>
                  <a:pt x="20226" y="14406"/>
                  <a:pt x="20241" y="14387"/>
                </a:cubicBezTo>
                <a:cubicBezTo>
                  <a:pt x="20262" y="14360"/>
                  <a:pt x="20247" y="14348"/>
                  <a:pt x="20265" y="14312"/>
                </a:cubicBezTo>
                <a:cubicBezTo>
                  <a:pt x="20279" y="14284"/>
                  <a:pt x="20272" y="14273"/>
                  <a:pt x="20290" y="14238"/>
                </a:cubicBezTo>
                <a:cubicBezTo>
                  <a:pt x="20301" y="14217"/>
                  <a:pt x="20312" y="14213"/>
                  <a:pt x="20315" y="14163"/>
                </a:cubicBezTo>
                <a:cubicBezTo>
                  <a:pt x="20317" y="14122"/>
                  <a:pt x="20323" y="14101"/>
                  <a:pt x="20340" y="14064"/>
                </a:cubicBezTo>
                <a:cubicBezTo>
                  <a:pt x="20349" y="14045"/>
                  <a:pt x="20358" y="14035"/>
                  <a:pt x="20365" y="13990"/>
                </a:cubicBezTo>
                <a:cubicBezTo>
                  <a:pt x="20365" y="14048"/>
                  <a:pt x="20344" y="14118"/>
                  <a:pt x="20340" y="14139"/>
                </a:cubicBezTo>
                <a:cubicBezTo>
                  <a:pt x="20333" y="14171"/>
                  <a:pt x="20321" y="14181"/>
                  <a:pt x="20315" y="14213"/>
                </a:cubicBezTo>
                <a:cubicBezTo>
                  <a:pt x="20306" y="14258"/>
                  <a:pt x="20293" y="14349"/>
                  <a:pt x="20290" y="14362"/>
                </a:cubicBezTo>
                <a:cubicBezTo>
                  <a:pt x="20279" y="14418"/>
                  <a:pt x="20268" y="14537"/>
                  <a:pt x="20265" y="14560"/>
                </a:cubicBezTo>
                <a:cubicBezTo>
                  <a:pt x="20253" y="14637"/>
                  <a:pt x="20258" y="14768"/>
                  <a:pt x="20290" y="14808"/>
                </a:cubicBezTo>
                <a:cubicBezTo>
                  <a:pt x="20312" y="14835"/>
                  <a:pt x="20297" y="14846"/>
                  <a:pt x="20315" y="14883"/>
                </a:cubicBezTo>
                <a:cubicBezTo>
                  <a:pt x="20330" y="14913"/>
                  <a:pt x="20385" y="14917"/>
                  <a:pt x="20414" y="14908"/>
                </a:cubicBezTo>
                <a:cubicBezTo>
                  <a:pt x="20439" y="14900"/>
                  <a:pt x="20458" y="14899"/>
                  <a:pt x="20489" y="14883"/>
                </a:cubicBezTo>
                <a:cubicBezTo>
                  <a:pt x="20528" y="14863"/>
                  <a:pt x="20511" y="14856"/>
                  <a:pt x="20563" y="14833"/>
                </a:cubicBezTo>
                <a:cubicBezTo>
                  <a:pt x="20601" y="14816"/>
                  <a:pt x="20623" y="14823"/>
                  <a:pt x="20638" y="14784"/>
                </a:cubicBezTo>
                <a:cubicBezTo>
                  <a:pt x="20650" y="14752"/>
                  <a:pt x="20638" y="14724"/>
                  <a:pt x="20662" y="14709"/>
                </a:cubicBezTo>
                <a:cubicBezTo>
                  <a:pt x="20670" y="14709"/>
                  <a:pt x="20679" y="14709"/>
                  <a:pt x="20687" y="14709"/>
                </a:cubicBezTo>
                <a:cubicBezTo>
                  <a:pt x="20646" y="14709"/>
                  <a:pt x="20604" y="14709"/>
                  <a:pt x="20563" y="147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00000" y="1157400"/>
            <a:ext cx="3743280" cy="669960"/>
          </a:xfrm>
          <a:custGeom>
            <a:avLst/>
            <a:gdLst/>
            <a:ahLst/>
            <a:rect l="l" t="t" r="r" b="b"/>
            <a:pathLst>
              <a:path w="7492" h="1340">
                <a:moveTo>
                  <a:pt x="5829" y="4713"/>
                </a:moveTo>
                <a:cubicBezTo>
                  <a:pt x="5829" y="4830"/>
                  <a:pt x="5874" y="5102"/>
                  <a:pt x="5804" y="5184"/>
                </a:cubicBezTo>
                <a:cubicBezTo>
                  <a:pt x="5761" y="5235"/>
                  <a:pt x="5734" y="5288"/>
                  <a:pt x="5730" y="5358"/>
                </a:cubicBezTo>
                <a:cubicBezTo>
                  <a:pt x="5727" y="5424"/>
                  <a:pt x="5724" y="5517"/>
                  <a:pt x="5705" y="5581"/>
                </a:cubicBezTo>
                <a:cubicBezTo>
                  <a:pt x="5681" y="5629"/>
                  <a:pt x="5673" y="5643"/>
                  <a:pt x="5680" y="5680"/>
                </a:cubicBezTo>
                <a:cubicBezTo>
                  <a:pt x="5652" y="5689"/>
                  <a:pt x="5634" y="5714"/>
                  <a:pt x="5631" y="5755"/>
                </a:cubicBezTo>
                <a:cubicBezTo>
                  <a:pt x="5631" y="5779"/>
                  <a:pt x="5631" y="5788"/>
                  <a:pt x="5631" y="5804"/>
                </a:cubicBezTo>
                <a:cubicBezTo>
                  <a:pt x="5596" y="5816"/>
                  <a:pt x="5606" y="5811"/>
                  <a:pt x="5606" y="5854"/>
                </a:cubicBezTo>
                <a:cubicBezTo>
                  <a:pt x="5571" y="5866"/>
                  <a:pt x="5581" y="5861"/>
                  <a:pt x="5581" y="5904"/>
                </a:cubicBezTo>
                <a:cubicBezTo>
                  <a:pt x="5530" y="5904"/>
                  <a:pt x="5554" y="5912"/>
                  <a:pt x="5531" y="5928"/>
                </a:cubicBezTo>
                <a:cubicBezTo>
                  <a:pt x="5500" y="5952"/>
                  <a:pt x="5501" y="5961"/>
                  <a:pt x="5457" y="5928"/>
                </a:cubicBezTo>
              </a:path>
              <a:path w="7492" h="1340">
                <a:moveTo>
                  <a:pt x="5854" y="5209"/>
                </a:moveTo>
                <a:cubicBezTo>
                  <a:pt x="5862" y="5155"/>
                  <a:pt x="5856" y="5163"/>
                  <a:pt x="5879" y="5135"/>
                </a:cubicBezTo>
                <a:cubicBezTo>
                  <a:pt x="5898" y="5112"/>
                  <a:pt x="5908" y="5105"/>
                  <a:pt x="5928" y="5085"/>
                </a:cubicBezTo>
                <a:cubicBezTo>
                  <a:pt x="5963" y="5050"/>
                  <a:pt x="5976" y="5061"/>
                  <a:pt x="6028" y="5035"/>
                </a:cubicBezTo>
                <a:cubicBezTo>
                  <a:pt x="6050" y="5024"/>
                  <a:pt x="6065" y="4991"/>
                  <a:pt x="6077" y="4986"/>
                </a:cubicBezTo>
                <a:cubicBezTo>
                  <a:pt x="6085" y="4986"/>
                  <a:pt x="6094" y="4986"/>
                  <a:pt x="6102" y="4986"/>
                </a:cubicBezTo>
                <a:cubicBezTo>
                  <a:pt x="6126" y="5033"/>
                  <a:pt x="6124" y="5050"/>
                  <a:pt x="6127" y="5110"/>
                </a:cubicBezTo>
                <a:cubicBezTo>
                  <a:pt x="6131" y="5197"/>
                  <a:pt x="6109" y="5308"/>
                  <a:pt x="6102" y="5358"/>
                </a:cubicBezTo>
                <a:cubicBezTo>
                  <a:pt x="6095" y="5407"/>
                  <a:pt x="6080" y="5492"/>
                  <a:pt x="6077" y="5507"/>
                </a:cubicBezTo>
                <a:cubicBezTo>
                  <a:pt x="6070" y="5546"/>
                  <a:pt x="6052" y="5652"/>
                  <a:pt x="6052" y="5655"/>
                </a:cubicBezTo>
                <a:cubicBezTo>
                  <a:pt x="6045" y="5711"/>
                  <a:pt x="6042" y="5720"/>
                  <a:pt x="6028" y="5755"/>
                </a:cubicBezTo>
                <a:cubicBezTo>
                  <a:pt x="6014" y="5790"/>
                  <a:pt x="6018" y="5847"/>
                  <a:pt x="6003" y="5879"/>
                </a:cubicBezTo>
                <a:cubicBezTo>
                  <a:pt x="5996" y="5894"/>
                  <a:pt x="5991" y="5938"/>
                  <a:pt x="5978" y="5953"/>
                </a:cubicBezTo>
                <a:cubicBezTo>
                  <a:pt x="5970" y="5953"/>
                  <a:pt x="5961" y="5953"/>
                  <a:pt x="5953" y="5953"/>
                </a:cubicBezTo>
                <a:cubicBezTo>
                  <a:pt x="5953" y="5913"/>
                  <a:pt x="5977" y="5858"/>
                  <a:pt x="5978" y="5854"/>
                </a:cubicBezTo>
                <a:cubicBezTo>
                  <a:pt x="5983" y="5818"/>
                  <a:pt x="5980" y="5730"/>
                  <a:pt x="6003" y="5705"/>
                </a:cubicBezTo>
                <a:cubicBezTo>
                  <a:pt x="6034" y="5671"/>
                  <a:pt x="6069" y="5635"/>
                  <a:pt x="6077" y="5606"/>
                </a:cubicBezTo>
                <a:cubicBezTo>
                  <a:pt x="6093" y="5547"/>
                  <a:pt x="6080" y="5492"/>
                  <a:pt x="6102" y="5457"/>
                </a:cubicBezTo>
                <a:cubicBezTo>
                  <a:pt x="6121" y="5426"/>
                  <a:pt x="6129" y="5430"/>
                  <a:pt x="6152" y="5407"/>
                </a:cubicBezTo>
                <a:cubicBezTo>
                  <a:pt x="6176" y="5383"/>
                  <a:pt x="6171" y="5356"/>
                  <a:pt x="6176" y="5308"/>
                </a:cubicBezTo>
                <a:cubicBezTo>
                  <a:pt x="6289" y="5283"/>
                  <a:pt x="6213" y="5306"/>
                  <a:pt x="6251" y="5209"/>
                </a:cubicBezTo>
                <a:cubicBezTo>
                  <a:pt x="6270" y="5160"/>
                  <a:pt x="6316" y="5189"/>
                  <a:pt x="6325" y="5110"/>
                </a:cubicBezTo>
                <a:cubicBezTo>
                  <a:pt x="6328" y="5081"/>
                  <a:pt x="6332" y="5042"/>
                  <a:pt x="6350" y="5035"/>
                </a:cubicBezTo>
                <a:cubicBezTo>
                  <a:pt x="6397" y="5017"/>
                  <a:pt x="6409" y="5048"/>
                  <a:pt x="6424" y="5060"/>
                </a:cubicBezTo>
                <a:cubicBezTo>
                  <a:pt x="6455" y="5085"/>
                  <a:pt x="6488" y="5096"/>
                  <a:pt x="6499" y="5135"/>
                </a:cubicBezTo>
                <a:cubicBezTo>
                  <a:pt x="6533" y="5251"/>
                  <a:pt x="6487" y="5452"/>
                  <a:pt x="6474" y="5531"/>
                </a:cubicBezTo>
                <a:cubicBezTo>
                  <a:pt x="6466" y="5578"/>
                  <a:pt x="6451" y="5668"/>
                  <a:pt x="6449" y="5680"/>
                </a:cubicBezTo>
                <a:cubicBezTo>
                  <a:pt x="6442" y="5717"/>
                  <a:pt x="6430" y="5862"/>
                  <a:pt x="6474" y="5879"/>
                </a:cubicBezTo>
                <a:cubicBezTo>
                  <a:pt x="6503" y="5890"/>
                  <a:pt x="6544" y="5899"/>
                  <a:pt x="6573" y="5904"/>
                </a:cubicBezTo>
                <a:cubicBezTo>
                  <a:pt x="6652" y="5917"/>
                  <a:pt x="6721" y="5889"/>
                  <a:pt x="6796" y="5879"/>
                </a:cubicBezTo>
                <a:cubicBezTo>
                  <a:pt x="6804" y="5878"/>
                  <a:pt x="6911" y="5862"/>
                  <a:pt x="6921" y="5854"/>
                </a:cubicBezTo>
                <a:cubicBezTo>
                  <a:pt x="6932" y="5845"/>
                  <a:pt x="6874" y="5807"/>
                  <a:pt x="6871" y="5804"/>
                </a:cubicBezTo>
              </a:path>
              <a:path w="7492" h="1340">
                <a:moveTo>
                  <a:pt x="7739" y="5581"/>
                </a:moveTo>
                <a:cubicBezTo>
                  <a:pt x="7739" y="5524"/>
                  <a:pt x="7749" y="5476"/>
                  <a:pt x="7714" y="5432"/>
                </a:cubicBezTo>
                <a:cubicBezTo>
                  <a:pt x="7695" y="5408"/>
                  <a:pt x="7685" y="5403"/>
                  <a:pt x="7665" y="5383"/>
                </a:cubicBezTo>
                <a:cubicBezTo>
                  <a:pt x="7637" y="5355"/>
                  <a:pt x="7617" y="5340"/>
                  <a:pt x="7590" y="5333"/>
                </a:cubicBezTo>
                <a:cubicBezTo>
                  <a:pt x="7547" y="5322"/>
                  <a:pt x="7485" y="5333"/>
                  <a:pt x="7441" y="5333"/>
                </a:cubicBezTo>
                <a:cubicBezTo>
                  <a:pt x="7418" y="5403"/>
                  <a:pt x="7446" y="5349"/>
                  <a:pt x="7392" y="5383"/>
                </a:cubicBezTo>
                <a:cubicBezTo>
                  <a:pt x="7386" y="5387"/>
                  <a:pt x="7350" y="5424"/>
                  <a:pt x="7342" y="5432"/>
                </a:cubicBezTo>
                <a:cubicBezTo>
                  <a:pt x="7318" y="5456"/>
                  <a:pt x="7334" y="5471"/>
                  <a:pt x="7317" y="5507"/>
                </a:cubicBezTo>
                <a:cubicBezTo>
                  <a:pt x="7303" y="5536"/>
                  <a:pt x="7275" y="5524"/>
                  <a:pt x="7268" y="5556"/>
                </a:cubicBezTo>
                <a:cubicBezTo>
                  <a:pt x="7248" y="5651"/>
                  <a:pt x="7257" y="5878"/>
                  <a:pt x="7293" y="5928"/>
                </a:cubicBezTo>
                <a:cubicBezTo>
                  <a:pt x="7320" y="5966"/>
                  <a:pt x="7351" y="5951"/>
                  <a:pt x="7392" y="5953"/>
                </a:cubicBezTo>
                <a:cubicBezTo>
                  <a:pt x="7468" y="5957"/>
                  <a:pt x="7495" y="5919"/>
                  <a:pt x="7565" y="5904"/>
                </a:cubicBezTo>
                <a:cubicBezTo>
                  <a:pt x="7633" y="5889"/>
                  <a:pt x="7633" y="5865"/>
                  <a:pt x="7665" y="5829"/>
                </a:cubicBezTo>
                <a:cubicBezTo>
                  <a:pt x="7695" y="5795"/>
                  <a:pt x="7664" y="5781"/>
                  <a:pt x="7689" y="5730"/>
                </a:cubicBezTo>
                <a:cubicBezTo>
                  <a:pt x="7703" y="5701"/>
                  <a:pt x="7696" y="5690"/>
                  <a:pt x="7714" y="5655"/>
                </a:cubicBezTo>
                <a:cubicBezTo>
                  <a:pt x="7731" y="5622"/>
                  <a:pt x="7736" y="5631"/>
                  <a:pt x="7739" y="5581"/>
                </a:cubicBezTo>
                <a:cubicBezTo>
                  <a:pt x="7743" y="5518"/>
                  <a:pt x="7739" y="5517"/>
                  <a:pt x="7764" y="5482"/>
                </a:cubicBezTo>
                <a:cubicBezTo>
                  <a:pt x="7764" y="5457"/>
                  <a:pt x="7764" y="5449"/>
                  <a:pt x="7789" y="5457"/>
                </a:cubicBezTo>
                <a:cubicBezTo>
                  <a:pt x="7783" y="5499"/>
                  <a:pt x="7770" y="5518"/>
                  <a:pt x="7764" y="5556"/>
                </a:cubicBezTo>
                <a:cubicBezTo>
                  <a:pt x="7756" y="5607"/>
                  <a:pt x="7747" y="5593"/>
                  <a:pt x="7739" y="5631"/>
                </a:cubicBezTo>
                <a:cubicBezTo>
                  <a:pt x="7729" y="5680"/>
                  <a:pt x="7722" y="5706"/>
                  <a:pt x="7714" y="5755"/>
                </a:cubicBezTo>
                <a:cubicBezTo>
                  <a:pt x="7703" y="5818"/>
                  <a:pt x="7719" y="5878"/>
                  <a:pt x="7739" y="5928"/>
                </a:cubicBezTo>
                <a:cubicBezTo>
                  <a:pt x="7760" y="5981"/>
                  <a:pt x="7755" y="6011"/>
                  <a:pt x="7813" y="6028"/>
                </a:cubicBezTo>
                <a:cubicBezTo>
                  <a:pt x="7867" y="6044"/>
                  <a:pt x="7967" y="6026"/>
                  <a:pt x="8012" y="6003"/>
                </a:cubicBezTo>
                <a:cubicBezTo>
                  <a:pt x="8102" y="5957"/>
                  <a:pt x="8186" y="5966"/>
                  <a:pt x="8260" y="5904"/>
                </a:cubicBezTo>
                <a:cubicBezTo>
                  <a:pt x="8336" y="5840"/>
                  <a:pt x="8397" y="5866"/>
                  <a:pt x="8483" y="5829"/>
                </a:cubicBezTo>
                <a:cubicBezTo>
                  <a:pt x="8520" y="5813"/>
                  <a:pt x="8517" y="5795"/>
                  <a:pt x="8533" y="5779"/>
                </a:cubicBezTo>
                <a:cubicBezTo>
                  <a:pt x="8482" y="5779"/>
                  <a:pt x="8458" y="5772"/>
                  <a:pt x="8434" y="5755"/>
                </a:cubicBezTo>
                <a:cubicBezTo>
                  <a:pt x="8417" y="5738"/>
                  <a:pt x="8401" y="5722"/>
                  <a:pt x="8384" y="5705"/>
                </a:cubicBezTo>
              </a:path>
              <a:path w="7492" h="1340">
                <a:moveTo>
                  <a:pt x="8880" y="5209"/>
                </a:moveTo>
                <a:cubicBezTo>
                  <a:pt x="8880" y="5250"/>
                  <a:pt x="8880" y="5292"/>
                  <a:pt x="8880" y="5333"/>
                </a:cubicBezTo>
                <a:cubicBezTo>
                  <a:pt x="8845" y="5345"/>
                  <a:pt x="8855" y="5340"/>
                  <a:pt x="8855" y="5383"/>
                </a:cubicBezTo>
                <a:cubicBezTo>
                  <a:pt x="8820" y="5394"/>
                  <a:pt x="8830" y="5390"/>
                  <a:pt x="8830" y="5432"/>
                </a:cubicBezTo>
                <a:cubicBezTo>
                  <a:pt x="8794" y="5445"/>
                  <a:pt x="8806" y="5463"/>
                  <a:pt x="8806" y="5507"/>
                </a:cubicBezTo>
                <a:cubicBezTo>
                  <a:pt x="8806" y="5559"/>
                  <a:pt x="8792" y="5563"/>
                  <a:pt x="8781" y="5606"/>
                </a:cubicBezTo>
                <a:cubicBezTo>
                  <a:pt x="8743" y="5619"/>
                  <a:pt x="8756" y="5635"/>
                  <a:pt x="8756" y="5680"/>
                </a:cubicBezTo>
                <a:cubicBezTo>
                  <a:pt x="8756" y="5688"/>
                  <a:pt x="8756" y="5697"/>
                  <a:pt x="8756" y="5705"/>
                </a:cubicBezTo>
                <a:cubicBezTo>
                  <a:pt x="8718" y="5718"/>
                  <a:pt x="8731" y="5734"/>
                  <a:pt x="8731" y="5779"/>
                </a:cubicBezTo>
                <a:cubicBezTo>
                  <a:pt x="8696" y="5791"/>
                  <a:pt x="8706" y="5786"/>
                  <a:pt x="8706" y="5829"/>
                </a:cubicBezTo>
                <a:cubicBezTo>
                  <a:pt x="8674" y="5851"/>
                  <a:pt x="8682" y="5878"/>
                  <a:pt x="8682" y="5928"/>
                </a:cubicBezTo>
                <a:cubicBezTo>
                  <a:pt x="8654" y="5937"/>
                  <a:pt x="8643" y="5986"/>
                  <a:pt x="8632" y="6028"/>
                </a:cubicBezTo>
                <a:cubicBezTo>
                  <a:pt x="8632" y="6052"/>
                  <a:pt x="8632" y="6060"/>
                  <a:pt x="8607" y="6052"/>
                </a:cubicBezTo>
              </a:path>
              <a:path w="7492" h="1340">
                <a:moveTo>
                  <a:pt x="8781" y="5705"/>
                </a:moveTo>
                <a:cubicBezTo>
                  <a:pt x="8781" y="5665"/>
                  <a:pt x="8783" y="5618"/>
                  <a:pt x="8806" y="5606"/>
                </a:cubicBezTo>
                <a:cubicBezTo>
                  <a:pt x="8829" y="5594"/>
                  <a:pt x="8841" y="5563"/>
                  <a:pt x="8855" y="5556"/>
                </a:cubicBezTo>
                <a:cubicBezTo>
                  <a:pt x="8876" y="5546"/>
                  <a:pt x="8930" y="5556"/>
                  <a:pt x="8954" y="5556"/>
                </a:cubicBezTo>
                <a:cubicBezTo>
                  <a:pt x="8954" y="5648"/>
                  <a:pt x="8975" y="5596"/>
                  <a:pt x="9004" y="5631"/>
                </a:cubicBezTo>
                <a:cubicBezTo>
                  <a:pt x="9004" y="5655"/>
                  <a:pt x="9004" y="5663"/>
                  <a:pt x="9029" y="5655"/>
                </a:cubicBezTo>
                <a:cubicBezTo>
                  <a:pt x="9037" y="5652"/>
                  <a:pt x="9117" y="5639"/>
                  <a:pt x="9128" y="5631"/>
                </a:cubicBezTo>
                <a:cubicBezTo>
                  <a:pt x="9151" y="5614"/>
                  <a:pt x="9145" y="5596"/>
                  <a:pt x="9178" y="5581"/>
                </a:cubicBezTo>
                <a:cubicBezTo>
                  <a:pt x="9203" y="5569"/>
                  <a:pt x="9250" y="5516"/>
                  <a:pt x="9252" y="5507"/>
                </a:cubicBezTo>
                <a:cubicBezTo>
                  <a:pt x="9256" y="5493"/>
                  <a:pt x="9265" y="5416"/>
                  <a:pt x="9277" y="5407"/>
                </a:cubicBezTo>
                <a:cubicBezTo>
                  <a:pt x="9301" y="5388"/>
                  <a:pt x="9322" y="5397"/>
                  <a:pt x="9327" y="5358"/>
                </a:cubicBezTo>
                <a:cubicBezTo>
                  <a:pt x="9332" y="5318"/>
                  <a:pt x="9365" y="5330"/>
                  <a:pt x="9376" y="5308"/>
                </a:cubicBezTo>
                <a:cubicBezTo>
                  <a:pt x="9385" y="5289"/>
                  <a:pt x="9401" y="5241"/>
                  <a:pt x="9401" y="5283"/>
                </a:cubicBezTo>
                <a:cubicBezTo>
                  <a:pt x="9401" y="5324"/>
                  <a:pt x="9362" y="5311"/>
                  <a:pt x="9351" y="5333"/>
                </a:cubicBezTo>
                <a:cubicBezTo>
                  <a:pt x="9335" y="5366"/>
                  <a:pt x="9335" y="5440"/>
                  <a:pt x="9327" y="5457"/>
                </a:cubicBezTo>
                <a:cubicBezTo>
                  <a:pt x="9314" y="5483"/>
                  <a:pt x="9304" y="5512"/>
                  <a:pt x="9302" y="5531"/>
                </a:cubicBezTo>
                <a:cubicBezTo>
                  <a:pt x="9298" y="5563"/>
                  <a:pt x="9302" y="5599"/>
                  <a:pt x="9302" y="5631"/>
                </a:cubicBezTo>
                <a:cubicBezTo>
                  <a:pt x="9250" y="5631"/>
                  <a:pt x="9252" y="5628"/>
                  <a:pt x="9252" y="5680"/>
                </a:cubicBezTo>
                <a:cubicBezTo>
                  <a:pt x="9252" y="5721"/>
                  <a:pt x="9227" y="5709"/>
                  <a:pt x="9227" y="5779"/>
                </a:cubicBezTo>
                <a:cubicBezTo>
                  <a:pt x="9227" y="5863"/>
                  <a:pt x="9228" y="5932"/>
                  <a:pt x="9252" y="6003"/>
                </a:cubicBezTo>
                <a:cubicBezTo>
                  <a:pt x="9265" y="6041"/>
                  <a:pt x="9282" y="6028"/>
                  <a:pt x="9327" y="6028"/>
                </a:cubicBezTo>
                <a:cubicBezTo>
                  <a:pt x="9367" y="6028"/>
                  <a:pt x="9355" y="5988"/>
                  <a:pt x="9376" y="5978"/>
                </a:cubicBezTo>
                <a:cubicBezTo>
                  <a:pt x="9428" y="5952"/>
                  <a:pt x="9394" y="5954"/>
                  <a:pt x="9426" y="5928"/>
                </a:cubicBezTo>
                <a:cubicBezTo>
                  <a:pt x="9449" y="5910"/>
                  <a:pt x="9470" y="5901"/>
                  <a:pt x="9475" y="5854"/>
                </a:cubicBezTo>
                <a:cubicBezTo>
                  <a:pt x="9475" y="5829"/>
                  <a:pt x="9475" y="5821"/>
                  <a:pt x="9500" y="5829"/>
                </a:cubicBezTo>
              </a:path>
              <a:path w="7492" h="1340">
                <a:moveTo>
                  <a:pt x="9947" y="5184"/>
                </a:moveTo>
                <a:cubicBezTo>
                  <a:pt x="9947" y="5215"/>
                  <a:pt x="9939" y="5251"/>
                  <a:pt x="9922" y="5259"/>
                </a:cubicBezTo>
                <a:cubicBezTo>
                  <a:pt x="9889" y="5276"/>
                  <a:pt x="9876" y="5313"/>
                  <a:pt x="9872" y="5358"/>
                </a:cubicBezTo>
                <a:cubicBezTo>
                  <a:pt x="9868" y="5399"/>
                  <a:pt x="9834" y="5384"/>
                  <a:pt x="9823" y="5407"/>
                </a:cubicBezTo>
                <a:cubicBezTo>
                  <a:pt x="9820" y="5413"/>
                  <a:pt x="9804" y="5478"/>
                  <a:pt x="9798" y="5482"/>
                </a:cubicBezTo>
                <a:cubicBezTo>
                  <a:pt x="9779" y="5497"/>
                  <a:pt x="9750" y="5527"/>
                  <a:pt x="9748" y="5556"/>
                </a:cubicBezTo>
                <a:cubicBezTo>
                  <a:pt x="9742" y="5629"/>
                  <a:pt x="9723" y="5594"/>
                  <a:pt x="9723" y="5680"/>
                </a:cubicBezTo>
                <a:cubicBezTo>
                  <a:pt x="9723" y="5738"/>
                  <a:pt x="9709" y="5744"/>
                  <a:pt x="9699" y="5779"/>
                </a:cubicBezTo>
                <a:cubicBezTo>
                  <a:pt x="9684" y="5831"/>
                  <a:pt x="9715" y="5865"/>
                  <a:pt x="9723" y="5904"/>
                </a:cubicBezTo>
                <a:cubicBezTo>
                  <a:pt x="9733" y="5953"/>
                  <a:pt x="9736" y="5941"/>
                  <a:pt x="9748" y="5978"/>
                </a:cubicBezTo>
                <a:cubicBezTo>
                  <a:pt x="9799" y="5978"/>
                  <a:pt x="9789" y="5969"/>
                  <a:pt x="9823" y="5953"/>
                </a:cubicBezTo>
                <a:cubicBezTo>
                  <a:pt x="9898" y="5918"/>
                  <a:pt x="9907" y="5884"/>
                  <a:pt x="9996" y="5854"/>
                </a:cubicBezTo>
                <a:cubicBezTo>
                  <a:pt x="10063" y="5832"/>
                  <a:pt x="10126" y="5834"/>
                  <a:pt x="10170" y="5779"/>
                </a:cubicBezTo>
                <a:cubicBezTo>
                  <a:pt x="10224" y="5713"/>
                  <a:pt x="10176" y="5733"/>
                  <a:pt x="10244" y="5680"/>
                </a:cubicBezTo>
                <a:cubicBezTo>
                  <a:pt x="10246" y="5679"/>
                  <a:pt x="10268" y="5587"/>
                  <a:pt x="10269" y="5581"/>
                </a:cubicBezTo>
                <a:cubicBezTo>
                  <a:pt x="10273" y="5545"/>
                  <a:pt x="10314" y="5548"/>
                  <a:pt x="10319" y="5531"/>
                </a:cubicBezTo>
                <a:cubicBezTo>
                  <a:pt x="10332" y="5482"/>
                  <a:pt x="10320" y="5477"/>
                  <a:pt x="10344" y="5432"/>
                </a:cubicBezTo>
                <a:cubicBezTo>
                  <a:pt x="10365" y="5391"/>
                  <a:pt x="10389" y="5393"/>
                  <a:pt x="10393" y="5358"/>
                </a:cubicBezTo>
                <a:cubicBezTo>
                  <a:pt x="10397" y="5325"/>
                  <a:pt x="10392" y="5304"/>
                  <a:pt x="10418" y="5283"/>
                </a:cubicBezTo>
                <a:cubicBezTo>
                  <a:pt x="10443" y="5283"/>
                  <a:pt x="10451" y="5283"/>
                  <a:pt x="10443" y="5259"/>
                </a:cubicBezTo>
                <a:cubicBezTo>
                  <a:pt x="10426" y="5287"/>
                  <a:pt x="10430" y="5346"/>
                  <a:pt x="10393" y="5383"/>
                </a:cubicBezTo>
                <a:cubicBezTo>
                  <a:pt x="10383" y="5393"/>
                  <a:pt x="10325" y="5454"/>
                  <a:pt x="10319" y="5457"/>
                </a:cubicBezTo>
                <a:cubicBezTo>
                  <a:pt x="10287" y="5473"/>
                  <a:pt x="10295" y="5519"/>
                  <a:pt x="10269" y="5531"/>
                </a:cubicBezTo>
                <a:cubicBezTo>
                  <a:pt x="10234" y="5548"/>
                  <a:pt x="10244" y="5558"/>
                  <a:pt x="10244" y="5606"/>
                </a:cubicBezTo>
                <a:cubicBezTo>
                  <a:pt x="10244" y="5644"/>
                  <a:pt x="10221" y="5702"/>
                  <a:pt x="10220" y="5705"/>
                </a:cubicBezTo>
                <a:cubicBezTo>
                  <a:pt x="10211" y="5745"/>
                  <a:pt x="10200" y="5726"/>
                  <a:pt x="10195" y="5779"/>
                </a:cubicBezTo>
                <a:cubicBezTo>
                  <a:pt x="10190" y="5828"/>
                  <a:pt x="10181" y="5833"/>
                  <a:pt x="10170" y="5854"/>
                </a:cubicBezTo>
                <a:cubicBezTo>
                  <a:pt x="10153" y="5888"/>
                  <a:pt x="10150" y="5878"/>
                  <a:pt x="10145" y="5928"/>
                </a:cubicBezTo>
                <a:cubicBezTo>
                  <a:pt x="10144" y="5934"/>
                  <a:pt x="10189" y="5999"/>
                  <a:pt x="10195" y="6003"/>
                </a:cubicBezTo>
                <a:cubicBezTo>
                  <a:pt x="10238" y="6032"/>
                  <a:pt x="10309" y="5983"/>
                  <a:pt x="10319" y="5978"/>
                </a:cubicBezTo>
                <a:cubicBezTo>
                  <a:pt x="10347" y="5964"/>
                  <a:pt x="10400" y="5955"/>
                  <a:pt x="10418" y="5953"/>
                </a:cubicBezTo>
                <a:cubicBezTo>
                  <a:pt x="10455" y="5948"/>
                  <a:pt x="10450" y="5927"/>
                  <a:pt x="10468" y="5904"/>
                </a:cubicBezTo>
                <a:cubicBezTo>
                  <a:pt x="10478" y="5891"/>
                  <a:pt x="10468" y="5907"/>
                  <a:pt x="10468" y="5829"/>
                </a:cubicBezTo>
              </a:path>
              <a:path w="7492" h="1340">
                <a:moveTo>
                  <a:pt x="10988" y="5135"/>
                </a:moveTo>
                <a:cubicBezTo>
                  <a:pt x="10988" y="5193"/>
                  <a:pt x="10988" y="5250"/>
                  <a:pt x="10988" y="5308"/>
                </a:cubicBezTo>
                <a:cubicBezTo>
                  <a:pt x="10949" y="5322"/>
                  <a:pt x="10964" y="5358"/>
                  <a:pt x="10964" y="5407"/>
                </a:cubicBezTo>
                <a:cubicBezTo>
                  <a:pt x="10964" y="5415"/>
                  <a:pt x="10964" y="5424"/>
                  <a:pt x="10964" y="5432"/>
                </a:cubicBezTo>
                <a:cubicBezTo>
                  <a:pt x="10926" y="5445"/>
                  <a:pt x="10939" y="5462"/>
                  <a:pt x="10939" y="5507"/>
                </a:cubicBezTo>
                <a:cubicBezTo>
                  <a:pt x="10901" y="5519"/>
                  <a:pt x="10914" y="5536"/>
                  <a:pt x="10914" y="5581"/>
                </a:cubicBezTo>
                <a:cubicBezTo>
                  <a:pt x="10914" y="5598"/>
                  <a:pt x="10914" y="5614"/>
                  <a:pt x="10914" y="5631"/>
                </a:cubicBezTo>
                <a:cubicBezTo>
                  <a:pt x="10874" y="5644"/>
                  <a:pt x="10904" y="5642"/>
                  <a:pt x="10864" y="5655"/>
                </a:cubicBezTo>
                <a:cubicBezTo>
                  <a:pt x="10864" y="5716"/>
                  <a:pt x="10856" y="5754"/>
                  <a:pt x="10840" y="5804"/>
                </a:cubicBezTo>
                <a:cubicBezTo>
                  <a:pt x="10840" y="5812"/>
                  <a:pt x="10840" y="5821"/>
                  <a:pt x="10840" y="5829"/>
                </a:cubicBezTo>
                <a:cubicBezTo>
                  <a:pt x="10800" y="5842"/>
                  <a:pt x="10830" y="5841"/>
                  <a:pt x="10790" y="5854"/>
                </a:cubicBezTo>
                <a:cubicBezTo>
                  <a:pt x="10790" y="5887"/>
                  <a:pt x="10790" y="5920"/>
                  <a:pt x="10790" y="5953"/>
                </a:cubicBezTo>
                <a:cubicBezTo>
                  <a:pt x="10750" y="5966"/>
                  <a:pt x="10780" y="5965"/>
                  <a:pt x="10740" y="5978"/>
                </a:cubicBezTo>
                <a:cubicBezTo>
                  <a:pt x="10727" y="6018"/>
                  <a:pt x="10729" y="5988"/>
                  <a:pt x="10716" y="6028"/>
                </a:cubicBezTo>
                <a:cubicBezTo>
                  <a:pt x="10681" y="6016"/>
                  <a:pt x="10691" y="6021"/>
                  <a:pt x="10691" y="5978"/>
                </a:cubicBezTo>
                <a:cubicBezTo>
                  <a:pt x="10651" y="5965"/>
                  <a:pt x="10681" y="5966"/>
                  <a:pt x="10641" y="5953"/>
                </a:cubicBezTo>
                <a:cubicBezTo>
                  <a:pt x="10641" y="5899"/>
                  <a:pt x="10629" y="5917"/>
                  <a:pt x="10616" y="5879"/>
                </a:cubicBezTo>
              </a:path>
              <a:path w="7492" h="1340">
                <a:moveTo>
                  <a:pt x="10914" y="5631"/>
                </a:moveTo>
                <a:cubicBezTo>
                  <a:pt x="10928" y="5589"/>
                  <a:pt x="10962" y="5606"/>
                  <a:pt x="11013" y="5606"/>
                </a:cubicBezTo>
                <a:cubicBezTo>
                  <a:pt x="11080" y="5606"/>
                  <a:pt x="11130" y="5597"/>
                  <a:pt x="11162" y="5581"/>
                </a:cubicBezTo>
                <a:cubicBezTo>
                  <a:pt x="11188" y="5568"/>
                  <a:pt x="11207" y="5550"/>
                  <a:pt x="11212" y="5507"/>
                </a:cubicBezTo>
                <a:cubicBezTo>
                  <a:pt x="11213" y="5499"/>
                  <a:pt x="11253" y="5414"/>
                  <a:pt x="11261" y="5407"/>
                </a:cubicBezTo>
                <a:cubicBezTo>
                  <a:pt x="11294" y="5379"/>
                  <a:pt x="11286" y="5408"/>
                  <a:pt x="11286" y="5333"/>
                </a:cubicBezTo>
                <a:cubicBezTo>
                  <a:pt x="11338" y="5333"/>
                  <a:pt x="11336" y="5335"/>
                  <a:pt x="11336" y="5283"/>
                </a:cubicBezTo>
                <a:cubicBezTo>
                  <a:pt x="11336" y="5244"/>
                  <a:pt x="11375" y="5255"/>
                  <a:pt x="11385" y="5234"/>
                </a:cubicBezTo>
                <a:cubicBezTo>
                  <a:pt x="11408" y="5187"/>
                  <a:pt x="11364" y="5165"/>
                  <a:pt x="11410" y="5135"/>
                </a:cubicBezTo>
                <a:cubicBezTo>
                  <a:pt x="11410" y="5166"/>
                  <a:pt x="11402" y="5200"/>
                  <a:pt x="11385" y="5209"/>
                </a:cubicBezTo>
                <a:cubicBezTo>
                  <a:pt x="11352" y="5226"/>
                  <a:pt x="11361" y="5236"/>
                  <a:pt x="11361" y="5283"/>
                </a:cubicBezTo>
                <a:cubicBezTo>
                  <a:pt x="11361" y="5339"/>
                  <a:pt x="11339" y="5317"/>
                  <a:pt x="11336" y="5358"/>
                </a:cubicBezTo>
                <a:cubicBezTo>
                  <a:pt x="11333" y="5395"/>
                  <a:pt x="11333" y="5482"/>
                  <a:pt x="11311" y="5507"/>
                </a:cubicBezTo>
                <a:cubicBezTo>
                  <a:pt x="11301" y="5519"/>
                  <a:pt x="11268" y="5548"/>
                  <a:pt x="11261" y="5581"/>
                </a:cubicBezTo>
                <a:cubicBezTo>
                  <a:pt x="11240" y="5679"/>
                  <a:pt x="11261" y="5803"/>
                  <a:pt x="11261" y="5904"/>
                </a:cubicBezTo>
                <a:cubicBezTo>
                  <a:pt x="11323" y="5904"/>
                  <a:pt x="11356" y="5894"/>
                  <a:pt x="11385" y="5879"/>
                </a:cubicBezTo>
                <a:cubicBezTo>
                  <a:pt x="11410" y="5867"/>
                  <a:pt x="11420" y="5837"/>
                  <a:pt x="11435" y="5829"/>
                </a:cubicBezTo>
                <a:cubicBezTo>
                  <a:pt x="11463" y="5815"/>
                  <a:pt x="11497" y="5829"/>
                  <a:pt x="11509" y="5804"/>
                </a:cubicBezTo>
                <a:cubicBezTo>
                  <a:pt x="11527" y="5766"/>
                  <a:pt x="11522" y="5779"/>
                  <a:pt x="11584" y="5779"/>
                </a:cubicBezTo>
                <a:cubicBezTo>
                  <a:pt x="11584" y="5727"/>
                  <a:pt x="11616" y="5730"/>
                  <a:pt x="11584" y="5730"/>
                </a:cubicBezTo>
              </a:path>
              <a:path w="7492" h="1340">
                <a:moveTo>
                  <a:pt x="11956" y="5110"/>
                </a:moveTo>
                <a:cubicBezTo>
                  <a:pt x="11956" y="5173"/>
                  <a:pt x="11945" y="5227"/>
                  <a:pt x="11931" y="5259"/>
                </a:cubicBezTo>
                <a:cubicBezTo>
                  <a:pt x="11913" y="5299"/>
                  <a:pt x="11915" y="5387"/>
                  <a:pt x="11906" y="5407"/>
                </a:cubicBezTo>
                <a:cubicBezTo>
                  <a:pt x="11893" y="5437"/>
                  <a:pt x="11884" y="5460"/>
                  <a:pt x="11881" y="5482"/>
                </a:cubicBezTo>
                <a:cubicBezTo>
                  <a:pt x="11875" y="5528"/>
                  <a:pt x="11866" y="5537"/>
                  <a:pt x="11857" y="5556"/>
                </a:cubicBezTo>
                <a:cubicBezTo>
                  <a:pt x="11843" y="5585"/>
                  <a:pt x="11834" y="5637"/>
                  <a:pt x="11832" y="5655"/>
                </a:cubicBezTo>
                <a:cubicBezTo>
                  <a:pt x="11825" y="5708"/>
                  <a:pt x="11811" y="5722"/>
                  <a:pt x="11807" y="5755"/>
                </a:cubicBezTo>
                <a:cubicBezTo>
                  <a:pt x="11802" y="5795"/>
                  <a:pt x="11782" y="5773"/>
                  <a:pt x="11782" y="5829"/>
                </a:cubicBezTo>
                <a:cubicBezTo>
                  <a:pt x="11782" y="5881"/>
                  <a:pt x="11796" y="5882"/>
                  <a:pt x="11807" y="5904"/>
                </a:cubicBezTo>
                <a:cubicBezTo>
                  <a:pt x="11822" y="5933"/>
                  <a:pt x="11827" y="5943"/>
                  <a:pt x="11857" y="5978"/>
                </a:cubicBezTo>
                <a:cubicBezTo>
                  <a:pt x="11868" y="5991"/>
                  <a:pt x="11937" y="6027"/>
                  <a:pt x="11956" y="6003"/>
                </a:cubicBezTo>
                <a:cubicBezTo>
                  <a:pt x="11972" y="5983"/>
                  <a:pt x="12021" y="5972"/>
                  <a:pt x="12030" y="5953"/>
                </a:cubicBezTo>
                <a:cubicBezTo>
                  <a:pt x="12048" y="5918"/>
                  <a:pt x="12106" y="5932"/>
                  <a:pt x="12129" y="5904"/>
                </a:cubicBezTo>
                <a:cubicBezTo>
                  <a:pt x="12145" y="5884"/>
                  <a:pt x="12187" y="5887"/>
                  <a:pt x="12204" y="5854"/>
                </a:cubicBezTo>
                <a:cubicBezTo>
                  <a:pt x="12226" y="5810"/>
                  <a:pt x="12254" y="5849"/>
                  <a:pt x="12254" y="5779"/>
                </a:cubicBezTo>
                <a:cubicBezTo>
                  <a:pt x="12254" y="5742"/>
                  <a:pt x="12278" y="5758"/>
                  <a:pt x="12278" y="5705"/>
                </a:cubicBezTo>
                <a:cubicBezTo>
                  <a:pt x="12278" y="5696"/>
                  <a:pt x="12262" y="5588"/>
                  <a:pt x="12254" y="5581"/>
                </a:cubicBezTo>
                <a:cubicBezTo>
                  <a:pt x="12227" y="5559"/>
                  <a:pt x="12226" y="5559"/>
                  <a:pt x="12204" y="5531"/>
                </a:cubicBezTo>
                <a:cubicBezTo>
                  <a:pt x="12177" y="5496"/>
                  <a:pt x="12144" y="5507"/>
                  <a:pt x="12105" y="5507"/>
                </a:cubicBezTo>
                <a:cubicBezTo>
                  <a:pt x="12059" y="5507"/>
                  <a:pt x="12018" y="5493"/>
                  <a:pt x="12005" y="5531"/>
                </a:cubicBezTo>
                <a:cubicBezTo>
                  <a:pt x="12019" y="5573"/>
                  <a:pt x="12054" y="5556"/>
                  <a:pt x="12105" y="5556"/>
                </a:cubicBezTo>
              </a:path>
              <a:path w="7492" h="1340">
                <a:moveTo>
                  <a:pt x="12179" y="5531"/>
                </a:moveTo>
                <a:cubicBezTo>
                  <a:pt x="12216" y="5531"/>
                  <a:pt x="12250" y="5508"/>
                  <a:pt x="12254" y="5507"/>
                </a:cubicBezTo>
                <a:cubicBezTo>
                  <a:pt x="12298" y="5498"/>
                  <a:pt x="12300" y="5503"/>
                  <a:pt x="12328" y="5482"/>
                </a:cubicBezTo>
                <a:cubicBezTo>
                  <a:pt x="12346" y="5469"/>
                  <a:pt x="12400" y="5433"/>
                  <a:pt x="12402" y="5432"/>
                </a:cubicBezTo>
                <a:cubicBezTo>
                  <a:pt x="12430" y="5420"/>
                  <a:pt x="12435" y="5391"/>
                  <a:pt x="12452" y="5383"/>
                </a:cubicBezTo>
                <a:cubicBezTo>
                  <a:pt x="12475" y="5372"/>
                  <a:pt x="12536" y="5381"/>
                  <a:pt x="12551" y="5358"/>
                </a:cubicBezTo>
                <a:cubicBezTo>
                  <a:pt x="12577" y="5319"/>
                  <a:pt x="12560" y="5314"/>
                  <a:pt x="12626" y="5308"/>
                </a:cubicBezTo>
                <a:cubicBezTo>
                  <a:pt x="12634" y="5308"/>
                  <a:pt x="12642" y="5308"/>
                  <a:pt x="12650" y="5308"/>
                </a:cubicBezTo>
                <a:cubicBezTo>
                  <a:pt x="12667" y="5222"/>
                  <a:pt x="12669" y="5282"/>
                  <a:pt x="12725" y="5234"/>
                </a:cubicBezTo>
                <a:cubicBezTo>
                  <a:pt x="12750" y="5212"/>
                  <a:pt x="12750" y="5185"/>
                  <a:pt x="12750" y="5135"/>
                </a:cubicBezTo>
                <a:cubicBezTo>
                  <a:pt x="12750" y="5100"/>
                  <a:pt x="12767" y="5189"/>
                  <a:pt x="12750" y="5209"/>
                </a:cubicBezTo>
                <a:cubicBezTo>
                  <a:pt x="12730" y="5232"/>
                  <a:pt x="12717" y="5254"/>
                  <a:pt x="12700" y="5283"/>
                </a:cubicBezTo>
                <a:cubicBezTo>
                  <a:pt x="12678" y="5321"/>
                  <a:pt x="12696" y="5407"/>
                  <a:pt x="12675" y="5432"/>
                </a:cubicBezTo>
                <a:cubicBezTo>
                  <a:pt x="12659" y="5451"/>
                  <a:pt x="12628" y="5476"/>
                  <a:pt x="12626" y="5507"/>
                </a:cubicBezTo>
                <a:cubicBezTo>
                  <a:pt x="12622" y="5559"/>
                  <a:pt x="12606" y="5612"/>
                  <a:pt x="12601" y="5631"/>
                </a:cubicBezTo>
                <a:cubicBezTo>
                  <a:pt x="12576" y="5721"/>
                  <a:pt x="12601" y="5903"/>
                  <a:pt x="12626" y="5953"/>
                </a:cubicBezTo>
                <a:cubicBezTo>
                  <a:pt x="12648" y="5998"/>
                  <a:pt x="12642" y="6003"/>
                  <a:pt x="12700" y="6003"/>
                </a:cubicBezTo>
                <a:cubicBezTo>
                  <a:pt x="12775" y="6003"/>
                  <a:pt x="12856" y="5996"/>
                  <a:pt x="12898" y="5978"/>
                </a:cubicBezTo>
                <a:cubicBezTo>
                  <a:pt x="12918" y="5970"/>
                  <a:pt x="12967" y="5953"/>
                  <a:pt x="12923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932360" y="1197000"/>
            <a:ext cx="3024360" cy="1004760"/>
          </a:xfrm>
          <a:custGeom>
            <a:avLst/>
            <a:gdLst/>
            <a:ahLst/>
            <a:rect l="l" t="t" r="r" b="b"/>
            <a:pathLst>
              <a:path w="5384" h="1787">
                <a:moveTo>
                  <a:pt x="14312" y="5531"/>
                </a:moveTo>
                <a:cubicBezTo>
                  <a:pt x="14304" y="5463"/>
                  <a:pt x="14319" y="5417"/>
                  <a:pt x="14288" y="5358"/>
                </a:cubicBezTo>
                <a:cubicBezTo>
                  <a:pt x="14271" y="5326"/>
                  <a:pt x="14249" y="5295"/>
                  <a:pt x="14213" y="5283"/>
                </a:cubicBezTo>
                <a:cubicBezTo>
                  <a:pt x="14150" y="5263"/>
                  <a:pt x="14065" y="5301"/>
                  <a:pt x="14039" y="5308"/>
                </a:cubicBezTo>
                <a:cubicBezTo>
                  <a:pt x="14021" y="5313"/>
                  <a:pt x="13986" y="5319"/>
                  <a:pt x="13965" y="5333"/>
                </a:cubicBezTo>
                <a:cubicBezTo>
                  <a:pt x="13936" y="5351"/>
                  <a:pt x="13937" y="5363"/>
                  <a:pt x="13915" y="5383"/>
                </a:cubicBezTo>
                <a:cubicBezTo>
                  <a:pt x="13889" y="5406"/>
                  <a:pt x="13885" y="5399"/>
                  <a:pt x="13866" y="5432"/>
                </a:cubicBezTo>
                <a:cubicBezTo>
                  <a:pt x="13865" y="5433"/>
                  <a:pt x="13849" y="5496"/>
                  <a:pt x="13841" y="5507"/>
                </a:cubicBezTo>
                <a:cubicBezTo>
                  <a:pt x="13822" y="5533"/>
                  <a:pt x="13772" y="5542"/>
                  <a:pt x="13767" y="5556"/>
                </a:cubicBezTo>
                <a:cubicBezTo>
                  <a:pt x="13741" y="5630"/>
                  <a:pt x="13769" y="5791"/>
                  <a:pt x="13791" y="5829"/>
                </a:cubicBezTo>
                <a:cubicBezTo>
                  <a:pt x="13804" y="5853"/>
                  <a:pt x="13838" y="5873"/>
                  <a:pt x="13866" y="5879"/>
                </a:cubicBezTo>
                <a:cubicBezTo>
                  <a:pt x="13925" y="5891"/>
                  <a:pt x="13990" y="5879"/>
                  <a:pt x="14015" y="5854"/>
                </a:cubicBezTo>
                <a:cubicBezTo>
                  <a:pt x="14041" y="5827"/>
                  <a:pt x="14032" y="5797"/>
                  <a:pt x="14064" y="5779"/>
                </a:cubicBezTo>
                <a:cubicBezTo>
                  <a:pt x="14166" y="5722"/>
                  <a:pt x="14077" y="5791"/>
                  <a:pt x="14139" y="5705"/>
                </a:cubicBezTo>
                <a:cubicBezTo>
                  <a:pt x="14155" y="5684"/>
                  <a:pt x="14174" y="5653"/>
                  <a:pt x="14188" y="5606"/>
                </a:cubicBezTo>
                <a:cubicBezTo>
                  <a:pt x="14198" y="5574"/>
                  <a:pt x="14196" y="5559"/>
                  <a:pt x="14213" y="5531"/>
                </a:cubicBezTo>
                <a:cubicBezTo>
                  <a:pt x="14218" y="5523"/>
                  <a:pt x="14253" y="5493"/>
                  <a:pt x="14263" y="5482"/>
                </a:cubicBezTo>
                <a:cubicBezTo>
                  <a:pt x="14285" y="5457"/>
                  <a:pt x="14264" y="5480"/>
                  <a:pt x="14288" y="5457"/>
                </a:cubicBezTo>
                <a:cubicBezTo>
                  <a:pt x="14279" y="5491"/>
                  <a:pt x="14279" y="5505"/>
                  <a:pt x="14263" y="5556"/>
                </a:cubicBezTo>
                <a:cubicBezTo>
                  <a:pt x="14248" y="5601"/>
                  <a:pt x="14247" y="5625"/>
                  <a:pt x="14238" y="5655"/>
                </a:cubicBezTo>
                <a:cubicBezTo>
                  <a:pt x="14236" y="5661"/>
                  <a:pt x="14218" y="5694"/>
                  <a:pt x="14213" y="5730"/>
                </a:cubicBezTo>
                <a:cubicBezTo>
                  <a:pt x="14207" y="5778"/>
                  <a:pt x="14200" y="5814"/>
                  <a:pt x="14188" y="5854"/>
                </a:cubicBezTo>
                <a:cubicBezTo>
                  <a:pt x="14176" y="5894"/>
                  <a:pt x="14167" y="5899"/>
                  <a:pt x="14163" y="5928"/>
                </a:cubicBezTo>
                <a:cubicBezTo>
                  <a:pt x="14157" y="5978"/>
                  <a:pt x="14144" y="6058"/>
                  <a:pt x="14139" y="6077"/>
                </a:cubicBezTo>
                <a:cubicBezTo>
                  <a:pt x="14125" y="6133"/>
                  <a:pt x="14133" y="6119"/>
                  <a:pt x="14114" y="6176"/>
                </a:cubicBezTo>
                <a:cubicBezTo>
                  <a:pt x="14103" y="6210"/>
                  <a:pt x="14103" y="6208"/>
                  <a:pt x="14089" y="6251"/>
                </a:cubicBezTo>
                <a:cubicBezTo>
                  <a:pt x="14078" y="6282"/>
                  <a:pt x="14074" y="6294"/>
                  <a:pt x="14064" y="6325"/>
                </a:cubicBezTo>
                <a:cubicBezTo>
                  <a:pt x="14048" y="6374"/>
                  <a:pt x="14059" y="6392"/>
                  <a:pt x="14039" y="6424"/>
                </a:cubicBezTo>
                <a:cubicBezTo>
                  <a:pt x="14030" y="6438"/>
                  <a:pt x="14003" y="6455"/>
                  <a:pt x="13990" y="6474"/>
                </a:cubicBezTo>
                <a:cubicBezTo>
                  <a:pt x="13979" y="6489"/>
                  <a:pt x="13961" y="6518"/>
                  <a:pt x="13940" y="6548"/>
                </a:cubicBezTo>
                <a:cubicBezTo>
                  <a:pt x="13921" y="6575"/>
                  <a:pt x="13922" y="6588"/>
                  <a:pt x="13891" y="6598"/>
                </a:cubicBezTo>
                <a:cubicBezTo>
                  <a:pt x="13849" y="6612"/>
                  <a:pt x="13786" y="6595"/>
                  <a:pt x="13742" y="6598"/>
                </a:cubicBezTo>
                <a:cubicBezTo>
                  <a:pt x="13733" y="6559"/>
                  <a:pt x="13723" y="6577"/>
                  <a:pt x="13717" y="6524"/>
                </a:cubicBezTo>
                <a:cubicBezTo>
                  <a:pt x="13709" y="6450"/>
                  <a:pt x="13721" y="6363"/>
                  <a:pt x="13742" y="6325"/>
                </a:cubicBezTo>
                <a:cubicBezTo>
                  <a:pt x="13754" y="6303"/>
                  <a:pt x="13784" y="6290"/>
                  <a:pt x="13791" y="6276"/>
                </a:cubicBezTo>
                <a:cubicBezTo>
                  <a:pt x="13794" y="6270"/>
                  <a:pt x="13810" y="6205"/>
                  <a:pt x="13816" y="6201"/>
                </a:cubicBezTo>
                <a:cubicBezTo>
                  <a:pt x="13842" y="6180"/>
                  <a:pt x="13861" y="6190"/>
                  <a:pt x="13891" y="6176"/>
                </a:cubicBezTo>
                <a:cubicBezTo>
                  <a:pt x="13960" y="6144"/>
                  <a:pt x="14017" y="6146"/>
                  <a:pt x="14089" y="6127"/>
                </a:cubicBezTo>
                <a:cubicBezTo>
                  <a:pt x="14162" y="6108"/>
                  <a:pt x="14217" y="6116"/>
                  <a:pt x="14288" y="6102"/>
                </a:cubicBezTo>
                <a:cubicBezTo>
                  <a:pt x="14326" y="6095"/>
                  <a:pt x="14363" y="6065"/>
                  <a:pt x="14387" y="6052"/>
                </a:cubicBezTo>
                <a:cubicBezTo>
                  <a:pt x="14395" y="6048"/>
                  <a:pt x="14434" y="6012"/>
                  <a:pt x="14461" y="6003"/>
                </a:cubicBezTo>
                <a:cubicBezTo>
                  <a:pt x="14543" y="5977"/>
                  <a:pt x="14565" y="5949"/>
                  <a:pt x="14610" y="5904"/>
                </a:cubicBezTo>
                <a:cubicBezTo>
                  <a:pt x="14651" y="5863"/>
                  <a:pt x="14689" y="5842"/>
                  <a:pt x="14709" y="5804"/>
                </a:cubicBezTo>
                <a:cubicBezTo>
                  <a:pt x="14725" y="5775"/>
                  <a:pt x="14712" y="5754"/>
                  <a:pt x="14734" y="5730"/>
                </a:cubicBezTo>
                <a:cubicBezTo>
                  <a:pt x="14779" y="5680"/>
                  <a:pt x="14820" y="5683"/>
                  <a:pt x="14858" y="5631"/>
                </a:cubicBezTo>
                <a:cubicBezTo>
                  <a:pt x="14897" y="5577"/>
                  <a:pt x="14934" y="5478"/>
                  <a:pt x="14957" y="5407"/>
                </a:cubicBezTo>
                <a:cubicBezTo>
                  <a:pt x="14972" y="5359"/>
                  <a:pt x="14992" y="5338"/>
                  <a:pt x="15007" y="5308"/>
                </a:cubicBezTo>
                <a:cubicBezTo>
                  <a:pt x="15014" y="5294"/>
                  <a:pt x="15020" y="5248"/>
                  <a:pt x="15032" y="5234"/>
                </a:cubicBezTo>
                <a:cubicBezTo>
                  <a:pt x="15040" y="5234"/>
                  <a:pt x="15048" y="5234"/>
                  <a:pt x="15056" y="5234"/>
                </a:cubicBezTo>
                <a:cubicBezTo>
                  <a:pt x="15038" y="5290"/>
                  <a:pt x="15044" y="5277"/>
                  <a:pt x="15032" y="5333"/>
                </a:cubicBezTo>
                <a:cubicBezTo>
                  <a:pt x="15028" y="5350"/>
                  <a:pt x="14987" y="5458"/>
                  <a:pt x="14982" y="5507"/>
                </a:cubicBezTo>
                <a:cubicBezTo>
                  <a:pt x="14973" y="5590"/>
                  <a:pt x="14946" y="5581"/>
                  <a:pt x="14932" y="5631"/>
                </a:cubicBezTo>
                <a:cubicBezTo>
                  <a:pt x="14906" y="5724"/>
                  <a:pt x="14905" y="5832"/>
                  <a:pt x="14883" y="5928"/>
                </a:cubicBezTo>
                <a:cubicBezTo>
                  <a:pt x="14866" y="6002"/>
                  <a:pt x="14853" y="6071"/>
                  <a:pt x="14833" y="6152"/>
                </a:cubicBezTo>
                <a:cubicBezTo>
                  <a:pt x="14818" y="6213"/>
                  <a:pt x="14803" y="6261"/>
                  <a:pt x="14784" y="6325"/>
                </a:cubicBezTo>
                <a:cubicBezTo>
                  <a:pt x="14767" y="6381"/>
                  <a:pt x="14769" y="6434"/>
                  <a:pt x="14759" y="6499"/>
                </a:cubicBezTo>
                <a:cubicBezTo>
                  <a:pt x="14746" y="6587"/>
                  <a:pt x="14728" y="6626"/>
                  <a:pt x="14709" y="6697"/>
                </a:cubicBezTo>
                <a:cubicBezTo>
                  <a:pt x="14694" y="6751"/>
                  <a:pt x="14664" y="6787"/>
                  <a:pt x="14660" y="6821"/>
                </a:cubicBezTo>
                <a:cubicBezTo>
                  <a:pt x="14655" y="6862"/>
                  <a:pt x="14668" y="6855"/>
                  <a:pt x="14660" y="6896"/>
                </a:cubicBezTo>
                <a:cubicBezTo>
                  <a:pt x="14660" y="6888"/>
                  <a:pt x="14660" y="6879"/>
                  <a:pt x="14660" y="6871"/>
                </a:cubicBezTo>
                <a:cubicBezTo>
                  <a:pt x="14673" y="6813"/>
                  <a:pt x="14673" y="6756"/>
                  <a:pt x="14684" y="6697"/>
                </a:cubicBezTo>
                <a:cubicBezTo>
                  <a:pt x="14696" y="6632"/>
                  <a:pt x="14699" y="6567"/>
                  <a:pt x="14709" y="6499"/>
                </a:cubicBezTo>
                <a:cubicBezTo>
                  <a:pt x="14721" y="6411"/>
                  <a:pt x="14742" y="6413"/>
                  <a:pt x="14759" y="6350"/>
                </a:cubicBezTo>
                <a:cubicBezTo>
                  <a:pt x="14778" y="6278"/>
                  <a:pt x="14802" y="6199"/>
                  <a:pt x="14808" y="6127"/>
                </a:cubicBezTo>
                <a:cubicBezTo>
                  <a:pt x="14812" y="6078"/>
                  <a:pt x="14828" y="6021"/>
                  <a:pt x="14833" y="6003"/>
                </a:cubicBezTo>
                <a:cubicBezTo>
                  <a:pt x="14848" y="5956"/>
                  <a:pt x="14848" y="5935"/>
                  <a:pt x="14858" y="5904"/>
                </a:cubicBezTo>
                <a:cubicBezTo>
                  <a:pt x="14872" y="5863"/>
                  <a:pt x="14860" y="5856"/>
                  <a:pt x="14883" y="5829"/>
                </a:cubicBezTo>
                <a:cubicBezTo>
                  <a:pt x="14901" y="5808"/>
                  <a:pt x="14942" y="5777"/>
                  <a:pt x="14957" y="5755"/>
                </a:cubicBezTo>
                <a:cubicBezTo>
                  <a:pt x="14981" y="5720"/>
                  <a:pt x="15012" y="5695"/>
                  <a:pt x="15032" y="5680"/>
                </a:cubicBezTo>
                <a:cubicBezTo>
                  <a:pt x="15054" y="5663"/>
                  <a:pt x="15143" y="5612"/>
                  <a:pt x="15156" y="5606"/>
                </a:cubicBezTo>
                <a:cubicBezTo>
                  <a:pt x="15215" y="5578"/>
                  <a:pt x="15299" y="5561"/>
                  <a:pt x="15354" y="5531"/>
                </a:cubicBezTo>
                <a:cubicBezTo>
                  <a:pt x="15409" y="5501"/>
                  <a:pt x="15422" y="5455"/>
                  <a:pt x="15453" y="5432"/>
                </a:cubicBezTo>
                <a:cubicBezTo>
                  <a:pt x="15461" y="5432"/>
                  <a:pt x="15470" y="5432"/>
                  <a:pt x="15478" y="5432"/>
                </a:cubicBezTo>
                <a:cubicBezTo>
                  <a:pt x="15464" y="5475"/>
                  <a:pt x="15464" y="5473"/>
                  <a:pt x="15453" y="5507"/>
                </a:cubicBezTo>
                <a:cubicBezTo>
                  <a:pt x="15449" y="5521"/>
                  <a:pt x="15439" y="5590"/>
                  <a:pt x="15429" y="5631"/>
                </a:cubicBezTo>
                <a:cubicBezTo>
                  <a:pt x="15414" y="5691"/>
                  <a:pt x="15414" y="5690"/>
                  <a:pt x="15404" y="5730"/>
                </a:cubicBezTo>
                <a:cubicBezTo>
                  <a:pt x="15393" y="5773"/>
                  <a:pt x="15383" y="5772"/>
                  <a:pt x="15379" y="5804"/>
                </a:cubicBezTo>
                <a:cubicBezTo>
                  <a:pt x="15372" y="5860"/>
                  <a:pt x="15379" y="5922"/>
                  <a:pt x="15379" y="5978"/>
                </a:cubicBezTo>
                <a:cubicBezTo>
                  <a:pt x="15385" y="5970"/>
                  <a:pt x="15473" y="5894"/>
                  <a:pt x="15478" y="5879"/>
                </a:cubicBezTo>
                <a:cubicBezTo>
                  <a:pt x="15516" y="5764"/>
                  <a:pt x="15524" y="5824"/>
                  <a:pt x="15577" y="5755"/>
                </a:cubicBezTo>
                <a:cubicBezTo>
                  <a:pt x="15611" y="5711"/>
                  <a:pt x="15602" y="5655"/>
                  <a:pt x="15627" y="5606"/>
                </a:cubicBezTo>
                <a:cubicBezTo>
                  <a:pt x="15635" y="5590"/>
                  <a:pt x="15712" y="5532"/>
                  <a:pt x="15726" y="5507"/>
                </a:cubicBezTo>
                <a:cubicBezTo>
                  <a:pt x="15739" y="5483"/>
                  <a:pt x="15741" y="5433"/>
                  <a:pt x="15751" y="5407"/>
                </a:cubicBezTo>
                <a:cubicBezTo>
                  <a:pt x="15764" y="5374"/>
                  <a:pt x="15761" y="5376"/>
                  <a:pt x="15776" y="5333"/>
                </a:cubicBezTo>
                <a:cubicBezTo>
                  <a:pt x="15768" y="5383"/>
                  <a:pt x="15755" y="5435"/>
                  <a:pt x="15751" y="5482"/>
                </a:cubicBezTo>
                <a:cubicBezTo>
                  <a:pt x="15745" y="5545"/>
                  <a:pt x="15730" y="5630"/>
                  <a:pt x="15726" y="5680"/>
                </a:cubicBezTo>
                <a:cubicBezTo>
                  <a:pt x="15720" y="5754"/>
                  <a:pt x="15726" y="5830"/>
                  <a:pt x="15726" y="5904"/>
                </a:cubicBezTo>
                <a:cubicBezTo>
                  <a:pt x="15779" y="5913"/>
                  <a:pt x="15772" y="5910"/>
                  <a:pt x="15801" y="5904"/>
                </a:cubicBezTo>
                <a:cubicBezTo>
                  <a:pt x="15854" y="5893"/>
                  <a:pt x="15865" y="5891"/>
                  <a:pt x="15900" y="5879"/>
                </a:cubicBezTo>
                <a:cubicBezTo>
                  <a:pt x="15962" y="5858"/>
                  <a:pt x="15938" y="5848"/>
                  <a:pt x="15974" y="5829"/>
                </a:cubicBezTo>
                <a:cubicBezTo>
                  <a:pt x="16009" y="5810"/>
                  <a:pt x="16095" y="5798"/>
                  <a:pt x="16123" y="5779"/>
                </a:cubicBezTo>
                <a:cubicBezTo>
                  <a:pt x="16154" y="5758"/>
                  <a:pt x="16179" y="5680"/>
                  <a:pt x="16222" y="5655"/>
                </a:cubicBezTo>
                <a:cubicBezTo>
                  <a:pt x="16269" y="5627"/>
                  <a:pt x="16326" y="5606"/>
                  <a:pt x="16346" y="5581"/>
                </a:cubicBezTo>
                <a:cubicBezTo>
                  <a:pt x="16354" y="5570"/>
                  <a:pt x="16367" y="5491"/>
                  <a:pt x="16371" y="5482"/>
                </a:cubicBezTo>
                <a:cubicBezTo>
                  <a:pt x="16386" y="5443"/>
                  <a:pt x="16387" y="5438"/>
                  <a:pt x="16396" y="5407"/>
                </a:cubicBezTo>
                <a:cubicBezTo>
                  <a:pt x="16390" y="5447"/>
                  <a:pt x="16374" y="5498"/>
                  <a:pt x="16371" y="5507"/>
                </a:cubicBezTo>
                <a:cubicBezTo>
                  <a:pt x="16356" y="5562"/>
                  <a:pt x="16360" y="5567"/>
                  <a:pt x="16346" y="5631"/>
                </a:cubicBezTo>
                <a:cubicBezTo>
                  <a:pt x="16330" y="5703"/>
                  <a:pt x="16335" y="5782"/>
                  <a:pt x="16321" y="5854"/>
                </a:cubicBezTo>
                <a:cubicBezTo>
                  <a:pt x="16313" y="5894"/>
                  <a:pt x="16304" y="5913"/>
                  <a:pt x="16297" y="5953"/>
                </a:cubicBezTo>
                <a:cubicBezTo>
                  <a:pt x="16285" y="6021"/>
                  <a:pt x="16266" y="6107"/>
                  <a:pt x="16247" y="6176"/>
                </a:cubicBezTo>
                <a:cubicBezTo>
                  <a:pt x="16236" y="6215"/>
                  <a:pt x="16228" y="6198"/>
                  <a:pt x="16222" y="6251"/>
                </a:cubicBezTo>
                <a:cubicBezTo>
                  <a:pt x="16213" y="6325"/>
                  <a:pt x="16202" y="6342"/>
                  <a:pt x="16197" y="6400"/>
                </a:cubicBezTo>
                <a:cubicBezTo>
                  <a:pt x="16193" y="6452"/>
                  <a:pt x="16178" y="6529"/>
                  <a:pt x="16173" y="6548"/>
                </a:cubicBezTo>
                <a:cubicBezTo>
                  <a:pt x="16161" y="6594"/>
                  <a:pt x="16168" y="6590"/>
                  <a:pt x="16148" y="6623"/>
                </a:cubicBezTo>
                <a:cubicBezTo>
                  <a:pt x="16131" y="6651"/>
                  <a:pt x="16127" y="6657"/>
                  <a:pt x="16098" y="6672"/>
                </a:cubicBezTo>
                <a:cubicBezTo>
                  <a:pt x="16073" y="6672"/>
                  <a:pt x="16065" y="6672"/>
                  <a:pt x="16049" y="6672"/>
                </a:cubicBezTo>
                <a:cubicBezTo>
                  <a:pt x="16040" y="6633"/>
                  <a:pt x="16036" y="6590"/>
                  <a:pt x="16024" y="6548"/>
                </a:cubicBezTo>
                <a:cubicBezTo>
                  <a:pt x="16011" y="6503"/>
                  <a:pt x="16003" y="6471"/>
                  <a:pt x="15999" y="6424"/>
                </a:cubicBezTo>
                <a:cubicBezTo>
                  <a:pt x="15994" y="6367"/>
                  <a:pt x="16009" y="6350"/>
                  <a:pt x="16024" y="6325"/>
                </a:cubicBezTo>
                <a:cubicBezTo>
                  <a:pt x="16049" y="6284"/>
                  <a:pt x="16070" y="6295"/>
                  <a:pt x="16098" y="6251"/>
                </a:cubicBezTo>
                <a:cubicBezTo>
                  <a:pt x="16152" y="6165"/>
                  <a:pt x="16123" y="6162"/>
                  <a:pt x="16222" y="6102"/>
                </a:cubicBezTo>
                <a:cubicBezTo>
                  <a:pt x="16290" y="6061"/>
                  <a:pt x="16300" y="6082"/>
                  <a:pt x="16346" y="6028"/>
                </a:cubicBezTo>
                <a:cubicBezTo>
                  <a:pt x="16370" y="6000"/>
                  <a:pt x="16411" y="5973"/>
                  <a:pt x="16421" y="5953"/>
                </a:cubicBezTo>
                <a:cubicBezTo>
                  <a:pt x="16438" y="5920"/>
                  <a:pt x="16495" y="5854"/>
                  <a:pt x="16495" y="5854"/>
                </a:cubicBezTo>
                <a:cubicBezTo>
                  <a:pt x="16526" y="5787"/>
                  <a:pt x="16534" y="5759"/>
                  <a:pt x="16570" y="5705"/>
                </a:cubicBezTo>
                <a:cubicBezTo>
                  <a:pt x="16598" y="5662"/>
                  <a:pt x="16639" y="5586"/>
                  <a:pt x="16669" y="5531"/>
                </a:cubicBezTo>
                <a:cubicBezTo>
                  <a:pt x="16701" y="5474"/>
                  <a:pt x="16755" y="5421"/>
                  <a:pt x="16793" y="5358"/>
                </a:cubicBezTo>
                <a:cubicBezTo>
                  <a:pt x="16829" y="5299"/>
                  <a:pt x="16794" y="5318"/>
                  <a:pt x="16842" y="5283"/>
                </a:cubicBezTo>
                <a:cubicBezTo>
                  <a:pt x="16867" y="5265"/>
                  <a:pt x="16875" y="5275"/>
                  <a:pt x="16917" y="5259"/>
                </a:cubicBezTo>
                <a:cubicBezTo>
                  <a:pt x="16925" y="5259"/>
                  <a:pt x="16934" y="5259"/>
                  <a:pt x="16942" y="5259"/>
                </a:cubicBezTo>
                <a:cubicBezTo>
                  <a:pt x="16942" y="5378"/>
                  <a:pt x="16939" y="5526"/>
                  <a:pt x="16917" y="5606"/>
                </a:cubicBezTo>
                <a:cubicBezTo>
                  <a:pt x="16904" y="5652"/>
                  <a:pt x="16904" y="5644"/>
                  <a:pt x="16892" y="5680"/>
                </a:cubicBezTo>
                <a:cubicBezTo>
                  <a:pt x="16875" y="5732"/>
                  <a:pt x="16877" y="5745"/>
                  <a:pt x="16867" y="5779"/>
                </a:cubicBezTo>
                <a:cubicBezTo>
                  <a:pt x="16856" y="5816"/>
                  <a:pt x="16863" y="5847"/>
                  <a:pt x="16842" y="5879"/>
                </a:cubicBezTo>
                <a:cubicBezTo>
                  <a:pt x="16838" y="5885"/>
                  <a:pt x="16798" y="5898"/>
                  <a:pt x="16793" y="5904"/>
                </a:cubicBezTo>
                <a:cubicBezTo>
                  <a:pt x="16796" y="5878"/>
                  <a:pt x="16798" y="5867"/>
                  <a:pt x="16818" y="5804"/>
                </a:cubicBezTo>
                <a:cubicBezTo>
                  <a:pt x="16830" y="5765"/>
                  <a:pt x="16837" y="5691"/>
                  <a:pt x="16867" y="5680"/>
                </a:cubicBezTo>
                <a:cubicBezTo>
                  <a:pt x="16914" y="5663"/>
                  <a:pt x="16929" y="5699"/>
                  <a:pt x="16942" y="5705"/>
                </a:cubicBezTo>
                <a:cubicBezTo>
                  <a:pt x="16962" y="5714"/>
                  <a:pt x="17013" y="5746"/>
                  <a:pt x="17016" y="5755"/>
                </a:cubicBezTo>
                <a:cubicBezTo>
                  <a:pt x="17063" y="5895"/>
                  <a:pt x="17002" y="6116"/>
                  <a:pt x="16991" y="6251"/>
                </a:cubicBezTo>
                <a:cubicBezTo>
                  <a:pt x="16984" y="6328"/>
                  <a:pt x="16988" y="6404"/>
                  <a:pt x="16966" y="6449"/>
                </a:cubicBezTo>
                <a:cubicBezTo>
                  <a:pt x="16949" y="6483"/>
                  <a:pt x="16937" y="6475"/>
                  <a:pt x="16917" y="6499"/>
                </a:cubicBezTo>
                <a:cubicBezTo>
                  <a:pt x="16908" y="6509"/>
                  <a:pt x="16871" y="6542"/>
                  <a:pt x="16867" y="6548"/>
                </a:cubicBezTo>
                <a:cubicBezTo>
                  <a:pt x="16844" y="6588"/>
                  <a:pt x="16849" y="6592"/>
                  <a:pt x="16818" y="6623"/>
                </a:cubicBezTo>
                <a:cubicBezTo>
                  <a:pt x="16817" y="6616"/>
                  <a:pt x="16794" y="6567"/>
                  <a:pt x="16793" y="6524"/>
                </a:cubicBezTo>
                <a:cubicBezTo>
                  <a:pt x="16791" y="6449"/>
                  <a:pt x="16793" y="6394"/>
                  <a:pt x="16818" y="6325"/>
                </a:cubicBezTo>
                <a:cubicBezTo>
                  <a:pt x="16826" y="6302"/>
                  <a:pt x="16850" y="6256"/>
                  <a:pt x="16867" y="6226"/>
                </a:cubicBezTo>
                <a:cubicBezTo>
                  <a:pt x="16867" y="6226"/>
                  <a:pt x="16909" y="6137"/>
                  <a:pt x="16917" y="6127"/>
                </a:cubicBezTo>
                <a:cubicBezTo>
                  <a:pt x="16936" y="6104"/>
                  <a:pt x="16971" y="6086"/>
                  <a:pt x="16991" y="6052"/>
                </a:cubicBezTo>
                <a:cubicBezTo>
                  <a:pt x="17017" y="6007"/>
                  <a:pt x="17047" y="6001"/>
                  <a:pt x="17066" y="5953"/>
                </a:cubicBezTo>
                <a:cubicBezTo>
                  <a:pt x="17090" y="5893"/>
                  <a:pt x="17091" y="5822"/>
                  <a:pt x="17115" y="5779"/>
                </a:cubicBezTo>
                <a:cubicBezTo>
                  <a:pt x="17153" y="5711"/>
                  <a:pt x="17199" y="5642"/>
                  <a:pt x="17239" y="5581"/>
                </a:cubicBezTo>
                <a:cubicBezTo>
                  <a:pt x="17263" y="5545"/>
                  <a:pt x="17270" y="5494"/>
                  <a:pt x="17289" y="5457"/>
                </a:cubicBezTo>
                <a:cubicBezTo>
                  <a:pt x="17308" y="5421"/>
                  <a:pt x="17315" y="5417"/>
                  <a:pt x="17338" y="5383"/>
                </a:cubicBezTo>
                <a:cubicBezTo>
                  <a:pt x="17346" y="5372"/>
                  <a:pt x="17401" y="5327"/>
                  <a:pt x="17413" y="5308"/>
                </a:cubicBezTo>
                <a:cubicBezTo>
                  <a:pt x="17413" y="5283"/>
                  <a:pt x="17413" y="5275"/>
                  <a:pt x="17438" y="5283"/>
                </a:cubicBezTo>
                <a:cubicBezTo>
                  <a:pt x="17418" y="5319"/>
                  <a:pt x="17433" y="5297"/>
                  <a:pt x="17413" y="5333"/>
                </a:cubicBezTo>
                <a:cubicBezTo>
                  <a:pt x="17398" y="5359"/>
                  <a:pt x="17369" y="5379"/>
                  <a:pt x="17363" y="5432"/>
                </a:cubicBezTo>
                <a:cubicBezTo>
                  <a:pt x="17358" y="5473"/>
                  <a:pt x="17343" y="5490"/>
                  <a:pt x="17338" y="5531"/>
                </a:cubicBezTo>
                <a:cubicBezTo>
                  <a:pt x="17332" y="5583"/>
                  <a:pt x="17327" y="5612"/>
                  <a:pt x="17314" y="5655"/>
                </a:cubicBezTo>
                <a:cubicBezTo>
                  <a:pt x="17306" y="5681"/>
                  <a:pt x="17289" y="5729"/>
                  <a:pt x="17289" y="5730"/>
                </a:cubicBezTo>
                <a:cubicBezTo>
                  <a:pt x="17277" y="5768"/>
                  <a:pt x="17268" y="5775"/>
                  <a:pt x="17264" y="5804"/>
                </a:cubicBezTo>
                <a:cubicBezTo>
                  <a:pt x="17254" y="5881"/>
                  <a:pt x="17246" y="6011"/>
                  <a:pt x="17239" y="6052"/>
                </a:cubicBezTo>
                <a:cubicBezTo>
                  <a:pt x="17239" y="6060"/>
                  <a:pt x="17239" y="6069"/>
                  <a:pt x="17239" y="6077"/>
                </a:cubicBezTo>
                <a:cubicBezTo>
                  <a:pt x="17277" y="6086"/>
                  <a:pt x="17289" y="6106"/>
                  <a:pt x="17338" y="6102"/>
                </a:cubicBezTo>
                <a:cubicBezTo>
                  <a:pt x="17425" y="6096"/>
                  <a:pt x="17380" y="6073"/>
                  <a:pt x="17413" y="6052"/>
                </a:cubicBezTo>
                <a:cubicBezTo>
                  <a:pt x="17450" y="6028"/>
                  <a:pt x="17456" y="6037"/>
                  <a:pt x="17487" y="6003"/>
                </a:cubicBezTo>
                <a:cubicBezTo>
                  <a:pt x="17521" y="5966"/>
                  <a:pt x="17499" y="5981"/>
                  <a:pt x="17537" y="5928"/>
                </a:cubicBezTo>
                <a:cubicBezTo>
                  <a:pt x="17553" y="5906"/>
                  <a:pt x="17571" y="5911"/>
                  <a:pt x="17587" y="5879"/>
                </a:cubicBezTo>
                <a:cubicBezTo>
                  <a:pt x="17602" y="5849"/>
                  <a:pt x="17599" y="5835"/>
                  <a:pt x="17611" y="5804"/>
                </a:cubicBezTo>
                <a:cubicBezTo>
                  <a:pt x="17625" y="5766"/>
                  <a:pt x="17631" y="5730"/>
                  <a:pt x="17636" y="5705"/>
                </a:cubicBezTo>
                <a:cubicBezTo>
                  <a:pt x="17636" y="5680"/>
                  <a:pt x="17636" y="5672"/>
                  <a:pt x="17636" y="5655"/>
                </a:cubicBezTo>
                <a:cubicBezTo>
                  <a:pt x="17592" y="5645"/>
                  <a:pt x="17595" y="5634"/>
                  <a:pt x="17562" y="5631"/>
                </a:cubicBezTo>
                <a:cubicBezTo>
                  <a:pt x="17521" y="5627"/>
                  <a:pt x="17503" y="5653"/>
                  <a:pt x="17462" y="5655"/>
                </a:cubicBezTo>
                <a:cubicBezTo>
                  <a:pt x="17393" y="5659"/>
                  <a:pt x="17371" y="5651"/>
                  <a:pt x="17338" y="5680"/>
                </a:cubicBezTo>
                <a:cubicBezTo>
                  <a:pt x="17288" y="5725"/>
                  <a:pt x="17345" y="5687"/>
                  <a:pt x="17363" y="5705"/>
                </a:cubicBezTo>
                <a:cubicBezTo>
                  <a:pt x="17371" y="5705"/>
                  <a:pt x="17380" y="5705"/>
                  <a:pt x="17388" y="5705"/>
                </a:cubicBezTo>
              </a:path>
              <a:path w="5384" h="1787">
                <a:moveTo>
                  <a:pt x="17661" y="5904"/>
                </a:moveTo>
                <a:cubicBezTo>
                  <a:pt x="17661" y="5928"/>
                  <a:pt x="17661" y="5937"/>
                  <a:pt x="17661" y="5953"/>
                </a:cubicBezTo>
                <a:cubicBezTo>
                  <a:pt x="17750" y="5953"/>
                  <a:pt x="17822" y="5940"/>
                  <a:pt x="17909" y="5928"/>
                </a:cubicBezTo>
                <a:cubicBezTo>
                  <a:pt x="17969" y="5919"/>
                  <a:pt x="18008" y="5943"/>
                  <a:pt x="18058" y="5904"/>
                </a:cubicBezTo>
                <a:cubicBezTo>
                  <a:pt x="18083" y="5884"/>
                  <a:pt x="18086" y="5875"/>
                  <a:pt x="18107" y="5854"/>
                </a:cubicBezTo>
                <a:cubicBezTo>
                  <a:pt x="18123" y="5838"/>
                  <a:pt x="18166" y="5838"/>
                  <a:pt x="18182" y="5804"/>
                </a:cubicBezTo>
                <a:cubicBezTo>
                  <a:pt x="18205" y="5757"/>
                  <a:pt x="18231" y="5698"/>
                  <a:pt x="18256" y="5655"/>
                </a:cubicBezTo>
                <a:cubicBezTo>
                  <a:pt x="18290" y="5596"/>
                  <a:pt x="18324" y="5572"/>
                  <a:pt x="18331" y="5507"/>
                </a:cubicBezTo>
                <a:cubicBezTo>
                  <a:pt x="18336" y="5461"/>
                  <a:pt x="18348" y="5426"/>
                  <a:pt x="18355" y="5383"/>
                </a:cubicBezTo>
                <a:cubicBezTo>
                  <a:pt x="18368" y="5305"/>
                  <a:pt x="18355" y="5215"/>
                  <a:pt x="18355" y="5135"/>
                </a:cubicBezTo>
                <a:cubicBezTo>
                  <a:pt x="18287" y="5135"/>
                  <a:pt x="18218" y="5131"/>
                  <a:pt x="18182" y="5159"/>
                </a:cubicBezTo>
                <a:cubicBezTo>
                  <a:pt x="18158" y="5178"/>
                  <a:pt x="18153" y="5188"/>
                  <a:pt x="18132" y="5209"/>
                </a:cubicBezTo>
                <a:cubicBezTo>
                  <a:pt x="18112" y="5229"/>
                  <a:pt x="18103" y="5275"/>
                  <a:pt x="18083" y="5308"/>
                </a:cubicBezTo>
                <a:cubicBezTo>
                  <a:pt x="18066" y="5337"/>
                  <a:pt x="18042" y="5326"/>
                  <a:pt x="18033" y="5358"/>
                </a:cubicBezTo>
                <a:cubicBezTo>
                  <a:pt x="18024" y="5390"/>
                  <a:pt x="18020" y="5517"/>
                  <a:pt x="18058" y="5531"/>
                </a:cubicBezTo>
                <a:cubicBezTo>
                  <a:pt x="18106" y="5549"/>
                  <a:pt x="18141" y="5520"/>
                  <a:pt x="18157" y="5507"/>
                </a:cubicBezTo>
                <a:cubicBezTo>
                  <a:pt x="18209" y="5466"/>
                  <a:pt x="18202" y="5484"/>
                  <a:pt x="18256" y="5457"/>
                </a:cubicBezTo>
                <a:cubicBezTo>
                  <a:pt x="18266" y="5452"/>
                  <a:pt x="18318" y="5396"/>
                  <a:pt x="18331" y="5383"/>
                </a:cubicBezTo>
                <a:cubicBezTo>
                  <a:pt x="18338" y="5376"/>
                  <a:pt x="18402" y="5363"/>
                  <a:pt x="18405" y="5358"/>
                </a:cubicBezTo>
                <a:cubicBezTo>
                  <a:pt x="18411" y="5349"/>
                  <a:pt x="18428" y="5279"/>
                  <a:pt x="18430" y="5283"/>
                </a:cubicBezTo>
                <a:cubicBezTo>
                  <a:pt x="18455" y="5325"/>
                  <a:pt x="18411" y="5379"/>
                  <a:pt x="18405" y="5407"/>
                </a:cubicBezTo>
                <a:cubicBezTo>
                  <a:pt x="18394" y="5464"/>
                  <a:pt x="18385" y="5582"/>
                  <a:pt x="18380" y="5606"/>
                </a:cubicBezTo>
                <a:cubicBezTo>
                  <a:pt x="18367" y="5670"/>
                  <a:pt x="18366" y="5781"/>
                  <a:pt x="18405" y="5829"/>
                </a:cubicBezTo>
                <a:cubicBezTo>
                  <a:pt x="18427" y="5856"/>
                  <a:pt x="18412" y="5868"/>
                  <a:pt x="18430" y="5904"/>
                </a:cubicBezTo>
                <a:cubicBezTo>
                  <a:pt x="18444" y="5931"/>
                  <a:pt x="18446" y="5946"/>
                  <a:pt x="18479" y="5953"/>
                </a:cubicBezTo>
                <a:cubicBezTo>
                  <a:pt x="18550" y="5968"/>
                  <a:pt x="18645" y="5939"/>
                  <a:pt x="18678" y="5928"/>
                </a:cubicBezTo>
                <a:cubicBezTo>
                  <a:pt x="18755" y="5904"/>
                  <a:pt x="18760" y="5845"/>
                  <a:pt x="18802" y="5829"/>
                </a:cubicBezTo>
                <a:cubicBezTo>
                  <a:pt x="18877" y="5800"/>
                  <a:pt x="18922" y="5760"/>
                  <a:pt x="18976" y="5730"/>
                </a:cubicBezTo>
                <a:cubicBezTo>
                  <a:pt x="19015" y="5708"/>
                  <a:pt x="19025" y="5695"/>
                  <a:pt x="19050" y="5680"/>
                </a:cubicBezTo>
                <a:cubicBezTo>
                  <a:pt x="19112" y="5643"/>
                  <a:pt x="19096" y="5681"/>
                  <a:pt x="19050" y="5655"/>
                </a:cubicBezTo>
                <a:cubicBezTo>
                  <a:pt x="19042" y="5647"/>
                  <a:pt x="19033" y="5639"/>
                  <a:pt x="19025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476360" y="1197000"/>
            <a:ext cx="6551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На карте в масштабе  М 1 : 1000 показаны расстояния от дома Тани до дома каждого из друзей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Определите расстояние в метрах на местности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68360" y="1052640"/>
            <a:ext cx="1008000" cy="1081080"/>
            <a:chOff x="468360" y="1052640"/>
            <a:chExt cx="1008000" cy="1081080"/>
          </a:xfrm>
        </p:grpSpPr>
        <p:grpSp>
          <p:nvGrpSpPr>
            <p:cNvPr id="530" name=""/>
            <p:cNvGrpSpPr/>
            <p:nvPr/>
          </p:nvGrpSpPr>
          <p:grpSpPr>
            <a:xfrm>
              <a:off x="468360" y="1052640"/>
              <a:ext cx="1008000" cy="1081080"/>
              <a:chOff x="468360" y="1052640"/>
              <a:chExt cx="1008000" cy="108108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468360" y="1052640"/>
                <a:ext cx="1008000" cy="1081080"/>
                <a:chOff x="468360" y="1052640"/>
                <a:chExt cx="1008000" cy="108108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468360" y="1052640"/>
                  <a:ext cx="1008000" cy="1081080"/>
                  <a:chOff x="468360" y="1052640"/>
                  <a:chExt cx="1008000" cy="1081080"/>
                </a:xfrm>
              </p:grpSpPr>
              <p:pic>
                <p:nvPicPr>
                  <p:cNvPr id="53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85720" y="1052640"/>
                    <a:ext cx="762120" cy="10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4" name=""/>
                  <p:cNvSpPr/>
                  <p:nvPr/>
                </p:nvSpPr>
                <p:spPr>
                  <a:xfrm>
                    <a:off x="468360" y="2069280"/>
                    <a:ext cx="1008000" cy="64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 rot="5400000">
                  <a:off x="946800" y="1658880"/>
                  <a:ext cx="761400" cy="58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5400000">
                  <a:off x="233640" y="1658880"/>
                  <a:ext cx="761400" cy="58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527040" y="1052640"/>
                <a:ext cx="119160" cy="191520"/>
              </a:xfrm>
              <a:custGeom>
                <a:avLst/>
                <a:gdLst/>
                <a:ahLst/>
                <a:rect l="l" t="t" r="r" b="b"/>
                <a:pathLst>
                  <a:path w="91" h="137">
                    <a:moveTo>
                      <a:pt x="45" y="137"/>
                    </a:moveTo>
                    <a:lnTo>
                      <a:pt x="91" y="0"/>
                    </a:lnTo>
                    <a:lnTo>
                      <a:pt x="0" y="0"/>
                    </a:lnTo>
                    <a:lnTo>
                      <a:pt x="45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98520" y="1052640"/>
                <a:ext cx="118800" cy="191520"/>
              </a:xfrm>
              <a:custGeom>
                <a:avLst/>
                <a:gdLst/>
                <a:ahLst/>
                <a:rect l="l" t="t" r="r" b="b"/>
                <a:pathLst>
                  <a:path w="91" h="137">
                    <a:moveTo>
                      <a:pt x="45" y="137"/>
                    </a:moveTo>
                    <a:lnTo>
                      <a:pt x="91" y="0"/>
                    </a:lnTo>
                    <a:lnTo>
                      <a:pt x="0" y="0"/>
                    </a:lnTo>
                    <a:lnTo>
                      <a:pt x="45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882720" y="1052640"/>
              <a:ext cx="177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659640" y="836640"/>
            <a:ext cx="1008000" cy="1009440"/>
            <a:chOff x="6659640" y="836640"/>
            <a:chExt cx="1008000" cy="1009440"/>
          </a:xfrm>
        </p:grpSpPr>
        <p:grpSp>
          <p:nvGrpSpPr>
            <p:cNvPr id="541" name=""/>
            <p:cNvGrpSpPr/>
            <p:nvPr/>
          </p:nvGrpSpPr>
          <p:grpSpPr>
            <a:xfrm>
              <a:off x="6659640" y="836640"/>
              <a:ext cx="1008000" cy="1009440"/>
              <a:chOff x="6659640" y="836640"/>
              <a:chExt cx="1008000" cy="100944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6659640" y="836640"/>
                <a:ext cx="1008000" cy="1009440"/>
                <a:chOff x="6659640" y="836640"/>
                <a:chExt cx="1008000" cy="100944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6659640" y="836640"/>
                  <a:ext cx="1008000" cy="1009440"/>
                  <a:chOff x="6659640" y="836640"/>
                  <a:chExt cx="1008000" cy="1009440"/>
                </a:xfrm>
              </p:grpSpPr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7000" y="836640"/>
                    <a:ext cx="7621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5" name=""/>
                  <p:cNvSpPr/>
                  <p:nvPr/>
                </p:nvSpPr>
                <p:spPr>
                  <a:xfrm>
                    <a:off x="6659640" y="1785960"/>
                    <a:ext cx="1008000" cy="60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"/>
                <p:cNvSpPr/>
                <p:nvPr/>
              </p:nvSpPr>
              <p:spPr>
                <a:xfrm rot="5400000">
                  <a:off x="7162920" y="1400760"/>
                  <a:ext cx="711360" cy="58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5400000">
                  <a:off x="6450120" y="1400760"/>
                  <a:ext cx="711360" cy="58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6718320" y="836640"/>
                <a:ext cx="119160" cy="178920"/>
              </a:xfrm>
              <a:custGeom>
                <a:avLst/>
                <a:gdLst/>
                <a:ahLst/>
                <a:rect l="l" t="t" r="r" b="b"/>
                <a:pathLst>
                  <a:path w="91" h="137">
                    <a:moveTo>
                      <a:pt x="45" y="137"/>
                    </a:moveTo>
                    <a:lnTo>
                      <a:pt x="91" y="0"/>
                    </a:lnTo>
                    <a:lnTo>
                      <a:pt x="0" y="0"/>
                    </a:lnTo>
                    <a:lnTo>
                      <a:pt x="45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89800" y="836640"/>
                <a:ext cx="118800" cy="178920"/>
              </a:xfrm>
              <a:custGeom>
                <a:avLst/>
                <a:gdLst/>
                <a:ahLst/>
                <a:rect l="l" t="t" r="r" b="b"/>
                <a:pathLst>
                  <a:path w="91" h="137">
                    <a:moveTo>
                      <a:pt x="45" y="137"/>
                    </a:moveTo>
                    <a:lnTo>
                      <a:pt x="91" y="0"/>
                    </a:lnTo>
                    <a:lnTo>
                      <a:pt x="0" y="0"/>
                    </a:lnTo>
                    <a:lnTo>
                      <a:pt x="45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7074000" y="836640"/>
              <a:ext cx="177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900000" y="3429000"/>
            <a:ext cx="1224000" cy="1225080"/>
            <a:chOff x="900000" y="3429000"/>
            <a:chExt cx="1224000" cy="1225080"/>
          </a:xfrm>
        </p:grpSpPr>
        <p:grpSp>
          <p:nvGrpSpPr>
            <p:cNvPr id="552" name=""/>
            <p:cNvGrpSpPr/>
            <p:nvPr/>
          </p:nvGrpSpPr>
          <p:grpSpPr>
            <a:xfrm>
              <a:off x="900000" y="3429000"/>
              <a:ext cx="1224000" cy="1225080"/>
              <a:chOff x="900000" y="3429000"/>
              <a:chExt cx="1224000" cy="122508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900000" y="3429000"/>
                <a:ext cx="1224000" cy="1225080"/>
                <a:chOff x="900000" y="3429000"/>
                <a:chExt cx="1224000" cy="122508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900000" y="3429000"/>
                  <a:ext cx="1224000" cy="1225080"/>
                  <a:chOff x="900000" y="3429000"/>
                  <a:chExt cx="1224000" cy="1225080"/>
                </a:xfrm>
              </p:grpSpPr>
              <p:pic>
                <p:nvPicPr>
                  <p:cNvPr id="5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429000"/>
                    <a:ext cx="9255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6" name=""/>
                  <p:cNvSpPr/>
                  <p:nvPr/>
                </p:nvSpPr>
                <p:spPr>
                  <a:xfrm>
                    <a:off x="900000" y="4581360"/>
                    <a:ext cx="1224000" cy="72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"/>
                <p:cNvSpPr/>
                <p:nvPr/>
              </p:nvSpPr>
              <p:spPr>
                <a:xfrm rot="5400000">
                  <a:off x="1512000" y="4113720"/>
                  <a:ext cx="863280" cy="71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5400000">
                  <a:off x="646560" y="4113720"/>
                  <a:ext cx="863280" cy="71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971280" y="3429000"/>
                <a:ext cx="144720" cy="217080"/>
              </a:xfrm>
              <a:custGeom>
                <a:avLst/>
                <a:gdLst/>
                <a:ahLst/>
                <a:rect l="l" t="t" r="r" b="b"/>
                <a:pathLst>
                  <a:path w="91" h="137">
                    <a:moveTo>
                      <a:pt x="45" y="137"/>
                    </a:moveTo>
                    <a:lnTo>
                      <a:pt x="91" y="0"/>
                    </a:lnTo>
                    <a:lnTo>
                      <a:pt x="0" y="0"/>
                    </a:lnTo>
                    <a:lnTo>
                      <a:pt x="45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08000" y="3429000"/>
                <a:ext cx="144360" cy="217080"/>
              </a:xfrm>
              <a:custGeom>
                <a:avLst/>
                <a:gdLst/>
                <a:ahLst/>
                <a:rect l="l" t="t" r="r" b="b"/>
                <a:pathLst>
                  <a:path w="91" h="137">
                    <a:moveTo>
                      <a:pt x="45" y="137"/>
                    </a:moveTo>
                    <a:lnTo>
                      <a:pt x="91" y="0"/>
                    </a:lnTo>
                    <a:lnTo>
                      <a:pt x="0" y="0"/>
                    </a:lnTo>
                    <a:lnTo>
                      <a:pt x="45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403280" y="3429000"/>
              <a:ext cx="21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564000" y="4437000"/>
            <a:ext cx="1582920" cy="1511640"/>
            <a:chOff x="3564000" y="4437000"/>
            <a:chExt cx="1582920" cy="1511640"/>
          </a:xfrm>
        </p:grpSpPr>
        <p:grpSp>
          <p:nvGrpSpPr>
            <p:cNvPr id="563" name=""/>
            <p:cNvGrpSpPr/>
            <p:nvPr/>
          </p:nvGrpSpPr>
          <p:grpSpPr>
            <a:xfrm>
              <a:off x="3564000" y="4437000"/>
              <a:ext cx="1582920" cy="1511640"/>
              <a:chOff x="3564000" y="4437000"/>
              <a:chExt cx="1582920" cy="151164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3564000" y="4437000"/>
                <a:ext cx="1582920" cy="1511640"/>
                <a:chOff x="3564000" y="4437000"/>
                <a:chExt cx="1582920" cy="151164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3564000" y="4437000"/>
                  <a:ext cx="1582920" cy="1511640"/>
                  <a:chOff x="3564000" y="4437000"/>
                  <a:chExt cx="1582920" cy="1511640"/>
                </a:xfrm>
              </p:grpSpPr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8680" y="4437000"/>
                    <a:ext cx="1197000" cy="14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7" name=""/>
                  <p:cNvSpPr/>
                  <p:nvPr/>
                </p:nvSpPr>
                <p:spPr>
                  <a:xfrm>
                    <a:off x="3564000" y="5858640"/>
                    <a:ext cx="1582920" cy="90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8" name=""/>
                <p:cNvSpPr/>
                <p:nvPr/>
              </p:nvSpPr>
              <p:spPr>
                <a:xfrm rot="5400000">
                  <a:off x="4381200" y="5279760"/>
                  <a:ext cx="1065240" cy="92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5400000">
                  <a:off x="3261960" y="5279760"/>
                  <a:ext cx="1065240" cy="92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3656160" y="4437000"/>
                <a:ext cx="187200" cy="268200"/>
              </a:xfrm>
              <a:custGeom>
                <a:avLst/>
                <a:gdLst/>
                <a:ahLst/>
                <a:rect l="l" t="t" r="r" b="b"/>
                <a:pathLst>
                  <a:path w="91" h="137">
                    <a:moveTo>
                      <a:pt x="45" y="137"/>
                    </a:moveTo>
                    <a:lnTo>
                      <a:pt x="91" y="0"/>
                    </a:lnTo>
                    <a:lnTo>
                      <a:pt x="0" y="0"/>
                    </a:lnTo>
                    <a:lnTo>
                      <a:pt x="45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868280" y="4437000"/>
                <a:ext cx="186480" cy="268200"/>
              </a:xfrm>
              <a:custGeom>
                <a:avLst/>
                <a:gdLst/>
                <a:ahLst/>
                <a:rect l="l" t="t" r="r" b="b"/>
                <a:pathLst>
                  <a:path w="91" h="137">
                    <a:moveTo>
                      <a:pt x="45" y="137"/>
                    </a:moveTo>
                    <a:lnTo>
                      <a:pt x="91" y="0"/>
                    </a:lnTo>
                    <a:lnTo>
                      <a:pt x="0" y="0"/>
                    </a:lnTo>
                    <a:lnTo>
                      <a:pt x="45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15240" y="4437000"/>
              <a:ext cx="27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6804000" y="5516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М 1 : 10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547640" y="1844640"/>
            <a:ext cx="5400720" cy="2736720"/>
          </a:xfrm>
          <a:prstGeom prst="line">
            <a:avLst/>
          </a:prstGeom>
          <a:ln w="57240">
            <a:solidFill>
              <a:srgbClr val="f8f8f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547640" y="4581360"/>
            <a:ext cx="2448000" cy="1079640"/>
          </a:xfrm>
          <a:prstGeom prst="line">
            <a:avLst/>
          </a:prstGeom>
          <a:ln w="57240">
            <a:solidFill>
              <a:srgbClr val="f8f8f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1115640" y="1988640"/>
            <a:ext cx="431640" cy="2521080"/>
          </a:xfrm>
          <a:prstGeom prst="line">
            <a:avLst/>
          </a:prstGeom>
          <a:ln w="57240">
            <a:solidFill>
              <a:srgbClr val="f8f8f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581360"/>
            <a:ext cx="1224000" cy="706680"/>
          </a:xfrm>
          <a:custGeom>
            <a:avLst/>
            <a:gdLst/>
            <a:ahLst/>
            <a:rect l="l" t="t" r="r" b="b"/>
            <a:pathLst>
              <a:path w="3697" h="2134">
                <a:moveTo>
                  <a:pt x="5358" y="13221"/>
                </a:moveTo>
                <a:cubicBezTo>
                  <a:pt x="5387" y="13280"/>
                  <a:pt x="5386" y="13259"/>
                  <a:pt x="5407" y="13320"/>
                </a:cubicBezTo>
                <a:cubicBezTo>
                  <a:pt x="5431" y="13389"/>
                  <a:pt x="5459" y="13414"/>
                  <a:pt x="5507" y="13469"/>
                </a:cubicBezTo>
                <a:cubicBezTo>
                  <a:pt x="5543" y="13510"/>
                  <a:pt x="5508" y="13517"/>
                  <a:pt x="5531" y="13593"/>
                </a:cubicBezTo>
                <a:cubicBezTo>
                  <a:pt x="5543" y="13632"/>
                  <a:pt x="5574" y="13680"/>
                  <a:pt x="5581" y="13717"/>
                </a:cubicBezTo>
                <a:cubicBezTo>
                  <a:pt x="5592" y="13774"/>
                  <a:pt x="5598" y="13835"/>
                  <a:pt x="5606" y="13891"/>
                </a:cubicBezTo>
                <a:cubicBezTo>
                  <a:pt x="5615" y="13953"/>
                  <a:pt x="5629" y="14006"/>
                  <a:pt x="5631" y="14064"/>
                </a:cubicBezTo>
                <a:cubicBezTo>
                  <a:pt x="5634" y="14144"/>
                  <a:pt x="5647" y="14211"/>
                  <a:pt x="5655" y="14288"/>
                </a:cubicBezTo>
                <a:cubicBezTo>
                  <a:pt x="5672" y="14442"/>
                  <a:pt x="5678" y="14720"/>
                  <a:pt x="5631" y="14833"/>
                </a:cubicBezTo>
                <a:cubicBezTo>
                  <a:pt x="5605" y="14896"/>
                  <a:pt x="5608" y="14910"/>
                  <a:pt x="5556" y="14957"/>
                </a:cubicBezTo>
                <a:cubicBezTo>
                  <a:pt x="5527" y="14983"/>
                  <a:pt x="5522" y="15005"/>
                  <a:pt x="5507" y="15056"/>
                </a:cubicBezTo>
                <a:cubicBezTo>
                  <a:pt x="5468" y="15062"/>
                  <a:pt x="5455" y="15086"/>
                  <a:pt x="5432" y="15081"/>
                </a:cubicBezTo>
                <a:cubicBezTo>
                  <a:pt x="5418" y="15078"/>
                  <a:pt x="5350" y="15069"/>
                  <a:pt x="5333" y="15056"/>
                </a:cubicBezTo>
                <a:cubicBezTo>
                  <a:pt x="5302" y="15033"/>
                  <a:pt x="5273" y="14966"/>
                  <a:pt x="5259" y="14932"/>
                </a:cubicBezTo>
                <a:cubicBezTo>
                  <a:pt x="5231" y="14864"/>
                  <a:pt x="5183" y="14823"/>
                  <a:pt x="5159" y="14759"/>
                </a:cubicBezTo>
                <a:cubicBezTo>
                  <a:pt x="5141" y="14713"/>
                  <a:pt x="5129" y="14698"/>
                  <a:pt x="5110" y="14660"/>
                </a:cubicBezTo>
              </a:path>
              <a:path w="3697" h="2134">
                <a:moveTo>
                  <a:pt x="5854" y="13791"/>
                </a:moveTo>
                <a:cubicBezTo>
                  <a:pt x="5854" y="13896"/>
                  <a:pt x="5866" y="13991"/>
                  <a:pt x="5879" y="14089"/>
                </a:cubicBezTo>
                <a:cubicBezTo>
                  <a:pt x="5892" y="14189"/>
                  <a:pt x="5919" y="14243"/>
                  <a:pt x="5928" y="14337"/>
                </a:cubicBezTo>
                <a:cubicBezTo>
                  <a:pt x="5937" y="14431"/>
                  <a:pt x="5975" y="14473"/>
                  <a:pt x="6003" y="14560"/>
                </a:cubicBezTo>
                <a:cubicBezTo>
                  <a:pt x="6022" y="14621"/>
                  <a:pt x="5985" y="14654"/>
                  <a:pt x="6028" y="14709"/>
                </a:cubicBezTo>
                <a:cubicBezTo>
                  <a:pt x="6061" y="14751"/>
                  <a:pt x="6026" y="14798"/>
                  <a:pt x="6052" y="14833"/>
                </a:cubicBezTo>
                <a:cubicBezTo>
                  <a:pt x="6069" y="14857"/>
                  <a:pt x="6077" y="14831"/>
                  <a:pt x="6077" y="14883"/>
                </a:cubicBezTo>
              </a:path>
              <a:path w="3697" h="2134">
                <a:moveTo>
                  <a:pt x="4787" y="14089"/>
                </a:moveTo>
                <a:cubicBezTo>
                  <a:pt x="4787" y="13901"/>
                  <a:pt x="4716" y="13555"/>
                  <a:pt x="4812" y="13395"/>
                </a:cubicBezTo>
                <a:cubicBezTo>
                  <a:pt x="4837" y="13352"/>
                  <a:pt x="4895" y="13325"/>
                  <a:pt x="4936" y="13295"/>
                </a:cubicBezTo>
                <a:cubicBezTo>
                  <a:pt x="4967" y="13272"/>
                  <a:pt x="4968" y="13271"/>
                  <a:pt x="5035" y="13271"/>
                </a:cubicBezTo>
                <a:cubicBezTo>
                  <a:pt x="5337" y="13271"/>
                  <a:pt x="6160" y="13423"/>
                  <a:pt x="6424" y="13246"/>
                </a:cubicBezTo>
                <a:cubicBezTo>
                  <a:pt x="6481" y="13208"/>
                  <a:pt x="6519" y="13094"/>
                  <a:pt x="6548" y="13072"/>
                </a:cubicBezTo>
                <a:cubicBezTo>
                  <a:pt x="6576" y="13044"/>
                  <a:pt x="6590" y="13035"/>
                  <a:pt x="6623" y="13047"/>
                </a:cubicBezTo>
                <a:cubicBezTo>
                  <a:pt x="6623" y="13014"/>
                  <a:pt x="6623" y="12981"/>
                  <a:pt x="6623" y="12948"/>
                </a:cubicBezTo>
              </a:path>
              <a:path w="3697" h="2134">
                <a:moveTo>
                  <a:pt x="6226" y="14387"/>
                </a:moveTo>
                <a:cubicBezTo>
                  <a:pt x="6229" y="14386"/>
                  <a:pt x="6297" y="14365"/>
                  <a:pt x="6300" y="14362"/>
                </a:cubicBezTo>
                <a:cubicBezTo>
                  <a:pt x="6308" y="14351"/>
                  <a:pt x="6324" y="14265"/>
                  <a:pt x="6325" y="14263"/>
                </a:cubicBezTo>
                <a:cubicBezTo>
                  <a:pt x="6341" y="14230"/>
                  <a:pt x="6350" y="14238"/>
                  <a:pt x="6350" y="14188"/>
                </a:cubicBezTo>
                <a:cubicBezTo>
                  <a:pt x="6350" y="14132"/>
                  <a:pt x="6370" y="14155"/>
                  <a:pt x="6375" y="14114"/>
                </a:cubicBezTo>
                <a:cubicBezTo>
                  <a:pt x="6378" y="14090"/>
                  <a:pt x="6375" y="14063"/>
                  <a:pt x="6375" y="14039"/>
                </a:cubicBezTo>
                <a:cubicBezTo>
                  <a:pt x="6337" y="14052"/>
                  <a:pt x="6346" y="14061"/>
                  <a:pt x="6325" y="14089"/>
                </a:cubicBezTo>
                <a:cubicBezTo>
                  <a:pt x="6296" y="14127"/>
                  <a:pt x="6300" y="14140"/>
                  <a:pt x="6300" y="14188"/>
                </a:cubicBezTo>
                <a:cubicBezTo>
                  <a:pt x="6300" y="14234"/>
                  <a:pt x="6320" y="14247"/>
                  <a:pt x="6325" y="14288"/>
                </a:cubicBezTo>
                <a:cubicBezTo>
                  <a:pt x="6330" y="14328"/>
                  <a:pt x="6350" y="14341"/>
                  <a:pt x="6350" y="14387"/>
                </a:cubicBezTo>
                <a:cubicBezTo>
                  <a:pt x="6350" y="14443"/>
                  <a:pt x="6375" y="14480"/>
                  <a:pt x="6375" y="14536"/>
                </a:cubicBezTo>
                <a:cubicBezTo>
                  <a:pt x="6375" y="14582"/>
                  <a:pt x="6371" y="14645"/>
                  <a:pt x="6400" y="14660"/>
                </a:cubicBezTo>
                <a:cubicBezTo>
                  <a:pt x="6408" y="14660"/>
                  <a:pt x="6416" y="14660"/>
                  <a:pt x="6424" y="14660"/>
                </a:cubicBezTo>
                <a:cubicBezTo>
                  <a:pt x="6448" y="14652"/>
                  <a:pt x="6471" y="14651"/>
                  <a:pt x="6499" y="14635"/>
                </a:cubicBezTo>
                <a:cubicBezTo>
                  <a:pt x="6527" y="14607"/>
                  <a:pt x="6536" y="14593"/>
                  <a:pt x="6524" y="14560"/>
                </a:cubicBezTo>
                <a:cubicBezTo>
                  <a:pt x="6551" y="14560"/>
                  <a:pt x="6610" y="14549"/>
                  <a:pt x="6623" y="14536"/>
                </a:cubicBezTo>
                <a:cubicBezTo>
                  <a:pt x="6646" y="14513"/>
                  <a:pt x="6658" y="14516"/>
                  <a:pt x="6672" y="14486"/>
                </a:cubicBezTo>
                <a:cubicBezTo>
                  <a:pt x="6688" y="14452"/>
                  <a:pt x="6685" y="14472"/>
                  <a:pt x="6697" y="14436"/>
                </a:cubicBezTo>
              </a:path>
              <a:path w="3697" h="2134">
                <a:moveTo>
                  <a:pt x="6350" y="14114"/>
                </a:moveTo>
                <a:cubicBezTo>
                  <a:pt x="6350" y="14062"/>
                  <a:pt x="6364" y="14061"/>
                  <a:pt x="6375" y="14039"/>
                </a:cubicBezTo>
                <a:cubicBezTo>
                  <a:pt x="6391" y="14007"/>
                  <a:pt x="6400" y="14015"/>
                  <a:pt x="6400" y="13965"/>
                </a:cubicBezTo>
                <a:cubicBezTo>
                  <a:pt x="6400" y="13928"/>
                  <a:pt x="6460" y="13919"/>
                  <a:pt x="6499" y="13915"/>
                </a:cubicBezTo>
                <a:cubicBezTo>
                  <a:pt x="6532" y="13912"/>
                  <a:pt x="6580" y="13905"/>
                  <a:pt x="6598" y="13940"/>
                </a:cubicBezTo>
                <a:cubicBezTo>
                  <a:pt x="6622" y="13989"/>
                  <a:pt x="6580" y="14050"/>
                  <a:pt x="6573" y="14064"/>
                </a:cubicBezTo>
                <a:cubicBezTo>
                  <a:pt x="6560" y="14090"/>
                  <a:pt x="6557" y="14110"/>
                  <a:pt x="6524" y="14114"/>
                </a:cubicBezTo>
                <a:cubicBezTo>
                  <a:pt x="6485" y="14119"/>
                  <a:pt x="6496" y="14152"/>
                  <a:pt x="6474" y="14163"/>
                </a:cubicBezTo>
                <a:cubicBezTo>
                  <a:pt x="6468" y="14166"/>
                  <a:pt x="6404" y="14183"/>
                  <a:pt x="6400" y="14188"/>
                </a:cubicBezTo>
                <a:cubicBezTo>
                  <a:pt x="6384" y="14209"/>
                  <a:pt x="6384" y="14211"/>
                  <a:pt x="6375" y="14238"/>
                </a:cubicBezTo>
              </a:path>
              <a:path w="3697" h="2134">
                <a:moveTo>
                  <a:pt x="7045" y="13940"/>
                </a:moveTo>
                <a:cubicBezTo>
                  <a:pt x="7073" y="13988"/>
                  <a:pt x="7089" y="14032"/>
                  <a:pt x="7094" y="14089"/>
                </a:cubicBezTo>
                <a:cubicBezTo>
                  <a:pt x="7101" y="14177"/>
                  <a:pt x="7145" y="14534"/>
                  <a:pt x="7119" y="14585"/>
                </a:cubicBezTo>
                <a:cubicBezTo>
                  <a:pt x="7111" y="14585"/>
                  <a:pt x="7102" y="14585"/>
                  <a:pt x="7094" y="14585"/>
                </a:cubicBezTo>
              </a:path>
              <a:path w="3697" h="2134">
                <a:moveTo>
                  <a:pt x="6846" y="13990"/>
                </a:moveTo>
                <a:cubicBezTo>
                  <a:pt x="6886" y="13977"/>
                  <a:pt x="6902" y="13965"/>
                  <a:pt x="6970" y="13965"/>
                </a:cubicBezTo>
                <a:cubicBezTo>
                  <a:pt x="7056" y="13965"/>
                  <a:pt x="7116" y="13954"/>
                  <a:pt x="7193" y="13940"/>
                </a:cubicBezTo>
                <a:cubicBezTo>
                  <a:pt x="7251" y="13930"/>
                  <a:pt x="7374" y="13968"/>
                  <a:pt x="7392" y="13915"/>
                </a:cubicBezTo>
              </a:path>
              <a:path w="3697" h="2134">
                <a:moveTo>
                  <a:pt x="7516" y="14560"/>
                </a:moveTo>
                <a:cubicBezTo>
                  <a:pt x="7563" y="14576"/>
                  <a:pt x="7542" y="14574"/>
                  <a:pt x="7615" y="14585"/>
                </a:cubicBezTo>
                <a:cubicBezTo>
                  <a:pt x="7642" y="14506"/>
                  <a:pt x="7639" y="14565"/>
                  <a:pt x="7665" y="14486"/>
                </a:cubicBezTo>
                <a:cubicBezTo>
                  <a:pt x="7714" y="14469"/>
                  <a:pt x="7715" y="14471"/>
                  <a:pt x="7739" y="14436"/>
                </a:cubicBezTo>
                <a:cubicBezTo>
                  <a:pt x="7747" y="14424"/>
                  <a:pt x="7757" y="14342"/>
                  <a:pt x="7764" y="14337"/>
                </a:cubicBezTo>
                <a:cubicBezTo>
                  <a:pt x="7820" y="14292"/>
                  <a:pt x="7773" y="14291"/>
                  <a:pt x="7813" y="14238"/>
                </a:cubicBezTo>
                <a:cubicBezTo>
                  <a:pt x="7827" y="14219"/>
                  <a:pt x="7846" y="14185"/>
                  <a:pt x="7863" y="14163"/>
                </a:cubicBezTo>
                <a:cubicBezTo>
                  <a:pt x="7892" y="14125"/>
                  <a:pt x="7888" y="14112"/>
                  <a:pt x="7888" y="14064"/>
                </a:cubicBezTo>
                <a:cubicBezTo>
                  <a:pt x="7888" y="14009"/>
                  <a:pt x="7895" y="13989"/>
                  <a:pt x="7863" y="13965"/>
                </a:cubicBezTo>
                <a:cubicBezTo>
                  <a:pt x="7817" y="13931"/>
                  <a:pt x="7820" y="13921"/>
                  <a:pt x="7764" y="13915"/>
                </a:cubicBezTo>
                <a:cubicBezTo>
                  <a:pt x="7724" y="13911"/>
                  <a:pt x="7734" y="13955"/>
                  <a:pt x="7714" y="13965"/>
                </a:cubicBezTo>
                <a:cubicBezTo>
                  <a:pt x="7683" y="13980"/>
                  <a:pt x="7686" y="14001"/>
                  <a:pt x="7665" y="14015"/>
                </a:cubicBezTo>
                <a:cubicBezTo>
                  <a:pt x="7634" y="14036"/>
                  <a:pt x="7640" y="14037"/>
                  <a:pt x="7640" y="14089"/>
                </a:cubicBezTo>
                <a:cubicBezTo>
                  <a:pt x="7640" y="14122"/>
                  <a:pt x="7640" y="14155"/>
                  <a:pt x="7640" y="14188"/>
                </a:cubicBezTo>
                <a:cubicBezTo>
                  <a:pt x="7687" y="14188"/>
                  <a:pt x="7723" y="14170"/>
                  <a:pt x="7739" y="14163"/>
                </a:cubicBezTo>
                <a:cubicBezTo>
                  <a:pt x="7772" y="14163"/>
                  <a:pt x="7780" y="14155"/>
                  <a:pt x="7764" y="14114"/>
                </a:cubicBezTo>
                <a:cubicBezTo>
                  <a:pt x="7836" y="14099"/>
                  <a:pt x="7858" y="14047"/>
                  <a:pt x="7888" y="14039"/>
                </a:cubicBezTo>
                <a:cubicBezTo>
                  <a:pt x="7970" y="14017"/>
                  <a:pt x="7944" y="14065"/>
                  <a:pt x="7962" y="13990"/>
                </a:cubicBezTo>
                <a:cubicBezTo>
                  <a:pt x="8022" y="14010"/>
                  <a:pt x="7969" y="14023"/>
                  <a:pt x="7962" y="14039"/>
                </a:cubicBezTo>
                <a:cubicBezTo>
                  <a:pt x="7930" y="14112"/>
                  <a:pt x="7968" y="14298"/>
                  <a:pt x="7987" y="14337"/>
                </a:cubicBezTo>
                <a:cubicBezTo>
                  <a:pt x="8004" y="14371"/>
                  <a:pt x="7998" y="14407"/>
                  <a:pt x="8037" y="14412"/>
                </a:cubicBezTo>
                <a:cubicBezTo>
                  <a:pt x="8110" y="14421"/>
                  <a:pt x="8198" y="14406"/>
                  <a:pt x="8235" y="14387"/>
                </a:cubicBezTo>
                <a:cubicBezTo>
                  <a:pt x="8310" y="14350"/>
                  <a:pt x="8319" y="14420"/>
                  <a:pt x="8334" y="14312"/>
                </a:cubicBezTo>
                <a:cubicBezTo>
                  <a:pt x="8369" y="14312"/>
                  <a:pt x="8408" y="14306"/>
                  <a:pt x="8434" y="14288"/>
                </a:cubicBezTo>
                <a:cubicBezTo>
                  <a:pt x="8469" y="14264"/>
                  <a:pt x="8473" y="14269"/>
                  <a:pt x="8483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476360" y="1341360"/>
            <a:ext cx="1511280" cy="416160"/>
          </a:xfrm>
          <a:custGeom>
            <a:avLst/>
            <a:gdLst/>
            <a:ahLst/>
            <a:rect l="l" t="t" r="r" b="b"/>
            <a:pathLst>
              <a:path w="5508" h="1514">
                <a:moveTo>
                  <a:pt x="15825" y="13692"/>
                </a:moveTo>
                <a:cubicBezTo>
                  <a:pt x="15817" y="13692"/>
                  <a:pt x="15809" y="13692"/>
                  <a:pt x="15801" y="13692"/>
                </a:cubicBezTo>
                <a:cubicBezTo>
                  <a:pt x="15793" y="13743"/>
                  <a:pt x="15796" y="13716"/>
                  <a:pt x="15776" y="13742"/>
                </a:cubicBezTo>
                <a:cubicBezTo>
                  <a:pt x="15772" y="13781"/>
                  <a:pt x="15755" y="13807"/>
                  <a:pt x="15751" y="13816"/>
                </a:cubicBezTo>
                <a:cubicBezTo>
                  <a:pt x="15751" y="13866"/>
                  <a:pt x="15751" y="13915"/>
                  <a:pt x="15751" y="13965"/>
                </a:cubicBezTo>
                <a:cubicBezTo>
                  <a:pt x="15737" y="13989"/>
                  <a:pt x="15729" y="13987"/>
                  <a:pt x="15726" y="14039"/>
                </a:cubicBezTo>
                <a:cubicBezTo>
                  <a:pt x="15723" y="14094"/>
                  <a:pt x="15704" y="14133"/>
                  <a:pt x="15701" y="14188"/>
                </a:cubicBezTo>
                <a:cubicBezTo>
                  <a:pt x="15697" y="14251"/>
                  <a:pt x="15684" y="14304"/>
                  <a:pt x="15677" y="14362"/>
                </a:cubicBezTo>
                <a:cubicBezTo>
                  <a:pt x="15664" y="14465"/>
                  <a:pt x="15677" y="14579"/>
                  <a:pt x="15677" y="14684"/>
                </a:cubicBezTo>
                <a:cubicBezTo>
                  <a:pt x="15659" y="14714"/>
                  <a:pt x="15652" y="14742"/>
                  <a:pt x="15652" y="14808"/>
                </a:cubicBezTo>
                <a:cubicBezTo>
                  <a:pt x="15652" y="14833"/>
                  <a:pt x="15652" y="14841"/>
                  <a:pt x="15652" y="14858"/>
                </a:cubicBezTo>
                <a:cubicBezTo>
                  <a:pt x="15638" y="14882"/>
                  <a:pt x="15630" y="14880"/>
                  <a:pt x="15627" y="14932"/>
                </a:cubicBezTo>
                <a:cubicBezTo>
                  <a:pt x="15627" y="14957"/>
                  <a:pt x="15627" y="14965"/>
                  <a:pt x="15627" y="14982"/>
                </a:cubicBezTo>
                <a:cubicBezTo>
                  <a:pt x="15607" y="15008"/>
                  <a:pt x="15610" y="14981"/>
                  <a:pt x="15602" y="15032"/>
                </a:cubicBezTo>
                <a:cubicBezTo>
                  <a:pt x="15581" y="15047"/>
                  <a:pt x="15574" y="15041"/>
                  <a:pt x="15553" y="15056"/>
                </a:cubicBezTo>
                <a:cubicBezTo>
                  <a:pt x="15538" y="15077"/>
                  <a:pt x="15544" y="15085"/>
                  <a:pt x="15528" y="15106"/>
                </a:cubicBezTo>
                <a:cubicBezTo>
                  <a:pt x="15496" y="15125"/>
                  <a:pt x="15501" y="15124"/>
                  <a:pt x="15453" y="15131"/>
                </a:cubicBezTo>
                <a:cubicBezTo>
                  <a:pt x="15428" y="15146"/>
                  <a:pt x="15430" y="15149"/>
                  <a:pt x="15379" y="15156"/>
                </a:cubicBezTo>
                <a:cubicBezTo>
                  <a:pt x="15359" y="15163"/>
                  <a:pt x="15308" y="15180"/>
                  <a:pt x="15255" y="15180"/>
                </a:cubicBezTo>
                <a:cubicBezTo>
                  <a:pt x="15240" y="15146"/>
                  <a:pt x="15220" y="15124"/>
                  <a:pt x="15205" y="15106"/>
                </a:cubicBezTo>
                <a:cubicBezTo>
                  <a:pt x="15198" y="15060"/>
                  <a:pt x="15205" y="15073"/>
                  <a:pt x="15180" y="15032"/>
                </a:cubicBezTo>
              </a:path>
              <a:path w="5508" h="1514">
                <a:moveTo>
                  <a:pt x="15900" y="13767"/>
                </a:moveTo>
                <a:cubicBezTo>
                  <a:pt x="15880" y="13786"/>
                  <a:pt x="15856" y="13809"/>
                  <a:pt x="15850" y="13841"/>
                </a:cubicBezTo>
                <a:cubicBezTo>
                  <a:pt x="15844" y="13872"/>
                  <a:pt x="15829" y="13917"/>
                  <a:pt x="15825" y="13940"/>
                </a:cubicBezTo>
                <a:cubicBezTo>
                  <a:pt x="15803" y="14069"/>
                  <a:pt x="15832" y="14224"/>
                  <a:pt x="15850" y="14337"/>
                </a:cubicBezTo>
                <a:cubicBezTo>
                  <a:pt x="15862" y="14410"/>
                  <a:pt x="15864" y="14497"/>
                  <a:pt x="15875" y="14560"/>
                </a:cubicBezTo>
                <a:cubicBezTo>
                  <a:pt x="15881" y="14593"/>
                  <a:pt x="15893" y="14602"/>
                  <a:pt x="15900" y="14635"/>
                </a:cubicBezTo>
                <a:cubicBezTo>
                  <a:pt x="15911" y="14692"/>
                  <a:pt x="15905" y="14677"/>
                  <a:pt x="15925" y="14734"/>
                </a:cubicBezTo>
                <a:cubicBezTo>
                  <a:pt x="15939" y="14776"/>
                  <a:pt x="15964" y="14790"/>
                  <a:pt x="15974" y="14833"/>
                </a:cubicBezTo>
                <a:cubicBezTo>
                  <a:pt x="15985" y="14882"/>
                  <a:pt x="15972" y="14888"/>
                  <a:pt x="15999" y="14932"/>
                </a:cubicBezTo>
                <a:cubicBezTo>
                  <a:pt x="16017" y="14961"/>
                  <a:pt x="16021" y="14968"/>
                  <a:pt x="16049" y="15007"/>
                </a:cubicBezTo>
                <a:cubicBezTo>
                  <a:pt x="16049" y="15032"/>
                  <a:pt x="16049" y="15040"/>
                  <a:pt x="16073" y="15032"/>
                </a:cubicBezTo>
                <a:cubicBezTo>
                  <a:pt x="16096" y="15009"/>
                  <a:pt x="16102" y="14983"/>
                  <a:pt x="16123" y="14957"/>
                </a:cubicBezTo>
                <a:cubicBezTo>
                  <a:pt x="16146" y="14929"/>
                  <a:pt x="16133" y="14924"/>
                  <a:pt x="16148" y="14883"/>
                </a:cubicBezTo>
                <a:cubicBezTo>
                  <a:pt x="16149" y="14880"/>
                  <a:pt x="16187" y="14821"/>
                  <a:pt x="16197" y="14808"/>
                </a:cubicBezTo>
                <a:cubicBezTo>
                  <a:pt x="16207" y="14795"/>
                  <a:pt x="16234" y="14724"/>
                  <a:pt x="16247" y="14709"/>
                </a:cubicBezTo>
                <a:cubicBezTo>
                  <a:pt x="16278" y="14672"/>
                  <a:pt x="16305" y="14683"/>
                  <a:pt x="16321" y="14610"/>
                </a:cubicBezTo>
                <a:cubicBezTo>
                  <a:pt x="16334" y="14550"/>
                  <a:pt x="16344" y="14564"/>
                  <a:pt x="16371" y="14511"/>
                </a:cubicBezTo>
                <a:cubicBezTo>
                  <a:pt x="16398" y="14457"/>
                  <a:pt x="16398" y="14454"/>
                  <a:pt x="16421" y="14412"/>
                </a:cubicBezTo>
                <a:cubicBezTo>
                  <a:pt x="16429" y="14398"/>
                  <a:pt x="16470" y="14338"/>
                  <a:pt x="16470" y="14337"/>
                </a:cubicBezTo>
                <a:cubicBezTo>
                  <a:pt x="16478" y="14292"/>
                  <a:pt x="16493" y="14199"/>
                  <a:pt x="16495" y="14188"/>
                </a:cubicBezTo>
                <a:cubicBezTo>
                  <a:pt x="16508" y="14125"/>
                  <a:pt x="16517" y="14151"/>
                  <a:pt x="16520" y="14089"/>
                </a:cubicBezTo>
                <a:cubicBezTo>
                  <a:pt x="16528" y="13949"/>
                  <a:pt x="16520" y="13807"/>
                  <a:pt x="16520" y="13667"/>
                </a:cubicBezTo>
                <a:cubicBezTo>
                  <a:pt x="16520" y="13780"/>
                  <a:pt x="16512" y="13892"/>
                  <a:pt x="16495" y="13990"/>
                </a:cubicBezTo>
                <a:cubicBezTo>
                  <a:pt x="16487" y="14036"/>
                  <a:pt x="16475" y="14103"/>
                  <a:pt x="16470" y="14139"/>
                </a:cubicBezTo>
                <a:cubicBezTo>
                  <a:pt x="16447" y="14315"/>
                  <a:pt x="16472" y="14524"/>
                  <a:pt x="16495" y="14684"/>
                </a:cubicBezTo>
                <a:cubicBezTo>
                  <a:pt x="16500" y="14720"/>
                  <a:pt x="16515" y="14757"/>
                  <a:pt x="16520" y="14784"/>
                </a:cubicBezTo>
                <a:cubicBezTo>
                  <a:pt x="16528" y="14831"/>
                  <a:pt x="16534" y="14837"/>
                  <a:pt x="16545" y="14858"/>
                </a:cubicBezTo>
                <a:cubicBezTo>
                  <a:pt x="16555" y="14877"/>
                  <a:pt x="16583" y="14928"/>
                  <a:pt x="16594" y="14932"/>
                </a:cubicBezTo>
                <a:cubicBezTo>
                  <a:pt x="16642" y="14949"/>
                  <a:pt x="16709" y="14910"/>
                  <a:pt x="16718" y="14908"/>
                </a:cubicBezTo>
                <a:cubicBezTo>
                  <a:pt x="16771" y="14898"/>
                  <a:pt x="16765" y="14906"/>
                  <a:pt x="16793" y="14883"/>
                </a:cubicBezTo>
                <a:cubicBezTo>
                  <a:pt x="16801" y="14877"/>
                  <a:pt x="16840" y="14834"/>
                  <a:pt x="16842" y="14833"/>
                </a:cubicBezTo>
                <a:cubicBezTo>
                  <a:pt x="16850" y="14833"/>
                  <a:pt x="16859" y="14833"/>
                  <a:pt x="16867" y="14833"/>
                </a:cubicBezTo>
              </a:path>
              <a:path w="5508" h="1514">
                <a:moveTo>
                  <a:pt x="17636" y="14536"/>
                </a:moveTo>
                <a:cubicBezTo>
                  <a:pt x="17636" y="14478"/>
                  <a:pt x="17620" y="14433"/>
                  <a:pt x="17611" y="14387"/>
                </a:cubicBezTo>
                <a:cubicBezTo>
                  <a:pt x="17598" y="14325"/>
                  <a:pt x="17608" y="14358"/>
                  <a:pt x="17562" y="14312"/>
                </a:cubicBezTo>
                <a:cubicBezTo>
                  <a:pt x="17542" y="14292"/>
                  <a:pt x="17532" y="14274"/>
                  <a:pt x="17487" y="14263"/>
                </a:cubicBezTo>
                <a:cubicBezTo>
                  <a:pt x="17423" y="14248"/>
                  <a:pt x="17342" y="14266"/>
                  <a:pt x="17314" y="14288"/>
                </a:cubicBezTo>
                <a:cubicBezTo>
                  <a:pt x="17290" y="14307"/>
                  <a:pt x="17285" y="14317"/>
                  <a:pt x="17264" y="14337"/>
                </a:cubicBezTo>
                <a:cubicBezTo>
                  <a:pt x="17240" y="14361"/>
                  <a:pt x="17246" y="14378"/>
                  <a:pt x="17214" y="14387"/>
                </a:cubicBezTo>
                <a:cubicBezTo>
                  <a:pt x="17172" y="14399"/>
                  <a:pt x="17168" y="14390"/>
                  <a:pt x="17140" y="14412"/>
                </a:cubicBezTo>
                <a:cubicBezTo>
                  <a:pt x="17120" y="14428"/>
                  <a:pt x="17117" y="14449"/>
                  <a:pt x="17115" y="14486"/>
                </a:cubicBezTo>
                <a:cubicBezTo>
                  <a:pt x="17112" y="14530"/>
                  <a:pt x="17110" y="14535"/>
                  <a:pt x="17090" y="14560"/>
                </a:cubicBezTo>
                <a:cubicBezTo>
                  <a:pt x="17071" y="14584"/>
                  <a:pt x="17068" y="14592"/>
                  <a:pt x="17066" y="14635"/>
                </a:cubicBezTo>
                <a:cubicBezTo>
                  <a:pt x="17063" y="14687"/>
                  <a:pt x="17084" y="14720"/>
                  <a:pt x="17090" y="14759"/>
                </a:cubicBezTo>
                <a:cubicBezTo>
                  <a:pt x="17098" y="14813"/>
                  <a:pt x="17108" y="14824"/>
                  <a:pt x="17115" y="14858"/>
                </a:cubicBezTo>
                <a:cubicBezTo>
                  <a:pt x="17121" y="14887"/>
                  <a:pt x="17120" y="14924"/>
                  <a:pt x="17140" y="14932"/>
                </a:cubicBezTo>
                <a:cubicBezTo>
                  <a:pt x="17193" y="14952"/>
                  <a:pt x="17268" y="14924"/>
                  <a:pt x="17289" y="14908"/>
                </a:cubicBezTo>
                <a:cubicBezTo>
                  <a:pt x="17316" y="14886"/>
                  <a:pt x="17327" y="14901"/>
                  <a:pt x="17363" y="14883"/>
                </a:cubicBezTo>
                <a:cubicBezTo>
                  <a:pt x="17363" y="14883"/>
                  <a:pt x="17409" y="14837"/>
                  <a:pt x="17413" y="14833"/>
                </a:cubicBezTo>
                <a:cubicBezTo>
                  <a:pt x="17429" y="14817"/>
                  <a:pt x="17446" y="14800"/>
                  <a:pt x="17462" y="14784"/>
                </a:cubicBezTo>
                <a:cubicBezTo>
                  <a:pt x="17486" y="14760"/>
                  <a:pt x="17473" y="14748"/>
                  <a:pt x="17487" y="14709"/>
                </a:cubicBezTo>
                <a:cubicBezTo>
                  <a:pt x="17490" y="14700"/>
                  <a:pt x="17527" y="14654"/>
                  <a:pt x="17537" y="14635"/>
                </a:cubicBezTo>
                <a:cubicBezTo>
                  <a:pt x="17561" y="14590"/>
                  <a:pt x="17604" y="14572"/>
                  <a:pt x="17611" y="14560"/>
                </a:cubicBezTo>
                <a:cubicBezTo>
                  <a:pt x="17624" y="14536"/>
                  <a:pt x="17632" y="14437"/>
                  <a:pt x="17636" y="14412"/>
                </a:cubicBezTo>
                <a:cubicBezTo>
                  <a:pt x="17644" y="14366"/>
                  <a:pt x="17642" y="14353"/>
                  <a:pt x="17661" y="14312"/>
                </a:cubicBezTo>
                <a:cubicBezTo>
                  <a:pt x="17674" y="14284"/>
                  <a:pt x="17669" y="14272"/>
                  <a:pt x="17686" y="14238"/>
                </a:cubicBezTo>
                <a:cubicBezTo>
                  <a:pt x="17698" y="14214"/>
                  <a:pt x="17735" y="14189"/>
                  <a:pt x="17711" y="14213"/>
                </a:cubicBezTo>
                <a:cubicBezTo>
                  <a:pt x="17700" y="14224"/>
                  <a:pt x="17663" y="14281"/>
                  <a:pt x="17661" y="14288"/>
                </a:cubicBezTo>
                <a:cubicBezTo>
                  <a:pt x="17651" y="14328"/>
                  <a:pt x="17644" y="14346"/>
                  <a:pt x="17636" y="14387"/>
                </a:cubicBezTo>
                <a:cubicBezTo>
                  <a:pt x="17624" y="14447"/>
                  <a:pt x="17617" y="14557"/>
                  <a:pt x="17611" y="14585"/>
                </a:cubicBezTo>
                <a:cubicBezTo>
                  <a:pt x="17596" y="14658"/>
                  <a:pt x="17593" y="14829"/>
                  <a:pt x="17636" y="14883"/>
                </a:cubicBezTo>
                <a:cubicBezTo>
                  <a:pt x="17657" y="14909"/>
                  <a:pt x="17647" y="14921"/>
                  <a:pt x="17686" y="14932"/>
                </a:cubicBezTo>
                <a:cubicBezTo>
                  <a:pt x="17738" y="14947"/>
                  <a:pt x="17771" y="14915"/>
                  <a:pt x="17810" y="14908"/>
                </a:cubicBezTo>
                <a:cubicBezTo>
                  <a:pt x="17849" y="14900"/>
                  <a:pt x="17929" y="14884"/>
                  <a:pt x="17934" y="14883"/>
                </a:cubicBezTo>
                <a:cubicBezTo>
                  <a:pt x="17978" y="14874"/>
                  <a:pt x="17981" y="14880"/>
                  <a:pt x="18008" y="14858"/>
                </a:cubicBezTo>
                <a:cubicBezTo>
                  <a:pt x="18037" y="14835"/>
                  <a:pt x="18051" y="14836"/>
                  <a:pt x="18058" y="14784"/>
                </a:cubicBezTo>
                <a:cubicBezTo>
                  <a:pt x="18058" y="14767"/>
                  <a:pt x="18058" y="14751"/>
                  <a:pt x="18058" y="14734"/>
                </a:cubicBezTo>
              </a:path>
              <a:path w="5508" h="1514">
                <a:moveTo>
                  <a:pt x="18355" y="14114"/>
                </a:moveTo>
                <a:cubicBezTo>
                  <a:pt x="18348" y="14127"/>
                  <a:pt x="18344" y="14161"/>
                  <a:pt x="18331" y="14188"/>
                </a:cubicBezTo>
                <a:cubicBezTo>
                  <a:pt x="18321" y="14208"/>
                  <a:pt x="18287" y="14232"/>
                  <a:pt x="18281" y="14263"/>
                </a:cubicBezTo>
                <a:cubicBezTo>
                  <a:pt x="18271" y="14312"/>
                  <a:pt x="18263" y="14300"/>
                  <a:pt x="18256" y="14337"/>
                </a:cubicBezTo>
                <a:cubicBezTo>
                  <a:pt x="18249" y="14370"/>
                  <a:pt x="18238" y="14379"/>
                  <a:pt x="18231" y="14412"/>
                </a:cubicBezTo>
                <a:cubicBezTo>
                  <a:pt x="18221" y="14459"/>
                  <a:pt x="18214" y="14450"/>
                  <a:pt x="18207" y="14486"/>
                </a:cubicBezTo>
                <a:cubicBezTo>
                  <a:pt x="18200" y="14524"/>
                  <a:pt x="18183" y="14603"/>
                  <a:pt x="18182" y="14610"/>
                </a:cubicBezTo>
                <a:cubicBezTo>
                  <a:pt x="18166" y="14688"/>
                  <a:pt x="18188" y="14770"/>
                  <a:pt x="18207" y="14833"/>
                </a:cubicBezTo>
                <a:cubicBezTo>
                  <a:pt x="18207" y="14841"/>
                  <a:pt x="18207" y="14850"/>
                  <a:pt x="18207" y="14858"/>
                </a:cubicBezTo>
                <a:cubicBezTo>
                  <a:pt x="18250" y="14852"/>
                  <a:pt x="18255" y="14854"/>
                  <a:pt x="18281" y="14833"/>
                </a:cubicBezTo>
                <a:cubicBezTo>
                  <a:pt x="18307" y="14812"/>
                  <a:pt x="18299" y="14793"/>
                  <a:pt x="18331" y="14784"/>
                </a:cubicBezTo>
                <a:cubicBezTo>
                  <a:pt x="18373" y="14772"/>
                  <a:pt x="18377" y="14781"/>
                  <a:pt x="18405" y="14759"/>
                </a:cubicBezTo>
                <a:cubicBezTo>
                  <a:pt x="18429" y="14739"/>
                  <a:pt x="18447" y="14742"/>
                  <a:pt x="18479" y="14709"/>
                </a:cubicBezTo>
                <a:cubicBezTo>
                  <a:pt x="18501" y="14687"/>
                  <a:pt x="18509" y="14660"/>
                  <a:pt x="18529" y="14635"/>
                </a:cubicBezTo>
                <a:cubicBezTo>
                  <a:pt x="18539" y="14623"/>
                  <a:pt x="18567" y="14597"/>
                  <a:pt x="18579" y="14585"/>
                </a:cubicBezTo>
                <a:cubicBezTo>
                  <a:pt x="18602" y="14562"/>
                  <a:pt x="18619" y="14567"/>
                  <a:pt x="18628" y="14536"/>
                </a:cubicBezTo>
                <a:cubicBezTo>
                  <a:pt x="18640" y="14494"/>
                  <a:pt x="18642" y="14481"/>
                  <a:pt x="18653" y="14461"/>
                </a:cubicBezTo>
                <a:cubicBezTo>
                  <a:pt x="18670" y="14429"/>
                  <a:pt x="18693" y="14422"/>
                  <a:pt x="18703" y="14387"/>
                </a:cubicBezTo>
                <a:cubicBezTo>
                  <a:pt x="18715" y="14344"/>
                  <a:pt x="18706" y="14340"/>
                  <a:pt x="18728" y="14312"/>
                </a:cubicBezTo>
                <a:cubicBezTo>
                  <a:pt x="18747" y="14288"/>
                  <a:pt x="18750" y="14281"/>
                  <a:pt x="18752" y="14238"/>
                </a:cubicBezTo>
                <a:cubicBezTo>
                  <a:pt x="18753" y="14213"/>
                  <a:pt x="18752" y="14188"/>
                  <a:pt x="18752" y="14163"/>
                </a:cubicBezTo>
                <a:cubicBezTo>
                  <a:pt x="18770" y="14199"/>
                  <a:pt x="18760" y="14174"/>
                  <a:pt x="18752" y="14238"/>
                </a:cubicBezTo>
                <a:cubicBezTo>
                  <a:pt x="18745" y="14295"/>
                  <a:pt x="18752" y="14307"/>
                  <a:pt x="18728" y="14337"/>
                </a:cubicBezTo>
                <a:cubicBezTo>
                  <a:pt x="18695" y="14379"/>
                  <a:pt x="18722" y="14394"/>
                  <a:pt x="18703" y="14436"/>
                </a:cubicBezTo>
                <a:cubicBezTo>
                  <a:pt x="18690" y="14465"/>
                  <a:pt x="18695" y="14476"/>
                  <a:pt x="18678" y="14511"/>
                </a:cubicBezTo>
                <a:cubicBezTo>
                  <a:pt x="18668" y="14531"/>
                  <a:pt x="18634" y="14554"/>
                  <a:pt x="18628" y="14585"/>
                </a:cubicBezTo>
                <a:cubicBezTo>
                  <a:pt x="18622" y="14617"/>
                  <a:pt x="18610" y="14628"/>
                  <a:pt x="18604" y="14660"/>
                </a:cubicBezTo>
                <a:cubicBezTo>
                  <a:pt x="18591" y="14726"/>
                  <a:pt x="18618" y="14781"/>
                  <a:pt x="18628" y="14833"/>
                </a:cubicBezTo>
                <a:cubicBezTo>
                  <a:pt x="18639" y="14889"/>
                  <a:pt x="18618" y="14876"/>
                  <a:pt x="18678" y="14883"/>
                </a:cubicBezTo>
                <a:cubicBezTo>
                  <a:pt x="18731" y="14890"/>
                  <a:pt x="18730" y="14876"/>
                  <a:pt x="18752" y="14858"/>
                </a:cubicBezTo>
                <a:cubicBezTo>
                  <a:pt x="18779" y="14836"/>
                  <a:pt x="18790" y="14851"/>
                  <a:pt x="18827" y="14833"/>
                </a:cubicBezTo>
                <a:cubicBezTo>
                  <a:pt x="18856" y="14818"/>
                  <a:pt x="18853" y="14807"/>
                  <a:pt x="18876" y="14784"/>
                </a:cubicBezTo>
                <a:cubicBezTo>
                  <a:pt x="18893" y="14767"/>
                  <a:pt x="18909" y="14751"/>
                  <a:pt x="18926" y="14734"/>
                </a:cubicBezTo>
                <a:cubicBezTo>
                  <a:pt x="18950" y="14710"/>
                  <a:pt x="18934" y="14695"/>
                  <a:pt x="18951" y="14660"/>
                </a:cubicBezTo>
                <a:cubicBezTo>
                  <a:pt x="18966" y="14631"/>
                  <a:pt x="18977" y="14633"/>
                  <a:pt x="19000" y="14610"/>
                </a:cubicBezTo>
                <a:cubicBezTo>
                  <a:pt x="19023" y="14586"/>
                  <a:pt x="19043" y="14593"/>
                  <a:pt x="19050" y="14560"/>
                </a:cubicBezTo>
                <a:cubicBezTo>
                  <a:pt x="19061" y="14509"/>
                  <a:pt x="19051" y="14491"/>
                  <a:pt x="19075" y="14461"/>
                </a:cubicBezTo>
                <a:cubicBezTo>
                  <a:pt x="19095" y="14435"/>
                  <a:pt x="19115" y="14443"/>
                  <a:pt x="19124" y="14412"/>
                </a:cubicBezTo>
                <a:cubicBezTo>
                  <a:pt x="19135" y="14372"/>
                  <a:pt x="19143" y="14353"/>
                  <a:pt x="19149" y="14312"/>
                </a:cubicBezTo>
                <a:cubicBezTo>
                  <a:pt x="19154" y="14277"/>
                  <a:pt x="19174" y="14215"/>
                  <a:pt x="19174" y="14213"/>
                </a:cubicBezTo>
                <a:cubicBezTo>
                  <a:pt x="19185" y="14159"/>
                  <a:pt x="19182" y="14142"/>
                  <a:pt x="19199" y="14114"/>
                </a:cubicBezTo>
                <a:cubicBezTo>
                  <a:pt x="19199" y="14157"/>
                  <a:pt x="19176" y="14205"/>
                  <a:pt x="19174" y="14213"/>
                </a:cubicBezTo>
                <a:cubicBezTo>
                  <a:pt x="19162" y="14271"/>
                  <a:pt x="19153" y="14386"/>
                  <a:pt x="19149" y="14412"/>
                </a:cubicBezTo>
                <a:cubicBezTo>
                  <a:pt x="19141" y="14462"/>
                  <a:pt x="19132" y="14448"/>
                  <a:pt x="19124" y="14486"/>
                </a:cubicBezTo>
                <a:cubicBezTo>
                  <a:pt x="19115" y="14530"/>
                  <a:pt x="19103" y="14621"/>
                  <a:pt x="19100" y="14635"/>
                </a:cubicBezTo>
                <a:cubicBezTo>
                  <a:pt x="19092" y="14677"/>
                  <a:pt x="19081" y="14866"/>
                  <a:pt x="19124" y="14883"/>
                </a:cubicBezTo>
                <a:cubicBezTo>
                  <a:pt x="19179" y="14904"/>
                  <a:pt x="19252" y="14875"/>
                  <a:pt x="19273" y="14858"/>
                </a:cubicBezTo>
                <a:cubicBezTo>
                  <a:pt x="19309" y="14829"/>
                  <a:pt x="19320" y="14859"/>
                  <a:pt x="19372" y="14833"/>
                </a:cubicBezTo>
                <a:cubicBezTo>
                  <a:pt x="19401" y="14818"/>
                  <a:pt x="19399" y="14807"/>
                  <a:pt x="19422" y="14784"/>
                </a:cubicBezTo>
                <a:cubicBezTo>
                  <a:pt x="19429" y="14777"/>
                  <a:pt x="19483" y="14724"/>
                  <a:pt x="19472" y="14709"/>
                </a:cubicBezTo>
                <a:cubicBezTo>
                  <a:pt x="19467" y="14701"/>
                  <a:pt x="19408" y="14690"/>
                  <a:pt x="19397" y="14684"/>
                </a:cubicBezTo>
              </a:path>
              <a:path w="5508" h="1514">
                <a:moveTo>
                  <a:pt x="20315" y="14412"/>
                </a:moveTo>
                <a:cubicBezTo>
                  <a:pt x="20315" y="14345"/>
                  <a:pt x="20317" y="14297"/>
                  <a:pt x="20290" y="14263"/>
                </a:cubicBezTo>
                <a:cubicBezTo>
                  <a:pt x="20263" y="14230"/>
                  <a:pt x="20258" y="14207"/>
                  <a:pt x="20241" y="14188"/>
                </a:cubicBezTo>
                <a:cubicBezTo>
                  <a:pt x="20200" y="14142"/>
                  <a:pt x="20183" y="14160"/>
                  <a:pt x="20141" y="14139"/>
                </a:cubicBezTo>
                <a:cubicBezTo>
                  <a:pt x="20119" y="14128"/>
                  <a:pt x="20118" y="14117"/>
                  <a:pt x="20067" y="14114"/>
                </a:cubicBezTo>
                <a:cubicBezTo>
                  <a:pt x="20009" y="14111"/>
                  <a:pt x="19994" y="14118"/>
                  <a:pt x="19968" y="14139"/>
                </a:cubicBezTo>
                <a:cubicBezTo>
                  <a:pt x="19941" y="14160"/>
                  <a:pt x="19929" y="14145"/>
                  <a:pt x="19893" y="14163"/>
                </a:cubicBezTo>
                <a:cubicBezTo>
                  <a:pt x="19864" y="14178"/>
                  <a:pt x="19853" y="14181"/>
                  <a:pt x="19844" y="14213"/>
                </a:cubicBezTo>
                <a:cubicBezTo>
                  <a:pt x="19828" y="14268"/>
                  <a:pt x="19845" y="14280"/>
                  <a:pt x="19819" y="14312"/>
                </a:cubicBezTo>
                <a:cubicBezTo>
                  <a:pt x="19798" y="14338"/>
                  <a:pt x="19778" y="14330"/>
                  <a:pt x="19769" y="14362"/>
                </a:cubicBezTo>
                <a:cubicBezTo>
                  <a:pt x="19760" y="14393"/>
                  <a:pt x="19751" y="14404"/>
                  <a:pt x="19745" y="14436"/>
                </a:cubicBezTo>
                <a:cubicBezTo>
                  <a:pt x="19722" y="14554"/>
                  <a:pt x="19749" y="14704"/>
                  <a:pt x="19769" y="14808"/>
                </a:cubicBezTo>
                <a:cubicBezTo>
                  <a:pt x="19776" y="14845"/>
                  <a:pt x="19772" y="14866"/>
                  <a:pt x="19794" y="14883"/>
                </a:cubicBezTo>
                <a:cubicBezTo>
                  <a:pt x="19809" y="14894"/>
                  <a:pt x="19852" y="14898"/>
                  <a:pt x="19869" y="14908"/>
                </a:cubicBezTo>
                <a:cubicBezTo>
                  <a:pt x="19875" y="14902"/>
                  <a:pt x="19961" y="14846"/>
                  <a:pt x="19968" y="14833"/>
                </a:cubicBezTo>
                <a:cubicBezTo>
                  <a:pt x="19985" y="14800"/>
                  <a:pt x="20011" y="14732"/>
                  <a:pt x="20017" y="14709"/>
                </a:cubicBezTo>
                <a:cubicBezTo>
                  <a:pt x="20036" y="14638"/>
                  <a:pt x="20015" y="14693"/>
                  <a:pt x="20067" y="14660"/>
                </a:cubicBezTo>
                <a:cubicBezTo>
                  <a:pt x="20081" y="14651"/>
                  <a:pt x="20082" y="14591"/>
                  <a:pt x="20092" y="14585"/>
                </a:cubicBezTo>
                <a:cubicBezTo>
                  <a:pt x="20146" y="14550"/>
                  <a:pt x="20106" y="14590"/>
                  <a:pt x="20141" y="14536"/>
                </a:cubicBezTo>
                <a:cubicBezTo>
                  <a:pt x="20166" y="14496"/>
                  <a:pt x="20173" y="14490"/>
                  <a:pt x="20191" y="14461"/>
                </a:cubicBezTo>
                <a:cubicBezTo>
                  <a:pt x="20200" y="14446"/>
                  <a:pt x="20226" y="14406"/>
                  <a:pt x="20241" y="14387"/>
                </a:cubicBezTo>
                <a:cubicBezTo>
                  <a:pt x="20262" y="14360"/>
                  <a:pt x="20247" y="14348"/>
                  <a:pt x="20265" y="14312"/>
                </a:cubicBezTo>
                <a:cubicBezTo>
                  <a:pt x="20279" y="14284"/>
                  <a:pt x="20272" y="14273"/>
                  <a:pt x="20290" y="14238"/>
                </a:cubicBezTo>
                <a:cubicBezTo>
                  <a:pt x="20301" y="14217"/>
                  <a:pt x="20312" y="14213"/>
                  <a:pt x="20315" y="14163"/>
                </a:cubicBezTo>
                <a:cubicBezTo>
                  <a:pt x="20317" y="14122"/>
                  <a:pt x="20323" y="14101"/>
                  <a:pt x="20340" y="14064"/>
                </a:cubicBezTo>
                <a:cubicBezTo>
                  <a:pt x="20349" y="14045"/>
                  <a:pt x="20358" y="14035"/>
                  <a:pt x="20365" y="13990"/>
                </a:cubicBezTo>
                <a:cubicBezTo>
                  <a:pt x="20365" y="14048"/>
                  <a:pt x="20344" y="14118"/>
                  <a:pt x="20340" y="14139"/>
                </a:cubicBezTo>
                <a:cubicBezTo>
                  <a:pt x="20333" y="14171"/>
                  <a:pt x="20321" y="14181"/>
                  <a:pt x="20315" y="14213"/>
                </a:cubicBezTo>
                <a:cubicBezTo>
                  <a:pt x="20306" y="14258"/>
                  <a:pt x="20293" y="14349"/>
                  <a:pt x="20290" y="14362"/>
                </a:cubicBezTo>
                <a:cubicBezTo>
                  <a:pt x="20279" y="14418"/>
                  <a:pt x="20268" y="14537"/>
                  <a:pt x="20265" y="14560"/>
                </a:cubicBezTo>
                <a:cubicBezTo>
                  <a:pt x="20253" y="14637"/>
                  <a:pt x="20258" y="14768"/>
                  <a:pt x="20290" y="14808"/>
                </a:cubicBezTo>
                <a:cubicBezTo>
                  <a:pt x="20312" y="14835"/>
                  <a:pt x="20297" y="14846"/>
                  <a:pt x="20315" y="14883"/>
                </a:cubicBezTo>
                <a:cubicBezTo>
                  <a:pt x="20330" y="14913"/>
                  <a:pt x="20385" y="14917"/>
                  <a:pt x="20414" y="14908"/>
                </a:cubicBezTo>
                <a:cubicBezTo>
                  <a:pt x="20439" y="14900"/>
                  <a:pt x="20458" y="14899"/>
                  <a:pt x="20489" y="14883"/>
                </a:cubicBezTo>
                <a:cubicBezTo>
                  <a:pt x="20528" y="14863"/>
                  <a:pt x="20511" y="14856"/>
                  <a:pt x="20563" y="14833"/>
                </a:cubicBezTo>
                <a:cubicBezTo>
                  <a:pt x="20601" y="14816"/>
                  <a:pt x="20623" y="14823"/>
                  <a:pt x="20638" y="14784"/>
                </a:cubicBezTo>
                <a:cubicBezTo>
                  <a:pt x="20650" y="14752"/>
                  <a:pt x="20638" y="14724"/>
                  <a:pt x="20662" y="14709"/>
                </a:cubicBezTo>
                <a:cubicBezTo>
                  <a:pt x="20670" y="14709"/>
                  <a:pt x="20679" y="14709"/>
                  <a:pt x="20687" y="14709"/>
                </a:cubicBezTo>
                <a:cubicBezTo>
                  <a:pt x="20646" y="14709"/>
                  <a:pt x="20604" y="14709"/>
                  <a:pt x="20563" y="147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39640" y="4759200"/>
            <a:ext cx="1511280" cy="519120"/>
          </a:xfrm>
          <a:custGeom>
            <a:avLst/>
            <a:gdLst/>
            <a:ahLst/>
            <a:rect l="l" t="t" r="r" b="b"/>
            <a:pathLst>
              <a:path w="8236" h="2829">
                <a:moveTo>
                  <a:pt x="3597" y="13320"/>
                </a:moveTo>
                <a:cubicBezTo>
                  <a:pt x="3597" y="13408"/>
                  <a:pt x="3585" y="13486"/>
                  <a:pt x="3572" y="13568"/>
                </a:cubicBezTo>
                <a:cubicBezTo>
                  <a:pt x="3560" y="13642"/>
                  <a:pt x="3563" y="13695"/>
                  <a:pt x="3547" y="13767"/>
                </a:cubicBezTo>
                <a:cubicBezTo>
                  <a:pt x="3528" y="13854"/>
                  <a:pt x="3536" y="13928"/>
                  <a:pt x="3522" y="14015"/>
                </a:cubicBezTo>
                <a:cubicBezTo>
                  <a:pt x="3512" y="14076"/>
                  <a:pt x="3496" y="14170"/>
                  <a:pt x="3473" y="14238"/>
                </a:cubicBezTo>
                <a:cubicBezTo>
                  <a:pt x="3460" y="14276"/>
                  <a:pt x="3461" y="14324"/>
                  <a:pt x="3448" y="14362"/>
                </a:cubicBezTo>
                <a:cubicBezTo>
                  <a:pt x="3431" y="14412"/>
                  <a:pt x="3435" y="14455"/>
                  <a:pt x="3423" y="14511"/>
                </a:cubicBezTo>
                <a:cubicBezTo>
                  <a:pt x="3410" y="14572"/>
                  <a:pt x="3367" y="14606"/>
                  <a:pt x="3349" y="14660"/>
                </a:cubicBezTo>
                <a:cubicBezTo>
                  <a:pt x="3331" y="14714"/>
                  <a:pt x="3326" y="14774"/>
                  <a:pt x="3324" y="14833"/>
                </a:cubicBezTo>
                <a:cubicBezTo>
                  <a:pt x="3321" y="14895"/>
                  <a:pt x="3330" y="14932"/>
                  <a:pt x="3299" y="14982"/>
                </a:cubicBezTo>
                <a:cubicBezTo>
                  <a:pt x="3249" y="15063"/>
                  <a:pt x="3250" y="15111"/>
                  <a:pt x="3225" y="15205"/>
                </a:cubicBezTo>
                <a:cubicBezTo>
                  <a:pt x="3211" y="15260"/>
                  <a:pt x="3178" y="15312"/>
                  <a:pt x="3175" y="15379"/>
                </a:cubicBezTo>
                <a:cubicBezTo>
                  <a:pt x="3173" y="15435"/>
                  <a:pt x="3158" y="15475"/>
                  <a:pt x="3150" y="15528"/>
                </a:cubicBezTo>
                <a:cubicBezTo>
                  <a:pt x="3144" y="15570"/>
                  <a:pt x="3143" y="15638"/>
                  <a:pt x="3125" y="15677"/>
                </a:cubicBezTo>
                <a:cubicBezTo>
                  <a:pt x="3108" y="15714"/>
                  <a:pt x="3117" y="15751"/>
                  <a:pt x="3076" y="15751"/>
                </a:cubicBezTo>
                <a:cubicBezTo>
                  <a:pt x="3030" y="15751"/>
                  <a:pt x="3057" y="15717"/>
                  <a:pt x="3051" y="15677"/>
                </a:cubicBezTo>
              </a:path>
              <a:path w="8236" h="2829">
                <a:moveTo>
                  <a:pt x="3497" y="14387"/>
                </a:moveTo>
                <a:cubicBezTo>
                  <a:pt x="3510" y="14356"/>
                  <a:pt x="3503" y="14317"/>
                  <a:pt x="3522" y="14288"/>
                </a:cubicBezTo>
                <a:cubicBezTo>
                  <a:pt x="3535" y="14267"/>
                  <a:pt x="3563" y="14197"/>
                  <a:pt x="3572" y="14188"/>
                </a:cubicBezTo>
                <a:cubicBezTo>
                  <a:pt x="3601" y="14157"/>
                  <a:pt x="3646" y="14095"/>
                  <a:pt x="3671" y="14064"/>
                </a:cubicBezTo>
                <a:cubicBezTo>
                  <a:pt x="3707" y="14019"/>
                  <a:pt x="3755" y="13966"/>
                  <a:pt x="3770" y="13940"/>
                </a:cubicBezTo>
                <a:cubicBezTo>
                  <a:pt x="3787" y="13909"/>
                  <a:pt x="3782" y="13893"/>
                  <a:pt x="3795" y="13866"/>
                </a:cubicBezTo>
                <a:cubicBezTo>
                  <a:pt x="3796" y="13863"/>
                  <a:pt x="3836" y="13798"/>
                  <a:pt x="3845" y="13791"/>
                </a:cubicBezTo>
                <a:cubicBezTo>
                  <a:pt x="3892" y="13756"/>
                  <a:pt x="3915" y="13715"/>
                  <a:pt x="3969" y="13692"/>
                </a:cubicBezTo>
                <a:cubicBezTo>
                  <a:pt x="4013" y="13674"/>
                  <a:pt x="4037" y="13682"/>
                  <a:pt x="4068" y="13667"/>
                </a:cubicBezTo>
                <a:cubicBezTo>
                  <a:pt x="4084" y="13659"/>
                  <a:pt x="4104" y="13654"/>
                  <a:pt x="4142" y="13643"/>
                </a:cubicBezTo>
                <a:cubicBezTo>
                  <a:pt x="4154" y="13640"/>
                  <a:pt x="4194" y="13620"/>
                  <a:pt x="4242" y="13618"/>
                </a:cubicBezTo>
                <a:cubicBezTo>
                  <a:pt x="4275" y="13618"/>
                  <a:pt x="4291" y="13618"/>
                  <a:pt x="4316" y="13618"/>
                </a:cubicBezTo>
                <a:cubicBezTo>
                  <a:pt x="4316" y="13705"/>
                  <a:pt x="4298" y="13785"/>
                  <a:pt x="4291" y="13866"/>
                </a:cubicBezTo>
                <a:cubicBezTo>
                  <a:pt x="4286" y="13929"/>
                  <a:pt x="4270" y="14014"/>
                  <a:pt x="4266" y="14064"/>
                </a:cubicBezTo>
                <a:cubicBezTo>
                  <a:pt x="4256" y="14180"/>
                  <a:pt x="4254" y="14301"/>
                  <a:pt x="4242" y="14412"/>
                </a:cubicBezTo>
                <a:cubicBezTo>
                  <a:pt x="4233" y="14499"/>
                  <a:pt x="4235" y="14489"/>
                  <a:pt x="4217" y="14585"/>
                </a:cubicBezTo>
                <a:cubicBezTo>
                  <a:pt x="4201" y="14673"/>
                  <a:pt x="4190" y="14772"/>
                  <a:pt x="4167" y="14858"/>
                </a:cubicBezTo>
                <a:cubicBezTo>
                  <a:pt x="4144" y="14945"/>
                  <a:pt x="4078" y="15074"/>
                  <a:pt x="4068" y="15106"/>
                </a:cubicBezTo>
                <a:cubicBezTo>
                  <a:pt x="4056" y="15146"/>
                  <a:pt x="4049" y="15221"/>
                  <a:pt x="4043" y="15255"/>
                </a:cubicBezTo>
                <a:cubicBezTo>
                  <a:pt x="4033" y="15314"/>
                  <a:pt x="4033" y="15371"/>
                  <a:pt x="4018" y="15429"/>
                </a:cubicBezTo>
                <a:cubicBezTo>
                  <a:pt x="4004" y="15481"/>
                  <a:pt x="3976" y="15548"/>
                  <a:pt x="3969" y="15602"/>
                </a:cubicBezTo>
                <a:cubicBezTo>
                  <a:pt x="3963" y="15648"/>
                  <a:pt x="3957" y="15662"/>
                  <a:pt x="3944" y="15701"/>
                </a:cubicBezTo>
                <a:cubicBezTo>
                  <a:pt x="3949" y="15640"/>
                  <a:pt x="3951" y="15612"/>
                  <a:pt x="3969" y="15553"/>
                </a:cubicBezTo>
                <a:cubicBezTo>
                  <a:pt x="3987" y="15492"/>
                  <a:pt x="3981" y="15442"/>
                  <a:pt x="3994" y="15379"/>
                </a:cubicBezTo>
                <a:cubicBezTo>
                  <a:pt x="4001" y="15346"/>
                  <a:pt x="4029" y="15183"/>
                  <a:pt x="4043" y="15156"/>
                </a:cubicBezTo>
                <a:cubicBezTo>
                  <a:pt x="4058" y="15127"/>
                  <a:pt x="4084" y="15119"/>
                  <a:pt x="4093" y="15056"/>
                </a:cubicBezTo>
                <a:cubicBezTo>
                  <a:pt x="4103" y="14985"/>
                  <a:pt x="4105" y="14922"/>
                  <a:pt x="4142" y="14858"/>
                </a:cubicBezTo>
                <a:cubicBezTo>
                  <a:pt x="4183" y="14788"/>
                  <a:pt x="4251" y="14779"/>
                  <a:pt x="4291" y="14709"/>
                </a:cubicBezTo>
                <a:cubicBezTo>
                  <a:pt x="4317" y="14662"/>
                  <a:pt x="4339" y="14627"/>
                  <a:pt x="4366" y="14585"/>
                </a:cubicBezTo>
                <a:cubicBezTo>
                  <a:pt x="4378" y="14566"/>
                  <a:pt x="4374" y="14506"/>
                  <a:pt x="4390" y="14486"/>
                </a:cubicBezTo>
                <a:cubicBezTo>
                  <a:pt x="4414" y="14456"/>
                  <a:pt x="4441" y="14462"/>
                  <a:pt x="4465" y="14412"/>
                </a:cubicBezTo>
                <a:cubicBezTo>
                  <a:pt x="4488" y="14364"/>
                  <a:pt x="4547" y="14276"/>
                  <a:pt x="4564" y="14238"/>
                </a:cubicBezTo>
                <a:cubicBezTo>
                  <a:pt x="4598" y="14162"/>
                  <a:pt x="4631" y="14119"/>
                  <a:pt x="4663" y="14064"/>
                </a:cubicBezTo>
                <a:cubicBezTo>
                  <a:pt x="4682" y="14031"/>
                  <a:pt x="4694" y="14013"/>
                  <a:pt x="4713" y="13965"/>
                </a:cubicBezTo>
                <a:cubicBezTo>
                  <a:pt x="4734" y="13913"/>
                  <a:pt x="4775" y="13911"/>
                  <a:pt x="4787" y="13891"/>
                </a:cubicBezTo>
                <a:cubicBezTo>
                  <a:pt x="4815" y="13847"/>
                  <a:pt x="4808" y="13872"/>
                  <a:pt x="4837" y="13841"/>
                </a:cubicBezTo>
                <a:cubicBezTo>
                  <a:pt x="4861" y="13815"/>
                  <a:pt x="4851" y="13809"/>
                  <a:pt x="4887" y="13791"/>
                </a:cubicBezTo>
                <a:cubicBezTo>
                  <a:pt x="4915" y="13777"/>
                  <a:pt x="4926" y="13784"/>
                  <a:pt x="4961" y="13767"/>
                </a:cubicBezTo>
                <a:cubicBezTo>
                  <a:pt x="4972" y="13762"/>
                  <a:pt x="5013" y="13710"/>
                  <a:pt x="5035" y="13717"/>
                </a:cubicBezTo>
                <a:cubicBezTo>
                  <a:pt x="5085" y="13734"/>
                  <a:pt x="5077" y="13779"/>
                  <a:pt x="5085" y="13816"/>
                </a:cubicBezTo>
                <a:cubicBezTo>
                  <a:pt x="5117" y="13972"/>
                  <a:pt x="5073" y="14171"/>
                  <a:pt x="5060" y="14312"/>
                </a:cubicBezTo>
                <a:cubicBezTo>
                  <a:pt x="5055" y="14365"/>
                  <a:pt x="5041" y="14418"/>
                  <a:pt x="5035" y="14436"/>
                </a:cubicBezTo>
                <a:cubicBezTo>
                  <a:pt x="5022" y="14475"/>
                  <a:pt x="5023" y="14522"/>
                  <a:pt x="5011" y="14560"/>
                </a:cubicBezTo>
                <a:cubicBezTo>
                  <a:pt x="4995" y="14611"/>
                  <a:pt x="4997" y="14658"/>
                  <a:pt x="4986" y="14709"/>
                </a:cubicBezTo>
                <a:cubicBezTo>
                  <a:pt x="4974" y="14762"/>
                  <a:pt x="4943" y="14803"/>
                  <a:pt x="4936" y="14858"/>
                </a:cubicBezTo>
                <a:cubicBezTo>
                  <a:pt x="4926" y="14933"/>
                  <a:pt x="4929" y="14981"/>
                  <a:pt x="4911" y="15056"/>
                </a:cubicBezTo>
                <a:cubicBezTo>
                  <a:pt x="4893" y="15130"/>
                  <a:pt x="4882" y="15207"/>
                  <a:pt x="4862" y="15280"/>
                </a:cubicBezTo>
                <a:cubicBezTo>
                  <a:pt x="4853" y="15315"/>
                  <a:pt x="4851" y="15348"/>
                  <a:pt x="4837" y="15404"/>
                </a:cubicBezTo>
                <a:cubicBezTo>
                  <a:pt x="4823" y="15461"/>
                  <a:pt x="4829" y="15449"/>
                  <a:pt x="4812" y="15503"/>
                </a:cubicBezTo>
                <a:cubicBezTo>
                  <a:pt x="4799" y="15543"/>
                  <a:pt x="4789" y="15553"/>
                  <a:pt x="4787" y="15602"/>
                </a:cubicBezTo>
                <a:cubicBezTo>
                  <a:pt x="4785" y="15652"/>
                  <a:pt x="4787" y="15701"/>
                  <a:pt x="4787" y="15751"/>
                </a:cubicBezTo>
                <a:cubicBezTo>
                  <a:pt x="4820" y="15748"/>
                  <a:pt x="4829" y="15731"/>
                  <a:pt x="4862" y="15726"/>
                </a:cubicBezTo>
                <a:cubicBezTo>
                  <a:pt x="4924" y="15717"/>
                  <a:pt x="4987" y="15715"/>
                  <a:pt x="5035" y="15677"/>
                </a:cubicBezTo>
                <a:cubicBezTo>
                  <a:pt x="5068" y="15651"/>
                  <a:pt x="5063" y="15656"/>
                  <a:pt x="5110" y="15627"/>
                </a:cubicBezTo>
                <a:cubicBezTo>
                  <a:pt x="5152" y="15601"/>
                  <a:pt x="5257" y="15585"/>
                  <a:pt x="5283" y="15553"/>
                </a:cubicBezTo>
                <a:cubicBezTo>
                  <a:pt x="5329" y="15495"/>
                  <a:pt x="5339" y="15494"/>
                  <a:pt x="5383" y="15453"/>
                </a:cubicBezTo>
                <a:cubicBezTo>
                  <a:pt x="5399" y="15438"/>
                  <a:pt x="5392" y="15419"/>
                  <a:pt x="5407" y="15404"/>
                </a:cubicBezTo>
              </a:path>
              <a:path w="8236" h="2829">
                <a:moveTo>
                  <a:pt x="6648" y="14908"/>
                </a:moveTo>
                <a:cubicBezTo>
                  <a:pt x="6648" y="14829"/>
                  <a:pt x="6647" y="14753"/>
                  <a:pt x="6623" y="14709"/>
                </a:cubicBezTo>
                <a:cubicBezTo>
                  <a:pt x="6591" y="14649"/>
                  <a:pt x="6593" y="14686"/>
                  <a:pt x="6548" y="14660"/>
                </a:cubicBezTo>
                <a:cubicBezTo>
                  <a:pt x="6537" y="14654"/>
                  <a:pt x="6500" y="14624"/>
                  <a:pt x="6474" y="14610"/>
                </a:cubicBezTo>
                <a:cubicBezTo>
                  <a:pt x="6442" y="14593"/>
                  <a:pt x="6414" y="14587"/>
                  <a:pt x="6375" y="14585"/>
                </a:cubicBezTo>
                <a:cubicBezTo>
                  <a:pt x="6294" y="14580"/>
                  <a:pt x="6195" y="14601"/>
                  <a:pt x="6152" y="14610"/>
                </a:cubicBezTo>
                <a:cubicBezTo>
                  <a:pt x="6103" y="14620"/>
                  <a:pt x="6114" y="14628"/>
                  <a:pt x="6077" y="14635"/>
                </a:cubicBezTo>
                <a:cubicBezTo>
                  <a:pt x="6036" y="14643"/>
                  <a:pt x="6019" y="14653"/>
                  <a:pt x="5978" y="14660"/>
                </a:cubicBezTo>
                <a:cubicBezTo>
                  <a:pt x="5934" y="14667"/>
                  <a:pt x="5932" y="14663"/>
                  <a:pt x="5904" y="14684"/>
                </a:cubicBezTo>
                <a:cubicBezTo>
                  <a:pt x="5884" y="14699"/>
                  <a:pt x="5851" y="14717"/>
                  <a:pt x="5829" y="14734"/>
                </a:cubicBezTo>
                <a:cubicBezTo>
                  <a:pt x="5825" y="14737"/>
                  <a:pt x="5783" y="14791"/>
                  <a:pt x="5779" y="14808"/>
                </a:cubicBezTo>
                <a:cubicBezTo>
                  <a:pt x="5762" y="14880"/>
                  <a:pt x="5781" y="14825"/>
                  <a:pt x="5730" y="14858"/>
                </a:cubicBezTo>
                <a:cubicBezTo>
                  <a:pt x="5702" y="14876"/>
                  <a:pt x="5698" y="14880"/>
                  <a:pt x="5680" y="14908"/>
                </a:cubicBezTo>
                <a:cubicBezTo>
                  <a:pt x="5661" y="14937"/>
                  <a:pt x="5669" y="14977"/>
                  <a:pt x="5655" y="15007"/>
                </a:cubicBezTo>
                <a:cubicBezTo>
                  <a:pt x="5646" y="15026"/>
                  <a:pt x="5612" y="15051"/>
                  <a:pt x="5606" y="15081"/>
                </a:cubicBezTo>
                <a:cubicBezTo>
                  <a:pt x="5597" y="15125"/>
                  <a:pt x="5603" y="15129"/>
                  <a:pt x="5581" y="15156"/>
                </a:cubicBezTo>
                <a:cubicBezTo>
                  <a:pt x="5559" y="15182"/>
                  <a:pt x="5559" y="15175"/>
                  <a:pt x="5556" y="15230"/>
                </a:cubicBezTo>
                <a:cubicBezTo>
                  <a:pt x="5554" y="15272"/>
                  <a:pt x="5546" y="15294"/>
                  <a:pt x="5531" y="15329"/>
                </a:cubicBezTo>
                <a:cubicBezTo>
                  <a:pt x="5515" y="15366"/>
                  <a:pt x="5520" y="15391"/>
                  <a:pt x="5507" y="15429"/>
                </a:cubicBezTo>
                <a:cubicBezTo>
                  <a:pt x="5494" y="15469"/>
                  <a:pt x="5485" y="15479"/>
                  <a:pt x="5482" y="15528"/>
                </a:cubicBezTo>
                <a:cubicBezTo>
                  <a:pt x="5479" y="15585"/>
                  <a:pt x="5482" y="15644"/>
                  <a:pt x="5482" y="15701"/>
                </a:cubicBezTo>
                <a:cubicBezTo>
                  <a:pt x="5515" y="15706"/>
                  <a:pt x="5524" y="15720"/>
                  <a:pt x="5556" y="15726"/>
                </a:cubicBezTo>
                <a:cubicBezTo>
                  <a:pt x="5595" y="15734"/>
                  <a:pt x="5619" y="15745"/>
                  <a:pt x="5655" y="15751"/>
                </a:cubicBezTo>
                <a:cubicBezTo>
                  <a:pt x="5718" y="15762"/>
                  <a:pt x="5776" y="15749"/>
                  <a:pt x="5804" y="15726"/>
                </a:cubicBezTo>
                <a:cubicBezTo>
                  <a:pt x="5832" y="15703"/>
                  <a:pt x="5859" y="15711"/>
                  <a:pt x="5904" y="15677"/>
                </a:cubicBezTo>
                <a:cubicBezTo>
                  <a:pt x="5940" y="15650"/>
                  <a:pt x="5931" y="15657"/>
                  <a:pt x="5978" y="15627"/>
                </a:cubicBezTo>
                <a:cubicBezTo>
                  <a:pt x="5980" y="15625"/>
                  <a:pt x="6071" y="15582"/>
                  <a:pt x="6077" y="15577"/>
                </a:cubicBezTo>
                <a:cubicBezTo>
                  <a:pt x="6107" y="15552"/>
                  <a:pt x="6135" y="15520"/>
                  <a:pt x="6152" y="15503"/>
                </a:cubicBezTo>
                <a:cubicBezTo>
                  <a:pt x="6185" y="15470"/>
                  <a:pt x="6198" y="15473"/>
                  <a:pt x="6251" y="15429"/>
                </a:cubicBezTo>
                <a:cubicBezTo>
                  <a:pt x="6286" y="15400"/>
                  <a:pt x="6292" y="15347"/>
                  <a:pt x="6325" y="15304"/>
                </a:cubicBezTo>
                <a:cubicBezTo>
                  <a:pt x="6344" y="15280"/>
                  <a:pt x="6372" y="15298"/>
                  <a:pt x="6400" y="15280"/>
                </a:cubicBezTo>
                <a:cubicBezTo>
                  <a:pt x="6434" y="15258"/>
                  <a:pt x="6461" y="15243"/>
                  <a:pt x="6474" y="15205"/>
                </a:cubicBezTo>
                <a:cubicBezTo>
                  <a:pt x="6503" y="15118"/>
                  <a:pt x="6498" y="15175"/>
                  <a:pt x="6524" y="15131"/>
                </a:cubicBezTo>
                <a:cubicBezTo>
                  <a:pt x="6536" y="15111"/>
                  <a:pt x="6593" y="15018"/>
                  <a:pt x="6598" y="15007"/>
                </a:cubicBezTo>
                <a:cubicBezTo>
                  <a:pt x="6615" y="14968"/>
                  <a:pt x="6610" y="14924"/>
                  <a:pt x="6623" y="14883"/>
                </a:cubicBezTo>
                <a:cubicBezTo>
                  <a:pt x="6623" y="14882"/>
                  <a:pt x="6663" y="14820"/>
                  <a:pt x="6672" y="14808"/>
                </a:cubicBezTo>
                <a:cubicBezTo>
                  <a:pt x="6682" y="14795"/>
                  <a:pt x="6706" y="14756"/>
                  <a:pt x="6722" y="14734"/>
                </a:cubicBezTo>
                <a:cubicBezTo>
                  <a:pt x="6739" y="14711"/>
                  <a:pt x="6729" y="14696"/>
                  <a:pt x="6747" y="14660"/>
                </a:cubicBezTo>
                <a:cubicBezTo>
                  <a:pt x="6762" y="14631"/>
                  <a:pt x="6773" y="14634"/>
                  <a:pt x="6796" y="14610"/>
                </a:cubicBezTo>
                <a:cubicBezTo>
                  <a:pt x="6796" y="14652"/>
                  <a:pt x="6774" y="14701"/>
                  <a:pt x="6772" y="14709"/>
                </a:cubicBezTo>
                <a:cubicBezTo>
                  <a:pt x="6763" y="14758"/>
                  <a:pt x="6755" y="14747"/>
                  <a:pt x="6747" y="14784"/>
                </a:cubicBezTo>
                <a:cubicBezTo>
                  <a:pt x="6737" y="14833"/>
                  <a:pt x="6725" y="14858"/>
                  <a:pt x="6722" y="14908"/>
                </a:cubicBezTo>
                <a:cubicBezTo>
                  <a:pt x="6720" y="14948"/>
                  <a:pt x="6714" y="14970"/>
                  <a:pt x="6697" y="15007"/>
                </a:cubicBezTo>
                <a:cubicBezTo>
                  <a:pt x="6688" y="15027"/>
                  <a:pt x="6656" y="15021"/>
                  <a:pt x="6648" y="15056"/>
                </a:cubicBezTo>
                <a:cubicBezTo>
                  <a:pt x="6630" y="15135"/>
                  <a:pt x="6629" y="15081"/>
                  <a:pt x="6598" y="15131"/>
                </a:cubicBezTo>
                <a:cubicBezTo>
                  <a:pt x="6568" y="15180"/>
                  <a:pt x="6571" y="15202"/>
                  <a:pt x="6548" y="15230"/>
                </a:cubicBezTo>
                <a:cubicBezTo>
                  <a:pt x="6537" y="15243"/>
                  <a:pt x="6484" y="15278"/>
                  <a:pt x="6474" y="15304"/>
                </a:cubicBezTo>
                <a:cubicBezTo>
                  <a:pt x="6463" y="15332"/>
                  <a:pt x="6454" y="15376"/>
                  <a:pt x="6449" y="15404"/>
                </a:cubicBezTo>
                <a:cubicBezTo>
                  <a:pt x="6432" y="15505"/>
                  <a:pt x="6449" y="15663"/>
                  <a:pt x="6474" y="15726"/>
                </a:cubicBezTo>
                <a:cubicBezTo>
                  <a:pt x="6489" y="15762"/>
                  <a:pt x="6503" y="15810"/>
                  <a:pt x="6524" y="15825"/>
                </a:cubicBezTo>
                <a:cubicBezTo>
                  <a:pt x="6568" y="15857"/>
                  <a:pt x="6590" y="15847"/>
                  <a:pt x="6648" y="15850"/>
                </a:cubicBezTo>
                <a:cubicBezTo>
                  <a:pt x="6703" y="15853"/>
                  <a:pt x="6724" y="15855"/>
                  <a:pt x="6747" y="15825"/>
                </a:cubicBezTo>
                <a:cubicBezTo>
                  <a:pt x="6792" y="15768"/>
                  <a:pt x="6796" y="15777"/>
                  <a:pt x="6871" y="15751"/>
                </a:cubicBezTo>
                <a:cubicBezTo>
                  <a:pt x="6924" y="15732"/>
                  <a:pt x="6975" y="15703"/>
                  <a:pt x="7020" y="15677"/>
                </a:cubicBezTo>
                <a:cubicBezTo>
                  <a:pt x="7085" y="15640"/>
                  <a:pt x="7127" y="15669"/>
                  <a:pt x="7193" y="15652"/>
                </a:cubicBezTo>
                <a:cubicBezTo>
                  <a:pt x="7291" y="15626"/>
                  <a:pt x="7235" y="15549"/>
                  <a:pt x="7293" y="15503"/>
                </a:cubicBezTo>
                <a:cubicBezTo>
                  <a:pt x="7317" y="15484"/>
                  <a:pt x="7371" y="15470"/>
                  <a:pt x="7392" y="15453"/>
                </a:cubicBezTo>
                <a:cubicBezTo>
                  <a:pt x="7406" y="15442"/>
                  <a:pt x="7411" y="15421"/>
                  <a:pt x="7441" y="15404"/>
                </a:cubicBezTo>
              </a:path>
              <a:path w="8236" h="2829">
                <a:moveTo>
                  <a:pt x="7987" y="14511"/>
                </a:moveTo>
                <a:cubicBezTo>
                  <a:pt x="7987" y="14536"/>
                  <a:pt x="7987" y="14544"/>
                  <a:pt x="7987" y="14560"/>
                </a:cubicBezTo>
                <a:cubicBezTo>
                  <a:pt x="7967" y="14586"/>
                  <a:pt x="7970" y="14559"/>
                  <a:pt x="7962" y="14610"/>
                </a:cubicBezTo>
                <a:cubicBezTo>
                  <a:pt x="7942" y="14645"/>
                  <a:pt x="7949" y="14607"/>
                  <a:pt x="7938" y="14684"/>
                </a:cubicBezTo>
                <a:cubicBezTo>
                  <a:pt x="7918" y="14710"/>
                  <a:pt x="7921" y="14683"/>
                  <a:pt x="7913" y="14734"/>
                </a:cubicBezTo>
                <a:cubicBezTo>
                  <a:pt x="7890" y="14771"/>
                  <a:pt x="7900" y="14728"/>
                  <a:pt x="7888" y="14808"/>
                </a:cubicBezTo>
                <a:cubicBezTo>
                  <a:pt x="7868" y="14834"/>
                  <a:pt x="7871" y="14807"/>
                  <a:pt x="7863" y="14858"/>
                </a:cubicBezTo>
                <a:cubicBezTo>
                  <a:pt x="7842" y="14874"/>
                  <a:pt x="7834" y="14867"/>
                  <a:pt x="7813" y="14883"/>
                </a:cubicBezTo>
                <a:cubicBezTo>
                  <a:pt x="7813" y="14924"/>
                  <a:pt x="7813" y="14966"/>
                  <a:pt x="7813" y="15007"/>
                </a:cubicBezTo>
                <a:cubicBezTo>
                  <a:pt x="7807" y="15016"/>
                  <a:pt x="7770" y="15047"/>
                  <a:pt x="7764" y="15056"/>
                </a:cubicBezTo>
                <a:cubicBezTo>
                  <a:pt x="7764" y="15089"/>
                  <a:pt x="7764" y="15123"/>
                  <a:pt x="7764" y="15156"/>
                </a:cubicBezTo>
                <a:cubicBezTo>
                  <a:pt x="7749" y="15181"/>
                  <a:pt x="7742" y="15177"/>
                  <a:pt x="7739" y="15230"/>
                </a:cubicBezTo>
                <a:cubicBezTo>
                  <a:pt x="7739" y="15255"/>
                  <a:pt x="7739" y="15263"/>
                  <a:pt x="7739" y="15280"/>
                </a:cubicBezTo>
                <a:cubicBezTo>
                  <a:pt x="7715" y="15319"/>
                  <a:pt x="7726" y="15269"/>
                  <a:pt x="7714" y="15354"/>
                </a:cubicBezTo>
                <a:cubicBezTo>
                  <a:pt x="7694" y="15369"/>
                  <a:pt x="7685" y="15364"/>
                  <a:pt x="7665" y="15379"/>
                </a:cubicBezTo>
                <a:cubicBezTo>
                  <a:pt x="7665" y="15420"/>
                  <a:pt x="7665" y="15462"/>
                  <a:pt x="7665" y="15503"/>
                </a:cubicBezTo>
                <a:cubicBezTo>
                  <a:pt x="7644" y="15518"/>
                  <a:pt x="7636" y="15512"/>
                  <a:pt x="7615" y="15528"/>
                </a:cubicBezTo>
                <a:cubicBezTo>
                  <a:pt x="7606" y="15580"/>
                  <a:pt x="7611" y="15550"/>
                  <a:pt x="7590" y="15577"/>
                </a:cubicBezTo>
                <a:cubicBezTo>
                  <a:pt x="7575" y="15598"/>
                  <a:pt x="7580" y="15606"/>
                  <a:pt x="7565" y="15627"/>
                </a:cubicBezTo>
                <a:cubicBezTo>
                  <a:pt x="7552" y="15650"/>
                  <a:pt x="7548" y="15653"/>
                  <a:pt x="7541" y="15701"/>
                </a:cubicBezTo>
                <a:cubicBezTo>
                  <a:pt x="7521" y="15727"/>
                  <a:pt x="7524" y="15700"/>
                  <a:pt x="7516" y="15751"/>
                </a:cubicBezTo>
                <a:cubicBezTo>
                  <a:pt x="7499" y="15779"/>
                  <a:pt x="7513" y="15800"/>
                  <a:pt x="7491" y="15825"/>
                </a:cubicBezTo>
                <a:cubicBezTo>
                  <a:pt x="7483" y="15825"/>
                  <a:pt x="7474" y="15825"/>
                  <a:pt x="7466" y="15825"/>
                </a:cubicBezTo>
              </a:path>
              <a:path w="8236" h="2829">
                <a:moveTo>
                  <a:pt x="7764" y="15304"/>
                </a:moveTo>
                <a:cubicBezTo>
                  <a:pt x="7781" y="15265"/>
                  <a:pt x="7783" y="15274"/>
                  <a:pt x="7789" y="15230"/>
                </a:cubicBezTo>
                <a:cubicBezTo>
                  <a:pt x="7836" y="15224"/>
                  <a:pt x="7846" y="15226"/>
                  <a:pt x="7888" y="15205"/>
                </a:cubicBezTo>
                <a:cubicBezTo>
                  <a:pt x="7917" y="15190"/>
                  <a:pt x="7926" y="15197"/>
                  <a:pt x="7962" y="15180"/>
                </a:cubicBezTo>
                <a:cubicBezTo>
                  <a:pt x="7978" y="15172"/>
                  <a:pt x="8016" y="15143"/>
                  <a:pt x="8037" y="15131"/>
                </a:cubicBezTo>
                <a:cubicBezTo>
                  <a:pt x="8054" y="15190"/>
                  <a:pt x="8037" y="15161"/>
                  <a:pt x="8086" y="15205"/>
                </a:cubicBezTo>
                <a:cubicBezTo>
                  <a:pt x="8111" y="15228"/>
                  <a:pt x="8118" y="15262"/>
                  <a:pt x="8161" y="15304"/>
                </a:cubicBezTo>
                <a:cubicBezTo>
                  <a:pt x="8181" y="15324"/>
                  <a:pt x="8195" y="15327"/>
                  <a:pt x="8235" y="15329"/>
                </a:cubicBezTo>
                <a:cubicBezTo>
                  <a:pt x="8284" y="15332"/>
                  <a:pt x="8343" y="15322"/>
                  <a:pt x="8384" y="15304"/>
                </a:cubicBezTo>
                <a:cubicBezTo>
                  <a:pt x="8399" y="15297"/>
                  <a:pt x="8428" y="15270"/>
                  <a:pt x="8458" y="15255"/>
                </a:cubicBezTo>
                <a:cubicBezTo>
                  <a:pt x="8482" y="15243"/>
                  <a:pt x="8465" y="15199"/>
                  <a:pt x="8483" y="15180"/>
                </a:cubicBezTo>
                <a:cubicBezTo>
                  <a:pt x="8509" y="15152"/>
                  <a:pt x="8556" y="15121"/>
                  <a:pt x="8582" y="15081"/>
                </a:cubicBezTo>
                <a:cubicBezTo>
                  <a:pt x="8609" y="15040"/>
                  <a:pt x="8626" y="14985"/>
                  <a:pt x="8632" y="14957"/>
                </a:cubicBezTo>
                <a:cubicBezTo>
                  <a:pt x="8642" y="14908"/>
                  <a:pt x="8650" y="14920"/>
                  <a:pt x="8657" y="14883"/>
                </a:cubicBezTo>
                <a:cubicBezTo>
                  <a:pt x="8672" y="14807"/>
                  <a:pt x="8671" y="14847"/>
                  <a:pt x="8706" y="14808"/>
                </a:cubicBezTo>
                <a:cubicBezTo>
                  <a:pt x="8728" y="14784"/>
                  <a:pt x="8747" y="14791"/>
                  <a:pt x="8756" y="14759"/>
                </a:cubicBezTo>
                <a:cubicBezTo>
                  <a:pt x="8770" y="14709"/>
                  <a:pt x="8757" y="14707"/>
                  <a:pt x="8781" y="14660"/>
                </a:cubicBezTo>
                <a:cubicBezTo>
                  <a:pt x="8785" y="14652"/>
                  <a:pt x="8822" y="14618"/>
                  <a:pt x="8830" y="14610"/>
                </a:cubicBezTo>
                <a:cubicBezTo>
                  <a:pt x="8813" y="14639"/>
                  <a:pt x="8824" y="14649"/>
                  <a:pt x="8806" y="14684"/>
                </a:cubicBezTo>
                <a:cubicBezTo>
                  <a:pt x="8790" y="14716"/>
                  <a:pt x="8803" y="14740"/>
                  <a:pt x="8781" y="14784"/>
                </a:cubicBezTo>
                <a:cubicBezTo>
                  <a:pt x="8764" y="14818"/>
                  <a:pt x="8741" y="14811"/>
                  <a:pt x="8706" y="14833"/>
                </a:cubicBezTo>
                <a:cubicBezTo>
                  <a:pt x="8681" y="14849"/>
                  <a:pt x="8697" y="14878"/>
                  <a:pt x="8682" y="14908"/>
                </a:cubicBezTo>
                <a:cubicBezTo>
                  <a:pt x="8674" y="14924"/>
                  <a:pt x="8645" y="14931"/>
                  <a:pt x="8632" y="14957"/>
                </a:cubicBezTo>
                <a:cubicBezTo>
                  <a:pt x="8611" y="15001"/>
                  <a:pt x="8625" y="15065"/>
                  <a:pt x="8607" y="15106"/>
                </a:cubicBezTo>
                <a:cubicBezTo>
                  <a:pt x="8606" y="15108"/>
                  <a:pt x="8534" y="15154"/>
                  <a:pt x="8533" y="15156"/>
                </a:cubicBezTo>
                <a:cubicBezTo>
                  <a:pt x="8517" y="15187"/>
                  <a:pt x="8488" y="15196"/>
                  <a:pt x="8483" y="15205"/>
                </a:cubicBezTo>
                <a:cubicBezTo>
                  <a:pt x="8472" y="15226"/>
                  <a:pt x="8461" y="15282"/>
                  <a:pt x="8458" y="15304"/>
                </a:cubicBezTo>
                <a:cubicBezTo>
                  <a:pt x="8451" y="15355"/>
                  <a:pt x="8456" y="15375"/>
                  <a:pt x="8434" y="15404"/>
                </a:cubicBezTo>
                <a:cubicBezTo>
                  <a:pt x="8413" y="15430"/>
                  <a:pt x="8412" y="15424"/>
                  <a:pt x="8409" y="15478"/>
                </a:cubicBezTo>
                <a:cubicBezTo>
                  <a:pt x="8406" y="15533"/>
                  <a:pt x="8392" y="15513"/>
                  <a:pt x="8384" y="15553"/>
                </a:cubicBezTo>
                <a:cubicBezTo>
                  <a:pt x="8369" y="15627"/>
                  <a:pt x="8368" y="15818"/>
                  <a:pt x="8409" y="15850"/>
                </a:cubicBezTo>
                <a:cubicBezTo>
                  <a:pt x="8448" y="15880"/>
                  <a:pt x="8459" y="15872"/>
                  <a:pt x="8508" y="15875"/>
                </a:cubicBezTo>
                <a:cubicBezTo>
                  <a:pt x="8548" y="15877"/>
                  <a:pt x="8577" y="15851"/>
                  <a:pt x="8582" y="15850"/>
                </a:cubicBezTo>
                <a:cubicBezTo>
                  <a:pt x="8637" y="15839"/>
                  <a:pt x="8703" y="15833"/>
                  <a:pt x="8756" y="15825"/>
                </a:cubicBezTo>
                <a:cubicBezTo>
                  <a:pt x="8834" y="15813"/>
                  <a:pt x="8791" y="15811"/>
                  <a:pt x="8830" y="15776"/>
                </a:cubicBezTo>
                <a:cubicBezTo>
                  <a:pt x="8855" y="15754"/>
                  <a:pt x="8848" y="15735"/>
                  <a:pt x="8880" y="15726"/>
                </a:cubicBezTo>
                <a:cubicBezTo>
                  <a:pt x="8943" y="15708"/>
                  <a:pt x="8910" y="15737"/>
                  <a:pt x="8930" y="15677"/>
                </a:cubicBezTo>
              </a:path>
              <a:path w="8236" h="2829">
                <a:moveTo>
                  <a:pt x="9079" y="15677"/>
                </a:moveTo>
                <a:cubicBezTo>
                  <a:pt x="9070" y="15714"/>
                  <a:pt x="9052" y="15685"/>
                  <a:pt x="9079" y="15751"/>
                </a:cubicBezTo>
                <a:cubicBezTo>
                  <a:pt x="9095" y="15791"/>
                  <a:pt x="9088" y="15794"/>
                  <a:pt x="9103" y="15825"/>
                </a:cubicBezTo>
                <a:cubicBezTo>
                  <a:pt x="9108" y="15835"/>
                  <a:pt x="9119" y="15892"/>
                  <a:pt x="9128" y="15900"/>
                </a:cubicBezTo>
                <a:cubicBezTo>
                  <a:pt x="9157" y="15927"/>
                  <a:pt x="9165" y="15961"/>
                  <a:pt x="9203" y="15974"/>
                </a:cubicBezTo>
                <a:cubicBezTo>
                  <a:pt x="9274" y="15999"/>
                  <a:pt x="9392" y="15960"/>
                  <a:pt x="9426" y="15949"/>
                </a:cubicBezTo>
                <a:cubicBezTo>
                  <a:pt x="9466" y="15936"/>
                  <a:pt x="9511" y="15942"/>
                  <a:pt x="9550" y="15925"/>
                </a:cubicBezTo>
                <a:cubicBezTo>
                  <a:pt x="9589" y="15909"/>
                  <a:pt x="9593" y="15913"/>
                  <a:pt x="9624" y="15900"/>
                </a:cubicBezTo>
                <a:cubicBezTo>
                  <a:pt x="9665" y="15883"/>
                  <a:pt x="9670" y="15865"/>
                  <a:pt x="9699" y="15850"/>
                </a:cubicBezTo>
                <a:cubicBezTo>
                  <a:pt x="9730" y="15834"/>
                  <a:pt x="9726" y="15819"/>
                  <a:pt x="9748" y="15801"/>
                </a:cubicBezTo>
                <a:cubicBezTo>
                  <a:pt x="9772" y="15782"/>
                  <a:pt x="9803" y="15798"/>
                  <a:pt x="9823" y="15776"/>
                </a:cubicBezTo>
                <a:cubicBezTo>
                  <a:pt x="9837" y="15761"/>
                  <a:pt x="9861" y="15740"/>
                  <a:pt x="9872" y="15726"/>
                </a:cubicBezTo>
                <a:cubicBezTo>
                  <a:pt x="9893" y="15699"/>
                  <a:pt x="9894" y="15687"/>
                  <a:pt x="9922" y="15652"/>
                </a:cubicBezTo>
                <a:cubicBezTo>
                  <a:pt x="9941" y="15628"/>
                  <a:pt x="9926" y="15597"/>
                  <a:pt x="9947" y="15577"/>
                </a:cubicBezTo>
                <a:cubicBezTo>
                  <a:pt x="9972" y="15554"/>
                  <a:pt x="9977" y="15560"/>
                  <a:pt x="9996" y="15528"/>
                </a:cubicBezTo>
                <a:cubicBezTo>
                  <a:pt x="10014" y="15498"/>
                  <a:pt x="10008" y="15479"/>
                  <a:pt x="10021" y="15453"/>
                </a:cubicBezTo>
                <a:cubicBezTo>
                  <a:pt x="10042" y="15412"/>
                  <a:pt x="10033" y="15399"/>
                  <a:pt x="10046" y="15354"/>
                </a:cubicBezTo>
                <a:cubicBezTo>
                  <a:pt x="10048" y="15346"/>
                  <a:pt x="10088" y="15296"/>
                  <a:pt x="10096" y="15280"/>
                </a:cubicBezTo>
                <a:cubicBezTo>
                  <a:pt x="10116" y="15239"/>
                  <a:pt x="10117" y="15250"/>
                  <a:pt x="10120" y="15180"/>
                </a:cubicBezTo>
                <a:cubicBezTo>
                  <a:pt x="10122" y="15132"/>
                  <a:pt x="10138" y="15124"/>
                  <a:pt x="10145" y="15106"/>
                </a:cubicBezTo>
                <a:cubicBezTo>
                  <a:pt x="10158" y="15074"/>
                  <a:pt x="10166" y="15056"/>
                  <a:pt x="10170" y="15032"/>
                </a:cubicBezTo>
                <a:cubicBezTo>
                  <a:pt x="10184" y="14954"/>
                  <a:pt x="10167" y="14872"/>
                  <a:pt x="10145" y="14808"/>
                </a:cubicBezTo>
                <a:cubicBezTo>
                  <a:pt x="10131" y="14766"/>
                  <a:pt x="10109" y="14757"/>
                  <a:pt x="10096" y="14734"/>
                </a:cubicBezTo>
                <a:cubicBezTo>
                  <a:pt x="10073" y="14694"/>
                  <a:pt x="10096" y="14673"/>
                  <a:pt x="10046" y="14635"/>
                </a:cubicBezTo>
                <a:cubicBezTo>
                  <a:pt x="10019" y="14615"/>
                  <a:pt x="10025" y="14614"/>
                  <a:pt x="9971" y="14610"/>
                </a:cubicBezTo>
                <a:cubicBezTo>
                  <a:pt x="9885" y="14603"/>
                  <a:pt x="9794" y="14605"/>
                  <a:pt x="9723" y="14635"/>
                </a:cubicBezTo>
                <a:cubicBezTo>
                  <a:pt x="9695" y="14647"/>
                  <a:pt x="9693" y="14692"/>
                  <a:pt x="9674" y="14709"/>
                </a:cubicBezTo>
                <a:cubicBezTo>
                  <a:pt x="9652" y="14728"/>
                  <a:pt x="9627" y="14724"/>
                  <a:pt x="9599" y="14759"/>
                </a:cubicBezTo>
                <a:cubicBezTo>
                  <a:pt x="9583" y="14778"/>
                  <a:pt x="9563" y="14792"/>
                  <a:pt x="9550" y="14808"/>
                </a:cubicBezTo>
                <a:cubicBezTo>
                  <a:pt x="9529" y="14834"/>
                  <a:pt x="9511" y="14827"/>
                  <a:pt x="9500" y="14858"/>
                </a:cubicBezTo>
                <a:cubicBezTo>
                  <a:pt x="9481" y="14913"/>
                  <a:pt x="9482" y="14949"/>
                  <a:pt x="9475" y="15007"/>
                </a:cubicBezTo>
                <a:cubicBezTo>
                  <a:pt x="9466" y="15077"/>
                  <a:pt x="9485" y="15146"/>
                  <a:pt x="9500" y="15180"/>
                </a:cubicBezTo>
                <a:cubicBezTo>
                  <a:pt x="9516" y="15217"/>
                  <a:pt x="9500" y="15232"/>
                  <a:pt x="9525" y="15255"/>
                </a:cubicBezTo>
                <a:cubicBezTo>
                  <a:pt x="9554" y="15282"/>
                  <a:pt x="9572" y="15298"/>
                  <a:pt x="9599" y="15304"/>
                </a:cubicBezTo>
                <a:cubicBezTo>
                  <a:pt x="9655" y="15317"/>
                  <a:pt x="9730" y="15282"/>
                  <a:pt x="9748" y="15280"/>
                </a:cubicBezTo>
                <a:cubicBezTo>
                  <a:pt x="9804" y="15273"/>
                  <a:pt x="9865" y="15280"/>
                  <a:pt x="9922" y="15280"/>
                </a:cubicBezTo>
                <a:cubicBezTo>
                  <a:pt x="9959" y="15228"/>
                  <a:pt x="9913" y="15263"/>
                  <a:pt x="9971" y="15230"/>
                </a:cubicBezTo>
                <a:cubicBezTo>
                  <a:pt x="9998" y="15215"/>
                  <a:pt x="10001" y="15193"/>
                  <a:pt x="10021" y="15180"/>
                </a:cubicBezTo>
                <a:cubicBezTo>
                  <a:pt x="10046" y="15163"/>
                  <a:pt x="10051" y="15147"/>
                  <a:pt x="10071" y="15131"/>
                </a:cubicBezTo>
                <a:cubicBezTo>
                  <a:pt x="10094" y="15112"/>
                  <a:pt x="10100" y="15075"/>
                  <a:pt x="10120" y="15056"/>
                </a:cubicBezTo>
                <a:cubicBezTo>
                  <a:pt x="10138" y="15040"/>
                  <a:pt x="10153" y="15022"/>
                  <a:pt x="10170" y="15007"/>
                </a:cubicBezTo>
                <a:cubicBezTo>
                  <a:pt x="10179" y="14998"/>
                  <a:pt x="10213" y="14961"/>
                  <a:pt x="10220" y="14957"/>
                </a:cubicBezTo>
                <a:cubicBezTo>
                  <a:pt x="10253" y="14937"/>
                  <a:pt x="10265" y="14943"/>
                  <a:pt x="10319" y="14932"/>
                </a:cubicBezTo>
                <a:cubicBezTo>
                  <a:pt x="10355" y="14882"/>
                  <a:pt x="10311" y="14915"/>
                  <a:pt x="10368" y="14883"/>
                </a:cubicBezTo>
                <a:cubicBezTo>
                  <a:pt x="10402" y="14864"/>
                  <a:pt x="10397" y="14864"/>
                  <a:pt x="10418" y="14833"/>
                </a:cubicBezTo>
                <a:cubicBezTo>
                  <a:pt x="10438" y="14805"/>
                  <a:pt x="10454" y="14779"/>
                  <a:pt x="10468" y="14759"/>
                </a:cubicBezTo>
                <a:cubicBezTo>
                  <a:pt x="10487" y="14732"/>
                  <a:pt x="10468" y="14703"/>
                  <a:pt x="10492" y="14684"/>
                </a:cubicBezTo>
                <a:cubicBezTo>
                  <a:pt x="10529" y="14656"/>
                  <a:pt x="10470" y="14705"/>
                  <a:pt x="10468" y="14709"/>
                </a:cubicBezTo>
                <a:cubicBezTo>
                  <a:pt x="10450" y="14745"/>
                  <a:pt x="10458" y="14755"/>
                  <a:pt x="10443" y="14784"/>
                </a:cubicBezTo>
                <a:cubicBezTo>
                  <a:pt x="10434" y="14802"/>
                  <a:pt x="10405" y="14834"/>
                  <a:pt x="10393" y="14858"/>
                </a:cubicBezTo>
                <a:cubicBezTo>
                  <a:pt x="10380" y="14884"/>
                  <a:pt x="10371" y="14912"/>
                  <a:pt x="10368" y="14932"/>
                </a:cubicBezTo>
                <a:cubicBezTo>
                  <a:pt x="10360" y="14976"/>
                  <a:pt x="10354" y="14987"/>
                  <a:pt x="10344" y="15007"/>
                </a:cubicBezTo>
                <a:cubicBezTo>
                  <a:pt x="10331" y="15034"/>
                  <a:pt x="10323" y="15060"/>
                  <a:pt x="10319" y="15081"/>
                </a:cubicBezTo>
                <a:cubicBezTo>
                  <a:pt x="10310" y="15136"/>
                  <a:pt x="10314" y="15158"/>
                  <a:pt x="10294" y="15205"/>
                </a:cubicBezTo>
                <a:cubicBezTo>
                  <a:pt x="10282" y="15234"/>
                  <a:pt x="10286" y="15245"/>
                  <a:pt x="10269" y="15280"/>
                </a:cubicBezTo>
                <a:cubicBezTo>
                  <a:pt x="10252" y="15315"/>
                  <a:pt x="10256" y="15325"/>
                  <a:pt x="10244" y="15354"/>
                </a:cubicBezTo>
                <a:cubicBezTo>
                  <a:pt x="10226" y="15398"/>
                  <a:pt x="10223" y="15382"/>
                  <a:pt x="10220" y="15453"/>
                </a:cubicBezTo>
                <a:cubicBezTo>
                  <a:pt x="10218" y="15502"/>
                  <a:pt x="10196" y="15590"/>
                  <a:pt x="10195" y="15602"/>
                </a:cubicBezTo>
                <a:cubicBezTo>
                  <a:pt x="10182" y="15706"/>
                  <a:pt x="10209" y="15811"/>
                  <a:pt x="10220" y="15900"/>
                </a:cubicBezTo>
                <a:cubicBezTo>
                  <a:pt x="10226" y="15945"/>
                  <a:pt x="10209" y="15964"/>
                  <a:pt x="10244" y="15999"/>
                </a:cubicBezTo>
                <a:cubicBezTo>
                  <a:pt x="10277" y="16032"/>
                  <a:pt x="10295" y="16029"/>
                  <a:pt x="10319" y="16049"/>
                </a:cubicBezTo>
                <a:cubicBezTo>
                  <a:pt x="10364" y="16086"/>
                  <a:pt x="10373" y="16079"/>
                  <a:pt x="10418" y="16098"/>
                </a:cubicBezTo>
                <a:cubicBezTo>
                  <a:pt x="10418" y="16098"/>
                  <a:pt x="10493" y="16145"/>
                  <a:pt x="10517" y="16148"/>
                </a:cubicBezTo>
                <a:cubicBezTo>
                  <a:pt x="10625" y="16164"/>
                  <a:pt x="10772" y="16131"/>
                  <a:pt x="10840" y="16123"/>
                </a:cubicBezTo>
                <a:cubicBezTo>
                  <a:pt x="10893" y="16117"/>
                  <a:pt x="10911" y="16114"/>
                  <a:pt x="10964" y="16098"/>
                </a:cubicBezTo>
                <a:cubicBezTo>
                  <a:pt x="11027" y="16079"/>
                  <a:pt x="11099" y="16090"/>
                  <a:pt x="11162" y="16073"/>
                </a:cubicBezTo>
                <a:cubicBezTo>
                  <a:pt x="11163" y="16073"/>
                  <a:pt x="11231" y="16029"/>
                  <a:pt x="11237" y="16024"/>
                </a:cubicBezTo>
                <a:cubicBezTo>
                  <a:pt x="11244" y="16017"/>
                  <a:pt x="11282" y="15980"/>
                  <a:pt x="11286" y="15974"/>
                </a:cubicBezTo>
                <a:cubicBezTo>
                  <a:pt x="11286" y="15966"/>
                  <a:pt x="11286" y="15957"/>
                  <a:pt x="11286" y="15949"/>
                </a:cubicBezTo>
              </a:path>
            </a:pathLst>
          </a:custGeom>
          <a:noFill/>
          <a:ln cap="rnd" w="349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56000" y="2971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24 с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348000" y="263700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71640" y="234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12 с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3348000" y="333360"/>
            <a:ext cx="2232000" cy="154944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>
            <a:off x="1979640" y="3141720"/>
            <a:ext cx="719280" cy="8254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5292720" y="907920"/>
            <a:ext cx="1346040" cy="559080"/>
          </a:xfrm>
          <a:custGeom>
            <a:avLst/>
            <a:gdLst/>
            <a:ahLst/>
            <a:rect l="l" t="t" r="r" b="b"/>
            <a:pathLst>
              <a:path w="4540" h="1886">
                <a:moveTo>
                  <a:pt x="10096" y="13543"/>
                </a:moveTo>
                <a:cubicBezTo>
                  <a:pt x="10096" y="13587"/>
                  <a:pt x="10073" y="13634"/>
                  <a:pt x="10071" y="13643"/>
                </a:cubicBezTo>
                <a:cubicBezTo>
                  <a:pt x="10058" y="13706"/>
                  <a:pt x="10049" y="13680"/>
                  <a:pt x="10046" y="13742"/>
                </a:cubicBezTo>
                <a:cubicBezTo>
                  <a:pt x="10042" y="13834"/>
                  <a:pt x="10032" y="13960"/>
                  <a:pt x="10021" y="14015"/>
                </a:cubicBezTo>
                <a:cubicBezTo>
                  <a:pt x="10011" y="14063"/>
                  <a:pt x="10003" y="14052"/>
                  <a:pt x="9996" y="14089"/>
                </a:cubicBezTo>
                <a:cubicBezTo>
                  <a:pt x="9986" y="14138"/>
                  <a:pt x="9979" y="14164"/>
                  <a:pt x="9971" y="14213"/>
                </a:cubicBezTo>
                <a:cubicBezTo>
                  <a:pt x="9948" y="14353"/>
                  <a:pt x="9968" y="14553"/>
                  <a:pt x="9947" y="14660"/>
                </a:cubicBezTo>
                <a:cubicBezTo>
                  <a:pt x="9940" y="14698"/>
                  <a:pt x="9923" y="14777"/>
                  <a:pt x="9922" y="14784"/>
                </a:cubicBezTo>
                <a:cubicBezTo>
                  <a:pt x="9905" y="14866"/>
                  <a:pt x="9905" y="15007"/>
                  <a:pt x="9897" y="15056"/>
                </a:cubicBezTo>
                <a:cubicBezTo>
                  <a:pt x="9890" y="15100"/>
                  <a:pt x="9893" y="15104"/>
                  <a:pt x="9872" y="15131"/>
                </a:cubicBezTo>
                <a:cubicBezTo>
                  <a:pt x="9856" y="15151"/>
                  <a:pt x="9841" y="15182"/>
                  <a:pt x="9823" y="15205"/>
                </a:cubicBezTo>
                <a:cubicBezTo>
                  <a:pt x="9807" y="15225"/>
                  <a:pt x="9785" y="15228"/>
                  <a:pt x="9748" y="15230"/>
                </a:cubicBezTo>
                <a:cubicBezTo>
                  <a:pt x="9705" y="15233"/>
                  <a:pt x="9699" y="15235"/>
                  <a:pt x="9674" y="15255"/>
                </a:cubicBezTo>
                <a:cubicBezTo>
                  <a:pt x="9668" y="15260"/>
                  <a:pt x="9636" y="15308"/>
                  <a:pt x="9599" y="15280"/>
                </a:cubicBezTo>
                <a:cubicBezTo>
                  <a:pt x="9554" y="15246"/>
                  <a:pt x="9566" y="15224"/>
                  <a:pt x="9550" y="15180"/>
                </a:cubicBezTo>
                <a:cubicBezTo>
                  <a:pt x="9527" y="15116"/>
                  <a:pt x="9539" y="15073"/>
                  <a:pt x="9525" y="15007"/>
                </a:cubicBezTo>
                <a:cubicBezTo>
                  <a:pt x="9515" y="14963"/>
                  <a:pt x="9504" y="14929"/>
                  <a:pt x="9500" y="14883"/>
                </a:cubicBezTo>
                <a:cubicBezTo>
                  <a:pt x="9500" y="14875"/>
                  <a:pt x="9500" y="14866"/>
                  <a:pt x="9500" y="14858"/>
                </a:cubicBezTo>
              </a:path>
              <a:path w="4540" h="1886">
                <a:moveTo>
                  <a:pt x="9773" y="14114"/>
                </a:moveTo>
                <a:cubicBezTo>
                  <a:pt x="9773" y="14081"/>
                  <a:pt x="9773" y="14048"/>
                  <a:pt x="9773" y="14015"/>
                </a:cubicBezTo>
                <a:cubicBezTo>
                  <a:pt x="9833" y="13985"/>
                  <a:pt x="9819" y="14037"/>
                  <a:pt x="9823" y="13940"/>
                </a:cubicBezTo>
                <a:cubicBezTo>
                  <a:pt x="9825" y="13886"/>
                  <a:pt x="9869" y="13805"/>
                  <a:pt x="9872" y="13791"/>
                </a:cubicBezTo>
                <a:cubicBezTo>
                  <a:pt x="9883" y="13742"/>
                  <a:pt x="9891" y="13724"/>
                  <a:pt x="9897" y="13692"/>
                </a:cubicBezTo>
                <a:cubicBezTo>
                  <a:pt x="9906" y="13648"/>
                  <a:pt x="9900" y="13645"/>
                  <a:pt x="9922" y="13618"/>
                </a:cubicBezTo>
                <a:cubicBezTo>
                  <a:pt x="9924" y="13615"/>
                  <a:pt x="9964" y="13549"/>
                  <a:pt x="9971" y="13543"/>
                </a:cubicBezTo>
                <a:cubicBezTo>
                  <a:pt x="10042" y="13483"/>
                  <a:pt x="10001" y="13522"/>
                  <a:pt x="10021" y="13444"/>
                </a:cubicBezTo>
                <a:cubicBezTo>
                  <a:pt x="10088" y="13429"/>
                  <a:pt x="10073" y="13406"/>
                  <a:pt x="10096" y="13395"/>
                </a:cubicBezTo>
                <a:cubicBezTo>
                  <a:pt x="10144" y="13371"/>
                  <a:pt x="10257" y="13397"/>
                  <a:pt x="10294" y="13419"/>
                </a:cubicBezTo>
                <a:cubicBezTo>
                  <a:pt x="10306" y="13427"/>
                  <a:pt x="10337" y="13466"/>
                  <a:pt x="10344" y="13494"/>
                </a:cubicBezTo>
                <a:cubicBezTo>
                  <a:pt x="10352" y="13526"/>
                  <a:pt x="10362" y="13536"/>
                  <a:pt x="10368" y="13568"/>
                </a:cubicBezTo>
                <a:cubicBezTo>
                  <a:pt x="10388" y="13671"/>
                  <a:pt x="10356" y="13827"/>
                  <a:pt x="10344" y="13891"/>
                </a:cubicBezTo>
                <a:cubicBezTo>
                  <a:pt x="10332" y="13952"/>
                  <a:pt x="10326" y="13951"/>
                  <a:pt x="10319" y="13990"/>
                </a:cubicBezTo>
                <a:cubicBezTo>
                  <a:pt x="10311" y="14034"/>
                  <a:pt x="10316" y="14037"/>
                  <a:pt x="10294" y="14064"/>
                </a:cubicBezTo>
                <a:cubicBezTo>
                  <a:pt x="10279" y="14083"/>
                  <a:pt x="10241" y="14119"/>
                  <a:pt x="10220" y="14139"/>
                </a:cubicBezTo>
                <a:cubicBezTo>
                  <a:pt x="10198" y="14161"/>
                  <a:pt x="10193" y="14200"/>
                  <a:pt x="10170" y="14238"/>
                </a:cubicBezTo>
                <a:cubicBezTo>
                  <a:pt x="10167" y="14243"/>
                  <a:pt x="10127" y="14281"/>
                  <a:pt x="10120" y="14288"/>
                </a:cubicBezTo>
                <a:cubicBezTo>
                  <a:pt x="10098" y="14310"/>
                  <a:pt x="10091" y="14337"/>
                  <a:pt x="10071" y="14362"/>
                </a:cubicBezTo>
                <a:cubicBezTo>
                  <a:pt x="10050" y="14388"/>
                  <a:pt x="9997" y="14436"/>
                  <a:pt x="10021" y="14412"/>
                </a:cubicBezTo>
                <a:cubicBezTo>
                  <a:pt x="10037" y="14396"/>
                  <a:pt x="10055" y="14378"/>
                  <a:pt x="10071" y="14362"/>
                </a:cubicBezTo>
                <a:cubicBezTo>
                  <a:pt x="10119" y="14314"/>
                  <a:pt x="10141" y="14314"/>
                  <a:pt x="10170" y="14288"/>
                </a:cubicBezTo>
                <a:cubicBezTo>
                  <a:pt x="10195" y="14265"/>
                  <a:pt x="10209" y="14281"/>
                  <a:pt x="10244" y="14263"/>
                </a:cubicBezTo>
                <a:cubicBezTo>
                  <a:pt x="10279" y="14245"/>
                  <a:pt x="10270" y="14237"/>
                  <a:pt x="10294" y="14213"/>
                </a:cubicBezTo>
                <a:cubicBezTo>
                  <a:pt x="10314" y="14193"/>
                  <a:pt x="10329" y="14190"/>
                  <a:pt x="10368" y="14188"/>
                </a:cubicBezTo>
                <a:cubicBezTo>
                  <a:pt x="10419" y="14185"/>
                  <a:pt x="10479" y="14186"/>
                  <a:pt x="10517" y="14213"/>
                </a:cubicBezTo>
                <a:cubicBezTo>
                  <a:pt x="10546" y="14234"/>
                  <a:pt x="10579" y="14279"/>
                  <a:pt x="10592" y="14288"/>
                </a:cubicBezTo>
                <a:cubicBezTo>
                  <a:pt x="10642" y="14321"/>
                  <a:pt x="10619" y="14309"/>
                  <a:pt x="10641" y="14362"/>
                </a:cubicBezTo>
                <a:cubicBezTo>
                  <a:pt x="10659" y="14407"/>
                  <a:pt x="10681" y="14400"/>
                  <a:pt x="10691" y="14436"/>
                </a:cubicBezTo>
                <a:cubicBezTo>
                  <a:pt x="10727" y="14570"/>
                  <a:pt x="10685" y="14812"/>
                  <a:pt x="10666" y="14908"/>
                </a:cubicBezTo>
                <a:cubicBezTo>
                  <a:pt x="10657" y="14951"/>
                  <a:pt x="10663" y="14955"/>
                  <a:pt x="10641" y="14982"/>
                </a:cubicBezTo>
                <a:cubicBezTo>
                  <a:pt x="10619" y="15010"/>
                  <a:pt x="10595" y="15010"/>
                  <a:pt x="10567" y="15032"/>
                </a:cubicBezTo>
                <a:cubicBezTo>
                  <a:pt x="10535" y="15057"/>
                  <a:pt x="10527" y="15053"/>
                  <a:pt x="10468" y="15056"/>
                </a:cubicBezTo>
                <a:cubicBezTo>
                  <a:pt x="10420" y="15059"/>
                  <a:pt x="10406" y="15056"/>
                  <a:pt x="10368" y="15032"/>
                </a:cubicBezTo>
                <a:cubicBezTo>
                  <a:pt x="10343" y="15017"/>
                  <a:pt x="10322" y="15015"/>
                  <a:pt x="10294" y="14982"/>
                </a:cubicBezTo>
                <a:cubicBezTo>
                  <a:pt x="10264" y="14946"/>
                  <a:pt x="10261" y="14936"/>
                  <a:pt x="10244" y="14908"/>
                </a:cubicBezTo>
                <a:cubicBezTo>
                  <a:pt x="10219" y="14866"/>
                  <a:pt x="10223" y="14858"/>
                  <a:pt x="10220" y="14808"/>
                </a:cubicBezTo>
                <a:cubicBezTo>
                  <a:pt x="10216" y="14740"/>
                  <a:pt x="10216" y="14719"/>
                  <a:pt x="10195" y="14684"/>
                </a:cubicBezTo>
              </a:path>
              <a:path w="4540" h="1886">
                <a:moveTo>
                  <a:pt x="11534" y="14486"/>
                </a:moveTo>
                <a:cubicBezTo>
                  <a:pt x="11528" y="14423"/>
                  <a:pt x="11539" y="14395"/>
                  <a:pt x="11509" y="14362"/>
                </a:cubicBezTo>
                <a:cubicBezTo>
                  <a:pt x="11497" y="14349"/>
                  <a:pt x="11468" y="14319"/>
                  <a:pt x="11435" y="14312"/>
                </a:cubicBezTo>
                <a:cubicBezTo>
                  <a:pt x="11386" y="14302"/>
                  <a:pt x="11375" y="14332"/>
                  <a:pt x="11361" y="14337"/>
                </a:cubicBezTo>
                <a:cubicBezTo>
                  <a:pt x="11354" y="14340"/>
                  <a:pt x="11292" y="14355"/>
                  <a:pt x="11286" y="14362"/>
                </a:cubicBezTo>
                <a:cubicBezTo>
                  <a:pt x="11270" y="14380"/>
                  <a:pt x="11253" y="14395"/>
                  <a:pt x="11237" y="14412"/>
                </a:cubicBezTo>
                <a:cubicBezTo>
                  <a:pt x="11214" y="14436"/>
                  <a:pt x="11198" y="14430"/>
                  <a:pt x="11187" y="14461"/>
                </a:cubicBezTo>
                <a:cubicBezTo>
                  <a:pt x="11171" y="14508"/>
                  <a:pt x="11176" y="14528"/>
                  <a:pt x="11162" y="14560"/>
                </a:cubicBezTo>
                <a:cubicBezTo>
                  <a:pt x="11158" y="14568"/>
                  <a:pt x="11147" y="14606"/>
                  <a:pt x="11137" y="14635"/>
                </a:cubicBezTo>
                <a:cubicBezTo>
                  <a:pt x="11133" y="14646"/>
                  <a:pt x="11097" y="14690"/>
                  <a:pt x="11088" y="14709"/>
                </a:cubicBezTo>
                <a:cubicBezTo>
                  <a:pt x="11071" y="14744"/>
                  <a:pt x="11072" y="14734"/>
                  <a:pt x="11063" y="14784"/>
                </a:cubicBezTo>
                <a:cubicBezTo>
                  <a:pt x="11049" y="14863"/>
                  <a:pt x="11051" y="14994"/>
                  <a:pt x="11088" y="15056"/>
                </a:cubicBezTo>
                <a:cubicBezTo>
                  <a:pt x="11093" y="15064"/>
                  <a:pt x="11155" y="15102"/>
                  <a:pt x="11162" y="15106"/>
                </a:cubicBezTo>
                <a:cubicBezTo>
                  <a:pt x="11170" y="15106"/>
                  <a:pt x="11179" y="15106"/>
                  <a:pt x="11187" y="15106"/>
                </a:cubicBezTo>
                <a:cubicBezTo>
                  <a:pt x="11209" y="15090"/>
                  <a:pt x="11231" y="15068"/>
                  <a:pt x="11261" y="15056"/>
                </a:cubicBezTo>
                <a:cubicBezTo>
                  <a:pt x="11270" y="15053"/>
                  <a:pt x="11327" y="15016"/>
                  <a:pt x="11336" y="15007"/>
                </a:cubicBezTo>
                <a:cubicBezTo>
                  <a:pt x="11380" y="14959"/>
                  <a:pt x="11322" y="14982"/>
                  <a:pt x="11410" y="14932"/>
                </a:cubicBezTo>
                <a:cubicBezTo>
                  <a:pt x="11469" y="14898"/>
                  <a:pt x="11456" y="14937"/>
                  <a:pt x="11485" y="14883"/>
                </a:cubicBezTo>
                <a:cubicBezTo>
                  <a:pt x="11505" y="14846"/>
                  <a:pt x="11516" y="14777"/>
                  <a:pt x="11534" y="14759"/>
                </a:cubicBezTo>
                <a:cubicBezTo>
                  <a:pt x="11558" y="14735"/>
                  <a:pt x="11566" y="14744"/>
                  <a:pt x="11584" y="14709"/>
                </a:cubicBezTo>
                <a:cubicBezTo>
                  <a:pt x="11602" y="14674"/>
                  <a:pt x="11595" y="14664"/>
                  <a:pt x="11609" y="14635"/>
                </a:cubicBezTo>
                <a:cubicBezTo>
                  <a:pt x="11624" y="14605"/>
                  <a:pt x="11612" y="14586"/>
                  <a:pt x="11633" y="14560"/>
                </a:cubicBezTo>
                <a:cubicBezTo>
                  <a:pt x="11641" y="14550"/>
                  <a:pt x="11673" y="14520"/>
                  <a:pt x="11683" y="14511"/>
                </a:cubicBezTo>
                <a:cubicBezTo>
                  <a:pt x="11716" y="14480"/>
                  <a:pt x="11710" y="14483"/>
                  <a:pt x="11733" y="14436"/>
                </a:cubicBezTo>
                <a:cubicBezTo>
                  <a:pt x="11743" y="14416"/>
                  <a:pt x="11773" y="14391"/>
                  <a:pt x="11782" y="14362"/>
                </a:cubicBezTo>
                <a:cubicBezTo>
                  <a:pt x="11782" y="14354"/>
                  <a:pt x="11782" y="14345"/>
                  <a:pt x="11782" y="14337"/>
                </a:cubicBezTo>
                <a:cubicBezTo>
                  <a:pt x="11769" y="14375"/>
                  <a:pt x="11761" y="14384"/>
                  <a:pt x="11757" y="14412"/>
                </a:cubicBezTo>
                <a:cubicBezTo>
                  <a:pt x="11747" y="14482"/>
                  <a:pt x="11752" y="14466"/>
                  <a:pt x="11733" y="14511"/>
                </a:cubicBezTo>
                <a:cubicBezTo>
                  <a:pt x="11721" y="14539"/>
                  <a:pt x="11725" y="14551"/>
                  <a:pt x="11708" y="14585"/>
                </a:cubicBezTo>
                <a:cubicBezTo>
                  <a:pt x="11691" y="14619"/>
                  <a:pt x="11695" y="14632"/>
                  <a:pt x="11683" y="14660"/>
                </a:cubicBezTo>
                <a:cubicBezTo>
                  <a:pt x="11668" y="14696"/>
                  <a:pt x="11667" y="14684"/>
                  <a:pt x="11658" y="14734"/>
                </a:cubicBezTo>
                <a:cubicBezTo>
                  <a:pt x="11651" y="14775"/>
                  <a:pt x="11639" y="14793"/>
                  <a:pt x="11633" y="14808"/>
                </a:cubicBezTo>
                <a:cubicBezTo>
                  <a:pt x="11614" y="14855"/>
                  <a:pt x="11631" y="14864"/>
                  <a:pt x="11609" y="14908"/>
                </a:cubicBezTo>
                <a:cubicBezTo>
                  <a:pt x="11592" y="14942"/>
                  <a:pt x="11590" y="14932"/>
                  <a:pt x="11584" y="14982"/>
                </a:cubicBezTo>
                <a:cubicBezTo>
                  <a:pt x="11579" y="15022"/>
                  <a:pt x="11584" y="15066"/>
                  <a:pt x="11584" y="15106"/>
                </a:cubicBezTo>
                <a:cubicBezTo>
                  <a:pt x="11642" y="15101"/>
                  <a:pt x="11681" y="15093"/>
                  <a:pt x="11708" y="15081"/>
                </a:cubicBezTo>
                <a:cubicBezTo>
                  <a:pt x="11709" y="15080"/>
                  <a:pt x="11778" y="15037"/>
                  <a:pt x="11782" y="15032"/>
                </a:cubicBezTo>
                <a:cubicBezTo>
                  <a:pt x="11802" y="15007"/>
                  <a:pt x="11793" y="14991"/>
                  <a:pt x="11832" y="14982"/>
                </a:cubicBezTo>
                <a:cubicBezTo>
                  <a:pt x="11901" y="14966"/>
                  <a:pt x="11882" y="14945"/>
                  <a:pt x="11906" y="14932"/>
                </a:cubicBezTo>
                <a:cubicBezTo>
                  <a:pt x="11929" y="14920"/>
                  <a:pt x="11988" y="14931"/>
                  <a:pt x="12005" y="14908"/>
                </a:cubicBezTo>
                <a:cubicBezTo>
                  <a:pt x="12020" y="14888"/>
                  <a:pt x="12047" y="14843"/>
                  <a:pt x="12055" y="14833"/>
                </a:cubicBezTo>
                <a:cubicBezTo>
                  <a:pt x="12072" y="14809"/>
                  <a:pt x="12059" y="14761"/>
                  <a:pt x="12080" y="14734"/>
                </a:cubicBezTo>
                <a:cubicBezTo>
                  <a:pt x="12105" y="14702"/>
                  <a:pt x="12103" y="14735"/>
                  <a:pt x="12129" y="14684"/>
                </a:cubicBezTo>
                <a:cubicBezTo>
                  <a:pt x="12137" y="14669"/>
                  <a:pt x="12178" y="14639"/>
                  <a:pt x="12179" y="14635"/>
                </a:cubicBezTo>
                <a:cubicBezTo>
                  <a:pt x="12193" y="14585"/>
                  <a:pt x="12182" y="14588"/>
                  <a:pt x="12204" y="14560"/>
                </a:cubicBezTo>
                <a:cubicBezTo>
                  <a:pt x="12219" y="14540"/>
                  <a:pt x="12236" y="14514"/>
                  <a:pt x="12254" y="14486"/>
                </a:cubicBezTo>
                <a:cubicBezTo>
                  <a:pt x="12270" y="14461"/>
                  <a:pt x="12268" y="14434"/>
                  <a:pt x="12278" y="14412"/>
                </a:cubicBezTo>
                <a:cubicBezTo>
                  <a:pt x="12291" y="14383"/>
                  <a:pt x="12286" y="14372"/>
                  <a:pt x="12303" y="14337"/>
                </a:cubicBezTo>
                <a:cubicBezTo>
                  <a:pt x="12304" y="14335"/>
                  <a:pt x="12320" y="14304"/>
                  <a:pt x="12328" y="14288"/>
                </a:cubicBezTo>
                <a:cubicBezTo>
                  <a:pt x="12315" y="14325"/>
                  <a:pt x="12307" y="14334"/>
                  <a:pt x="12303" y="14362"/>
                </a:cubicBezTo>
                <a:cubicBezTo>
                  <a:pt x="12297" y="14403"/>
                  <a:pt x="12283" y="14420"/>
                  <a:pt x="12278" y="14461"/>
                </a:cubicBezTo>
                <a:cubicBezTo>
                  <a:pt x="12271" y="14516"/>
                  <a:pt x="12268" y="14526"/>
                  <a:pt x="12254" y="14560"/>
                </a:cubicBezTo>
                <a:cubicBezTo>
                  <a:pt x="12237" y="14600"/>
                  <a:pt x="12245" y="14603"/>
                  <a:pt x="12229" y="14635"/>
                </a:cubicBezTo>
                <a:cubicBezTo>
                  <a:pt x="12207" y="14679"/>
                  <a:pt x="12223" y="14668"/>
                  <a:pt x="12204" y="14734"/>
                </a:cubicBezTo>
                <a:cubicBezTo>
                  <a:pt x="12189" y="14787"/>
                  <a:pt x="12200" y="14780"/>
                  <a:pt x="12179" y="14833"/>
                </a:cubicBezTo>
                <a:cubicBezTo>
                  <a:pt x="12175" y="14842"/>
                  <a:pt x="12163" y="14876"/>
                  <a:pt x="12154" y="14908"/>
                </a:cubicBezTo>
                <a:cubicBezTo>
                  <a:pt x="12145" y="14940"/>
                  <a:pt x="12138" y="14950"/>
                  <a:pt x="12129" y="14982"/>
                </a:cubicBezTo>
                <a:cubicBezTo>
                  <a:pt x="12125" y="14996"/>
                  <a:pt x="12084" y="15031"/>
                  <a:pt x="12080" y="15056"/>
                </a:cubicBezTo>
                <a:cubicBezTo>
                  <a:pt x="12072" y="15102"/>
                  <a:pt x="12065" y="15111"/>
                  <a:pt x="12055" y="15131"/>
                </a:cubicBezTo>
                <a:cubicBezTo>
                  <a:pt x="12037" y="15166"/>
                  <a:pt x="12045" y="15176"/>
                  <a:pt x="12030" y="15205"/>
                </a:cubicBezTo>
                <a:cubicBezTo>
                  <a:pt x="12030" y="15172"/>
                  <a:pt x="12021" y="15188"/>
                  <a:pt x="12030" y="15156"/>
                </a:cubicBezTo>
                <a:cubicBezTo>
                  <a:pt x="12043" y="15110"/>
                  <a:pt x="12075" y="15100"/>
                  <a:pt x="12080" y="15081"/>
                </a:cubicBezTo>
                <a:cubicBezTo>
                  <a:pt x="12092" y="15038"/>
                  <a:pt x="12097" y="14975"/>
                  <a:pt x="12105" y="14957"/>
                </a:cubicBezTo>
                <a:cubicBezTo>
                  <a:pt x="12118" y="14927"/>
                  <a:pt x="12109" y="14909"/>
                  <a:pt x="12129" y="14883"/>
                </a:cubicBezTo>
                <a:cubicBezTo>
                  <a:pt x="12149" y="14856"/>
                  <a:pt x="12148" y="14846"/>
                  <a:pt x="12179" y="14833"/>
                </a:cubicBezTo>
                <a:cubicBezTo>
                  <a:pt x="12214" y="14818"/>
                  <a:pt x="12288" y="14814"/>
                  <a:pt x="12303" y="14808"/>
                </a:cubicBezTo>
                <a:cubicBezTo>
                  <a:pt x="12331" y="14797"/>
                  <a:pt x="12345" y="14801"/>
                  <a:pt x="12378" y="14784"/>
                </a:cubicBezTo>
                <a:cubicBezTo>
                  <a:pt x="12403" y="14771"/>
                  <a:pt x="12411" y="14742"/>
                  <a:pt x="12427" y="14734"/>
                </a:cubicBezTo>
                <a:cubicBezTo>
                  <a:pt x="12439" y="14728"/>
                  <a:pt x="12491" y="14697"/>
                  <a:pt x="12502" y="14684"/>
                </a:cubicBezTo>
                <a:cubicBezTo>
                  <a:pt x="12531" y="14649"/>
                  <a:pt x="12570" y="14575"/>
                  <a:pt x="12576" y="14560"/>
                </a:cubicBezTo>
                <a:cubicBezTo>
                  <a:pt x="12593" y="14519"/>
                  <a:pt x="12619" y="14489"/>
                  <a:pt x="12626" y="14461"/>
                </a:cubicBezTo>
                <a:cubicBezTo>
                  <a:pt x="12639" y="14413"/>
                  <a:pt x="12626" y="14390"/>
                  <a:pt x="12650" y="14362"/>
                </a:cubicBezTo>
                <a:cubicBezTo>
                  <a:pt x="12661" y="14350"/>
                  <a:pt x="12700" y="14313"/>
                  <a:pt x="12700" y="14362"/>
                </a:cubicBezTo>
                <a:cubicBezTo>
                  <a:pt x="12700" y="14403"/>
                  <a:pt x="12686" y="14421"/>
                  <a:pt x="12675" y="14461"/>
                </a:cubicBezTo>
                <a:cubicBezTo>
                  <a:pt x="12671" y="14475"/>
                  <a:pt x="12631" y="14510"/>
                  <a:pt x="12626" y="14536"/>
                </a:cubicBezTo>
                <a:cubicBezTo>
                  <a:pt x="12616" y="14596"/>
                  <a:pt x="12606" y="14598"/>
                  <a:pt x="12601" y="14635"/>
                </a:cubicBezTo>
                <a:cubicBezTo>
                  <a:pt x="12592" y="14707"/>
                  <a:pt x="12595" y="14689"/>
                  <a:pt x="12576" y="14734"/>
                </a:cubicBezTo>
                <a:cubicBezTo>
                  <a:pt x="12559" y="14774"/>
                  <a:pt x="12567" y="14777"/>
                  <a:pt x="12551" y="14808"/>
                </a:cubicBezTo>
                <a:cubicBezTo>
                  <a:pt x="12530" y="14850"/>
                  <a:pt x="12529" y="14837"/>
                  <a:pt x="12526" y="14908"/>
                </a:cubicBezTo>
                <a:cubicBezTo>
                  <a:pt x="12524" y="14954"/>
                  <a:pt x="12509" y="14965"/>
                  <a:pt x="12502" y="14982"/>
                </a:cubicBezTo>
                <a:cubicBezTo>
                  <a:pt x="12489" y="15014"/>
                  <a:pt x="12481" y="15032"/>
                  <a:pt x="12477" y="15056"/>
                </a:cubicBezTo>
                <a:cubicBezTo>
                  <a:pt x="12468" y="15108"/>
                  <a:pt x="12476" y="15136"/>
                  <a:pt x="12502" y="15156"/>
                </a:cubicBezTo>
                <a:cubicBezTo>
                  <a:pt x="12525" y="15174"/>
                  <a:pt x="12567" y="15197"/>
                  <a:pt x="12601" y="15180"/>
                </a:cubicBezTo>
                <a:cubicBezTo>
                  <a:pt x="12630" y="15166"/>
                  <a:pt x="12628" y="15155"/>
                  <a:pt x="12650" y="15131"/>
                </a:cubicBezTo>
                <a:cubicBezTo>
                  <a:pt x="12671" y="15108"/>
                  <a:pt x="12705" y="15102"/>
                  <a:pt x="12725" y="15081"/>
                </a:cubicBezTo>
                <a:cubicBezTo>
                  <a:pt x="12748" y="15056"/>
                  <a:pt x="12740" y="15049"/>
                  <a:pt x="12774" y="15032"/>
                </a:cubicBezTo>
                <a:cubicBezTo>
                  <a:pt x="12810" y="15014"/>
                  <a:pt x="12820" y="15022"/>
                  <a:pt x="12849" y="15007"/>
                </a:cubicBezTo>
                <a:cubicBezTo>
                  <a:pt x="12878" y="14992"/>
                  <a:pt x="12897" y="15003"/>
                  <a:pt x="12923" y="14982"/>
                </a:cubicBezTo>
                <a:cubicBezTo>
                  <a:pt x="12937" y="14971"/>
                  <a:pt x="12932" y="14921"/>
                  <a:pt x="12948" y="14908"/>
                </a:cubicBezTo>
                <a:cubicBezTo>
                  <a:pt x="12986" y="14878"/>
                  <a:pt x="12967" y="14893"/>
                  <a:pt x="12998" y="14858"/>
                </a:cubicBezTo>
                <a:cubicBezTo>
                  <a:pt x="13012" y="14841"/>
                  <a:pt x="13029" y="14812"/>
                  <a:pt x="13047" y="14784"/>
                </a:cubicBezTo>
                <a:cubicBezTo>
                  <a:pt x="13065" y="14756"/>
                  <a:pt x="13026" y="14775"/>
                  <a:pt x="13022" y="14808"/>
                </a:cubicBezTo>
                <a:cubicBezTo>
                  <a:pt x="13018" y="14845"/>
                  <a:pt x="13002" y="14881"/>
                  <a:pt x="12998" y="14908"/>
                </a:cubicBezTo>
                <a:cubicBezTo>
                  <a:pt x="12993" y="14941"/>
                  <a:pt x="12978" y="14949"/>
                  <a:pt x="12973" y="14982"/>
                </a:cubicBezTo>
                <a:cubicBezTo>
                  <a:pt x="12963" y="15041"/>
                  <a:pt x="12954" y="15164"/>
                  <a:pt x="12998" y="15205"/>
                </a:cubicBezTo>
                <a:cubicBezTo>
                  <a:pt x="13054" y="15257"/>
                  <a:pt x="13025" y="15207"/>
                  <a:pt x="13072" y="15205"/>
                </a:cubicBezTo>
                <a:cubicBezTo>
                  <a:pt x="13110" y="15203"/>
                  <a:pt x="13195" y="15207"/>
                  <a:pt x="13221" y="15180"/>
                </a:cubicBezTo>
                <a:cubicBezTo>
                  <a:pt x="13239" y="15161"/>
                  <a:pt x="13252" y="15090"/>
                  <a:pt x="13271" y="15081"/>
                </a:cubicBezTo>
                <a:cubicBezTo>
                  <a:pt x="13311" y="15063"/>
                  <a:pt x="13320" y="15075"/>
                  <a:pt x="13345" y="15056"/>
                </a:cubicBezTo>
                <a:cubicBezTo>
                  <a:pt x="13415" y="15002"/>
                  <a:pt x="13348" y="15021"/>
                  <a:pt x="13395" y="14957"/>
                </a:cubicBezTo>
                <a:cubicBezTo>
                  <a:pt x="13411" y="14935"/>
                  <a:pt x="13429" y="14938"/>
                  <a:pt x="13444" y="14908"/>
                </a:cubicBezTo>
                <a:cubicBezTo>
                  <a:pt x="13461" y="14873"/>
                  <a:pt x="13444" y="14856"/>
                  <a:pt x="13469" y="14833"/>
                </a:cubicBezTo>
                <a:cubicBezTo>
                  <a:pt x="13491" y="14812"/>
                  <a:pt x="13512" y="14823"/>
                  <a:pt x="13519" y="14784"/>
                </a:cubicBezTo>
                <a:cubicBezTo>
                  <a:pt x="13530" y="14725"/>
                  <a:pt x="13531" y="14665"/>
                  <a:pt x="13543" y="14635"/>
                </a:cubicBezTo>
                <a:cubicBezTo>
                  <a:pt x="13557" y="14602"/>
                  <a:pt x="13564" y="14585"/>
                  <a:pt x="13568" y="14560"/>
                </a:cubicBezTo>
                <a:cubicBezTo>
                  <a:pt x="13584" y="14467"/>
                  <a:pt x="13587" y="14289"/>
                  <a:pt x="13543" y="14213"/>
                </a:cubicBezTo>
                <a:cubicBezTo>
                  <a:pt x="13525" y="14181"/>
                  <a:pt x="13489" y="14174"/>
                  <a:pt x="13469" y="14163"/>
                </a:cubicBezTo>
                <a:cubicBezTo>
                  <a:pt x="13440" y="14147"/>
                  <a:pt x="13441" y="14137"/>
                  <a:pt x="13395" y="14139"/>
                </a:cubicBezTo>
                <a:cubicBezTo>
                  <a:pt x="13342" y="14142"/>
                  <a:pt x="13358" y="14151"/>
                  <a:pt x="13320" y="14163"/>
                </a:cubicBezTo>
                <a:cubicBezTo>
                  <a:pt x="13315" y="14165"/>
                  <a:pt x="13252" y="14206"/>
                  <a:pt x="13246" y="14213"/>
                </a:cubicBezTo>
                <a:cubicBezTo>
                  <a:pt x="13215" y="14247"/>
                  <a:pt x="13238" y="14254"/>
                  <a:pt x="13221" y="14312"/>
                </a:cubicBezTo>
                <a:cubicBezTo>
                  <a:pt x="13218" y="14321"/>
                  <a:pt x="13198" y="14346"/>
                  <a:pt x="13196" y="14387"/>
                </a:cubicBezTo>
                <a:cubicBezTo>
                  <a:pt x="13193" y="14453"/>
                  <a:pt x="13190" y="14508"/>
                  <a:pt x="13221" y="14560"/>
                </a:cubicBezTo>
                <a:cubicBezTo>
                  <a:pt x="13224" y="14565"/>
                  <a:pt x="13289" y="14608"/>
                  <a:pt x="13295" y="14610"/>
                </a:cubicBezTo>
                <a:cubicBezTo>
                  <a:pt x="13370" y="14636"/>
                  <a:pt x="13505" y="14600"/>
                  <a:pt x="13543" y="14585"/>
                </a:cubicBezTo>
                <a:cubicBezTo>
                  <a:pt x="13578" y="14571"/>
                  <a:pt x="13569" y="14554"/>
                  <a:pt x="13593" y="14536"/>
                </a:cubicBezTo>
                <a:cubicBezTo>
                  <a:pt x="13621" y="14515"/>
                  <a:pt x="13621" y="14511"/>
                  <a:pt x="13643" y="14486"/>
                </a:cubicBezTo>
                <a:cubicBezTo>
                  <a:pt x="13691" y="14431"/>
                  <a:pt x="13668" y="14438"/>
                  <a:pt x="13692" y="14387"/>
                </a:cubicBezTo>
                <a:cubicBezTo>
                  <a:pt x="13706" y="14357"/>
                  <a:pt x="13712" y="14336"/>
                  <a:pt x="13717" y="14312"/>
                </a:cubicBezTo>
                <a:cubicBezTo>
                  <a:pt x="13717" y="14304"/>
                  <a:pt x="13717" y="14296"/>
                  <a:pt x="13717" y="14288"/>
                </a:cubicBezTo>
                <a:cubicBezTo>
                  <a:pt x="13714" y="14321"/>
                  <a:pt x="13697" y="14329"/>
                  <a:pt x="13692" y="14362"/>
                </a:cubicBezTo>
                <a:cubicBezTo>
                  <a:pt x="13682" y="14437"/>
                  <a:pt x="13672" y="14570"/>
                  <a:pt x="13667" y="14610"/>
                </a:cubicBezTo>
                <a:cubicBezTo>
                  <a:pt x="13652" y="14728"/>
                  <a:pt x="13681" y="14855"/>
                  <a:pt x="13692" y="14957"/>
                </a:cubicBezTo>
                <a:cubicBezTo>
                  <a:pt x="13697" y="15008"/>
                  <a:pt x="13690" y="15014"/>
                  <a:pt x="13717" y="15056"/>
                </a:cubicBezTo>
                <a:cubicBezTo>
                  <a:pt x="13744" y="15098"/>
                  <a:pt x="13731" y="15104"/>
                  <a:pt x="13791" y="15106"/>
                </a:cubicBezTo>
                <a:cubicBezTo>
                  <a:pt x="13835" y="15107"/>
                  <a:pt x="13876" y="15095"/>
                  <a:pt x="13915" y="15081"/>
                </a:cubicBezTo>
                <a:cubicBezTo>
                  <a:pt x="13949" y="15068"/>
                  <a:pt x="13960" y="15053"/>
                  <a:pt x="13990" y="15032"/>
                </a:cubicBezTo>
                <a:cubicBezTo>
                  <a:pt x="14018" y="15013"/>
                  <a:pt x="14026" y="14992"/>
                  <a:pt x="14039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340000" y="2349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10000">
                <a:solidFill>
                  <a:srgbClr val="f8f8f8"/>
                </a:solidFill>
                <a:latin typeface="Comic Sans MS"/>
              </a:rPr>
              <a:t>*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1000 = 120 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580000" y="29718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10000">
                <a:solidFill>
                  <a:srgbClr val="f8f8f8"/>
                </a:solidFill>
                <a:latin typeface="Comic Sans MS"/>
              </a:rPr>
              <a:t>*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1000 = 240 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5877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6 см</a:t>
            </a: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 baseline="10000">
                <a:solidFill>
                  <a:srgbClr val="f8f8f8"/>
                </a:solidFill>
                <a:latin typeface="Comic Sans MS"/>
              </a:rPr>
              <a:t>*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1000 = 60 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4000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6 с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71640" y="765000"/>
            <a:ext cx="68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Бабушка пригласила Таню погостить к себе в деревню. «А далеко ли от города находится деревня?» - спросила Таня. Бабушка ответила: «Если ехать на поезде, средняя скорость которого 100 км/ч, то понадобится 2 часа.». Таня взяла карту и оказалось, что расстояние до бабушкиной деревни по карте равно 5 см. Каков был масштаб карты?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1905120" cy="181008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1042920" y="4437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При решении задачи принимаем, что путь следования поезда – пряма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6920" y="620640"/>
            <a:ext cx="1258920" cy="2324160"/>
          </a:xfrm>
          <a:custGeom>
            <a:avLst/>
            <a:gdLst/>
            <a:ahLst/>
            <a:rect l="l" t="t" r="r" b="b"/>
            <a:pathLst>
              <a:path w="793" h="1464">
                <a:moveTo>
                  <a:pt x="128" y="0"/>
                </a:moveTo>
                <a:cubicBezTo>
                  <a:pt x="169" y="16"/>
                  <a:pt x="290" y="66"/>
                  <a:pt x="377" y="106"/>
                </a:cubicBezTo>
                <a:cubicBezTo>
                  <a:pt x="464" y="146"/>
                  <a:pt x="612" y="205"/>
                  <a:pt x="650" y="243"/>
                </a:cubicBezTo>
                <a:cubicBezTo>
                  <a:pt x="688" y="281"/>
                  <a:pt x="589" y="288"/>
                  <a:pt x="604" y="333"/>
                </a:cubicBezTo>
                <a:cubicBezTo>
                  <a:pt x="619" y="378"/>
                  <a:pt x="710" y="455"/>
                  <a:pt x="740" y="515"/>
                </a:cubicBezTo>
                <a:cubicBezTo>
                  <a:pt x="770" y="575"/>
                  <a:pt x="793" y="651"/>
                  <a:pt x="786" y="696"/>
                </a:cubicBezTo>
                <a:cubicBezTo>
                  <a:pt x="779" y="741"/>
                  <a:pt x="719" y="750"/>
                  <a:pt x="695" y="787"/>
                </a:cubicBezTo>
                <a:cubicBezTo>
                  <a:pt x="671" y="824"/>
                  <a:pt x="670" y="882"/>
                  <a:pt x="640" y="920"/>
                </a:cubicBezTo>
                <a:cubicBezTo>
                  <a:pt x="610" y="958"/>
                  <a:pt x="538" y="963"/>
                  <a:pt x="514" y="1014"/>
                </a:cubicBezTo>
                <a:cubicBezTo>
                  <a:pt x="490" y="1065"/>
                  <a:pt x="513" y="1167"/>
                  <a:pt x="495" y="1225"/>
                </a:cubicBezTo>
                <a:cubicBezTo>
                  <a:pt x="477" y="1283"/>
                  <a:pt x="464" y="1339"/>
                  <a:pt x="407" y="1361"/>
                </a:cubicBezTo>
                <a:cubicBezTo>
                  <a:pt x="350" y="1383"/>
                  <a:pt x="213" y="1355"/>
                  <a:pt x="152" y="1360"/>
                </a:cubicBezTo>
                <a:cubicBezTo>
                  <a:pt x="91" y="1365"/>
                  <a:pt x="65" y="1375"/>
                  <a:pt x="40" y="1392"/>
                </a:cubicBezTo>
                <a:cubicBezTo>
                  <a:pt x="15" y="1409"/>
                  <a:pt x="8" y="1449"/>
                  <a:pt x="0" y="1464"/>
                </a:cubicBezTo>
              </a:path>
            </a:pathLst>
          </a:custGeom>
          <a:noFill/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2205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Город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24360" y="1052640"/>
            <a:ext cx="2617920" cy="1763640"/>
          </a:xfrm>
          <a:custGeom>
            <a:avLst/>
            <a:gdLst/>
            <a:ahLst/>
            <a:rect l="l" t="t" r="r" b="b"/>
            <a:pathLst>
              <a:path w="1649" h="1111">
                <a:moveTo>
                  <a:pt x="38" y="385"/>
                </a:moveTo>
                <a:cubicBezTo>
                  <a:pt x="45" y="317"/>
                  <a:pt x="61" y="128"/>
                  <a:pt x="129" y="68"/>
                </a:cubicBezTo>
                <a:cubicBezTo>
                  <a:pt x="197" y="8"/>
                  <a:pt x="349" y="30"/>
                  <a:pt x="447" y="23"/>
                </a:cubicBezTo>
                <a:cubicBezTo>
                  <a:pt x="545" y="16"/>
                  <a:pt x="644" y="0"/>
                  <a:pt x="719" y="23"/>
                </a:cubicBezTo>
                <a:cubicBezTo>
                  <a:pt x="794" y="46"/>
                  <a:pt x="825" y="144"/>
                  <a:pt x="900" y="159"/>
                </a:cubicBezTo>
                <a:cubicBezTo>
                  <a:pt x="975" y="174"/>
                  <a:pt x="1074" y="121"/>
                  <a:pt x="1172" y="113"/>
                </a:cubicBezTo>
                <a:cubicBezTo>
                  <a:pt x="1270" y="105"/>
                  <a:pt x="1415" y="60"/>
                  <a:pt x="1490" y="113"/>
                </a:cubicBezTo>
                <a:cubicBezTo>
                  <a:pt x="1565" y="166"/>
                  <a:pt x="1603" y="325"/>
                  <a:pt x="1626" y="431"/>
                </a:cubicBezTo>
                <a:cubicBezTo>
                  <a:pt x="1649" y="537"/>
                  <a:pt x="1633" y="642"/>
                  <a:pt x="1626" y="748"/>
                </a:cubicBezTo>
                <a:cubicBezTo>
                  <a:pt x="1619" y="854"/>
                  <a:pt x="1641" y="1021"/>
                  <a:pt x="1581" y="1066"/>
                </a:cubicBezTo>
                <a:cubicBezTo>
                  <a:pt x="1521" y="1111"/>
                  <a:pt x="1361" y="1028"/>
                  <a:pt x="1263" y="1020"/>
                </a:cubicBezTo>
                <a:cubicBezTo>
                  <a:pt x="1165" y="1012"/>
                  <a:pt x="1059" y="1012"/>
                  <a:pt x="991" y="1020"/>
                </a:cubicBezTo>
                <a:cubicBezTo>
                  <a:pt x="923" y="1028"/>
                  <a:pt x="923" y="1074"/>
                  <a:pt x="855" y="1066"/>
                </a:cubicBezTo>
                <a:cubicBezTo>
                  <a:pt x="787" y="1058"/>
                  <a:pt x="674" y="998"/>
                  <a:pt x="583" y="975"/>
                </a:cubicBezTo>
                <a:cubicBezTo>
                  <a:pt x="492" y="952"/>
                  <a:pt x="402" y="960"/>
                  <a:pt x="311" y="930"/>
                </a:cubicBezTo>
                <a:cubicBezTo>
                  <a:pt x="220" y="900"/>
                  <a:pt x="76" y="847"/>
                  <a:pt x="38" y="794"/>
                </a:cubicBezTo>
                <a:cubicBezTo>
                  <a:pt x="0" y="741"/>
                  <a:pt x="76" y="665"/>
                  <a:pt x="84" y="612"/>
                </a:cubicBezTo>
                <a:cubicBezTo>
                  <a:pt x="92" y="559"/>
                  <a:pt x="92" y="514"/>
                  <a:pt x="84" y="476"/>
                </a:cubicBezTo>
                <a:cubicBezTo>
                  <a:pt x="76" y="438"/>
                  <a:pt x="31" y="453"/>
                  <a:pt x="38" y="385"/>
                </a:cubicBezTo>
                <a:close/>
              </a:path>
            </a:pathLst>
          </a:custGeom>
          <a:noFill/>
          <a:ln w="2844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56360" y="2205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Деревн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59280" y="119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5 с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743200" cy="19051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2409120" y="2060640"/>
            <a:ext cx="28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omic Sans MS"/>
              </a:rPr>
              <a:t>100 км/ч</a:t>
            </a:r>
            <a:r>
              <a:rPr b="0" lang="en-US" sz="20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9933"/>
                </a:solidFill>
                <a:latin typeface="Comic Sans MS"/>
              </a:rPr>
              <a:t> 2 часа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34920" y="285264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1)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100 </a:t>
            </a:r>
            <a:r>
              <a:rPr b="1" lang="en-US" sz="2400" spc="-1" strike="noStrike" baseline="16000">
                <a:solidFill>
                  <a:srgbClr val="f8f8f8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2  =  200 км  (расстояние до бабушкиной деревни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116000" y="58770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Ответ:  масштаб карты  1: 4 000 000. 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771640" y="2060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20 0000 000 с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755640" y="4797360"/>
            <a:ext cx="6918480" cy="871560"/>
            <a:chOff x="755640" y="4797360"/>
            <a:chExt cx="6918480" cy="871560"/>
          </a:xfrm>
        </p:grpSpPr>
        <p:sp>
          <p:nvSpPr>
            <p:cNvPr id="606" name=""/>
            <p:cNvSpPr/>
            <p:nvPr/>
          </p:nvSpPr>
          <p:spPr>
            <a:xfrm>
              <a:off x="755640" y="501336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Comic Sans MS"/>
                </a:rPr>
                <a:t>3) Сократим дробь: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3780000" y="4797360"/>
                  <a:ext cx="389412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8" name=""/>
          <p:cNvSpPr/>
          <p:nvPr/>
        </p:nvSpPr>
        <p:spPr>
          <a:xfrm>
            <a:off x="826920" y="429264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2) Составим отношение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879800" y="4005360"/>
                <a:ext cx="2006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1117800" y="36450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200 км = 20 000 000 см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68360" y="907920"/>
            <a:ext cx="1224000" cy="1225800"/>
            <a:chOff x="468360" y="907920"/>
            <a:chExt cx="1224000" cy="1225800"/>
          </a:xfrm>
        </p:grpSpPr>
        <p:grpSp>
          <p:nvGrpSpPr>
            <p:cNvPr id="612" name=""/>
            <p:cNvGrpSpPr/>
            <p:nvPr/>
          </p:nvGrpSpPr>
          <p:grpSpPr>
            <a:xfrm>
              <a:off x="468360" y="907920"/>
              <a:ext cx="1224000" cy="1225800"/>
              <a:chOff x="468360" y="907920"/>
              <a:chExt cx="1224000" cy="1225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468360" y="907920"/>
                <a:ext cx="1224000" cy="1225800"/>
                <a:chOff x="468360" y="907920"/>
                <a:chExt cx="1224000" cy="12258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468360" y="907920"/>
                  <a:ext cx="1224000" cy="1225800"/>
                  <a:chOff x="468360" y="907920"/>
                  <a:chExt cx="1224000" cy="1225800"/>
                </a:xfrm>
              </p:grpSpPr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9255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16" name=""/>
                  <p:cNvSpPr/>
                  <p:nvPr/>
                </p:nvSpPr>
                <p:spPr>
                  <a:xfrm>
                    <a:off x="468360" y="2060640"/>
                    <a:ext cx="1224000" cy="73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 rot="5400000">
                  <a:off x="1080000" y="1593000"/>
                  <a:ext cx="863640" cy="71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rot="5400000">
                  <a:off x="214920" y="1593000"/>
                  <a:ext cx="863640" cy="71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539640" y="907920"/>
                <a:ext cx="144720" cy="217440"/>
              </a:xfrm>
              <a:custGeom>
                <a:avLst/>
                <a:gdLst/>
                <a:ahLst/>
                <a:rect l="l" t="t" r="r" b="b"/>
                <a:pathLst>
                  <a:path w="91" h="137">
                    <a:moveTo>
                      <a:pt x="45" y="137"/>
                    </a:moveTo>
                    <a:lnTo>
                      <a:pt x="91" y="0"/>
                    </a:lnTo>
                    <a:lnTo>
                      <a:pt x="0" y="0"/>
                    </a:lnTo>
                    <a:lnTo>
                      <a:pt x="45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476360" y="907920"/>
                <a:ext cx="144360" cy="217440"/>
              </a:xfrm>
              <a:custGeom>
                <a:avLst/>
                <a:gdLst/>
                <a:ahLst/>
                <a:rect l="l" t="t" r="r" b="b"/>
                <a:pathLst>
                  <a:path w="91" h="137">
                    <a:moveTo>
                      <a:pt x="45" y="137"/>
                    </a:moveTo>
                    <a:lnTo>
                      <a:pt x="91" y="0"/>
                    </a:lnTo>
                    <a:lnTo>
                      <a:pt x="0" y="0"/>
                    </a:lnTo>
                    <a:lnTo>
                      <a:pt x="45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971640" y="907920"/>
              <a:ext cx="21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050920" y="1628640"/>
            <a:ext cx="3745080" cy="287640"/>
          </a:xfrm>
          <a:prstGeom prst="line">
            <a:avLst/>
          </a:prstGeom>
          <a:ln w="7632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51640" y="1755000"/>
            <a:ext cx="866880" cy="46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6948360" y="765000"/>
            <a:ext cx="1204920" cy="12877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4"/>
          <a:stretch/>
        </p:blipFill>
        <p:spPr>
          <a:xfrm>
            <a:off x="1979640" y="1197000"/>
            <a:ext cx="72072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2124000" y="2131920"/>
            <a:ext cx="1216080" cy="2881440"/>
            <a:chOff x="2124000" y="2131920"/>
            <a:chExt cx="1216080" cy="2881440"/>
          </a:xfrm>
        </p:grpSpPr>
        <p:grpSp>
          <p:nvGrpSpPr>
            <p:cNvPr id="627" name=""/>
            <p:cNvGrpSpPr/>
            <p:nvPr/>
          </p:nvGrpSpPr>
          <p:grpSpPr>
            <a:xfrm>
              <a:off x="2184480" y="2131920"/>
              <a:ext cx="1155600" cy="2881440"/>
              <a:chOff x="2184480" y="2131920"/>
              <a:chExt cx="1155600" cy="2881440"/>
            </a:xfrm>
          </p:grpSpPr>
          <p:sp>
            <p:nvSpPr>
              <p:cNvPr id="628" name=""/>
              <p:cNvSpPr/>
              <p:nvPr/>
            </p:nvSpPr>
            <p:spPr>
              <a:xfrm>
                <a:off x="2971800" y="2317680"/>
                <a:ext cx="368280" cy="959040"/>
              </a:xfrm>
              <a:custGeom>
                <a:avLst/>
                <a:gdLst/>
                <a:ahLst/>
                <a:rect l="l" t="t" r="r" b="b"/>
                <a:pathLst>
                  <a:path w="232" h="604">
                    <a:moveTo>
                      <a:pt x="232" y="276"/>
                    </a:moveTo>
                    <a:lnTo>
                      <a:pt x="210" y="402"/>
                    </a:lnTo>
                    <a:lnTo>
                      <a:pt x="160" y="492"/>
                    </a:lnTo>
                    <a:lnTo>
                      <a:pt x="40" y="604"/>
                    </a:lnTo>
                    <a:lnTo>
                      <a:pt x="0" y="532"/>
                    </a:lnTo>
                    <a:lnTo>
                      <a:pt x="64" y="364"/>
                    </a:lnTo>
                    <a:lnTo>
                      <a:pt x="56" y="196"/>
                    </a:lnTo>
                    <a:lnTo>
                      <a:pt x="48" y="186"/>
                    </a:lnTo>
                    <a:lnTo>
                      <a:pt x="64" y="28"/>
                    </a:lnTo>
                    <a:cubicBezTo>
                      <a:pt x="83" y="0"/>
                      <a:pt x="137" y="11"/>
                      <a:pt x="160" y="20"/>
                    </a:cubicBezTo>
                    <a:cubicBezTo>
                      <a:pt x="183" y="29"/>
                      <a:pt x="188" y="41"/>
                      <a:pt x="200" y="84"/>
                    </a:cubicBezTo>
                    <a:cubicBezTo>
                      <a:pt x="212" y="127"/>
                      <a:pt x="225" y="236"/>
                      <a:pt x="232" y="276"/>
                    </a:cubicBezTo>
                    <a:close/>
                  </a:path>
                </a:pathLst>
              </a:custGeom>
              <a:solidFill>
                <a:srgbClr val="ffdddd"/>
              </a:solidFill>
              <a:ln w="93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328840" y="3786120"/>
                <a:ext cx="766800" cy="1227240"/>
              </a:xfrm>
              <a:custGeom>
                <a:avLst/>
                <a:gdLst/>
                <a:ahLst/>
                <a:rect l="l" t="t" r="r" b="b"/>
                <a:pathLst>
                  <a:path w="483" h="773">
                    <a:moveTo>
                      <a:pt x="0" y="47"/>
                    </a:moveTo>
                    <a:lnTo>
                      <a:pt x="15" y="222"/>
                    </a:lnTo>
                    <a:lnTo>
                      <a:pt x="15" y="330"/>
                    </a:lnTo>
                    <a:lnTo>
                      <a:pt x="21" y="450"/>
                    </a:lnTo>
                    <a:lnTo>
                      <a:pt x="46" y="682"/>
                    </a:lnTo>
                    <a:lnTo>
                      <a:pt x="46" y="773"/>
                    </a:lnTo>
                    <a:lnTo>
                      <a:pt x="136" y="773"/>
                    </a:lnTo>
                    <a:lnTo>
                      <a:pt x="182" y="773"/>
                    </a:lnTo>
                    <a:lnTo>
                      <a:pt x="227" y="92"/>
                    </a:lnTo>
                    <a:lnTo>
                      <a:pt x="227" y="773"/>
                    </a:lnTo>
                    <a:lnTo>
                      <a:pt x="363" y="773"/>
                    </a:lnTo>
                    <a:lnTo>
                      <a:pt x="363" y="636"/>
                    </a:lnTo>
                    <a:lnTo>
                      <a:pt x="408" y="455"/>
                    </a:lnTo>
                    <a:lnTo>
                      <a:pt x="429" y="270"/>
                    </a:lnTo>
                    <a:lnTo>
                      <a:pt x="454" y="138"/>
                    </a:lnTo>
                    <a:lnTo>
                      <a:pt x="483" y="0"/>
                    </a:lnTo>
                  </a:path>
                </a:pathLst>
              </a:custGeom>
              <a:solidFill>
                <a:srgbClr val="ffdddd"/>
              </a:solidFill>
              <a:ln w="93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184480" y="2131920"/>
                <a:ext cx="1092240" cy="1728720"/>
              </a:xfrm>
              <a:custGeom>
                <a:avLst/>
                <a:gdLst/>
                <a:ahLst/>
                <a:rect l="l" t="t" r="r" b="b"/>
                <a:pathLst>
                  <a:path w="688" h="1089">
                    <a:moveTo>
                      <a:pt x="270" y="0"/>
                    </a:moveTo>
                    <a:lnTo>
                      <a:pt x="237" y="65"/>
                    </a:lnTo>
                    <a:cubicBezTo>
                      <a:pt x="208" y="80"/>
                      <a:pt x="129" y="79"/>
                      <a:pt x="90" y="91"/>
                    </a:cubicBezTo>
                    <a:cubicBezTo>
                      <a:pt x="52" y="106"/>
                      <a:pt x="0" y="113"/>
                      <a:pt x="0" y="136"/>
                    </a:cubicBezTo>
                    <a:cubicBezTo>
                      <a:pt x="0" y="159"/>
                      <a:pt x="74" y="185"/>
                      <a:pt x="90" y="227"/>
                    </a:cubicBezTo>
                    <a:lnTo>
                      <a:pt x="93" y="388"/>
                    </a:lnTo>
                    <a:lnTo>
                      <a:pt x="90" y="544"/>
                    </a:lnTo>
                    <a:lnTo>
                      <a:pt x="90" y="635"/>
                    </a:lnTo>
                    <a:lnTo>
                      <a:pt x="69" y="718"/>
                    </a:lnTo>
                    <a:lnTo>
                      <a:pt x="69" y="838"/>
                    </a:lnTo>
                    <a:lnTo>
                      <a:pt x="81" y="970"/>
                    </a:lnTo>
                    <a:lnTo>
                      <a:pt x="90" y="1089"/>
                    </a:lnTo>
                    <a:lnTo>
                      <a:pt x="573" y="1060"/>
                    </a:lnTo>
                    <a:lnTo>
                      <a:pt x="591" y="988"/>
                    </a:lnTo>
                    <a:lnTo>
                      <a:pt x="609" y="862"/>
                    </a:lnTo>
                    <a:cubicBezTo>
                      <a:pt x="610" y="825"/>
                      <a:pt x="609" y="796"/>
                      <a:pt x="597" y="766"/>
                    </a:cubicBezTo>
                    <a:cubicBezTo>
                      <a:pt x="585" y="736"/>
                      <a:pt x="556" y="710"/>
                      <a:pt x="539" y="681"/>
                    </a:cubicBezTo>
                    <a:lnTo>
                      <a:pt x="493" y="590"/>
                    </a:lnTo>
                    <a:lnTo>
                      <a:pt x="493" y="544"/>
                    </a:lnTo>
                    <a:lnTo>
                      <a:pt x="514" y="454"/>
                    </a:lnTo>
                    <a:lnTo>
                      <a:pt x="539" y="363"/>
                    </a:lnTo>
                    <a:lnTo>
                      <a:pt x="688" y="321"/>
                    </a:lnTo>
                    <a:lnTo>
                      <a:pt x="648" y="217"/>
                    </a:lnTo>
                    <a:lnTo>
                      <a:pt x="664" y="153"/>
                    </a:lnTo>
                    <a:lnTo>
                      <a:pt x="459" y="73"/>
                    </a:lnTo>
                    <a:lnTo>
                      <a:pt x="449" y="0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ffdddd"/>
              </a:solidFill>
              <a:ln w="9360">
                <a:solidFill>
                  <a:srgbClr val="ff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124000" y="2347920"/>
              <a:ext cx="295200" cy="1009800"/>
            </a:xfrm>
            <a:custGeom>
              <a:avLst/>
              <a:gdLst/>
              <a:ahLst/>
              <a:rect l="l" t="t" r="r" b="b"/>
              <a:pathLst>
                <a:path w="186" h="636">
                  <a:moveTo>
                    <a:pt x="36" y="0"/>
                  </a:moveTo>
                  <a:lnTo>
                    <a:pt x="0" y="246"/>
                  </a:lnTo>
                  <a:lnTo>
                    <a:pt x="24" y="402"/>
                  </a:lnTo>
                  <a:lnTo>
                    <a:pt x="78" y="552"/>
                  </a:lnTo>
                  <a:lnTo>
                    <a:pt x="120" y="636"/>
                  </a:lnTo>
                  <a:lnTo>
                    <a:pt x="125" y="510"/>
                  </a:lnTo>
                  <a:lnTo>
                    <a:pt x="143" y="516"/>
                  </a:lnTo>
                  <a:lnTo>
                    <a:pt x="126" y="324"/>
                  </a:lnTo>
                  <a:lnTo>
                    <a:pt x="126" y="234"/>
                  </a:lnTo>
                  <a:lnTo>
                    <a:pt x="156" y="150"/>
                  </a:lnTo>
                  <a:lnTo>
                    <a:pt x="186" y="78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798560" y="4762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Comic Sans MS"/>
              </a:rPr>
              <a:t>Одень Таню!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487600" y="1484280"/>
            <a:ext cx="636480" cy="647640"/>
          </a:xfrm>
          <a:custGeom>
            <a:avLst/>
            <a:gdLst/>
            <a:ahLst/>
            <a:rect l="l" t="t" r="r" b="b"/>
            <a:pathLst>
              <a:path w="432" h="438">
                <a:moveTo>
                  <a:pt x="134" y="7"/>
                </a:moveTo>
                <a:cubicBezTo>
                  <a:pt x="89" y="14"/>
                  <a:pt x="74" y="52"/>
                  <a:pt x="53" y="97"/>
                </a:cubicBezTo>
                <a:cubicBezTo>
                  <a:pt x="32" y="142"/>
                  <a:pt x="0" y="226"/>
                  <a:pt x="8" y="279"/>
                </a:cubicBezTo>
                <a:cubicBezTo>
                  <a:pt x="12" y="331"/>
                  <a:pt x="36" y="382"/>
                  <a:pt x="78" y="407"/>
                </a:cubicBezTo>
                <a:cubicBezTo>
                  <a:pt x="120" y="432"/>
                  <a:pt x="207" y="438"/>
                  <a:pt x="262" y="431"/>
                </a:cubicBezTo>
                <a:cubicBezTo>
                  <a:pt x="317" y="424"/>
                  <a:pt x="380" y="400"/>
                  <a:pt x="406" y="367"/>
                </a:cubicBezTo>
                <a:cubicBezTo>
                  <a:pt x="432" y="334"/>
                  <a:pt x="422" y="278"/>
                  <a:pt x="416" y="233"/>
                </a:cubicBezTo>
                <a:cubicBezTo>
                  <a:pt x="416" y="233"/>
                  <a:pt x="371" y="97"/>
                  <a:pt x="371" y="97"/>
                </a:cubicBezTo>
                <a:cubicBezTo>
                  <a:pt x="371" y="97"/>
                  <a:pt x="365" y="67"/>
                  <a:pt x="326" y="52"/>
                </a:cubicBezTo>
                <a:cubicBezTo>
                  <a:pt x="287" y="37"/>
                  <a:pt x="179" y="0"/>
                  <a:pt x="134" y="7"/>
                </a:cubicBezTo>
                <a:close/>
              </a:path>
            </a:pathLst>
          </a:custGeom>
          <a:solidFill>
            <a:srgbClr val="ffdddd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319480" y="1268280"/>
            <a:ext cx="993600" cy="852480"/>
          </a:xfrm>
          <a:custGeom>
            <a:avLst/>
            <a:gdLst/>
            <a:ahLst/>
            <a:rect l="l" t="t" r="r" b="b"/>
            <a:pathLst>
              <a:path w="626" h="537">
                <a:moveTo>
                  <a:pt x="116" y="347"/>
                </a:moveTo>
                <a:cubicBezTo>
                  <a:pt x="103" y="370"/>
                  <a:pt x="83" y="420"/>
                  <a:pt x="75" y="425"/>
                </a:cubicBezTo>
                <a:cubicBezTo>
                  <a:pt x="79" y="419"/>
                  <a:pt x="81" y="381"/>
                  <a:pt x="87" y="377"/>
                </a:cubicBezTo>
                <a:cubicBezTo>
                  <a:pt x="97" y="345"/>
                  <a:pt x="82" y="366"/>
                  <a:pt x="99" y="330"/>
                </a:cubicBezTo>
                <a:cubicBezTo>
                  <a:pt x="75" y="314"/>
                  <a:pt x="59" y="324"/>
                  <a:pt x="32" y="330"/>
                </a:cubicBezTo>
                <a:cubicBezTo>
                  <a:pt x="12" y="328"/>
                  <a:pt x="18" y="370"/>
                  <a:pt x="0" y="359"/>
                </a:cubicBezTo>
                <a:cubicBezTo>
                  <a:pt x="7" y="353"/>
                  <a:pt x="57" y="304"/>
                  <a:pt x="77" y="291"/>
                </a:cubicBezTo>
                <a:cubicBezTo>
                  <a:pt x="92" y="287"/>
                  <a:pt x="122" y="280"/>
                  <a:pt x="122" y="280"/>
                </a:cubicBezTo>
                <a:cubicBezTo>
                  <a:pt x="108" y="238"/>
                  <a:pt x="128" y="288"/>
                  <a:pt x="99" y="252"/>
                </a:cubicBezTo>
                <a:cubicBezTo>
                  <a:pt x="96" y="247"/>
                  <a:pt x="97" y="240"/>
                  <a:pt x="94" y="235"/>
                </a:cubicBezTo>
                <a:cubicBezTo>
                  <a:pt x="85" y="231"/>
                  <a:pt x="42" y="235"/>
                  <a:pt x="45" y="227"/>
                </a:cubicBezTo>
                <a:cubicBezTo>
                  <a:pt x="48" y="217"/>
                  <a:pt x="100" y="185"/>
                  <a:pt x="114" y="176"/>
                </a:cubicBezTo>
                <a:cubicBezTo>
                  <a:pt x="119" y="175"/>
                  <a:pt x="132" y="177"/>
                  <a:pt x="129" y="173"/>
                </a:cubicBezTo>
                <a:cubicBezTo>
                  <a:pt x="111" y="142"/>
                  <a:pt x="94" y="147"/>
                  <a:pt x="66" y="129"/>
                </a:cubicBezTo>
                <a:cubicBezTo>
                  <a:pt x="64" y="123"/>
                  <a:pt x="42" y="154"/>
                  <a:pt x="39" y="149"/>
                </a:cubicBezTo>
                <a:cubicBezTo>
                  <a:pt x="36" y="143"/>
                  <a:pt x="84" y="118"/>
                  <a:pt x="90" y="116"/>
                </a:cubicBezTo>
                <a:cubicBezTo>
                  <a:pt x="102" y="108"/>
                  <a:pt x="93" y="104"/>
                  <a:pt x="111" y="98"/>
                </a:cubicBezTo>
                <a:cubicBezTo>
                  <a:pt x="129" y="92"/>
                  <a:pt x="191" y="82"/>
                  <a:pt x="199" y="78"/>
                </a:cubicBezTo>
                <a:cubicBezTo>
                  <a:pt x="190" y="66"/>
                  <a:pt x="158" y="77"/>
                  <a:pt x="162" y="74"/>
                </a:cubicBezTo>
                <a:cubicBezTo>
                  <a:pt x="168" y="69"/>
                  <a:pt x="224" y="60"/>
                  <a:pt x="227" y="62"/>
                </a:cubicBezTo>
                <a:cubicBezTo>
                  <a:pt x="257" y="75"/>
                  <a:pt x="291" y="85"/>
                  <a:pt x="322" y="95"/>
                </a:cubicBezTo>
                <a:cubicBezTo>
                  <a:pt x="320" y="69"/>
                  <a:pt x="321" y="43"/>
                  <a:pt x="316" y="17"/>
                </a:cubicBezTo>
                <a:cubicBezTo>
                  <a:pt x="315" y="10"/>
                  <a:pt x="299" y="0"/>
                  <a:pt x="305" y="0"/>
                </a:cubicBezTo>
                <a:cubicBezTo>
                  <a:pt x="313" y="0"/>
                  <a:pt x="315" y="12"/>
                  <a:pt x="322" y="17"/>
                </a:cubicBezTo>
                <a:cubicBezTo>
                  <a:pt x="351" y="37"/>
                  <a:pt x="389" y="67"/>
                  <a:pt x="422" y="78"/>
                </a:cubicBezTo>
                <a:cubicBezTo>
                  <a:pt x="439" y="95"/>
                  <a:pt x="456" y="90"/>
                  <a:pt x="468" y="110"/>
                </a:cubicBezTo>
                <a:cubicBezTo>
                  <a:pt x="470" y="123"/>
                  <a:pt x="476" y="129"/>
                  <a:pt x="483" y="140"/>
                </a:cubicBezTo>
                <a:cubicBezTo>
                  <a:pt x="487" y="144"/>
                  <a:pt x="472" y="165"/>
                  <a:pt x="478" y="162"/>
                </a:cubicBezTo>
                <a:cubicBezTo>
                  <a:pt x="487" y="158"/>
                  <a:pt x="495" y="150"/>
                  <a:pt x="506" y="145"/>
                </a:cubicBezTo>
                <a:cubicBezTo>
                  <a:pt x="521" y="139"/>
                  <a:pt x="556" y="129"/>
                  <a:pt x="556" y="129"/>
                </a:cubicBezTo>
                <a:cubicBezTo>
                  <a:pt x="558" y="121"/>
                  <a:pt x="564" y="99"/>
                  <a:pt x="561" y="106"/>
                </a:cubicBezTo>
                <a:cubicBezTo>
                  <a:pt x="559" y="112"/>
                  <a:pt x="556" y="123"/>
                  <a:pt x="556" y="123"/>
                </a:cubicBezTo>
                <a:cubicBezTo>
                  <a:pt x="554" y="138"/>
                  <a:pt x="554" y="153"/>
                  <a:pt x="550" y="168"/>
                </a:cubicBezTo>
                <a:cubicBezTo>
                  <a:pt x="548" y="174"/>
                  <a:pt x="541" y="178"/>
                  <a:pt x="539" y="185"/>
                </a:cubicBezTo>
                <a:cubicBezTo>
                  <a:pt x="544" y="194"/>
                  <a:pt x="570" y="204"/>
                  <a:pt x="582" y="224"/>
                </a:cubicBezTo>
                <a:cubicBezTo>
                  <a:pt x="594" y="244"/>
                  <a:pt x="612" y="296"/>
                  <a:pt x="612" y="305"/>
                </a:cubicBezTo>
                <a:cubicBezTo>
                  <a:pt x="626" y="309"/>
                  <a:pt x="614" y="260"/>
                  <a:pt x="582" y="281"/>
                </a:cubicBezTo>
                <a:cubicBezTo>
                  <a:pt x="561" y="290"/>
                  <a:pt x="610" y="309"/>
                  <a:pt x="603" y="311"/>
                </a:cubicBezTo>
                <a:cubicBezTo>
                  <a:pt x="623" y="343"/>
                  <a:pt x="592" y="303"/>
                  <a:pt x="582" y="335"/>
                </a:cubicBezTo>
                <a:cubicBezTo>
                  <a:pt x="587" y="343"/>
                  <a:pt x="578" y="384"/>
                  <a:pt x="584" y="392"/>
                </a:cubicBezTo>
                <a:cubicBezTo>
                  <a:pt x="587" y="397"/>
                  <a:pt x="605" y="434"/>
                  <a:pt x="603" y="440"/>
                </a:cubicBezTo>
                <a:cubicBezTo>
                  <a:pt x="601" y="446"/>
                  <a:pt x="562" y="423"/>
                  <a:pt x="556" y="425"/>
                </a:cubicBezTo>
                <a:cubicBezTo>
                  <a:pt x="543" y="465"/>
                  <a:pt x="556" y="418"/>
                  <a:pt x="556" y="498"/>
                </a:cubicBezTo>
                <a:cubicBezTo>
                  <a:pt x="556" y="512"/>
                  <a:pt x="548" y="524"/>
                  <a:pt x="545" y="537"/>
                </a:cubicBezTo>
                <a:cubicBezTo>
                  <a:pt x="538" y="518"/>
                  <a:pt x="529" y="505"/>
                  <a:pt x="522" y="487"/>
                </a:cubicBezTo>
                <a:cubicBezTo>
                  <a:pt x="474" y="503"/>
                  <a:pt x="499" y="501"/>
                  <a:pt x="461" y="526"/>
                </a:cubicBezTo>
                <a:cubicBezTo>
                  <a:pt x="451" y="494"/>
                  <a:pt x="464" y="518"/>
                  <a:pt x="422" y="498"/>
                </a:cubicBezTo>
                <a:cubicBezTo>
                  <a:pt x="345" y="460"/>
                  <a:pt x="418" y="486"/>
                  <a:pt x="372" y="470"/>
                </a:cubicBezTo>
                <a:cubicBezTo>
                  <a:pt x="393" y="438"/>
                  <a:pt x="415" y="446"/>
                  <a:pt x="455" y="442"/>
                </a:cubicBezTo>
                <a:cubicBezTo>
                  <a:pt x="472" y="437"/>
                  <a:pt x="545" y="439"/>
                  <a:pt x="489" y="425"/>
                </a:cubicBezTo>
                <a:cubicBezTo>
                  <a:pt x="477" y="390"/>
                  <a:pt x="425" y="394"/>
                  <a:pt x="394" y="392"/>
                </a:cubicBezTo>
                <a:cubicBezTo>
                  <a:pt x="402" y="370"/>
                  <a:pt x="416" y="354"/>
                  <a:pt x="428" y="336"/>
                </a:cubicBezTo>
                <a:cubicBezTo>
                  <a:pt x="404" y="324"/>
                  <a:pt x="373" y="309"/>
                  <a:pt x="360" y="287"/>
                </a:cubicBezTo>
                <a:cubicBezTo>
                  <a:pt x="352" y="235"/>
                  <a:pt x="386" y="284"/>
                  <a:pt x="357" y="239"/>
                </a:cubicBezTo>
                <a:cubicBezTo>
                  <a:pt x="347" y="224"/>
                  <a:pt x="339" y="190"/>
                  <a:pt x="333" y="173"/>
                </a:cubicBezTo>
                <a:cubicBezTo>
                  <a:pt x="325" y="205"/>
                  <a:pt x="322" y="244"/>
                  <a:pt x="294" y="263"/>
                </a:cubicBezTo>
                <a:cubicBezTo>
                  <a:pt x="261" y="241"/>
                  <a:pt x="264" y="248"/>
                  <a:pt x="234" y="287"/>
                </a:cubicBezTo>
                <a:cubicBezTo>
                  <a:pt x="221" y="248"/>
                  <a:pt x="255" y="220"/>
                  <a:pt x="227" y="229"/>
                </a:cubicBezTo>
                <a:cubicBezTo>
                  <a:pt x="223" y="222"/>
                  <a:pt x="216" y="222"/>
                  <a:pt x="201" y="242"/>
                </a:cubicBezTo>
                <a:cubicBezTo>
                  <a:pt x="195" y="251"/>
                  <a:pt x="188" y="252"/>
                  <a:pt x="188" y="252"/>
                </a:cubicBezTo>
                <a:cubicBezTo>
                  <a:pt x="175" y="186"/>
                  <a:pt x="181" y="258"/>
                  <a:pt x="172" y="274"/>
                </a:cubicBezTo>
                <a:cubicBezTo>
                  <a:pt x="168" y="280"/>
                  <a:pt x="160" y="282"/>
                  <a:pt x="155" y="285"/>
                </a:cubicBezTo>
                <a:cubicBezTo>
                  <a:pt x="151" y="291"/>
                  <a:pt x="116" y="374"/>
                  <a:pt x="116" y="347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1692600">
            <a:off x="2765520" y="1812960"/>
            <a:ext cx="65160" cy="68400"/>
          </a:xfrm>
          <a:prstGeom prst="ellipse">
            <a:avLst/>
          </a:prstGeom>
          <a:solidFill>
            <a:srgbClr val="0099cc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257560" y="3139920"/>
            <a:ext cx="898560" cy="505080"/>
          </a:xfrm>
          <a:custGeom>
            <a:avLst/>
            <a:gdLst/>
            <a:ahLst/>
            <a:rect l="l" t="t" r="r" b="b"/>
            <a:pathLst>
              <a:path w="566" h="318">
                <a:moveTo>
                  <a:pt x="66" y="11"/>
                </a:moveTo>
                <a:lnTo>
                  <a:pt x="181" y="46"/>
                </a:lnTo>
                <a:lnTo>
                  <a:pt x="317" y="46"/>
                </a:lnTo>
                <a:lnTo>
                  <a:pt x="453" y="0"/>
                </a:lnTo>
                <a:lnTo>
                  <a:pt x="499" y="46"/>
                </a:lnTo>
                <a:cubicBezTo>
                  <a:pt x="514" y="67"/>
                  <a:pt x="535" y="87"/>
                  <a:pt x="546" y="125"/>
                </a:cubicBezTo>
                <a:cubicBezTo>
                  <a:pt x="557" y="163"/>
                  <a:pt x="566" y="252"/>
                  <a:pt x="564" y="275"/>
                </a:cubicBezTo>
                <a:lnTo>
                  <a:pt x="534" y="263"/>
                </a:lnTo>
                <a:lnTo>
                  <a:pt x="420" y="251"/>
                </a:lnTo>
                <a:lnTo>
                  <a:pt x="317" y="272"/>
                </a:lnTo>
                <a:lnTo>
                  <a:pt x="272" y="318"/>
                </a:lnTo>
                <a:lnTo>
                  <a:pt x="227" y="272"/>
                </a:lnTo>
                <a:lnTo>
                  <a:pt x="156" y="251"/>
                </a:lnTo>
                <a:lnTo>
                  <a:pt x="84" y="239"/>
                </a:lnTo>
                <a:lnTo>
                  <a:pt x="12" y="227"/>
                </a:lnTo>
                <a:lnTo>
                  <a:pt x="0" y="182"/>
                </a:lnTo>
                <a:lnTo>
                  <a:pt x="45" y="46"/>
                </a:lnTo>
                <a:lnTo>
                  <a:pt x="66" y="11"/>
                </a:lnTo>
                <a:close/>
              </a:path>
            </a:pathLst>
          </a:custGeom>
          <a:solidFill>
            <a:srgbClr val="51f200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1692600">
            <a:off x="2561760" y="1762200"/>
            <a:ext cx="65160" cy="680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508720" y="4221000"/>
            <a:ext cx="1628640" cy="943200"/>
          </a:xfrm>
          <a:custGeom>
            <a:avLst/>
            <a:gdLst/>
            <a:ahLst/>
            <a:rect l="l" t="t" r="r" b="b"/>
            <a:pathLst>
              <a:path w="1026" h="594">
                <a:moveTo>
                  <a:pt x="396" y="0"/>
                </a:moveTo>
                <a:lnTo>
                  <a:pt x="234" y="150"/>
                </a:lnTo>
                <a:lnTo>
                  <a:pt x="126" y="288"/>
                </a:lnTo>
                <a:lnTo>
                  <a:pt x="48" y="426"/>
                </a:lnTo>
                <a:lnTo>
                  <a:pt x="0" y="516"/>
                </a:lnTo>
                <a:lnTo>
                  <a:pt x="54" y="552"/>
                </a:lnTo>
                <a:lnTo>
                  <a:pt x="296" y="593"/>
                </a:lnTo>
                <a:lnTo>
                  <a:pt x="342" y="547"/>
                </a:lnTo>
                <a:lnTo>
                  <a:pt x="523" y="593"/>
                </a:lnTo>
                <a:lnTo>
                  <a:pt x="732" y="594"/>
                </a:lnTo>
                <a:lnTo>
                  <a:pt x="834" y="564"/>
                </a:lnTo>
                <a:lnTo>
                  <a:pt x="906" y="552"/>
                </a:lnTo>
                <a:lnTo>
                  <a:pt x="978" y="516"/>
                </a:lnTo>
                <a:lnTo>
                  <a:pt x="1026" y="492"/>
                </a:lnTo>
                <a:lnTo>
                  <a:pt x="1014" y="408"/>
                </a:lnTo>
                <a:lnTo>
                  <a:pt x="924" y="258"/>
                </a:lnTo>
                <a:lnTo>
                  <a:pt x="798" y="114"/>
                </a:lnTo>
                <a:lnTo>
                  <a:pt x="750" y="24"/>
                </a:lnTo>
                <a:lnTo>
                  <a:pt x="720" y="6"/>
                </a:lnTo>
                <a:lnTo>
                  <a:pt x="396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40464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600280" y="1967040"/>
            <a:ext cx="133560" cy="56880"/>
          </a:xfrm>
          <a:custGeom>
            <a:avLst/>
            <a:gdLst/>
            <a:ahLst/>
            <a:rect l="l" t="t" r="r" b="b"/>
            <a:pathLst>
              <a:path w="84" h="36">
                <a:moveTo>
                  <a:pt x="0" y="0"/>
                </a:moveTo>
                <a:cubicBezTo>
                  <a:pt x="4" y="5"/>
                  <a:pt x="10" y="34"/>
                  <a:pt x="23" y="35"/>
                </a:cubicBezTo>
                <a:cubicBezTo>
                  <a:pt x="36" y="36"/>
                  <a:pt x="72" y="6"/>
                  <a:pt x="78" y="6"/>
                </a:cubicBezTo>
                <a:cubicBezTo>
                  <a:pt x="84" y="6"/>
                  <a:pt x="64" y="30"/>
                  <a:pt x="60" y="36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62280" y="1793880"/>
            <a:ext cx="23760" cy="84240"/>
          </a:xfrm>
          <a:custGeom>
            <a:avLst/>
            <a:gdLst/>
            <a:ahLst/>
            <a:rect l="l" t="t" r="r" b="b"/>
            <a:pathLst>
              <a:path w="15" h="53">
                <a:moveTo>
                  <a:pt x="15" y="31"/>
                </a:moveTo>
                <a:cubicBezTo>
                  <a:pt x="8" y="53"/>
                  <a:pt x="10" y="27"/>
                  <a:pt x="12" y="22"/>
                </a:cubicBezTo>
                <a:cubicBezTo>
                  <a:pt x="5" y="0"/>
                  <a:pt x="12" y="20"/>
                  <a:pt x="12" y="43"/>
                </a:cubicBezTo>
                <a:cubicBezTo>
                  <a:pt x="12" y="46"/>
                  <a:pt x="10" y="37"/>
                  <a:pt x="9" y="34"/>
                </a:cubicBezTo>
                <a:cubicBezTo>
                  <a:pt x="0" y="48"/>
                  <a:pt x="0" y="46"/>
                  <a:pt x="15" y="31"/>
                </a:cubicBez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14680" y="185724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0" y="0"/>
                </a:moveTo>
                <a:cubicBezTo>
                  <a:pt x="5" y="1"/>
                  <a:pt x="28" y="2"/>
                  <a:pt x="33" y="6"/>
                </a:cubicBezTo>
                <a:cubicBezTo>
                  <a:pt x="38" y="10"/>
                  <a:pt x="33" y="23"/>
                  <a:pt x="33" y="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54200" y="1736640"/>
            <a:ext cx="23760" cy="84240"/>
          </a:xfrm>
          <a:custGeom>
            <a:avLst/>
            <a:gdLst/>
            <a:ahLst/>
            <a:rect l="l" t="t" r="r" b="b"/>
            <a:pathLst>
              <a:path w="15" h="53">
                <a:moveTo>
                  <a:pt x="15" y="31"/>
                </a:moveTo>
                <a:cubicBezTo>
                  <a:pt x="8" y="53"/>
                  <a:pt x="10" y="27"/>
                  <a:pt x="12" y="22"/>
                </a:cubicBezTo>
                <a:cubicBezTo>
                  <a:pt x="5" y="0"/>
                  <a:pt x="12" y="20"/>
                  <a:pt x="12" y="43"/>
                </a:cubicBezTo>
                <a:cubicBezTo>
                  <a:pt x="12" y="46"/>
                  <a:pt x="10" y="37"/>
                  <a:pt x="9" y="34"/>
                </a:cubicBezTo>
                <a:cubicBezTo>
                  <a:pt x="0" y="48"/>
                  <a:pt x="0" y="46"/>
                  <a:pt x="15" y="31"/>
                </a:cubicBez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195640" y="3068640"/>
            <a:ext cx="966600" cy="2257560"/>
          </a:xfrm>
          <a:custGeom>
            <a:avLst/>
            <a:gdLst/>
            <a:ahLst/>
            <a:rect l="l" t="t" r="r" b="b"/>
            <a:pathLst>
              <a:path w="609" h="1376">
                <a:moveTo>
                  <a:pt x="91" y="51"/>
                </a:moveTo>
                <a:lnTo>
                  <a:pt x="217" y="48"/>
                </a:lnTo>
                <a:lnTo>
                  <a:pt x="417" y="32"/>
                </a:lnTo>
                <a:lnTo>
                  <a:pt x="489" y="0"/>
                </a:lnTo>
                <a:lnTo>
                  <a:pt x="590" y="141"/>
                </a:lnTo>
                <a:lnTo>
                  <a:pt x="609" y="272"/>
                </a:lnTo>
                <a:lnTo>
                  <a:pt x="590" y="413"/>
                </a:lnTo>
                <a:lnTo>
                  <a:pt x="544" y="731"/>
                </a:lnTo>
                <a:lnTo>
                  <a:pt x="544" y="958"/>
                </a:lnTo>
                <a:lnTo>
                  <a:pt x="590" y="1275"/>
                </a:lnTo>
                <a:lnTo>
                  <a:pt x="590" y="1366"/>
                </a:lnTo>
                <a:lnTo>
                  <a:pt x="318" y="1366"/>
                </a:lnTo>
                <a:lnTo>
                  <a:pt x="318" y="368"/>
                </a:lnTo>
                <a:lnTo>
                  <a:pt x="257" y="1376"/>
                </a:lnTo>
                <a:lnTo>
                  <a:pt x="0" y="1366"/>
                </a:lnTo>
                <a:lnTo>
                  <a:pt x="73" y="736"/>
                </a:lnTo>
                <a:lnTo>
                  <a:pt x="46" y="459"/>
                </a:lnTo>
                <a:lnTo>
                  <a:pt x="46" y="277"/>
                </a:lnTo>
                <a:lnTo>
                  <a:pt x="46" y="187"/>
                </a:lnTo>
                <a:lnTo>
                  <a:pt x="91" y="5"/>
                </a:lnTo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55640" y="4797360"/>
            <a:ext cx="4537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Comic Sans MS"/>
              </a:rPr>
              <a:t>Измерь на выкройке, чему равны отрезки </a:t>
            </a:r>
            <a:r>
              <a:rPr b="0" lang="en-US" sz="1800" spc="-1" strike="noStrike">
                <a:solidFill>
                  <a:srgbClr val="f8f8f8"/>
                </a:solidFill>
                <a:latin typeface="Comic Sans MS"/>
              </a:rPr>
              <a:t>a, b, c</a:t>
            </a:r>
            <a:r>
              <a:rPr b="0" lang="ru-RU" sz="1800" spc="-1" strike="noStrike">
                <a:solidFill>
                  <a:srgbClr val="f8f8f8"/>
                </a:solidFill>
                <a:latin typeface="Comic Sans MS"/>
              </a:rPr>
              <a:t>, и затем используй масштаб, чтобы найти размеры одежды в сантиметрах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6224760" y="2466360"/>
            <a:ext cx="1306440" cy="964080"/>
            <a:chOff x="6224760" y="2466360"/>
            <a:chExt cx="1306440" cy="964080"/>
          </a:xfrm>
        </p:grpSpPr>
        <p:sp>
          <p:nvSpPr>
            <p:cNvPr id="647" name=""/>
            <p:cNvSpPr/>
            <p:nvPr/>
          </p:nvSpPr>
          <p:spPr>
            <a:xfrm>
              <a:off x="6224760" y="2503440"/>
              <a:ext cx="1306440" cy="927000"/>
            </a:xfrm>
            <a:custGeom>
              <a:avLst/>
              <a:gdLst/>
              <a:ahLst/>
              <a:rect l="l" t="t" r="r" b="b"/>
              <a:pathLst>
                <a:path w="823" h="584">
                  <a:moveTo>
                    <a:pt x="292" y="0"/>
                  </a:moveTo>
                  <a:lnTo>
                    <a:pt x="385" y="38"/>
                  </a:lnTo>
                  <a:lnTo>
                    <a:pt x="476" y="32"/>
                  </a:lnTo>
                  <a:lnTo>
                    <a:pt x="566" y="25"/>
                  </a:lnTo>
                  <a:lnTo>
                    <a:pt x="727" y="71"/>
                  </a:lnTo>
                  <a:lnTo>
                    <a:pt x="823" y="135"/>
                  </a:lnTo>
                  <a:lnTo>
                    <a:pt x="815" y="207"/>
                  </a:lnTo>
                  <a:lnTo>
                    <a:pt x="809" y="241"/>
                  </a:lnTo>
                  <a:lnTo>
                    <a:pt x="759" y="301"/>
                  </a:lnTo>
                  <a:lnTo>
                    <a:pt x="737" y="318"/>
                  </a:lnTo>
                  <a:lnTo>
                    <a:pt x="679" y="336"/>
                  </a:lnTo>
                  <a:lnTo>
                    <a:pt x="634" y="339"/>
                  </a:lnTo>
                  <a:lnTo>
                    <a:pt x="615" y="390"/>
                  </a:lnTo>
                  <a:lnTo>
                    <a:pt x="562" y="484"/>
                  </a:lnTo>
                  <a:lnTo>
                    <a:pt x="559" y="571"/>
                  </a:lnTo>
                  <a:lnTo>
                    <a:pt x="514" y="575"/>
                  </a:lnTo>
                  <a:lnTo>
                    <a:pt x="378" y="584"/>
                  </a:lnTo>
                  <a:lnTo>
                    <a:pt x="285" y="546"/>
                  </a:lnTo>
                  <a:lnTo>
                    <a:pt x="221" y="554"/>
                  </a:lnTo>
                  <a:lnTo>
                    <a:pt x="201" y="570"/>
                  </a:lnTo>
                  <a:lnTo>
                    <a:pt x="185" y="417"/>
                  </a:lnTo>
                  <a:lnTo>
                    <a:pt x="133" y="329"/>
                  </a:lnTo>
                  <a:lnTo>
                    <a:pt x="85" y="287"/>
                  </a:lnTo>
                  <a:lnTo>
                    <a:pt x="39" y="291"/>
                  </a:lnTo>
                  <a:lnTo>
                    <a:pt x="0" y="274"/>
                  </a:lnTo>
                  <a:lnTo>
                    <a:pt x="15" y="192"/>
                  </a:lnTo>
                  <a:lnTo>
                    <a:pt x="64" y="80"/>
                  </a:lnTo>
                  <a:lnTo>
                    <a:pt x="159" y="54"/>
                  </a:lnTo>
                  <a:lnTo>
                    <a:pt x="292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1355200">
              <a:off x="6481800" y="2491920"/>
              <a:ext cx="738000" cy="343080"/>
            </a:xfrm>
            <a:custGeom>
              <a:avLst/>
              <a:gdLst/>
              <a:ahLst/>
              <a:rect l="l" t="t" r="r" b="b"/>
              <a:pathLst>
                <a:path w="465" h="216">
                  <a:moveTo>
                    <a:pt x="132" y="0"/>
                  </a:moveTo>
                  <a:lnTo>
                    <a:pt x="45" y="18"/>
                  </a:lnTo>
                  <a:lnTo>
                    <a:pt x="0" y="126"/>
                  </a:lnTo>
                  <a:lnTo>
                    <a:pt x="36" y="186"/>
                  </a:lnTo>
                  <a:lnTo>
                    <a:pt x="90" y="216"/>
                  </a:lnTo>
                  <a:cubicBezTo>
                    <a:pt x="90" y="216"/>
                    <a:pt x="132" y="210"/>
                    <a:pt x="150" y="192"/>
                  </a:cubicBezTo>
                  <a:cubicBezTo>
                    <a:pt x="168" y="174"/>
                    <a:pt x="182" y="132"/>
                    <a:pt x="198" y="108"/>
                  </a:cubicBezTo>
                  <a:cubicBezTo>
                    <a:pt x="214" y="84"/>
                    <a:pt x="231" y="45"/>
                    <a:pt x="246" y="48"/>
                  </a:cubicBezTo>
                  <a:lnTo>
                    <a:pt x="285" y="126"/>
                  </a:lnTo>
                  <a:cubicBezTo>
                    <a:pt x="296" y="145"/>
                    <a:pt x="297" y="151"/>
                    <a:pt x="312" y="162"/>
                  </a:cubicBezTo>
                  <a:cubicBezTo>
                    <a:pt x="323" y="174"/>
                    <a:pt x="353" y="189"/>
                    <a:pt x="375" y="192"/>
                  </a:cubicBezTo>
                  <a:lnTo>
                    <a:pt x="447" y="180"/>
                  </a:lnTo>
                  <a:lnTo>
                    <a:pt x="465" y="162"/>
                  </a:lnTo>
                  <a:lnTo>
                    <a:pt x="465" y="117"/>
                  </a:lnTo>
                  <a:lnTo>
                    <a:pt x="462" y="66"/>
                  </a:lnTo>
                  <a:lnTo>
                    <a:pt x="420" y="26"/>
                  </a:lnTo>
                  <a:lnTo>
                    <a:pt x="291" y="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99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88000" y="2060640"/>
            <a:ext cx="1312920" cy="1584360"/>
            <a:chOff x="4788000" y="2060640"/>
            <a:chExt cx="1312920" cy="1584360"/>
          </a:xfrm>
        </p:grpSpPr>
        <p:sp>
          <p:nvSpPr>
            <p:cNvPr id="650" name=""/>
            <p:cNvSpPr/>
            <p:nvPr/>
          </p:nvSpPr>
          <p:spPr>
            <a:xfrm>
              <a:off x="4788000" y="2060640"/>
              <a:ext cx="1312920" cy="1584360"/>
            </a:xfrm>
            <a:custGeom>
              <a:avLst/>
              <a:gdLst/>
              <a:ahLst/>
              <a:rect l="l" t="t" r="r" b="b"/>
              <a:pathLst>
                <a:path w="827" h="998">
                  <a:moveTo>
                    <a:pt x="273" y="0"/>
                  </a:moveTo>
                  <a:lnTo>
                    <a:pt x="227" y="46"/>
                  </a:lnTo>
                  <a:lnTo>
                    <a:pt x="254" y="172"/>
                  </a:lnTo>
                  <a:lnTo>
                    <a:pt x="308" y="214"/>
                  </a:lnTo>
                  <a:lnTo>
                    <a:pt x="363" y="227"/>
                  </a:lnTo>
                  <a:lnTo>
                    <a:pt x="454" y="227"/>
                  </a:lnTo>
                  <a:lnTo>
                    <a:pt x="499" y="227"/>
                  </a:lnTo>
                  <a:lnTo>
                    <a:pt x="590" y="227"/>
                  </a:lnTo>
                  <a:lnTo>
                    <a:pt x="681" y="227"/>
                  </a:lnTo>
                  <a:lnTo>
                    <a:pt x="726" y="182"/>
                  </a:lnTo>
                  <a:lnTo>
                    <a:pt x="726" y="136"/>
                  </a:lnTo>
                  <a:lnTo>
                    <a:pt x="726" y="91"/>
                  </a:lnTo>
                  <a:lnTo>
                    <a:pt x="755" y="48"/>
                  </a:lnTo>
                  <a:lnTo>
                    <a:pt x="827" y="78"/>
                  </a:lnTo>
                  <a:lnTo>
                    <a:pt x="817" y="136"/>
                  </a:lnTo>
                  <a:lnTo>
                    <a:pt x="771" y="182"/>
                  </a:lnTo>
                  <a:lnTo>
                    <a:pt x="726" y="272"/>
                  </a:lnTo>
                  <a:lnTo>
                    <a:pt x="681" y="408"/>
                  </a:lnTo>
                  <a:lnTo>
                    <a:pt x="635" y="544"/>
                  </a:lnTo>
                  <a:lnTo>
                    <a:pt x="734" y="754"/>
                  </a:lnTo>
                  <a:lnTo>
                    <a:pt x="817" y="862"/>
                  </a:lnTo>
                  <a:lnTo>
                    <a:pt x="771" y="907"/>
                  </a:lnTo>
                  <a:lnTo>
                    <a:pt x="454" y="998"/>
                  </a:lnTo>
                  <a:lnTo>
                    <a:pt x="136" y="953"/>
                  </a:lnTo>
                  <a:lnTo>
                    <a:pt x="0" y="907"/>
                  </a:lnTo>
                  <a:lnTo>
                    <a:pt x="46" y="771"/>
                  </a:lnTo>
                  <a:lnTo>
                    <a:pt x="182" y="590"/>
                  </a:lnTo>
                  <a:lnTo>
                    <a:pt x="273" y="499"/>
                  </a:lnTo>
                  <a:lnTo>
                    <a:pt x="273" y="363"/>
                  </a:lnTo>
                  <a:lnTo>
                    <a:pt x="218" y="220"/>
                  </a:lnTo>
                  <a:lnTo>
                    <a:pt x="182" y="136"/>
                  </a:lnTo>
                  <a:lnTo>
                    <a:pt x="146" y="58"/>
                  </a:lnTo>
                  <a:lnTo>
                    <a:pt x="182" y="0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db2b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6000" y="3282840"/>
              <a:ext cx="142920" cy="144360"/>
            </a:xfrm>
            <a:prstGeom prst="star5">
              <a:avLst/>
            </a:prstGeom>
            <a:solidFill>
              <a:srgbClr val="51f2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75280" y="3211560"/>
              <a:ext cx="142920" cy="144360"/>
            </a:xfrm>
            <a:prstGeom prst="star5">
              <a:avLst/>
            </a:prstGeom>
            <a:solidFill>
              <a:srgbClr val="51f2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C -5.55556E-007 7.40741E-007 0.27153 0.01574 0.54323 0.03148 E">
                                      <p:cBhvr>
                                        <p:cTn id="349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C -0.05156 0.00371 -0.24479 0.01829 -0.3092 0.02292 E">
                                      <p:cBhvr>
                                        <p:cTn id="354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0.00093 C -0.0158 -0.02477 -0.23507 -0.12037 -0.30955 -0.15093 C -0.38402 -0.18148 -0.38836 -0.17546 -0.40416 -0.18241 E">
                                      <p:cBhvr>
                                        <p:cTn id="359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C -0.07552 -0.00764 -0.35902 -0.0368 -0.45347 -0.04652 E">
                                      <p:cBhvr>
                                        <p:cTn id="364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084720" y="1268280"/>
            <a:ext cx="954360" cy="1486080"/>
          </a:xfrm>
          <a:custGeom>
            <a:avLst/>
            <a:gdLst/>
            <a:ahLst/>
            <a:rect l="l" t="t" r="r" b="b"/>
            <a:pathLst>
              <a:path w="1502" h="2340">
                <a:moveTo>
                  <a:pt x="0" y="180"/>
                </a:moveTo>
                <a:lnTo>
                  <a:pt x="360" y="180"/>
                </a:lnTo>
                <a:lnTo>
                  <a:pt x="720" y="0"/>
                </a:lnTo>
                <a:lnTo>
                  <a:pt x="1260" y="180"/>
                </a:lnTo>
                <a:lnTo>
                  <a:pt x="1143" y="546"/>
                </a:lnTo>
                <a:cubicBezTo>
                  <a:pt x="1129" y="657"/>
                  <a:pt x="1121" y="754"/>
                  <a:pt x="1173" y="846"/>
                </a:cubicBezTo>
                <a:cubicBezTo>
                  <a:pt x="1225" y="938"/>
                  <a:pt x="1414" y="1032"/>
                  <a:pt x="1458" y="1101"/>
                </a:cubicBezTo>
                <a:cubicBezTo>
                  <a:pt x="1502" y="1170"/>
                  <a:pt x="1473" y="1054"/>
                  <a:pt x="1440" y="1260"/>
                </a:cubicBezTo>
                <a:lnTo>
                  <a:pt x="1260" y="2340"/>
                </a:lnTo>
                <a:lnTo>
                  <a:pt x="0" y="2340"/>
                </a:lnTo>
                <a:lnTo>
                  <a:pt x="0" y="18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59280" y="549360"/>
            <a:ext cx="1149480" cy="1149120"/>
          </a:xfrm>
          <a:custGeom>
            <a:avLst/>
            <a:gdLst/>
            <a:ahLst/>
            <a:rect l="l" t="t" r="r" b="b"/>
            <a:pathLst>
              <a:path w="1809" h="1811">
                <a:moveTo>
                  <a:pt x="180" y="1811"/>
                </a:moveTo>
                <a:lnTo>
                  <a:pt x="0" y="731"/>
                </a:lnTo>
                <a:lnTo>
                  <a:pt x="369" y="482"/>
                </a:lnTo>
                <a:cubicBezTo>
                  <a:pt x="459" y="392"/>
                  <a:pt x="451" y="270"/>
                  <a:pt x="540" y="191"/>
                </a:cubicBezTo>
                <a:cubicBezTo>
                  <a:pt x="630" y="101"/>
                  <a:pt x="781" y="11"/>
                  <a:pt x="901" y="11"/>
                </a:cubicBezTo>
                <a:cubicBezTo>
                  <a:pt x="1020" y="0"/>
                  <a:pt x="1164" y="62"/>
                  <a:pt x="1254" y="122"/>
                </a:cubicBezTo>
                <a:cubicBezTo>
                  <a:pt x="1344" y="182"/>
                  <a:pt x="1381" y="311"/>
                  <a:pt x="1441" y="371"/>
                </a:cubicBezTo>
                <a:lnTo>
                  <a:pt x="1621" y="551"/>
                </a:lnTo>
                <a:lnTo>
                  <a:pt x="1809" y="602"/>
                </a:lnTo>
                <a:lnTo>
                  <a:pt x="1621" y="1811"/>
                </a:lnTo>
                <a:lnTo>
                  <a:pt x="180" y="181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71640" y="189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дник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796000" y="189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лузка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755640" y="692280"/>
            <a:ext cx="1295280" cy="2089080"/>
            <a:chOff x="755640" y="692280"/>
            <a:chExt cx="1295280" cy="2089080"/>
          </a:xfrm>
        </p:grpSpPr>
        <p:sp>
          <p:nvSpPr>
            <p:cNvPr id="658" name=""/>
            <p:cNvSpPr/>
            <p:nvPr/>
          </p:nvSpPr>
          <p:spPr>
            <a:xfrm>
              <a:off x="755640" y="692280"/>
              <a:ext cx="1257480" cy="1714320"/>
            </a:xfrm>
            <a:custGeom>
              <a:avLst/>
              <a:gdLst/>
              <a:ahLst/>
              <a:rect l="l" t="t" r="r" b="b"/>
              <a:pathLst>
                <a:path w="1980" h="2700">
                  <a:moveTo>
                    <a:pt x="0" y="180"/>
                  </a:moveTo>
                  <a:lnTo>
                    <a:pt x="360" y="0"/>
                  </a:lnTo>
                  <a:lnTo>
                    <a:pt x="720" y="1440"/>
                  </a:lnTo>
                  <a:lnTo>
                    <a:pt x="900" y="1440"/>
                  </a:lnTo>
                  <a:lnTo>
                    <a:pt x="1260" y="0"/>
                  </a:lnTo>
                  <a:lnTo>
                    <a:pt x="1620" y="180"/>
                  </a:lnTo>
                  <a:lnTo>
                    <a:pt x="1260" y="1440"/>
                  </a:lnTo>
                  <a:lnTo>
                    <a:pt x="1620" y="1440"/>
                  </a:lnTo>
                  <a:lnTo>
                    <a:pt x="1980" y="2700"/>
                  </a:lnTo>
                  <a:lnTo>
                    <a:pt x="0" y="2700"/>
                  </a:lnTo>
                  <a:lnTo>
                    <a:pt x="180" y="1440"/>
                  </a:lnTo>
                  <a:lnTo>
                    <a:pt x="360" y="144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5640" y="2421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50920" y="2421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5640" y="2637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020000" y="692280"/>
            <a:ext cx="1297080" cy="1512720"/>
            <a:chOff x="7020000" y="692280"/>
            <a:chExt cx="1297080" cy="1512720"/>
          </a:xfrm>
        </p:grpSpPr>
        <p:sp>
          <p:nvSpPr>
            <p:cNvPr id="663" name=""/>
            <p:cNvSpPr/>
            <p:nvPr/>
          </p:nvSpPr>
          <p:spPr>
            <a:xfrm>
              <a:off x="7020000" y="692280"/>
              <a:ext cx="822240" cy="1498320"/>
            </a:xfrm>
            <a:custGeom>
              <a:avLst/>
              <a:gdLst/>
              <a:ahLst/>
              <a:rect l="l" t="t" r="r" b="b"/>
              <a:pathLst>
                <a:path w="1293" h="2361">
                  <a:moveTo>
                    <a:pt x="1293" y="186"/>
                  </a:moveTo>
                  <a:lnTo>
                    <a:pt x="1096" y="180"/>
                  </a:lnTo>
                  <a:lnTo>
                    <a:pt x="736" y="0"/>
                  </a:lnTo>
                  <a:lnTo>
                    <a:pt x="196" y="180"/>
                  </a:lnTo>
                  <a:lnTo>
                    <a:pt x="376" y="540"/>
                  </a:lnTo>
                  <a:cubicBezTo>
                    <a:pt x="402" y="661"/>
                    <a:pt x="399" y="812"/>
                    <a:pt x="352" y="906"/>
                  </a:cubicBezTo>
                  <a:cubicBezTo>
                    <a:pt x="305" y="1000"/>
                    <a:pt x="153" y="1042"/>
                    <a:pt x="97" y="1101"/>
                  </a:cubicBezTo>
                  <a:cubicBezTo>
                    <a:pt x="41" y="1160"/>
                    <a:pt x="0" y="1054"/>
                    <a:pt x="16" y="1260"/>
                  </a:cubicBezTo>
                  <a:lnTo>
                    <a:pt x="196" y="2340"/>
                  </a:lnTo>
                  <a:lnTo>
                    <a:pt x="1263" y="2361"/>
                  </a:lnTo>
                  <a:lnTo>
                    <a:pt x="1293" y="186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85080" y="765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885080" y="2205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101080" y="7650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3132000" y="2781360"/>
            <a:ext cx="11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885080" y="76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050920" y="692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24000" y="24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340000" y="692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8472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7708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84720" y="2997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40000" y="119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244000" y="1268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116000" y="263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227640" y="3062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258920" y="1593720"/>
            <a:ext cx="0" cy="827280"/>
          </a:xfrm>
          <a:prstGeom prst="line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58920" y="17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435640" y="549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508720" y="98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596360" y="278136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76720" y="630864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96360" y="623736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419640" y="189000"/>
            <a:ext cx="122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Comic Sans MS"/>
              </a:rPr>
              <a:t>1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29480" y="189000"/>
            <a:ext cx="15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Comic Sans MS"/>
              </a:rPr>
              <a:t>3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667640" y="3573360"/>
            <a:ext cx="12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Comic Sans MS"/>
              </a:rPr>
              <a:t>4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19640" y="3573360"/>
            <a:ext cx="122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Comic Sans MS"/>
              </a:rPr>
              <a:t>2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39640" y="3573360"/>
            <a:ext cx="2735280" cy="2898720"/>
            <a:chOff x="539640" y="3573360"/>
            <a:chExt cx="2735280" cy="2898720"/>
          </a:xfrm>
        </p:grpSpPr>
        <p:sp>
          <p:nvSpPr>
            <p:cNvPr id="693" name=""/>
            <p:cNvSpPr/>
            <p:nvPr/>
          </p:nvSpPr>
          <p:spPr>
            <a:xfrm>
              <a:off x="2698560" y="35892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42920" y="6453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539640" y="3573360"/>
              <a:ext cx="2374920" cy="2898720"/>
              <a:chOff x="539640" y="3573360"/>
              <a:chExt cx="2374920" cy="2898720"/>
            </a:xfrm>
          </p:grpSpPr>
          <p:sp>
            <p:nvSpPr>
              <p:cNvPr id="696" name=""/>
              <p:cNvSpPr/>
              <p:nvPr/>
            </p:nvSpPr>
            <p:spPr>
              <a:xfrm>
                <a:off x="539640" y="3573360"/>
                <a:ext cx="1106280" cy="2898720"/>
              </a:xfrm>
              <a:custGeom>
                <a:avLst/>
                <a:gdLst/>
                <a:ahLst/>
                <a:rect l="l" t="t" r="r" b="b"/>
                <a:pathLst>
                  <a:path w="697" h="1826">
                    <a:moveTo>
                      <a:pt x="157" y="0"/>
                    </a:moveTo>
                    <a:lnTo>
                      <a:pt x="593" y="0"/>
                    </a:lnTo>
                    <a:cubicBezTo>
                      <a:pt x="593" y="40"/>
                      <a:pt x="572" y="232"/>
                      <a:pt x="577" y="296"/>
                    </a:cubicBezTo>
                    <a:cubicBezTo>
                      <a:pt x="582" y="360"/>
                      <a:pt x="605" y="365"/>
                      <a:pt x="625" y="384"/>
                    </a:cubicBezTo>
                    <a:lnTo>
                      <a:pt x="697" y="408"/>
                    </a:lnTo>
                    <a:cubicBezTo>
                      <a:pt x="682" y="476"/>
                      <a:pt x="625" y="547"/>
                      <a:pt x="585" y="624"/>
                    </a:cubicBezTo>
                    <a:cubicBezTo>
                      <a:pt x="556" y="700"/>
                      <a:pt x="533" y="784"/>
                      <a:pt x="521" y="864"/>
                    </a:cubicBezTo>
                    <a:cubicBezTo>
                      <a:pt x="512" y="924"/>
                      <a:pt x="513" y="945"/>
                      <a:pt x="513" y="1104"/>
                    </a:cubicBezTo>
                    <a:lnTo>
                      <a:pt x="523" y="1818"/>
                    </a:lnTo>
                    <a:lnTo>
                      <a:pt x="0" y="1826"/>
                    </a:lnTo>
                    <a:lnTo>
                      <a:pt x="90" y="602"/>
                    </a:lnTo>
                    <a:lnTo>
                      <a:pt x="127" y="252"/>
                    </a:lnTo>
                    <a:cubicBezTo>
                      <a:pt x="127" y="252"/>
                      <a:pt x="157" y="0"/>
                      <a:pt x="157" y="0"/>
                    </a:cubicBezTo>
                    <a:close/>
                  </a:path>
                </a:pathLst>
              </a:custGeom>
              <a:solidFill>
                <a:srgbClr val="51f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14560" y="3573360"/>
                <a:ext cx="0" cy="28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1690560" y="3573360"/>
                <a:ext cx="1008000" cy="2898720"/>
              </a:xfrm>
              <a:custGeom>
                <a:avLst/>
                <a:gdLst/>
                <a:ahLst/>
                <a:rect l="l" t="t" r="r" b="b"/>
                <a:pathLst>
                  <a:path w="697" h="1826">
                    <a:moveTo>
                      <a:pt x="157" y="0"/>
                    </a:moveTo>
                    <a:lnTo>
                      <a:pt x="593" y="0"/>
                    </a:lnTo>
                    <a:cubicBezTo>
                      <a:pt x="593" y="40"/>
                      <a:pt x="572" y="232"/>
                      <a:pt x="577" y="296"/>
                    </a:cubicBezTo>
                    <a:cubicBezTo>
                      <a:pt x="582" y="360"/>
                      <a:pt x="605" y="365"/>
                      <a:pt x="625" y="384"/>
                    </a:cubicBezTo>
                    <a:lnTo>
                      <a:pt x="697" y="408"/>
                    </a:lnTo>
                    <a:cubicBezTo>
                      <a:pt x="682" y="476"/>
                      <a:pt x="625" y="547"/>
                      <a:pt x="585" y="624"/>
                    </a:cubicBezTo>
                    <a:cubicBezTo>
                      <a:pt x="556" y="700"/>
                      <a:pt x="533" y="784"/>
                      <a:pt x="521" y="864"/>
                    </a:cubicBezTo>
                    <a:cubicBezTo>
                      <a:pt x="512" y="924"/>
                      <a:pt x="513" y="945"/>
                      <a:pt x="513" y="1104"/>
                    </a:cubicBezTo>
                    <a:lnTo>
                      <a:pt x="523" y="1818"/>
                    </a:lnTo>
                    <a:lnTo>
                      <a:pt x="0" y="1826"/>
                    </a:lnTo>
                    <a:lnTo>
                      <a:pt x="90" y="602"/>
                    </a:lnTo>
                    <a:lnTo>
                      <a:pt x="127" y="252"/>
                    </a:lnTo>
                    <a:cubicBezTo>
                      <a:pt x="127" y="252"/>
                      <a:pt x="157" y="0"/>
                      <a:pt x="157" y="0"/>
                    </a:cubicBezTo>
                    <a:close/>
                  </a:path>
                </a:pathLst>
              </a:custGeom>
              <a:solidFill>
                <a:srgbClr val="51f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"/>
          <p:cNvSpPr/>
          <p:nvPr/>
        </p:nvSpPr>
        <p:spPr>
          <a:xfrm>
            <a:off x="1042920" y="35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6836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55280" y="42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916360" y="4653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rot="16200000">
            <a:off x="1099440" y="5389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рюки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539640" y="6497640"/>
            <a:ext cx="827280" cy="360360"/>
            <a:chOff x="539640" y="6497640"/>
            <a:chExt cx="827280" cy="360360"/>
          </a:xfrm>
        </p:grpSpPr>
        <p:sp>
          <p:nvSpPr>
            <p:cNvPr id="705" name=""/>
            <p:cNvSpPr/>
            <p:nvPr/>
          </p:nvSpPr>
          <p:spPr>
            <a:xfrm>
              <a:off x="539640" y="6497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66920" y="6497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9640" y="6669000"/>
              <a:ext cx="8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1403280" y="6491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796000" y="4076280"/>
            <a:ext cx="1728720" cy="1800360"/>
            <a:chOff x="5796000" y="4076280"/>
            <a:chExt cx="1728720" cy="1800360"/>
          </a:xfrm>
        </p:grpSpPr>
        <p:sp>
          <p:nvSpPr>
            <p:cNvPr id="710" name=""/>
            <p:cNvSpPr/>
            <p:nvPr/>
          </p:nvSpPr>
          <p:spPr>
            <a:xfrm rot="10800000">
              <a:off x="5796000" y="4076280"/>
              <a:ext cx="1727280" cy="1368360"/>
            </a:xfrm>
            <a:prstGeom prst="flowChartManualOperation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96000" y="5516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720" y="5516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96000" y="5732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5076720" y="3573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юбка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508720" y="407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03640" y="45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372360" y="580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43640" y="35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29272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292720" y="54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6156360" y="3716280"/>
            <a:ext cx="1007640" cy="360360"/>
            <a:chOff x="6156360" y="3716280"/>
            <a:chExt cx="1007640" cy="360360"/>
          </a:xfrm>
        </p:grpSpPr>
        <p:sp>
          <p:nvSpPr>
            <p:cNvPr id="722" name=""/>
            <p:cNvSpPr/>
            <p:nvPr/>
          </p:nvSpPr>
          <p:spPr>
            <a:xfrm>
              <a:off x="6156360" y="3716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64000" y="3716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56360" y="388764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6084720" y="1268280"/>
            <a:ext cx="954360" cy="1486080"/>
          </a:xfrm>
          <a:custGeom>
            <a:avLst/>
            <a:gdLst/>
            <a:ahLst/>
            <a:rect l="l" t="t" r="r" b="b"/>
            <a:pathLst>
              <a:path w="1502" h="2340">
                <a:moveTo>
                  <a:pt x="0" y="180"/>
                </a:moveTo>
                <a:lnTo>
                  <a:pt x="360" y="180"/>
                </a:lnTo>
                <a:lnTo>
                  <a:pt x="720" y="0"/>
                </a:lnTo>
                <a:lnTo>
                  <a:pt x="1260" y="180"/>
                </a:lnTo>
                <a:lnTo>
                  <a:pt x="1143" y="546"/>
                </a:lnTo>
                <a:cubicBezTo>
                  <a:pt x="1129" y="657"/>
                  <a:pt x="1121" y="754"/>
                  <a:pt x="1173" y="846"/>
                </a:cubicBezTo>
                <a:cubicBezTo>
                  <a:pt x="1225" y="938"/>
                  <a:pt x="1414" y="1032"/>
                  <a:pt x="1458" y="1101"/>
                </a:cubicBezTo>
                <a:cubicBezTo>
                  <a:pt x="1502" y="1170"/>
                  <a:pt x="1473" y="1054"/>
                  <a:pt x="1440" y="1260"/>
                </a:cubicBezTo>
                <a:lnTo>
                  <a:pt x="1260" y="2340"/>
                </a:lnTo>
                <a:lnTo>
                  <a:pt x="0" y="2340"/>
                </a:lnTo>
                <a:lnTo>
                  <a:pt x="0" y="1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59280" y="549360"/>
            <a:ext cx="1149480" cy="1149120"/>
          </a:xfrm>
          <a:custGeom>
            <a:avLst/>
            <a:gdLst/>
            <a:ahLst/>
            <a:rect l="l" t="t" r="r" b="b"/>
            <a:pathLst>
              <a:path w="1809" h="1811">
                <a:moveTo>
                  <a:pt x="180" y="1811"/>
                </a:moveTo>
                <a:lnTo>
                  <a:pt x="0" y="731"/>
                </a:lnTo>
                <a:lnTo>
                  <a:pt x="369" y="482"/>
                </a:lnTo>
                <a:cubicBezTo>
                  <a:pt x="459" y="392"/>
                  <a:pt x="451" y="270"/>
                  <a:pt x="540" y="191"/>
                </a:cubicBezTo>
                <a:cubicBezTo>
                  <a:pt x="630" y="101"/>
                  <a:pt x="781" y="11"/>
                  <a:pt x="901" y="11"/>
                </a:cubicBezTo>
                <a:cubicBezTo>
                  <a:pt x="1020" y="0"/>
                  <a:pt x="1164" y="62"/>
                  <a:pt x="1254" y="122"/>
                </a:cubicBezTo>
                <a:cubicBezTo>
                  <a:pt x="1344" y="182"/>
                  <a:pt x="1381" y="311"/>
                  <a:pt x="1441" y="371"/>
                </a:cubicBezTo>
                <a:lnTo>
                  <a:pt x="1621" y="551"/>
                </a:lnTo>
                <a:lnTo>
                  <a:pt x="1809" y="602"/>
                </a:lnTo>
                <a:lnTo>
                  <a:pt x="1621" y="1811"/>
                </a:lnTo>
                <a:lnTo>
                  <a:pt x="180" y="181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71640" y="189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дник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96000" y="189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лузка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755640" y="692280"/>
            <a:ext cx="1295280" cy="2089080"/>
            <a:chOff x="755640" y="692280"/>
            <a:chExt cx="1295280" cy="2089080"/>
          </a:xfrm>
        </p:grpSpPr>
        <p:sp>
          <p:nvSpPr>
            <p:cNvPr id="730" name=""/>
            <p:cNvSpPr/>
            <p:nvPr/>
          </p:nvSpPr>
          <p:spPr>
            <a:xfrm>
              <a:off x="755640" y="692280"/>
              <a:ext cx="1257480" cy="1714320"/>
            </a:xfrm>
            <a:custGeom>
              <a:avLst/>
              <a:gdLst/>
              <a:ahLst/>
              <a:rect l="l" t="t" r="r" b="b"/>
              <a:pathLst>
                <a:path w="1980" h="2700">
                  <a:moveTo>
                    <a:pt x="0" y="180"/>
                  </a:moveTo>
                  <a:lnTo>
                    <a:pt x="360" y="0"/>
                  </a:lnTo>
                  <a:lnTo>
                    <a:pt x="720" y="1440"/>
                  </a:lnTo>
                  <a:lnTo>
                    <a:pt x="900" y="1440"/>
                  </a:lnTo>
                  <a:lnTo>
                    <a:pt x="1260" y="0"/>
                  </a:lnTo>
                  <a:lnTo>
                    <a:pt x="1620" y="180"/>
                  </a:lnTo>
                  <a:lnTo>
                    <a:pt x="1260" y="1440"/>
                  </a:lnTo>
                  <a:lnTo>
                    <a:pt x="1620" y="1440"/>
                  </a:lnTo>
                  <a:lnTo>
                    <a:pt x="1980" y="2700"/>
                  </a:lnTo>
                  <a:lnTo>
                    <a:pt x="0" y="2700"/>
                  </a:lnTo>
                  <a:lnTo>
                    <a:pt x="180" y="1440"/>
                  </a:lnTo>
                  <a:lnTo>
                    <a:pt x="360" y="144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5640" y="2421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050920" y="2421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55640" y="2637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7020000" y="692280"/>
            <a:ext cx="1297080" cy="1512720"/>
            <a:chOff x="7020000" y="692280"/>
            <a:chExt cx="1297080" cy="1512720"/>
          </a:xfrm>
        </p:grpSpPr>
        <p:sp>
          <p:nvSpPr>
            <p:cNvPr id="735" name=""/>
            <p:cNvSpPr/>
            <p:nvPr/>
          </p:nvSpPr>
          <p:spPr>
            <a:xfrm>
              <a:off x="7020000" y="692280"/>
              <a:ext cx="822240" cy="1498320"/>
            </a:xfrm>
            <a:custGeom>
              <a:avLst/>
              <a:gdLst/>
              <a:ahLst/>
              <a:rect l="l" t="t" r="r" b="b"/>
              <a:pathLst>
                <a:path w="1293" h="2361">
                  <a:moveTo>
                    <a:pt x="1293" y="186"/>
                  </a:moveTo>
                  <a:lnTo>
                    <a:pt x="1096" y="180"/>
                  </a:lnTo>
                  <a:lnTo>
                    <a:pt x="736" y="0"/>
                  </a:lnTo>
                  <a:lnTo>
                    <a:pt x="196" y="180"/>
                  </a:lnTo>
                  <a:lnTo>
                    <a:pt x="376" y="540"/>
                  </a:lnTo>
                  <a:cubicBezTo>
                    <a:pt x="402" y="661"/>
                    <a:pt x="399" y="812"/>
                    <a:pt x="352" y="906"/>
                  </a:cubicBezTo>
                  <a:cubicBezTo>
                    <a:pt x="305" y="1000"/>
                    <a:pt x="153" y="1042"/>
                    <a:pt x="97" y="1101"/>
                  </a:cubicBezTo>
                  <a:cubicBezTo>
                    <a:pt x="41" y="1160"/>
                    <a:pt x="0" y="1054"/>
                    <a:pt x="16" y="1260"/>
                  </a:cubicBezTo>
                  <a:lnTo>
                    <a:pt x="196" y="2340"/>
                  </a:lnTo>
                  <a:lnTo>
                    <a:pt x="1263" y="2361"/>
                  </a:lnTo>
                  <a:lnTo>
                    <a:pt x="1293" y="18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885080" y="765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885080" y="2205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101080" y="7650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3132000" y="2781360"/>
            <a:ext cx="11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5080" y="76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050920" y="692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124000" y="24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0000" y="692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08472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7708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84720" y="2997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340000" y="119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244000" y="1268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116000" y="263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27640" y="3062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258920" y="1593720"/>
            <a:ext cx="0" cy="827280"/>
          </a:xfrm>
          <a:prstGeom prst="line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258920" y="17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435640" y="549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508720" y="98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596360" y="278136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76720" y="630864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596360" y="623736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419640" y="189000"/>
            <a:ext cx="122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1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629480" y="189000"/>
            <a:ext cx="15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3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667640" y="3573360"/>
            <a:ext cx="12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4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419640" y="3573360"/>
            <a:ext cx="122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2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39640" y="3573360"/>
            <a:ext cx="2735280" cy="2898720"/>
            <a:chOff x="539640" y="3573360"/>
            <a:chExt cx="2735280" cy="2898720"/>
          </a:xfrm>
        </p:grpSpPr>
        <p:sp>
          <p:nvSpPr>
            <p:cNvPr id="765" name=""/>
            <p:cNvSpPr/>
            <p:nvPr/>
          </p:nvSpPr>
          <p:spPr>
            <a:xfrm>
              <a:off x="2698560" y="35892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42920" y="6453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539640" y="3573360"/>
              <a:ext cx="2374920" cy="2898720"/>
              <a:chOff x="539640" y="3573360"/>
              <a:chExt cx="2374920" cy="2898720"/>
            </a:xfrm>
          </p:grpSpPr>
          <p:sp>
            <p:nvSpPr>
              <p:cNvPr id="768" name=""/>
              <p:cNvSpPr/>
              <p:nvPr/>
            </p:nvSpPr>
            <p:spPr>
              <a:xfrm>
                <a:off x="539640" y="3573360"/>
                <a:ext cx="1106280" cy="2898720"/>
              </a:xfrm>
              <a:custGeom>
                <a:avLst/>
                <a:gdLst/>
                <a:ahLst/>
                <a:rect l="l" t="t" r="r" b="b"/>
                <a:pathLst>
                  <a:path w="697" h="1826">
                    <a:moveTo>
                      <a:pt x="157" y="0"/>
                    </a:moveTo>
                    <a:lnTo>
                      <a:pt x="593" y="0"/>
                    </a:lnTo>
                    <a:cubicBezTo>
                      <a:pt x="593" y="40"/>
                      <a:pt x="572" y="232"/>
                      <a:pt x="577" y="296"/>
                    </a:cubicBezTo>
                    <a:cubicBezTo>
                      <a:pt x="582" y="360"/>
                      <a:pt x="605" y="365"/>
                      <a:pt x="625" y="384"/>
                    </a:cubicBezTo>
                    <a:lnTo>
                      <a:pt x="697" y="408"/>
                    </a:lnTo>
                    <a:cubicBezTo>
                      <a:pt x="682" y="476"/>
                      <a:pt x="625" y="547"/>
                      <a:pt x="585" y="624"/>
                    </a:cubicBezTo>
                    <a:cubicBezTo>
                      <a:pt x="556" y="700"/>
                      <a:pt x="533" y="784"/>
                      <a:pt x="521" y="864"/>
                    </a:cubicBezTo>
                    <a:cubicBezTo>
                      <a:pt x="512" y="924"/>
                      <a:pt x="513" y="945"/>
                      <a:pt x="513" y="1104"/>
                    </a:cubicBezTo>
                    <a:lnTo>
                      <a:pt x="523" y="1818"/>
                    </a:lnTo>
                    <a:lnTo>
                      <a:pt x="0" y="1826"/>
                    </a:lnTo>
                    <a:lnTo>
                      <a:pt x="90" y="602"/>
                    </a:lnTo>
                    <a:lnTo>
                      <a:pt x="127" y="252"/>
                    </a:lnTo>
                    <a:cubicBezTo>
                      <a:pt x="127" y="252"/>
                      <a:pt x="157" y="0"/>
                      <a:pt x="15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14560" y="3573360"/>
                <a:ext cx="0" cy="28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1690560" y="3573360"/>
                <a:ext cx="1008000" cy="2898720"/>
              </a:xfrm>
              <a:custGeom>
                <a:avLst/>
                <a:gdLst/>
                <a:ahLst/>
                <a:rect l="l" t="t" r="r" b="b"/>
                <a:pathLst>
                  <a:path w="697" h="1826">
                    <a:moveTo>
                      <a:pt x="157" y="0"/>
                    </a:moveTo>
                    <a:lnTo>
                      <a:pt x="593" y="0"/>
                    </a:lnTo>
                    <a:cubicBezTo>
                      <a:pt x="593" y="40"/>
                      <a:pt x="572" y="232"/>
                      <a:pt x="577" y="296"/>
                    </a:cubicBezTo>
                    <a:cubicBezTo>
                      <a:pt x="582" y="360"/>
                      <a:pt x="605" y="365"/>
                      <a:pt x="625" y="384"/>
                    </a:cubicBezTo>
                    <a:lnTo>
                      <a:pt x="697" y="408"/>
                    </a:lnTo>
                    <a:cubicBezTo>
                      <a:pt x="682" y="476"/>
                      <a:pt x="625" y="547"/>
                      <a:pt x="585" y="624"/>
                    </a:cubicBezTo>
                    <a:cubicBezTo>
                      <a:pt x="556" y="700"/>
                      <a:pt x="533" y="784"/>
                      <a:pt x="521" y="864"/>
                    </a:cubicBezTo>
                    <a:cubicBezTo>
                      <a:pt x="512" y="924"/>
                      <a:pt x="513" y="945"/>
                      <a:pt x="513" y="1104"/>
                    </a:cubicBezTo>
                    <a:lnTo>
                      <a:pt x="523" y="1818"/>
                    </a:lnTo>
                    <a:lnTo>
                      <a:pt x="0" y="1826"/>
                    </a:lnTo>
                    <a:lnTo>
                      <a:pt x="90" y="602"/>
                    </a:lnTo>
                    <a:lnTo>
                      <a:pt x="127" y="252"/>
                    </a:lnTo>
                    <a:cubicBezTo>
                      <a:pt x="127" y="252"/>
                      <a:pt x="157" y="0"/>
                      <a:pt x="15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771" name=""/>
          <p:cNvSpPr/>
          <p:nvPr/>
        </p:nvSpPr>
        <p:spPr>
          <a:xfrm>
            <a:off x="1042920" y="35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6836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55280" y="42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360" y="4653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1099440" y="5389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рюки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539640" y="6497640"/>
            <a:ext cx="827280" cy="360360"/>
            <a:chOff x="539640" y="6497640"/>
            <a:chExt cx="827280" cy="360360"/>
          </a:xfrm>
        </p:grpSpPr>
        <p:sp>
          <p:nvSpPr>
            <p:cNvPr id="777" name=""/>
            <p:cNvSpPr/>
            <p:nvPr/>
          </p:nvSpPr>
          <p:spPr>
            <a:xfrm>
              <a:off x="539640" y="6497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66920" y="6497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9640" y="6669000"/>
              <a:ext cx="8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1403280" y="6491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796000" y="4076280"/>
            <a:ext cx="1728720" cy="1800360"/>
            <a:chOff x="5796000" y="4076280"/>
            <a:chExt cx="1728720" cy="1800360"/>
          </a:xfrm>
        </p:grpSpPr>
        <p:sp>
          <p:nvSpPr>
            <p:cNvPr id="782" name=""/>
            <p:cNvSpPr/>
            <p:nvPr/>
          </p:nvSpPr>
          <p:spPr>
            <a:xfrm rot="10800000">
              <a:off x="5796000" y="4076280"/>
              <a:ext cx="1727280" cy="1368360"/>
            </a:xfrm>
            <a:prstGeom prst="flowChartManualOpera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96000" y="5516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524720" y="5516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96000" y="5732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5076720" y="3573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юбка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508720" y="407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03640" y="45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372360" y="580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443640" y="35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292720" y="54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156360" y="3716280"/>
            <a:ext cx="1007640" cy="360360"/>
            <a:chOff x="6156360" y="3716280"/>
            <a:chExt cx="1007640" cy="360360"/>
          </a:xfrm>
        </p:grpSpPr>
        <p:sp>
          <p:nvSpPr>
            <p:cNvPr id="794" name=""/>
            <p:cNvSpPr/>
            <p:nvPr/>
          </p:nvSpPr>
          <p:spPr>
            <a:xfrm>
              <a:off x="6156360" y="3716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64000" y="3716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56360" y="388764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3714840" y="2781360"/>
            <a:ext cx="1857240" cy="312408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2554200" y="5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Домашнее задание 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692360" y="126828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) № 842, 843, 845, 846(а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333360"/>
            <a:ext cx="647640" cy="647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44000" y="6165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9280" y="2637000"/>
            <a:ext cx="3384720" cy="2474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32000" y="4941720"/>
            <a:ext cx="4032000" cy="5749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4824360" cy="1981080"/>
          </a:xfrm>
          <a:custGeom>
            <a:avLst/>
            <a:gdLst/>
            <a:ahLst/>
            <a:rect l="l" t="t" r="r" b="b"/>
            <a:pathLst>
              <a:path w="2721" h="1475">
                <a:moveTo>
                  <a:pt x="60" y="605"/>
                </a:moveTo>
                <a:cubicBezTo>
                  <a:pt x="45" y="552"/>
                  <a:pt x="0" y="401"/>
                  <a:pt x="60" y="333"/>
                </a:cubicBezTo>
                <a:cubicBezTo>
                  <a:pt x="120" y="265"/>
                  <a:pt x="294" y="212"/>
                  <a:pt x="423" y="197"/>
                </a:cubicBezTo>
                <a:cubicBezTo>
                  <a:pt x="552" y="182"/>
                  <a:pt x="711" y="250"/>
                  <a:pt x="832" y="242"/>
                </a:cubicBezTo>
                <a:cubicBezTo>
                  <a:pt x="953" y="234"/>
                  <a:pt x="1028" y="189"/>
                  <a:pt x="1149" y="151"/>
                </a:cubicBezTo>
                <a:cubicBezTo>
                  <a:pt x="1270" y="113"/>
                  <a:pt x="1429" y="0"/>
                  <a:pt x="1557" y="15"/>
                </a:cubicBezTo>
                <a:cubicBezTo>
                  <a:pt x="1685" y="30"/>
                  <a:pt x="1784" y="212"/>
                  <a:pt x="1920" y="242"/>
                </a:cubicBezTo>
                <a:cubicBezTo>
                  <a:pt x="2056" y="272"/>
                  <a:pt x="2245" y="106"/>
                  <a:pt x="2374" y="197"/>
                </a:cubicBezTo>
                <a:cubicBezTo>
                  <a:pt x="2503" y="288"/>
                  <a:pt x="2661" y="597"/>
                  <a:pt x="2691" y="786"/>
                </a:cubicBezTo>
                <a:cubicBezTo>
                  <a:pt x="2721" y="975"/>
                  <a:pt x="2638" y="1218"/>
                  <a:pt x="2555" y="1331"/>
                </a:cubicBezTo>
                <a:cubicBezTo>
                  <a:pt x="2472" y="1444"/>
                  <a:pt x="2336" y="1475"/>
                  <a:pt x="2192" y="1467"/>
                </a:cubicBezTo>
                <a:cubicBezTo>
                  <a:pt x="2048" y="1459"/>
                  <a:pt x="1829" y="1308"/>
                  <a:pt x="1693" y="1285"/>
                </a:cubicBezTo>
                <a:cubicBezTo>
                  <a:pt x="1557" y="1262"/>
                  <a:pt x="1467" y="1369"/>
                  <a:pt x="1376" y="1331"/>
                </a:cubicBezTo>
                <a:cubicBezTo>
                  <a:pt x="1285" y="1293"/>
                  <a:pt x="1240" y="1112"/>
                  <a:pt x="1149" y="1059"/>
                </a:cubicBezTo>
                <a:cubicBezTo>
                  <a:pt x="1058" y="1006"/>
                  <a:pt x="930" y="1006"/>
                  <a:pt x="832" y="1013"/>
                </a:cubicBezTo>
                <a:cubicBezTo>
                  <a:pt x="734" y="1020"/>
                  <a:pt x="642" y="1127"/>
                  <a:pt x="559" y="1104"/>
                </a:cubicBezTo>
                <a:cubicBezTo>
                  <a:pt x="476" y="1081"/>
                  <a:pt x="393" y="937"/>
                  <a:pt x="333" y="877"/>
                </a:cubicBezTo>
                <a:cubicBezTo>
                  <a:pt x="273" y="817"/>
                  <a:pt x="226" y="779"/>
                  <a:pt x="196" y="741"/>
                </a:cubicBezTo>
                <a:cubicBezTo>
                  <a:pt x="166" y="703"/>
                  <a:pt x="174" y="673"/>
                  <a:pt x="151" y="650"/>
                </a:cubicBezTo>
                <a:cubicBezTo>
                  <a:pt x="128" y="627"/>
                  <a:pt x="75" y="658"/>
                  <a:pt x="60" y="605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10800000"/>
          </a:gra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95560" y="4178160"/>
            <a:ext cx="76320" cy="266760"/>
          </a:xfrm>
          <a:custGeom>
            <a:avLst/>
            <a:gdLst/>
            <a:ahLst/>
            <a:rect l="l" t="t" r="r" b="b"/>
            <a:pathLst>
              <a:path w="48" h="168">
                <a:moveTo>
                  <a:pt x="0" y="0"/>
                </a:moveTo>
                <a:cubicBezTo>
                  <a:pt x="19" y="58"/>
                  <a:pt x="48" y="106"/>
                  <a:pt x="48" y="168"/>
                </a:cubicBezTo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08280" y="734400"/>
            <a:ext cx="1566000" cy="1320120"/>
            <a:chOff x="908280" y="734400"/>
            <a:chExt cx="1566000" cy="1320120"/>
          </a:xfrm>
        </p:grpSpPr>
        <p:grpSp>
          <p:nvGrpSpPr>
            <p:cNvPr id="131" name=""/>
            <p:cNvGrpSpPr/>
            <p:nvPr/>
          </p:nvGrpSpPr>
          <p:grpSpPr>
            <a:xfrm>
              <a:off x="908280" y="734400"/>
              <a:ext cx="1566000" cy="1242720"/>
              <a:chOff x="908280" y="734400"/>
              <a:chExt cx="1566000" cy="124272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2147760" y="1136520"/>
                <a:ext cx="326520" cy="49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908280" y="734400"/>
                <a:ext cx="1440360" cy="1242720"/>
                <a:chOff x="908280" y="734400"/>
                <a:chExt cx="1440360" cy="1242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075040" y="1465920"/>
                  <a:ext cx="273600" cy="18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936000" y="1059480"/>
                  <a:ext cx="303120" cy="132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1168560" y="1745640"/>
                  <a:ext cx="236160" cy="231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1939680" y="757800"/>
                  <a:ext cx="171360" cy="2822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558080" y="734400"/>
                  <a:ext cx="118080" cy="308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908280" y="1468800"/>
                  <a:ext cx="318600" cy="87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21053400">
                  <a:off x="1255680" y="983160"/>
                  <a:ext cx="894600" cy="792720"/>
                </a:xfrm>
                <a:custGeom>
                  <a:avLst/>
                  <a:gdLst/>
                  <a:ahLst/>
                  <a:rect l="l" t="t" r="r" b="b"/>
                  <a:pathLst>
                    <a:path w="506" h="475">
                      <a:moveTo>
                        <a:pt x="390" y="58"/>
                      </a:moveTo>
                      <a:cubicBezTo>
                        <a:pt x="392" y="60"/>
                        <a:pt x="378" y="67"/>
                        <a:pt x="374" y="66"/>
                      </a:cubicBezTo>
                      <a:cubicBezTo>
                        <a:pt x="370" y="65"/>
                        <a:pt x="350" y="39"/>
                        <a:pt x="363" y="52"/>
                      </a:cubicBezTo>
                      <a:cubicBezTo>
                        <a:pt x="376" y="65"/>
                        <a:pt x="430" y="105"/>
                        <a:pt x="453" y="143"/>
                      </a:cubicBezTo>
                      <a:cubicBezTo>
                        <a:pt x="476" y="181"/>
                        <a:pt x="506" y="234"/>
                        <a:pt x="499" y="279"/>
                      </a:cubicBezTo>
                      <a:cubicBezTo>
                        <a:pt x="492" y="324"/>
                        <a:pt x="438" y="385"/>
                        <a:pt x="408" y="415"/>
                      </a:cubicBezTo>
                      <a:cubicBezTo>
                        <a:pt x="378" y="445"/>
                        <a:pt x="362" y="453"/>
                        <a:pt x="317" y="460"/>
                      </a:cubicBezTo>
                      <a:cubicBezTo>
                        <a:pt x="272" y="467"/>
                        <a:pt x="181" y="475"/>
                        <a:pt x="136" y="460"/>
                      </a:cubicBezTo>
                      <a:cubicBezTo>
                        <a:pt x="91" y="445"/>
                        <a:pt x="68" y="415"/>
                        <a:pt x="45" y="370"/>
                      </a:cubicBezTo>
                      <a:cubicBezTo>
                        <a:pt x="22" y="325"/>
                        <a:pt x="0" y="241"/>
                        <a:pt x="0" y="188"/>
                      </a:cubicBezTo>
                      <a:cubicBezTo>
                        <a:pt x="0" y="135"/>
                        <a:pt x="22" y="82"/>
                        <a:pt x="45" y="52"/>
                      </a:cubicBezTo>
                      <a:cubicBezTo>
                        <a:pt x="68" y="22"/>
                        <a:pt x="98" y="14"/>
                        <a:pt x="136" y="7"/>
                      </a:cubicBezTo>
                      <a:cubicBezTo>
                        <a:pt x="174" y="0"/>
                        <a:pt x="234" y="0"/>
                        <a:pt x="272" y="7"/>
                      </a:cubicBezTo>
                      <a:cubicBezTo>
                        <a:pt x="310" y="14"/>
                        <a:pt x="343" y="44"/>
                        <a:pt x="363" y="52"/>
                      </a:cubicBezTo>
                      <a:cubicBezTo>
                        <a:pt x="383" y="60"/>
                        <a:pt x="388" y="56"/>
                        <a:pt x="390" y="5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1953360" y="1774440"/>
              <a:ext cx="45000" cy="280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71400" y="4581360"/>
            <a:ext cx="7799400" cy="1297080"/>
          </a:xfrm>
          <a:custGeom>
            <a:avLst/>
            <a:gdLst/>
            <a:ahLst/>
            <a:rect l="l" t="t" r="r" b="b"/>
            <a:pathLst>
              <a:path w="4913" h="817">
                <a:moveTo>
                  <a:pt x="143" y="192"/>
                </a:moveTo>
                <a:cubicBezTo>
                  <a:pt x="188" y="147"/>
                  <a:pt x="226" y="132"/>
                  <a:pt x="279" y="102"/>
                </a:cubicBezTo>
                <a:cubicBezTo>
                  <a:pt x="332" y="72"/>
                  <a:pt x="433" y="0"/>
                  <a:pt x="461" y="11"/>
                </a:cubicBezTo>
                <a:cubicBezTo>
                  <a:pt x="489" y="22"/>
                  <a:pt x="436" y="128"/>
                  <a:pt x="449" y="171"/>
                </a:cubicBezTo>
                <a:cubicBezTo>
                  <a:pt x="462" y="214"/>
                  <a:pt x="494" y="259"/>
                  <a:pt x="537" y="267"/>
                </a:cubicBezTo>
                <a:cubicBezTo>
                  <a:pt x="580" y="275"/>
                  <a:pt x="665" y="231"/>
                  <a:pt x="705" y="219"/>
                </a:cubicBezTo>
                <a:cubicBezTo>
                  <a:pt x="745" y="207"/>
                  <a:pt x="751" y="189"/>
                  <a:pt x="778" y="192"/>
                </a:cubicBezTo>
                <a:cubicBezTo>
                  <a:pt x="805" y="195"/>
                  <a:pt x="854" y="268"/>
                  <a:pt x="869" y="238"/>
                </a:cubicBezTo>
                <a:cubicBezTo>
                  <a:pt x="884" y="208"/>
                  <a:pt x="846" y="22"/>
                  <a:pt x="869" y="11"/>
                </a:cubicBezTo>
                <a:cubicBezTo>
                  <a:pt x="892" y="0"/>
                  <a:pt x="962" y="135"/>
                  <a:pt x="1009" y="171"/>
                </a:cubicBezTo>
                <a:cubicBezTo>
                  <a:pt x="1056" y="207"/>
                  <a:pt x="1124" y="231"/>
                  <a:pt x="1153" y="227"/>
                </a:cubicBezTo>
                <a:cubicBezTo>
                  <a:pt x="1182" y="223"/>
                  <a:pt x="1173" y="153"/>
                  <a:pt x="1186" y="147"/>
                </a:cubicBezTo>
                <a:cubicBezTo>
                  <a:pt x="1199" y="141"/>
                  <a:pt x="1194" y="177"/>
                  <a:pt x="1232" y="192"/>
                </a:cubicBezTo>
                <a:cubicBezTo>
                  <a:pt x="1270" y="207"/>
                  <a:pt x="1357" y="232"/>
                  <a:pt x="1413" y="238"/>
                </a:cubicBezTo>
                <a:cubicBezTo>
                  <a:pt x="1469" y="244"/>
                  <a:pt x="1539" y="245"/>
                  <a:pt x="1569" y="227"/>
                </a:cubicBezTo>
                <a:cubicBezTo>
                  <a:pt x="1599" y="209"/>
                  <a:pt x="1580" y="162"/>
                  <a:pt x="1593" y="131"/>
                </a:cubicBezTo>
                <a:cubicBezTo>
                  <a:pt x="1606" y="100"/>
                  <a:pt x="1641" y="55"/>
                  <a:pt x="1649" y="43"/>
                </a:cubicBezTo>
                <a:cubicBezTo>
                  <a:pt x="1657" y="31"/>
                  <a:pt x="1641" y="39"/>
                  <a:pt x="1640" y="56"/>
                </a:cubicBezTo>
                <a:cubicBezTo>
                  <a:pt x="1639" y="73"/>
                  <a:pt x="1627" y="131"/>
                  <a:pt x="1640" y="147"/>
                </a:cubicBezTo>
                <a:cubicBezTo>
                  <a:pt x="1653" y="163"/>
                  <a:pt x="1698" y="140"/>
                  <a:pt x="1721" y="155"/>
                </a:cubicBezTo>
                <a:cubicBezTo>
                  <a:pt x="1744" y="170"/>
                  <a:pt x="1755" y="238"/>
                  <a:pt x="1776" y="238"/>
                </a:cubicBezTo>
                <a:cubicBezTo>
                  <a:pt x="1797" y="238"/>
                  <a:pt x="1826" y="170"/>
                  <a:pt x="1849" y="155"/>
                </a:cubicBezTo>
                <a:cubicBezTo>
                  <a:pt x="1872" y="140"/>
                  <a:pt x="1909" y="156"/>
                  <a:pt x="1912" y="147"/>
                </a:cubicBezTo>
                <a:cubicBezTo>
                  <a:pt x="1915" y="138"/>
                  <a:pt x="1874" y="117"/>
                  <a:pt x="1867" y="102"/>
                </a:cubicBezTo>
                <a:cubicBezTo>
                  <a:pt x="1860" y="87"/>
                  <a:pt x="1851" y="43"/>
                  <a:pt x="1867" y="56"/>
                </a:cubicBezTo>
                <a:cubicBezTo>
                  <a:pt x="1883" y="69"/>
                  <a:pt x="1931" y="167"/>
                  <a:pt x="1961" y="179"/>
                </a:cubicBezTo>
                <a:cubicBezTo>
                  <a:pt x="1991" y="191"/>
                  <a:pt x="2020" y="144"/>
                  <a:pt x="2049" y="131"/>
                </a:cubicBezTo>
                <a:cubicBezTo>
                  <a:pt x="2078" y="118"/>
                  <a:pt x="2130" y="111"/>
                  <a:pt x="2137" y="99"/>
                </a:cubicBezTo>
                <a:cubicBezTo>
                  <a:pt x="2144" y="87"/>
                  <a:pt x="2093" y="56"/>
                  <a:pt x="2093" y="56"/>
                </a:cubicBezTo>
                <a:cubicBezTo>
                  <a:pt x="2093" y="56"/>
                  <a:pt x="2124" y="87"/>
                  <a:pt x="2139" y="102"/>
                </a:cubicBezTo>
                <a:cubicBezTo>
                  <a:pt x="2154" y="117"/>
                  <a:pt x="2169" y="132"/>
                  <a:pt x="2184" y="147"/>
                </a:cubicBezTo>
                <a:cubicBezTo>
                  <a:pt x="2199" y="162"/>
                  <a:pt x="2185" y="192"/>
                  <a:pt x="2230" y="192"/>
                </a:cubicBezTo>
                <a:cubicBezTo>
                  <a:pt x="2275" y="192"/>
                  <a:pt x="2388" y="139"/>
                  <a:pt x="2456" y="147"/>
                </a:cubicBezTo>
                <a:cubicBezTo>
                  <a:pt x="2524" y="155"/>
                  <a:pt x="2600" y="208"/>
                  <a:pt x="2638" y="238"/>
                </a:cubicBezTo>
                <a:cubicBezTo>
                  <a:pt x="2676" y="268"/>
                  <a:pt x="2668" y="305"/>
                  <a:pt x="2683" y="328"/>
                </a:cubicBezTo>
                <a:cubicBezTo>
                  <a:pt x="2698" y="351"/>
                  <a:pt x="2684" y="366"/>
                  <a:pt x="2729" y="374"/>
                </a:cubicBezTo>
                <a:cubicBezTo>
                  <a:pt x="2774" y="382"/>
                  <a:pt x="2902" y="374"/>
                  <a:pt x="2955" y="374"/>
                </a:cubicBezTo>
                <a:cubicBezTo>
                  <a:pt x="3008" y="374"/>
                  <a:pt x="3023" y="382"/>
                  <a:pt x="3046" y="374"/>
                </a:cubicBezTo>
                <a:cubicBezTo>
                  <a:pt x="3069" y="366"/>
                  <a:pt x="3061" y="328"/>
                  <a:pt x="3091" y="328"/>
                </a:cubicBezTo>
                <a:cubicBezTo>
                  <a:pt x="3121" y="328"/>
                  <a:pt x="3189" y="366"/>
                  <a:pt x="3227" y="374"/>
                </a:cubicBezTo>
                <a:cubicBezTo>
                  <a:pt x="3265" y="382"/>
                  <a:pt x="3295" y="374"/>
                  <a:pt x="3318" y="374"/>
                </a:cubicBezTo>
                <a:cubicBezTo>
                  <a:pt x="3341" y="374"/>
                  <a:pt x="3349" y="389"/>
                  <a:pt x="3364" y="374"/>
                </a:cubicBezTo>
                <a:cubicBezTo>
                  <a:pt x="3379" y="359"/>
                  <a:pt x="3386" y="298"/>
                  <a:pt x="3409" y="283"/>
                </a:cubicBezTo>
                <a:cubicBezTo>
                  <a:pt x="3432" y="268"/>
                  <a:pt x="3470" y="283"/>
                  <a:pt x="3500" y="283"/>
                </a:cubicBezTo>
                <a:cubicBezTo>
                  <a:pt x="3530" y="283"/>
                  <a:pt x="3560" y="290"/>
                  <a:pt x="3590" y="283"/>
                </a:cubicBezTo>
                <a:cubicBezTo>
                  <a:pt x="3620" y="276"/>
                  <a:pt x="3666" y="231"/>
                  <a:pt x="3681" y="238"/>
                </a:cubicBezTo>
                <a:cubicBezTo>
                  <a:pt x="3696" y="245"/>
                  <a:pt x="3658" y="305"/>
                  <a:pt x="3681" y="328"/>
                </a:cubicBezTo>
                <a:cubicBezTo>
                  <a:pt x="3704" y="351"/>
                  <a:pt x="3772" y="374"/>
                  <a:pt x="3817" y="374"/>
                </a:cubicBezTo>
                <a:cubicBezTo>
                  <a:pt x="3862" y="374"/>
                  <a:pt x="3923" y="336"/>
                  <a:pt x="3953" y="328"/>
                </a:cubicBezTo>
                <a:cubicBezTo>
                  <a:pt x="3983" y="320"/>
                  <a:pt x="3991" y="320"/>
                  <a:pt x="3999" y="328"/>
                </a:cubicBezTo>
                <a:cubicBezTo>
                  <a:pt x="4007" y="336"/>
                  <a:pt x="3976" y="374"/>
                  <a:pt x="3999" y="374"/>
                </a:cubicBezTo>
                <a:cubicBezTo>
                  <a:pt x="4022" y="374"/>
                  <a:pt x="4112" y="358"/>
                  <a:pt x="4135" y="328"/>
                </a:cubicBezTo>
                <a:cubicBezTo>
                  <a:pt x="4158" y="298"/>
                  <a:pt x="4120" y="199"/>
                  <a:pt x="4135" y="192"/>
                </a:cubicBezTo>
                <a:cubicBezTo>
                  <a:pt x="4150" y="185"/>
                  <a:pt x="4187" y="268"/>
                  <a:pt x="4225" y="283"/>
                </a:cubicBezTo>
                <a:cubicBezTo>
                  <a:pt x="4263" y="298"/>
                  <a:pt x="4323" y="306"/>
                  <a:pt x="4361" y="283"/>
                </a:cubicBezTo>
                <a:cubicBezTo>
                  <a:pt x="4399" y="260"/>
                  <a:pt x="4422" y="162"/>
                  <a:pt x="4452" y="147"/>
                </a:cubicBezTo>
                <a:cubicBezTo>
                  <a:pt x="4482" y="132"/>
                  <a:pt x="4475" y="169"/>
                  <a:pt x="4543" y="192"/>
                </a:cubicBezTo>
                <a:cubicBezTo>
                  <a:pt x="4611" y="215"/>
                  <a:pt x="4807" y="253"/>
                  <a:pt x="4860" y="283"/>
                </a:cubicBezTo>
                <a:cubicBezTo>
                  <a:pt x="4913" y="313"/>
                  <a:pt x="4883" y="329"/>
                  <a:pt x="4860" y="374"/>
                </a:cubicBezTo>
                <a:cubicBezTo>
                  <a:pt x="4837" y="419"/>
                  <a:pt x="4799" y="510"/>
                  <a:pt x="4724" y="555"/>
                </a:cubicBezTo>
                <a:cubicBezTo>
                  <a:pt x="4649" y="600"/>
                  <a:pt x="4566" y="616"/>
                  <a:pt x="4407" y="646"/>
                </a:cubicBezTo>
                <a:cubicBezTo>
                  <a:pt x="4248" y="676"/>
                  <a:pt x="3976" y="722"/>
                  <a:pt x="3772" y="737"/>
                </a:cubicBezTo>
                <a:cubicBezTo>
                  <a:pt x="3568" y="752"/>
                  <a:pt x="3341" y="767"/>
                  <a:pt x="3182" y="737"/>
                </a:cubicBezTo>
                <a:cubicBezTo>
                  <a:pt x="3023" y="707"/>
                  <a:pt x="2978" y="548"/>
                  <a:pt x="2819" y="555"/>
                </a:cubicBezTo>
                <a:cubicBezTo>
                  <a:pt x="2660" y="562"/>
                  <a:pt x="2425" y="747"/>
                  <a:pt x="2230" y="782"/>
                </a:cubicBezTo>
                <a:cubicBezTo>
                  <a:pt x="2035" y="817"/>
                  <a:pt x="1823" y="786"/>
                  <a:pt x="1649" y="763"/>
                </a:cubicBezTo>
                <a:cubicBezTo>
                  <a:pt x="1475" y="740"/>
                  <a:pt x="1331" y="665"/>
                  <a:pt x="1186" y="646"/>
                </a:cubicBezTo>
                <a:cubicBezTo>
                  <a:pt x="1041" y="627"/>
                  <a:pt x="891" y="653"/>
                  <a:pt x="778" y="646"/>
                </a:cubicBezTo>
                <a:cubicBezTo>
                  <a:pt x="665" y="639"/>
                  <a:pt x="604" y="631"/>
                  <a:pt x="506" y="601"/>
                </a:cubicBezTo>
                <a:cubicBezTo>
                  <a:pt x="408" y="571"/>
                  <a:pt x="271" y="503"/>
                  <a:pt x="188" y="465"/>
                </a:cubicBezTo>
                <a:cubicBezTo>
                  <a:pt x="105" y="427"/>
                  <a:pt x="14" y="427"/>
                  <a:pt x="7" y="374"/>
                </a:cubicBezTo>
                <a:cubicBezTo>
                  <a:pt x="0" y="321"/>
                  <a:pt x="98" y="237"/>
                  <a:pt x="143" y="19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2708280"/>
            <a:ext cx="2448000" cy="863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03280" y="1268280"/>
            <a:ext cx="1873440" cy="3095640"/>
            <a:chOff x="3203280" y="1268280"/>
            <a:chExt cx="1873440" cy="3095640"/>
          </a:xfrm>
        </p:grpSpPr>
        <p:sp>
          <p:nvSpPr>
            <p:cNvPr id="145" name=""/>
            <p:cNvSpPr/>
            <p:nvPr/>
          </p:nvSpPr>
          <p:spPr>
            <a:xfrm flipH="1">
              <a:off x="3635280" y="1268280"/>
              <a:ext cx="216000" cy="35856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211640" y="1411200"/>
              <a:ext cx="71280" cy="4316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066560" y="2276280"/>
              <a:ext cx="71640" cy="4316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922200" y="3211200"/>
              <a:ext cx="71640" cy="43200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203280" y="2133360"/>
              <a:ext cx="215640" cy="358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4920" y="1771560"/>
              <a:ext cx="72720" cy="36036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59280" y="2311200"/>
              <a:ext cx="73080" cy="36036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3640" y="2923920"/>
              <a:ext cx="73080" cy="36036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8920" y="2492280"/>
              <a:ext cx="0" cy="4316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98920" y="3284280"/>
              <a:ext cx="0" cy="4316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8920" y="3931920"/>
              <a:ext cx="0" cy="43200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835280" y="3789360"/>
            <a:ext cx="1368360" cy="1012680"/>
            <a:chOff x="1835280" y="3789360"/>
            <a:chExt cx="1368360" cy="1012680"/>
          </a:xfrm>
        </p:grpSpPr>
        <p:sp>
          <p:nvSpPr>
            <p:cNvPr id="157" name=""/>
            <p:cNvSpPr/>
            <p:nvPr/>
          </p:nvSpPr>
          <p:spPr>
            <a:xfrm>
              <a:off x="1835280" y="4005360"/>
              <a:ext cx="271440" cy="493560"/>
            </a:xfrm>
            <a:custGeom>
              <a:avLst/>
              <a:gdLst/>
              <a:ahLst/>
              <a:rect l="l" t="t" r="r" b="b"/>
              <a:pathLst>
                <a:path w="171" h="311">
                  <a:moveTo>
                    <a:pt x="171" y="0"/>
                  </a:moveTo>
                  <a:lnTo>
                    <a:pt x="67" y="163"/>
                  </a:lnTo>
                  <a:lnTo>
                    <a:pt x="0" y="311"/>
                  </a:lnTo>
                  <a:lnTo>
                    <a:pt x="104" y="148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835280" y="3789360"/>
              <a:ext cx="1368360" cy="1012680"/>
              <a:chOff x="1835280" y="3789360"/>
              <a:chExt cx="1368360" cy="10126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1835280" y="3789360"/>
                <a:ext cx="1368360" cy="1012680"/>
                <a:chOff x="1835280" y="3789360"/>
                <a:chExt cx="1368360" cy="10126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554200" y="4242240"/>
                  <a:ext cx="279000" cy="432000"/>
                </a:xfrm>
                <a:custGeom>
                  <a:avLst/>
                  <a:gdLst/>
                  <a:ahLst/>
                  <a:rect l="l" t="t" r="r" b="b"/>
                  <a:pathLst>
                    <a:path w="338" h="499">
                      <a:moveTo>
                        <a:pt x="319" y="62"/>
                      </a:moveTo>
                      <a:cubicBezTo>
                        <a:pt x="322" y="89"/>
                        <a:pt x="324" y="156"/>
                        <a:pt x="327" y="191"/>
                      </a:cubicBezTo>
                      <a:cubicBezTo>
                        <a:pt x="330" y="226"/>
                        <a:pt x="338" y="250"/>
                        <a:pt x="335" y="275"/>
                      </a:cubicBezTo>
                      <a:cubicBezTo>
                        <a:pt x="332" y="300"/>
                        <a:pt x="321" y="322"/>
                        <a:pt x="311" y="339"/>
                      </a:cubicBezTo>
                      <a:cubicBezTo>
                        <a:pt x="301" y="356"/>
                        <a:pt x="289" y="366"/>
                        <a:pt x="273" y="379"/>
                      </a:cubicBezTo>
                      <a:cubicBezTo>
                        <a:pt x="257" y="392"/>
                        <a:pt x="233" y="406"/>
                        <a:pt x="215" y="419"/>
                      </a:cubicBezTo>
                      <a:cubicBezTo>
                        <a:pt x="197" y="432"/>
                        <a:pt x="176" y="450"/>
                        <a:pt x="163" y="459"/>
                      </a:cubicBezTo>
                      <a:cubicBezTo>
                        <a:pt x="150" y="468"/>
                        <a:pt x="150" y="463"/>
                        <a:pt x="137" y="470"/>
                      </a:cubicBezTo>
                      <a:cubicBezTo>
                        <a:pt x="124" y="477"/>
                        <a:pt x="102" y="499"/>
                        <a:pt x="87" y="499"/>
                      </a:cubicBezTo>
                      <a:cubicBezTo>
                        <a:pt x="72" y="499"/>
                        <a:pt x="57" y="482"/>
                        <a:pt x="46" y="470"/>
                      </a:cubicBezTo>
                      <a:cubicBezTo>
                        <a:pt x="35" y="458"/>
                        <a:pt x="29" y="442"/>
                        <a:pt x="23" y="427"/>
                      </a:cubicBezTo>
                      <a:cubicBezTo>
                        <a:pt x="17" y="412"/>
                        <a:pt x="0" y="394"/>
                        <a:pt x="11" y="379"/>
                      </a:cubicBezTo>
                      <a:cubicBezTo>
                        <a:pt x="22" y="364"/>
                        <a:pt x="88" y="337"/>
                        <a:pt x="92" y="334"/>
                      </a:cubicBezTo>
                      <a:cubicBezTo>
                        <a:pt x="96" y="331"/>
                        <a:pt x="28" y="366"/>
                        <a:pt x="35" y="359"/>
                      </a:cubicBezTo>
                      <a:cubicBezTo>
                        <a:pt x="42" y="352"/>
                        <a:pt x="100" y="311"/>
                        <a:pt x="137" y="289"/>
                      </a:cubicBezTo>
                      <a:cubicBezTo>
                        <a:pt x="174" y="267"/>
                        <a:pt x="227" y="271"/>
                        <a:pt x="255" y="227"/>
                      </a:cubicBezTo>
                      <a:cubicBezTo>
                        <a:pt x="283" y="183"/>
                        <a:pt x="296" y="54"/>
                        <a:pt x="307" y="27"/>
                      </a:cubicBezTo>
                      <a:cubicBezTo>
                        <a:pt x="318" y="0"/>
                        <a:pt x="317" y="55"/>
                        <a:pt x="319" y="62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1835280" y="3789360"/>
                  <a:ext cx="1368360" cy="1012680"/>
                  <a:chOff x="1835280" y="3789360"/>
                  <a:chExt cx="1368360" cy="1012680"/>
                </a:xfrm>
              </p:grpSpPr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1835280" y="3789360"/>
                    <a:ext cx="1368360" cy="1012680"/>
                    <a:chOff x="1835280" y="3789360"/>
                    <a:chExt cx="1368360" cy="10126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1835280" y="3789360"/>
                      <a:ext cx="1368360" cy="10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3" h="1167">
                          <a:moveTo>
                            <a:pt x="9" y="1116"/>
                          </a:moveTo>
                          <a:cubicBezTo>
                            <a:pt x="0" y="1101"/>
                            <a:pt x="28" y="1071"/>
                            <a:pt x="41" y="1040"/>
                          </a:cubicBezTo>
                          <a:cubicBezTo>
                            <a:pt x="54" y="1009"/>
                            <a:pt x="75" y="963"/>
                            <a:pt x="87" y="928"/>
                          </a:cubicBezTo>
                          <a:cubicBezTo>
                            <a:pt x="99" y="893"/>
                            <a:pt x="110" y="869"/>
                            <a:pt x="115" y="830"/>
                          </a:cubicBezTo>
                          <a:cubicBezTo>
                            <a:pt x="120" y="791"/>
                            <a:pt x="112" y="732"/>
                            <a:pt x="115" y="694"/>
                          </a:cubicBezTo>
                          <a:cubicBezTo>
                            <a:pt x="118" y="656"/>
                            <a:pt x="127" y="642"/>
                            <a:pt x="135" y="604"/>
                          </a:cubicBezTo>
                          <a:cubicBezTo>
                            <a:pt x="143" y="566"/>
                            <a:pt x="149" y="512"/>
                            <a:pt x="161" y="467"/>
                          </a:cubicBezTo>
                          <a:cubicBezTo>
                            <a:pt x="173" y="422"/>
                            <a:pt x="191" y="369"/>
                            <a:pt x="206" y="331"/>
                          </a:cubicBezTo>
                          <a:cubicBezTo>
                            <a:pt x="221" y="293"/>
                            <a:pt x="228" y="266"/>
                            <a:pt x="251" y="240"/>
                          </a:cubicBezTo>
                          <a:cubicBezTo>
                            <a:pt x="274" y="214"/>
                            <a:pt x="303" y="196"/>
                            <a:pt x="347" y="172"/>
                          </a:cubicBezTo>
                          <a:cubicBezTo>
                            <a:pt x="391" y="148"/>
                            <a:pt x="463" y="107"/>
                            <a:pt x="515" y="96"/>
                          </a:cubicBezTo>
                          <a:cubicBezTo>
                            <a:pt x="567" y="85"/>
                            <a:pt x="613" y="103"/>
                            <a:pt x="660" y="104"/>
                          </a:cubicBezTo>
                          <a:cubicBezTo>
                            <a:pt x="707" y="105"/>
                            <a:pt x="743" y="112"/>
                            <a:pt x="796" y="104"/>
                          </a:cubicBezTo>
                          <a:cubicBezTo>
                            <a:pt x="849" y="96"/>
                            <a:pt x="924" y="73"/>
                            <a:pt x="977" y="58"/>
                          </a:cubicBezTo>
                          <a:cubicBezTo>
                            <a:pt x="1030" y="43"/>
                            <a:pt x="1071" y="23"/>
                            <a:pt x="1113" y="13"/>
                          </a:cubicBezTo>
                          <a:cubicBezTo>
                            <a:pt x="1155" y="3"/>
                            <a:pt x="1193" y="0"/>
                            <a:pt x="1231" y="0"/>
                          </a:cubicBezTo>
                          <a:cubicBezTo>
                            <a:pt x="1269" y="0"/>
                            <a:pt x="1307" y="11"/>
                            <a:pt x="1340" y="13"/>
                          </a:cubicBezTo>
                          <a:cubicBezTo>
                            <a:pt x="1373" y="15"/>
                            <a:pt x="1402" y="3"/>
                            <a:pt x="1431" y="13"/>
                          </a:cubicBezTo>
                          <a:cubicBezTo>
                            <a:pt x="1460" y="23"/>
                            <a:pt x="1487" y="44"/>
                            <a:pt x="1515" y="76"/>
                          </a:cubicBezTo>
                          <a:cubicBezTo>
                            <a:pt x="1543" y="108"/>
                            <a:pt x="1580" y="159"/>
                            <a:pt x="1599" y="204"/>
                          </a:cubicBezTo>
                          <a:cubicBezTo>
                            <a:pt x="1618" y="249"/>
                            <a:pt x="1617" y="308"/>
                            <a:pt x="1627" y="344"/>
                          </a:cubicBezTo>
                          <a:cubicBezTo>
                            <a:pt x="1637" y="380"/>
                            <a:pt x="1653" y="393"/>
                            <a:pt x="1658" y="421"/>
                          </a:cubicBezTo>
                          <a:cubicBezTo>
                            <a:pt x="1663" y="449"/>
                            <a:pt x="1660" y="477"/>
                            <a:pt x="1658" y="512"/>
                          </a:cubicBezTo>
                          <a:cubicBezTo>
                            <a:pt x="1656" y="547"/>
                            <a:pt x="1649" y="595"/>
                            <a:pt x="1643" y="632"/>
                          </a:cubicBezTo>
                          <a:cubicBezTo>
                            <a:pt x="1637" y="669"/>
                            <a:pt x="1626" y="701"/>
                            <a:pt x="1623" y="732"/>
                          </a:cubicBezTo>
                          <a:cubicBezTo>
                            <a:pt x="1620" y="763"/>
                            <a:pt x="1626" y="787"/>
                            <a:pt x="1627" y="816"/>
                          </a:cubicBezTo>
                          <a:cubicBezTo>
                            <a:pt x="1628" y="845"/>
                            <a:pt x="1631" y="881"/>
                            <a:pt x="1631" y="908"/>
                          </a:cubicBezTo>
                          <a:cubicBezTo>
                            <a:pt x="1631" y="935"/>
                            <a:pt x="1638" y="955"/>
                            <a:pt x="1627" y="980"/>
                          </a:cubicBezTo>
                          <a:cubicBezTo>
                            <a:pt x="1616" y="1005"/>
                            <a:pt x="1589" y="1047"/>
                            <a:pt x="1567" y="1056"/>
                          </a:cubicBezTo>
                          <a:cubicBezTo>
                            <a:pt x="1545" y="1065"/>
                            <a:pt x="1511" y="1049"/>
                            <a:pt x="1493" y="1036"/>
                          </a:cubicBezTo>
                          <a:cubicBezTo>
                            <a:pt x="1475" y="1023"/>
                            <a:pt x="1458" y="989"/>
                            <a:pt x="1461" y="980"/>
                          </a:cubicBezTo>
                          <a:cubicBezTo>
                            <a:pt x="1464" y="971"/>
                            <a:pt x="1496" y="979"/>
                            <a:pt x="1509" y="984"/>
                          </a:cubicBezTo>
                          <a:cubicBezTo>
                            <a:pt x="1522" y="989"/>
                            <a:pt x="1532" y="1005"/>
                            <a:pt x="1537" y="1008"/>
                          </a:cubicBezTo>
                          <a:cubicBezTo>
                            <a:pt x="1542" y="1011"/>
                            <a:pt x="1539" y="1013"/>
                            <a:pt x="1541" y="1000"/>
                          </a:cubicBezTo>
                          <a:cubicBezTo>
                            <a:pt x="1543" y="987"/>
                            <a:pt x="1552" y="955"/>
                            <a:pt x="1551" y="932"/>
                          </a:cubicBezTo>
                          <a:cubicBezTo>
                            <a:pt x="1550" y="909"/>
                            <a:pt x="1540" y="896"/>
                            <a:pt x="1535" y="864"/>
                          </a:cubicBezTo>
                          <a:cubicBezTo>
                            <a:pt x="1530" y="832"/>
                            <a:pt x="1523" y="782"/>
                            <a:pt x="1521" y="739"/>
                          </a:cubicBezTo>
                          <a:cubicBezTo>
                            <a:pt x="1519" y="696"/>
                            <a:pt x="1523" y="635"/>
                            <a:pt x="1521" y="603"/>
                          </a:cubicBezTo>
                          <a:cubicBezTo>
                            <a:pt x="1519" y="571"/>
                            <a:pt x="1514" y="563"/>
                            <a:pt x="1509" y="544"/>
                          </a:cubicBezTo>
                          <a:cubicBezTo>
                            <a:pt x="1504" y="525"/>
                            <a:pt x="1505" y="503"/>
                            <a:pt x="1493" y="488"/>
                          </a:cubicBezTo>
                          <a:cubicBezTo>
                            <a:pt x="1481" y="473"/>
                            <a:pt x="1462" y="463"/>
                            <a:pt x="1439" y="452"/>
                          </a:cubicBezTo>
                          <a:cubicBezTo>
                            <a:pt x="1416" y="441"/>
                            <a:pt x="1369" y="421"/>
                            <a:pt x="1353" y="424"/>
                          </a:cubicBezTo>
                          <a:cubicBezTo>
                            <a:pt x="1337" y="427"/>
                            <a:pt x="1344" y="457"/>
                            <a:pt x="1341" y="472"/>
                          </a:cubicBezTo>
                          <a:cubicBezTo>
                            <a:pt x="1338" y="487"/>
                            <a:pt x="1342" y="516"/>
                            <a:pt x="1333" y="516"/>
                          </a:cubicBezTo>
                          <a:cubicBezTo>
                            <a:pt x="1324" y="516"/>
                            <a:pt x="1301" y="471"/>
                            <a:pt x="1285" y="472"/>
                          </a:cubicBezTo>
                          <a:cubicBezTo>
                            <a:pt x="1269" y="473"/>
                            <a:pt x="1251" y="500"/>
                            <a:pt x="1235" y="520"/>
                          </a:cubicBezTo>
                          <a:cubicBezTo>
                            <a:pt x="1219" y="540"/>
                            <a:pt x="1200" y="563"/>
                            <a:pt x="1187" y="592"/>
                          </a:cubicBezTo>
                          <a:cubicBezTo>
                            <a:pt x="1174" y="621"/>
                            <a:pt x="1164" y="661"/>
                            <a:pt x="1159" y="694"/>
                          </a:cubicBezTo>
                          <a:cubicBezTo>
                            <a:pt x="1154" y="727"/>
                            <a:pt x="1160" y="760"/>
                            <a:pt x="1155" y="788"/>
                          </a:cubicBezTo>
                          <a:cubicBezTo>
                            <a:pt x="1150" y="816"/>
                            <a:pt x="1138" y="834"/>
                            <a:pt x="1131" y="864"/>
                          </a:cubicBezTo>
                          <a:cubicBezTo>
                            <a:pt x="1124" y="894"/>
                            <a:pt x="1116" y="934"/>
                            <a:pt x="1113" y="966"/>
                          </a:cubicBezTo>
                          <a:cubicBezTo>
                            <a:pt x="1110" y="998"/>
                            <a:pt x="1104" y="1026"/>
                            <a:pt x="1113" y="1056"/>
                          </a:cubicBezTo>
                          <a:cubicBezTo>
                            <a:pt x="1122" y="1086"/>
                            <a:pt x="1190" y="1131"/>
                            <a:pt x="1169" y="1148"/>
                          </a:cubicBezTo>
                          <a:cubicBezTo>
                            <a:pt x="1148" y="1165"/>
                            <a:pt x="1014" y="1167"/>
                            <a:pt x="985" y="1156"/>
                          </a:cubicBezTo>
                          <a:cubicBezTo>
                            <a:pt x="956" y="1145"/>
                            <a:pt x="992" y="1108"/>
                            <a:pt x="993" y="1084"/>
                          </a:cubicBezTo>
                          <a:cubicBezTo>
                            <a:pt x="994" y="1060"/>
                            <a:pt x="990" y="1047"/>
                            <a:pt x="989" y="1012"/>
                          </a:cubicBezTo>
                          <a:cubicBezTo>
                            <a:pt x="988" y="977"/>
                            <a:pt x="989" y="914"/>
                            <a:pt x="987" y="876"/>
                          </a:cubicBezTo>
                          <a:cubicBezTo>
                            <a:pt x="985" y="838"/>
                            <a:pt x="981" y="813"/>
                            <a:pt x="977" y="784"/>
                          </a:cubicBezTo>
                          <a:cubicBezTo>
                            <a:pt x="973" y="755"/>
                            <a:pt x="976" y="715"/>
                            <a:pt x="963" y="700"/>
                          </a:cubicBezTo>
                          <a:cubicBezTo>
                            <a:pt x="950" y="685"/>
                            <a:pt x="929" y="687"/>
                            <a:pt x="899" y="696"/>
                          </a:cubicBezTo>
                          <a:cubicBezTo>
                            <a:pt x="869" y="705"/>
                            <a:pt x="828" y="740"/>
                            <a:pt x="783" y="752"/>
                          </a:cubicBezTo>
                          <a:cubicBezTo>
                            <a:pt x="738" y="764"/>
                            <a:pt x="701" y="767"/>
                            <a:pt x="631" y="768"/>
                          </a:cubicBezTo>
                          <a:cubicBezTo>
                            <a:pt x="561" y="769"/>
                            <a:pt x="429" y="747"/>
                            <a:pt x="363" y="760"/>
                          </a:cubicBezTo>
                          <a:cubicBezTo>
                            <a:pt x="297" y="773"/>
                            <a:pt x="267" y="806"/>
                            <a:pt x="237" y="844"/>
                          </a:cubicBezTo>
                          <a:cubicBezTo>
                            <a:pt x="207" y="882"/>
                            <a:pt x="194" y="949"/>
                            <a:pt x="185" y="988"/>
                          </a:cubicBezTo>
                          <a:cubicBezTo>
                            <a:pt x="176" y="1027"/>
                            <a:pt x="180" y="1053"/>
                            <a:pt x="185" y="1076"/>
                          </a:cubicBezTo>
                          <a:cubicBezTo>
                            <a:pt x="190" y="1099"/>
                            <a:pt x="232" y="1119"/>
                            <a:pt x="217" y="1128"/>
                          </a:cubicBezTo>
                          <a:cubicBezTo>
                            <a:pt x="202" y="1137"/>
                            <a:pt x="128" y="1134"/>
                            <a:pt x="93" y="1132"/>
                          </a:cubicBezTo>
                          <a:cubicBezTo>
                            <a:pt x="58" y="1130"/>
                            <a:pt x="18" y="1134"/>
                            <a:pt x="9" y="1116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976480" y="4030920"/>
                      <a:ext cx="532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1">
                          <a:moveTo>
                            <a:pt x="0" y="19"/>
                          </a:moveTo>
                          <a:cubicBezTo>
                            <a:pt x="29" y="0"/>
                            <a:pt x="15" y="1"/>
                            <a:pt x="40" y="7"/>
                          </a:cubicBezTo>
                          <a:cubicBezTo>
                            <a:pt x="51" y="15"/>
                            <a:pt x="55" y="22"/>
                            <a:pt x="64" y="31"/>
                          </a:cubicBezTo>
                          <a:cubicBezTo>
                            <a:pt x="64" y="31"/>
                            <a:pt x="0" y="19"/>
                            <a:pt x="0" y="19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2596320" y="3853080"/>
                      <a:ext cx="325800" cy="39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7" h="458">
                          <a:moveTo>
                            <a:pt x="118" y="0"/>
                          </a:moveTo>
                          <a:cubicBezTo>
                            <a:pt x="84" y="15"/>
                            <a:pt x="47" y="30"/>
                            <a:pt x="27" y="46"/>
                          </a:cubicBezTo>
                          <a:cubicBezTo>
                            <a:pt x="7" y="62"/>
                            <a:pt x="0" y="79"/>
                            <a:pt x="0" y="94"/>
                          </a:cubicBezTo>
                          <a:cubicBezTo>
                            <a:pt x="0" y="109"/>
                            <a:pt x="23" y="115"/>
                            <a:pt x="27" y="137"/>
                          </a:cubicBezTo>
                          <a:cubicBezTo>
                            <a:pt x="31" y="159"/>
                            <a:pt x="19" y="204"/>
                            <a:pt x="27" y="227"/>
                          </a:cubicBezTo>
                          <a:cubicBezTo>
                            <a:pt x="35" y="250"/>
                            <a:pt x="58" y="265"/>
                            <a:pt x="73" y="273"/>
                          </a:cubicBezTo>
                          <a:cubicBezTo>
                            <a:pt x="88" y="281"/>
                            <a:pt x="103" y="266"/>
                            <a:pt x="118" y="273"/>
                          </a:cubicBezTo>
                          <a:cubicBezTo>
                            <a:pt x="133" y="280"/>
                            <a:pt x="146" y="305"/>
                            <a:pt x="163" y="318"/>
                          </a:cubicBezTo>
                          <a:cubicBezTo>
                            <a:pt x="180" y="331"/>
                            <a:pt x="206" y="337"/>
                            <a:pt x="220" y="350"/>
                          </a:cubicBezTo>
                          <a:cubicBezTo>
                            <a:pt x="234" y="363"/>
                            <a:pt x="242" y="384"/>
                            <a:pt x="248" y="394"/>
                          </a:cubicBezTo>
                          <a:cubicBezTo>
                            <a:pt x="254" y="404"/>
                            <a:pt x="242" y="402"/>
                            <a:pt x="254" y="409"/>
                          </a:cubicBezTo>
                          <a:cubicBezTo>
                            <a:pt x="266" y="416"/>
                            <a:pt x="305" y="427"/>
                            <a:pt x="320" y="434"/>
                          </a:cubicBezTo>
                          <a:cubicBezTo>
                            <a:pt x="335" y="441"/>
                            <a:pt x="333" y="458"/>
                            <a:pt x="345" y="454"/>
                          </a:cubicBezTo>
                          <a:cubicBezTo>
                            <a:pt x="357" y="450"/>
                            <a:pt x="383" y="424"/>
                            <a:pt x="390" y="409"/>
                          </a:cubicBezTo>
                          <a:cubicBezTo>
                            <a:pt x="397" y="394"/>
                            <a:pt x="390" y="378"/>
                            <a:pt x="390" y="363"/>
                          </a:cubicBezTo>
                          <a:cubicBezTo>
                            <a:pt x="390" y="348"/>
                            <a:pt x="390" y="333"/>
                            <a:pt x="390" y="318"/>
                          </a:cubicBezTo>
                          <a:cubicBezTo>
                            <a:pt x="390" y="303"/>
                            <a:pt x="390" y="288"/>
                            <a:pt x="390" y="273"/>
                          </a:cubicBezTo>
                          <a:cubicBezTo>
                            <a:pt x="390" y="258"/>
                            <a:pt x="390" y="242"/>
                            <a:pt x="390" y="227"/>
                          </a:cubicBezTo>
                          <a:cubicBezTo>
                            <a:pt x="390" y="212"/>
                            <a:pt x="397" y="197"/>
                            <a:pt x="390" y="182"/>
                          </a:cubicBezTo>
                          <a:cubicBezTo>
                            <a:pt x="383" y="167"/>
                            <a:pt x="352" y="152"/>
                            <a:pt x="345" y="137"/>
                          </a:cubicBezTo>
                          <a:cubicBezTo>
                            <a:pt x="338" y="122"/>
                            <a:pt x="338" y="106"/>
                            <a:pt x="345" y="91"/>
                          </a:cubicBezTo>
                          <a:cubicBezTo>
                            <a:pt x="352" y="76"/>
                            <a:pt x="371" y="61"/>
                            <a:pt x="390" y="46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088360" y="4458240"/>
                      <a:ext cx="335880" cy="34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397">
                          <a:moveTo>
                            <a:pt x="0" y="0"/>
                          </a:moveTo>
                          <a:cubicBezTo>
                            <a:pt x="0" y="7"/>
                            <a:pt x="35" y="7"/>
                            <a:pt x="56" y="24"/>
                          </a:cubicBezTo>
                          <a:cubicBezTo>
                            <a:pt x="77" y="41"/>
                            <a:pt x="113" y="77"/>
                            <a:pt x="128" y="100"/>
                          </a:cubicBezTo>
                          <a:cubicBezTo>
                            <a:pt x="143" y="123"/>
                            <a:pt x="139" y="141"/>
                            <a:pt x="147" y="160"/>
                          </a:cubicBezTo>
                          <a:cubicBezTo>
                            <a:pt x="155" y="179"/>
                            <a:pt x="166" y="195"/>
                            <a:pt x="176" y="216"/>
                          </a:cubicBezTo>
                          <a:cubicBezTo>
                            <a:pt x="186" y="237"/>
                            <a:pt x="196" y="261"/>
                            <a:pt x="204" y="284"/>
                          </a:cubicBezTo>
                          <a:cubicBezTo>
                            <a:pt x="212" y="307"/>
                            <a:pt x="218" y="339"/>
                            <a:pt x="224" y="356"/>
                          </a:cubicBezTo>
                          <a:cubicBezTo>
                            <a:pt x="230" y="373"/>
                            <a:pt x="228" y="382"/>
                            <a:pt x="238" y="387"/>
                          </a:cubicBezTo>
                          <a:cubicBezTo>
                            <a:pt x="248" y="392"/>
                            <a:pt x="260" y="387"/>
                            <a:pt x="283" y="387"/>
                          </a:cubicBezTo>
                          <a:cubicBezTo>
                            <a:pt x="306" y="387"/>
                            <a:pt x="353" y="397"/>
                            <a:pt x="374" y="387"/>
                          </a:cubicBezTo>
                          <a:cubicBezTo>
                            <a:pt x="395" y="377"/>
                            <a:pt x="408" y="343"/>
                            <a:pt x="408" y="328"/>
                          </a:cubicBezTo>
                          <a:cubicBezTo>
                            <a:pt x="408" y="313"/>
                            <a:pt x="383" y="308"/>
                            <a:pt x="374" y="296"/>
                          </a:cubicBezTo>
                          <a:cubicBezTo>
                            <a:pt x="365" y="284"/>
                            <a:pt x="360" y="273"/>
                            <a:pt x="352" y="256"/>
                          </a:cubicBezTo>
                          <a:cubicBezTo>
                            <a:pt x="344" y="239"/>
                            <a:pt x="338" y="217"/>
                            <a:pt x="328" y="192"/>
                          </a:cubicBezTo>
                          <a:cubicBezTo>
                            <a:pt x="318" y="167"/>
                            <a:pt x="302" y="126"/>
                            <a:pt x="292" y="104"/>
                          </a:cubicBezTo>
                          <a:cubicBezTo>
                            <a:pt x="282" y="82"/>
                            <a:pt x="273" y="75"/>
                            <a:pt x="268" y="60"/>
                          </a:cubicBezTo>
                          <a:cubicBezTo>
                            <a:pt x="263" y="45"/>
                            <a:pt x="265" y="20"/>
                            <a:pt x="264" y="12"/>
                          </a:cubicBezTo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2758320" y="4306680"/>
                      <a:ext cx="11484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200">
                          <a:moveTo>
                            <a:pt x="64" y="0"/>
                          </a:moveTo>
                          <a:cubicBezTo>
                            <a:pt x="61" y="11"/>
                            <a:pt x="56" y="21"/>
                            <a:pt x="56" y="32"/>
                          </a:cubicBezTo>
                          <a:cubicBezTo>
                            <a:pt x="56" y="77"/>
                            <a:pt x="82" y="200"/>
                            <a:pt x="0" y="2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8f8f8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8" name=""/>
                  <p:cNvSpPr/>
                  <p:nvPr/>
                </p:nvSpPr>
                <p:spPr>
                  <a:xfrm>
                    <a:off x="2786760" y="4267440"/>
                    <a:ext cx="64080" cy="2962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27">
                        <a:moveTo>
                          <a:pt x="46" y="0"/>
                        </a:moveTo>
                        <a:lnTo>
                          <a:pt x="46" y="136"/>
                        </a:lnTo>
                        <a:lnTo>
                          <a:pt x="46" y="182"/>
                        </a:lnTo>
                        <a:lnTo>
                          <a:pt x="0" y="227"/>
                        </a:lnTo>
                      </a:path>
                    </a:pathLst>
                  </a:custGeom>
                  <a:noFill/>
                  <a:ln w="936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9" name=""/>
              <p:cNvSpPr/>
              <p:nvPr/>
            </p:nvSpPr>
            <p:spPr>
              <a:xfrm>
                <a:off x="2755440" y="4281840"/>
                <a:ext cx="89280" cy="302040"/>
              </a:xfrm>
              <a:custGeom>
                <a:avLst/>
                <a:gdLst/>
                <a:ahLst/>
                <a:rect l="l" t="t" r="r" b="b"/>
                <a:pathLst>
                  <a:path w="77" h="272">
                    <a:moveTo>
                      <a:pt x="72" y="0"/>
                    </a:moveTo>
                    <a:cubicBezTo>
                      <a:pt x="72" y="7"/>
                      <a:pt x="72" y="8"/>
                      <a:pt x="72" y="32"/>
                    </a:cubicBezTo>
                    <a:cubicBezTo>
                      <a:pt x="72" y="56"/>
                      <a:pt x="77" y="113"/>
                      <a:pt x="69" y="147"/>
                    </a:cubicBezTo>
                    <a:cubicBezTo>
                      <a:pt x="61" y="181"/>
                      <a:pt x="34" y="217"/>
                      <a:pt x="23" y="238"/>
                    </a:cubicBezTo>
                    <a:cubicBezTo>
                      <a:pt x="12" y="259"/>
                      <a:pt x="5" y="265"/>
                      <a:pt x="0" y="27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5724360" y="549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тоги урока 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951120" y="2260080"/>
            <a:ext cx="7382520" cy="3503880"/>
            <a:chOff x="951120" y="2260080"/>
            <a:chExt cx="7382520" cy="3503880"/>
          </a:xfrm>
        </p:grpSpPr>
        <p:sp>
          <p:nvSpPr>
            <p:cNvPr id="802" name="_s261142"/>
            <p:cNvSpPr/>
            <p:nvPr/>
          </p:nvSpPr>
          <p:spPr>
            <a:xfrm flipV="1">
              <a:off x="3903480" y="2260080"/>
              <a:ext cx="1478160" cy="699840"/>
            </a:xfrm>
            <a:custGeom>
              <a:avLst/>
              <a:gdLst>
                <a:gd name="textAreaLeft" fmla="*/ 530280 w 1478160"/>
                <a:gd name="textAreaRight" fmla="*/ 947880 w 1478160"/>
                <a:gd name="textAreaTop" fmla="*/ 250920 h 699840"/>
                <a:gd name="textAreaBottom" fmla="*/ 448920 h 6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03" name="_s261145"/>
            <p:cNvSpPr/>
            <p:nvPr/>
          </p:nvSpPr>
          <p:spPr>
            <a:xfrm flipV="1">
              <a:off x="3166560" y="2959560"/>
              <a:ext cx="2951280" cy="701640"/>
            </a:xfrm>
            <a:custGeom>
              <a:avLst/>
              <a:gdLst>
                <a:gd name="textAreaLeft" fmla="*/ 649080 w 2951280"/>
                <a:gd name="textAreaRight" fmla="*/ 2302200 w 2951280"/>
                <a:gd name="textAreaTop" fmla="*/ 154080 h 701640"/>
                <a:gd name="textAreaBottom" fmla="*/ 54756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Знаем, что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такое масштаб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04" name="_s261146"/>
            <p:cNvSpPr/>
            <p:nvPr/>
          </p:nvSpPr>
          <p:spPr>
            <a:xfrm flipV="1">
              <a:off x="2426760" y="3661200"/>
              <a:ext cx="4430880" cy="700200"/>
            </a:xfrm>
            <a:custGeom>
              <a:avLst/>
              <a:gdLst>
                <a:gd name="textAreaLeft" fmla="*/ 768960 w 4430880"/>
                <a:gd name="textAreaRight" fmla="*/ 3661920 w 4430880"/>
                <a:gd name="textAreaTop" fmla="*/ 121320 h 700200"/>
                <a:gd name="textAreaBottom" fmla="*/ 57888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Знаем, как</a:t>
              </a:r>
              <a:r>
                <a:rPr b="0" lang="en-US" sz="18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находить 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отношение двух величин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05" name="_s261143"/>
            <p:cNvSpPr/>
            <p:nvPr/>
          </p:nvSpPr>
          <p:spPr>
            <a:xfrm flipV="1">
              <a:off x="1690200" y="4361400"/>
              <a:ext cx="5904360" cy="701640"/>
            </a:xfrm>
            <a:custGeom>
              <a:avLst/>
              <a:gdLst>
                <a:gd name="textAreaLeft" fmla="*/ 888120 w 5904360"/>
                <a:gd name="textAreaRight" fmla="*/ 5016240 w 5904360"/>
                <a:gd name="textAreaTop" fmla="*/ 105480 h 701640"/>
                <a:gd name="textAreaBottom" fmla="*/ 59616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Знаем, как</a:t>
              </a:r>
              <a:r>
                <a:rPr b="0" lang="en-US" sz="1800" spc="-1" strike="noStrike">
                  <a:solidFill>
                    <a:srgbClr val="f8f8f8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пользоваться единицами 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змерений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06" name="_s261144"/>
            <p:cNvSpPr/>
            <p:nvPr/>
          </p:nvSpPr>
          <p:spPr>
            <a:xfrm flipV="1">
              <a:off x="951120" y="5063760"/>
              <a:ext cx="7382520" cy="699840"/>
            </a:xfrm>
            <a:custGeom>
              <a:avLst/>
              <a:gdLst>
                <a:gd name="textAreaLeft" fmla="*/ 1008000 w 7382520"/>
                <a:gd name="textAreaRight" fmla="*/ 6374520 w 7382520"/>
                <a:gd name="textAreaTop" fmla="*/ 95400 h 699840"/>
                <a:gd name="textAreaBottom" fmla="*/ 604440 h 6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Comic Sans MS"/>
                </a:rPr>
                <a:t>Знаем, как выполнять математические действия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4021200" y="981000"/>
            <a:ext cx="1244520" cy="16304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95280" y="836640"/>
            <a:ext cx="3960720" cy="647640"/>
          </a:xfrm>
          <a:prstGeom prst="flowChartMagneticTap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82840" y="981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Спасибо ребятам 6 «а»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643280" y="2060640"/>
            <a:ext cx="25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Comic Sans MS"/>
              </a:rPr>
              <a:t>Знаем, как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Comic Sans MS"/>
              </a:rPr>
              <a:t>пользоватьс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Comic Sans MS"/>
              </a:rPr>
              <a:t>масштабо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1" name="">
            <a:hlinkClick r:id="" action="ppaction://hlinkshowjump?jump=firstslide"/>
          </p:cNvPr>
          <p:cNvSpPr/>
          <p:nvPr/>
        </p:nvSpPr>
        <p:spPr>
          <a:xfrm>
            <a:off x="6804000" y="6093000"/>
            <a:ext cx="576360" cy="144360"/>
          </a:xfrm>
          <a:custGeom>
            <a:avLst/>
            <a:gdLst>
              <a:gd name="textAreaLeft" fmla="*/ 9360 w 576360"/>
              <a:gd name="textAreaRight" fmla="*/ 567000 w 576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86078" h="21600">
                <a:moveTo>
                  <a:pt x="0" y="0"/>
                </a:moveTo>
                <a:lnTo>
                  <a:pt x="86078" y="0"/>
                </a:lnTo>
                <a:lnTo>
                  <a:pt x="86078" y="21600"/>
                </a:lnTo>
                <a:lnTo>
                  <a:pt x="0" y="21600"/>
                </a:lnTo>
                <a:close/>
              </a:path>
              <a:path fill="lightenLess" w="86078" h="21600">
                <a:moveTo>
                  <a:pt x="0" y="0"/>
                </a:moveTo>
                <a:lnTo>
                  <a:pt x="86078" y="0"/>
                </a:lnTo>
                <a:lnTo>
                  <a:pt x="84678" y="1400"/>
                </a:lnTo>
                <a:lnTo>
                  <a:pt x="1400" y="1400"/>
                </a:lnTo>
                <a:close/>
              </a:path>
              <a:path fill="darken" w="86078" h="21600">
                <a:moveTo>
                  <a:pt x="86078" y="0"/>
                </a:moveTo>
                <a:lnTo>
                  <a:pt x="86078" y="21600"/>
                </a:lnTo>
                <a:lnTo>
                  <a:pt x="84678" y="20200"/>
                </a:lnTo>
                <a:lnTo>
                  <a:pt x="84678" y="1400"/>
                </a:lnTo>
                <a:close/>
              </a:path>
              <a:path fill="darkenLess" w="86078" h="21600">
                <a:moveTo>
                  <a:pt x="86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78" y="20200"/>
                </a:lnTo>
                <a:close/>
              </a:path>
              <a:path fill="lighten" w="86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078" h="21600">
                <a:moveTo>
                  <a:pt x="39540" y="10800"/>
                </a:moveTo>
                <a:lnTo>
                  <a:pt x="50045" y="3794"/>
                </a:lnTo>
                <a:lnTo>
                  <a:pt x="50045" y="17806"/>
                </a:lnTo>
                <a:close/>
              </a:path>
              <a:path fill="darken" w="86078" h="21600">
                <a:moveTo>
                  <a:pt x="36032" y="3794"/>
                </a:moveTo>
                <a:lnTo>
                  <a:pt x="37695" y="3794"/>
                </a:lnTo>
                <a:lnTo>
                  <a:pt x="37695" y="17806"/>
                </a:lnTo>
                <a:lnTo>
                  <a:pt x="36032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763640" y="1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ередник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796000" y="189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лузк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012000" y="3645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юбк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32000" y="2781360"/>
            <a:ext cx="11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50920" y="620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 = 48 мм;  48 *12= 576 мм = 57,6 с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32360" y="76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 = 40 мм; 40*12= 480мм= 48 с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0920" y="112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= 36 мм; 36*12= 432 мм =43,2 см                                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788000" y="126828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= 22 мм; 22*12 = 264мм = 26,4 с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24000" y="162864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= 22 мм; 22*12 = 264мм= 26,4 с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59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= 32 мм; 32*12= 384мм = 38,4 с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596360" y="278136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276720" y="630864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596360" y="623736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 1 : 1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332000" y="3429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рюки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4000" y="3933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 = 80мм; 80*12= 960мм = 96 с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280" y="4508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 23мм; 23*12= 276мм = 27,6 с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24000" y="508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= 18мм; 18*12= 216мм= 21,6 с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003640" y="407664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 = 38мм; 38*12= 456мм= 45,6 с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859280" y="4653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= 48мм; 48*12=576 мм = 57,6 с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32360" y="5300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= 28мм; 28*12=336мм= 33,6 см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419640" y="189000"/>
            <a:ext cx="122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Comic Sans MS"/>
              </a:rPr>
              <a:t>1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29480" y="189000"/>
            <a:ext cx="15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Comic Sans MS"/>
              </a:rPr>
              <a:t>3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67640" y="3573360"/>
            <a:ext cx="12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Comic Sans MS"/>
              </a:rPr>
              <a:t>4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3573360"/>
            <a:ext cx="122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Comic Sans MS"/>
              </a:rPr>
              <a:t>2 вариант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firstslide"/>
          </p:cNvPr>
          <p:cNvSpPr/>
          <p:nvPr/>
        </p:nvSpPr>
        <p:spPr>
          <a:xfrm>
            <a:off x="1908000" y="6381720"/>
            <a:ext cx="576360" cy="144360"/>
          </a:xfrm>
          <a:custGeom>
            <a:avLst/>
            <a:gdLst>
              <a:gd name="textAreaLeft" fmla="*/ 9360 w 576360"/>
              <a:gd name="textAreaRight" fmla="*/ 567000 w 576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86078" h="21600">
                <a:moveTo>
                  <a:pt x="0" y="0"/>
                </a:moveTo>
                <a:lnTo>
                  <a:pt x="86078" y="0"/>
                </a:lnTo>
                <a:lnTo>
                  <a:pt x="86078" y="21600"/>
                </a:lnTo>
                <a:lnTo>
                  <a:pt x="0" y="21600"/>
                </a:lnTo>
                <a:close/>
              </a:path>
              <a:path fill="lightenLess" w="86078" h="21600">
                <a:moveTo>
                  <a:pt x="0" y="0"/>
                </a:moveTo>
                <a:lnTo>
                  <a:pt x="86078" y="0"/>
                </a:lnTo>
                <a:lnTo>
                  <a:pt x="84678" y="1400"/>
                </a:lnTo>
                <a:lnTo>
                  <a:pt x="1400" y="1400"/>
                </a:lnTo>
                <a:close/>
              </a:path>
              <a:path fill="darken" w="86078" h="21600">
                <a:moveTo>
                  <a:pt x="86078" y="0"/>
                </a:moveTo>
                <a:lnTo>
                  <a:pt x="86078" y="21600"/>
                </a:lnTo>
                <a:lnTo>
                  <a:pt x="84678" y="20200"/>
                </a:lnTo>
                <a:lnTo>
                  <a:pt x="84678" y="1400"/>
                </a:lnTo>
                <a:close/>
              </a:path>
              <a:path fill="darkenLess" w="86078" h="21600">
                <a:moveTo>
                  <a:pt x="86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78" y="20200"/>
                </a:lnTo>
                <a:close/>
              </a:path>
              <a:path fill="lighten" w="86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078" h="21600">
                <a:moveTo>
                  <a:pt x="39540" y="10800"/>
                </a:moveTo>
                <a:lnTo>
                  <a:pt x="50045" y="3794"/>
                </a:lnTo>
                <a:lnTo>
                  <a:pt x="50045" y="17806"/>
                </a:lnTo>
                <a:close/>
              </a:path>
              <a:path fill="darken" w="86078" h="21600">
                <a:moveTo>
                  <a:pt x="36032" y="3794"/>
                </a:moveTo>
                <a:lnTo>
                  <a:pt x="37695" y="3794"/>
                </a:lnTo>
                <a:lnTo>
                  <a:pt x="37695" y="17806"/>
                </a:lnTo>
                <a:lnTo>
                  <a:pt x="36032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6692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Найдите ошибку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472428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Ответ: масса мыши больше массы слона в 50 раз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2781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Масса мыши 200 грамм, а масса слона 4 тонны. Чья масса больше и во сколько раз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4259520" cy="695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24720" y="4941720"/>
            <a:ext cx="1158840" cy="12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00000" y="76500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Единицы измерени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1773360"/>
            <a:ext cx="6769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 т =  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кг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 кг =  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 км = 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м = 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 м = 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дм  = 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с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 дм = 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см = 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м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см =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 мм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17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00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528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00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14560" y="30574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00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3716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37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0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436572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4365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0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5013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30574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100 00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635280" y="335772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1197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Масса мыши 200 грамм, а масса слона 4 тонны. Чья масса больше и во сколько раз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472428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Ответ: масса слона больше массы мыши в 20000 раз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316160" y="3429000"/>
            <a:ext cx="6654600" cy="66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166000" cy="63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03640" y="333360"/>
            <a:ext cx="4824360" cy="1981080"/>
          </a:xfrm>
          <a:custGeom>
            <a:avLst/>
            <a:gdLst/>
            <a:ahLst/>
            <a:rect l="l" t="t" r="r" b="b"/>
            <a:pathLst>
              <a:path w="2721" h="1475">
                <a:moveTo>
                  <a:pt x="60" y="605"/>
                </a:moveTo>
                <a:cubicBezTo>
                  <a:pt x="45" y="552"/>
                  <a:pt x="0" y="401"/>
                  <a:pt x="60" y="333"/>
                </a:cubicBezTo>
                <a:cubicBezTo>
                  <a:pt x="120" y="265"/>
                  <a:pt x="294" y="212"/>
                  <a:pt x="423" y="197"/>
                </a:cubicBezTo>
                <a:cubicBezTo>
                  <a:pt x="552" y="182"/>
                  <a:pt x="711" y="250"/>
                  <a:pt x="832" y="242"/>
                </a:cubicBezTo>
                <a:cubicBezTo>
                  <a:pt x="953" y="234"/>
                  <a:pt x="1028" y="189"/>
                  <a:pt x="1149" y="151"/>
                </a:cubicBezTo>
                <a:cubicBezTo>
                  <a:pt x="1270" y="113"/>
                  <a:pt x="1429" y="0"/>
                  <a:pt x="1557" y="15"/>
                </a:cubicBezTo>
                <a:cubicBezTo>
                  <a:pt x="1685" y="30"/>
                  <a:pt x="1784" y="212"/>
                  <a:pt x="1920" y="242"/>
                </a:cubicBezTo>
                <a:cubicBezTo>
                  <a:pt x="2056" y="272"/>
                  <a:pt x="2245" y="106"/>
                  <a:pt x="2374" y="197"/>
                </a:cubicBezTo>
                <a:cubicBezTo>
                  <a:pt x="2503" y="288"/>
                  <a:pt x="2661" y="597"/>
                  <a:pt x="2691" y="786"/>
                </a:cubicBezTo>
                <a:cubicBezTo>
                  <a:pt x="2721" y="975"/>
                  <a:pt x="2638" y="1218"/>
                  <a:pt x="2555" y="1331"/>
                </a:cubicBezTo>
                <a:cubicBezTo>
                  <a:pt x="2472" y="1444"/>
                  <a:pt x="2336" y="1475"/>
                  <a:pt x="2192" y="1467"/>
                </a:cubicBezTo>
                <a:cubicBezTo>
                  <a:pt x="2048" y="1459"/>
                  <a:pt x="1829" y="1308"/>
                  <a:pt x="1693" y="1285"/>
                </a:cubicBezTo>
                <a:cubicBezTo>
                  <a:pt x="1557" y="1262"/>
                  <a:pt x="1467" y="1369"/>
                  <a:pt x="1376" y="1331"/>
                </a:cubicBezTo>
                <a:cubicBezTo>
                  <a:pt x="1285" y="1293"/>
                  <a:pt x="1240" y="1112"/>
                  <a:pt x="1149" y="1059"/>
                </a:cubicBezTo>
                <a:cubicBezTo>
                  <a:pt x="1058" y="1006"/>
                  <a:pt x="930" y="1006"/>
                  <a:pt x="832" y="1013"/>
                </a:cubicBezTo>
                <a:cubicBezTo>
                  <a:pt x="734" y="1020"/>
                  <a:pt x="642" y="1127"/>
                  <a:pt x="559" y="1104"/>
                </a:cubicBezTo>
                <a:cubicBezTo>
                  <a:pt x="476" y="1081"/>
                  <a:pt x="393" y="937"/>
                  <a:pt x="333" y="877"/>
                </a:cubicBezTo>
                <a:cubicBezTo>
                  <a:pt x="273" y="817"/>
                  <a:pt x="226" y="779"/>
                  <a:pt x="196" y="741"/>
                </a:cubicBezTo>
                <a:cubicBezTo>
                  <a:pt x="166" y="703"/>
                  <a:pt x="174" y="673"/>
                  <a:pt x="151" y="650"/>
                </a:cubicBezTo>
                <a:cubicBezTo>
                  <a:pt x="128" y="627"/>
                  <a:pt x="75" y="658"/>
                  <a:pt x="60" y="605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10800000"/>
          </a:gra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95560" y="4178160"/>
            <a:ext cx="76320" cy="266760"/>
          </a:xfrm>
          <a:custGeom>
            <a:avLst/>
            <a:gdLst/>
            <a:ahLst/>
            <a:rect l="l" t="t" r="r" b="b"/>
            <a:pathLst>
              <a:path w="48" h="168">
                <a:moveTo>
                  <a:pt x="0" y="0"/>
                </a:moveTo>
                <a:cubicBezTo>
                  <a:pt x="19" y="58"/>
                  <a:pt x="48" y="106"/>
                  <a:pt x="48" y="168"/>
                </a:cubicBezTo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908280" y="734400"/>
            <a:ext cx="1566000" cy="1320120"/>
            <a:chOff x="908280" y="734400"/>
            <a:chExt cx="1566000" cy="1320120"/>
          </a:xfrm>
        </p:grpSpPr>
        <p:grpSp>
          <p:nvGrpSpPr>
            <p:cNvPr id="195" name=""/>
            <p:cNvGrpSpPr/>
            <p:nvPr/>
          </p:nvGrpSpPr>
          <p:grpSpPr>
            <a:xfrm>
              <a:off x="908280" y="734400"/>
              <a:ext cx="1566000" cy="1242720"/>
              <a:chOff x="908280" y="734400"/>
              <a:chExt cx="1566000" cy="124272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2147760" y="1136520"/>
                <a:ext cx="326520" cy="49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908280" y="734400"/>
                <a:ext cx="1440360" cy="1242720"/>
                <a:chOff x="908280" y="734400"/>
                <a:chExt cx="1440360" cy="12427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075040" y="1465920"/>
                  <a:ext cx="273600" cy="18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936000" y="1059480"/>
                  <a:ext cx="303120" cy="132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1168560" y="1745640"/>
                  <a:ext cx="236160" cy="231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1939680" y="757800"/>
                  <a:ext cx="171360" cy="2822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558080" y="734400"/>
                  <a:ext cx="118080" cy="308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908280" y="1468800"/>
                  <a:ext cx="318600" cy="87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21053400">
                  <a:off x="1255680" y="983160"/>
                  <a:ext cx="894600" cy="792720"/>
                </a:xfrm>
                <a:custGeom>
                  <a:avLst/>
                  <a:gdLst/>
                  <a:ahLst/>
                  <a:rect l="l" t="t" r="r" b="b"/>
                  <a:pathLst>
                    <a:path w="506" h="475">
                      <a:moveTo>
                        <a:pt x="390" y="58"/>
                      </a:moveTo>
                      <a:cubicBezTo>
                        <a:pt x="392" y="60"/>
                        <a:pt x="378" y="67"/>
                        <a:pt x="374" y="66"/>
                      </a:cubicBezTo>
                      <a:cubicBezTo>
                        <a:pt x="370" y="65"/>
                        <a:pt x="350" y="39"/>
                        <a:pt x="363" y="52"/>
                      </a:cubicBezTo>
                      <a:cubicBezTo>
                        <a:pt x="376" y="65"/>
                        <a:pt x="430" y="105"/>
                        <a:pt x="453" y="143"/>
                      </a:cubicBezTo>
                      <a:cubicBezTo>
                        <a:pt x="476" y="181"/>
                        <a:pt x="506" y="234"/>
                        <a:pt x="499" y="279"/>
                      </a:cubicBezTo>
                      <a:cubicBezTo>
                        <a:pt x="492" y="324"/>
                        <a:pt x="438" y="385"/>
                        <a:pt x="408" y="415"/>
                      </a:cubicBezTo>
                      <a:cubicBezTo>
                        <a:pt x="378" y="445"/>
                        <a:pt x="362" y="453"/>
                        <a:pt x="317" y="460"/>
                      </a:cubicBezTo>
                      <a:cubicBezTo>
                        <a:pt x="272" y="467"/>
                        <a:pt x="181" y="475"/>
                        <a:pt x="136" y="460"/>
                      </a:cubicBezTo>
                      <a:cubicBezTo>
                        <a:pt x="91" y="445"/>
                        <a:pt x="68" y="415"/>
                        <a:pt x="45" y="370"/>
                      </a:cubicBezTo>
                      <a:cubicBezTo>
                        <a:pt x="22" y="325"/>
                        <a:pt x="0" y="241"/>
                        <a:pt x="0" y="188"/>
                      </a:cubicBezTo>
                      <a:cubicBezTo>
                        <a:pt x="0" y="135"/>
                        <a:pt x="22" y="82"/>
                        <a:pt x="45" y="52"/>
                      </a:cubicBezTo>
                      <a:cubicBezTo>
                        <a:pt x="68" y="22"/>
                        <a:pt x="98" y="14"/>
                        <a:pt x="136" y="7"/>
                      </a:cubicBezTo>
                      <a:cubicBezTo>
                        <a:pt x="174" y="0"/>
                        <a:pt x="234" y="0"/>
                        <a:pt x="272" y="7"/>
                      </a:cubicBezTo>
                      <a:cubicBezTo>
                        <a:pt x="310" y="14"/>
                        <a:pt x="343" y="44"/>
                        <a:pt x="363" y="52"/>
                      </a:cubicBezTo>
                      <a:cubicBezTo>
                        <a:pt x="383" y="60"/>
                        <a:pt x="388" y="56"/>
                        <a:pt x="390" y="5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8f8f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1953360" y="1774440"/>
              <a:ext cx="45000" cy="280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71400" y="4581360"/>
            <a:ext cx="7799400" cy="1297080"/>
          </a:xfrm>
          <a:custGeom>
            <a:avLst/>
            <a:gdLst/>
            <a:ahLst/>
            <a:rect l="l" t="t" r="r" b="b"/>
            <a:pathLst>
              <a:path w="4913" h="817">
                <a:moveTo>
                  <a:pt x="143" y="192"/>
                </a:moveTo>
                <a:cubicBezTo>
                  <a:pt x="188" y="147"/>
                  <a:pt x="226" y="132"/>
                  <a:pt x="279" y="102"/>
                </a:cubicBezTo>
                <a:cubicBezTo>
                  <a:pt x="332" y="72"/>
                  <a:pt x="433" y="0"/>
                  <a:pt x="461" y="11"/>
                </a:cubicBezTo>
                <a:cubicBezTo>
                  <a:pt x="489" y="22"/>
                  <a:pt x="436" y="128"/>
                  <a:pt x="449" y="171"/>
                </a:cubicBezTo>
                <a:cubicBezTo>
                  <a:pt x="462" y="214"/>
                  <a:pt x="494" y="259"/>
                  <a:pt x="537" y="267"/>
                </a:cubicBezTo>
                <a:cubicBezTo>
                  <a:pt x="580" y="275"/>
                  <a:pt x="665" y="231"/>
                  <a:pt x="705" y="219"/>
                </a:cubicBezTo>
                <a:cubicBezTo>
                  <a:pt x="745" y="207"/>
                  <a:pt x="751" y="189"/>
                  <a:pt x="778" y="192"/>
                </a:cubicBezTo>
                <a:cubicBezTo>
                  <a:pt x="805" y="195"/>
                  <a:pt x="854" y="268"/>
                  <a:pt x="869" y="238"/>
                </a:cubicBezTo>
                <a:cubicBezTo>
                  <a:pt x="884" y="208"/>
                  <a:pt x="846" y="22"/>
                  <a:pt x="869" y="11"/>
                </a:cubicBezTo>
                <a:cubicBezTo>
                  <a:pt x="892" y="0"/>
                  <a:pt x="962" y="135"/>
                  <a:pt x="1009" y="171"/>
                </a:cubicBezTo>
                <a:cubicBezTo>
                  <a:pt x="1056" y="207"/>
                  <a:pt x="1124" y="231"/>
                  <a:pt x="1153" y="227"/>
                </a:cubicBezTo>
                <a:cubicBezTo>
                  <a:pt x="1182" y="223"/>
                  <a:pt x="1173" y="153"/>
                  <a:pt x="1186" y="147"/>
                </a:cubicBezTo>
                <a:cubicBezTo>
                  <a:pt x="1199" y="141"/>
                  <a:pt x="1194" y="177"/>
                  <a:pt x="1232" y="192"/>
                </a:cubicBezTo>
                <a:cubicBezTo>
                  <a:pt x="1270" y="207"/>
                  <a:pt x="1357" y="232"/>
                  <a:pt x="1413" y="238"/>
                </a:cubicBezTo>
                <a:cubicBezTo>
                  <a:pt x="1469" y="244"/>
                  <a:pt x="1539" y="245"/>
                  <a:pt x="1569" y="227"/>
                </a:cubicBezTo>
                <a:cubicBezTo>
                  <a:pt x="1599" y="209"/>
                  <a:pt x="1580" y="162"/>
                  <a:pt x="1593" y="131"/>
                </a:cubicBezTo>
                <a:cubicBezTo>
                  <a:pt x="1606" y="100"/>
                  <a:pt x="1641" y="55"/>
                  <a:pt x="1649" y="43"/>
                </a:cubicBezTo>
                <a:cubicBezTo>
                  <a:pt x="1657" y="31"/>
                  <a:pt x="1641" y="39"/>
                  <a:pt x="1640" y="56"/>
                </a:cubicBezTo>
                <a:cubicBezTo>
                  <a:pt x="1639" y="73"/>
                  <a:pt x="1627" y="131"/>
                  <a:pt x="1640" y="147"/>
                </a:cubicBezTo>
                <a:cubicBezTo>
                  <a:pt x="1653" y="163"/>
                  <a:pt x="1698" y="140"/>
                  <a:pt x="1721" y="155"/>
                </a:cubicBezTo>
                <a:cubicBezTo>
                  <a:pt x="1744" y="170"/>
                  <a:pt x="1755" y="238"/>
                  <a:pt x="1776" y="238"/>
                </a:cubicBezTo>
                <a:cubicBezTo>
                  <a:pt x="1797" y="238"/>
                  <a:pt x="1826" y="170"/>
                  <a:pt x="1849" y="155"/>
                </a:cubicBezTo>
                <a:cubicBezTo>
                  <a:pt x="1872" y="140"/>
                  <a:pt x="1909" y="156"/>
                  <a:pt x="1912" y="147"/>
                </a:cubicBezTo>
                <a:cubicBezTo>
                  <a:pt x="1915" y="138"/>
                  <a:pt x="1874" y="117"/>
                  <a:pt x="1867" y="102"/>
                </a:cubicBezTo>
                <a:cubicBezTo>
                  <a:pt x="1860" y="87"/>
                  <a:pt x="1851" y="43"/>
                  <a:pt x="1867" y="56"/>
                </a:cubicBezTo>
                <a:cubicBezTo>
                  <a:pt x="1883" y="69"/>
                  <a:pt x="1931" y="167"/>
                  <a:pt x="1961" y="179"/>
                </a:cubicBezTo>
                <a:cubicBezTo>
                  <a:pt x="1991" y="191"/>
                  <a:pt x="2020" y="144"/>
                  <a:pt x="2049" y="131"/>
                </a:cubicBezTo>
                <a:cubicBezTo>
                  <a:pt x="2078" y="118"/>
                  <a:pt x="2130" y="111"/>
                  <a:pt x="2137" y="99"/>
                </a:cubicBezTo>
                <a:cubicBezTo>
                  <a:pt x="2144" y="87"/>
                  <a:pt x="2093" y="56"/>
                  <a:pt x="2093" y="56"/>
                </a:cubicBezTo>
                <a:cubicBezTo>
                  <a:pt x="2093" y="56"/>
                  <a:pt x="2124" y="87"/>
                  <a:pt x="2139" y="102"/>
                </a:cubicBezTo>
                <a:cubicBezTo>
                  <a:pt x="2154" y="117"/>
                  <a:pt x="2169" y="132"/>
                  <a:pt x="2184" y="147"/>
                </a:cubicBezTo>
                <a:cubicBezTo>
                  <a:pt x="2199" y="162"/>
                  <a:pt x="2185" y="192"/>
                  <a:pt x="2230" y="192"/>
                </a:cubicBezTo>
                <a:cubicBezTo>
                  <a:pt x="2275" y="192"/>
                  <a:pt x="2388" y="139"/>
                  <a:pt x="2456" y="147"/>
                </a:cubicBezTo>
                <a:cubicBezTo>
                  <a:pt x="2524" y="155"/>
                  <a:pt x="2600" y="208"/>
                  <a:pt x="2638" y="238"/>
                </a:cubicBezTo>
                <a:cubicBezTo>
                  <a:pt x="2676" y="268"/>
                  <a:pt x="2668" y="305"/>
                  <a:pt x="2683" y="328"/>
                </a:cubicBezTo>
                <a:cubicBezTo>
                  <a:pt x="2698" y="351"/>
                  <a:pt x="2684" y="366"/>
                  <a:pt x="2729" y="374"/>
                </a:cubicBezTo>
                <a:cubicBezTo>
                  <a:pt x="2774" y="382"/>
                  <a:pt x="2902" y="374"/>
                  <a:pt x="2955" y="374"/>
                </a:cubicBezTo>
                <a:cubicBezTo>
                  <a:pt x="3008" y="374"/>
                  <a:pt x="3023" y="382"/>
                  <a:pt x="3046" y="374"/>
                </a:cubicBezTo>
                <a:cubicBezTo>
                  <a:pt x="3069" y="366"/>
                  <a:pt x="3061" y="328"/>
                  <a:pt x="3091" y="328"/>
                </a:cubicBezTo>
                <a:cubicBezTo>
                  <a:pt x="3121" y="328"/>
                  <a:pt x="3189" y="366"/>
                  <a:pt x="3227" y="374"/>
                </a:cubicBezTo>
                <a:cubicBezTo>
                  <a:pt x="3265" y="382"/>
                  <a:pt x="3295" y="374"/>
                  <a:pt x="3318" y="374"/>
                </a:cubicBezTo>
                <a:cubicBezTo>
                  <a:pt x="3341" y="374"/>
                  <a:pt x="3349" y="389"/>
                  <a:pt x="3364" y="374"/>
                </a:cubicBezTo>
                <a:cubicBezTo>
                  <a:pt x="3379" y="359"/>
                  <a:pt x="3386" y="298"/>
                  <a:pt x="3409" y="283"/>
                </a:cubicBezTo>
                <a:cubicBezTo>
                  <a:pt x="3432" y="268"/>
                  <a:pt x="3470" y="283"/>
                  <a:pt x="3500" y="283"/>
                </a:cubicBezTo>
                <a:cubicBezTo>
                  <a:pt x="3530" y="283"/>
                  <a:pt x="3560" y="290"/>
                  <a:pt x="3590" y="283"/>
                </a:cubicBezTo>
                <a:cubicBezTo>
                  <a:pt x="3620" y="276"/>
                  <a:pt x="3666" y="231"/>
                  <a:pt x="3681" y="238"/>
                </a:cubicBezTo>
                <a:cubicBezTo>
                  <a:pt x="3696" y="245"/>
                  <a:pt x="3658" y="305"/>
                  <a:pt x="3681" y="328"/>
                </a:cubicBezTo>
                <a:cubicBezTo>
                  <a:pt x="3704" y="351"/>
                  <a:pt x="3772" y="374"/>
                  <a:pt x="3817" y="374"/>
                </a:cubicBezTo>
                <a:cubicBezTo>
                  <a:pt x="3862" y="374"/>
                  <a:pt x="3923" y="336"/>
                  <a:pt x="3953" y="328"/>
                </a:cubicBezTo>
                <a:cubicBezTo>
                  <a:pt x="3983" y="320"/>
                  <a:pt x="3991" y="320"/>
                  <a:pt x="3999" y="328"/>
                </a:cubicBezTo>
                <a:cubicBezTo>
                  <a:pt x="4007" y="336"/>
                  <a:pt x="3976" y="374"/>
                  <a:pt x="3999" y="374"/>
                </a:cubicBezTo>
                <a:cubicBezTo>
                  <a:pt x="4022" y="374"/>
                  <a:pt x="4112" y="358"/>
                  <a:pt x="4135" y="328"/>
                </a:cubicBezTo>
                <a:cubicBezTo>
                  <a:pt x="4158" y="298"/>
                  <a:pt x="4120" y="199"/>
                  <a:pt x="4135" y="192"/>
                </a:cubicBezTo>
                <a:cubicBezTo>
                  <a:pt x="4150" y="185"/>
                  <a:pt x="4187" y="268"/>
                  <a:pt x="4225" y="283"/>
                </a:cubicBezTo>
                <a:cubicBezTo>
                  <a:pt x="4263" y="298"/>
                  <a:pt x="4323" y="306"/>
                  <a:pt x="4361" y="283"/>
                </a:cubicBezTo>
                <a:cubicBezTo>
                  <a:pt x="4399" y="260"/>
                  <a:pt x="4422" y="162"/>
                  <a:pt x="4452" y="147"/>
                </a:cubicBezTo>
                <a:cubicBezTo>
                  <a:pt x="4482" y="132"/>
                  <a:pt x="4475" y="169"/>
                  <a:pt x="4543" y="192"/>
                </a:cubicBezTo>
                <a:cubicBezTo>
                  <a:pt x="4611" y="215"/>
                  <a:pt x="4807" y="253"/>
                  <a:pt x="4860" y="283"/>
                </a:cubicBezTo>
                <a:cubicBezTo>
                  <a:pt x="4913" y="313"/>
                  <a:pt x="4883" y="329"/>
                  <a:pt x="4860" y="374"/>
                </a:cubicBezTo>
                <a:cubicBezTo>
                  <a:pt x="4837" y="419"/>
                  <a:pt x="4799" y="510"/>
                  <a:pt x="4724" y="555"/>
                </a:cubicBezTo>
                <a:cubicBezTo>
                  <a:pt x="4649" y="600"/>
                  <a:pt x="4566" y="616"/>
                  <a:pt x="4407" y="646"/>
                </a:cubicBezTo>
                <a:cubicBezTo>
                  <a:pt x="4248" y="676"/>
                  <a:pt x="3976" y="722"/>
                  <a:pt x="3772" y="737"/>
                </a:cubicBezTo>
                <a:cubicBezTo>
                  <a:pt x="3568" y="752"/>
                  <a:pt x="3341" y="767"/>
                  <a:pt x="3182" y="737"/>
                </a:cubicBezTo>
                <a:cubicBezTo>
                  <a:pt x="3023" y="707"/>
                  <a:pt x="2978" y="548"/>
                  <a:pt x="2819" y="555"/>
                </a:cubicBezTo>
                <a:cubicBezTo>
                  <a:pt x="2660" y="562"/>
                  <a:pt x="2425" y="747"/>
                  <a:pt x="2230" y="782"/>
                </a:cubicBezTo>
                <a:cubicBezTo>
                  <a:pt x="2035" y="817"/>
                  <a:pt x="1823" y="786"/>
                  <a:pt x="1649" y="763"/>
                </a:cubicBezTo>
                <a:cubicBezTo>
                  <a:pt x="1475" y="740"/>
                  <a:pt x="1331" y="665"/>
                  <a:pt x="1186" y="646"/>
                </a:cubicBezTo>
                <a:cubicBezTo>
                  <a:pt x="1041" y="627"/>
                  <a:pt x="891" y="653"/>
                  <a:pt x="778" y="646"/>
                </a:cubicBezTo>
                <a:cubicBezTo>
                  <a:pt x="665" y="639"/>
                  <a:pt x="604" y="631"/>
                  <a:pt x="506" y="601"/>
                </a:cubicBezTo>
                <a:cubicBezTo>
                  <a:pt x="408" y="571"/>
                  <a:pt x="271" y="503"/>
                  <a:pt x="188" y="465"/>
                </a:cubicBezTo>
                <a:cubicBezTo>
                  <a:pt x="105" y="427"/>
                  <a:pt x="14" y="427"/>
                  <a:pt x="7" y="374"/>
                </a:cubicBezTo>
                <a:cubicBezTo>
                  <a:pt x="0" y="321"/>
                  <a:pt x="98" y="237"/>
                  <a:pt x="143" y="19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16000" y="2201760"/>
            <a:ext cx="3022200" cy="2450520"/>
            <a:chOff x="1116000" y="2201760"/>
            <a:chExt cx="3022200" cy="2450520"/>
          </a:xfrm>
        </p:grpSpPr>
        <p:sp>
          <p:nvSpPr>
            <p:cNvPr id="208" name=""/>
            <p:cNvSpPr/>
            <p:nvPr/>
          </p:nvSpPr>
          <p:spPr>
            <a:xfrm>
              <a:off x="1116000" y="2724480"/>
              <a:ext cx="599760" cy="1194840"/>
            </a:xfrm>
            <a:custGeom>
              <a:avLst/>
              <a:gdLst/>
              <a:ahLst/>
              <a:rect l="l" t="t" r="r" b="b"/>
              <a:pathLst>
                <a:path w="171" h="311">
                  <a:moveTo>
                    <a:pt x="171" y="0"/>
                  </a:moveTo>
                  <a:lnTo>
                    <a:pt x="67" y="163"/>
                  </a:lnTo>
                  <a:lnTo>
                    <a:pt x="0" y="311"/>
                  </a:lnTo>
                  <a:lnTo>
                    <a:pt x="104" y="148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116000" y="2201760"/>
              <a:ext cx="3022200" cy="2450520"/>
              <a:chOff x="1116000" y="2201760"/>
              <a:chExt cx="3022200" cy="245052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1116000" y="2201760"/>
                <a:ext cx="3022200" cy="2450520"/>
                <a:chOff x="1116000" y="2201760"/>
                <a:chExt cx="3022200" cy="2450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704320" y="3297960"/>
                  <a:ext cx="616320" cy="1046160"/>
                </a:xfrm>
                <a:custGeom>
                  <a:avLst/>
                  <a:gdLst/>
                  <a:ahLst/>
                  <a:rect l="l" t="t" r="r" b="b"/>
                  <a:pathLst>
                    <a:path w="338" h="499">
                      <a:moveTo>
                        <a:pt x="319" y="62"/>
                      </a:moveTo>
                      <a:cubicBezTo>
                        <a:pt x="322" y="89"/>
                        <a:pt x="324" y="156"/>
                        <a:pt x="327" y="191"/>
                      </a:cubicBezTo>
                      <a:cubicBezTo>
                        <a:pt x="330" y="226"/>
                        <a:pt x="338" y="250"/>
                        <a:pt x="335" y="275"/>
                      </a:cubicBezTo>
                      <a:cubicBezTo>
                        <a:pt x="332" y="300"/>
                        <a:pt x="321" y="322"/>
                        <a:pt x="311" y="339"/>
                      </a:cubicBezTo>
                      <a:cubicBezTo>
                        <a:pt x="301" y="356"/>
                        <a:pt x="289" y="366"/>
                        <a:pt x="273" y="379"/>
                      </a:cubicBezTo>
                      <a:cubicBezTo>
                        <a:pt x="257" y="392"/>
                        <a:pt x="233" y="406"/>
                        <a:pt x="215" y="419"/>
                      </a:cubicBezTo>
                      <a:cubicBezTo>
                        <a:pt x="197" y="432"/>
                        <a:pt x="176" y="450"/>
                        <a:pt x="163" y="459"/>
                      </a:cubicBezTo>
                      <a:cubicBezTo>
                        <a:pt x="150" y="468"/>
                        <a:pt x="150" y="463"/>
                        <a:pt x="137" y="470"/>
                      </a:cubicBezTo>
                      <a:cubicBezTo>
                        <a:pt x="124" y="477"/>
                        <a:pt x="102" y="499"/>
                        <a:pt x="87" y="499"/>
                      </a:cubicBezTo>
                      <a:cubicBezTo>
                        <a:pt x="72" y="499"/>
                        <a:pt x="57" y="482"/>
                        <a:pt x="46" y="470"/>
                      </a:cubicBezTo>
                      <a:cubicBezTo>
                        <a:pt x="35" y="458"/>
                        <a:pt x="29" y="442"/>
                        <a:pt x="23" y="427"/>
                      </a:cubicBezTo>
                      <a:cubicBezTo>
                        <a:pt x="17" y="412"/>
                        <a:pt x="0" y="394"/>
                        <a:pt x="11" y="379"/>
                      </a:cubicBezTo>
                      <a:cubicBezTo>
                        <a:pt x="22" y="364"/>
                        <a:pt x="88" y="337"/>
                        <a:pt x="92" y="334"/>
                      </a:cubicBezTo>
                      <a:cubicBezTo>
                        <a:pt x="96" y="331"/>
                        <a:pt x="28" y="366"/>
                        <a:pt x="35" y="359"/>
                      </a:cubicBezTo>
                      <a:cubicBezTo>
                        <a:pt x="42" y="352"/>
                        <a:pt x="100" y="311"/>
                        <a:pt x="137" y="289"/>
                      </a:cubicBezTo>
                      <a:cubicBezTo>
                        <a:pt x="174" y="267"/>
                        <a:pt x="227" y="271"/>
                        <a:pt x="255" y="227"/>
                      </a:cubicBezTo>
                      <a:cubicBezTo>
                        <a:pt x="283" y="183"/>
                        <a:pt x="296" y="54"/>
                        <a:pt x="307" y="27"/>
                      </a:cubicBezTo>
                      <a:cubicBezTo>
                        <a:pt x="318" y="0"/>
                        <a:pt x="317" y="55"/>
                        <a:pt x="319" y="62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1116000" y="2201760"/>
                  <a:ext cx="3022200" cy="2450520"/>
                  <a:chOff x="1116000" y="2201760"/>
                  <a:chExt cx="3022200" cy="245052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1116000" y="2201760"/>
                    <a:ext cx="3022200" cy="2450520"/>
                    <a:chOff x="1116000" y="2201760"/>
                    <a:chExt cx="3022200" cy="245052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1116000" y="2201760"/>
                      <a:ext cx="3022200" cy="245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3" h="1167">
                          <a:moveTo>
                            <a:pt x="9" y="1116"/>
                          </a:moveTo>
                          <a:cubicBezTo>
                            <a:pt x="0" y="1101"/>
                            <a:pt x="28" y="1071"/>
                            <a:pt x="41" y="1040"/>
                          </a:cubicBezTo>
                          <a:cubicBezTo>
                            <a:pt x="54" y="1009"/>
                            <a:pt x="75" y="963"/>
                            <a:pt x="87" y="928"/>
                          </a:cubicBezTo>
                          <a:cubicBezTo>
                            <a:pt x="99" y="893"/>
                            <a:pt x="110" y="869"/>
                            <a:pt x="115" y="830"/>
                          </a:cubicBezTo>
                          <a:cubicBezTo>
                            <a:pt x="120" y="791"/>
                            <a:pt x="112" y="732"/>
                            <a:pt x="115" y="694"/>
                          </a:cubicBezTo>
                          <a:cubicBezTo>
                            <a:pt x="118" y="656"/>
                            <a:pt x="127" y="642"/>
                            <a:pt x="135" y="604"/>
                          </a:cubicBezTo>
                          <a:cubicBezTo>
                            <a:pt x="143" y="566"/>
                            <a:pt x="149" y="512"/>
                            <a:pt x="161" y="467"/>
                          </a:cubicBezTo>
                          <a:cubicBezTo>
                            <a:pt x="173" y="422"/>
                            <a:pt x="191" y="369"/>
                            <a:pt x="206" y="331"/>
                          </a:cubicBezTo>
                          <a:cubicBezTo>
                            <a:pt x="221" y="293"/>
                            <a:pt x="228" y="266"/>
                            <a:pt x="251" y="240"/>
                          </a:cubicBezTo>
                          <a:cubicBezTo>
                            <a:pt x="274" y="214"/>
                            <a:pt x="303" y="196"/>
                            <a:pt x="347" y="172"/>
                          </a:cubicBezTo>
                          <a:cubicBezTo>
                            <a:pt x="391" y="148"/>
                            <a:pt x="463" y="107"/>
                            <a:pt x="515" y="96"/>
                          </a:cubicBezTo>
                          <a:cubicBezTo>
                            <a:pt x="567" y="85"/>
                            <a:pt x="613" y="103"/>
                            <a:pt x="660" y="104"/>
                          </a:cubicBezTo>
                          <a:cubicBezTo>
                            <a:pt x="707" y="105"/>
                            <a:pt x="743" y="112"/>
                            <a:pt x="796" y="104"/>
                          </a:cubicBezTo>
                          <a:cubicBezTo>
                            <a:pt x="849" y="96"/>
                            <a:pt x="924" y="73"/>
                            <a:pt x="977" y="58"/>
                          </a:cubicBezTo>
                          <a:cubicBezTo>
                            <a:pt x="1030" y="43"/>
                            <a:pt x="1071" y="23"/>
                            <a:pt x="1113" y="13"/>
                          </a:cubicBezTo>
                          <a:cubicBezTo>
                            <a:pt x="1155" y="3"/>
                            <a:pt x="1193" y="0"/>
                            <a:pt x="1231" y="0"/>
                          </a:cubicBezTo>
                          <a:cubicBezTo>
                            <a:pt x="1269" y="0"/>
                            <a:pt x="1307" y="11"/>
                            <a:pt x="1340" y="13"/>
                          </a:cubicBezTo>
                          <a:cubicBezTo>
                            <a:pt x="1373" y="15"/>
                            <a:pt x="1402" y="3"/>
                            <a:pt x="1431" y="13"/>
                          </a:cubicBezTo>
                          <a:cubicBezTo>
                            <a:pt x="1460" y="23"/>
                            <a:pt x="1487" y="44"/>
                            <a:pt x="1515" y="76"/>
                          </a:cubicBezTo>
                          <a:cubicBezTo>
                            <a:pt x="1543" y="108"/>
                            <a:pt x="1580" y="159"/>
                            <a:pt x="1599" y="204"/>
                          </a:cubicBezTo>
                          <a:cubicBezTo>
                            <a:pt x="1618" y="249"/>
                            <a:pt x="1617" y="308"/>
                            <a:pt x="1627" y="344"/>
                          </a:cubicBezTo>
                          <a:cubicBezTo>
                            <a:pt x="1637" y="380"/>
                            <a:pt x="1653" y="393"/>
                            <a:pt x="1658" y="421"/>
                          </a:cubicBezTo>
                          <a:cubicBezTo>
                            <a:pt x="1663" y="449"/>
                            <a:pt x="1660" y="477"/>
                            <a:pt x="1658" y="512"/>
                          </a:cubicBezTo>
                          <a:cubicBezTo>
                            <a:pt x="1656" y="547"/>
                            <a:pt x="1649" y="595"/>
                            <a:pt x="1643" y="632"/>
                          </a:cubicBezTo>
                          <a:cubicBezTo>
                            <a:pt x="1637" y="669"/>
                            <a:pt x="1626" y="701"/>
                            <a:pt x="1623" y="732"/>
                          </a:cubicBezTo>
                          <a:cubicBezTo>
                            <a:pt x="1620" y="763"/>
                            <a:pt x="1626" y="787"/>
                            <a:pt x="1627" y="816"/>
                          </a:cubicBezTo>
                          <a:cubicBezTo>
                            <a:pt x="1628" y="845"/>
                            <a:pt x="1631" y="881"/>
                            <a:pt x="1631" y="908"/>
                          </a:cubicBezTo>
                          <a:cubicBezTo>
                            <a:pt x="1631" y="935"/>
                            <a:pt x="1638" y="955"/>
                            <a:pt x="1627" y="980"/>
                          </a:cubicBezTo>
                          <a:cubicBezTo>
                            <a:pt x="1616" y="1005"/>
                            <a:pt x="1589" y="1047"/>
                            <a:pt x="1567" y="1056"/>
                          </a:cubicBezTo>
                          <a:cubicBezTo>
                            <a:pt x="1545" y="1065"/>
                            <a:pt x="1511" y="1049"/>
                            <a:pt x="1493" y="1036"/>
                          </a:cubicBezTo>
                          <a:cubicBezTo>
                            <a:pt x="1475" y="1023"/>
                            <a:pt x="1458" y="989"/>
                            <a:pt x="1461" y="980"/>
                          </a:cubicBezTo>
                          <a:cubicBezTo>
                            <a:pt x="1464" y="971"/>
                            <a:pt x="1496" y="979"/>
                            <a:pt x="1509" y="984"/>
                          </a:cubicBezTo>
                          <a:cubicBezTo>
                            <a:pt x="1522" y="989"/>
                            <a:pt x="1532" y="1005"/>
                            <a:pt x="1537" y="1008"/>
                          </a:cubicBezTo>
                          <a:cubicBezTo>
                            <a:pt x="1542" y="1011"/>
                            <a:pt x="1539" y="1013"/>
                            <a:pt x="1541" y="1000"/>
                          </a:cubicBezTo>
                          <a:cubicBezTo>
                            <a:pt x="1543" y="987"/>
                            <a:pt x="1552" y="955"/>
                            <a:pt x="1551" y="932"/>
                          </a:cubicBezTo>
                          <a:cubicBezTo>
                            <a:pt x="1550" y="909"/>
                            <a:pt x="1540" y="896"/>
                            <a:pt x="1535" y="864"/>
                          </a:cubicBezTo>
                          <a:cubicBezTo>
                            <a:pt x="1530" y="832"/>
                            <a:pt x="1523" y="782"/>
                            <a:pt x="1521" y="739"/>
                          </a:cubicBezTo>
                          <a:cubicBezTo>
                            <a:pt x="1519" y="696"/>
                            <a:pt x="1523" y="635"/>
                            <a:pt x="1521" y="603"/>
                          </a:cubicBezTo>
                          <a:cubicBezTo>
                            <a:pt x="1519" y="571"/>
                            <a:pt x="1514" y="563"/>
                            <a:pt x="1509" y="544"/>
                          </a:cubicBezTo>
                          <a:cubicBezTo>
                            <a:pt x="1504" y="525"/>
                            <a:pt x="1505" y="503"/>
                            <a:pt x="1493" y="488"/>
                          </a:cubicBezTo>
                          <a:cubicBezTo>
                            <a:pt x="1481" y="473"/>
                            <a:pt x="1462" y="463"/>
                            <a:pt x="1439" y="452"/>
                          </a:cubicBezTo>
                          <a:cubicBezTo>
                            <a:pt x="1416" y="441"/>
                            <a:pt x="1369" y="421"/>
                            <a:pt x="1353" y="424"/>
                          </a:cubicBezTo>
                          <a:cubicBezTo>
                            <a:pt x="1337" y="427"/>
                            <a:pt x="1344" y="457"/>
                            <a:pt x="1341" y="472"/>
                          </a:cubicBezTo>
                          <a:cubicBezTo>
                            <a:pt x="1338" y="487"/>
                            <a:pt x="1342" y="516"/>
                            <a:pt x="1333" y="516"/>
                          </a:cubicBezTo>
                          <a:cubicBezTo>
                            <a:pt x="1324" y="516"/>
                            <a:pt x="1301" y="471"/>
                            <a:pt x="1285" y="472"/>
                          </a:cubicBezTo>
                          <a:cubicBezTo>
                            <a:pt x="1269" y="473"/>
                            <a:pt x="1251" y="500"/>
                            <a:pt x="1235" y="520"/>
                          </a:cubicBezTo>
                          <a:cubicBezTo>
                            <a:pt x="1219" y="540"/>
                            <a:pt x="1200" y="563"/>
                            <a:pt x="1187" y="592"/>
                          </a:cubicBezTo>
                          <a:cubicBezTo>
                            <a:pt x="1174" y="621"/>
                            <a:pt x="1164" y="661"/>
                            <a:pt x="1159" y="694"/>
                          </a:cubicBezTo>
                          <a:cubicBezTo>
                            <a:pt x="1154" y="727"/>
                            <a:pt x="1160" y="760"/>
                            <a:pt x="1155" y="788"/>
                          </a:cubicBezTo>
                          <a:cubicBezTo>
                            <a:pt x="1150" y="816"/>
                            <a:pt x="1138" y="834"/>
                            <a:pt x="1131" y="864"/>
                          </a:cubicBezTo>
                          <a:cubicBezTo>
                            <a:pt x="1124" y="894"/>
                            <a:pt x="1116" y="934"/>
                            <a:pt x="1113" y="966"/>
                          </a:cubicBezTo>
                          <a:cubicBezTo>
                            <a:pt x="1110" y="998"/>
                            <a:pt x="1104" y="1026"/>
                            <a:pt x="1113" y="1056"/>
                          </a:cubicBezTo>
                          <a:cubicBezTo>
                            <a:pt x="1122" y="1086"/>
                            <a:pt x="1190" y="1131"/>
                            <a:pt x="1169" y="1148"/>
                          </a:cubicBezTo>
                          <a:cubicBezTo>
                            <a:pt x="1148" y="1165"/>
                            <a:pt x="1014" y="1167"/>
                            <a:pt x="985" y="1156"/>
                          </a:cubicBezTo>
                          <a:cubicBezTo>
                            <a:pt x="956" y="1145"/>
                            <a:pt x="992" y="1108"/>
                            <a:pt x="993" y="1084"/>
                          </a:cubicBezTo>
                          <a:cubicBezTo>
                            <a:pt x="994" y="1060"/>
                            <a:pt x="990" y="1047"/>
                            <a:pt x="989" y="1012"/>
                          </a:cubicBezTo>
                          <a:cubicBezTo>
                            <a:pt x="988" y="977"/>
                            <a:pt x="989" y="914"/>
                            <a:pt x="987" y="876"/>
                          </a:cubicBezTo>
                          <a:cubicBezTo>
                            <a:pt x="985" y="838"/>
                            <a:pt x="981" y="813"/>
                            <a:pt x="977" y="784"/>
                          </a:cubicBezTo>
                          <a:cubicBezTo>
                            <a:pt x="973" y="755"/>
                            <a:pt x="976" y="715"/>
                            <a:pt x="963" y="700"/>
                          </a:cubicBezTo>
                          <a:cubicBezTo>
                            <a:pt x="950" y="685"/>
                            <a:pt x="929" y="687"/>
                            <a:pt x="899" y="696"/>
                          </a:cubicBezTo>
                          <a:cubicBezTo>
                            <a:pt x="869" y="705"/>
                            <a:pt x="828" y="740"/>
                            <a:pt x="783" y="752"/>
                          </a:cubicBezTo>
                          <a:cubicBezTo>
                            <a:pt x="738" y="764"/>
                            <a:pt x="701" y="767"/>
                            <a:pt x="631" y="768"/>
                          </a:cubicBezTo>
                          <a:cubicBezTo>
                            <a:pt x="561" y="769"/>
                            <a:pt x="429" y="747"/>
                            <a:pt x="363" y="760"/>
                          </a:cubicBezTo>
                          <a:cubicBezTo>
                            <a:pt x="297" y="773"/>
                            <a:pt x="267" y="806"/>
                            <a:pt x="237" y="844"/>
                          </a:cubicBezTo>
                          <a:cubicBezTo>
                            <a:pt x="207" y="882"/>
                            <a:pt x="194" y="949"/>
                            <a:pt x="185" y="988"/>
                          </a:cubicBezTo>
                          <a:cubicBezTo>
                            <a:pt x="176" y="1027"/>
                            <a:pt x="180" y="1053"/>
                            <a:pt x="185" y="1076"/>
                          </a:cubicBezTo>
                          <a:cubicBezTo>
                            <a:pt x="190" y="1099"/>
                            <a:pt x="232" y="1119"/>
                            <a:pt x="217" y="1128"/>
                          </a:cubicBezTo>
                          <a:cubicBezTo>
                            <a:pt x="202" y="1137"/>
                            <a:pt x="128" y="1134"/>
                            <a:pt x="93" y="1132"/>
                          </a:cubicBezTo>
                          <a:cubicBezTo>
                            <a:pt x="58" y="1130"/>
                            <a:pt x="18" y="1134"/>
                            <a:pt x="9" y="1116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3637080" y="2786760"/>
                      <a:ext cx="117720" cy="6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1">
                          <a:moveTo>
                            <a:pt x="0" y="19"/>
                          </a:moveTo>
                          <a:cubicBezTo>
                            <a:pt x="29" y="0"/>
                            <a:pt x="15" y="1"/>
                            <a:pt x="40" y="7"/>
                          </a:cubicBezTo>
                          <a:cubicBezTo>
                            <a:pt x="51" y="15"/>
                            <a:pt x="55" y="22"/>
                            <a:pt x="64" y="31"/>
                          </a:cubicBezTo>
                          <a:cubicBezTo>
                            <a:pt x="64" y="31"/>
                            <a:pt x="0" y="19"/>
                            <a:pt x="0" y="19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796840" y="2356560"/>
                      <a:ext cx="719640" cy="9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7" h="458">
                          <a:moveTo>
                            <a:pt x="118" y="0"/>
                          </a:moveTo>
                          <a:cubicBezTo>
                            <a:pt x="84" y="15"/>
                            <a:pt x="47" y="30"/>
                            <a:pt x="27" y="46"/>
                          </a:cubicBezTo>
                          <a:cubicBezTo>
                            <a:pt x="7" y="62"/>
                            <a:pt x="0" y="79"/>
                            <a:pt x="0" y="94"/>
                          </a:cubicBezTo>
                          <a:cubicBezTo>
                            <a:pt x="0" y="109"/>
                            <a:pt x="23" y="115"/>
                            <a:pt x="27" y="137"/>
                          </a:cubicBezTo>
                          <a:cubicBezTo>
                            <a:pt x="31" y="159"/>
                            <a:pt x="19" y="204"/>
                            <a:pt x="27" y="227"/>
                          </a:cubicBezTo>
                          <a:cubicBezTo>
                            <a:pt x="35" y="250"/>
                            <a:pt x="58" y="265"/>
                            <a:pt x="73" y="273"/>
                          </a:cubicBezTo>
                          <a:cubicBezTo>
                            <a:pt x="88" y="281"/>
                            <a:pt x="103" y="266"/>
                            <a:pt x="118" y="273"/>
                          </a:cubicBezTo>
                          <a:cubicBezTo>
                            <a:pt x="133" y="280"/>
                            <a:pt x="146" y="305"/>
                            <a:pt x="163" y="318"/>
                          </a:cubicBezTo>
                          <a:cubicBezTo>
                            <a:pt x="180" y="331"/>
                            <a:pt x="206" y="337"/>
                            <a:pt x="220" y="350"/>
                          </a:cubicBezTo>
                          <a:cubicBezTo>
                            <a:pt x="234" y="363"/>
                            <a:pt x="242" y="384"/>
                            <a:pt x="248" y="394"/>
                          </a:cubicBezTo>
                          <a:cubicBezTo>
                            <a:pt x="254" y="404"/>
                            <a:pt x="242" y="402"/>
                            <a:pt x="254" y="409"/>
                          </a:cubicBezTo>
                          <a:cubicBezTo>
                            <a:pt x="266" y="416"/>
                            <a:pt x="305" y="427"/>
                            <a:pt x="320" y="434"/>
                          </a:cubicBezTo>
                          <a:cubicBezTo>
                            <a:pt x="335" y="441"/>
                            <a:pt x="333" y="458"/>
                            <a:pt x="345" y="454"/>
                          </a:cubicBezTo>
                          <a:cubicBezTo>
                            <a:pt x="357" y="450"/>
                            <a:pt x="383" y="424"/>
                            <a:pt x="390" y="409"/>
                          </a:cubicBezTo>
                          <a:cubicBezTo>
                            <a:pt x="397" y="394"/>
                            <a:pt x="390" y="378"/>
                            <a:pt x="390" y="363"/>
                          </a:cubicBezTo>
                          <a:cubicBezTo>
                            <a:pt x="390" y="348"/>
                            <a:pt x="390" y="333"/>
                            <a:pt x="390" y="318"/>
                          </a:cubicBezTo>
                          <a:cubicBezTo>
                            <a:pt x="390" y="303"/>
                            <a:pt x="390" y="288"/>
                            <a:pt x="390" y="273"/>
                          </a:cubicBezTo>
                          <a:cubicBezTo>
                            <a:pt x="390" y="258"/>
                            <a:pt x="390" y="242"/>
                            <a:pt x="390" y="227"/>
                          </a:cubicBezTo>
                          <a:cubicBezTo>
                            <a:pt x="390" y="212"/>
                            <a:pt x="397" y="197"/>
                            <a:pt x="390" y="182"/>
                          </a:cubicBezTo>
                          <a:cubicBezTo>
                            <a:pt x="383" y="167"/>
                            <a:pt x="352" y="152"/>
                            <a:pt x="345" y="137"/>
                          </a:cubicBezTo>
                          <a:cubicBezTo>
                            <a:pt x="338" y="122"/>
                            <a:pt x="338" y="106"/>
                            <a:pt x="345" y="91"/>
                          </a:cubicBezTo>
                          <a:cubicBezTo>
                            <a:pt x="352" y="76"/>
                            <a:pt x="371" y="61"/>
                            <a:pt x="390" y="46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1675080" y="3820320"/>
                      <a:ext cx="741960" cy="83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397">
                          <a:moveTo>
                            <a:pt x="0" y="0"/>
                          </a:moveTo>
                          <a:cubicBezTo>
                            <a:pt x="0" y="7"/>
                            <a:pt x="35" y="7"/>
                            <a:pt x="56" y="24"/>
                          </a:cubicBezTo>
                          <a:cubicBezTo>
                            <a:pt x="77" y="41"/>
                            <a:pt x="113" y="77"/>
                            <a:pt x="128" y="100"/>
                          </a:cubicBezTo>
                          <a:cubicBezTo>
                            <a:pt x="143" y="123"/>
                            <a:pt x="139" y="141"/>
                            <a:pt x="147" y="160"/>
                          </a:cubicBezTo>
                          <a:cubicBezTo>
                            <a:pt x="155" y="179"/>
                            <a:pt x="166" y="195"/>
                            <a:pt x="176" y="216"/>
                          </a:cubicBezTo>
                          <a:cubicBezTo>
                            <a:pt x="186" y="237"/>
                            <a:pt x="196" y="261"/>
                            <a:pt x="204" y="284"/>
                          </a:cubicBezTo>
                          <a:cubicBezTo>
                            <a:pt x="212" y="307"/>
                            <a:pt x="218" y="339"/>
                            <a:pt x="224" y="356"/>
                          </a:cubicBezTo>
                          <a:cubicBezTo>
                            <a:pt x="230" y="373"/>
                            <a:pt x="228" y="382"/>
                            <a:pt x="238" y="387"/>
                          </a:cubicBezTo>
                          <a:cubicBezTo>
                            <a:pt x="248" y="392"/>
                            <a:pt x="260" y="387"/>
                            <a:pt x="283" y="387"/>
                          </a:cubicBezTo>
                          <a:cubicBezTo>
                            <a:pt x="306" y="387"/>
                            <a:pt x="353" y="397"/>
                            <a:pt x="374" y="387"/>
                          </a:cubicBezTo>
                          <a:cubicBezTo>
                            <a:pt x="395" y="377"/>
                            <a:pt x="408" y="343"/>
                            <a:pt x="408" y="328"/>
                          </a:cubicBezTo>
                          <a:cubicBezTo>
                            <a:pt x="408" y="313"/>
                            <a:pt x="383" y="308"/>
                            <a:pt x="374" y="296"/>
                          </a:cubicBezTo>
                          <a:cubicBezTo>
                            <a:pt x="365" y="284"/>
                            <a:pt x="360" y="273"/>
                            <a:pt x="352" y="256"/>
                          </a:cubicBezTo>
                          <a:cubicBezTo>
                            <a:pt x="344" y="239"/>
                            <a:pt x="338" y="217"/>
                            <a:pt x="328" y="192"/>
                          </a:cubicBezTo>
                          <a:cubicBezTo>
                            <a:pt x="318" y="167"/>
                            <a:pt x="302" y="126"/>
                            <a:pt x="292" y="104"/>
                          </a:cubicBezTo>
                          <a:cubicBezTo>
                            <a:pt x="282" y="82"/>
                            <a:pt x="273" y="75"/>
                            <a:pt x="268" y="60"/>
                          </a:cubicBezTo>
                          <a:cubicBezTo>
                            <a:pt x="263" y="45"/>
                            <a:pt x="265" y="20"/>
                            <a:pt x="264" y="12"/>
                          </a:cubicBezTo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3155040" y="3453480"/>
                      <a:ext cx="253440" cy="63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200">
                          <a:moveTo>
                            <a:pt x="64" y="0"/>
                          </a:moveTo>
                          <a:cubicBezTo>
                            <a:pt x="61" y="11"/>
                            <a:pt x="56" y="21"/>
                            <a:pt x="56" y="32"/>
                          </a:cubicBezTo>
                          <a:cubicBezTo>
                            <a:pt x="56" y="77"/>
                            <a:pt x="82" y="200"/>
                            <a:pt x="0" y="2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8f8f8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9" name=""/>
                  <p:cNvSpPr/>
                  <p:nvPr/>
                </p:nvSpPr>
                <p:spPr>
                  <a:xfrm>
                    <a:off x="3217680" y="3358800"/>
                    <a:ext cx="141480" cy="71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27">
                        <a:moveTo>
                          <a:pt x="46" y="0"/>
                        </a:moveTo>
                        <a:lnTo>
                          <a:pt x="46" y="136"/>
                        </a:lnTo>
                        <a:lnTo>
                          <a:pt x="46" y="182"/>
                        </a:lnTo>
                        <a:lnTo>
                          <a:pt x="0" y="227"/>
                        </a:lnTo>
                      </a:path>
                    </a:pathLst>
                  </a:custGeom>
                  <a:noFill/>
                  <a:ln w="9360">
                    <a:solidFill>
                      <a:srgbClr val="f8f8f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0" name=""/>
              <p:cNvSpPr/>
              <p:nvPr/>
            </p:nvSpPr>
            <p:spPr>
              <a:xfrm>
                <a:off x="3149640" y="3393720"/>
                <a:ext cx="197640" cy="731520"/>
              </a:xfrm>
              <a:custGeom>
                <a:avLst/>
                <a:gdLst/>
                <a:ahLst/>
                <a:rect l="l" t="t" r="r" b="b"/>
                <a:pathLst>
                  <a:path w="77" h="272">
                    <a:moveTo>
                      <a:pt x="72" y="0"/>
                    </a:moveTo>
                    <a:cubicBezTo>
                      <a:pt x="72" y="7"/>
                      <a:pt x="72" y="8"/>
                      <a:pt x="72" y="32"/>
                    </a:cubicBezTo>
                    <a:cubicBezTo>
                      <a:pt x="72" y="56"/>
                      <a:pt x="77" y="113"/>
                      <a:pt x="69" y="147"/>
                    </a:cubicBezTo>
                    <a:cubicBezTo>
                      <a:pt x="61" y="181"/>
                      <a:pt x="34" y="217"/>
                      <a:pt x="23" y="238"/>
                    </a:cubicBezTo>
                    <a:cubicBezTo>
                      <a:pt x="12" y="259"/>
                      <a:pt x="5" y="265"/>
                      <a:pt x="0" y="27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076720" y="4516560"/>
            <a:ext cx="790560" cy="5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708360" y="429264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92360" y="14842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Проверьте, правильно ли найдены отношения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995480" y="5227560"/>
                <a:ext cx="3556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132000" y="5227560"/>
                <a:ext cx="409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900000" y="2563920"/>
            <a:ext cx="503280" cy="503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3500280"/>
            <a:ext cx="503280" cy="5032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4435560"/>
            <a:ext cx="503280" cy="503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5372280"/>
            <a:ext cx="503280" cy="502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29080" y="5372280"/>
            <a:ext cx="2376360" cy="792000"/>
            <a:chOff x="4429080" y="5372280"/>
            <a:chExt cx="2376360" cy="792000"/>
          </a:xfrm>
        </p:grpSpPr>
        <p:sp>
          <p:nvSpPr>
            <p:cNvPr id="231" name=""/>
            <p:cNvSpPr/>
            <p:nvPr/>
          </p:nvSpPr>
          <p:spPr>
            <a:xfrm>
              <a:off x="4789440" y="551628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Times New Roman"/>
                </a:rPr>
                <a:t>:          = 2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4429080" y="5372280"/>
                  <a:ext cx="3747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5149800" y="5372280"/>
                  <a:ext cx="3459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"/>
          <p:cNvSpPr/>
          <p:nvPr/>
        </p:nvSpPr>
        <p:spPr>
          <a:xfrm>
            <a:off x="1910160" y="256392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125  к  4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48520" y="342756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8,4 : 3 = 2,6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30880" y="450864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2,4 : 1,2 = 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99440" y="342756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8,4  к  3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83600" y="450864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2,4  к  1,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6520" y="53722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765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Цв</a:t>
            </a:r>
            <a:r>
              <a:rPr b="0" lang="en-US" sz="3200" spc="-1" strike="noStrike">
                <a:solidFill>
                  <a:srgbClr val="51f200"/>
                </a:solidFill>
                <a:latin typeface="Comic Sans MS"/>
              </a:rPr>
              <a:t>етн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ой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дик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та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н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00720" y="2492280"/>
            <a:ext cx="4080240" cy="720720"/>
            <a:chOff x="4500720" y="2492280"/>
            <a:chExt cx="4080240" cy="720720"/>
          </a:xfrm>
        </p:grpSpPr>
        <p:sp>
          <p:nvSpPr>
            <p:cNvPr id="242" name=""/>
            <p:cNvSpPr/>
            <p:nvPr/>
          </p:nvSpPr>
          <p:spPr>
            <a:xfrm>
              <a:off x="4500720" y="2635200"/>
              <a:ext cx="38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Times New Roman"/>
                </a:rPr>
                <a:t>125 : 4 = 31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98520" y="263520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8f8f8"/>
                  </a:solidFill>
                  <a:latin typeface="Times New Roman"/>
                </a:rPr>
                <a:t>31,25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6373800" y="2492280"/>
                  <a:ext cx="34128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5" name=""/>
          <p:cNvSpPr/>
          <p:nvPr/>
        </p:nvSpPr>
        <p:spPr>
          <a:xfrm>
            <a:off x="6805440" y="263520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или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92360" y="2421000"/>
            <a:ext cx="66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Подними карточку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такого же цвета, что и неправильный пример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97080" y="3284640"/>
            <a:ext cx="647640" cy="863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5080" y="34275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2,8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21:08:54Z</dcterms:created>
  <dc:creator>ирина</dc:creator>
  <dc:description/>
  <dc:language>en-US</dc:language>
  <cp:lastModifiedBy>User</cp:lastModifiedBy>
  <dcterms:modified xsi:type="dcterms:W3CDTF">2011-02-26T15:54:54Z</dcterms:modified>
  <cp:revision>147</cp:revision>
  <dc:subject/>
  <dc:title>Слайд 1</dc:title>
</cp:coreProperties>
</file>