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FCD-627B-4046-8207-6AEAC813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547-F7D4-4AE4-95BC-9C58B74A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ACB32-C8B2-46AC-AFBF-74502182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0DA57-0D0A-43D8-B894-44A3AB09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DB35E-6BAB-468A-AE6F-D97D6AEC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F27D7-7978-4E6E-8F04-98FD9926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1854F-7B6A-4385-BD1E-1F8DCC1D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0C0A4-3CED-4CBF-B5E8-949DCD5F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8ED58-4388-4076-9B13-FE4B2ADA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80205-9CA9-425F-8223-3D2DFC5F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FA368-BE5E-48A0-B4C0-DD543D97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3C8AA-4F36-4862-A3D8-75EEEAF4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5AA-71BA-43DE-82FF-272A2FC4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5A543-8BC1-4615-A88A-E3A8BF55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FD245-7536-4695-BF96-466BE5AA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5C09E-5899-441E-9432-E84E520C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1E112-8774-4C7F-9A5A-73859818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51E53-FB27-4E1C-8C67-1555A727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31A23-1171-497D-B698-4439CC9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9DEA5-D6F4-4FDC-A6E8-19A6005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A9000-20E4-4D52-8B56-7EC1758B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73DB5-0619-4400-9772-07173F6F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15B9A-1B80-42E1-81DA-AB2AE4FC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411-7A3F-48E8-945C-0A655110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6D63C-489E-4BD9-9EE5-3F55E8A7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9DBD8-9E7F-4626-8F83-A6125C6D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70932-05CE-41F7-9277-645E7507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33DDD-7C49-4F83-ABD5-2DB403A7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EE38E-49A4-438F-B86E-2BFDAC84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F3ABB-D142-4932-9F22-8E44E63F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5506F-D3C2-4378-8CB3-4C30987F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68C33-345C-49F1-83F2-9E30E92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1CCA4-4F7A-4A29-874F-F66EC0D2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61827-C58C-4922-917C-1F2EFFC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5C34-31C4-4231-81B1-56FF4706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F0F28-3A82-4FF9-A186-A68D0E16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E177C-2560-441E-9187-9C96EE8C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878B0-717B-4CF9-BC21-0AB5D037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A4E23-E4B2-4437-8628-4D277649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0B41B-9B89-47CF-B3E4-6FBD0532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D4B63-9D87-41FE-BC9E-AD0D72A6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34EB2-7594-4486-AB59-C165FB19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B4C59-9CA6-48B6-8B8F-688107AE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C76EE-8A0F-400D-9121-35DA2D81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45903-74EB-4573-AB9E-39CF7471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C4B8-9F45-4B90-AC64-807C8C21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2D4D7-8019-44D1-B587-C2883DF5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0E594-3092-4A61-908C-0D7F17AD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74263-7C2A-4B1E-AE4B-3DE68B77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04D20-55F0-46C6-85DD-A3933E95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A9C56-2DF0-4818-9B9F-F16E3DD8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4BDE-7549-4EDD-B3B8-9C736460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4211-4586-4496-8922-7EA6B86B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3C1E-9387-4226-A4E0-B8F3B5C8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CA76-8A78-463E-80AB-5928C240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9BB7-8F8A-4128-9695-224716FE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9A6-5819-4316-B008-7854DE00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913E-615B-4EB6-8905-0A456614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FDF2-BB2B-445B-BF66-070A05B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7051-8637-4689-BD98-6CC82407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8D8C-DF7B-41EE-B434-D20F5636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7381-A98D-4E5E-8A6B-94B3034A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86A4-C6C3-4EAB-BA4C-555A9101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08B1-CA3C-454A-B757-CBF673D2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08AF-309B-425B-A499-3F8D739E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5275-DE85-426D-900C-04A0FCB0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ACD2-DC6B-4CDE-880A-A9686622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F54-2F53-4FCD-8107-2CD73814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C195-5A75-4F80-9076-34B54486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D19C-9193-4149-A159-476DB780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3F09F-3C5C-4C41-A682-F7B07DE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8BBC-E2D2-4807-9130-02A6A0D5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EA02-0F23-40CE-AC15-3C883E92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C96F-1BD6-4727-A994-D1E08647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6357-8F70-4DDC-B44E-6BA5CFD1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0CA7-6EC1-4EE2-999C-A4BFB1F7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C91D8-F178-4A89-805F-92DD675F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C7822-3E2E-4A66-8F86-4800C36F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087-9F15-41D8-9763-057513B5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F427-450C-467E-AB8B-3011C3A1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F0725-24BB-443F-9A88-667D9BDA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38C5C-20C3-407B-A197-AED3A91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388F-EB47-4410-9CFE-CCC80140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C44D1-6161-4C64-9500-44550CA1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01026-B934-4E39-893C-59D4142B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65592-3331-4499-8DEB-89A767E1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F3BF-6404-4539-B5E9-3B0185D0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B08C-D992-4199-BE39-43BC1637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66C8B-0B54-411D-BBE7-1D0BE0DA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DEB-38DE-40AD-AD88-37DFB730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B6D55-9CED-4B7E-9FA4-3C98D328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A8467-EEB2-4F7C-8A3C-0416F919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1FEA8-599F-40CD-AF2E-246CF05C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9FFAD-9EC5-4BA4-B535-FE966A1B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318F-E8DF-4CAF-82E0-7353EADA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58896-122E-455B-A187-9655E75A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E75A-C135-4B62-87C9-7669CB5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B7C14-4DAB-4D5C-B06F-8FBAEB95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614C7-CBF8-4394-ACA4-38B5D5DC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F6E14-A897-49ED-8F64-9EEA1197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068-150C-41DE-A9C7-48962C12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54F34-D76D-4405-8A62-A3EFEF56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8F7AF-E356-45B2-8C7E-BF27E159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2E977-98FD-4753-A629-A714383C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90347-9FA8-411D-989A-F3BCE00C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6DDAD-75CA-4D8C-9AAD-EC750CBD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BEE7C-3044-4C4B-B5A9-83E368B9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15D1F-A6D9-431A-852B-65F253ED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41596-720C-4A53-9E58-5D94B36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A5D53-7016-404C-A01B-BF57BFB7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6B456-C0B9-4390-8B79-C666894F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512-47DC-476E-93AB-D09344C7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50B92-8906-4FD8-9648-E4419F08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45952-0B6D-4175-8C72-459552DE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F5EE4-3AFD-462D-9F05-B9272165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8EB59-42B5-4607-BA86-A501A7A0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1E0EE-551B-4ADA-B279-F7B6CB9A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8C703-0B0A-4B63-B620-B2CE364F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D8BE7-F62A-4D62-AC02-47A745EC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87FA6-F90D-407A-B3B7-CC2D0B03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BAA8A-5953-40BC-A0B8-0D20969A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4AC91-847A-4791-BED2-7A561F51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BDE-31C3-4E89-B681-469B1844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99C2B-F4C1-4383-BD5B-748AD348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CFECB-EA8C-45B5-ACCD-7E8C46C6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D45E1-5B0A-4813-9A9B-518CDB86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4C50-04A2-4F72-939B-99A6C403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25B89-07AD-4AB1-A657-8526A22B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ACFFA-D11E-49D7-A8F4-85C3DF34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143FC-522F-460F-B9E7-A28B7292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95361-4E38-4B65-9077-6A21CFCF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60FDD-65FF-404A-9152-ECB47443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EFDD3-06B1-47D8-BF9D-71FC9288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737-3554-4F99-92E7-D60AB8A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EC0F8-BAB6-4725-BD61-ECD15405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5D49B-B6BC-4F8C-99C0-7F247AA2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33702-CAF7-4BFF-9B86-6A4DE4D4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60E15-6C5B-4404-8F6E-6926755D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374DB-C3B0-46AE-AF5A-E27CB6A2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C3C42-D8F5-4069-8290-22AF8093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4EDC3-0CC6-4E84-A77E-D0CCCF39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97354-2FCE-46A4-95C3-5E5DEC0F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49041-5F40-4390-AE74-48148D40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2068D-2225-41A1-906F-0AE74734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9D61-2D92-4CF3-932A-5F628500B6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1495-D5B7-4B2D-BA77-352E75BBA4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2736-89F2-469E-AAEB-2D16359F7B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20D6-C0AE-448A-A5EF-33DB77C72E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78CE-88CD-4231-8738-8939EB5BD6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ADC5-D462-4E26-8301-0FF3E9733F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7956-B463-465F-BB41-67683B408F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C0A7-44D7-4165-9917-C1447E1712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4447-0D65-4A0E-95A7-B40A20026F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2846-5359-400C-8201-9E08086DF8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C7B8-E0FE-4D86-9981-937BF4C30E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37FC-C0E6-4E67-9505-14E33340C2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71640" y="-100440"/>
            <a:ext cx="7200720" cy="5256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Взаимное расположение графиков линейных функций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0" y="571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ределить данные функци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группам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800280" y="1844640"/>
                <a:ext cx="22874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4"/>
              <p:cNvSpPr txBox="1"/>
              <p:nvPr/>
            </p:nvSpPr>
            <p:spPr>
              <a:xfrm>
                <a:off x="785880" y="2786040"/>
                <a:ext cx="2549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,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5"/>
              <p:cNvSpPr txBox="1"/>
              <p:nvPr/>
            </p:nvSpPr>
            <p:spPr>
              <a:xfrm>
                <a:off x="857160" y="3571920"/>
                <a:ext cx="1344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6"/>
              <p:cNvSpPr txBox="1"/>
              <p:nvPr/>
            </p:nvSpPr>
            <p:spPr>
              <a:xfrm>
                <a:off x="5072040" y="1571760"/>
                <a:ext cx="153504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7"/>
              <p:cNvSpPr txBox="1"/>
              <p:nvPr/>
            </p:nvSpPr>
            <p:spPr>
              <a:xfrm>
                <a:off x="5286240" y="5072040"/>
                <a:ext cx="17528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9"/>
              <p:cNvSpPr txBox="1"/>
              <p:nvPr/>
            </p:nvSpPr>
            <p:spPr>
              <a:xfrm>
                <a:off x="928800" y="5572080"/>
                <a:ext cx="136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785880" y="4500720"/>
                <a:ext cx="16556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1"/>
              <p:cNvSpPr txBox="1"/>
              <p:nvPr/>
            </p:nvSpPr>
            <p:spPr>
              <a:xfrm>
                <a:off x="5072040" y="3071880"/>
                <a:ext cx="1679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3"/>
              <p:cNvSpPr txBox="1"/>
              <p:nvPr/>
            </p:nvSpPr>
            <p:spPr>
              <a:xfrm>
                <a:off x="5072040" y="4214880"/>
                <a:ext cx="29815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заимное расположение прямы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Прямая соединительная линия 4"/>
          <p:cNvSpPr/>
          <p:nvPr/>
        </p:nvSpPr>
        <p:spPr>
          <a:xfrm>
            <a:off x="857160" y="2357280"/>
            <a:ext cx="292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Прямая соединительная линия 7"/>
          <p:cNvSpPr/>
          <p:nvPr/>
        </p:nvSpPr>
        <p:spPr>
          <a:xfrm>
            <a:off x="928800" y="3071880"/>
            <a:ext cx="27860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Прямая соединительная линия 11"/>
          <p:cNvSpPr/>
          <p:nvPr/>
        </p:nvSpPr>
        <p:spPr>
          <a:xfrm>
            <a:off x="5929200" y="2286000"/>
            <a:ext cx="1643040" cy="157176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Прямая соединительная линия 13"/>
          <p:cNvSpPr/>
          <p:nvPr/>
        </p:nvSpPr>
        <p:spPr>
          <a:xfrm flipV="1">
            <a:off x="5786280" y="2786040"/>
            <a:ext cx="2714760" cy="71424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Прямая соединительная линия 15"/>
          <p:cNvSpPr/>
          <p:nvPr/>
        </p:nvSpPr>
        <p:spPr>
          <a:xfrm>
            <a:off x="2428920" y="4714920"/>
            <a:ext cx="371484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Прямая соединительная линия 17"/>
          <p:cNvSpPr/>
          <p:nvPr/>
        </p:nvSpPr>
        <p:spPr>
          <a:xfrm>
            <a:off x="2357280" y="4714920"/>
            <a:ext cx="3786480" cy="71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графики функц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828440"/>
            <a:ext cx="76960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ряд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ря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= 2х + 3                    у= 4х +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= 2х – 2                     у= 3х + 2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ря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=-3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=х +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1:36:40Z</dcterms:created>
  <dc:creator>марченко</dc:creator>
  <dc:description/>
  <cp:keywords/>
  <dc:language>en-US</dc:language>
  <cp:lastModifiedBy>работа</cp:lastModifiedBy>
  <dcterms:modified xsi:type="dcterms:W3CDTF">2011-10-13T08:07:38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49</vt:lpwstr>
  </property>
</Properties>
</file>