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7C2-27C0-485F-8AA7-7F4253E0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47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9AF-6E71-4EC2-B7EA-1858DB3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47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47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4BE-8F29-43B4-839C-98A4AAE4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11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11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47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47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47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CA8-9399-412B-A5A0-9CF7991C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361-E364-41EB-BAC8-9906FCE4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CE6-4F55-4B24-A7A0-DC6FCF8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11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27B-E8E9-4450-B3D7-788B109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9CB-54CC-4917-AD75-D08AE7F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E36-544A-4665-931D-3746A1F0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11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47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495-A9C0-4EAC-A291-54495E2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47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73E-CA5A-4C2B-9BB3-E599E527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11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47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CE2-BD99-46D4-81CC-9AAF6AA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Click to edit the title text format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ba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ba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ba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ba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ba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219-9FF7-4B8C-9583-14B8F51AD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92160" y="117360"/>
            <a:ext cx="8982000" cy="6604200"/>
          </a:xfrm>
          <a:prstGeom prst="roundRect">
            <a:avLst>
              <a:gd name="adj" fmla="val 231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6" name="AutoShape 10"/>
          <p:cNvSpPr/>
          <p:nvPr/>
        </p:nvSpPr>
        <p:spPr>
          <a:xfrm>
            <a:off x="192240" y="189000"/>
            <a:ext cx="8800920" cy="6446880"/>
          </a:xfrm>
          <a:prstGeom prst="roundRect">
            <a:avLst>
              <a:gd name="adj" fmla="val 2315"/>
            </a:avLst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сновные методы решения тригонометрических уравнений.</a:t>
            </a: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)по известным алгоритмам.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 + 5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 - 4=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s 2х +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 =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√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/2) + 1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Ответы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3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√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/2) + 1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 x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0000" y="3268800"/>
                <a:ext cx="2880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079960" y="3251160"/>
                <a:ext cx="266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00000" y="3848040"/>
                <a:ext cx="2051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79960" y="5168880"/>
                <a:ext cx="1724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00000" y="4254480"/>
                <a:ext cx="2051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079960" y="5494320"/>
                <a:ext cx="19400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6000" y="5168880"/>
                <a:ext cx="1440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95960" y="3797280"/>
                <a:ext cx="1508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08120" y="5460840"/>
                <a:ext cx="22431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863960" y="4237200"/>
                <a:ext cx="25876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073160" y="501480"/>
          <a:ext cx="7170840" cy="5426280"/>
        </p:xfrm>
        <a:graphic>
          <a:graphicData uri="http://schemas.openxmlformats.org/drawingml/2006/table">
            <a:tbl>
              <a:tblPr/>
              <a:tblGrid>
                <a:gridCol w="3584520"/>
                <a:gridCol w="3586320"/>
              </a:tblGrid>
              <a:tr h="621000">
                <a:tc gridSpan="2"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e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5280"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bat-Bold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ctr" marL="72720" marR="72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1" descr="http://www.falto.ru/article/ErgAerobics/1.jpg"/>
          <p:cNvPicPr/>
          <p:nvPr/>
        </p:nvPicPr>
        <p:blipFill>
          <a:blip r:embed="rId1"/>
          <a:stretch/>
        </p:blipFill>
        <p:spPr>
          <a:xfrm>
            <a:off x="689040" y="1341360"/>
            <a:ext cx="157320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falto.ru/article/ErgAerobics/2.jpg"/>
          <p:cNvPicPr/>
          <p:nvPr/>
        </p:nvPicPr>
        <p:blipFill>
          <a:blip r:embed="rId2"/>
          <a:stretch/>
        </p:blipFill>
        <p:spPr>
          <a:xfrm>
            <a:off x="1990800" y="3581280"/>
            <a:ext cx="1541520" cy="2656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48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41600"/>
            <a:ext cx="40384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11280" y="1122480"/>
            <a:ext cx="44751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bat-Bold"/>
              </a:rPr>
              <a:t>Цель этого упражнения - </a:t>
            </a: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устранение вредных эффектов от неподвижного сидения в течение длительного периода времени и профилактика грыжи межпозвоночных дисков поясничного отдела. 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bat-Bold"/>
              </a:rPr>
              <a:t>Поза:</a:t>
            </a: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 стоя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В положении стоя положите руки на бедра.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Медленно отклоняйтесь назад, глядя на небо или в потолок. 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Вернитесь в исходное положение. 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Повторите 10 раз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Физкультминутка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Упражнение 1 «Глядя в небо»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Физкультминутка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Упражнение 2 «Египтянин»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111" name="Picture 4" descr="47"/>
          <p:cNvPicPr/>
          <p:nvPr/>
        </p:nvPicPr>
        <p:blipFill>
          <a:blip r:embed="rId1"/>
          <a:stretch/>
        </p:blipFill>
        <p:spPr>
          <a:xfrm>
            <a:off x="527040" y="1357200"/>
            <a:ext cx="3208320" cy="48085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4140360" y="1357200"/>
            <a:ext cx="4432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bat-Bold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 - укрепление мышц задней стороны шеи для улучшения осанки и предотвращения болей в области шеи. 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bat-Bold"/>
              </a:rPr>
              <a:t>Поза</a:t>
            </a: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: сидя или стоя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Смотрите прямо перед собой, а не вверх и не вниз. 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Надавите указательным пальцем на подбородок. 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Сделайте движение шеей назад. 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bat-Bold"/>
              </a:rPr>
              <a:t>Совет</a:t>
            </a:r>
            <a:r>
              <a:rPr b="1" lang="en-US" sz="1800" spc="-1" strike="noStrike">
                <a:solidFill>
                  <a:srgbClr val="000000"/>
                </a:solidFill>
                <a:latin typeface="Arbat-Bold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 совершая это движение, продолжайте смотреть прямо перед собой, не смотрите вверх или вниз. Для этого представьте, что кто-то, стоящий позади вас, тянет за нить, проходящую через ваш подбородок. Оставайтесь в этом положении в течение 5 секунд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Повторите 10 раз. 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сновные методы решения тригонометрических уравнений.</a:t>
            </a: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)по известным алгоритмам.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191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3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1) 3 sin x+ 5 cos x = 0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5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si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 - 3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- 2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=0  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4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1) 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+ 2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=0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5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si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 + 2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х -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=1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5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1) 2 sin x -  5 cos x = 3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2) 1- 4 sin 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+ 6 </a:t>
            </a:r>
            <a:r>
              <a:rPr b="1" i="1" lang="en-US" sz="20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х  = 0 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44956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3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) cos x+ 3 sin x = 0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  - 5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 +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 =0 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4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) 2 si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x – sin x  cosx =0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  - 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 =1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«5»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) 2 sin x - 3 cos x = 4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-  2si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 =0</a:t>
            </a:r>
            <a:r>
              <a:rPr b="1" i="1" lang="ru-RU" sz="20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сновные методы решения тригонометрических уравнений.</a:t>
            </a: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)по известным алгоритмам.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ы 1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95680" y="177336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ы 2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97080" y="2098800"/>
                <a:ext cx="2220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9560" y="2098800"/>
                <a:ext cx="2230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89560" y="2643120"/>
                <a:ext cx="3297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58920" y="2660760"/>
                <a:ext cx="3236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271520" y="3343320"/>
                <a:ext cx="32241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71520" y="4019400"/>
                <a:ext cx="3013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0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89560" y="3276720"/>
                <a:ext cx="278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89560" y="3914640"/>
                <a:ext cx="32972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97080" y="5264280"/>
                <a:ext cx="2987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89560" y="5192640"/>
                <a:ext cx="278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90600" y="4819680"/>
                <a:ext cx="2994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89560" y="4776840"/>
                <a:ext cx="2782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зличные  алгоритмы решения уравнений вида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 sin x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 cos x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= С</a:t>
            </a:r>
            <a:r>
              <a:rPr b="1" i="1" lang="ru-RU" sz="2800" spc="-1" strike="noStrike">
                <a:solidFill>
                  <a:srgbClr val="0000ff"/>
                </a:solidFill>
                <a:latin typeface="Arbat-Bold"/>
              </a:rPr>
              <a:t> 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) переход к половинному аргументу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) использование универсальной подстановки;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) введение вспомогательного угла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134" name=""/>
          <p:cNvSpPr/>
          <p:nvPr/>
        </p:nvSpPr>
        <p:spPr>
          <a:xfrm>
            <a:off x="-5040" y="-7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ll MT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5" name=""/>
          <p:cNvSpPr/>
          <p:nvPr/>
        </p:nvSpPr>
        <p:spPr>
          <a:xfrm>
            <a:off x="-5040" y="-7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ll MT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36" name=""/>
          <p:cNvSpPr/>
          <p:nvPr/>
        </p:nvSpPr>
        <p:spPr>
          <a:xfrm>
            <a:off x="-5040" y="-7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ll MT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137" name="Picture 8" descr="Рисунок1"/>
          <p:cNvPicPr/>
          <p:nvPr/>
        </p:nvPicPr>
        <p:blipFill>
          <a:blip r:embed="rId1"/>
          <a:stretch/>
        </p:blipFill>
        <p:spPr>
          <a:xfrm>
            <a:off x="3276720" y="422100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зличные  алгоритмы решения уравнений вида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 sin x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 cos x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= С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вариант                              2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 x +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os x 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          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in x+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os x 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«3» Используя один из предложенных способов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«4» Используя любые два из предложенных способов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«5» Используя три предложенные способа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6451560" y="4165560"/>
                <a:ext cx="26924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Picture 4" descr="132"/>
          <p:cNvPicPr/>
          <p:nvPr/>
        </p:nvPicPr>
        <p:blipFill>
          <a:blip r:embed="rId1"/>
          <a:stretch/>
        </p:blipFill>
        <p:spPr>
          <a:xfrm>
            <a:off x="3841920" y="4794120"/>
            <a:ext cx="1906560" cy="165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Rectangle 3"/>
              <p:cNvSpPr txBox="1"/>
              <p:nvPr/>
            </p:nvSpPr>
            <p:spPr>
              <a:xfrm>
                <a:off x="5748480" y="4503600"/>
                <a:ext cx="31208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Rectangle 3"/>
              <p:cNvSpPr txBox="1"/>
              <p:nvPr/>
            </p:nvSpPr>
            <p:spPr>
              <a:xfrm>
                <a:off x="457200" y="4503600"/>
                <a:ext cx="33847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bat-Bold"/>
              </a:rPr>
              <a:t>Обобщающий урок по теме:</a:t>
            </a:r>
            <a:br>
              <a:rPr sz="2800"/>
            </a:br>
            <a:r>
              <a:rPr b="0" i="1" lang="en-US" sz="2800" spc="-1" strike="noStrike">
                <a:solidFill>
                  <a:srgbClr val="0000ff"/>
                </a:solidFill>
                <a:latin typeface="Arbat-Bold"/>
              </a:rPr>
              <a:t>«Общие методы решения тригонометрических уравнений» (10-11 класс, алгебра и начала анализа)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pic>
        <p:nvPicPr>
          <p:cNvPr id="46" name="Picture 5" descr="karanda46"/>
          <p:cNvPicPr/>
          <p:nvPr/>
        </p:nvPicPr>
        <p:blipFill>
          <a:blip r:embed="rId1"/>
          <a:stretch/>
        </p:blipFill>
        <p:spPr>
          <a:xfrm>
            <a:off x="457200" y="4365720"/>
            <a:ext cx="2733840" cy="1776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92000" y="3500280"/>
            <a:ext cx="51944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Бурякова Вера Николаевна, учитель математики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МОУ Малоибряйкинская ООШ Похвистневского района Самарской области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bat-Bold"/>
              </a:rPr>
              <a:t>Устная работа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Решите уравнения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А) 3 х – 5 = 7 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Б) 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 –  8 х + 15 = 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В) 4 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– 4 х + 1= 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Г) 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bat-Bold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  –  5 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+ 4 = 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Д) 3 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– 12 = 0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Ответы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4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3; 5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0,5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2; -1; 1; 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2; 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51" name="Picture 8" descr="Рисунок1"/>
          <p:cNvPicPr/>
          <p:nvPr/>
        </p:nvPicPr>
        <p:blipFill>
          <a:blip r:embed="rId1"/>
          <a:stretch/>
        </p:blipFill>
        <p:spPr>
          <a:xfrm>
            <a:off x="3276720" y="4005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Устная работа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Упростите выражения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) (sin a – 1) (sin a + 1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Б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) si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a – 1 +  co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a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В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) si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a + tg a ctg a +  co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a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Г)  √1- 2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х +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х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64000" y="111132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Ответы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a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|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|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55" name="Picture 8" descr="Рисунок1"/>
          <p:cNvPicPr/>
          <p:nvPr/>
        </p:nvPicPr>
        <p:blipFill>
          <a:blip r:embed="rId1"/>
          <a:stretch/>
        </p:blipFill>
        <p:spPr>
          <a:xfrm>
            <a:off x="3276720" y="4005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Повторение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sin (-π/3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  2π/3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  π/6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tg π/4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 (-π/6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sin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π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/4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2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  (-π/4 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sin π/3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tg π/6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 π/4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sin  (-π/6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 5π/6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59" name="Picture 8" descr="Рисунок1"/>
          <p:cNvPicPr/>
          <p:nvPr/>
        </p:nvPicPr>
        <p:blipFill>
          <a:blip r:embed="rId1"/>
          <a:stretch/>
        </p:blipFill>
        <p:spPr>
          <a:xfrm>
            <a:off x="3276720" y="44845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Повторение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38480" cy="31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Ответы 1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 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/3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2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111320"/>
            <a:ext cx="4038480" cy="31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Ответы 2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√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2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 √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3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√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1 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 1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- √3/2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63" name="Picture 4" descr="132"/>
          <p:cNvPicPr/>
          <p:nvPr/>
        </p:nvPicPr>
        <p:blipFill>
          <a:blip r:embed="rId1"/>
          <a:stretch/>
        </p:blipFill>
        <p:spPr>
          <a:xfrm>
            <a:off x="6448320" y="4508640"/>
            <a:ext cx="22384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116000" y="4221000"/>
          <a:ext cx="4535640" cy="1976760"/>
        </p:xfrm>
        <a:graphic>
          <a:graphicData uri="http://schemas.openxmlformats.org/drawingml/2006/table">
            <a:tbl>
              <a:tblPr/>
              <a:tblGrid>
                <a:gridCol w="3384720"/>
                <a:gridCol w="115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Ко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во вер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Повторение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sin  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√2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cos  1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sin (-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/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cos (-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√3/2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tg 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√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111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2 вариант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cos   √2/2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sin 1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cos (- 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/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sin (-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/2)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arctg  √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68" name="Picture 8" descr="Рисунок1"/>
          <p:cNvPicPr/>
          <p:nvPr/>
        </p:nvPicPr>
        <p:blipFill>
          <a:blip r:embed="rId1"/>
          <a:stretch/>
        </p:blipFill>
        <p:spPr>
          <a:xfrm>
            <a:off x="3132000" y="378936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bat-Bold"/>
              </a:rPr>
              <a:t>Повторение</a:t>
            </a:r>
            <a:endParaRPr b="1" i="1" lang="en-US" sz="32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Ответы 1 вариант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4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0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- 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 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3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Ответ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2 вариант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4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-  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π/</a:t>
            </a:r>
            <a:r>
              <a:rPr b="1" i="1" lang="ru-RU" sz="2800" spc="-1" strike="noStrike">
                <a:solidFill>
                  <a:srgbClr val="000000"/>
                </a:solidFill>
                <a:latin typeface="Arbat-Bold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bat-Bold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bat-Bold"/>
            </a:endParaRPr>
          </a:p>
        </p:txBody>
      </p:sp>
      <p:pic>
        <p:nvPicPr>
          <p:cNvPr id="72" name="Picture 4" descr="132"/>
          <p:cNvPicPr/>
          <p:nvPr/>
        </p:nvPicPr>
        <p:blipFill>
          <a:blip r:embed="rId1"/>
          <a:stretch/>
        </p:blipFill>
        <p:spPr>
          <a:xfrm>
            <a:off x="6012000" y="4508640"/>
            <a:ext cx="223812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57200" y="4508640"/>
          <a:ext cx="4311720" cy="1976400"/>
        </p:xfrm>
        <a:graphic>
          <a:graphicData uri="http://schemas.openxmlformats.org/drawingml/2006/table">
            <a:tbl>
              <a:tblPr/>
              <a:tblGrid>
                <a:gridCol w="3322800"/>
                <a:gridCol w="98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Ко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во верных от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&lt;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bat-Bold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улы решения уравнений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sinx</a:t>
            </a:r>
            <a:r>
              <a:rPr b="1" i="1" lang="ru-RU" sz="2800" spc="-1" strike="noStrike">
                <a:solidFill>
                  <a:srgbClr val="0000ff"/>
                </a:solidFill>
                <a:latin typeface="Arbat-Bold"/>
              </a:rPr>
              <a:t> =а,  </a:t>
            </a: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cosx</a:t>
            </a:r>
            <a:r>
              <a:rPr b="1" i="1" lang="ru-RU" sz="2800" spc="-1" strike="noStrike">
                <a:solidFill>
                  <a:srgbClr val="0000ff"/>
                </a:solidFill>
                <a:latin typeface="Arbat-Bold"/>
              </a:rPr>
              <a:t> = а, </a:t>
            </a:r>
            <a:r>
              <a:rPr b="1" i="1" lang="en-US" sz="2800" spc="-1" strike="noStrike">
                <a:solidFill>
                  <a:srgbClr val="0000ff"/>
                </a:solidFill>
                <a:latin typeface="Arbat-Bold"/>
              </a:rPr>
              <a:t>tg</a:t>
            </a:r>
            <a:r>
              <a:rPr b="1" i="1" lang="ru-RU" sz="2800" spc="-1" strike="noStrike">
                <a:solidFill>
                  <a:srgbClr val="0000ff"/>
                </a:solidFill>
                <a:latin typeface="Arbat-Bold"/>
              </a:rPr>
              <a:t> х=а.</a:t>
            </a:r>
            <a:endParaRPr b="1" i="1" lang="en-US" sz="2800" spc="-1" strike="noStrike">
              <a:solidFill>
                <a:srgbClr val="0000ff"/>
              </a:solidFill>
              <a:latin typeface="Arba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1132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sinx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=а  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            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cosx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= а              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bat-Bold"/>
              </a:rPr>
              <a:t>tg</a:t>
            </a:r>
            <a:r>
              <a:rPr b="1" i="1" lang="ru-RU" sz="2400" spc="-1" strike="noStrike">
                <a:solidFill>
                  <a:srgbClr val="000000"/>
                </a:solidFill>
                <a:latin typeface="Arbat-Bold"/>
              </a:rPr>
              <a:t> х = а </a:t>
            </a: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8000" y="111132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bat-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Rectangle 3"/>
              <p:cNvSpPr txBox="1"/>
              <p:nvPr/>
            </p:nvSpPr>
            <p:spPr>
              <a:xfrm>
                <a:off x="0" y="3265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Rectangle 3"/>
              <p:cNvSpPr txBox="1"/>
              <p:nvPr/>
            </p:nvSpPr>
            <p:spPr>
              <a:xfrm>
                <a:off x="9029880" y="20955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Rectangle 3"/>
              <p:cNvSpPr txBox="1"/>
              <p:nvPr/>
            </p:nvSpPr>
            <p:spPr>
              <a:xfrm>
                <a:off x="9029880" y="32655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3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83" name="Picture 4" descr="rep"/>
          <p:cNvPicPr/>
          <p:nvPr/>
        </p:nvPicPr>
        <p:blipFill>
          <a:blip r:embed="rId1"/>
          <a:stretch/>
        </p:blipFill>
        <p:spPr>
          <a:xfrm>
            <a:off x="2811600" y="3265560"/>
            <a:ext cx="3671640" cy="3459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706920" y="1468440"/>
                <a:ext cx="41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6920" y="2311560"/>
                <a:ext cx="4464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24360" y="3065400"/>
                <a:ext cx="3887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a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0:29:42Z</dcterms:created>
  <dc:creator>Мама</dc:creator>
  <dc:description/>
  <dc:language>en-US</dc:language>
  <cp:lastModifiedBy>Admin</cp:lastModifiedBy>
  <dcterms:modified xsi:type="dcterms:W3CDTF">2011-12-10T16:33:30Z</dcterms:modified>
  <cp:revision>75</cp:revision>
  <dc:subject/>
  <dc:title>Тренировочные упражнения   первой части  экзаменационной работы  ПО АЛГЕБРЕ  для 9 класса  в форме ГИА.</dc:title>
</cp:coreProperties>
</file>