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302-25CC-434C-BE02-BD49C0A4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82E-82E5-42F3-A94B-0250F64A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E1E-7B2E-4475-9659-675F8607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788-ED62-4733-BEF5-717DD3FE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6B8C-3DFF-4987-8EE1-55C62241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E3D7-FAB9-43A9-AEB2-66FF12D1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BFE7-CFE5-48E3-B3D3-7D6725A9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F23D-F15F-4DFD-B18E-D49A967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3BF5-8288-42DC-8C32-76BBF60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50C3-2715-48D8-915C-FE5AC6BD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D733-4382-4FBE-A7B5-0DCF87D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BD6-916D-4973-BFF0-09A4566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DED7-C9AA-4450-B843-E55DA47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A8A3-3ADF-410C-BBCC-89DDAB52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DB23-650E-4BC9-83A0-734CFA1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025-2310-4A5D-A80F-83B8937C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65DC-B041-4B6E-8F83-E57A9949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48F-7D3E-4A53-8890-8F5CF484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005-BDF8-4781-89C7-F21C942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C32-20EB-4776-B08B-8992DE20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FC1-D1E4-4BF7-91AC-5B214BE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C57-3509-408B-8968-8E43D43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71D-3506-4B83-BE6D-4C6A762D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D31-0969-4D02-9C35-3A01795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2AA9-641B-4754-85E8-9586375AFD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9238-CB70-4F30-8DFF-AA2A5F81F64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Правила пожарной безопас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fcfc"/>
                </a:solidFill>
                <a:latin typeface="Arial"/>
              </a:rPr>
              <a:t>Учитель: Агафоно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fcfc"/>
                </a:solidFill>
                <a:latin typeface="Arial"/>
              </a:rPr>
              <a:t>Лариса Александров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fcf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ППБ 20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ППБ 21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ППБ 24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ППБ16"/>
          <p:cNvPicPr/>
          <p:nvPr/>
        </p:nvPicPr>
        <p:blipFill>
          <a:blip r:embed="rId1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ППБ23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ППБ 25"/>
          <p:cNvPicPr/>
          <p:nvPr/>
        </p:nvPicPr>
        <p:blipFill>
          <a:blip r:embed="rId1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Звони 01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ППБ"/>
          <p:cNvPicPr/>
          <p:nvPr/>
        </p:nvPicPr>
        <p:blipFill>
          <a:blip r:embed="rId1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Пожарная безопасность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ППБ 15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ППБ 17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ППБ 18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ППБ 19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6:36:11Z</dcterms:created>
  <dc:creator>Комп</dc:creator>
  <dc:description/>
  <dc:language>en-US</dc:language>
  <cp:lastModifiedBy>Фабричнов</cp:lastModifiedBy>
  <dcterms:modified xsi:type="dcterms:W3CDTF">2012-10-18T08:19:00Z</dcterms:modified>
  <cp:revision>5</cp:revision>
  <dc:subject/>
  <dc:title>Правила пожарной безопасности</dc:title>
</cp:coreProperties>
</file>