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gif" ContentType="image/gif"/>
  <Override PartName="/ppt/media/image9.png" ContentType="image/png"/>
  <Override PartName="/ppt/media/image6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B0F-B201-4FA4-AA03-309021ED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160-EA92-4D5B-AF43-0F284A6C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D1C-76BF-41F1-8529-D32A5F16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F03-A274-4CB7-9B42-2EB13FA8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B884-EF0A-4960-8242-B5368EDC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1BC9-938E-4E43-9D8F-F3AC7F99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3FEC-DF8F-4F12-8809-77B03756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7FE3-9D18-4A6C-8E80-C0C6924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F90A-8158-4047-A29F-D6564148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9C11-D897-4B37-9BF4-FCE1C616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DD8B-8A51-49A7-A3CD-FCE03810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A59-479E-4DD3-A2DD-3C5E2769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409F-A45C-4516-B8F8-3646B1B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E88D-F4B7-492A-8AFF-F446AA0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D9DD-1AC6-481F-8FB8-6288013E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4DC4-EEF3-410F-A3A1-8155A552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6843-3947-4208-8538-242F707A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FC7-4BF9-4C4F-9AE9-9F307CB8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482-234B-4114-9131-E79799D8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B2E-5823-49E6-90A9-3BCD00EC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64A-A2AD-47FD-B1FB-94D3457D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3C7-5B60-4F46-A84E-70412CE7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055-4CF1-4314-96B8-13090F92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D96-F5AB-4823-9F9B-76228C2B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BEDF-E9A6-4627-B561-15C898364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9A21-3F70-4773-A503-B742864C79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Русский язык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280" y="3141360"/>
            <a:ext cx="6629400" cy="27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ервые уроки»  Школа 2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: Травкина Ю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БОУ СОШ № 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дыхаем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43640" y="4468680"/>
            <a:ext cx="2700360" cy="2389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11608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писали, мы писа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еперь все дружно вста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жками потопали, ручками похлопа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ем пальчики сожмё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ядем, пальчики встрях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чень много мы писа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ши пальчики ус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немножко отдохнё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опять писать нач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16000" y="549360"/>
            <a:ext cx="62658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ботаем по учебнику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407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дведём ито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49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2232000" cy="200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32720" y="4687920"/>
            <a:ext cx="2411280" cy="2170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770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 слове слог уд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ём элемента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т слог ударным мы зовё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омни, если хоче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ый мы произ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льнее всех и гром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03280" y="549360"/>
            <a:ext cx="597708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ребята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неев Р.Н., Бунеева Е.В. Русский язык (первые уроки) Учебник для 1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ссылка : http://lenagold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рок русского язы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вёт спокойно – не спеши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всякий случай носит щ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 ним, не зная страх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уляет черепа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т микрофон она взя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песни петь вдруг начал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8407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Чистопис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тетрадь, стр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http://animashky.ru/flist/glludi/3/25.gif"/>
          <p:cNvPicPr/>
          <p:nvPr/>
        </p:nvPicPr>
        <p:blipFill>
          <a:blip r:embed="rId1"/>
          <a:stretch/>
        </p:blipFill>
        <p:spPr>
          <a:xfrm>
            <a:off x="4543560" y="2786040"/>
            <a:ext cx="4600440" cy="407196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4803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стра – цветок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маз – драгоценный камень; аквариум – стеклянная ёмкость с водой для содержания рыб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б – растение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бен – ударный музыкальный инструмен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алмаз, бо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слышишь парный зву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дь внимательным, мой дру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ный сразу проверя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о смело изменяй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уб – на зубы, лёд – на льд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дешь грамотным и т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1170000"/>
            <a:ext cx="79246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пашки так смеш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икрофон поют о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песня чуть слыш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А-а-и-а-и-о-и-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отом лишь «Бе» да «Бя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чего понять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нам их подбодри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ем буквы им да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краси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да сейчас протян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фоны мы достане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Словарная работа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268440" cy="424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0360" y="22766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гадай кроссвор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толица нашего госу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Как назвать одним словом: огурец, морковь, капус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Очень умная маши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ассажирский транспор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ап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яем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втобус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мпью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оск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вощ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тец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8:13:45Z</dcterms:created>
  <dc:creator>03compu</dc:creator>
  <dc:description/>
  <dc:language>en-US</dc:language>
  <cp:lastModifiedBy>03compu</cp:lastModifiedBy>
  <dcterms:modified xsi:type="dcterms:W3CDTF">2012-04-02T16:04:53Z</dcterms:modified>
  <cp:revision>7</cp:revision>
  <dc:subject/>
  <dc:title>Чистописание</dc:title>
</cp:coreProperties>
</file>