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B10-4BDB-4734-98DD-981FDF85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6D1-6866-41F1-A469-697EF1E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C4F-D2A0-44EF-A752-84565911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67A-8FDD-4CD1-B8E1-D6BAE682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86CB-1256-451E-830C-20A9907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A820-E321-46DB-A260-252BDD3F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F3DC-659C-4439-AE85-336D026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3D66-1CCF-4348-B951-8DE31E16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F62-71E1-4D08-B391-F9109CD5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1554-0649-4656-B44B-7BF9EB72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FAC-72C5-4C99-8171-B3CF5FF5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B2C-9624-411F-9644-F41A096F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006E-7B0A-4388-AC92-4FBA1C5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39E0-D68E-4D07-9947-559A810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F7C3-1454-492D-928B-E01851F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5F39-A7D3-4533-824D-965BEFA5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6961-6556-4FAE-8FAD-28F2D3B4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B9A0-78B1-47C4-8EA7-98F98F4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1132-9C65-4711-9059-C46FA80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2714-FCA7-4B00-BD14-710C5FB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D784-2ED1-4817-9854-A1CE123D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A8FC-75E0-4032-BB68-1473A36F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735-B8B8-4C04-AF55-352AB78B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1293-D85B-48E9-8BA8-6EBE88C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4A87-23FD-433D-82DD-6C91976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80DD-F266-4E72-8A45-DEA1088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522B-594F-44A3-8F21-AE43D3D6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9BD0-5E4C-474D-8E60-2BD030D3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121C-F15F-4F87-A921-3392FF5A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EE8EF-F6DB-40F2-86E2-C9D2822C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2B56-88E9-4EA6-B00A-8ABB4DFF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4B6E-F9EB-40B5-B6A5-28BD8EE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C03A-FBB9-419C-81B8-FE5F352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BDD-C377-43AF-A164-A33B03D0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510C-D3D3-48DB-B048-2A9CA6B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654C-B1B8-414A-A04A-91C9DC56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4B0E-23AC-43F7-8A8F-AD34F11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9489-BEE0-4F32-9159-FA0EFA0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B21E-391B-4857-8373-C02BA93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B673-67F2-47B3-9265-04BC5D73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248A-24BD-4798-BFB1-183FB20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A13F-A4CA-4945-BB96-ED73C5AD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D598-03EF-4230-833E-76BDEAB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51D0-7EEE-4D3E-AE8C-9A3AD937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A91-054D-4515-92C2-973C9151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D97A7-D328-4C2B-B973-A5216A6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7375-793E-41BA-8CD4-9C983DB7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F0C2-C2F1-4903-AB2F-6B2FCFF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37A4-CC2C-42E6-93AF-EC6993A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D832-79F5-4050-B051-DBB31101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027A-FB9D-4773-8631-3B6BCDCA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D7C0-F69B-4D40-BB77-93A24A9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8587-4F46-4BBC-A929-7251F68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22F7-09BE-44F2-B19C-8247A00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9DFD-BFA6-47B1-9A8B-F261FDEF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22F-F7CB-488E-AB2D-57B048D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D502B-6CA3-4251-85E0-D0A11471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8B1-91B6-4541-BF76-F551D9D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067-D83D-45B1-8201-28E5CE3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902-AF1E-4834-B021-4B8D7BA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23F-880C-4DCB-B5C7-0E151BB7C41B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428-D0EF-410B-BC27-2D89740B4C4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0DD-0E87-48A4-B7C8-C395FA3D5256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016-5D49-4846-AE36-F1E8D7BA928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965-0185-41F3-BE9C-6C03F613F15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A29-0501-4000-911C-54A71857E6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C3FB-B3A6-4C7E-B310-F6D5380A0216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E9C4-0841-47CE-AB01-C2B06F10704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A82-6F1B-42DE-84BF-78E2743DD0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0496-4AB2-4340-8362-C14D472BC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33440" y="2133720"/>
            <a:ext cx="75945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Тренировочный 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по фоне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016360" cy="1871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8360" y="5176800"/>
            <a:ext cx="604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Автор: Гизатулина О.И.- 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Гулистанского колледжа компьютерных и информационных технологий.г.Гулистан,Узбекист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17EA4-2C75-43FE-B6DD-1F84A02883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14200" y="1149480"/>
            <a:ext cx="8643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7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)солидар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) пр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8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шиб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шокол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о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укту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4380D-58FA-4C6C-A3ED-F3B746A6C0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324000" y="119700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9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ормат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ж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разц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пущ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0. В каком слове количество звуков и букв совп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ьющая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стри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юль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DF3F-6119-487E-9CF7-EF1CE203F7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85840" y="90036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1. В каком слове количество звуков и букв совп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ая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коль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ъяривший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357120" y="344952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2. В каком слове количество звуков и букв совп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ябл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э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ёл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лест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BFDA6-4AB2-4BAC-824B-717DE9E080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357120" y="121572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3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аст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Яп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ру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коль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4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огат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пыта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евня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45CB-8F1F-48BD-8809-921AF27E85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214200" y="133668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5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ё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ю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ыдущ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6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с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адеб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биля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яро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916C-D195-41BA-8817-0D8C12759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57120" y="124596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7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ри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альс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ьетнам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8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рел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люми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ятьдес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ъед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E6C03-2C89-4CA9-A73F-DA527FC8B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14200" y="1603080"/>
            <a:ext cx="864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29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ужелю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рьёв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льз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0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ом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41CE-C6D1-4218-A54D-D390E3EE6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85840" y="13986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1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исьмец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2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п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ше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ку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5347-2F63-412F-B2D6-B4687B8F0E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285840" y="121932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3. В каком слове все согласные звуки являются звон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брос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о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4. В каком слове все согласные звуки являются звон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ьюж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F1FE-EEAA-474B-9868-74A90D2384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285840" y="162576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5. В каком слове есть звук [з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рз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обозрим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говори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воз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5280" y="393552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6. В каком слове есть звук [з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ж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ра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рка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51D2-D851-43E8-9531-D0977CB954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428760" y="1557360"/>
            <a:ext cx="85010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.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Какое слово состоит из трёх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.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Какое слово состоит из шес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дъез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роб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жеч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ъеш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EA8F-D7E3-4876-ACF0-E7016680F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285840" y="132516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7. В каком слове есть звук [з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млем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ороз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а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е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8. В каком слове есть звук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[j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ком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ъём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семьдес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таль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5F022-F4B2-4E03-A25C-CBF7B53991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428760" y="1425600"/>
            <a:ext cx="8715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39. В каком слове нет звука [Л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]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ясн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йогу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0. В каком слове есть звук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[U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з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юрт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BC64-D516-43ED-BE94-2025BFDDA8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85840" y="153648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1. В каком слове есть звук [д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п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од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воз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2. В каком слове есть звук [д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о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очер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каде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55CA1-1EE9-4C23-869A-CE435F0779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357120" y="15746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3. В каком слове есть звук [д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с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д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лег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некд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4. В каком слове есть звук [т'|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втопоез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ад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яд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ъез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C14D-6930-4710-8F66-D477B9AEB4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357120" y="160020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5. В каком слове есть звук [т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чё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проголо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ыряв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6. В каком слове есть звук [ф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вт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та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ль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54EA-5B71-401A-A24A-A507A53C18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357120" y="14443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7. В каком слове есть звук [ф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неф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ф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ф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8. В каком слове есть звук [ф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изи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а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ехт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9818-9F35-4CC6-9D17-357E3E84D3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428760" y="156384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49. В каком слове есть звук [г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еограф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ст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та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кз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428760" y="400536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0. В каком слове есть звук [к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м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ис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е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ину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EF6E-2AED-487C-A827-D1487844DD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85840" y="157320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1. В каком слове есть звук [т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тащ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еб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нуэ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2. В каком слове есть звук |х|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ухгал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ирур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г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итроум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98C5-D0B0-4284-866B-E0D67755D7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214200" y="161928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3. В каком слове есть звук [с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]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ржи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нос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4. В каком слове есть звук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[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ж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]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уж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ворня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ур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3C2C-8939-4E6F-A6EC-4CC8068790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357120" y="1528560"/>
            <a:ext cx="8572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5. В каком слове есть звук |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c]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в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екрет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йсбе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зморо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6. В каком слове нет звук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[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ш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ож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еж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C4AB-1307-4787-8344-11305608A5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285840" y="1413000"/>
            <a:ext cx="864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3. Какое слово состоит из шес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въезд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 увлеч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объе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Час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4. Какое слово состоит из сем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мая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 разреж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бурь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съех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4B49-5681-4B37-973A-CE822988A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57120" y="115848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7. В каком слове нет звука [т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и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кспо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л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коп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8. Какой звук произносится на конце слова порог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г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к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г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к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9DD2-AB83-4737-9E5B-97D8ED5D5F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285840" y="122976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9. Какой звук произносится на конце слов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отзы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Ф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60. Какой звук произносится на конце слов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бров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7945-F4E9-450A-B892-0D30029FA0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357120" y="106956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61. Какой звук произносится на конце слов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водопровод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000000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д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000000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т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000000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д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000000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т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62. Сколько раз употребляется звук [ш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гда мы шли по шоссе, я всё думал, что бы такое унести отсюда на память как частичку прошл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1, 2)2,  3)3,  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70BE7-35ED-4107-B188-0537B84656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500040" y="692280"/>
            <a:ext cx="807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63. Сколько раз употребляется звук [ф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т церковь, от неё фактически остался бесформенный остров, обраставший в течение нескольких лет кустами неприхотливой буз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3, 2)4, 3)5, 4)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64. Сколько раз употребляются звуки [з] и |з'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тем, приземлившись и сбросив с себя парашюты, десантники принимаются закладывать в грунт взрывча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2, 2)3, 3)4, 4)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E80EE-903F-46DD-8EEB-55A69F78EE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0" y="428760"/>
            <a:ext cx="93582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00"/>
                </a:solidFill>
                <a:latin typeface="Arial"/>
                <a:ea typeface="Arial"/>
              </a:rPr>
              <a:t>65. Сколько раз употребляется звук [ш] в данном предложени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Загрязнение увеличивается, потому что с ростом населения уменьшается доступное для каждого человека пространство и потому что потребности на душу населения непрерывно увеличиваются; так что из года в год каждый из нас выбрасывает всё больше отход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1)4, 2)5, 3)6, 4)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00"/>
                </a:solidFill>
                <a:latin typeface="Arial"/>
                <a:ea typeface="Arial"/>
              </a:rPr>
              <a:t>66. Сколько раз употребляется звук [ц] в данном предложени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А чешуйки — это и есть самое главное в наряде бабочки — та самая «пыльца», которая так легко стирается и уничтожается от неосторожных прикосновений безжалостных пальцев челов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1)2, 2)3, 3)4, 4)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E1B7-1D73-4302-B7AD-C16ACA92CF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85840" y="428760"/>
            <a:ext cx="8358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67. Сколько раз употребляется звук [ш] в данных предложен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А чтобы актёр мог выполнить такую сложную задачу, необходимо, в свою очередь, ответить на множество других вопросов: кто? что? когда? почему? Артистов и режиссёра волнует, как ге­рой пьесы жил раньше и как будет жить в будущем, какие события оказались в его жизни главными, почему он поступает имен­но так, а не иначе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076FD-E125-4489-AC27-D7931F13E8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468360" y="1844640"/>
            <a:ext cx="8286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68. Сколько раз употребляется звук [ц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 первым относятся виды птиц, численность которых так резко сокращается, что им уже не выжить без активного вмешательства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4F60-5F61-478F-A2F5-19E5DA88B3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428760" y="7142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413000"/>
          <a:ext cx="9143640" cy="5444640"/>
        </p:xfrm>
        <a:graphic>
          <a:graphicData uri="http://schemas.openxmlformats.org/drawingml/2006/table">
            <a:tbl>
              <a:tblPr/>
              <a:tblGrid>
                <a:gridCol w="2286360"/>
                <a:gridCol w="2286360"/>
                <a:gridCol w="2284560"/>
                <a:gridCol w="2286360"/>
              </a:tblGrid>
              <a:tr h="54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3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4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7 -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4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9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1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2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3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4 -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6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9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1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2 -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3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4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6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8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9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1 - 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2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3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5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 –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8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9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1 –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2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3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4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6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7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8 -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328920" y="639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1F42-FBC4-4B78-B988-D5DE52F5FC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714240" y="133308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5.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Какое слово состоит из сем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шь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та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уязв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альчо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6.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Какое слово состоит из восьм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ём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ьст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амур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Franklin Gothic Book"/>
              <a:buChar char="•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ъём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CF1C9-95A8-43B0-A098-1CCFD48E5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642960" y="1422360"/>
            <a:ext cx="825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Какое слово состоит из дев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ерхчуть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афьян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зъеро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ьющий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8. Какое слово состоит из дес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ь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едини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субъектив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2B48-35B6-4AC8-A739-9B8621CFA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57120" y="11494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9.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Какое слово состоит из один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ьют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ъяс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ловьи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жъязык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0. Какое слово состоит из две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тервью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ьнейш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ди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айка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B6E6-3822-46CC-BD50-46C9BA722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14200" y="143784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1. Какое слово состоит из две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съедоб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рабатыва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ельетон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ъяд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2. В каком слове все согласные звуки являются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яг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мят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сятиле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ут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мента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493B-08E2-4413-9360-90727B178E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285840" y="13986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3. В каком слове все согласные звуки являются мяг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ъеш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-щучь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ас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личаеш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4. В каком слове все согласные звуки являю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мяг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юллет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ж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еребря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щем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19EF-FC1B-4AF6-B278-6D1617F57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324000" y="135252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5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форм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рпл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рган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ращ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6. В каком слове все согласные звуки являются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отов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осударств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алы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311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зможность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1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1C3B-D98A-4522-B867-AF87A6653F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1T03:45:57Z</dcterms:modified>
  <cp:revision>14</cp:revision>
  <dc:subject/>
  <dc:title>Слайд 1</dc:title>
</cp:coreProperties>
</file>