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F13-8788-4981-809A-84A43963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626-77BA-487C-AF42-B776EEAF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4E7-FE7F-4B78-B1B2-AF9B8647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137-4460-4164-851F-F0FB1B27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381-F4A3-4F91-A066-8360F7B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BF1-474C-41C8-8071-010D6A03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B83-CDC3-4186-BD12-8262AC89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9AF-31CE-49BA-A7D3-3CE9D75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D5D-C63A-4E6D-8DE9-93D9C05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205-29FA-4F40-A7F3-1C048E68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535-AF6D-4073-B681-E97BE94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C7C-3E18-49F5-B652-09CA0AE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4fe"/>
            </a:gs>
            <a:gs pos="50000">
              <a:srgbClr val="0099ff"/>
            </a:gs>
            <a:gs pos="100000">
              <a:srgbClr val="bee4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EB43-8DAB-411E-962E-BCA482506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4fe"/>
            </a:gs>
            <a:gs pos="50000">
              <a:srgbClr val="0099ff"/>
            </a:gs>
            <a:gs pos="100000">
              <a:srgbClr val="bee4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2205000"/>
            <a:ext cx="71928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5157360" y="4138560"/>
            <a:ext cx="365256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latin typeface="Arial"/>
              </a:rPr>
              <a:t>обыкновенным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6522840" y="3998520"/>
            <a:ext cx="387036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8100000"/>
                </a:gradFill>
                <a:latin typeface="Arial"/>
              </a:rPr>
              <a:t>дробям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11280" y="260280"/>
            <a:ext cx="8137440" cy="6337080"/>
            <a:chOff x="611280" y="260280"/>
            <a:chExt cx="8137440" cy="6337080"/>
          </a:xfrm>
        </p:grpSpPr>
        <p:sp>
          <p:nvSpPr>
            <p:cNvPr id="45" name=""/>
            <p:cNvSpPr/>
            <p:nvPr/>
          </p:nvSpPr>
          <p:spPr>
            <a:xfrm>
              <a:off x="7422120" y="1698120"/>
              <a:ext cx="1326600" cy="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611280" y="1348200"/>
              <a:ext cx="6837480" cy="5249160"/>
              <a:chOff x="611280" y="1348200"/>
              <a:chExt cx="6837480" cy="5249160"/>
            </a:xfrm>
          </p:grpSpPr>
          <p:sp>
            <p:nvSpPr>
              <p:cNvPr id="47" name=""/>
              <p:cNvSpPr/>
              <p:nvPr/>
            </p:nvSpPr>
            <p:spPr>
              <a:xfrm>
                <a:off x="611280" y="6597360"/>
                <a:ext cx="1667520" cy="0"/>
              </a:xfrm>
              <a:prstGeom prst="line">
                <a:avLst/>
              </a:prstGeom>
              <a:ln w="127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2278800" y="5547240"/>
                <a:ext cx="0" cy="1049400"/>
              </a:xfrm>
              <a:prstGeom prst="line">
                <a:avLst/>
              </a:prstGeom>
              <a:ln w="127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278800" y="5547600"/>
                <a:ext cx="1579680" cy="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3858840" y="4381200"/>
                <a:ext cx="0" cy="116604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58840" y="4381560"/>
                <a:ext cx="1140840" cy="0"/>
              </a:xfrm>
              <a:prstGeom prst="line">
                <a:avLst/>
              </a:prstGeom>
              <a:ln w="127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4999680" y="3331440"/>
                <a:ext cx="0" cy="1049400"/>
              </a:xfrm>
              <a:prstGeom prst="line">
                <a:avLst/>
              </a:prstGeom>
              <a:ln w="12708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99680" y="3331800"/>
                <a:ext cx="131652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6316560" y="2398680"/>
                <a:ext cx="0" cy="93276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16560" y="2399040"/>
                <a:ext cx="105300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7369560" y="1698840"/>
                <a:ext cx="0" cy="69948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6600" y="5547600"/>
                <a:ext cx="1404360" cy="932760"/>
              </a:xfrm>
              <a:prstGeom prst="cloudCallout">
                <a:avLst>
                  <a:gd name="adj1" fmla="val -55625"/>
                  <a:gd name="adj2" fmla="val -10486"/>
                </a:avLst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366640" y="4381560"/>
                <a:ext cx="1404360" cy="1049400"/>
              </a:xfrm>
              <a:prstGeom prst="cloudCallout">
                <a:avLst>
                  <a:gd name="adj1" fmla="val -32708"/>
                  <a:gd name="adj2" fmla="val 29199"/>
                </a:avLst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999680" y="2282400"/>
                <a:ext cx="1287000" cy="1049400"/>
              </a:xfrm>
              <a:prstGeom prst="cloudCallout">
                <a:avLst>
                  <a:gd name="adj1" fmla="val -32842"/>
                  <a:gd name="adj2" fmla="val 31976"/>
                </a:avLst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0678200">
                <a:off x="3506760" y="3214800"/>
                <a:ext cx="1404360" cy="1049400"/>
              </a:xfrm>
              <a:prstGeom prst="cloudCallout">
                <a:avLst>
                  <a:gd name="adj1" fmla="val -33226"/>
                  <a:gd name="adj2" fmla="val 26421"/>
                </a:avLst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32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56920" y="1348200"/>
                <a:ext cx="1491840" cy="960840"/>
              </a:xfrm>
              <a:prstGeom prst="cloudCallout">
                <a:avLst>
                  <a:gd name="adj1" fmla="val 31666"/>
                  <a:gd name="adj2" fmla="val 1111"/>
                </a:avLst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7386480" y="260280"/>
              <a:ext cx="1326600" cy="1279800"/>
            </a:xfrm>
            <a:prstGeom prst="cloudCallout">
              <a:avLst>
                <a:gd name="adj1" fmla="val -20518"/>
                <a:gd name="adj2" fmla="val 46101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 rot="5400000">
            <a:off x="-903240" y="2279520"/>
            <a:ext cx="3705480" cy="676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осшестви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85840" y="-210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71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85840" y="-21081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85840" y="-16128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285840" y="-1079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85840" y="-641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85840" y="-127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285840" y="425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285840" y="10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81160" y="1063080"/>
            <a:ext cx="14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11600" y="3427920"/>
            <a:ext cx="5873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09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95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84040" y="590004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219640" y="2565360"/>
            <a:ext cx="9367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4.Отдыхай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51280" y="3573360"/>
            <a:ext cx="9367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3.Заплутай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27280" y="4724280"/>
            <a:ext cx="9367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2.Заполняй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71640" y="5877000"/>
            <a:ext cx="107928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.Прочитай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27640" y="1628640"/>
            <a:ext cx="11527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5.Объясняй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96360" y="692280"/>
            <a:ext cx="9363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.Задавай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4fe"/>
            </a:gs>
            <a:gs pos="50000">
              <a:srgbClr val="0099ff"/>
            </a:gs>
            <a:gs pos="100000">
              <a:srgbClr val="bee4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57200" y="274680"/>
          <a:ext cx="8229600" cy="5945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94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14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оби всякие нужны, дроби разные важны,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обь учи, тогда сверкнёт тебе удача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ли будешь дроби знать, точный смысл понимать,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44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нет лёгкой даже трудная задача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9:17:20Z</dcterms:created>
  <dc:creator>Марина Сергеевна Возженникова</dc:creator>
  <dc:description/>
  <dc:language>en-US</dc:language>
  <cp:lastModifiedBy>Марина Сергеевна Возженникова</cp:lastModifiedBy>
  <dcterms:modified xsi:type="dcterms:W3CDTF">2008-11-23T21:32:11Z</dcterms:modified>
  <cp:revision>6</cp:revision>
  <dc:subject/>
  <dc:title>Слайд 1</dc:title>
</cp:coreProperties>
</file>