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49B-C892-41BE-8684-743C3F1B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B41-8C98-407A-88A1-6BF3CFBB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859-5621-4BA2-B644-34F8F38F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E2F-0613-458A-B739-70256645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0F6-6B06-46A9-86EA-87D3645C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1FA-C82D-40B7-B881-6EBBDE44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BF0-8978-4BD1-BC7A-0E057B79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FDC-4126-4E3A-84A1-764E45AE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048-9454-474B-A93D-A572CD81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566-9BDC-4667-807F-99032487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64B-25BB-4BCD-8A47-482D41D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CF9-D840-49B6-8196-62541863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330D-6AF7-47C8-8256-F9D091D576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Дима\Рабочий стол\153\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1285920" y="928800"/>
            <a:ext cx="6553080" cy="129528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Тренаж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1042920" y="2781360"/>
            <a:ext cx="7201080" cy="165564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Гласные в суффиксах причастий настоящего врем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1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 личных окончаниях глаг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0" y="4941720"/>
            <a:ext cx="8667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Times New Roman"/>
              </a:rPr>
              <a:t>Сайтимов Д., учащийся 7 класса, Просвирова Г.В., учи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10253f"/>
                </a:solidFill>
                <a:latin typeface="Times New Roman"/>
              </a:rPr>
              <a:t>русского языка и литературы МКОУ «Манойлинская СОШ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10253f"/>
                </a:solidFill>
                <a:latin typeface="Times New Roman"/>
              </a:rPr>
              <a:t>Клетского муниципального района Волгоград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62828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8. В каком ряду в обоих словах на месте пропуска пишется буква А(Я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1403280" y="1773360"/>
            <a:ext cx="6147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ненавид…щий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ыш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1403280" y="2924280"/>
            <a:ext cx="6147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ла…щий, завис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1403280" y="4076640"/>
            <a:ext cx="6147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вис…щий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ремл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1403280" y="5300640"/>
            <a:ext cx="6147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яч…щий, держ..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62828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9. В каком ряду в обоих словах на месте пропуска пишется буква 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1547640" y="1844640"/>
            <a:ext cx="59770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рт…шь, возглавля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1619280" y="292428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лов…шь, испыту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1619280" y="407664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тро…шь, омыв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1619280" y="530064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мокн…шь, выполня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0. В каком ряду в обоих словах на месте пропуска пишется буква 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476360" y="177336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куча…т, неизмер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476360" y="292428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нос…т, выполн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1476360" y="4076640"/>
            <a:ext cx="5975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ояв…т, устраив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1547640" y="5300640"/>
            <a:ext cx="600264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. принос…шь, добыва…мы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62828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1. В каком ряду в обоих словах на месте пропуска пишется буква 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476360" y="184464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раду…шься, составля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1476360" y="292428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ход…шь, непрониц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1547640" y="4076640"/>
            <a:ext cx="600264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ожертву…т, забот…щий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1547640" y="5300640"/>
            <a:ext cx="600264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раста…шь, чист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62828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2. В каком ряду в обоих словах на месте пропуска пишется буква 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476360" y="177336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ихват…т, подстриг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1476360" y="292428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горб…тся, несконч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1476360" y="407664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вал…т, стел…щий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1476360" y="530064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апева…т, леле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62828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3. В каком ряду в обоих словах на месте пропуска пишется буква 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1476360" y="177336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взвизгива…т, движ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1476360" y="292428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гон…т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ж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1476360" y="407664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лов…т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гор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1476360" y="530064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рассыпа…т, обож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2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4. В каком ряду в обоих словах на месте пропуска пишется буква 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476360" y="177336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беспоко…шься, промока…мы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1476360" y="292428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нос…шь, охраня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1476360" y="407664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ужина…шь, развив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9"/>
          <p:cNvSpPr/>
          <p:nvPr/>
        </p:nvSpPr>
        <p:spPr>
          <a:xfrm>
            <a:off x="1547640" y="5300640"/>
            <a:ext cx="600264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гляд…шь, вырез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30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62828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5. В каком ряду в обоих словах на месте пропуска пишется буква 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403280" y="1773360"/>
            <a:ext cx="6147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тро…шь, изображ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7"/>
          <p:cNvSpPr/>
          <p:nvPr/>
        </p:nvSpPr>
        <p:spPr>
          <a:xfrm>
            <a:off x="1403280" y="2924280"/>
            <a:ext cx="6147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вскорм…шь, вырыв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8"/>
          <p:cNvSpPr/>
          <p:nvPr/>
        </p:nvSpPr>
        <p:spPr>
          <a:xfrm>
            <a:off x="1476360" y="407664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луж…шь, чит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9"/>
          <p:cNvSpPr/>
          <p:nvPr/>
        </p:nvSpPr>
        <p:spPr>
          <a:xfrm>
            <a:off x="1476360" y="5300640"/>
            <a:ext cx="607392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цепля…шь, прославля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33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спользованные материа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4"/>
          <p:cNvSpPr/>
          <p:nvPr/>
        </p:nvSpPr>
        <p:spPr>
          <a:xfrm>
            <a:off x="357120" y="1989000"/>
            <a:ext cx="8429760" cy="38880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дактические материал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Егораева Г.Т. ЕГЭ. Русский язык. Тематические тренировочные задания. Уровень А,В,С / Г.Т.Егораева, Е.М.Сергеева. – М.: Издательство «Экзамен», 2011. (Серия «ЕГЭ Супертренинг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Егораева Г.Т. Русский язык. Подготовка к ЕГЭ. Вступительные испытания / Г.Т.Егораева, С.Ю. иванова, В.И.Белякова.- М.:Издательство «Экзамен», 20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льцева Л.И., Смереченская Н.М. РУССКИЙ ЯЗЫК. ЕГЭ – 2011. Учебно - методическое  пособие. – М.: НИИ Школьных технологий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Шаблон презентации и тест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Ахметшина Н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Инстру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 работе с тренаже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57120" y="1643040"/>
            <a:ext cx="8429760" cy="485784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1. Учебный тренажер содержит 15 заданий форма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опроса  А16 ЕГЭ по русскому язы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2. Каждое задание имеет 4 варианта ответа. Выбери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дин  правильный, нажав при этом на прямоугольник с выбранным вариантом отв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3. Если ответ верный, прямоугольник изменит свой цв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4. Если ответ неверный, прямоугольник совершит вращ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5. Переход к следующему заданию осуществляется по управляющей кнопке в правом нижнем углу спра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001000" y="5929200"/>
            <a:ext cx="750960" cy="56376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760"/>
              <a:gd name="textAreaBottom" fmla="*/ 527400 h 563760"/>
            </a:gdLst>
            <a:ahLst/>
            <a:rect l="textAreaLeft" t="textAreaTop" r="textAreaRight" b="textAreaBottom"/>
            <a:pathLst>
              <a:path w="28768" h="21600">
                <a:moveTo>
                  <a:pt x="0" y="0"/>
                </a:moveTo>
                <a:lnTo>
                  <a:pt x="28768" y="0"/>
                </a:lnTo>
                <a:lnTo>
                  <a:pt x="28768" y="21600"/>
                </a:lnTo>
                <a:lnTo>
                  <a:pt x="0" y="21600"/>
                </a:lnTo>
                <a:close/>
              </a:path>
              <a:path fill="lightenLess" w="28768" h="21600">
                <a:moveTo>
                  <a:pt x="0" y="0"/>
                </a:moveTo>
                <a:lnTo>
                  <a:pt x="28768" y="0"/>
                </a:lnTo>
                <a:lnTo>
                  <a:pt x="27368" y="1400"/>
                </a:lnTo>
                <a:lnTo>
                  <a:pt x="1400" y="1400"/>
                </a:lnTo>
                <a:close/>
              </a:path>
              <a:path fill="darken" w="28768" h="21600">
                <a:moveTo>
                  <a:pt x="28768" y="0"/>
                </a:moveTo>
                <a:lnTo>
                  <a:pt x="28768" y="21600"/>
                </a:lnTo>
                <a:lnTo>
                  <a:pt x="27368" y="20200"/>
                </a:lnTo>
                <a:lnTo>
                  <a:pt x="27368" y="1400"/>
                </a:lnTo>
                <a:close/>
              </a:path>
              <a:path fill="darkenLess" w="28768" h="21600">
                <a:moveTo>
                  <a:pt x="28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8" y="20200"/>
                </a:lnTo>
                <a:close/>
              </a:path>
              <a:path fill="lighten" w="28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8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. В каком ряду в обоих словах на месте пропуска пишется буква А-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1785960" y="1785960"/>
            <a:ext cx="5786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вид…щий, леч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1785960" y="2928960"/>
            <a:ext cx="5786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броса…щий, сид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1785960" y="4071960"/>
            <a:ext cx="5786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люб…щий, дремл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1785960" y="5286240"/>
            <a:ext cx="5786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мо…щий,пиш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. В каком ряду в обоих словах на месте пропуска пишется букваУ-Ю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1619280" y="177336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догоня…щий, стро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1619280" y="292428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мо…щий, пиш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619280" y="4076640"/>
            <a:ext cx="6002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броса…щий, сид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1619280" y="530064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люб…щий, дремл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3. В каком ряду в обоих словах на месте пропуска пишется буква О-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1619280" y="177336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зуча…мый, навод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1619280" y="292428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гон…мый, узнав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1619280" y="407664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ед…мый, увлек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1619280" y="530064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апева…мый, независ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3. В каком ряду в обоих словах на месте пропуска пишется буква 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763640" y="1773360"/>
            <a:ext cx="578664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зуча…мый, навод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1785960" y="2928960"/>
            <a:ext cx="5786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вед…мый, узнава…м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1785960" y="4071960"/>
            <a:ext cx="5786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независ…мый, гон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9"/>
          <p:cNvSpPr/>
          <p:nvPr/>
        </p:nvSpPr>
        <p:spPr>
          <a:xfrm>
            <a:off x="1785960" y="5286240"/>
            <a:ext cx="5786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бид…шь, увлек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68360" y="162828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5. В каком ряду в обоих словах на месте пропуска пишется буква 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1547640" y="1773360"/>
            <a:ext cx="600264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. одева…мый, вид…мы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1547640" y="2924280"/>
            <a:ext cx="600264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2. колебл…мый, выража…мы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1619280" y="407664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движ…мый, муч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1619280" y="5300640"/>
            <a:ext cx="5931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уважа…мый, сообщ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10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62828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6. В каком ряду в обоих словах на месте пропуска пишется буква 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1116000" y="1773360"/>
            <a:ext cx="6434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мерца…мый, привоз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1116000" y="2924280"/>
            <a:ext cx="643428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расстила…мый, немысл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187280" y="4076640"/>
            <a:ext cx="6363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ерега…мый, слыш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1258920" y="5300640"/>
            <a:ext cx="629136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иглаша…мый, несгиба…м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Дима\Рабочий стол\проект№1\123\мои фоны\9849171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4000" y="148428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928800" y="500040"/>
            <a:ext cx="6429240" cy="914400"/>
          </a:xfrm>
          <a:prstGeom prst="rect">
            <a:avLst/>
          </a:prstGeom>
          <a:gradFill rotWithShape="0">
            <a:gsLst>
              <a:gs pos="0">
                <a:srgbClr val="ffa586"/>
              </a:gs>
              <a:gs pos="100000">
                <a:srgbClr val="ffe3dc"/>
              </a:gs>
            </a:gsLst>
            <a:lin ang="27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7. В каком ряду в обоих словах на месте пропуска пишется буква 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1187280" y="1773360"/>
            <a:ext cx="6363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ебл…щийся, мысл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1187280" y="2924280"/>
            <a:ext cx="636300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дыш…ший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ашива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1258920" y="4076640"/>
            <a:ext cx="629136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емл…щий, бре…щий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1258920" y="5300640"/>
            <a:ext cx="6291360" cy="914400"/>
          </a:xfrm>
          <a:prstGeom prst="rect">
            <a:avLst/>
          </a:prstGeom>
          <a:solidFill>
            <a:srgbClr val="fdead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стро…щийся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…щ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143760"/>
            <a:ext cx="750960" cy="563400"/>
          </a:xfrm>
          <a:custGeom>
            <a:avLst/>
            <a:gdLst>
              <a:gd name="textAreaLeft" fmla="*/ 36360 w 750960"/>
              <a:gd name="textAreaRight" fmla="*/ 714600 w 750960"/>
              <a:gd name="textAreaTop" fmla="*/ 36360 h 563400"/>
              <a:gd name="textAreaBottom" fmla="*/ 527040 h 563400"/>
            </a:gdLst>
            <a:ahLst/>
            <a:rect l="textAreaLeft" t="textAreaTop" r="textAreaRight" b="textAreaBottom"/>
            <a:pathLst>
              <a:path w="28786" h="21600">
                <a:moveTo>
                  <a:pt x="0" y="0"/>
                </a:moveTo>
                <a:lnTo>
                  <a:pt x="28786" y="0"/>
                </a:lnTo>
                <a:lnTo>
                  <a:pt x="28786" y="21600"/>
                </a:lnTo>
                <a:lnTo>
                  <a:pt x="0" y="21600"/>
                </a:lnTo>
                <a:close/>
              </a:path>
              <a:path fill="lightenLess" w="28786" h="21600">
                <a:moveTo>
                  <a:pt x="0" y="0"/>
                </a:moveTo>
                <a:lnTo>
                  <a:pt x="28786" y="0"/>
                </a:lnTo>
                <a:lnTo>
                  <a:pt x="27386" y="1400"/>
                </a:lnTo>
                <a:lnTo>
                  <a:pt x="1400" y="1400"/>
                </a:lnTo>
                <a:close/>
              </a:path>
              <a:path fill="darken" w="28786" h="21600">
                <a:moveTo>
                  <a:pt x="28786" y="0"/>
                </a:moveTo>
                <a:lnTo>
                  <a:pt x="28786" y="21600"/>
                </a:lnTo>
                <a:lnTo>
                  <a:pt x="27386" y="20200"/>
                </a:lnTo>
                <a:lnTo>
                  <a:pt x="27386" y="1400"/>
                </a:lnTo>
                <a:close/>
              </a:path>
              <a:path fill="darkenLess" w="28786" h="21600">
                <a:moveTo>
                  <a:pt x="28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6" y="20200"/>
                </a:lnTo>
                <a:close/>
              </a:path>
              <a:path fill="lighten" w="28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6" h="21600">
                <a:moveTo>
                  <a:pt x="7387" y="3794"/>
                </a:moveTo>
                <a:lnTo>
                  <a:pt x="21400" y="10800"/>
                </a:lnTo>
                <a:lnTo>
                  <a:pt x="7387" y="17806"/>
                </a:lnTo>
                <a:close/>
              </a:path>
            </a:pathLst>
          </a:custGeom>
          <a:solidFill>
            <a:srgbClr val="ff993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5fdc6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32:37Z</dcterms:created>
  <dc:creator>Ахметшина</dc:creator>
  <dc:description/>
  <dc:language>en-US</dc:language>
  <cp:lastModifiedBy>Галина</cp:lastModifiedBy>
  <dcterms:modified xsi:type="dcterms:W3CDTF">2012-02-09T07:56:11Z</dcterms:modified>
  <cp:revision>53</cp:revision>
  <dc:subject/>
  <dc:title>Слайд 1</dc:title>
</cp:coreProperties>
</file>