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A11-85B0-4EAC-95AD-2B953105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33C4-81E2-4E27-8B91-396D2C3B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EC4-7EB2-4E7B-ACC5-68FF5E53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CDB0-1703-49C5-B21E-8AA8FA74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2641-28F3-47CB-B597-301E8EA7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25FC-99C3-4255-B04A-619B2051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9A3-A293-436A-96DE-ED8E62D9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F4B8-9ECF-4A38-98F3-08622B93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604D-1FD8-432F-9AE4-4361FB46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283D-AD00-4558-965E-CD64928F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ED0-DA51-4287-BE31-41849ED5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BE23-8E10-4EEF-A219-0CE32CC3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996F-C361-416E-A519-046C6821D0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www.razumniki.ru/" TargetMode="External"/><Relationship Id="rId3" Type="http://schemas.openxmlformats.org/officeDocument/2006/relationships/hyperlink" Target="http://www.audiopoisk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2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42d"/>
                </a:solidFill>
                <a:latin typeface="Calibri"/>
              </a:rPr>
              <a:t>Бельц Ольга Николаевна</a:t>
            </a:r>
            <a:br>
              <a:rPr sz="4400"/>
            </a:br>
            <a:r>
              <a:rPr b="1" lang="ru-RU" sz="4400" spc="-1" strike="noStrike">
                <a:solidFill>
                  <a:srgbClr val="00642d"/>
                </a:solidFill>
                <a:latin typeface="Calibri"/>
              </a:rPr>
              <a:t>воспитат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810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42d"/>
                </a:solidFill>
                <a:latin typeface="Calibri"/>
              </a:rPr>
              <a:t>МКОУ для детей-сирот и детей, оставшихся без попечения родителей, детский дом «Ласточкино гнездышк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260280"/>
          <a:ext cx="5184720" cy="647640"/>
        </p:xfrm>
        <a:graphic>
          <a:graphicData uri="http://schemas.openxmlformats.org/drawingml/2006/table">
            <a:tbl>
              <a:tblPr/>
              <a:tblGrid>
                <a:gridCol w="51847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42d"/>
                          </a:solidFill>
                          <a:latin typeface="Calibri"/>
                        </a:rPr>
                        <a:t>Где любовь да совет, там и гор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50920" y="1052640"/>
          <a:ext cx="5184720" cy="517320"/>
        </p:xfrm>
        <a:graphic>
          <a:graphicData uri="http://schemas.openxmlformats.org/drawingml/2006/table">
            <a:tbl>
              <a:tblPr/>
              <a:tblGrid>
                <a:gridCol w="518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42d"/>
                          </a:solidFill>
                          <a:latin typeface="Calibri"/>
                        </a:rPr>
                        <a:t>Где мир и лад, не нужен 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50920" y="1700280"/>
          <a:ext cx="5184720" cy="517320"/>
        </p:xfrm>
        <a:graphic>
          <a:graphicData uri="http://schemas.openxmlformats.org/drawingml/2006/table">
            <a:tbl>
              <a:tblPr/>
              <a:tblGrid>
                <a:gridCol w="518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42d"/>
                          </a:solidFill>
                          <a:latin typeface="Calibri"/>
                        </a:rPr>
                        <a:t>Лучший клад, когда в семь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50920" y="2421000"/>
          <a:ext cx="5184720" cy="531720"/>
        </p:xfrm>
        <a:graphic>
          <a:graphicData uri="http://schemas.openxmlformats.org/drawingml/2006/table">
            <a:tbl>
              <a:tblPr/>
              <a:tblGrid>
                <a:gridCol w="518472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42d"/>
                          </a:solidFill>
                          <a:latin typeface="Calibri"/>
                        </a:rPr>
                        <a:t>В гостях хорошо, а дом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50920" y="3213000"/>
          <a:ext cx="5184720" cy="517680"/>
        </p:xfrm>
        <a:graphic>
          <a:graphicData uri="http://schemas.openxmlformats.org/drawingml/2006/table">
            <a:tbl>
              <a:tblPr/>
              <a:tblGrid>
                <a:gridCol w="518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42d"/>
                          </a:solidFill>
                          <a:latin typeface="Calibri"/>
                        </a:rPr>
                        <a:t>В своём доме и стен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50920" y="4005360"/>
          <a:ext cx="5184720" cy="517320"/>
        </p:xfrm>
        <a:graphic>
          <a:graphicData uri="http://schemas.openxmlformats.org/drawingml/2006/table">
            <a:tbl>
              <a:tblPr/>
              <a:tblGrid>
                <a:gridCol w="518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42d"/>
                          </a:solidFill>
                          <a:latin typeface="Calibri"/>
                        </a:rPr>
                        <a:t>В семье разлад, так и дом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50920" y="4724280"/>
          <a:ext cx="5184720" cy="517680"/>
        </p:xfrm>
        <a:graphic>
          <a:graphicData uri="http://schemas.openxmlformats.org/drawingml/2006/table">
            <a:tbl>
              <a:tblPr/>
              <a:tblGrid>
                <a:gridCol w="518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42d"/>
                          </a:solidFill>
                          <a:latin typeface="Calibri"/>
                        </a:rPr>
                        <a:t>Доброе братство лучш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250920" y="5445000"/>
          <a:ext cx="5184720" cy="517680"/>
        </p:xfrm>
        <a:graphic>
          <a:graphicData uri="http://schemas.openxmlformats.org/drawingml/2006/table">
            <a:tbl>
              <a:tblPr/>
              <a:tblGrid>
                <a:gridCol w="518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42d"/>
                          </a:solidFill>
                          <a:latin typeface="Calibri"/>
                        </a:rPr>
                        <a:t>Вся семья вместе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796000" y="260280"/>
          <a:ext cx="1353960" cy="647640"/>
        </p:xfrm>
        <a:graphic>
          <a:graphicData uri="http://schemas.openxmlformats.org/drawingml/2006/table">
            <a:tbl>
              <a:tblPr/>
              <a:tblGrid>
                <a:gridCol w="13539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42d"/>
                          </a:solidFill>
                          <a:latin typeface="Calibri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796000" y="1052640"/>
          <a:ext cx="1368360" cy="51732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42d"/>
                          </a:solidFill>
                          <a:latin typeface="Calibri"/>
                        </a:rPr>
                        <a:t>кл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796000" y="1700280"/>
          <a:ext cx="1368360" cy="51732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42d"/>
                          </a:solidFill>
                          <a:latin typeface="Calibri"/>
                        </a:rPr>
                        <a:t>л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796000" y="2421000"/>
          <a:ext cx="1368360" cy="51732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42d"/>
                          </a:solidFill>
                          <a:latin typeface="Calibri"/>
                        </a:rPr>
                        <a:t>лучш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5796000" y="3213000"/>
          <a:ext cx="2016000" cy="51768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42d"/>
                          </a:solidFill>
                          <a:latin typeface="Calibri"/>
                        </a:rPr>
                        <a:t>помогаю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867280" y="4005360"/>
          <a:ext cx="1368720" cy="517320"/>
        </p:xfrm>
        <a:graphic>
          <a:graphicData uri="http://schemas.openxmlformats.org/drawingml/2006/table">
            <a:tbl>
              <a:tblPr/>
              <a:tblGrid>
                <a:gridCol w="136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42d"/>
                          </a:solidFill>
                          <a:latin typeface="Calibri"/>
                        </a:rPr>
                        <a:t>не р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867280" y="4724280"/>
          <a:ext cx="1729080" cy="520920"/>
        </p:xfrm>
        <a:graphic>
          <a:graphicData uri="http://schemas.openxmlformats.org/drawingml/2006/table">
            <a:tbl>
              <a:tblPr/>
              <a:tblGrid>
                <a:gridCol w="172908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42d"/>
                          </a:solidFill>
                          <a:latin typeface="Calibri"/>
                        </a:rPr>
                        <a:t>богат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867280" y="5445000"/>
          <a:ext cx="3095640" cy="50976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42d"/>
                          </a:solidFill>
                          <a:latin typeface="Calibri"/>
                        </a:rPr>
                        <a:t>так и душа на мес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2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42d"/>
                </a:solidFill>
                <a:latin typeface="Calibri"/>
              </a:rPr>
              <a:t>Правила жизни, выполнение которых ведет к взаимопонима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933c"/>
                </a:solidFill>
                <a:latin typeface="Calibri"/>
              </a:rPr>
              <a:t>Будь предан своей семье, избегай возможности предать е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933c"/>
                </a:solidFill>
                <a:latin typeface="Calibri"/>
              </a:rPr>
              <a:t>Будь верен и надежен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933c"/>
                </a:solidFill>
                <a:latin typeface="Calibri"/>
              </a:rPr>
              <a:t>Уважая других людей, уважай себ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933c"/>
                </a:solidFill>
                <a:latin typeface="Calibri"/>
              </a:rPr>
              <a:t>Воспринимай людей как равных себ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933c"/>
                </a:solidFill>
                <a:latin typeface="Calibri"/>
              </a:rPr>
              <a:t>Учись сопереживать другим, ставя себя на их место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360" y="9806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933c"/>
                </a:solidFill>
                <a:latin typeface="Calibri"/>
              </a:rPr>
              <a:t>Умей прощать и не будь обидчив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933c"/>
                </a:solidFill>
                <a:latin typeface="Calibri"/>
              </a:rPr>
              <a:t>Живи в согласии с самим собой и другими людьм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933c"/>
                </a:solidFill>
                <a:latin typeface="Calibri"/>
              </a:rPr>
              <a:t>Проявляй чуткость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933c"/>
                </a:solidFill>
                <a:latin typeface="Calibri"/>
              </a:rPr>
              <a:t>Будь свободен ото лжи и обман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933c"/>
                </a:solidFill>
                <a:latin typeface="Calibri"/>
              </a:rPr>
              <a:t>Умей контролировать свои желания и поступ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64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Семья – это важно!</a:t>
            </a:r>
            <a:br>
              <a:rPr sz="3600"/>
            </a:b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Семья – это сложно!</a:t>
            </a:r>
            <a:br>
              <a:rPr sz="3600"/>
            </a:b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Но счастливо жить одному невозможно!</a:t>
            </a:r>
            <a:br>
              <a:rPr sz="3600"/>
            </a:b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Всегда будьте вместе, любовь берегите,</a:t>
            </a:r>
            <a:br>
              <a:rPr sz="3600"/>
            </a:b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Обиды и ссоры подальше гоните,</a:t>
            </a:r>
            <a:br>
              <a:rPr sz="3600"/>
            </a:b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Хочу, чтоб про вас говорили друзья:</a:t>
            </a:r>
            <a:br>
              <a:rPr sz="3600"/>
            </a:b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Какая хорошая Ваша семья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901"/>
              </a:spcBef>
              <a:buClr>
                <a:srgbClr val="0064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Alena_Gerasimova(Makarovna)-Kak_horosho_pod_mamino_krilo...(Rodimiy_dom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39640" y="177300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4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Я сегодня задумалась о …………….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64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Мне сегодня понравилось …………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64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Мне не понравилось …………………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mages.yandex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razumniki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audiopoisk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00" y="278100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cc33"/>
                </a:solidFill>
                <a:latin typeface="Calibri"/>
              </a:rPr>
              <a:t>Счастлив тот, </a:t>
            </a:r>
            <a:br>
              <a:rPr sz="5400"/>
            </a:br>
            <a:r>
              <a:rPr b="1" i="1" lang="ru-RU" sz="5400" spc="-1" strike="noStrike">
                <a:solidFill>
                  <a:srgbClr val="33cc33"/>
                </a:solidFill>
                <a:latin typeface="Calibri"/>
              </a:rPr>
              <a:t>кто счастлив у себя дома</a:t>
            </a:r>
            <a:br>
              <a:rPr sz="5400"/>
            </a:br>
            <a:r>
              <a:rPr b="1" i="1" lang="ru-RU" sz="3600" spc="-1" strike="noStrike">
                <a:solidFill>
                  <a:srgbClr val="33cc33"/>
                </a:solidFill>
                <a:latin typeface="Calibri"/>
              </a:rPr>
              <a:t>                                                         Л. Толсто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Герасимова Алёна_Родимый дом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377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Без имени.wmv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534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119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gallery.forum-grad.ru/files/2/2/5/0/4/happy-family-with-cheap-health-insuranc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ru-RU" sz="5400" spc="-1" strike="noStrike">
                <a:solidFill>
                  <a:srgbClr val="00642d"/>
                </a:solidFill>
                <a:latin typeface="Calibri"/>
              </a:rPr>
              <a:t>Семья – это      счасть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3"/>
          <p:cNvSpPr/>
          <p:nvPr/>
        </p:nvSpPr>
        <p:spPr>
          <a:xfrm>
            <a:off x="6875640" y="1413000"/>
            <a:ext cx="79200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5732640"/>
          <a:ext cx="8137800" cy="803160"/>
        </p:xfrm>
        <a:graphic>
          <a:graphicData uri="http://schemas.openxmlformats.org/drawingml/2006/table">
            <a:tbl>
              <a:tblPr/>
              <a:tblGrid>
                <a:gridCol w="8137800"/>
              </a:tblGrid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рпение, прощение, любов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84807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5"/>
          <p:cNvSpPr/>
          <p:nvPr/>
        </p:nvSpPr>
        <p:spPr>
          <a:xfrm>
            <a:off x="539640" y="5013360"/>
            <a:ext cx="2448000" cy="719280"/>
          </a:xfrm>
          <a:prstGeom prst="rect">
            <a:avLst/>
          </a:prstGeom>
          <a:solidFill>
            <a:srgbClr val="ff4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част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539640" y="4292640"/>
            <a:ext cx="2448000" cy="720720"/>
          </a:xfrm>
          <a:prstGeom prst="rect">
            <a:avLst/>
          </a:prstGeom>
          <a:solidFill>
            <a:srgbClr val="ff4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084720" y="5013360"/>
            <a:ext cx="2592720" cy="719280"/>
          </a:xfrm>
          <a:prstGeom prst="rect">
            <a:avLst/>
          </a:prstGeom>
          <a:solidFill>
            <a:srgbClr val="ff4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084720" y="4221000"/>
            <a:ext cx="2592720" cy="792360"/>
          </a:xfrm>
          <a:prstGeom prst="rect">
            <a:avLst/>
          </a:prstGeom>
          <a:solidFill>
            <a:srgbClr val="ff4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вер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39640" y="3500280"/>
            <a:ext cx="2448000" cy="792360"/>
          </a:xfrm>
          <a:prstGeom prst="rect">
            <a:avLst/>
          </a:prstGeom>
          <a:solidFill>
            <a:srgbClr val="ff4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084720" y="3429000"/>
            <a:ext cx="2590920" cy="792000"/>
          </a:xfrm>
          <a:prstGeom prst="rect">
            <a:avLst/>
          </a:prstGeom>
          <a:solidFill>
            <a:srgbClr val="ff4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39640" y="2708280"/>
            <a:ext cx="2448000" cy="792000"/>
          </a:xfrm>
          <a:prstGeom prst="rect">
            <a:avLst/>
          </a:prstGeom>
          <a:solidFill>
            <a:srgbClr val="ff4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6084720" y="2708280"/>
            <a:ext cx="2590920" cy="720720"/>
          </a:xfrm>
          <a:prstGeom prst="rect">
            <a:avLst/>
          </a:prstGeom>
          <a:solidFill>
            <a:srgbClr val="ff4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Равнобедренный треугольник 15"/>
          <p:cNvSpPr/>
          <p:nvPr/>
        </p:nvSpPr>
        <p:spPr>
          <a:xfrm>
            <a:off x="539640" y="1413000"/>
            <a:ext cx="8136000" cy="1295280"/>
          </a:xfrm>
          <a:prstGeom prst="triangle">
            <a:avLst>
              <a:gd name="adj" fmla="val 50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Хорошее настро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7"/>
          <p:cNvSpPr/>
          <p:nvPr/>
        </p:nvSpPr>
        <p:spPr>
          <a:xfrm>
            <a:off x="4427640" y="2708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олилиния 24"/>
          <p:cNvSpPr/>
          <p:nvPr/>
        </p:nvSpPr>
        <p:spPr>
          <a:xfrm>
            <a:off x="7304040" y="1400040"/>
            <a:ext cx="988920" cy="285840"/>
          </a:xfrm>
          <a:custGeom>
            <a:avLst/>
            <a:gdLst/>
            <a:ahLst/>
            <a:rect l="l" t="t" r="r" b="b"/>
            <a:pathLst>
              <a:path w="989635" h="285508">
                <a:moveTo>
                  <a:pt x="0" y="0"/>
                </a:moveTo>
                <a:cubicBezTo>
                  <a:pt x="989635" y="285508"/>
                  <a:pt x="57874" y="11574"/>
                  <a:pt x="57874" y="11574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21"/>
          <p:cNvSpPr/>
          <p:nvPr/>
        </p:nvSpPr>
        <p:spPr>
          <a:xfrm>
            <a:off x="2987640" y="3716280"/>
            <a:ext cx="3097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25"/>
          <p:cNvSpPr/>
          <p:nvPr/>
        </p:nvSpPr>
        <p:spPr>
          <a:xfrm>
            <a:off x="4427640" y="3716280"/>
            <a:ext cx="0" cy="2016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SHum_dozhdya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6267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Прямоугольник 3"/>
          <p:cNvGrpSpPr/>
          <p:nvPr/>
        </p:nvGrpSpPr>
        <p:grpSpPr>
          <a:xfrm>
            <a:off x="4638600" y="5430960"/>
            <a:ext cx="3030480" cy="1085760"/>
            <a:chOff x="4638600" y="5430960"/>
            <a:chExt cx="3030480" cy="1085760"/>
          </a:xfrm>
        </p:grpSpPr>
        <p:pic>
          <p:nvPicPr>
            <p:cNvPr id="67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4638600" y="5430960"/>
              <a:ext cx="3030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 rot="645000">
              <a:off x="4716000" y="5732280"/>
              <a:ext cx="288000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Готовить еду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Прямоугольник 4"/>
          <p:cNvGrpSpPr/>
          <p:nvPr/>
        </p:nvGrpSpPr>
        <p:grpSpPr>
          <a:xfrm>
            <a:off x="4681440" y="4932360"/>
            <a:ext cx="2871720" cy="1309680"/>
            <a:chOff x="4681440" y="4932360"/>
            <a:chExt cx="2871720" cy="1309680"/>
          </a:xfrm>
        </p:grpSpPr>
        <p:pic>
          <p:nvPicPr>
            <p:cNvPr id="70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4681440" y="4932360"/>
              <a:ext cx="287172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 rot="1034400">
              <a:off x="4716360" y="5373720"/>
              <a:ext cx="2808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Стирка бель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Прямоугольник 5"/>
          <p:cNvGrpSpPr/>
          <p:nvPr/>
        </p:nvGrpSpPr>
        <p:grpSpPr>
          <a:xfrm>
            <a:off x="1768320" y="5413320"/>
            <a:ext cx="3011760" cy="1268640"/>
            <a:chOff x="1768320" y="5413320"/>
            <a:chExt cx="3011760" cy="1268640"/>
          </a:xfrm>
        </p:grpSpPr>
        <p:pic>
          <p:nvPicPr>
            <p:cNvPr id="73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1768320" y="5413320"/>
              <a:ext cx="301176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rot="20715000">
              <a:off x="1834920" y="5805000"/>
              <a:ext cx="2881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Уборка квартир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Прямоугольник 6"/>
          <p:cNvGrpSpPr/>
          <p:nvPr/>
        </p:nvGrpSpPr>
        <p:grpSpPr>
          <a:xfrm>
            <a:off x="1884240" y="5194440"/>
            <a:ext cx="2876760" cy="804600"/>
            <a:chOff x="1884240" y="5194440"/>
            <a:chExt cx="2876760" cy="804600"/>
          </a:xfrm>
        </p:grpSpPr>
        <p:pic>
          <p:nvPicPr>
            <p:cNvPr id="76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1884240" y="5194440"/>
              <a:ext cx="287676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 rot="21274800">
              <a:off x="1994040" y="5354280"/>
              <a:ext cx="2663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Мелкий ремонт по дому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Прямоугольник 7"/>
          <p:cNvGrpSpPr/>
          <p:nvPr/>
        </p:nvGrpSpPr>
        <p:grpSpPr>
          <a:xfrm>
            <a:off x="1395360" y="4986360"/>
            <a:ext cx="3537000" cy="1281240"/>
            <a:chOff x="1395360" y="4986360"/>
            <a:chExt cx="3537000" cy="1281240"/>
          </a:xfrm>
        </p:grpSpPr>
        <p:pic>
          <p:nvPicPr>
            <p:cNvPr id="79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1395360" y="4986360"/>
              <a:ext cx="353700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 rot="20965200">
              <a:off x="1476360" y="5373360"/>
              <a:ext cx="33829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Заниматься с младшими детьм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Прямоугольник 8"/>
          <p:cNvGrpSpPr/>
          <p:nvPr/>
        </p:nvGrpSpPr>
        <p:grpSpPr>
          <a:xfrm>
            <a:off x="1920960" y="4748040"/>
            <a:ext cx="2882880" cy="890640"/>
            <a:chOff x="1920960" y="4748040"/>
            <a:chExt cx="2882880" cy="890640"/>
          </a:xfrm>
        </p:grpSpPr>
        <p:pic>
          <p:nvPicPr>
            <p:cNvPr id="82" name="Прямоугольник 8" descr=""/>
            <p:cNvPicPr/>
            <p:nvPr/>
          </p:nvPicPr>
          <p:blipFill>
            <a:blip r:embed="rId6"/>
            <a:stretch/>
          </p:blipFill>
          <p:spPr>
            <a:xfrm>
              <a:off x="1920960" y="4748040"/>
              <a:ext cx="288288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 rot="21165000">
              <a:off x="1996560" y="4952520"/>
              <a:ext cx="27352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Мыть посуду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Прямоугольник 9"/>
          <p:cNvGrpSpPr/>
          <p:nvPr/>
        </p:nvGrpSpPr>
        <p:grpSpPr>
          <a:xfrm>
            <a:off x="4511520" y="5048280"/>
            <a:ext cx="2936880" cy="1517760"/>
            <a:chOff x="4511520" y="5048280"/>
            <a:chExt cx="2936880" cy="1517760"/>
          </a:xfrm>
        </p:grpSpPr>
        <p:pic>
          <p:nvPicPr>
            <p:cNvPr id="85" name="Прямоугольник 9" descr=""/>
            <p:cNvPicPr/>
            <p:nvPr/>
          </p:nvPicPr>
          <p:blipFill>
            <a:blip r:embed="rId7"/>
            <a:stretch/>
          </p:blipFill>
          <p:spPr>
            <a:xfrm>
              <a:off x="4511520" y="5048280"/>
              <a:ext cx="293688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 rot="1146000">
              <a:off x="4576320" y="5530320"/>
              <a:ext cx="28083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Ходить в магазин за продуктам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Полилиния 11"/>
          <p:cNvGrpSpPr/>
          <p:nvPr/>
        </p:nvGrpSpPr>
        <p:grpSpPr>
          <a:xfrm>
            <a:off x="1994040" y="603360"/>
            <a:ext cx="6308280" cy="5346720"/>
            <a:chOff x="1994040" y="603360"/>
            <a:chExt cx="6308280" cy="5346720"/>
          </a:xfrm>
        </p:grpSpPr>
        <p:pic>
          <p:nvPicPr>
            <p:cNvPr id="88" name="Полилиния 11" descr=""/>
            <p:cNvPicPr/>
            <p:nvPr/>
          </p:nvPicPr>
          <p:blipFill>
            <a:blip r:embed="rId8"/>
            <a:stretch/>
          </p:blipFill>
          <p:spPr>
            <a:xfrm>
              <a:off x="2011320" y="603360"/>
              <a:ext cx="6291000" cy="53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994040" y="612720"/>
              <a:ext cx="6296040" cy="53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Полилиния 12"/>
          <p:cNvGrpSpPr/>
          <p:nvPr/>
        </p:nvGrpSpPr>
        <p:grpSpPr>
          <a:xfrm>
            <a:off x="3992400" y="2305080"/>
            <a:ext cx="1481400" cy="2773080"/>
            <a:chOff x="3992400" y="2305080"/>
            <a:chExt cx="1481400" cy="2773080"/>
          </a:xfrm>
        </p:grpSpPr>
        <p:pic>
          <p:nvPicPr>
            <p:cNvPr id="91" name="Полилиния 12" descr=""/>
            <p:cNvPicPr/>
            <p:nvPr/>
          </p:nvPicPr>
          <p:blipFill>
            <a:blip r:embed="rId9"/>
            <a:stretch/>
          </p:blipFill>
          <p:spPr>
            <a:xfrm>
              <a:off x="3992400" y="2351520"/>
              <a:ext cx="1481400" cy="272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997440" y="2305080"/>
              <a:ext cx="1461960" cy="27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Полилиния 13"/>
          <p:cNvGrpSpPr/>
          <p:nvPr/>
        </p:nvGrpSpPr>
        <p:grpSpPr>
          <a:xfrm>
            <a:off x="2908440" y="950760"/>
            <a:ext cx="352440" cy="951120"/>
            <a:chOff x="2908440" y="950760"/>
            <a:chExt cx="352440" cy="951120"/>
          </a:xfrm>
        </p:grpSpPr>
        <p:pic>
          <p:nvPicPr>
            <p:cNvPr id="94" name="Полилиния 13" descr=""/>
            <p:cNvPicPr/>
            <p:nvPr/>
          </p:nvPicPr>
          <p:blipFill>
            <a:blip r:embed="rId10"/>
            <a:stretch/>
          </p:blipFill>
          <p:spPr>
            <a:xfrm>
              <a:off x="2908440" y="950760"/>
              <a:ext cx="3524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928960" y="971640"/>
              <a:ext cx="3128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Полилиния 14"/>
          <p:cNvGrpSpPr/>
          <p:nvPr/>
        </p:nvGrpSpPr>
        <p:grpSpPr>
          <a:xfrm>
            <a:off x="4857840" y="371520"/>
            <a:ext cx="330120" cy="1036080"/>
            <a:chOff x="4857840" y="371520"/>
            <a:chExt cx="330120" cy="1036080"/>
          </a:xfrm>
        </p:grpSpPr>
        <p:pic>
          <p:nvPicPr>
            <p:cNvPr id="97" name="Полилиния 14" descr=""/>
            <p:cNvPicPr/>
            <p:nvPr/>
          </p:nvPicPr>
          <p:blipFill>
            <a:blip r:embed="rId11"/>
            <a:stretch/>
          </p:blipFill>
          <p:spPr>
            <a:xfrm>
              <a:off x="4857840" y="377640"/>
              <a:ext cx="33012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873680" y="371520"/>
              <a:ext cx="29988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Полилиния 15"/>
          <p:cNvGrpSpPr/>
          <p:nvPr/>
        </p:nvGrpSpPr>
        <p:grpSpPr>
          <a:xfrm>
            <a:off x="6870600" y="2919240"/>
            <a:ext cx="577800" cy="677880"/>
            <a:chOff x="6870600" y="2919240"/>
            <a:chExt cx="577800" cy="677880"/>
          </a:xfrm>
        </p:grpSpPr>
        <p:pic>
          <p:nvPicPr>
            <p:cNvPr id="100" name="Полилиния 15" descr=""/>
            <p:cNvPicPr/>
            <p:nvPr/>
          </p:nvPicPr>
          <p:blipFill>
            <a:blip r:embed="rId12"/>
            <a:stretch/>
          </p:blipFill>
          <p:spPr>
            <a:xfrm>
              <a:off x="6870600" y="2919240"/>
              <a:ext cx="57780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886440" y="2933640"/>
              <a:ext cx="5446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heel spokes="2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3"/>
          <p:cNvSpPr/>
          <p:nvPr/>
        </p:nvSpPr>
        <p:spPr>
          <a:xfrm>
            <a:off x="6875640" y="1413000"/>
            <a:ext cx="79200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C:\Users\User\Desktop\sun-01.png"/>
          <p:cNvPicPr/>
          <p:nvPr/>
        </p:nvPicPr>
        <p:blipFill>
          <a:blip r:embed="rId1"/>
          <a:stretch/>
        </p:blipFill>
        <p:spPr>
          <a:xfrm>
            <a:off x="1547640" y="620640"/>
            <a:ext cx="1773360" cy="166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468360" y="5805360"/>
          <a:ext cx="8209080" cy="731880"/>
        </p:xfrm>
        <a:graphic>
          <a:graphicData uri="http://schemas.openxmlformats.org/drawingml/2006/table">
            <a:tbl>
              <a:tblPr/>
              <a:tblGrid>
                <a:gridCol w="820908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рпение, прощение, любов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84807"/>
                    </a:solidFill>
                  </a:tcPr>
                </a:tc>
              </a:tr>
            </a:tbl>
          </a:graphicData>
        </a:graphic>
      </p:graphicFrame>
      <p:sp>
        <p:nvSpPr>
          <p:cNvPr id="105" name="Rectangle 5"/>
          <p:cNvSpPr/>
          <p:nvPr/>
        </p:nvSpPr>
        <p:spPr>
          <a:xfrm>
            <a:off x="468360" y="5084640"/>
            <a:ext cx="2448000" cy="720720"/>
          </a:xfrm>
          <a:prstGeom prst="rect">
            <a:avLst/>
          </a:prstGeom>
          <a:solidFill>
            <a:srgbClr val="ff4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част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68360" y="4292640"/>
            <a:ext cx="2448000" cy="792000"/>
          </a:xfrm>
          <a:prstGeom prst="rect">
            <a:avLst/>
          </a:prstGeom>
          <a:solidFill>
            <a:srgbClr val="ff4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084720" y="5084640"/>
            <a:ext cx="2592720" cy="720720"/>
          </a:xfrm>
          <a:prstGeom prst="rect">
            <a:avLst/>
          </a:prstGeom>
          <a:solidFill>
            <a:srgbClr val="ff4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084720" y="4292640"/>
            <a:ext cx="2592720" cy="792000"/>
          </a:xfrm>
          <a:prstGeom prst="rect">
            <a:avLst/>
          </a:prstGeom>
          <a:solidFill>
            <a:srgbClr val="ff4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вер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8360" y="3500280"/>
            <a:ext cx="2448000" cy="792360"/>
          </a:xfrm>
          <a:prstGeom prst="rect">
            <a:avLst/>
          </a:prstGeom>
          <a:solidFill>
            <a:srgbClr val="ff4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084720" y="3495600"/>
            <a:ext cx="2590920" cy="797040"/>
          </a:xfrm>
          <a:prstGeom prst="rect">
            <a:avLst/>
          </a:prstGeom>
          <a:solidFill>
            <a:srgbClr val="ff4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68360" y="2708280"/>
            <a:ext cx="2448000" cy="792000"/>
          </a:xfrm>
          <a:prstGeom prst="rect">
            <a:avLst/>
          </a:prstGeom>
          <a:solidFill>
            <a:srgbClr val="ff4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084720" y="2708280"/>
            <a:ext cx="2590920" cy="792000"/>
          </a:xfrm>
          <a:prstGeom prst="rect">
            <a:avLst/>
          </a:prstGeom>
          <a:solidFill>
            <a:srgbClr val="ff4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Равнобедренный треугольник 15"/>
          <p:cNvSpPr/>
          <p:nvPr/>
        </p:nvSpPr>
        <p:spPr>
          <a:xfrm>
            <a:off x="539640" y="1413000"/>
            <a:ext cx="8136000" cy="1295280"/>
          </a:xfrm>
          <a:prstGeom prst="triangle">
            <a:avLst>
              <a:gd name="adj" fmla="val 50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Хорошее настро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ая соединительная линия 17"/>
          <p:cNvSpPr/>
          <p:nvPr/>
        </p:nvSpPr>
        <p:spPr>
          <a:xfrm>
            <a:off x="4427640" y="2708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олилиния 24"/>
          <p:cNvSpPr/>
          <p:nvPr/>
        </p:nvSpPr>
        <p:spPr>
          <a:xfrm>
            <a:off x="7304040" y="1400040"/>
            <a:ext cx="988920" cy="285840"/>
          </a:xfrm>
          <a:custGeom>
            <a:avLst/>
            <a:gdLst/>
            <a:ahLst/>
            <a:rect l="l" t="t" r="r" b="b"/>
            <a:pathLst>
              <a:path w="989635" h="285508">
                <a:moveTo>
                  <a:pt x="0" y="0"/>
                </a:moveTo>
                <a:cubicBezTo>
                  <a:pt x="989635" y="285508"/>
                  <a:pt x="57874" y="11574"/>
                  <a:pt x="57874" y="11574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олилиния 27"/>
          <p:cNvSpPr/>
          <p:nvPr/>
        </p:nvSpPr>
        <p:spPr>
          <a:xfrm>
            <a:off x="7035840" y="287280"/>
            <a:ext cx="635040" cy="1160640"/>
          </a:xfrm>
          <a:custGeom>
            <a:avLst/>
            <a:gdLst/>
            <a:ahLst/>
            <a:rect l="l" t="t" r="r" b="b"/>
            <a:pathLst>
              <a:path w="634785" h="1159590">
                <a:moveTo>
                  <a:pt x="279405" y="1089273"/>
                </a:moveTo>
                <a:cubicBezTo>
                  <a:pt x="271689" y="1108564"/>
                  <a:pt x="269557" y="1131185"/>
                  <a:pt x="256256" y="1147147"/>
                </a:cubicBezTo>
                <a:cubicBezTo>
                  <a:pt x="248445" y="1156520"/>
                  <a:pt x="233702" y="1159590"/>
                  <a:pt x="221532" y="1158721"/>
                </a:cubicBezTo>
                <a:cubicBezTo>
                  <a:pt x="178505" y="1155648"/>
                  <a:pt x="136651" y="1143288"/>
                  <a:pt x="94210" y="1135572"/>
                </a:cubicBezTo>
                <a:cubicBezTo>
                  <a:pt x="67610" y="1055771"/>
                  <a:pt x="88316" y="1083378"/>
                  <a:pt x="47911" y="1042975"/>
                </a:cubicBezTo>
                <a:cubicBezTo>
                  <a:pt x="60109" y="847809"/>
                  <a:pt x="0" y="827012"/>
                  <a:pt x="175233" y="880929"/>
                </a:cubicBezTo>
                <a:cubicBezTo>
                  <a:pt x="188529" y="885020"/>
                  <a:pt x="198382" y="896362"/>
                  <a:pt x="209957" y="904078"/>
                </a:cubicBezTo>
                <a:cubicBezTo>
                  <a:pt x="226279" y="969363"/>
                  <a:pt x="236515" y="982231"/>
                  <a:pt x="198382" y="1066124"/>
                </a:cubicBezTo>
                <a:cubicBezTo>
                  <a:pt x="193333" y="1077231"/>
                  <a:pt x="175233" y="1073841"/>
                  <a:pt x="163658" y="1077699"/>
                </a:cubicBezTo>
                <a:cubicBezTo>
                  <a:pt x="140509" y="1069982"/>
                  <a:pt x="113731" y="1069190"/>
                  <a:pt x="94210" y="1054549"/>
                </a:cubicBezTo>
                <a:cubicBezTo>
                  <a:pt x="42922" y="1016083"/>
                  <a:pt x="82137" y="848863"/>
                  <a:pt x="82635" y="846205"/>
                </a:cubicBezTo>
                <a:cubicBezTo>
                  <a:pt x="84646" y="835479"/>
                  <a:pt x="96427" y="828671"/>
                  <a:pt x="105785" y="823056"/>
                </a:cubicBezTo>
                <a:cubicBezTo>
                  <a:pt x="117647" y="815939"/>
                  <a:pt x="178158" y="802068"/>
                  <a:pt x="186808" y="799906"/>
                </a:cubicBezTo>
                <a:cubicBezTo>
                  <a:pt x="221532" y="803764"/>
                  <a:pt x="259731" y="795856"/>
                  <a:pt x="290980" y="811481"/>
                </a:cubicBezTo>
                <a:cubicBezTo>
                  <a:pt x="305208" y="818595"/>
                  <a:pt x="302554" y="841872"/>
                  <a:pt x="302554" y="857780"/>
                </a:cubicBezTo>
                <a:cubicBezTo>
                  <a:pt x="302554" y="924625"/>
                  <a:pt x="301359" y="916849"/>
                  <a:pt x="267830" y="950377"/>
                </a:cubicBezTo>
                <a:cubicBezTo>
                  <a:pt x="205488" y="944709"/>
                  <a:pt x="150234" y="960101"/>
                  <a:pt x="105785" y="915653"/>
                </a:cubicBezTo>
                <a:cubicBezTo>
                  <a:pt x="95948" y="905816"/>
                  <a:pt x="90352" y="892504"/>
                  <a:pt x="82635" y="880929"/>
                </a:cubicBezTo>
                <a:cubicBezTo>
                  <a:pt x="89058" y="784591"/>
                  <a:pt x="54958" y="721903"/>
                  <a:pt x="128934" y="672585"/>
                </a:cubicBezTo>
                <a:cubicBezTo>
                  <a:pt x="139086" y="665817"/>
                  <a:pt x="152083" y="664868"/>
                  <a:pt x="163658" y="661010"/>
                </a:cubicBezTo>
                <a:cubicBezTo>
                  <a:pt x="207990" y="616680"/>
                  <a:pt x="198106" y="614620"/>
                  <a:pt x="302554" y="649435"/>
                </a:cubicBezTo>
                <a:cubicBezTo>
                  <a:pt x="315751" y="653834"/>
                  <a:pt x="317987" y="672584"/>
                  <a:pt x="325704" y="684159"/>
                </a:cubicBezTo>
                <a:cubicBezTo>
                  <a:pt x="313580" y="769027"/>
                  <a:pt x="332194" y="831501"/>
                  <a:pt x="186808" y="742033"/>
                </a:cubicBezTo>
                <a:cubicBezTo>
                  <a:pt x="166026" y="729244"/>
                  <a:pt x="171375" y="695734"/>
                  <a:pt x="163658" y="672585"/>
                </a:cubicBezTo>
                <a:cubicBezTo>
                  <a:pt x="137385" y="593768"/>
                  <a:pt x="170455" y="690710"/>
                  <a:pt x="128934" y="579987"/>
                </a:cubicBezTo>
                <a:cubicBezTo>
                  <a:pt x="124650" y="568563"/>
                  <a:pt x="121217" y="556838"/>
                  <a:pt x="117359" y="545263"/>
                </a:cubicBezTo>
                <a:cubicBezTo>
                  <a:pt x="125076" y="510539"/>
                  <a:pt x="125789" y="473474"/>
                  <a:pt x="140509" y="441091"/>
                </a:cubicBezTo>
                <a:cubicBezTo>
                  <a:pt x="164870" y="387497"/>
                  <a:pt x="283501" y="439595"/>
                  <a:pt x="290980" y="441091"/>
                </a:cubicBezTo>
                <a:cubicBezTo>
                  <a:pt x="295499" y="450129"/>
                  <a:pt x="325704" y="505085"/>
                  <a:pt x="325704" y="522114"/>
                </a:cubicBezTo>
                <a:cubicBezTo>
                  <a:pt x="325704" y="549396"/>
                  <a:pt x="326330" y="578735"/>
                  <a:pt x="314129" y="603137"/>
                </a:cubicBezTo>
                <a:cubicBezTo>
                  <a:pt x="308673" y="614050"/>
                  <a:pt x="290980" y="610853"/>
                  <a:pt x="279405" y="614711"/>
                </a:cubicBezTo>
                <a:cubicBezTo>
                  <a:pt x="108171" y="586172"/>
                  <a:pt x="155135" y="638491"/>
                  <a:pt x="128934" y="533689"/>
                </a:cubicBezTo>
                <a:cubicBezTo>
                  <a:pt x="125975" y="521852"/>
                  <a:pt x="121217" y="510539"/>
                  <a:pt x="117359" y="498964"/>
                </a:cubicBezTo>
                <a:cubicBezTo>
                  <a:pt x="125076" y="456524"/>
                  <a:pt x="122432" y="410809"/>
                  <a:pt x="140509" y="371643"/>
                </a:cubicBezTo>
                <a:cubicBezTo>
                  <a:pt x="147740" y="355977"/>
                  <a:pt x="169592" y="349642"/>
                  <a:pt x="186808" y="348494"/>
                </a:cubicBezTo>
                <a:cubicBezTo>
                  <a:pt x="229329" y="345659"/>
                  <a:pt x="271689" y="356210"/>
                  <a:pt x="314129" y="360068"/>
                </a:cubicBezTo>
                <a:cubicBezTo>
                  <a:pt x="344159" y="405114"/>
                  <a:pt x="389874" y="457944"/>
                  <a:pt x="325704" y="522114"/>
                </a:cubicBezTo>
                <a:cubicBezTo>
                  <a:pt x="300999" y="546819"/>
                  <a:pt x="256256" y="514397"/>
                  <a:pt x="221532" y="510539"/>
                </a:cubicBezTo>
                <a:cubicBezTo>
                  <a:pt x="172513" y="437013"/>
                  <a:pt x="159983" y="433403"/>
                  <a:pt x="209957" y="290620"/>
                </a:cubicBezTo>
                <a:cubicBezTo>
                  <a:pt x="219148" y="264360"/>
                  <a:pt x="279405" y="244321"/>
                  <a:pt x="279405" y="244321"/>
                </a:cubicBezTo>
                <a:cubicBezTo>
                  <a:pt x="325704" y="248179"/>
                  <a:pt x="372873" y="246161"/>
                  <a:pt x="418301" y="255896"/>
                </a:cubicBezTo>
                <a:cubicBezTo>
                  <a:pt x="428972" y="258183"/>
                  <a:pt x="440463" y="268177"/>
                  <a:pt x="441451" y="279045"/>
                </a:cubicBezTo>
                <a:cubicBezTo>
                  <a:pt x="444614" y="313840"/>
                  <a:pt x="433734" y="348494"/>
                  <a:pt x="429876" y="383218"/>
                </a:cubicBezTo>
                <a:cubicBezTo>
                  <a:pt x="387724" y="373851"/>
                  <a:pt x="328562" y="380265"/>
                  <a:pt x="302554" y="336919"/>
                </a:cubicBezTo>
                <a:cubicBezTo>
                  <a:pt x="296277" y="326457"/>
                  <a:pt x="294838" y="313770"/>
                  <a:pt x="290980" y="302195"/>
                </a:cubicBezTo>
                <a:cubicBezTo>
                  <a:pt x="294838" y="252038"/>
                  <a:pt x="288734" y="200094"/>
                  <a:pt x="302554" y="151724"/>
                </a:cubicBezTo>
                <a:cubicBezTo>
                  <a:pt x="305906" y="139993"/>
                  <a:pt x="325077" y="140149"/>
                  <a:pt x="337278" y="140149"/>
                </a:cubicBezTo>
                <a:cubicBezTo>
                  <a:pt x="372216" y="140149"/>
                  <a:pt x="406727" y="147866"/>
                  <a:pt x="441451" y="151724"/>
                </a:cubicBezTo>
                <a:cubicBezTo>
                  <a:pt x="456019" y="210000"/>
                  <a:pt x="480393" y="281350"/>
                  <a:pt x="429876" y="336919"/>
                </a:cubicBezTo>
                <a:cubicBezTo>
                  <a:pt x="408952" y="359936"/>
                  <a:pt x="368144" y="329202"/>
                  <a:pt x="337278" y="325344"/>
                </a:cubicBezTo>
                <a:cubicBezTo>
                  <a:pt x="311991" y="249481"/>
                  <a:pt x="283871" y="195066"/>
                  <a:pt x="325704" y="105425"/>
                </a:cubicBezTo>
                <a:cubicBezTo>
                  <a:pt x="336023" y="83313"/>
                  <a:pt x="395152" y="82276"/>
                  <a:pt x="395152" y="82276"/>
                </a:cubicBezTo>
                <a:cubicBezTo>
                  <a:pt x="426018" y="86134"/>
                  <a:pt x="462266" y="76013"/>
                  <a:pt x="487749" y="93851"/>
                </a:cubicBezTo>
                <a:cubicBezTo>
                  <a:pt x="507740" y="107844"/>
                  <a:pt x="510899" y="163299"/>
                  <a:pt x="510899" y="163299"/>
                </a:cubicBezTo>
                <a:cubicBezTo>
                  <a:pt x="507041" y="178732"/>
                  <a:pt x="512965" y="201413"/>
                  <a:pt x="499324" y="209597"/>
                </a:cubicBezTo>
                <a:cubicBezTo>
                  <a:pt x="485683" y="217781"/>
                  <a:pt x="455444" y="213746"/>
                  <a:pt x="453025" y="198023"/>
                </a:cubicBezTo>
                <a:cubicBezTo>
                  <a:pt x="445888" y="151631"/>
                  <a:pt x="468458" y="105426"/>
                  <a:pt x="476175" y="59127"/>
                </a:cubicBezTo>
                <a:cubicBezTo>
                  <a:pt x="510899" y="62985"/>
                  <a:pt x="557136" y="44588"/>
                  <a:pt x="580347" y="70701"/>
                </a:cubicBezTo>
                <a:cubicBezTo>
                  <a:pt x="634785" y="131944"/>
                  <a:pt x="564361" y="166240"/>
                  <a:pt x="534048" y="186448"/>
                </a:cubicBezTo>
                <a:cubicBezTo>
                  <a:pt x="522473" y="178732"/>
                  <a:pt x="508014" y="174162"/>
                  <a:pt x="499324" y="163299"/>
                </a:cubicBezTo>
                <a:cubicBezTo>
                  <a:pt x="475282" y="133247"/>
                  <a:pt x="492940" y="53533"/>
                  <a:pt x="499324" y="35977"/>
                </a:cubicBezTo>
                <a:cubicBezTo>
                  <a:pt x="504918" y="20593"/>
                  <a:pt x="522473" y="12828"/>
                  <a:pt x="534048" y="1253"/>
                </a:cubicBezTo>
                <a:cubicBezTo>
                  <a:pt x="618137" y="29282"/>
                  <a:pt x="603496" y="0"/>
                  <a:pt x="603496" y="70701"/>
                </a:cubicBezTo>
              </a:path>
            </a:pathLst>
          </a:custGeom>
          <a:noFill/>
          <a:ln w="381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2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nasati.ru/wp-content/uploads/2011/12/MURRAY-332x400.jpg"/>
          <p:cNvPicPr/>
          <p:nvPr/>
        </p:nvPicPr>
        <p:blipFill>
          <a:blip r:embed="rId1"/>
          <a:stretch/>
        </p:blipFill>
        <p:spPr>
          <a:xfrm>
            <a:off x="539640" y="1628640"/>
            <a:ext cx="3162240" cy="3810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42d"/>
                </a:solidFill>
                <a:latin typeface="Calibri"/>
              </a:rPr>
              <a:t>                  </a:t>
            </a:r>
            <a:r>
              <a:rPr b="1" lang="ru-RU" sz="6000" spc="-1" strike="noStrike">
                <a:solidFill>
                  <a:srgbClr val="00642d"/>
                </a:solidFill>
                <a:latin typeface="Calibri"/>
              </a:rPr>
              <a:t>Семь дочере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                    </a:t>
            </a:r>
            <a:r>
              <a:rPr b="1" lang="ru-RU" sz="3200" spc="-1" strike="noStrike">
                <a:solidFill>
                  <a:srgbClr val="00642d"/>
                </a:solidFill>
                <a:latin typeface="Calibri"/>
              </a:rPr>
              <a:t>В. Сухомли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Белый день_Мам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23223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3"/>
          <p:cNvSpPr/>
          <p:nvPr/>
        </p:nvSpPr>
        <p:spPr>
          <a:xfrm>
            <a:off x="6875640" y="1413000"/>
            <a:ext cx="79200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3" descr="C:\Users\User\Desktop\sun-01.png"/>
          <p:cNvPicPr/>
          <p:nvPr/>
        </p:nvPicPr>
        <p:blipFill>
          <a:blip r:embed="rId1"/>
          <a:stretch/>
        </p:blipFill>
        <p:spPr>
          <a:xfrm>
            <a:off x="1547640" y="620640"/>
            <a:ext cx="1773360" cy="1666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User\Desktop\счастлив тот, кто счастлив у себя дома\75936121_bigstock_Thanksgiving_Day_6556289.jpg"/>
          <p:cNvPicPr/>
          <p:nvPr/>
        </p:nvPicPr>
        <p:blipFill>
          <a:blip r:embed="rId2"/>
          <a:stretch/>
        </p:blipFill>
        <p:spPr>
          <a:xfrm>
            <a:off x="2843280" y="3429000"/>
            <a:ext cx="3430440" cy="252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68360" y="5805360"/>
          <a:ext cx="8209080" cy="731880"/>
        </p:xfrm>
        <a:graphic>
          <a:graphicData uri="http://schemas.openxmlformats.org/drawingml/2006/table">
            <a:tbl>
              <a:tblPr/>
              <a:tblGrid>
                <a:gridCol w="820908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рпение, прощение, любов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84807"/>
                    </a:solidFill>
                  </a:tcPr>
                </a:tc>
              </a:tr>
            </a:tbl>
          </a:graphicData>
        </a:graphic>
      </p:graphicFrame>
      <p:sp>
        <p:nvSpPr>
          <p:cNvPr id="124" name="Rectangle 5"/>
          <p:cNvSpPr/>
          <p:nvPr/>
        </p:nvSpPr>
        <p:spPr>
          <a:xfrm>
            <a:off x="468360" y="5084640"/>
            <a:ext cx="2448000" cy="720720"/>
          </a:xfrm>
          <a:prstGeom prst="rect">
            <a:avLst/>
          </a:prstGeom>
          <a:solidFill>
            <a:srgbClr val="ff4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част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68360" y="4292640"/>
            <a:ext cx="2448000" cy="792000"/>
          </a:xfrm>
          <a:prstGeom prst="rect">
            <a:avLst/>
          </a:prstGeom>
          <a:solidFill>
            <a:srgbClr val="ff4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6084720" y="5084640"/>
            <a:ext cx="2592720" cy="720720"/>
          </a:xfrm>
          <a:prstGeom prst="rect">
            <a:avLst/>
          </a:prstGeom>
          <a:solidFill>
            <a:srgbClr val="ff4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084720" y="4292640"/>
            <a:ext cx="2592720" cy="792000"/>
          </a:xfrm>
          <a:prstGeom prst="rect">
            <a:avLst/>
          </a:prstGeom>
          <a:solidFill>
            <a:srgbClr val="ff4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вер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468360" y="3500280"/>
            <a:ext cx="2448000" cy="792360"/>
          </a:xfrm>
          <a:prstGeom prst="rect">
            <a:avLst/>
          </a:prstGeom>
          <a:solidFill>
            <a:srgbClr val="ff4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084720" y="3495600"/>
            <a:ext cx="2590920" cy="797040"/>
          </a:xfrm>
          <a:prstGeom prst="rect">
            <a:avLst/>
          </a:prstGeom>
          <a:solidFill>
            <a:srgbClr val="ff4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68360" y="2708280"/>
            <a:ext cx="2448000" cy="792000"/>
          </a:xfrm>
          <a:prstGeom prst="rect">
            <a:avLst/>
          </a:prstGeom>
          <a:solidFill>
            <a:srgbClr val="ff4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084720" y="2708280"/>
            <a:ext cx="2590920" cy="792000"/>
          </a:xfrm>
          <a:prstGeom prst="rect">
            <a:avLst/>
          </a:prstGeom>
          <a:solidFill>
            <a:srgbClr val="ff4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Равнобедренный треугольник 15"/>
          <p:cNvSpPr/>
          <p:nvPr/>
        </p:nvSpPr>
        <p:spPr>
          <a:xfrm>
            <a:off x="539640" y="1413000"/>
            <a:ext cx="8136000" cy="1295280"/>
          </a:xfrm>
          <a:prstGeom prst="triangle">
            <a:avLst>
              <a:gd name="adj" fmla="val 50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Хорошее настро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ая соединительная линия 17"/>
          <p:cNvSpPr/>
          <p:nvPr/>
        </p:nvSpPr>
        <p:spPr>
          <a:xfrm>
            <a:off x="4427640" y="2708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олилиния 24"/>
          <p:cNvSpPr/>
          <p:nvPr/>
        </p:nvSpPr>
        <p:spPr>
          <a:xfrm>
            <a:off x="7304040" y="1400040"/>
            <a:ext cx="988920" cy="285840"/>
          </a:xfrm>
          <a:custGeom>
            <a:avLst/>
            <a:gdLst/>
            <a:ahLst/>
            <a:rect l="l" t="t" r="r" b="b"/>
            <a:pathLst>
              <a:path w="989635" h="285508">
                <a:moveTo>
                  <a:pt x="0" y="0"/>
                </a:moveTo>
                <a:cubicBezTo>
                  <a:pt x="989635" y="285508"/>
                  <a:pt x="57874" y="11574"/>
                  <a:pt x="57874" y="11574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олилиния 27"/>
          <p:cNvSpPr/>
          <p:nvPr/>
        </p:nvSpPr>
        <p:spPr>
          <a:xfrm>
            <a:off x="7035840" y="287280"/>
            <a:ext cx="635040" cy="1160640"/>
          </a:xfrm>
          <a:custGeom>
            <a:avLst/>
            <a:gdLst/>
            <a:ahLst/>
            <a:rect l="l" t="t" r="r" b="b"/>
            <a:pathLst>
              <a:path w="634785" h="1159590">
                <a:moveTo>
                  <a:pt x="279405" y="1089273"/>
                </a:moveTo>
                <a:cubicBezTo>
                  <a:pt x="271689" y="1108564"/>
                  <a:pt x="269557" y="1131185"/>
                  <a:pt x="256256" y="1147147"/>
                </a:cubicBezTo>
                <a:cubicBezTo>
                  <a:pt x="248445" y="1156520"/>
                  <a:pt x="233702" y="1159590"/>
                  <a:pt x="221532" y="1158721"/>
                </a:cubicBezTo>
                <a:cubicBezTo>
                  <a:pt x="178505" y="1155648"/>
                  <a:pt x="136651" y="1143288"/>
                  <a:pt x="94210" y="1135572"/>
                </a:cubicBezTo>
                <a:cubicBezTo>
                  <a:pt x="67610" y="1055771"/>
                  <a:pt x="88316" y="1083378"/>
                  <a:pt x="47911" y="1042975"/>
                </a:cubicBezTo>
                <a:cubicBezTo>
                  <a:pt x="60109" y="847809"/>
                  <a:pt x="0" y="827012"/>
                  <a:pt x="175233" y="880929"/>
                </a:cubicBezTo>
                <a:cubicBezTo>
                  <a:pt x="188529" y="885020"/>
                  <a:pt x="198382" y="896362"/>
                  <a:pt x="209957" y="904078"/>
                </a:cubicBezTo>
                <a:cubicBezTo>
                  <a:pt x="226279" y="969363"/>
                  <a:pt x="236515" y="982231"/>
                  <a:pt x="198382" y="1066124"/>
                </a:cubicBezTo>
                <a:cubicBezTo>
                  <a:pt x="193333" y="1077231"/>
                  <a:pt x="175233" y="1073841"/>
                  <a:pt x="163658" y="1077699"/>
                </a:cubicBezTo>
                <a:cubicBezTo>
                  <a:pt x="140509" y="1069982"/>
                  <a:pt x="113731" y="1069190"/>
                  <a:pt x="94210" y="1054549"/>
                </a:cubicBezTo>
                <a:cubicBezTo>
                  <a:pt x="42922" y="1016083"/>
                  <a:pt x="82137" y="848863"/>
                  <a:pt x="82635" y="846205"/>
                </a:cubicBezTo>
                <a:cubicBezTo>
                  <a:pt x="84646" y="835479"/>
                  <a:pt x="96427" y="828671"/>
                  <a:pt x="105785" y="823056"/>
                </a:cubicBezTo>
                <a:cubicBezTo>
                  <a:pt x="117647" y="815939"/>
                  <a:pt x="178158" y="802068"/>
                  <a:pt x="186808" y="799906"/>
                </a:cubicBezTo>
                <a:cubicBezTo>
                  <a:pt x="221532" y="803764"/>
                  <a:pt x="259731" y="795856"/>
                  <a:pt x="290980" y="811481"/>
                </a:cubicBezTo>
                <a:cubicBezTo>
                  <a:pt x="305208" y="818595"/>
                  <a:pt x="302554" y="841872"/>
                  <a:pt x="302554" y="857780"/>
                </a:cubicBezTo>
                <a:cubicBezTo>
                  <a:pt x="302554" y="924625"/>
                  <a:pt x="301359" y="916849"/>
                  <a:pt x="267830" y="950377"/>
                </a:cubicBezTo>
                <a:cubicBezTo>
                  <a:pt x="205488" y="944709"/>
                  <a:pt x="150234" y="960101"/>
                  <a:pt x="105785" y="915653"/>
                </a:cubicBezTo>
                <a:cubicBezTo>
                  <a:pt x="95948" y="905816"/>
                  <a:pt x="90352" y="892504"/>
                  <a:pt x="82635" y="880929"/>
                </a:cubicBezTo>
                <a:cubicBezTo>
                  <a:pt x="89058" y="784591"/>
                  <a:pt x="54958" y="721903"/>
                  <a:pt x="128934" y="672585"/>
                </a:cubicBezTo>
                <a:cubicBezTo>
                  <a:pt x="139086" y="665817"/>
                  <a:pt x="152083" y="664868"/>
                  <a:pt x="163658" y="661010"/>
                </a:cubicBezTo>
                <a:cubicBezTo>
                  <a:pt x="207990" y="616680"/>
                  <a:pt x="198106" y="614620"/>
                  <a:pt x="302554" y="649435"/>
                </a:cubicBezTo>
                <a:cubicBezTo>
                  <a:pt x="315751" y="653834"/>
                  <a:pt x="317987" y="672584"/>
                  <a:pt x="325704" y="684159"/>
                </a:cubicBezTo>
                <a:cubicBezTo>
                  <a:pt x="313580" y="769027"/>
                  <a:pt x="332194" y="831501"/>
                  <a:pt x="186808" y="742033"/>
                </a:cubicBezTo>
                <a:cubicBezTo>
                  <a:pt x="166026" y="729244"/>
                  <a:pt x="171375" y="695734"/>
                  <a:pt x="163658" y="672585"/>
                </a:cubicBezTo>
                <a:cubicBezTo>
                  <a:pt x="137385" y="593768"/>
                  <a:pt x="170455" y="690710"/>
                  <a:pt x="128934" y="579987"/>
                </a:cubicBezTo>
                <a:cubicBezTo>
                  <a:pt x="124650" y="568563"/>
                  <a:pt x="121217" y="556838"/>
                  <a:pt x="117359" y="545263"/>
                </a:cubicBezTo>
                <a:cubicBezTo>
                  <a:pt x="125076" y="510539"/>
                  <a:pt x="125789" y="473474"/>
                  <a:pt x="140509" y="441091"/>
                </a:cubicBezTo>
                <a:cubicBezTo>
                  <a:pt x="164870" y="387497"/>
                  <a:pt x="283501" y="439595"/>
                  <a:pt x="290980" y="441091"/>
                </a:cubicBezTo>
                <a:cubicBezTo>
                  <a:pt x="295499" y="450129"/>
                  <a:pt x="325704" y="505085"/>
                  <a:pt x="325704" y="522114"/>
                </a:cubicBezTo>
                <a:cubicBezTo>
                  <a:pt x="325704" y="549396"/>
                  <a:pt x="326330" y="578735"/>
                  <a:pt x="314129" y="603137"/>
                </a:cubicBezTo>
                <a:cubicBezTo>
                  <a:pt x="308673" y="614050"/>
                  <a:pt x="290980" y="610853"/>
                  <a:pt x="279405" y="614711"/>
                </a:cubicBezTo>
                <a:cubicBezTo>
                  <a:pt x="108171" y="586172"/>
                  <a:pt x="155135" y="638491"/>
                  <a:pt x="128934" y="533689"/>
                </a:cubicBezTo>
                <a:cubicBezTo>
                  <a:pt x="125975" y="521852"/>
                  <a:pt x="121217" y="510539"/>
                  <a:pt x="117359" y="498964"/>
                </a:cubicBezTo>
                <a:cubicBezTo>
                  <a:pt x="125076" y="456524"/>
                  <a:pt x="122432" y="410809"/>
                  <a:pt x="140509" y="371643"/>
                </a:cubicBezTo>
                <a:cubicBezTo>
                  <a:pt x="147740" y="355977"/>
                  <a:pt x="169592" y="349642"/>
                  <a:pt x="186808" y="348494"/>
                </a:cubicBezTo>
                <a:cubicBezTo>
                  <a:pt x="229329" y="345659"/>
                  <a:pt x="271689" y="356210"/>
                  <a:pt x="314129" y="360068"/>
                </a:cubicBezTo>
                <a:cubicBezTo>
                  <a:pt x="344159" y="405114"/>
                  <a:pt x="389874" y="457944"/>
                  <a:pt x="325704" y="522114"/>
                </a:cubicBezTo>
                <a:cubicBezTo>
                  <a:pt x="300999" y="546819"/>
                  <a:pt x="256256" y="514397"/>
                  <a:pt x="221532" y="510539"/>
                </a:cubicBezTo>
                <a:cubicBezTo>
                  <a:pt x="172513" y="437013"/>
                  <a:pt x="159983" y="433403"/>
                  <a:pt x="209957" y="290620"/>
                </a:cubicBezTo>
                <a:cubicBezTo>
                  <a:pt x="219148" y="264360"/>
                  <a:pt x="279405" y="244321"/>
                  <a:pt x="279405" y="244321"/>
                </a:cubicBezTo>
                <a:cubicBezTo>
                  <a:pt x="325704" y="248179"/>
                  <a:pt x="372873" y="246161"/>
                  <a:pt x="418301" y="255896"/>
                </a:cubicBezTo>
                <a:cubicBezTo>
                  <a:pt x="428972" y="258183"/>
                  <a:pt x="440463" y="268177"/>
                  <a:pt x="441451" y="279045"/>
                </a:cubicBezTo>
                <a:cubicBezTo>
                  <a:pt x="444614" y="313840"/>
                  <a:pt x="433734" y="348494"/>
                  <a:pt x="429876" y="383218"/>
                </a:cubicBezTo>
                <a:cubicBezTo>
                  <a:pt x="387724" y="373851"/>
                  <a:pt x="328562" y="380265"/>
                  <a:pt x="302554" y="336919"/>
                </a:cubicBezTo>
                <a:cubicBezTo>
                  <a:pt x="296277" y="326457"/>
                  <a:pt x="294838" y="313770"/>
                  <a:pt x="290980" y="302195"/>
                </a:cubicBezTo>
                <a:cubicBezTo>
                  <a:pt x="294838" y="252038"/>
                  <a:pt x="288734" y="200094"/>
                  <a:pt x="302554" y="151724"/>
                </a:cubicBezTo>
                <a:cubicBezTo>
                  <a:pt x="305906" y="139993"/>
                  <a:pt x="325077" y="140149"/>
                  <a:pt x="337278" y="140149"/>
                </a:cubicBezTo>
                <a:cubicBezTo>
                  <a:pt x="372216" y="140149"/>
                  <a:pt x="406727" y="147866"/>
                  <a:pt x="441451" y="151724"/>
                </a:cubicBezTo>
                <a:cubicBezTo>
                  <a:pt x="456019" y="210000"/>
                  <a:pt x="480393" y="281350"/>
                  <a:pt x="429876" y="336919"/>
                </a:cubicBezTo>
                <a:cubicBezTo>
                  <a:pt x="408952" y="359936"/>
                  <a:pt x="368144" y="329202"/>
                  <a:pt x="337278" y="325344"/>
                </a:cubicBezTo>
                <a:cubicBezTo>
                  <a:pt x="311991" y="249481"/>
                  <a:pt x="283871" y="195066"/>
                  <a:pt x="325704" y="105425"/>
                </a:cubicBezTo>
                <a:cubicBezTo>
                  <a:pt x="336023" y="83313"/>
                  <a:pt x="395152" y="82276"/>
                  <a:pt x="395152" y="82276"/>
                </a:cubicBezTo>
                <a:cubicBezTo>
                  <a:pt x="426018" y="86134"/>
                  <a:pt x="462266" y="76013"/>
                  <a:pt x="487749" y="93851"/>
                </a:cubicBezTo>
                <a:cubicBezTo>
                  <a:pt x="507740" y="107844"/>
                  <a:pt x="510899" y="163299"/>
                  <a:pt x="510899" y="163299"/>
                </a:cubicBezTo>
                <a:cubicBezTo>
                  <a:pt x="507041" y="178732"/>
                  <a:pt x="512965" y="201413"/>
                  <a:pt x="499324" y="209597"/>
                </a:cubicBezTo>
                <a:cubicBezTo>
                  <a:pt x="485683" y="217781"/>
                  <a:pt x="455444" y="213746"/>
                  <a:pt x="453025" y="198023"/>
                </a:cubicBezTo>
                <a:cubicBezTo>
                  <a:pt x="445888" y="151631"/>
                  <a:pt x="468458" y="105426"/>
                  <a:pt x="476175" y="59127"/>
                </a:cubicBezTo>
                <a:cubicBezTo>
                  <a:pt x="510899" y="62985"/>
                  <a:pt x="557136" y="44588"/>
                  <a:pt x="580347" y="70701"/>
                </a:cubicBezTo>
                <a:cubicBezTo>
                  <a:pt x="634785" y="131944"/>
                  <a:pt x="564361" y="166240"/>
                  <a:pt x="534048" y="186448"/>
                </a:cubicBezTo>
                <a:cubicBezTo>
                  <a:pt x="522473" y="178732"/>
                  <a:pt x="508014" y="174162"/>
                  <a:pt x="499324" y="163299"/>
                </a:cubicBezTo>
                <a:cubicBezTo>
                  <a:pt x="475282" y="133247"/>
                  <a:pt x="492940" y="53533"/>
                  <a:pt x="499324" y="35977"/>
                </a:cubicBezTo>
                <a:cubicBezTo>
                  <a:pt x="504918" y="20593"/>
                  <a:pt x="522473" y="12828"/>
                  <a:pt x="534048" y="1253"/>
                </a:cubicBezTo>
                <a:cubicBezTo>
                  <a:pt x="618137" y="29282"/>
                  <a:pt x="603496" y="0"/>
                  <a:pt x="603496" y="70701"/>
                </a:cubicBezTo>
              </a:path>
            </a:pathLst>
          </a:custGeom>
          <a:noFill/>
          <a:ln w="381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2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User</cp:lastModifiedBy>
  <dcterms:modified xsi:type="dcterms:W3CDTF">2013-02-06T02:29:30Z</dcterms:modified>
  <cp:revision>93</cp:revision>
  <dc:subject/>
  <dc:title>Презентация PowerPoint</dc:title>
</cp:coreProperties>
</file>