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371-9968-4C5A-8383-3AE58771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9C1-59E1-4833-A63B-A8780F55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1DE-3BE0-43E8-A2C6-7E2219CF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63C-0812-46EA-BD24-00CA201A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76B0-779E-436F-8CF6-0BD06E27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E93C-65B5-4CF3-A5D3-DB6C5225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82E5-C470-4B82-8967-68AA9772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1823-0C4B-4F0E-96FA-4F2A1B56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6267-9DFC-47CF-9A00-9136E2BC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A952-1D0B-4406-AA3D-CBD86DBB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A0A9-5B45-4E11-9E8B-3240AAB7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230-88CE-4CCD-B862-C9D738B9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C36E-359D-4ACB-824D-C92DC786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2ACE-E9B9-42EF-9A10-B0ADF06A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4D38-45CB-4F21-BBD9-3B2E0379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A433-8733-4138-B007-EF8C2752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47DD-36BB-4E82-9625-45327E71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DDF-A37D-45A5-BF31-F5328899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815-639F-4C3B-BD8B-0D91BFD9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2928-8ABA-4C52-8F75-4E35407F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73A-8138-45DF-9AD6-F27AD2AB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B73-F95C-4F2E-B43D-CA4D8989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015-E64C-42D0-A7C6-65EB4272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FEF-43C7-406E-BD01-DA57D272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A582-A24C-4F1A-AF9E-FAB5482C65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47B5-0B54-4021-89C5-E7D6CCF6E1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77708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66"/>
                </a:solidFill>
                <a:latin typeface="Arial"/>
              </a:rPr>
              <a:t>Линейная функция и ее график</a:t>
            </a:r>
            <a:br>
              <a:rPr sz="5000"/>
            </a:br>
            <a:endParaRPr b="1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31080" y="3068640"/>
            <a:ext cx="3112920" cy="37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Познакомиться с понятием линейной функ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Выработать умение строить график линейной функ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Познакомиться с математическими моделями линейной функци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атематическая ситуац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Оператор связи своим абонентам предлагает тариф со следующими условиями оплаты исходящих звонков: каждая минута связи стоит 0,5 рубля, за соединение  с абонента снимается платеж в размере 2-х рублей. Сколько будет стоить разговор абонента за х минут?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У = 0,5х+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инейная функц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00000" y="2852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366"/>
                </a:solidFill>
                <a:uFillTx/>
                <a:latin typeface="Arial"/>
              </a:rPr>
              <a:t>у = кх + </a:t>
            </a:r>
            <a:r>
              <a:rPr b="1" i="1" lang="en-US" sz="4000" spc="-1" strike="noStrike" u="sng">
                <a:solidFill>
                  <a:srgbClr val="003366"/>
                </a:solidFill>
                <a:uFillTx/>
                <a:latin typeface="Arial"/>
              </a:rPr>
              <a:t>b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– линейная функция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где </a:t>
            </a:r>
            <a:r>
              <a:rPr b="1" i="1" lang="ru-RU" sz="4000" spc="-1" strike="noStrike">
                <a:solidFill>
                  <a:srgbClr val="003366"/>
                </a:solidFill>
                <a:latin typeface="Arial"/>
              </a:rPr>
              <a:t>х, у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- переменные,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1" i="1" lang="ru-RU" sz="4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- некоторые числа,      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ричем к≠0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ависимая и независимая переменна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у=2х+3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→  у зависит от х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х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– независимая переменная или аргумент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– зависимая переменная или функция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рафик функ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758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у=2х+3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полните таблицу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 – значения аргумен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 – значения линейной функции для соответствующих значений аргумен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3213000"/>
          <a:ext cx="2559240" cy="647640"/>
        </p:xfrm>
        <a:graphic>
          <a:graphicData uri="http://schemas.openxmlformats.org/drawingml/2006/table">
            <a:tbl>
              <a:tblPr/>
              <a:tblGrid>
                <a:gridCol w="855720"/>
                <a:gridCol w="851040"/>
                <a:gridCol w="85248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042920" y="3933720"/>
          <a:ext cx="2556000" cy="503280"/>
        </p:xfrm>
        <a:graphic>
          <a:graphicData uri="http://schemas.openxmlformats.org/drawingml/2006/table">
            <a:tbl>
              <a:tblPr/>
              <a:tblGrid>
                <a:gridCol w="854280"/>
                <a:gridCol w="850680"/>
                <a:gridCol w="85104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20080" y="1038960"/>
            <a:ext cx="7808040" cy="8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инейная  функц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707920"/>
            <a:ext cx="7920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разите из уравнен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6х+3у+18 = 0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еременную у через переменную х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У = -2х - 6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полни зада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Является ли решением уравнения у = х/2 – 6  пара чисел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) (0;0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) (8;1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) (15;4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б) (2;-2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г) (0;3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е) (6;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Выразите переменную у через переменную х из уравнения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) х+у=1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б) 3х-у=2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в) 4х+2у=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Точки А (*;9), В (0;*), С (1;*), Е (*;-3) принадлежат графику уравнения у = 3х – 6. Найдите пропущенные координат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Учебник: с. 55 – 56, № 300, 304, 308 (а, в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16000" y="2781000"/>
            <a:ext cx="77040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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13 «Линейная функция и ее график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. с. 64,  контрольные вопросы 1, 2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3. Выполнить № 299, 305, 3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732720" y="3357720"/>
            <a:ext cx="2176200" cy="33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7:53:03Z</dcterms:created>
  <dc:creator>Юля</dc:creator>
  <dc:description/>
  <dc:language>en-US</dc:language>
  <cp:lastModifiedBy>user</cp:lastModifiedBy>
  <dcterms:modified xsi:type="dcterms:W3CDTF">2011-11-06T07:24:23Z</dcterms:modified>
  <cp:revision>15</cp:revision>
  <dc:subject/>
  <dc:title>Линейная функция и ее график </dc:title>
</cp:coreProperties>
</file>