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10C-3488-44BA-9BCA-D9D0ACAF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BF9-6BB1-49BF-8727-866EC00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CD4-6046-49C5-9CD7-B5767371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9AA-B274-4A54-913C-4D4CC00E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CA4-0BC5-4D9C-AD4F-E413C698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E6B-3F9E-4B3E-B76F-3600EBC6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DCD-C61E-4E8F-94FA-E79FCEB8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27C-404D-4FDF-B00D-2DE0331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A3D-57A7-4CB2-B83D-E7DED54E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867-A0D9-48C7-A3F0-F3149A0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4C5-D620-4C2C-AE7D-62D43A6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B68-24E8-4ECC-9BB3-B016C1F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6096-23E9-4D6E-A23F-0D574C587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2492280"/>
            <a:ext cx="7561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й эрудит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AutoShape 6"/>
          <p:cNvSpPr/>
          <p:nvPr/>
        </p:nvSpPr>
        <p:spPr>
          <a:xfrm>
            <a:off x="324000" y="404640"/>
            <a:ext cx="1223640" cy="935280"/>
          </a:xfrm>
          <a:custGeom>
            <a:avLst/>
            <a:gdLst>
              <a:gd name="textAreaLeft" fmla="*/ 378000 w 1223640"/>
              <a:gd name="textAreaRight" fmla="*/ 845640 w 1223640"/>
              <a:gd name="textAreaTop" fmla="*/ 357120 h 935280"/>
              <a:gd name="textAreaBottom" fmla="*/ 714600 h 935280"/>
            </a:gdLst>
            <a:ahLst/>
            <a:rect l="textAreaLeft" t="textAreaTop" r="textAreaRight" b="textAreaBottom"/>
            <a:pathLst>
              <a:path w="1223963" h="935037">
                <a:moveTo>
                  <a:pt x="1" y="357151"/>
                </a:moveTo>
                <a:lnTo>
                  <a:pt x="467515" y="357154"/>
                </a:lnTo>
                <a:lnTo>
                  <a:pt x="611982" y="0"/>
                </a:lnTo>
                <a:lnTo>
                  <a:pt x="756448" y="357154"/>
                </a:lnTo>
                <a:lnTo>
                  <a:pt x="1223962" y="357151"/>
                </a:lnTo>
                <a:lnTo>
                  <a:pt x="845734" y="577882"/>
                </a:lnTo>
                <a:lnTo>
                  <a:pt x="990207" y="935034"/>
                </a:lnTo>
                <a:lnTo>
                  <a:pt x="611982" y="714300"/>
                </a:lnTo>
                <a:lnTo>
                  <a:pt x="233756" y="935034"/>
                </a:lnTo>
                <a:lnTo>
                  <a:pt x="378229" y="57788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1476360" y="357336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>
            <a:hlinkClick r:id="rId1"/>
          </p:cNvPr>
          <p:cNvSpPr/>
          <p:nvPr/>
        </p:nvSpPr>
        <p:spPr>
          <a:xfrm>
            <a:off x="3203640" y="1197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6588000" y="386064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826920" y="566100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7451640" y="177336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">
            <a:hlinkClick r:id="rId2"/>
          </p:cNvPr>
          <p:cNvSpPr/>
          <p:nvPr/>
        </p:nvSpPr>
        <p:spPr>
          <a:xfrm>
            <a:off x="3780000" y="5084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/>
          <p:cNvSpPr/>
          <p:nvPr/>
        </p:nvSpPr>
        <p:spPr>
          <a:xfrm>
            <a:off x="6372360" y="189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7740720" y="5516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укцион синоним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подбери синонимы к иноязычным сло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контр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ммю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озу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н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6948360" y="4941720"/>
            <a:ext cx="1800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н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00040" y="500076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изы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700092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реры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амя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42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най грамматику!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от названий городов образуйте название 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д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Екатерин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рат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бил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00040" y="492912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оск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уля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дес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катеринбурж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692928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ратча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тбили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олго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олгоград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а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аки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02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най грамматику!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: образуйте правильные формы слова  в родительном паде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ап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арм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рель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артиз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00040" y="492912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о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арм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7000920" y="10717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рель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692928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арти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каза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57192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каз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71484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у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твёртое лишнее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из четырёх отрывков найдите ли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987640" y="1484280"/>
            <a:ext cx="2941560" cy="2230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42920" y="1785960"/>
            <a:ext cx="2786040" cy="157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о улицам Слона вод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ак, видно, напок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Известно, что сл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 диковинку у н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214200" y="12859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072120" y="13572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5143680" y="42861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357120" y="41432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760" y="4643280"/>
            <a:ext cx="3214440" cy="1000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ыло у отца три сы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ва умных, а третий - дур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143680" y="4714920"/>
            <a:ext cx="3000240" cy="13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Иван-царевич, что невесе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уйну голову повеси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Ложись спать, ут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ечера мудре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6072120" y="1857240"/>
            <a:ext cx="2928960" cy="128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ивка-бурка, вещий каур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стань передо мн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ак лист перед трав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68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твёртое лишнее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из четырёх отрывков найдите ли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643200" y="1428840"/>
            <a:ext cx="2143080" cy="2230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42920" y="1785960"/>
            <a:ext cx="3429000" cy="1571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Зима!.. Крестьянин, торжеству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На дровнях обновляет пу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го лошадка, снег почу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летётся рысью как-нибуд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214200" y="12859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6072120" y="13572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5143680" y="42861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357120" y="41432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4643280"/>
            <a:ext cx="3500280" cy="14288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роказница-Мартыш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сёл, Козё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а косолапый Ми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затеяли сыграть Квар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143680" y="4714920"/>
            <a:ext cx="3500280" cy="1143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то виноват из них, кто прав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удить не н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а только воз и ныне 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6072120" y="1857240"/>
            <a:ext cx="2928960" cy="128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Тут Воробей, случ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ромолвил им: «Друзь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Хоть вы охрипнит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Хваля друг дружку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ся ваша музыка плоха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214200" y="285840"/>
            <a:ext cx="4000680" cy="18572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ты хочешь судьбу переспор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ты ищешь отрады цвет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нуждаешься в твёрдой опоре,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ыучи  русский язы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285840" y="3571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000760" y="285840"/>
            <a:ext cx="4000320" cy="1785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н твой наставник великий, могуч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н переводчик, он провод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Если штурмуешь познания круч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ыучи русский язы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928880" y="4357800"/>
            <a:ext cx="5429160" cy="2143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Горького зорк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ескрайность Толстог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ушкинской лирики чистый род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лещут зеркальностью русского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ыучи русский язы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3"/>
          <p:cNvSpPr/>
          <p:nvPr/>
        </p:nvSpPr>
        <p:spPr>
          <a:xfrm>
            <a:off x="5072040" y="3571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2"/>
          <p:cNvSpPr/>
          <p:nvPr/>
        </p:nvSpPr>
        <p:spPr>
          <a:xfrm>
            <a:off x="2000160" y="44290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2643120" y="1285920"/>
            <a:ext cx="3929040" cy="2944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Выучи русский язы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.Абдул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74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539640" y="2492280"/>
            <a:ext cx="7561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й эрудит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24000" y="404640"/>
            <a:ext cx="1223640" cy="935280"/>
          </a:xfrm>
          <a:custGeom>
            <a:avLst/>
            <a:gdLst>
              <a:gd name="textAreaLeft" fmla="*/ 378000 w 1223640"/>
              <a:gd name="textAreaRight" fmla="*/ 845640 w 1223640"/>
              <a:gd name="textAreaTop" fmla="*/ 357120 h 935280"/>
              <a:gd name="textAreaBottom" fmla="*/ 714600 h 935280"/>
            </a:gdLst>
            <a:ahLst/>
            <a:rect l="textAreaLeft" t="textAreaTop" r="textAreaRight" b="textAreaBottom"/>
            <a:pathLst>
              <a:path w="1223963" h="935037">
                <a:moveTo>
                  <a:pt x="1" y="357151"/>
                </a:moveTo>
                <a:lnTo>
                  <a:pt x="467515" y="357154"/>
                </a:lnTo>
                <a:lnTo>
                  <a:pt x="611982" y="0"/>
                </a:lnTo>
                <a:lnTo>
                  <a:pt x="756448" y="357154"/>
                </a:lnTo>
                <a:lnTo>
                  <a:pt x="1223962" y="357151"/>
                </a:lnTo>
                <a:lnTo>
                  <a:pt x="845734" y="577882"/>
                </a:lnTo>
                <a:lnTo>
                  <a:pt x="990207" y="935034"/>
                </a:lnTo>
                <a:lnTo>
                  <a:pt x="611982" y="714300"/>
                </a:lnTo>
                <a:lnTo>
                  <a:pt x="233756" y="935034"/>
                </a:lnTo>
                <a:lnTo>
                  <a:pt x="378229" y="57788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1476360" y="357336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>
            <a:hlinkClick r:id="rId1"/>
          </p:cNvPr>
          <p:cNvSpPr/>
          <p:nvPr/>
        </p:nvSpPr>
        <p:spPr>
          <a:xfrm>
            <a:off x="3203640" y="1197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6588000" y="386064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2"/>
          <p:cNvSpPr/>
          <p:nvPr/>
        </p:nvSpPr>
        <p:spPr>
          <a:xfrm>
            <a:off x="826920" y="566100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7451640" y="1773360"/>
            <a:ext cx="962280" cy="914400"/>
          </a:xfrm>
          <a:custGeom>
            <a:avLst/>
            <a:gdLst>
              <a:gd name="textAreaLeft" fmla="*/ 297360 w 962280"/>
              <a:gd name="textAreaRight" fmla="*/ 664920 w 9622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4">
            <a:hlinkClick r:id="rId2"/>
          </p:cNvPr>
          <p:cNvSpPr/>
          <p:nvPr/>
        </p:nvSpPr>
        <p:spPr>
          <a:xfrm>
            <a:off x="3780000" y="5084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5"/>
          <p:cNvSpPr/>
          <p:nvPr/>
        </p:nvSpPr>
        <p:spPr>
          <a:xfrm>
            <a:off x="6372360" y="189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6"/>
          <p:cNvSpPr/>
          <p:nvPr/>
        </p:nvSpPr>
        <p:spPr>
          <a:xfrm>
            <a:off x="7740720" y="551664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941720"/>
            <a:ext cx="1942920" cy="1582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Топливо из л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68360" y="2997360"/>
            <a:ext cx="194292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Учебный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981000"/>
            <a:ext cx="194292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ппонент з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635280" y="981000"/>
            <a:ext cx="201636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ень нед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сле дож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804000" y="981000"/>
            <a:ext cx="187164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ло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ев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жура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6804000" y="2997360"/>
            <a:ext cx="18716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ловес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уэ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6804000" y="5013360"/>
            <a:ext cx="1871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убная пе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635280" y="5013360"/>
            <a:ext cx="2016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аши 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т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39640" y="501336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539640" y="314172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>
            <a:off x="539640" y="112536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3708360" y="1052640"/>
            <a:ext cx="28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6877080" y="1052640"/>
            <a:ext cx="2872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6948360" y="3068640"/>
            <a:ext cx="287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6948360" y="5084640"/>
            <a:ext cx="287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3708360" y="508464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2"/>
          <p:cNvSpPr/>
          <p:nvPr/>
        </p:nvSpPr>
        <p:spPr>
          <a:xfrm>
            <a:off x="3564000" y="2781360"/>
            <a:ext cx="2376360" cy="1800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500040" y="1000080"/>
            <a:ext cx="194328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о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00040" y="3000240"/>
            <a:ext cx="194328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00040" y="4929120"/>
            <a:ext cx="1943280" cy="1582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д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643200" y="1000080"/>
            <a:ext cx="201636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четв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6786720" y="1000080"/>
            <a:ext cx="18716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цап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6786720" y="3000240"/>
            <a:ext cx="1928520" cy="1643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п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786720" y="5000760"/>
            <a:ext cx="1871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лом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643200" y="5000760"/>
            <a:ext cx="2016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ин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лько всего музыкальных нот? Назовите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68360" y="1125360"/>
            <a:ext cx="187308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635280" y="1125360"/>
            <a:ext cx="2016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877080" y="1125360"/>
            <a:ext cx="17985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68360" y="2852640"/>
            <a:ext cx="1871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68360" y="4724280"/>
            <a:ext cx="1871640" cy="165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643200" y="4714920"/>
            <a:ext cx="18716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858000" y="4714920"/>
            <a:ext cx="1798560" cy="1657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877080" y="2924280"/>
            <a:ext cx="17985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>
            <a:off x="3276720" y="2924280"/>
            <a:ext cx="2447640" cy="1441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6"/>
          <p:cNvSpPr/>
          <p:nvPr/>
        </p:nvSpPr>
        <p:spPr>
          <a:xfrm>
            <a:off x="539640" y="47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7"/>
          <p:cNvSpPr/>
          <p:nvPr/>
        </p:nvSpPr>
        <p:spPr>
          <a:xfrm>
            <a:off x="539640" y="292428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8"/>
          <p:cNvSpPr/>
          <p:nvPr/>
        </p:nvSpPr>
        <p:spPr>
          <a:xfrm>
            <a:off x="539640" y="119700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9"/>
          <p:cNvSpPr/>
          <p:nvPr/>
        </p:nvSpPr>
        <p:spPr>
          <a:xfrm>
            <a:off x="6948360" y="119700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0"/>
          <p:cNvSpPr/>
          <p:nvPr/>
        </p:nvSpPr>
        <p:spPr>
          <a:xfrm>
            <a:off x="3708360" y="119700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1"/>
          <p:cNvSpPr/>
          <p:nvPr/>
        </p:nvSpPr>
        <p:spPr>
          <a:xfrm>
            <a:off x="3708360" y="47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>
            <a:off x="6948360" y="47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3"/>
          <p:cNvSpPr/>
          <p:nvPr/>
        </p:nvSpPr>
        <p:spPr>
          <a:xfrm>
            <a:off x="6948360" y="2997360"/>
            <a:ext cx="3589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йте слов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торых дважды встречается название н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68360" y="5013360"/>
            <a:ext cx="165564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фами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68360" y="3141720"/>
            <a:ext cx="1655640" cy="1366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  <a:ea typeface="Arial"/>
              </a:rPr>
              <a:t>сир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68360" y="1197000"/>
            <a:ext cx="1655640" cy="14907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  <a:ea typeface="Arial"/>
              </a:rPr>
              <a:t>д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708360" y="1197000"/>
            <a:ext cx="165564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до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093080" y="1197000"/>
            <a:ext cx="158256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фа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164360" y="3068640"/>
            <a:ext cx="151128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7164360" y="5013360"/>
            <a:ext cx="1511280" cy="1368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пре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780000" y="5084640"/>
            <a:ext cx="1584000" cy="129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  <a:ea typeface="Arial"/>
              </a:rPr>
              <a:t>перенос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3419640" y="2924280"/>
            <a:ext cx="2376360" cy="187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539640" y="508464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539640" y="3213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539640" y="1268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3780000" y="1268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8"/>
          <p:cNvSpPr/>
          <p:nvPr/>
        </p:nvSpPr>
        <p:spPr>
          <a:xfrm>
            <a:off x="7164360" y="126828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7236000" y="314172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0"/>
          <p:cNvSpPr/>
          <p:nvPr/>
        </p:nvSpPr>
        <p:spPr>
          <a:xfrm>
            <a:off x="7236000" y="508464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3851280" y="515772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справленное меню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е: оформите грамотно 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68360" y="4941720"/>
            <a:ext cx="194292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ул..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ур..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 фрикадель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68360" y="29973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..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к..лба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т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..вяж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08360" y="1125360"/>
            <a:ext cx="194328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..ль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948360" y="1125360"/>
            <a:ext cx="1800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ис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люкв..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708360" y="4941720"/>
            <a:ext cx="194328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иро..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печ..н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948360" y="299736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ври..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жа..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948360" y="4941720"/>
            <a:ext cx="1800360" cy="151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..ро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..скви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3429000" y="2714760"/>
            <a:ext cx="2428920" cy="214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курс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539640" y="501336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3780000" y="119700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6"/>
          <p:cNvSpPr/>
          <p:nvPr/>
        </p:nvSpPr>
        <p:spPr>
          <a:xfrm>
            <a:off x="539640" y="119700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7"/>
          <p:cNvSpPr/>
          <p:nvPr/>
        </p:nvSpPr>
        <p:spPr>
          <a:xfrm>
            <a:off x="539640" y="306864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3780000" y="501336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7020000" y="501336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0"/>
          <p:cNvSpPr/>
          <p:nvPr/>
        </p:nvSpPr>
        <p:spPr>
          <a:xfrm>
            <a:off x="7020000" y="306864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1"/>
          <p:cNvSpPr/>
          <p:nvPr/>
        </p:nvSpPr>
        <p:spPr>
          <a:xfrm>
            <a:off x="7020000" y="119700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00040" y="492912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Бул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ьо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ур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 фрикадель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00040" y="300024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ба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2876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т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яж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714840" y="11430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ь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929280" y="114300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ис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люк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6929280" y="300024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овр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ж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6929280" y="492912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о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кви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714840" y="492912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ир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 печ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17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42920" y="357120"/>
            <a:ext cx="3500280" cy="228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Мой первый слог найдёшь тог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Когда в котле кипит 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Местоименье – слог  втор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А в целом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школьный столик т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14200" y="4429080"/>
            <a:ext cx="3295800" cy="214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редлог стоит в моём нач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 конце же – загородный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А целое мы все реш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И у доски, и за сто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500880" y="1928880"/>
            <a:ext cx="2428920" cy="2516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ервое – но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торое – иг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Целое встретиш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у столя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214200" y="4287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357120" y="450072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6572160" y="207180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3571920" y="2000160"/>
            <a:ext cx="2724120" cy="257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42920" y="357120"/>
            <a:ext cx="3500280" cy="228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п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14200" y="4429080"/>
            <a:ext cx="3295800" cy="2141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500880" y="1928880"/>
            <a:ext cx="2428920" cy="2500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доло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27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разеологизм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вспомни фразеологизмы по рисунку, объясните их проис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50920" y="3213000"/>
            <a:ext cx="230508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348000" y="3213000"/>
            <a:ext cx="230364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16720" y="3213000"/>
            <a:ext cx="2232000" cy="26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3071880" y="1071720"/>
            <a:ext cx="2786040" cy="1925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395280" y="328464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3419640" y="328464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6659640" y="328464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4" descr=""/>
          <p:cNvPicPr/>
          <p:nvPr/>
        </p:nvPicPr>
        <p:blipFill>
          <a:blip r:embed="rId2"/>
          <a:stretch/>
        </p:blipFill>
        <p:spPr>
          <a:xfrm>
            <a:off x="714240" y="3429000"/>
            <a:ext cx="1505160" cy="2409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3"/>
          <a:stretch/>
        </p:blipFill>
        <p:spPr>
          <a:xfrm>
            <a:off x="3714840" y="3571920"/>
            <a:ext cx="16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"/>
          <p:cNvPicPr/>
          <p:nvPr/>
        </p:nvPicPr>
        <p:blipFill>
          <a:blip r:embed="rId4"/>
          <a:stretch/>
        </p:blipFill>
        <p:spPr>
          <a:xfrm>
            <a:off x="6858000" y="3643200"/>
            <a:ext cx="17146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31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8760" y="3429000"/>
            <a:ext cx="2519280" cy="27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419640" y="3500280"/>
            <a:ext cx="230472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516720" y="3500280"/>
            <a:ext cx="2158920" cy="2737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3132000" y="1197000"/>
            <a:ext cx="2448000" cy="1944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468360" y="3645000"/>
            <a:ext cx="3585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3564000" y="364500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6659640" y="357336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2"/>
          <a:stretch/>
        </p:blipFill>
        <p:spPr>
          <a:xfrm>
            <a:off x="785880" y="3929040"/>
            <a:ext cx="1847880" cy="2166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"/>
          <p:cNvPicPr/>
          <p:nvPr/>
        </p:nvPicPr>
        <p:blipFill>
          <a:blip r:embed="rId3"/>
          <a:stretch/>
        </p:blipFill>
        <p:spPr>
          <a:xfrm>
            <a:off x="3643200" y="4000680"/>
            <a:ext cx="1857600" cy="212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"/>
          <p:cNvPicPr/>
          <p:nvPr/>
        </p:nvPicPr>
        <p:blipFill>
          <a:blip r:embed="rId4"/>
          <a:stretch/>
        </p:blipFill>
        <p:spPr>
          <a:xfrm>
            <a:off x="6786720" y="3929040"/>
            <a:ext cx="1643040" cy="2084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разеологизм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вспомни фразеологизмы по рисунку, объясните их проис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50920" y="3789360"/>
            <a:ext cx="194472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близко</a:t>
            </a:r>
            <a:r>
              <a:rPr b="1" lang="ru-RU" sz="5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627280" y="3789360"/>
            <a:ext cx="187344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бман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932360" y="3789360"/>
            <a:ext cx="180036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быс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324000" y="3860640"/>
            <a:ext cx="43164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2700360" y="386064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5076720" y="3860640"/>
            <a:ext cx="432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3203640" y="1268280"/>
            <a:ext cx="2376360" cy="172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7236000" y="3789360"/>
            <a:ext cx="1657080" cy="1655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замол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7308720" y="3860640"/>
            <a:ext cx="36036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Фразеологизмы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: подскажите фраз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85840" y="3786120"/>
            <a:ext cx="194472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Ру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под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643120" y="3786120"/>
            <a:ext cx="187344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Моро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гол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929120" y="3786120"/>
            <a:ext cx="180036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о в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7286760" y="3786120"/>
            <a:ext cx="1657080" cy="1656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рику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6:23:14Z</dcterms:created>
  <dc:creator>ANGen</dc:creator>
  <dc:description/>
  <dc:language>en-US</dc:language>
  <cp:lastModifiedBy>RWT</cp:lastModifiedBy>
  <dcterms:modified xsi:type="dcterms:W3CDTF">2011-11-23T05:38:33Z</dcterms:modified>
  <cp:revision>77</cp:revision>
  <dc:subject/>
  <dc:title>Слайд 1</dc:title>
</cp:coreProperties>
</file>