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BF5-EAC3-4459-B3D3-BEF1EEA2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928D-993B-430B-8E1C-E706811BA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5866-0AB6-4E0E-A02B-295CC3578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72D7B-D04C-4B0C-8BA5-7B58FEDED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897B-9859-4FB2-A892-DAB059656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E3A8-6761-4A36-AB4B-6C9A65E6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2284-4399-40F0-8996-F127E9276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D5CE-B8DC-4019-9A56-E9DD527AE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356-5554-4E2C-A2EC-EA122A50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43FB-3749-4587-88A9-81BCCDED7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03FA-51F9-4450-99D3-9ABC6DBE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0B9B-FA71-45C2-B2A2-890B7D8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D21B2-E45A-44DE-B21F-59F58BB1E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0920" y="1353960"/>
            <a:ext cx="4223880" cy="3514680"/>
            <a:chOff x="250920" y="1353960"/>
            <a:chExt cx="4223880" cy="3514680"/>
          </a:xfrm>
        </p:grpSpPr>
        <p:sp>
          <p:nvSpPr>
            <p:cNvPr id="42" name=""/>
            <p:cNvSpPr/>
            <p:nvPr/>
          </p:nvSpPr>
          <p:spPr>
            <a:xfrm>
              <a:off x="2489760" y="161136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317760" y="155268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43360" y="2104920"/>
              <a:ext cx="115920" cy="115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280" bIns="35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0920" y="1728720"/>
              <a:ext cx="2297520" cy="3082680"/>
            </a:xfrm>
            <a:custGeom>
              <a:avLst/>
              <a:gdLst/>
              <a:ahLst/>
              <a:rect l="l" t="t" r="r" b="b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31040" y="1658520"/>
              <a:ext cx="1420920" cy="3210120"/>
            </a:xfrm>
            <a:custGeom>
              <a:avLst/>
              <a:gdLst/>
              <a:ahLst/>
              <a:rect l="l" t="t" r="r" b="b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276200" y="1353960"/>
              <a:ext cx="3198600" cy="955080"/>
            </a:xfrm>
            <a:custGeom>
              <a:avLst/>
              <a:gdLst/>
              <a:ahLst/>
              <a:rect l="l" t="t" r="r" b="b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287280" y="135396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7280" y="338472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2193840" y="3357720"/>
            <a:ext cx="2005200" cy="2714040"/>
            <a:chOff x="2193840" y="3357720"/>
            <a:chExt cx="2005200" cy="2714040"/>
          </a:xfrm>
        </p:grpSpPr>
        <p:sp>
          <p:nvSpPr>
            <p:cNvPr id="52" name=""/>
            <p:cNvSpPr/>
            <p:nvPr/>
          </p:nvSpPr>
          <p:spPr>
            <a:xfrm>
              <a:off x="3191760" y="3437280"/>
              <a:ext cx="1007280" cy="1420200"/>
            </a:xfrm>
            <a:custGeom>
              <a:avLst/>
              <a:gdLst/>
              <a:ahLst/>
              <a:rect l="l" t="t" r="r" b="b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93840" y="3437280"/>
              <a:ext cx="1141560" cy="263448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190680" y="364428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87160" y="3357720"/>
              <a:ext cx="95400" cy="954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997600" y="3429000"/>
            <a:ext cx="1527120" cy="1384200"/>
            <a:chOff x="5997600" y="3429000"/>
            <a:chExt cx="1527120" cy="1384200"/>
          </a:xfrm>
        </p:grpSpPr>
        <p:sp>
          <p:nvSpPr>
            <p:cNvPr id="57" name=""/>
            <p:cNvSpPr/>
            <p:nvPr/>
          </p:nvSpPr>
          <p:spPr>
            <a:xfrm>
              <a:off x="6708600" y="3466440"/>
              <a:ext cx="816120" cy="133848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997600" y="3474360"/>
              <a:ext cx="816120" cy="133884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36520" y="3429000"/>
              <a:ext cx="91080" cy="88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13680" y="3429720"/>
              <a:ext cx="91080" cy="892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560" bIns="16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996000" y="3368520"/>
            <a:ext cx="1112760" cy="1560960"/>
            <a:chOff x="3996000" y="3368520"/>
            <a:chExt cx="1112760" cy="1560960"/>
          </a:xfrm>
        </p:grpSpPr>
        <p:sp>
          <p:nvSpPr>
            <p:cNvPr id="62" name=""/>
            <p:cNvSpPr/>
            <p:nvPr/>
          </p:nvSpPr>
          <p:spPr>
            <a:xfrm rot="1367400">
              <a:off x="4250880" y="3428640"/>
              <a:ext cx="602280" cy="1440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903200" y="3657240"/>
              <a:ext cx="10044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7424640" y="3500280"/>
            <a:ext cx="819360" cy="1332000"/>
            <a:chOff x="7424640" y="3500280"/>
            <a:chExt cx="819360" cy="1332000"/>
          </a:xfrm>
        </p:grpSpPr>
        <p:sp>
          <p:nvSpPr>
            <p:cNvPr id="65" name=""/>
            <p:cNvSpPr/>
            <p:nvPr/>
          </p:nvSpPr>
          <p:spPr>
            <a:xfrm>
              <a:off x="7424640" y="3500280"/>
              <a:ext cx="819360" cy="1332000"/>
            </a:xfrm>
            <a:custGeom>
              <a:avLst/>
              <a:gdLst/>
              <a:ahLst/>
              <a:rect l="l" t="t" r="r" b="b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00720" y="3870720"/>
              <a:ext cx="90360" cy="90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4788000" y="3419640"/>
            <a:ext cx="1428120" cy="1412280"/>
            <a:chOff x="4788000" y="3419640"/>
            <a:chExt cx="1428120" cy="1412280"/>
          </a:xfrm>
        </p:grpSpPr>
        <p:sp>
          <p:nvSpPr>
            <p:cNvPr id="68" name=""/>
            <p:cNvSpPr/>
            <p:nvPr/>
          </p:nvSpPr>
          <p:spPr>
            <a:xfrm>
              <a:off x="4788000" y="3449880"/>
              <a:ext cx="587880" cy="134856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329080" y="3419640"/>
              <a:ext cx="9288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6200" y="3449880"/>
              <a:ext cx="979920" cy="1382040"/>
            </a:xfrm>
            <a:custGeom>
              <a:avLst/>
              <a:gdLst/>
              <a:ahLst/>
              <a:rect l="l" t="t" r="r" b="b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236200" y="3696480"/>
              <a:ext cx="92520" cy="92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" name=""/>
          <p:cNvSpPr/>
          <p:nvPr/>
        </p:nvSpPr>
        <p:spPr>
          <a:xfrm>
            <a:off x="8223120" y="3449520"/>
            <a:ext cx="525600" cy="1289160"/>
          </a:xfrm>
          <a:custGeom>
            <a:avLst/>
            <a:gdLst/>
            <a:ahLst/>
            <a:rect l="l" t="t" r="r" b="b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96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2367000" y="527040"/>
            <a:ext cx="2685960" cy="4241880"/>
            <a:chOff x="2367000" y="527040"/>
            <a:chExt cx="2685960" cy="4241880"/>
          </a:xfrm>
        </p:grpSpPr>
        <p:sp>
          <p:nvSpPr>
            <p:cNvPr id="200" name=""/>
            <p:cNvSpPr/>
            <p:nvPr/>
          </p:nvSpPr>
          <p:spPr>
            <a:xfrm>
              <a:off x="2367000" y="527040"/>
              <a:ext cx="2685960" cy="4241880"/>
            </a:xfrm>
            <a:custGeom>
              <a:avLst/>
              <a:gdLst/>
              <a:ahLst/>
              <a:rect l="l" t="t" r="r" b="b"/>
              <a:pathLst>
                <a:path w="1692" h="2672">
                  <a:moveTo>
                    <a:pt x="27" y="2254"/>
                  </a:moveTo>
                  <a:cubicBezTo>
                    <a:pt x="25" y="2276"/>
                    <a:pt x="3" y="2329"/>
                    <a:pt x="9" y="2386"/>
                  </a:cubicBezTo>
                  <a:cubicBezTo>
                    <a:pt x="15" y="2443"/>
                    <a:pt x="0" y="2550"/>
                    <a:pt x="65" y="2594"/>
                  </a:cubicBezTo>
                  <a:cubicBezTo>
                    <a:pt x="130" y="2638"/>
                    <a:pt x="289" y="2672"/>
                    <a:pt x="399" y="2650"/>
                  </a:cubicBezTo>
                  <a:cubicBezTo>
                    <a:pt x="509" y="2628"/>
                    <a:pt x="608" y="2584"/>
                    <a:pt x="723" y="2464"/>
                  </a:cubicBezTo>
                  <a:cubicBezTo>
                    <a:pt x="838" y="2344"/>
                    <a:pt x="1031" y="2090"/>
                    <a:pt x="1089" y="1930"/>
                  </a:cubicBezTo>
                  <a:cubicBezTo>
                    <a:pt x="1147" y="1770"/>
                    <a:pt x="1116" y="1599"/>
                    <a:pt x="1071" y="1504"/>
                  </a:cubicBezTo>
                  <a:cubicBezTo>
                    <a:pt x="1026" y="1409"/>
                    <a:pt x="886" y="1378"/>
                    <a:pt x="821" y="1358"/>
                  </a:cubicBezTo>
                  <a:cubicBezTo>
                    <a:pt x="756" y="1338"/>
                    <a:pt x="636" y="1424"/>
                    <a:pt x="681" y="1384"/>
                  </a:cubicBezTo>
                  <a:cubicBezTo>
                    <a:pt x="726" y="1344"/>
                    <a:pt x="948" y="1232"/>
                    <a:pt x="1089" y="1120"/>
                  </a:cubicBezTo>
                  <a:cubicBezTo>
                    <a:pt x="1230" y="1008"/>
                    <a:pt x="1429" y="841"/>
                    <a:pt x="1527" y="712"/>
                  </a:cubicBezTo>
                  <a:cubicBezTo>
                    <a:pt x="1625" y="583"/>
                    <a:pt x="1666" y="454"/>
                    <a:pt x="1679" y="344"/>
                  </a:cubicBezTo>
                  <a:cubicBezTo>
                    <a:pt x="1692" y="234"/>
                    <a:pt x="1681" y="97"/>
                    <a:pt x="1605" y="52"/>
                  </a:cubicBezTo>
                  <a:cubicBezTo>
                    <a:pt x="1529" y="7"/>
                    <a:pt x="1340" y="0"/>
                    <a:pt x="1221" y="76"/>
                  </a:cubicBezTo>
                  <a:cubicBezTo>
                    <a:pt x="1102" y="152"/>
                    <a:pt x="960" y="418"/>
                    <a:pt x="891" y="50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708360" y="126828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4572000" y="2565360"/>
            <a:ext cx="2808360" cy="4249440"/>
            <a:chOff x="4572000" y="2565360"/>
            <a:chExt cx="2808360" cy="4249440"/>
          </a:xfrm>
        </p:grpSpPr>
        <p:sp>
          <p:nvSpPr>
            <p:cNvPr id="203" name=""/>
            <p:cNvSpPr/>
            <p:nvPr/>
          </p:nvSpPr>
          <p:spPr>
            <a:xfrm>
              <a:off x="4572000" y="2565360"/>
              <a:ext cx="2808360" cy="4249440"/>
            </a:xfrm>
            <a:custGeom>
              <a:avLst/>
              <a:gdLst/>
              <a:ahLst/>
              <a:rect l="l" t="t" r="r" b="b"/>
              <a:pathLst>
                <a:path w="1769" h="2677">
                  <a:moveTo>
                    <a:pt x="1769" y="1034"/>
                  </a:moveTo>
                  <a:cubicBezTo>
                    <a:pt x="1516" y="1224"/>
                    <a:pt x="502" y="1907"/>
                    <a:pt x="251" y="2174"/>
                  </a:cubicBezTo>
                  <a:cubicBezTo>
                    <a:pt x="0" y="2441"/>
                    <a:pt x="197" y="2595"/>
                    <a:pt x="263" y="2636"/>
                  </a:cubicBezTo>
                  <a:cubicBezTo>
                    <a:pt x="329" y="2677"/>
                    <a:pt x="537" y="2544"/>
                    <a:pt x="647" y="2420"/>
                  </a:cubicBezTo>
                  <a:cubicBezTo>
                    <a:pt x="757" y="2296"/>
                    <a:pt x="866" y="2056"/>
                    <a:pt x="923" y="1892"/>
                  </a:cubicBezTo>
                  <a:cubicBezTo>
                    <a:pt x="980" y="1728"/>
                    <a:pt x="1014" y="1534"/>
                    <a:pt x="989" y="1436"/>
                  </a:cubicBezTo>
                  <a:cubicBezTo>
                    <a:pt x="964" y="1338"/>
                    <a:pt x="833" y="1320"/>
                    <a:pt x="774" y="1302"/>
                  </a:cubicBezTo>
                  <a:cubicBezTo>
                    <a:pt x="715" y="1284"/>
                    <a:pt x="594" y="1372"/>
                    <a:pt x="634" y="1328"/>
                  </a:cubicBezTo>
                  <a:cubicBezTo>
                    <a:pt x="674" y="1284"/>
                    <a:pt x="885" y="1159"/>
                    <a:pt x="1013" y="1040"/>
                  </a:cubicBezTo>
                  <a:cubicBezTo>
                    <a:pt x="1141" y="921"/>
                    <a:pt x="1312" y="739"/>
                    <a:pt x="1403" y="614"/>
                  </a:cubicBezTo>
                  <a:cubicBezTo>
                    <a:pt x="1494" y="489"/>
                    <a:pt x="1547" y="386"/>
                    <a:pt x="1559" y="290"/>
                  </a:cubicBezTo>
                  <a:cubicBezTo>
                    <a:pt x="1571" y="194"/>
                    <a:pt x="1530" y="76"/>
                    <a:pt x="1475" y="38"/>
                  </a:cubicBezTo>
                  <a:cubicBezTo>
                    <a:pt x="1420" y="0"/>
                    <a:pt x="1305" y="25"/>
                    <a:pt x="1229" y="62"/>
                  </a:cubicBezTo>
                  <a:cubicBezTo>
                    <a:pt x="1153" y="99"/>
                    <a:pt x="1063" y="219"/>
                    <a:pt x="1019" y="26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156360" y="2852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"/>
          <p:cNvSpPr/>
          <p:nvPr/>
        </p:nvSpPr>
        <p:spPr>
          <a:xfrm rot="12875400">
            <a:off x="3708360" y="14857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1.90751E-006 C 0.01598 -0.03931 0.03212 -0.07838 0.04914 -0.09734 C 0.06615 -0.1163 0.08837 -0.11838 0.10157 -0.11422 C 0.11476 -0.11006 0.125 -0.0948 0.12848 -0.07191 C 0.13195 -0.04902 0.14983 -0.02266 0.12223 0.02312 C 0.09462 0.0689 -0.01284 0.17433 -0.03663 0.20254 C -0.06041 0.23098 -0.02968 0.19029 -0.02065 0.19445 C -0.01163 0.19815 0.00816 0.21202 0.01737 0.22613 C 0.02657 0.24023 0.03525 0.25364 0.0349 0.27907 C 0.03455 0.30451 0.02796 0.34728 0.0158 0.37826 C 0.00365 0.40925 -0.02187 0.44532 -0.03819 0.46497 C -0.05451 0.48462 -0.07048 0.49017 -0.08263 0.49665 C -0.09479 0.50312 -0.09861 0.50497 -0.11111 0.50312 C -0.12361 0.50104 -0.14965 0.4978 -0.15729 0.48393 C -0.16493 0.46982 -0.15729 0.42936 -0.15729 0.41826 E">
                                      <p:cBhvr>
                                        <p:cTn id="121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13 0.2148 C 0.28455 0.19723 0.29497 0.17965 0.30573 0.17041 C 0.3165 0.16116 0.33038 0.15584 0.33906 0.15977 C 0.34775 0.1637 0.35729 0.17226 0.35816 0.19376 C 0.35903 0.21526 0.37031 0.2437 0.34393 0.28879 C 0.31754 0.33387 0.22031 0.43746 0.19948 0.46428 C 0.17865 0.4911 0.2099 0.44879 0.21858 0.44948 C 0.22726 0.45017 0.24514 0.44624 0.25191 0.46844 C 0.25868 0.49064 0.26667 0.54289 0.25972 0.58266 C 0.25278 0.62243 0.23021 0.6763 0.21059 0.70728 C 0.19097 0.73827 0.1592 0.76509 0.14236 0.76856 C 0.12552 0.77202 0.11111 0.7459 0.10903 0.72856 C 0.10695 0.71121 0.08264 0.71954 0.12969 0.66497 C 0.17674 0.61041 0.28403 0.50567 0.3915 0.40093 E">
                                      <p:cBhvr>
                                        <p:cTn id="124" dur="5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07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11" name="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1619280" y="504720"/>
            <a:ext cx="3097080" cy="4345200"/>
            <a:chOff x="1619280" y="504720"/>
            <a:chExt cx="3097080" cy="4345200"/>
          </a:xfrm>
        </p:grpSpPr>
        <p:sp>
          <p:nvSpPr>
            <p:cNvPr id="216" name=""/>
            <p:cNvSpPr/>
            <p:nvPr/>
          </p:nvSpPr>
          <p:spPr>
            <a:xfrm>
              <a:off x="1668600" y="504720"/>
              <a:ext cx="1714320" cy="4345200"/>
            </a:xfrm>
            <a:custGeom>
              <a:avLst/>
              <a:gdLst/>
              <a:ahLst/>
              <a:rect l="l" t="t" r="r" b="b"/>
              <a:pathLst>
                <a:path w="1080" h="2737">
                  <a:moveTo>
                    <a:pt x="894" y="2330"/>
                  </a:moveTo>
                  <a:cubicBezTo>
                    <a:pt x="788" y="2392"/>
                    <a:pt x="396" y="2669"/>
                    <a:pt x="259" y="2703"/>
                  </a:cubicBezTo>
                  <a:cubicBezTo>
                    <a:pt x="122" y="2737"/>
                    <a:pt x="60" y="2688"/>
                    <a:pt x="74" y="2537"/>
                  </a:cubicBezTo>
                  <a:cubicBezTo>
                    <a:pt x="88" y="2386"/>
                    <a:pt x="193" y="2138"/>
                    <a:pt x="344" y="1797"/>
                  </a:cubicBezTo>
                  <a:cubicBezTo>
                    <a:pt x="495" y="1456"/>
                    <a:pt x="878" y="783"/>
                    <a:pt x="979" y="493"/>
                  </a:cubicBezTo>
                  <a:cubicBezTo>
                    <a:pt x="1080" y="203"/>
                    <a:pt x="1023" y="112"/>
                    <a:pt x="951" y="56"/>
                  </a:cubicBezTo>
                  <a:cubicBezTo>
                    <a:pt x="879" y="0"/>
                    <a:pt x="707" y="82"/>
                    <a:pt x="549" y="157"/>
                  </a:cubicBezTo>
                  <a:cubicBezTo>
                    <a:pt x="391" y="232"/>
                    <a:pt x="114" y="433"/>
                    <a:pt x="0" y="50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"/>
          <p:cNvSpPr/>
          <p:nvPr/>
        </p:nvSpPr>
        <p:spPr>
          <a:xfrm rot="12875400">
            <a:off x="1668240" y="141228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3 C 0.02518 -0.01502 0.07552 -0.05664 0.10347 -0.07028 C 0.13143 -0.08393 0.13768 -0.07653 0.14323 -0.05549 C 0.14879 -0.03445 0.15643 -0.01687 0.13681 0.05642 C 0.11719 0.12972 0.05 0.31376 0.0257 0.38428 C 0.00139 0.4548 -0.00503 0.45318 -0.0092 0.47931 C -0.01337 0.50544 -0.02187 0.54405 0.00035 0.54058 C 0.02257 0.53711 0.07327 0.49758 0.12413 0.45827 E">
                                      <p:cBhvr>
                                        <p:cTn id="130" dur="5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98 -0.0793 C 0.23959 0.13087 0.16736 0.34128 0.14202 0.44278 C 0.11667 0.54405 0.1382 0.5281 0.15955 0.52948 C 0.1809 0.53064 0.25209 0.46428 0.27066 0.4511 E">
                                      <p:cBhvr>
                                        <p:cTn id="133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8000"/>
                            </p:stCondLst>
                            <p:childTnLst>
                              <p:par>
                                <p:cTn id="1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23261 C 0.41875 0.32856 0.37934 0.42451 0.36615 0.47561 C 0.35295 0.52671 0.35729 0.54405 0.379 0.5392 C 0.4007 0.53434 0.44844 0.49018 0.49636 0.44602 E">
                                      <p:cBhvr>
                                        <p:cTn id="136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65 0.23261 C 0.53629 0.34359 0.49393 0.4548 0.48646 0.50105 C 0.479 0.54729 0.5125 0.51908 0.5342 0.5096 C 0.5559 0.50012 0.60295 0.45503 0.61667 0.44417 E">
                                      <p:cBhvr>
                                        <p:cTn id="139" dur="3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222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003640" y="2637000"/>
            <a:ext cx="2441880" cy="2212920"/>
            <a:chOff x="5003640" y="2637000"/>
            <a:chExt cx="2441880" cy="2212920"/>
          </a:xfrm>
        </p:grpSpPr>
        <p:sp>
          <p:nvSpPr>
            <p:cNvPr id="226" name=""/>
            <p:cNvSpPr/>
            <p:nvPr/>
          </p:nvSpPr>
          <p:spPr>
            <a:xfrm>
              <a:off x="6140520" y="2697120"/>
              <a:ext cx="1305000" cy="213984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003640" y="2709720"/>
              <a:ext cx="1305000" cy="214020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65840" y="2637000"/>
              <a:ext cx="146160" cy="1425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948360" y="2638440"/>
              <a:ext cx="146160" cy="1429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1619280" y="534960"/>
            <a:ext cx="3097080" cy="4314960"/>
            <a:chOff x="1619280" y="534960"/>
            <a:chExt cx="3097080" cy="4314960"/>
          </a:xfrm>
        </p:grpSpPr>
        <p:sp>
          <p:nvSpPr>
            <p:cNvPr id="231" name=""/>
            <p:cNvSpPr/>
            <p:nvPr/>
          </p:nvSpPr>
          <p:spPr>
            <a:xfrm>
              <a:off x="1668600" y="534960"/>
              <a:ext cx="1736640" cy="4314960"/>
            </a:xfrm>
            <a:custGeom>
              <a:avLst/>
              <a:gdLst/>
              <a:ahLst/>
              <a:rect l="l" t="t" r="r" b="b"/>
              <a:pathLst>
                <a:path w="1094" h="2718">
                  <a:moveTo>
                    <a:pt x="894" y="2311"/>
                  </a:moveTo>
                  <a:cubicBezTo>
                    <a:pt x="788" y="2373"/>
                    <a:pt x="396" y="2650"/>
                    <a:pt x="259" y="2684"/>
                  </a:cubicBezTo>
                  <a:cubicBezTo>
                    <a:pt x="122" y="2718"/>
                    <a:pt x="60" y="2669"/>
                    <a:pt x="74" y="2518"/>
                  </a:cubicBezTo>
                  <a:cubicBezTo>
                    <a:pt x="88" y="2367"/>
                    <a:pt x="191" y="2128"/>
                    <a:pt x="344" y="1778"/>
                  </a:cubicBezTo>
                  <a:cubicBezTo>
                    <a:pt x="497" y="1428"/>
                    <a:pt x="894" y="710"/>
                    <a:pt x="994" y="421"/>
                  </a:cubicBezTo>
                  <a:cubicBezTo>
                    <a:pt x="1094" y="132"/>
                    <a:pt x="1020" y="94"/>
                    <a:pt x="946" y="47"/>
                  </a:cubicBezTo>
                  <a:cubicBezTo>
                    <a:pt x="872" y="0"/>
                    <a:pt x="707" y="65"/>
                    <a:pt x="549" y="138"/>
                  </a:cubicBezTo>
                  <a:cubicBezTo>
                    <a:pt x="391" y="211"/>
                    <a:pt x="114" y="414"/>
                    <a:pt x="0" y="48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619280" y="11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572000" y="549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98800" y="693720"/>
              <a:ext cx="1644480" cy="413856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5" name=""/>
          <p:cNvSpPr/>
          <p:nvPr/>
        </p:nvSpPr>
        <p:spPr>
          <a:xfrm>
            <a:off x="6138720" y="2308320"/>
            <a:ext cx="727200" cy="239760"/>
          </a:xfrm>
          <a:custGeom>
            <a:avLst/>
            <a:gdLst/>
            <a:ahLst/>
            <a:rect l="l" t="t" r="r" b="b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38360" y="309600"/>
            <a:ext cx="727200" cy="239760"/>
          </a:xfrm>
          <a:custGeom>
            <a:avLst/>
            <a:gdLst/>
            <a:ahLst/>
            <a:rect l="l" t="t" r="r" b="b"/>
            <a:pathLst>
              <a:path w="458" h="151">
                <a:moveTo>
                  <a:pt x="458" y="0"/>
                </a:moveTo>
                <a:cubicBezTo>
                  <a:pt x="441" y="13"/>
                  <a:pt x="393" y="54"/>
                  <a:pt x="353" y="78"/>
                </a:cubicBezTo>
                <a:cubicBezTo>
                  <a:pt x="313" y="102"/>
                  <a:pt x="280" y="151"/>
                  <a:pt x="221" y="146"/>
                </a:cubicBezTo>
                <a:cubicBezTo>
                  <a:pt x="162" y="141"/>
                  <a:pt x="46" y="66"/>
                  <a:pt x="0" y="4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rot="12875400">
            <a:off x="1668240" y="141228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3 C 0.02518 -0.01502 0.07552 -0.05664 0.10347 -0.07028 C 0.13143 -0.08393 0.13768 -0.07653 0.14323 -0.05549 C 0.14879 -0.03445 0.15643 -0.01687 0.13681 0.05642 C 0.11719 0.12972 0.05 0.31376 0.0257 0.38428 C 0.00139 0.4548 -0.00503 0.45318 -0.0092 0.47931 C -0.01337 0.50544 -0.02187 0.54405 0.00035 0.54058 C 0.02257 0.53711 0.07327 0.49758 0.12413 0.45827 E">
                                      <p:cBhvr>
                                        <p:cTn id="145" dur="5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0"/>
                            </p:stCondLst>
                            <p:childTnLst>
                              <p:par>
                                <p:cTn id="1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198 -0.0793 C 0.23959 0.13087 0.16736 0.34128 0.14202 0.44278 C 0.11667 0.54405 0.1382 0.5281 0.15955 0.52948 C 0.1809 0.53064 0.25209 0.46428 0.27066 0.4511 E">
                                      <p:cBhvr>
                                        <p:cTn id="148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7257 -0.10635 C 0.17795 -0.1045 0.19167 -0.09248 0.20695 -0.09687 C 0.22222 -0.10127 0.25434 -0.12693 0.26389 -0.13294 E">
                                      <p:cBhvr>
                                        <p:cTn id="15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834 0.23261 C 0.41875 0.32856 0.37934 0.42451 0.36615 0.47561 C 0.35295 0.52671 0.35729 0.54405 0.379 0.5392 C 0.4007 0.53434 0.44844 0.49018 0.49636 0.44602 E">
                                      <p:cBhvr>
                                        <p:cTn id="154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7865 0.23261 C 0.53629 0.34359 0.49393 0.4548 0.48646 0.50105 C 0.479 0.54729 0.5125 0.51908 0.5342 0.5096 C 0.5559 0.50012 0.60295 0.45503 0.61667 0.44417 E">
                                      <p:cBhvr>
                                        <p:cTn id="157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79 0.1896 C 0.48594 0.19515 0.49323 0.20093 0.5066 0.19607 C 0.51997 0.19122 0.54948 0.16602 0.55834 0.16 E">
                                      <p:cBhvr>
                                        <p:cTn id="161" dur="2000" fill="hold"/>
                                        <p:tgtEl>
                                          <p:spTgt spid="2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5342040" y="2637000"/>
            <a:ext cx="958680" cy="2163600"/>
          </a:xfrm>
          <a:custGeom>
            <a:avLst/>
            <a:gdLst/>
            <a:ahLst/>
            <a:rect l="l" t="t" r="r" b="b"/>
            <a:pathLst>
              <a:path w="604" h="1363">
                <a:moveTo>
                  <a:pt x="0" y="1363"/>
                </a:moveTo>
                <a:cubicBezTo>
                  <a:pt x="101" y="1137"/>
                  <a:pt x="478" y="284"/>
                  <a:pt x="60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40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1125360" y="357120"/>
            <a:ext cx="3746520" cy="4654440"/>
            <a:chOff x="1125360" y="357120"/>
            <a:chExt cx="3746520" cy="4654440"/>
          </a:xfrm>
        </p:grpSpPr>
        <p:sp>
          <p:nvSpPr>
            <p:cNvPr id="244" name=""/>
            <p:cNvSpPr/>
            <p:nvPr/>
          </p:nvSpPr>
          <p:spPr>
            <a:xfrm>
              <a:off x="1125360" y="357120"/>
              <a:ext cx="3746520" cy="4654440"/>
            </a:xfrm>
            <a:custGeom>
              <a:avLst/>
              <a:gdLst/>
              <a:ahLst/>
              <a:rect l="l" t="t" r="r" b="b"/>
              <a:pathLst>
                <a:path w="2360" h="2932">
                  <a:moveTo>
                    <a:pt x="2360" y="416"/>
                  </a:moveTo>
                  <a:cubicBezTo>
                    <a:pt x="2340" y="364"/>
                    <a:pt x="2348" y="85"/>
                    <a:pt x="2238" y="106"/>
                  </a:cubicBezTo>
                  <a:cubicBezTo>
                    <a:pt x="2128" y="127"/>
                    <a:pt x="2038" y="169"/>
                    <a:pt x="1702" y="544"/>
                  </a:cubicBezTo>
                  <a:cubicBezTo>
                    <a:pt x="1366" y="919"/>
                    <a:pt x="442" y="1998"/>
                    <a:pt x="221" y="2355"/>
                  </a:cubicBezTo>
                  <a:cubicBezTo>
                    <a:pt x="0" y="2712"/>
                    <a:pt x="213" y="2932"/>
                    <a:pt x="376" y="2684"/>
                  </a:cubicBezTo>
                  <a:cubicBezTo>
                    <a:pt x="539" y="2436"/>
                    <a:pt x="1011" y="1297"/>
                    <a:pt x="1199" y="869"/>
                  </a:cubicBezTo>
                  <a:cubicBezTo>
                    <a:pt x="1387" y="441"/>
                    <a:pt x="1466" y="230"/>
                    <a:pt x="1501" y="115"/>
                  </a:cubicBezTo>
                  <a:cubicBezTo>
                    <a:pt x="1536" y="0"/>
                    <a:pt x="1506" y="91"/>
                    <a:pt x="1410" y="179"/>
                  </a:cubicBezTo>
                  <a:cubicBezTo>
                    <a:pt x="1314" y="267"/>
                    <a:pt x="1026" y="548"/>
                    <a:pt x="925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651040" y="2658960"/>
              <a:ext cx="1776600" cy="2197080"/>
            </a:xfrm>
            <a:custGeom>
              <a:avLst/>
              <a:gdLst/>
              <a:ahLst/>
              <a:rect l="l" t="t" r="r" b="b"/>
              <a:pathLst>
                <a:path w="1119" h="1384">
                  <a:moveTo>
                    <a:pt x="1119" y="841"/>
                  </a:moveTo>
                  <a:cubicBezTo>
                    <a:pt x="1026" y="917"/>
                    <a:pt x="699" y="1230"/>
                    <a:pt x="561" y="1307"/>
                  </a:cubicBezTo>
                  <a:cubicBezTo>
                    <a:pt x="423" y="1384"/>
                    <a:pt x="329" y="1361"/>
                    <a:pt x="293" y="1301"/>
                  </a:cubicBezTo>
                  <a:cubicBezTo>
                    <a:pt x="257" y="1241"/>
                    <a:pt x="312" y="1083"/>
                    <a:pt x="346" y="946"/>
                  </a:cubicBezTo>
                  <a:cubicBezTo>
                    <a:pt x="380" y="809"/>
                    <a:pt x="470" y="616"/>
                    <a:pt x="500" y="480"/>
                  </a:cubicBezTo>
                  <a:cubicBezTo>
                    <a:pt x="530" y="344"/>
                    <a:pt x="550" y="204"/>
                    <a:pt x="524" y="127"/>
                  </a:cubicBezTo>
                  <a:cubicBezTo>
                    <a:pt x="498" y="50"/>
                    <a:pt x="428" y="30"/>
                    <a:pt x="341" y="15"/>
                  </a:cubicBezTo>
                  <a:cubicBezTo>
                    <a:pt x="254" y="0"/>
                    <a:pt x="71" y="34"/>
                    <a:pt x="0" y="3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50668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68600" y="13003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156360" y="25639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869080" y="3552840"/>
            <a:ext cx="1736640" cy="1217520"/>
          </a:xfrm>
          <a:custGeom>
            <a:avLst/>
            <a:gdLst/>
            <a:ahLst/>
            <a:rect l="l" t="t" r="r" b="b"/>
            <a:pathLst>
              <a:path w="1094" h="767">
                <a:moveTo>
                  <a:pt x="1094" y="285"/>
                </a:moveTo>
                <a:cubicBezTo>
                  <a:pt x="1019" y="348"/>
                  <a:pt x="744" y="582"/>
                  <a:pt x="642" y="661"/>
                </a:cubicBezTo>
                <a:cubicBezTo>
                  <a:pt x="540" y="740"/>
                  <a:pt x="521" y="757"/>
                  <a:pt x="479" y="762"/>
                </a:cubicBezTo>
                <a:cubicBezTo>
                  <a:pt x="437" y="767"/>
                  <a:pt x="388" y="753"/>
                  <a:pt x="388" y="690"/>
                </a:cubicBezTo>
                <a:cubicBezTo>
                  <a:pt x="388" y="627"/>
                  <a:pt x="454" y="473"/>
                  <a:pt x="479" y="383"/>
                </a:cubicBezTo>
                <a:cubicBezTo>
                  <a:pt x="504" y="293"/>
                  <a:pt x="538" y="208"/>
                  <a:pt x="536" y="148"/>
                </a:cubicBezTo>
                <a:cubicBezTo>
                  <a:pt x="534" y="88"/>
                  <a:pt x="504" y="46"/>
                  <a:pt x="469" y="23"/>
                </a:cubicBezTo>
                <a:cubicBezTo>
                  <a:pt x="434" y="0"/>
                  <a:pt x="404" y="0"/>
                  <a:pt x="326" y="11"/>
                </a:cubicBezTo>
                <a:cubicBezTo>
                  <a:pt x="248" y="22"/>
                  <a:pt x="68" y="74"/>
                  <a:pt x="0" y="91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869080" y="2619360"/>
            <a:ext cx="1314360" cy="1081080"/>
          </a:xfrm>
          <a:custGeom>
            <a:avLst/>
            <a:gdLst/>
            <a:ahLst/>
            <a:rect l="l" t="t" r="r" b="b"/>
            <a:pathLst>
              <a:path w="828" h="681">
                <a:moveTo>
                  <a:pt x="0" y="681"/>
                </a:moveTo>
                <a:cubicBezTo>
                  <a:pt x="103" y="583"/>
                  <a:pt x="488" y="190"/>
                  <a:pt x="621" y="95"/>
                </a:cubicBezTo>
                <a:cubicBezTo>
                  <a:pt x="754" y="0"/>
                  <a:pt x="774" y="82"/>
                  <a:pt x="801" y="112"/>
                </a:cubicBezTo>
                <a:cubicBezTo>
                  <a:pt x="828" y="142"/>
                  <a:pt x="789" y="241"/>
                  <a:pt x="786" y="275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796000" y="355608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2875400">
            <a:off x="2506680" y="14443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 0.02682 C -0.00504 0.00231 0.08333 -0.12416 0.09514 -0.11931 C 0.10694 -0.11445 0.06632 -0.01434 0.04601 0.05618 C 0.02569 0.1267 -0.00486 0.22913 -0.02708 0.30335 C -0.04931 0.37757 -0.07118 0.48301 -0.08733 0.50196 C -0.10347 0.52069 -0.1375 0.46335 -0.12379 0.41526 C -0.11007 0.36763 -0.05938 0.29942 -0.00486 0.21457 C 0.04965 0.12971 0.1592 -0.04671 0.20312 -0.09387 C 0.24705 -0.14104 0.24705 -0.07399 0.25868 -0.06867 E">
                                      <p:cBhvr>
                                        <p:cTn id="167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5000"/>
                            </p:stCondLst>
                            <p:childTnLst>
                              <p:par>
                                <p:cTn id="1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0.21896 C 0.01979 0.22312 0.08611 0.19561 0.09514 0.24416 C 0.10417 0.29272 0.05069 0.47306 0.05868 0.51052 C 0.06667 0.54798 0.12048 0.48416 0.14288 0.46844 C 0.16528 0.45272 0.18298 0.42659 0.19358 0.41549 E">
                                      <p:cBhvr>
                                        <p:cTn id="170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8000"/>
                            </p:stCondLst>
                            <p:childTnLst>
                              <p:par>
                                <p:cTn id="1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608 0.19561 C 0.39236 0.23584 0.34201 0.38405 0.32378 0.43653 C 0.30555 0.48902 0.30243 0.49503 0.29687 0.51052 E">
                                      <p:cBhvr>
                                        <p:cTn id="173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1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399 0.35006 C 0.37483 0.32393 0.45555 0.20971 0.47934 0.19353 C 0.50312 0.17734 0.49323 0.24046 0.49687 0.25272 E">
                                      <p:cBhvr>
                                        <p:cTn id="176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1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024 0.35006 C 0.39635 0.33225 0.43246 0.31468 0.44288 0.33295 C 0.4533 0.35121 0.42517 0.42959 0.42222 0.45988 C 0.41927 0.49017 0.40816 0.51977 0.42535 0.51491 C 0.44253 0.51006 0.50677 0.44694 0.52535 0.43029 C 0.54392 0.41364 0.5401 0.41457 0.53646 0.41549 E">
                                      <p:cBhvr>
                                        <p:cTn id="179" dur="3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5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34920" y="527040"/>
            <a:ext cx="3637080" cy="4219560"/>
            <a:chOff x="934920" y="527040"/>
            <a:chExt cx="3637080" cy="4219560"/>
          </a:xfrm>
        </p:grpSpPr>
        <p:sp>
          <p:nvSpPr>
            <p:cNvPr id="258" name=""/>
            <p:cNvSpPr/>
            <p:nvPr/>
          </p:nvSpPr>
          <p:spPr>
            <a:xfrm>
              <a:off x="934920" y="527040"/>
              <a:ext cx="3637080" cy="4219560"/>
            </a:xfrm>
            <a:custGeom>
              <a:avLst/>
              <a:gdLst/>
              <a:ahLst/>
              <a:rect l="l" t="t" r="r" b="b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927520" y="527040"/>
              <a:ext cx="1644480" cy="421956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427640" y="5270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2" name="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/>
              <a:ahLst/>
              <a:rect l="l" t="t" r="r" b="b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/>
              <a:ahLst/>
              <a:rect l="l" t="t" r="r" b="b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"/>
          <p:cNvSpPr/>
          <p:nvPr/>
        </p:nvSpPr>
        <p:spPr>
          <a:xfrm rot="12875400">
            <a:off x="4451040" y="67104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5030640" y="2637000"/>
            <a:ext cx="2543400" cy="2355840"/>
            <a:chOff x="5030640" y="2637000"/>
            <a:chExt cx="2543400" cy="2355840"/>
          </a:xfrm>
        </p:grpSpPr>
        <p:sp>
          <p:nvSpPr>
            <p:cNvPr id="267" name=""/>
            <p:cNvSpPr/>
            <p:nvPr/>
          </p:nvSpPr>
          <p:spPr>
            <a:xfrm>
              <a:off x="6375240" y="2637000"/>
              <a:ext cx="1198800" cy="2355840"/>
            </a:xfrm>
            <a:custGeom>
              <a:avLst/>
              <a:gdLst/>
              <a:ahLst/>
              <a:rect l="l" t="t" r="r" b="b"/>
              <a:pathLst>
                <a:path w="798" h="1532">
                  <a:moveTo>
                    <a:pt x="798" y="1084"/>
                  </a:moveTo>
                  <a:cubicBezTo>
                    <a:pt x="726" y="1131"/>
                    <a:pt x="494" y="1331"/>
                    <a:pt x="368" y="1368"/>
                  </a:cubicBezTo>
                  <a:cubicBezTo>
                    <a:pt x="242" y="1405"/>
                    <a:pt x="0" y="1532"/>
                    <a:pt x="39" y="1304"/>
                  </a:cubicBezTo>
                  <a:cubicBezTo>
                    <a:pt x="78" y="1076"/>
                    <a:pt x="510" y="217"/>
                    <a:pt x="60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99760" y="2756880"/>
              <a:ext cx="2089440" cy="2027880"/>
            </a:xfrm>
            <a:custGeom>
              <a:avLst/>
              <a:gdLst/>
              <a:ahLst/>
              <a:rect l="l" t="t" r="r" b="b"/>
              <a:pathLst>
                <a:path w="1391" h="1319">
                  <a:moveTo>
                    <a:pt x="24" y="891"/>
                  </a:moveTo>
                  <a:cubicBezTo>
                    <a:pt x="11" y="972"/>
                    <a:pt x="0" y="1055"/>
                    <a:pt x="24" y="1126"/>
                  </a:cubicBezTo>
                  <a:cubicBezTo>
                    <a:pt x="48" y="1196"/>
                    <a:pt x="72" y="1319"/>
                    <a:pt x="166" y="1313"/>
                  </a:cubicBezTo>
                  <a:cubicBezTo>
                    <a:pt x="260" y="1307"/>
                    <a:pt x="382" y="1307"/>
                    <a:pt x="586" y="1088"/>
                  </a:cubicBezTo>
                  <a:cubicBezTo>
                    <a:pt x="790" y="869"/>
                    <a:pt x="1223" y="227"/>
                    <a:pt x="139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030640" y="4176000"/>
              <a:ext cx="136440" cy="1396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0781 0.00994 -0.03125 0.03283 -0.04739 0.05919 C -0.06354 0.08555 -0.05642 0.07237 -0.0967 0.15861 C -0.13698 0.24485 -0.24392 0.50589 -0.28889 0.57665 C -0.33385 0.6474 -0.35052 0.59376 -0.36666 0.58312 C -0.38281 0.57248 -0.38177 0.52786 -0.38576 0.51329 E">
                                      <p:cBhvr>
                                        <p:cTn id="185" dur="5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0"/>
                            </p:stCondLst>
                            <p:childTnLst>
                              <p:par>
                                <p:cTn id="1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7239 0.21017 -0.14409 0.41711 -0.16996 0.52208 C -0.19583 0.62705 -0.17708 0.62821 -0.15555 0.62959 C -0.13403 0.63098 -0.0651 0.55098 -0.04132 0.5304 E">
                                      <p:cBhvr>
                                        <p:cTn id="188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000"/>
                            </p:stCondLst>
                            <p:childTnLst>
                              <p:par>
                                <p:cTn id="1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955 0.32046 C 0.28941 0.35699 0.22361 0.48971 0.18733 0.54011 C 0.15104 0.59052 0.11129 0.62196 0.09202 0.62266 C 0.07275 0.62335 0.0757 0.56069 0.07136 0.54451 E">
                                      <p:cBhvr>
                                        <p:cTn id="191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011 0.34936 C 0.24775 0.46034 0.20538 0.57156 0.19792 0.6178 C 0.19045 0.66404 0.22396 0.63584 0.24566 0.62636 C 0.26736 0.61688 0.31441 0.57179 0.32813 0.56092 E">
                                      <p:cBhvr>
                                        <p:cTn id="194" dur="3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14800" y="546120"/>
            <a:ext cx="1782720" cy="4298760"/>
          </a:xfrm>
          <a:custGeom>
            <a:avLst/>
            <a:gdLst/>
            <a:ahLst/>
            <a:rect l="l" t="t" r="r" b="b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72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853160" y="5857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1280" y="585720"/>
            <a:ext cx="3492720" cy="4179960"/>
          </a:xfrm>
          <a:custGeom>
            <a:avLst/>
            <a:gdLst/>
            <a:ahLst/>
            <a:rect l="l" t="t" r="r" b="b"/>
            <a:pathLst>
              <a:path w="2200" h="2567">
                <a:moveTo>
                  <a:pt x="23" y="2132"/>
                </a:moveTo>
                <a:cubicBezTo>
                  <a:pt x="11" y="2211"/>
                  <a:pt x="0" y="2291"/>
                  <a:pt x="23" y="2359"/>
                </a:cubicBezTo>
                <a:cubicBezTo>
                  <a:pt x="46" y="2427"/>
                  <a:pt x="98" y="2517"/>
                  <a:pt x="159" y="2540"/>
                </a:cubicBezTo>
                <a:cubicBezTo>
                  <a:pt x="220" y="2563"/>
                  <a:pt x="285" y="2567"/>
                  <a:pt x="386" y="2495"/>
                </a:cubicBezTo>
                <a:cubicBezTo>
                  <a:pt x="487" y="2423"/>
                  <a:pt x="570" y="2385"/>
                  <a:pt x="767" y="2105"/>
                </a:cubicBezTo>
                <a:cubicBezTo>
                  <a:pt x="964" y="1825"/>
                  <a:pt x="1369" y="1135"/>
                  <a:pt x="1565" y="817"/>
                </a:cubicBezTo>
                <a:cubicBezTo>
                  <a:pt x="1761" y="499"/>
                  <a:pt x="1838" y="335"/>
                  <a:pt x="1944" y="199"/>
                </a:cubicBezTo>
                <a:cubicBezTo>
                  <a:pt x="2050" y="63"/>
                  <a:pt x="2147" y="42"/>
                  <a:pt x="2200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919160" y="585720"/>
            <a:ext cx="1789200" cy="4283280"/>
          </a:xfrm>
          <a:custGeom>
            <a:avLst/>
            <a:gdLst/>
            <a:ahLst/>
            <a:rect l="l" t="t" r="r" b="b"/>
            <a:pathLst>
              <a:path w="1036" h="2607">
                <a:moveTo>
                  <a:pt x="834" y="2200"/>
                </a:moveTo>
                <a:cubicBezTo>
                  <a:pt x="728" y="2262"/>
                  <a:pt x="336" y="2539"/>
                  <a:pt x="199" y="2573"/>
                </a:cubicBezTo>
                <a:cubicBezTo>
                  <a:pt x="62" y="2607"/>
                  <a:pt x="0" y="2558"/>
                  <a:pt x="14" y="2407"/>
                </a:cubicBezTo>
                <a:cubicBezTo>
                  <a:pt x="28" y="2256"/>
                  <a:pt x="114" y="2068"/>
                  <a:pt x="284" y="1667"/>
                </a:cubicBezTo>
                <a:cubicBezTo>
                  <a:pt x="454" y="1266"/>
                  <a:pt x="879" y="347"/>
                  <a:pt x="1036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4000" y="54612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997520" y="2637000"/>
            <a:ext cx="3543120" cy="2232000"/>
            <a:chOff x="4997520" y="2637000"/>
            <a:chExt cx="3543120" cy="2232000"/>
          </a:xfrm>
        </p:grpSpPr>
        <p:sp>
          <p:nvSpPr>
            <p:cNvPr id="280" name=""/>
            <p:cNvSpPr/>
            <p:nvPr/>
          </p:nvSpPr>
          <p:spPr>
            <a:xfrm>
              <a:off x="6140520" y="2637000"/>
              <a:ext cx="1305000" cy="223200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236000" y="2637000"/>
              <a:ext cx="1304640" cy="220788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997520" y="2641680"/>
              <a:ext cx="2084400" cy="2111400"/>
            </a:xfrm>
            <a:custGeom>
              <a:avLst/>
              <a:gdLst/>
              <a:ahLst/>
              <a:rect l="l" t="t" r="r" b="b"/>
              <a:pathLst>
                <a:path w="1222" h="1284">
                  <a:moveTo>
                    <a:pt x="27" y="828"/>
                  </a:moveTo>
                  <a:cubicBezTo>
                    <a:pt x="15" y="907"/>
                    <a:pt x="0" y="980"/>
                    <a:pt x="27" y="1055"/>
                  </a:cubicBezTo>
                  <a:cubicBezTo>
                    <a:pt x="54" y="1130"/>
                    <a:pt x="104" y="1284"/>
                    <a:pt x="189" y="1280"/>
                  </a:cubicBezTo>
                  <a:cubicBezTo>
                    <a:pt x="274" y="1276"/>
                    <a:pt x="365" y="1246"/>
                    <a:pt x="537" y="1033"/>
                  </a:cubicBezTo>
                  <a:cubicBezTo>
                    <a:pt x="709" y="820"/>
                    <a:pt x="1079" y="215"/>
                    <a:pt x="12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937200" y="26416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809928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5" name=""/>
          <p:cNvSpPr/>
          <p:nvPr/>
        </p:nvSpPr>
        <p:spPr>
          <a:xfrm rot="12875400">
            <a:off x="3563640" y="67104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0781 0.00994 -0.03125 0.03283 -0.04739 0.05919 C -0.06354 0.08555 -0.05642 0.07237 -0.0967 0.15861 C -0.13698 0.24485 -0.24392 0.50589 -0.28889 0.57665 C -0.33385 0.6474 -0.35052 0.59376 -0.36666 0.58312 C -0.38281 0.57248 -0.38177 0.52786 -0.38576 0.51329 E">
                                      <p:cBhvr>
                                        <p:cTn id="200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1.90751E-006 C -0.07239 0.21017 -0.14409 0.41711 -0.16996 0.52208 C -0.19583 0.62705 -0.17708 0.62821 -0.15555 0.62959 C -0.13403 0.63098 -0.0651 0.55098 -0.04132 0.5304 E">
                                      <p:cBhvr>
                                        <p:cTn id="203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8000"/>
                            </p:stCondLst>
                            <p:childTnLst>
                              <p:par>
                                <p:cTn id="2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415 0.00393 C 0.06598 0.21341 -0.00954 0.42289 -0.03472 0.52809 C -0.05989 0.63306 -0.03107 0.63167 -0.00937 0.63584 C 0.01233 0.64 0.05382 0.59676 0.09549 0.55352 E">
                                      <p:cBhvr>
                                        <p:cTn id="206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11000"/>
                            </p:stCondLst>
                            <p:childTnLst>
                              <p:par>
                                <p:cTn id="2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69 0.29688 C 0.35955 0.33618 0.29375 0.47907 0.25747 0.53341 C 0.22118 0.58774 0.18143 0.62173 0.16216 0.62243 C 0.14289 0.62335 0.14584 0.55561 0.1415 0.53826 E">
                                      <p:cBhvr>
                                        <p:cTn id="209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917 0.33271 C 0.33681 0.4437 0.29445 0.55491 0.28698 0.60115 C 0.27952 0.6474 0.31302 0.61919 0.33473 0.60971 C 0.35643 0.60023 0.40348 0.55514 0.41719 0.54428 E">
                                      <p:cBhvr>
                                        <p:cTn id="212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393 0.31237 C 0.45799 0.41017 0.42223 0.50797 0.40973 0.55977 C 0.39723 0.61156 0.40261 0.62196 0.41927 0.62312 C 0.43594 0.62428 0.49011 0.58034 0.50973 0.56624 C 0.52934 0.55214 0.53299 0.54543 0.53681 0.53873 E">
                                      <p:cBhvr>
                                        <p:cTn id="216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287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1336680" y="453960"/>
            <a:ext cx="3306600" cy="4654440"/>
            <a:chOff x="1336680" y="453960"/>
            <a:chExt cx="3306600" cy="4654440"/>
          </a:xfrm>
        </p:grpSpPr>
        <p:sp>
          <p:nvSpPr>
            <p:cNvPr id="291" name=""/>
            <p:cNvSpPr/>
            <p:nvPr/>
          </p:nvSpPr>
          <p:spPr>
            <a:xfrm>
              <a:off x="1336680" y="453960"/>
              <a:ext cx="2371680" cy="4654440"/>
            </a:xfrm>
            <a:custGeom>
              <a:avLst/>
              <a:gdLst/>
              <a:ahLst/>
              <a:rect l="l" t="t" r="r" b="b"/>
              <a:pathLst>
                <a:path w="1627" h="2932">
                  <a:moveTo>
                    <a:pt x="1627" y="1471"/>
                  </a:moveTo>
                  <a:cubicBezTo>
                    <a:pt x="1485" y="1500"/>
                    <a:pt x="1030" y="1499"/>
                    <a:pt x="773" y="1646"/>
                  </a:cubicBezTo>
                  <a:cubicBezTo>
                    <a:pt x="516" y="1793"/>
                    <a:pt x="176" y="2182"/>
                    <a:pt x="88" y="2355"/>
                  </a:cubicBezTo>
                  <a:cubicBezTo>
                    <a:pt x="0" y="2528"/>
                    <a:pt x="80" y="2932"/>
                    <a:pt x="243" y="2684"/>
                  </a:cubicBezTo>
                  <a:cubicBezTo>
                    <a:pt x="406" y="2436"/>
                    <a:pt x="878" y="1297"/>
                    <a:pt x="1066" y="869"/>
                  </a:cubicBezTo>
                  <a:cubicBezTo>
                    <a:pt x="1254" y="441"/>
                    <a:pt x="1333" y="230"/>
                    <a:pt x="1368" y="115"/>
                  </a:cubicBezTo>
                  <a:cubicBezTo>
                    <a:pt x="1403" y="0"/>
                    <a:pt x="1373" y="91"/>
                    <a:pt x="1277" y="179"/>
                  </a:cubicBezTo>
                  <a:cubicBezTo>
                    <a:pt x="1181" y="267"/>
                    <a:pt x="893" y="548"/>
                    <a:pt x="792" y="64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27520" y="566640"/>
              <a:ext cx="1644480" cy="430236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48292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498920" y="45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5241960" y="2630880"/>
            <a:ext cx="2561760" cy="2171160"/>
            <a:chOff x="5241960" y="2630880"/>
            <a:chExt cx="2561760" cy="2171160"/>
          </a:xfrm>
        </p:grpSpPr>
        <p:sp>
          <p:nvSpPr>
            <p:cNvPr id="296" name=""/>
            <p:cNvSpPr/>
            <p:nvPr/>
          </p:nvSpPr>
          <p:spPr>
            <a:xfrm>
              <a:off x="5241960" y="2637000"/>
              <a:ext cx="914400" cy="212724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21390000">
              <a:off x="6435720" y="2668320"/>
              <a:ext cx="1305000" cy="209556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67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23600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681520" y="3559320"/>
              <a:ext cx="1290960" cy="312480"/>
            </a:xfrm>
            <a:custGeom>
              <a:avLst/>
              <a:gdLst/>
              <a:ahLst/>
              <a:rect l="l" t="t" r="r" b="b"/>
              <a:pathLst>
                <a:path w="813" h="197">
                  <a:moveTo>
                    <a:pt x="0" y="134"/>
                  </a:moveTo>
                  <a:cubicBezTo>
                    <a:pt x="67" y="139"/>
                    <a:pt x="256" y="197"/>
                    <a:pt x="391" y="175"/>
                  </a:cubicBezTo>
                  <a:cubicBezTo>
                    <a:pt x="526" y="153"/>
                    <a:pt x="725" y="36"/>
                    <a:pt x="81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651640" y="371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rot="12875400">
            <a:off x="2482560" y="148536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4.79769E-006 C 0.01424 -0.02035 0.09496 -0.18567 0.08576 -0.12278 C 0.07656 -0.05966 -0.02431 0.27838 -0.05556 0.37872 C -0.08681 0.47861 -0.0908 0.46427 -0.10156 0.48 C -0.11233 0.49572 -0.11806 0.48809 -0.12066 0.47375 C -0.12326 0.45942 -0.1349 0.4326 -0.11736 0.39352 C -0.09983 0.35445 -0.05382 0.27167 -0.0158 0.23884 C 0.02222 0.20601 0.08472 0.20508 0.11111 0.1963 E">
                                      <p:cBhvr>
                                        <p:cTn id="222" dur="5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143 -0.12647 C 0.15903 0.0837 0.08733 0.29064 0.06146 0.39561 C 0.03559 0.50058 0.05434 0.50173 0.07587 0.50312 C 0.0974 0.50451 0.16632 0.42451 0.19011 0.40393 E">
                                      <p:cBhvr>
                                        <p:cTn id="225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8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994 0.19815 C 0.37431 0.24925 0.31563 0.44069 0.29619 0.50451 E">
                                      <p:cBhvr>
                                        <p:cTn id="228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2327 0.36093 C 0.33299 0.36231 0.35955 0.37526 0.38195 0.37133 C 0.40434 0.3674 0.44237 0.34474 0.45816 0.33757 E">
                                      <p:cBhvr>
                                        <p:cTn id="231" dur="2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3000"/>
                            </p:stCondLst>
                            <p:childTnLst>
                              <p:par>
                                <p:cTn id="23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101 0.19815 C 0.50521 0.2437 0.4316 0.42358 0.42639 0.47075 C 0.42119 0.51792 0.46806 0.49087 0.48994 0.48139 C 0.51181 0.47191 0.54393 0.42775 0.55816 0.41364 E">
                                      <p:cBhvr>
                                        <p:cTn id="234" dur="3000" fill="hold"/>
                                        <p:tgtEl>
                                          <p:spTgt spid="3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0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1272600" y="165960"/>
            <a:ext cx="3528360" cy="4940280"/>
            <a:chOff x="1272600" y="165960"/>
            <a:chExt cx="3528360" cy="4940280"/>
          </a:xfrm>
        </p:grpSpPr>
        <p:sp>
          <p:nvSpPr>
            <p:cNvPr id="308" name=""/>
            <p:cNvSpPr/>
            <p:nvPr/>
          </p:nvSpPr>
          <p:spPr>
            <a:xfrm rot="1367400">
              <a:off x="2079720" y="358560"/>
              <a:ext cx="1913760" cy="4554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169520" y="1130040"/>
              <a:ext cx="135360" cy="13788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95760" y="2561040"/>
            <a:ext cx="1662480" cy="2392920"/>
            <a:chOff x="5495760" y="2561040"/>
            <a:chExt cx="1662480" cy="2392920"/>
          </a:xfrm>
        </p:grpSpPr>
        <p:sp>
          <p:nvSpPr>
            <p:cNvPr id="311" name="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831000" y="29955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 rot="12875400">
            <a:off x="4170240" y="12679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3.2948E-006 C -0.00625 -0.01503 -0.02292 -0.07722 -0.03803 -0.09086 C -0.05313 -0.10451 -0.06857 -0.10057 -0.09045 -0.08231 C -0.11233 -0.06404 -0.14115 -0.04393 -0.1698 0.01896 C -0.19844 0.08232 -0.24688 0.21896 -0.26198 0.29596 C -0.27709 0.37341 -0.27188 0.44486 -0.26025 0.48208 C -0.24862 0.51931 -0.21494 0.52463 -0.19202 0.52023 C -0.1691 0.51561 -0.14792 0.49619 -0.12223 0.45457 C -0.09652 0.41272 -0.05885 0.34474 -0.03803 0.27052 C -0.01719 0.19677 -0.00538 0.06451 0.00312 0.01064 E">
                                      <p:cBhvr>
                                        <p:cTn id="240" dur="5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514 0.26636 C 0.28959 0.25896 0.27986 0.20787 0.26181 0.22197 C 0.24375 0.23607 0.20313 0.30498 0.18733 0.35099 C 0.17153 0.397 0.15816 0.47654 0.16667 0.49896 C 0.17518 0.52139 0.21632 0.52463 0.23802 0.48625 C 0.25973 0.44787 0.28455 0.31376 0.2967 0.26844 E">
                                      <p:cBhvr>
                                        <p:cTn id="243" dur="3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4" name=""/>
          <p:cNvGrpSpPr/>
          <p:nvPr/>
        </p:nvGrpSpPr>
        <p:grpSpPr>
          <a:xfrm>
            <a:off x="412920" y="476280"/>
            <a:ext cx="8605800" cy="4392720"/>
            <a:chOff x="412920" y="476280"/>
            <a:chExt cx="8605800" cy="4392720"/>
          </a:xfrm>
        </p:grpSpPr>
        <p:sp>
          <p:nvSpPr>
            <p:cNvPr id="315" name=""/>
            <p:cNvSpPr/>
            <p:nvPr/>
          </p:nvSpPr>
          <p:spPr>
            <a:xfrm>
              <a:off x="412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49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2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55640" y="476280"/>
            <a:ext cx="5256360" cy="4375080"/>
            <a:chOff x="755640" y="476280"/>
            <a:chExt cx="5256360" cy="4375080"/>
          </a:xfrm>
        </p:grpSpPr>
        <p:sp>
          <p:nvSpPr>
            <p:cNvPr id="319" name=""/>
            <p:cNvSpPr/>
            <p:nvPr/>
          </p:nvSpPr>
          <p:spPr>
            <a:xfrm>
              <a:off x="3541680" y="7970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72000" y="72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986200" y="1411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55640" y="942840"/>
              <a:ext cx="2859120" cy="3837240"/>
            </a:xfrm>
            <a:custGeom>
              <a:avLst/>
              <a:gdLst/>
              <a:ahLst/>
              <a:rect l="l" t="t" r="r" b="b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846520" y="855720"/>
              <a:ext cx="1768320" cy="3995640"/>
            </a:xfrm>
            <a:custGeom>
              <a:avLst/>
              <a:gdLst/>
              <a:ahLst/>
              <a:rect l="l" t="t" r="r" b="b"/>
              <a:pathLst>
                <a:path w="1114" h="2517">
                  <a:moveTo>
                    <a:pt x="803" y="2145"/>
                  </a:moveTo>
                  <a:cubicBezTo>
                    <a:pt x="701" y="2202"/>
                    <a:pt x="323" y="2455"/>
                    <a:pt x="192" y="2486"/>
                  </a:cubicBezTo>
                  <a:cubicBezTo>
                    <a:pt x="60" y="2517"/>
                    <a:pt x="0" y="2472"/>
                    <a:pt x="13" y="2334"/>
                  </a:cubicBezTo>
                  <a:cubicBezTo>
                    <a:pt x="27" y="2196"/>
                    <a:pt x="90" y="2047"/>
                    <a:pt x="273" y="1658"/>
                  </a:cubicBezTo>
                  <a:cubicBezTo>
                    <a:pt x="456" y="1269"/>
                    <a:pt x="939" y="345"/>
                    <a:pt x="111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031840" y="476280"/>
              <a:ext cx="3980160" cy="1189080"/>
            </a:xfrm>
            <a:custGeom>
              <a:avLst/>
              <a:gdLst/>
              <a:ahLst/>
              <a:rect l="l" t="t" r="r" b="b"/>
              <a:pathLst>
                <a:path w="2165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67" y="128"/>
                    <a:pt x="422" y="64"/>
                  </a:cubicBezTo>
                  <a:cubicBezTo>
                    <a:pt x="777" y="0"/>
                    <a:pt x="1802" y="29"/>
                    <a:pt x="2165" y="1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529240" y="2637000"/>
            <a:ext cx="2220840" cy="2195280"/>
            <a:chOff x="5529240" y="2637000"/>
            <a:chExt cx="2220840" cy="2195280"/>
          </a:xfrm>
        </p:grpSpPr>
        <p:sp>
          <p:nvSpPr>
            <p:cNvPr id="326" name=""/>
            <p:cNvSpPr/>
            <p:nvPr/>
          </p:nvSpPr>
          <p:spPr>
            <a:xfrm>
              <a:off x="5529240" y="2684520"/>
              <a:ext cx="914400" cy="209556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370560" y="26370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226200" y="2684520"/>
              <a:ext cx="1523880" cy="2147760"/>
            </a:xfrm>
            <a:custGeom>
              <a:avLst/>
              <a:gdLst/>
              <a:ahLst/>
              <a:rect l="l" t="t" r="r" b="b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226200" y="3067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"/>
          <p:cNvSpPr/>
          <p:nvPr/>
        </p:nvSpPr>
        <p:spPr>
          <a:xfrm rot="12875400">
            <a:off x="3541680" y="94248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4.33526E-006 C -0.00607 0.01826 -0.00086 0.01872 -0.03698 0.11005 C -0.07309 0.20138 -0.1743 0.47005 -0.21632 0.54774 C -0.25833 0.62543 -0.27326 0.58797 -0.28889 0.57664 C -0.30451 0.56531 -0.30659 0.49595 -0.31007 0.48 E">
                                      <p:cBhvr>
                                        <p:cTn id="249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3000"/>
                            </p:stCondLst>
                            <p:childTnLst>
                              <p:par>
                                <p:cTn id="25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563 -0.00763 C 0.08542 0.07468 -0.03854 0.38751 -0.06562 0.48647 C -0.09271 0.58543 -0.06788 0.58034 -0.04652 0.58589 C -0.02517 0.59144 0.04028 0.53387 0.06302 0.52023 E">
                                      <p:cBhvr>
                                        <p:cTn id="252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6000"/>
                            </p:stCondLst>
                            <p:childTnLst>
                              <p:par>
                                <p:cTn id="2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673 0.11653 C -0.09132 0.12393 -0.1059 0.13156 -0.12118 0.11861 C -0.13646 0.10566 -0.16632 0.0608 -0.16875 0.03838 C -0.17118 0.01595 -0.16666 -0.00393 -0.13541 -0.01665 C -0.10416 -0.02937 -0.046 -0.03584 0.01858 -0.03792 C 0.08316 -0.04 0.21302 -0.03076 0.25191 -0.02937 E">
                                      <p:cBhvr>
                                        <p:cTn id="255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9000"/>
                            </p:stCondLst>
                            <p:childTnLst>
                              <p:par>
                                <p:cTn id="2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747 0.26659 C 0.29132 0.31745 0.23073 0.50774 0.21059 0.57109 E">
                                      <p:cBhvr>
                                        <p:cTn id="258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2000"/>
                            </p:stCondLst>
                            <p:childTnLst>
                              <p:par>
                                <p:cTn id="2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039 0.33849 C 0.29861 0.32832 0.37795 0.2652 0.38993 0.2793 C 0.40191 0.29341 0.36146 0.37156 0.35191 0.42312 C 0.34236 0.47468 0.31389 0.5778 0.33282 0.58797 C 0.35174 0.59815 0.43837 0.50589 0.46615 0.48439 E">
                                      <p:cBhvr>
                                        <p:cTn id="261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32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4707000" y="2563920"/>
            <a:ext cx="3033720" cy="4105080"/>
            <a:chOff x="4707000" y="2563920"/>
            <a:chExt cx="3033720" cy="4105080"/>
          </a:xfrm>
        </p:grpSpPr>
        <p:sp>
          <p:nvSpPr>
            <p:cNvPr id="336" name=""/>
            <p:cNvSpPr/>
            <p:nvPr/>
          </p:nvSpPr>
          <p:spPr>
            <a:xfrm>
              <a:off x="6216840" y="2684520"/>
              <a:ext cx="1523880" cy="2147760"/>
            </a:xfrm>
            <a:custGeom>
              <a:avLst/>
              <a:gdLst/>
              <a:ahLst/>
              <a:rect l="l" t="t" r="r" b="b"/>
              <a:pathLst>
                <a:path w="960" h="1353">
                  <a:moveTo>
                    <a:pt x="960" y="884"/>
                  </a:moveTo>
                  <a:cubicBezTo>
                    <a:pt x="879" y="950"/>
                    <a:pt x="595" y="1212"/>
                    <a:pt x="476" y="1278"/>
                  </a:cubicBezTo>
                  <a:cubicBezTo>
                    <a:pt x="357" y="1344"/>
                    <a:pt x="270" y="1353"/>
                    <a:pt x="247" y="1278"/>
                  </a:cubicBezTo>
                  <a:cubicBezTo>
                    <a:pt x="224" y="1203"/>
                    <a:pt x="281" y="995"/>
                    <a:pt x="339" y="830"/>
                  </a:cubicBezTo>
                  <a:cubicBezTo>
                    <a:pt x="397" y="665"/>
                    <a:pt x="557" y="417"/>
                    <a:pt x="595" y="290"/>
                  </a:cubicBezTo>
                  <a:cubicBezTo>
                    <a:pt x="633" y="163"/>
                    <a:pt x="604" y="114"/>
                    <a:pt x="567" y="71"/>
                  </a:cubicBezTo>
                  <a:cubicBezTo>
                    <a:pt x="530" y="28"/>
                    <a:pt x="469" y="0"/>
                    <a:pt x="375" y="34"/>
                  </a:cubicBezTo>
                  <a:cubicBezTo>
                    <a:pt x="281" y="68"/>
                    <a:pt x="78" y="227"/>
                    <a:pt x="0" y="27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7000" y="2684520"/>
              <a:ext cx="1727280" cy="398448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15400" y="299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361200" y="256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55640" y="471600"/>
            <a:ext cx="4421160" cy="4308480"/>
            <a:chOff x="755640" y="471600"/>
            <a:chExt cx="4421160" cy="4308480"/>
          </a:xfrm>
        </p:grpSpPr>
        <p:sp>
          <p:nvSpPr>
            <p:cNvPr id="341" name=""/>
            <p:cNvSpPr/>
            <p:nvPr/>
          </p:nvSpPr>
          <p:spPr>
            <a:xfrm>
              <a:off x="755640" y="942840"/>
              <a:ext cx="2859120" cy="3837240"/>
            </a:xfrm>
            <a:custGeom>
              <a:avLst/>
              <a:gdLst/>
              <a:ahLst/>
              <a:rect l="l" t="t" r="r" b="b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070000" y="471600"/>
              <a:ext cx="3106800" cy="1735200"/>
            </a:xfrm>
            <a:custGeom>
              <a:avLst/>
              <a:gdLst/>
              <a:ahLst/>
              <a:rect l="l" t="t" r="r" b="b"/>
              <a:pathLst>
                <a:path w="1957" h="1093">
                  <a:moveTo>
                    <a:pt x="525" y="690"/>
                  </a:moveTo>
                  <a:cubicBezTo>
                    <a:pt x="475" y="705"/>
                    <a:pt x="305" y="805"/>
                    <a:pt x="223" y="791"/>
                  </a:cubicBezTo>
                  <a:cubicBezTo>
                    <a:pt x="141" y="777"/>
                    <a:pt x="57" y="687"/>
                    <a:pt x="31" y="608"/>
                  </a:cubicBezTo>
                  <a:cubicBezTo>
                    <a:pt x="5" y="529"/>
                    <a:pt x="0" y="403"/>
                    <a:pt x="67" y="316"/>
                  </a:cubicBezTo>
                  <a:cubicBezTo>
                    <a:pt x="134" y="229"/>
                    <a:pt x="210" y="137"/>
                    <a:pt x="436" y="88"/>
                  </a:cubicBezTo>
                  <a:cubicBezTo>
                    <a:pt x="662" y="39"/>
                    <a:pt x="1181" y="0"/>
                    <a:pt x="1421" y="23"/>
                  </a:cubicBezTo>
                  <a:cubicBezTo>
                    <a:pt x="1661" y="46"/>
                    <a:pt x="1799" y="128"/>
                    <a:pt x="1878" y="224"/>
                  </a:cubicBezTo>
                  <a:cubicBezTo>
                    <a:pt x="1957" y="320"/>
                    <a:pt x="1940" y="483"/>
                    <a:pt x="1896" y="599"/>
                  </a:cubicBezTo>
                  <a:cubicBezTo>
                    <a:pt x="1852" y="715"/>
                    <a:pt x="1785" y="837"/>
                    <a:pt x="1613" y="919"/>
                  </a:cubicBezTo>
                  <a:cubicBezTo>
                    <a:pt x="1441" y="1001"/>
                    <a:pt x="1019" y="1057"/>
                    <a:pt x="863" y="109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71640" y="1555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541680" y="9079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" name=""/>
          <p:cNvSpPr/>
          <p:nvPr/>
        </p:nvSpPr>
        <p:spPr>
          <a:xfrm rot="12875400">
            <a:off x="3541680" y="105228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5.78035E-007 C -0.03385 0.0837 -0.15555 0.40601 -0.20364 0.5022 C -0.25173 0.59838 -0.27135 0.5815 -0.28889 0.57665 C -0.30642 0.57179 -0.30434 0.49433 -0.3085 0.4726 E">
                                      <p:cBhvr>
                                        <p:cTn id="267" dur="5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298 0.11746 C -0.08889 0.11676 -0.10781 0.12023 -0.11805 0.11329 C -0.1283 0.10636 -0.13871 0.09341 -0.14496 0.07514 C -0.15121 0.05688 -0.16475 0.02335 -0.15607 0.00324 C -0.14739 -0.01688 -0.12257 -0.03699 -0.09253 -0.04532 C -0.0625 -0.05364 -0.01111 -0.05017 0.02483 -0.0474 C 0.06077 -0.04462 0.10157 -0.03908 0.12327 -0.02844 C 0.14497 -0.0178 0.14914 0.00139 0.15504 0.01595 C 0.16094 0.03052 0.16007 0.04069 0.15816 0.05827 C 0.15625 0.07584 0.15417 0.10289 0.14393 0.12162 C 0.13368 0.14035 0.12257 0.15699 0.09636 0.1704 C 0.07014 0.18381 0.00955 0.19561 -0.01319 0.20208 E">
                                      <p:cBhvr>
                                        <p:cTn id="270" dur="3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000"/>
                            </p:stCondLst>
                            <p:childTnLst>
                              <p:par>
                                <p:cTn id="2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775 0.2622 C 0.28368 0.30705 0.24219 0.43977 0.21372 0.53179 C 0.18525 0.62381 0.14462 0.75607 0.12639 0.81503 E">
                                      <p:cBhvr>
                                        <p:cTn id="273" dur="3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11000"/>
                            </p:stCondLst>
                            <p:childTnLst>
                              <p:par>
                                <p:cTn id="2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448 0.33572 C 0.29375 0.32393 0.37917 0.24231 0.38993 0.26543 C 0.4007 0.28855 0.3474 0.42358 0.33924 0.47468 C 0.33108 0.52578 0.32205 0.57272 0.3408 0.57202 C 0.35955 0.57133 0.42882 0.49156 0.45191 0.47052 E">
                                      <p:cBhvr>
                                        <p:cTn id="276" dur="3000" fill="hold"/>
                                        <p:tgtEl>
                                          <p:spTgt spid="3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7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1476360" y="546120"/>
            <a:ext cx="3743280" cy="4322880"/>
            <a:chOff x="1476360" y="546120"/>
            <a:chExt cx="3743280" cy="4322880"/>
          </a:xfrm>
        </p:grpSpPr>
        <p:sp>
          <p:nvSpPr>
            <p:cNvPr id="78" name=""/>
            <p:cNvSpPr/>
            <p:nvPr/>
          </p:nvSpPr>
          <p:spPr>
            <a:xfrm>
              <a:off x="1476360" y="603360"/>
              <a:ext cx="3672000" cy="4265640"/>
            </a:xfrm>
            <a:custGeom>
              <a:avLst/>
              <a:gdLst/>
              <a:ahLst/>
              <a:rect l="l" t="t" r="r" b="b"/>
              <a:pathLst>
                <a:path w="2200" h="2567">
                  <a:moveTo>
                    <a:pt x="23" y="2132"/>
                  </a:moveTo>
                  <a:cubicBezTo>
                    <a:pt x="11" y="2211"/>
                    <a:pt x="0" y="2291"/>
                    <a:pt x="23" y="2359"/>
                  </a:cubicBezTo>
                  <a:cubicBezTo>
                    <a:pt x="46" y="2427"/>
                    <a:pt x="98" y="2517"/>
                    <a:pt x="159" y="2540"/>
                  </a:cubicBezTo>
                  <a:cubicBezTo>
                    <a:pt x="220" y="2563"/>
                    <a:pt x="285" y="2567"/>
                    <a:pt x="386" y="2495"/>
                  </a:cubicBezTo>
                  <a:cubicBezTo>
                    <a:pt x="487" y="2423"/>
                    <a:pt x="570" y="2385"/>
                    <a:pt x="767" y="2105"/>
                  </a:cubicBezTo>
                  <a:cubicBezTo>
                    <a:pt x="964" y="1825"/>
                    <a:pt x="1369" y="1135"/>
                    <a:pt x="1565" y="817"/>
                  </a:cubicBezTo>
                  <a:cubicBezTo>
                    <a:pt x="1761" y="499"/>
                    <a:pt x="1838" y="335"/>
                    <a:pt x="1944" y="199"/>
                  </a:cubicBezTo>
                  <a:cubicBezTo>
                    <a:pt x="2050" y="63"/>
                    <a:pt x="2147" y="42"/>
                    <a:pt x="220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03520" y="603360"/>
              <a:ext cx="1644840" cy="425448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75280" y="5461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3607800">
              <a:off x="3416400" y="1979280"/>
              <a:ext cx="795240" cy="152568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5622840" y="2556360"/>
            <a:ext cx="2190600" cy="2392920"/>
            <a:chOff x="5622840" y="2556360"/>
            <a:chExt cx="2190600" cy="2392920"/>
          </a:xfrm>
        </p:grpSpPr>
        <p:sp>
          <p:nvSpPr>
            <p:cNvPr id="83" name=""/>
            <p:cNvSpPr/>
            <p:nvPr/>
          </p:nvSpPr>
          <p:spPr>
            <a:xfrm rot="1367400">
              <a:off x="6021360" y="263664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rot="21321000">
              <a:off x="6569280" y="2625480"/>
              <a:ext cx="1155600" cy="223200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02720" y="30639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218360" y="26258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"/>
          <p:cNvSpPr/>
          <p:nvPr/>
        </p:nvSpPr>
        <p:spPr>
          <a:xfrm>
            <a:off x="297972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2875400">
            <a:off x="1476360" y="429228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40741E-007 C -0.00364 0.02245 -0.00729 0.04491 -0.00208 0.05972 C 0.00313 0.07454 0.01962 0.08681 0.03126 0.08889 C 0.04289 0.09097 0.05191 0.0875 0.06771 0.07222 C 0.08351 0.05695 0.09775 0.05023 0.12605 -0.00278 C 0.15435 -0.05579 0.20608 -0.17685 0.23751 -0.24583 C 0.26893 -0.31481 0.29428 -0.37315 0.31459 -0.41667 C 0.3349 -0.46018 0.34584 -0.48819 0.35938 -0.50694 C 0.37292 -0.52569 0.38976 -0.52546 0.39584 -0.52917 E">
                                      <p:cBhvr>
                                        <p:cTn id="6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584 -0.52916 C 0.3191 -0.31643 0.24236 -0.1037 0.2198 -0.00277 C 0.19723 0.09815 0.23855 0.07616 0.26042 0.07639 C 0.2823 0.07662 0.31667 0.0375 0.35105 -0.00138 E">
                                      <p:cBhvr>
                                        <p:cTn id="9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348 -0.19514 C 0.23073 -0.19699 0.30799 -0.19861 0.33889 -0.1993 E">
                                      <p:cBhvr>
                                        <p:cTn id="12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122 -0.15555 C 0.60573 -0.18842 0.59966 -0.19884 0.59289 -0.20972 C 0.58612 -0.2206 0.57431 -0.23078 0.5606 -0.22083 C 0.54688 -0.21088 0.52639 -0.18657 0.5106 -0.15 C 0.4948 -0.11342 0.47101 -0.03958 0.4658 -0.00139 C 0.4606 0.03681 0.47119 0.06736 0.47935 0.07917 C 0.48751 0.09097 0.50035 0.08472 0.51476 0.06945 C 0.52917 0.05417 0.55157 0.02523 0.5658 -0.0125 C 0.58004 -0.05023 0.59671 -0.12268 0.60122 -0.15555 Z">
                                      <p:cBhvr>
                                        <p:cTn id="15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0"/>
                            </p:stCondLst>
                            <p:childTnLst>
                              <p:par>
                                <p:cTn id="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178 -0.23078 C 0.59948 -0.10856 0.56719 0.01366 0.56511 0.06227 C 0.56303 0.11088 0.6007 0.07385 0.61928 0.06088 C 0.63785 0.04792 0.66702 -0.00278 0.67657 -0.01551 E">
                                      <p:cBhvr>
                                        <p:cTn id="18" dur="5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47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250920" y="428760"/>
            <a:ext cx="8605800" cy="4392360"/>
            <a:chOff x="250920" y="428760"/>
            <a:chExt cx="8605800" cy="4392360"/>
          </a:xfrm>
        </p:grpSpPr>
        <p:sp>
          <p:nvSpPr>
            <p:cNvPr id="351" name=""/>
            <p:cNvSpPr/>
            <p:nvPr/>
          </p:nvSpPr>
          <p:spPr>
            <a:xfrm>
              <a:off x="250920" y="4287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7280" y="25891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0920" y="48211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2201760" y="547560"/>
            <a:ext cx="2514600" cy="4265640"/>
            <a:chOff x="2201760" y="547560"/>
            <a:chExt cx="2514600" cy="4265640"/>
          </a:xfrm>
        </p:grpSpPr>
        <p:sp>
          <p:nvSpPr>
            <p:cNvPr id="355" name=""/>
            <p:cNvSpPr/>
            <p:nvPr/>
          </p:nvSpPr>
          <p:spPr>
            <a:xfrm>
              <a:off x="2201760" y="547560"/>
              <a:ext cx="2428920" cy="4265640"/>
            </a:xfrm>
            <a:custGeom>
              <a:avLst/>
              <a:gdLst/>
              <a:ahLst/>
              <a:rect l="l" t="t" r="r" b="b"/>
              <a:pathLst>
                <a:path w="1530" h="2687">
                  <a:moveTo>
                    <a:pt x="1146" y="2242"/>
                  </a:moveTo>
                  <a:cubicBezTo>
                    <a:pt x="1087" y="2286"/>
                    <a:pt x="930" y="2434"/>
                    <a:pt x="789" y="2508"/>
                  </a:cubicBezTo>
                  <a:cubicBezTo>
                    <a:pt x="648" y="2582"/>
                    <a:pt x="422" y="2685"/>
                    <a:pt x="300" y="2686"/>
                  </a:cubicBezTo>
                  <a:cubicBezTo>
                    <a:pt x="178" y="2687"/>
                    <a:pt x="101" y="2657"/>
                    <a:pt x="58" y="2517"/>
                  </a:cubicBezTo>
                  <a:cubicBezTo>
                    <a:pt x="15" y="2377"/>
                    <a:pt x="0" y="2090"/>
                    <a:pt x="39" y="1849"/>
                  </a:cubicBezTo>
                  <a:cubicBezTo>
                    <a:pt x="78" y="1608"/>
                    <a:pt x="164" y="1335"/>
                    <a:pt x="295" y="1072"/>
                  </a:cubicBezTo>
                  <a:cubicBezTo>
                    <a:pt x="426" y="809"/>
                    <a:pt x="670" y="446"/>
                    <a:pt x="824" y="272"/>
                  </a:cubicBezTo>
                  <a:cubicBezTo>
                    <a:pt x="978" y="98"/>
                    <a:pt x="1120" y="60"/>
                    <a:pt x="1219" y="30"/>
                  </a:cubicBezTo>
                  <a:cubicBezTo>
                    <a:pt x="1318" y="0"/>
                    <a:pt x="1371" y="51"/>
                    <a:pt x="1420" y="94"/>
                  </a:cubicBezTo>
                  <a:cubicBezTo>
                    <a:pt x="1469" y="137"/>
                    <a:pt x="1493" y="199"/>
                    <a:pt x="1511" y="286"/>
                  </a:cubicBezTo>
                  <a:cubicBezTo>
                    <a:pt x="1529" y="373"/>
                    <a:pt x="1526" y="547"/>
                    <a:pt x="1530" y="61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57200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4861080" y="2692440"/>
            <a:ext cx="1307880" cy="2128680"/>
            <a:chOff x="4861080" y="2692440"/>
            <a:chExt cx="1307880" cy="2128680"/>
          </a:xfrm>
        </p:grpSpPr>
        <p:sp>
          <p:nvSpPr>
            <p:cNvPr id="358" name=""/>
            <p:cNvSpPr/>
            <p:nvPr/>
          </p:nvSpPr>
          <p:spPr>
            <a:xfrm>
              <a:off x="4861080" y="2692440"/>
              <a:ext cx="1307880" cy="2128680"/>
            </a:xfrm>
            <a:custGeom>
              <a:avLst/>
              <a:gdLst/>
              <a:ahLst/>
              <a:rect l="l" t="t" r="r" b="b"/>
              <a:pathLst>
                <a:path w="824" h="1341">
                  <a:moveTo>
                    <a:pt x="824" y="919"/>
                  </a:moveTo>
                  <a:cubicBezTo>
                    <a:pt x="778" y="963"/>
                    <a:pt x="654" y="1118"/>
                    <a:pt x="540" y="1184"/>
                  </a:cubicBezTo>
                  <a:cubicBezTo>
                    <a:pt x="426" y="1250"/>
                    <a:pt x="228" y="1341"/>
                    <a:pt x="138" y="1312"/>
                  </a:cubicBezTo>
                  <a:cubicBezTo>
                    <a:pt x="48" y="1283"/>
                    <a:pt x="2" y="1142"/>
                    <a:pt x="1" y="1010"/>
                  </a:cubicBezTo>
                  <a:cubicBezTo>
                    <a:pt x="0" y="878"/>
                    <a:pt x="67" y="662"/>
                    <a:pt x="129" y="517"/>
                  </a:cubicBezTo>
                  <a:cubicBezTo>
                    <a:pt x="191" y="372"/>
                    <a:pt x="289" y="221"/>
                    <a:pt x="376" y="142"/>
                  </a:cubicBezTo>
                  <a:cubicBezTo>
                    <a:pt x="463" y="63"/>
                    <a:pt x="591" y="0"/>
                    <a:pt x="650" y="41"/>
                  </a:cubicBezTo>
                  <a:cubicBezTo>
                    <a:pt x="709" y="82"/>
                    <a:pt x="715" y="317"/>
                    <a:pt x="732" y="38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594036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 rot="12875400">
            <a:off x="4535280" y="155664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21 -0.0111 C -0.00052 -0.02197 0.00695 -0.05758 0.00348 -0.07654 C -3.61111000000015E-006 -0.0955 -3.61110999999928E-006 -0.13041 -0.02187 -0.12509 C -0.04375 -0.11977 -0.09236 -0.10613 -0.12829 -0.04486 C -0.16423 0.01641 -0.22118 0.15329 -0.23784 0.24254 C -0.25451 0.33156 -0.24201 0.44878 -0.22829 0.48994 C -0.21458 0.53086 -0.1835 0.5045 -0.1552 0.48994 C -0.12691 0.47537 -0.07847 0.42127 -0.05833 0.40323 E">
                                      <p:cBhvr>
                                        <p:cTn id="282" dur="3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3000"/>
                            </p:stCondLst>
                            <p:childTnLst>
                              <p:par>
                                <p:cTn id="2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059 0.26797 C 0.15816 0.25433 0.1599 0.19468 0.14636 0.18774 C 0.13282 0.1808 0.09549 0.20832 0.07969 0.22566 C 0.06389 0.243 0.05903 0.26913 0.05105 0.29132 C 0.04306 0.31352 0.03473 0.33063 0.03212 0.35884 C 0.02952 0.38705 0.02865 0.4363 0.03525 0.46034 C 0.04184 0.48439 0.05712 0.50011 0.07171 0.50265 C 0.08629 0.5052 0.10452 0.49132 0.12257 0.47514 C 0.14063 0.45895 0.16789 0.41988 0.17969 0.40531 E">
                                      <p:cBhvr>
                                        <p:cTn id="285" dur="3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62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5529240" y="2597040"/>
            <a:ext cx="3578400" cy="2187720"/>
            <a:chOff x="5529240" y="2597040"/>
            <a:chExt cx="3578400" cy="2187720"/>
          </a:xfrm>
        </p:grpSpPr>
        <p:sp>
          <p:nvSpPr>
            <p:cNvPr id="366" name=""/>
            <p:cNvSpPr/>
            <p:nvPr/>
          </p:nvSpPr>
          <p:spPr>
            <a:xfrm>
              <a:off x="5529240" y="2684520"/>
              <a:ext cx="914400" cy="209556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6183360" y="2597040"/>
              <a:ext cx="1262160" cy="2149560"/>
            </a:xfrm>
            <a:custGeom>
              <a:avLst/>
              <a:gdLst/>
              <a:ahLst/>
              <a:rect l="l" t="t" r="r" b="b"/>
              <a:pathLst>
                <a:path w="795" h="1354">
                  <a:moveTo>
                    <a:pt x="320" y="1354"/>
                  </a:moveTo>
                  <a:cubicBezTo>
                    <a:pt x="352" y="1276"/>
                    <a:pt x="439" y="1060"/>
                    <a:pt x="512" y="887"/>
                  </a:cubicBezTo>
                  <a:cubicBezTo>
                    <a:pt x="585" y="714"/>
                    <a:pt x="723" y="447"/>
                    <a:pt x="759" y="315"/>
                  </a:cubicBezTo>
                  <a:cubicBezTo>
                    <a:pt x="795" y="183"/>
                    <a:pt x="768" y="139"/>
                    <a:pt x="731" y="96"/>
                  </a:cubicBezTo>
                  <a:cubicBezTo>
                    <a:pt x="694" y="53"/>
                    <a:pt x="661" y="0"/>
                    <a:pt x="539" y="59"/>
                  </a:cubicBezTo>
                  <a:cubicBezTo>
                    <a:pt x="417" y="118"/>
                    <a:pt x="112" y="368"/>
                    <a:pt x="0" y="44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373880" y="2600280"/>
              <a:ext cx="1733760" cy="2184480"/>
            </a:xfrm>
            <a:custGeom>
              <a:avLst/>
              <a:gdLst/>
              <a:ahLst/>
              <a:rect l="l" t="t" r="r" b="b"/>
              <a:pathLst>
                <a:path w="1092" h="1376">
                  <a:moveTo>
                    <a:pt x="1092" y="907"/>
                  </a:moveTo>
                  <a:cubicBezTo>
                    <a:pt x="1011" y="973"/>
                    <a:pt x="727" y="1235"/>
                    <a:pt x="608" y="1301"/>
                  </a:cubicBezTo>
                  <a:cubicBezTo>
                    <a:pt x="489" y="1367"/>
                    <a:pt x="402" y="1376"/>
                    <a:pt x="379" y="1301"/>
                  </a:cubicBezTo>
                  <a:cubicBezTo>
                    <a:pt x="356" y="1226"/>
                    <a:pt x="413" y="1018"/>
                    <a:pt x="471" y="853"/>
                  </a:cubicBezTo>
                  <a:cubicBezTo>
                    <a:pt x="529" y="688"/>
                    <a:pt x="689" y="440"/>
                    <a:pt x="727" y="313"/>
                  </a:cubicBezTo>
                  <a:cubicBezTo>
                    <a:pt x="765" y="186"/>
                    <a:pt x="736" y="137"/>
                    <a:pt x="699" y="94"/>
                  </a:cubicBezTo>
                  <a:cubicBezTo>
                    <a:pt x="662" y="51"/>
                    <a:pt x="623" y="0"/>
                    <a:pt x="507" y="57"/>
                  </a:cubicBezTo>
                  <a:cubicBezTo>
                    <a:pt x="391" y="114"/>
                    <a:pt x="106" y="358"/>
                    <a:pt x="0" y="43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15636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637236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42920" y="476280"/>
            <a:ext cx="5991120" cy="4437000"/>
            <a:chOff x="142920" y="476280"/>
            <a:chExt cx="5991120" cy="4437000"/>
          </a:xfrm>
        </p:grpSpPr>
        <p:sp>
          <p:nvSpPr>
            <p:cNvPr id="372" name=""/>
            <p:cNvSpPr/>
            <p:nvPr/>
          </p:nvSpPr>
          <p:spPr>
            <a:xfrm>
              <a:off x="142920" y="835200"/>
              <a:ext cx="2484360" cy="3981240"/>
            </a:xfrm>
            <a:custGeom>
              <a:avLst/>
              <a:gdLst/>
              <a:ahLst/>
              <a:rect l="l" t="t" r="r" b="b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170080" y="907920"/>
              <a:ext cx="1609920" cy="387216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92360" y="979560"/>
              <a:ext cx="2159280" cy="393372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77920" y="476280"/>
              <a:ext cx="4956120" cy="1200240"/>
            </a:xfrm>
            <a:custGeom>
              <a:avLst/>
              <a:gdLst/>
              <a:ahLst/>
              <a:rect l="l" t="t" r="r" b="b"/>
              <a:pathLst>
                <a:path w="3122" h="756">
                  <a:moveTo>
                    <a:pt x="446" y="738"/>
                  </a:moveTo>
                  <a:cubicBezTo>
                    <a:pt x="415" y="737"/>
                    <a:pt x="328" y="756"/>
                    <a:pt x="260" y="732"/>
                  </a:cubicBezTo>
                  <a:cubicBezTo>
                    <a:pt x="192" y="708"/>
                    <a:pt x="76" y="669"/>
                    <a:pt x="38" y="594"/>
                  </a:cubicBezTo>
                  <a:cubicBezTo>
                    <a:pt x="0" y="519"/>
                    <a:pt x="1" y="368"/>
                    <a:pt x="32" y="282"/>
                  </a:cubicBezTo>
                  <a:cubicBezTo>
                    <a:pt x="63" y="196"/>
                    <a:pt x="93" y="118"/>
                    <a:pt x="224" y="78"/>
                  </a:cubicBezTo>
                  <a:cubicBezTo>
                    <a:pt x="355" y="38"/>
                    <a:pt x="335" y="55"/>
                    <a:pt x="818" y="42"/>
                  </a:cubicBezTo>
                  <a:cubicBezTo>
                    <a:pt x="1301" y="29"/>
                    <a:pt x="2642" y="9"/>
                    <a:pt x="3122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55420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706920" y="8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003640" y="90648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763640" y="16034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 rot="12875400">
            <a:off x="2627280" y="101412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7236000" y="321156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868 0.01734 C -0.01336 0.03306 -0.00642 0.02405 -0.03715 0.11006 C -0.06805 0.19607 -0.15607 0.46058 -0.19409 0.53318 C -0.23211 0.60578 -0.25139 0.55607 -0.26562 0.5459 C -0.27986 0.53572 -0.27691 0.4874 -0.27986 0.47191 E">
                                      <p:cBhvr>
                                        <p:cTn id="291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3000"/>
                            </p:stCondLst>
                            <p:childTnLst>
                              <p:par>
                                <p:cTn id="2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1216 0.01318 C 0.04271 0.24647 -0.02673 0.47977 -0.05451 0.57318 E">
                                      <p:cBhvr>
                                        <p:cTn id="294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6000"/>
                            </p:stCondLst>
                            <p:childTnLst>
                              <p:par>
                                <p:cTn id="2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504 0.02798 C 0.22934 0.10798 0.12136 0.41133 0.10104 0.50775 C 0.08073 0.60416 0.09445 0.62266 0.13282 0.60717 C 0.17118 0.59168 0.28993 0.4548 0.33125 0.4148 E">
                                      <p:cBhvr>
                                        <p:cTn id="297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9000"/>
                            </p:stCondLst>
                            <p:childTnLst>
                              <p:par>
                                <p:cTn id="2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9253 0.12925 C -0.10069 0.12671 -0.12951 0.13064 -0.14184 0.11445 C -0.15416 0.09827 -0.16684 0.05642 -0.16684 0.03168 C -0.16684 0.00694 -0.17222 -0.02127 -0.14184 -0.03353 C -0.11146 -0.04578 -0.06961 -0.04046 0.01493 -0.04185 C 0.09983 -0.04324 0.29289 -0.04185 0.36598 -0.04185 E">
                                      <p:cBhvr>
                                        <p:cTn id="300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0434 0.2652 C 0.3882 0.31607 0.32761 0.50636 0.30747 0.56971 E">
                                      <p:cBhvr>
                                        <p:cTn id="303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927 0.37249 C 0.39202 0.34382 0.41476 0.31514 0.4375 0.29642 C 0.46025 0.27769 0.49236 0.26058 0.50591 0.26035 C 0.51945 0.26012 0.53004 0.24139 0.51858 0.29434 C 0.50712 0.34728 0.45104 0.5304 0.4375 0.57757 E">
                                      <p:cBhvr>
                                        <p:cTn id="306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8000"/>
                            </p:stCondLst>
                            <p:childTnLst>
                              <p:par>
                                <p:cTn id="3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747 0.34289 C 0.52657 0.33017 0.59948 0.27491 0.6217 0.26682 C 0.64393 0.25873 0.64427 0.26751 0.6408 0.29434 C 0.63733 0.32116 0.61181 0.3785 0.60104 0.42751 C 0.59028 0.47653 0.55938 0.58173 0.57622 0.58798 C 0.59306 0.59422 0.67622 0.49087 0.70261 0.46543 E">
                                      <p:cBhvr>
                                        <p:cTn id="309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2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383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2362320" y="515880"/>
            <a:ext cx="2570040" cy="4297320"/>
            <a:chOff x="2362320" y="515880"/>
            <a:chExt cx="2570040" cy="4297320"/>
          </a:xfrm>
        </p:grpSpPr>
        <p:sp>
          <p:nvSpPr>
            <p:cNvPr id="387" name=""/>
            <p:cNvSpPr/>
            <p:nvPr/>
          </p:nvSpPr>
          <p:spPr>
            <a:xfrm>
              <a:off x="2362320" y="515880"/>
              <a:ext cx="2570040" cy="4297320"/>
            </a:xfrm>
            <a:custGeom>
              <a:avLst/>
              <a:gdLst/>
              <a:ahLst/>
              <a:rect l="l" t="t" r="r" b="b"/>
              <a:pathLst>
                <a:path w="1619" h="2707">
                  <a:moveTo>
                    <a:pt x="18" y="2246"/>
                  </a:moveTo>
                  <a:cubicBezTo>
                    <a:pt x="9" y="2329"/>
                    <a:pt x="0" y="2414"/>
                    <a:pt x="18" y="2486"/>
                  </a:cubicBezTo>
                  <a:cubicBezTo>
                    <a:pt x="36" y="2558"/>
                    <a:pt x="76" y="2654"/>
                    <a:pt x="124" y="2678"/>
                  </a:cubicBezTo>
                  <a:cubicBezTo>
                    <a:pt x="172" y="2703"/>
                    <a:pt x="222" y="2707"/>
                    <a:pt x="301" y="2631"/>
                  </a:cubicBezTo>
                  <a:cubicBezTo>
                    <a:pt x="380" y="2554"/>
                    <a:pt x="445" y="2514"/>
                    <a:pt x="598" y="2217"/>
                  </a:cubicBezTo>
                  <a:cubicBezTo>
                    <a:pt x="752" y="1920"/>
                    <a:pt x="1068" y="1188"/>
                    <a:pt x="1221" y="851"/>
                  </a:cubicBezTo>
                  <a:cubicBezTo>
                    <a:pt x="1374" y="513"/>
                    <a:pt x="1450" y="337"/>
                    <a:pt x="1516" y="195"/>
                  </a:cubicBezTo>
                  <a:cubicBezTo>
                    <a:pt x="1582" y="53"/>
                    <a:pt x="1598" y="41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88000" y="5158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629080" y="515880"/>
              <a:ext cx="1645920" cy="2190960"/>
            </a:xfrm>
            <a:custGeom>
              <a:avLst/>
              <a:gdLst/>
              <a:ahLst/>
              <a:rect l="l" t="t" r="r" b="b"/>
              <a:pathLst>
                <a:path w="1037" h="1380">
                  <a:moveTo>
                    <a:pt x="1037" y="912"/>
                  </a:moveTo>
                  <a:cubicBezTo>
                    <a:pt x="956" y="978"/>
                    <a:pt x="672" y="1240"/>
                    <a:pt x="553" y="1306"/>
                  </a:cubicBezTo>
                  <a:cubicBezTo>
                    <a:pt x="434" y="1372"/>
                    <a:pt x="343" y="1380"/>
                    <a:pt x="324" y="1306"/>
                  </a:cubicBezTo>
                  <a:cubicBezTo>
                    <a:pt x="305" y="1232"/>
                    <a:pt x="379" y="1026"/>
                    <a:pt x="437" y="861"/>
                  </a:cubicBezTo>
                  <a:cubicBezTo>
                    <a:pt x="495" y="696"/>
                    <a:pt x="638" y="445"/>
                    <a:pt x="672" y="318"/>
                  </a:cubicBezTo>
                  <a:cubicBezTo>
                    <a:pt x="706" y="191"/>
                    <a:pt x="681" y="142"/>
                    <a:pt x="644" y="99"/>
                  </a:cubicBezTo>
                  <a:cubicBezTo>
                    <a:pt x="607" y="56"/>
                    <a:pt x="559" y="0"/>
                    <a:pt x="452" y="62"/>
                  </a:cubicBezTo>
                  <a:cubicBezTo>
                    <a:pt x="345" y="124"/>
                    <a:pt x="94" y="387"/>
                    <a:pt x="0" y="47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5560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" name=""/>
          <p:cNvGrpSpPr/>
          <p:nvPr/>
        </p:nvGrpSpPr>
        <p:grpSpPr>
          <a:xfrm>
            <a:off x="3922560" y="2604960"/>
            <a:ext cx="3025800" cy="4267440"/>
            <a:chOff x="3922560" y="2604960"/>
            <a:chExt cx="3025800" cy="4267440"/>
          </a:xfrm>
        </p:grpSpPr>
        <p:sp>
          <p:nvSpPr>
            <p:cNvPr id="392" name=""/>
            <p:cNvSpPr/>
            <p:nvPr/>
          </p:nvSpPr>
          <p:spPr>
            <a:xfrm>
              <a:off x="4576680" y="2678040"/>
              <a:ext cx="1346400" cy="2230560"/>
            </a:xfrm>
            <a:custGeom>
              <a:avLst/>
              <a:gdLst/>
              <a:ahLst/>
              <a:rect l="l" t="t" r="r" b="b"/>
              <a:pathLst>
                <a:path w="848" h="1405">
                  <a:moveTo>
                    <a:pt x="848" y="912"/>
                  </a:moveTo>
                  <a:cubicBezTo>
                    <a:pt x="770" y="982"/>
                    <a:pt x="501" y="1261"/>
                    <a:pt x="376" y="1332"/>
                  </a:cubicBezTo>
                  <a:cubicBezTo>
                    <a:pt x="251" y="1405"/>
                    <a:pt x="146" y="1391"/>
                    <a:pt x="95" y="1341"/>
                  </a:cubicBezTo>
                  <a:cubicBezTo>
                    <a:pt x="44" y="1291"/>
                    <a:pt x="0" y="1253"/>
                    <a:pt x="69" y="1030"/>
                  </a:cubicBezTo>
                  <a:cubicBezTo>
                    <a:pt x="138" y="807"/>
                    <a:pt x="419" y="215"/>
                    <a:pt x="51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922560" y="2678040"/>
              <a:ext cx="3025800" cy="4194360"/>
            </a:xfrm>
            <a:custGeom>
              <a:avLst/>
              <a:gdLst/>
              <a:ahLst/>
              <a:rect l="l" t="t" r="r" b="b"/>
              <a:pathLst>
                <a:path w="1906" h="2642">
                  <a:moveTo>
                    <a:pt x="1906" y="882"/>
                  </a:moveTo>
                  <a:cubicBezTo>
                    <a:pt x="1637" y="1078"/>
                    <a:pt x="586" y="1777"/>
                    <a:pt x="293" y="2057"/>
                  </a:cubicBezTo>
                  <a:cubicBezTo>
                    <a:pt x="0" y="2337"/>
                    <a:pt x="117" y="2486"/>
                    <a:pt x="150" y="2564"/>
                  </a:cubicBezTo>
                  <a:cubicBezTo>
                    <a:pt x="183" y="2642"/>
                    <a:pt x="384" y="2623"/>
                    <a:pt x="492" y="2526"/>
                  </a:cubicBezTo>
                  <a:cubicBezTo>
                    <a:pt x="600" y="2429"/>
                    <a:pt x="653" y="2288"/>
                    <a:pt x="799" y="1979"/>
                  </a:cubicBezTo>
                  <a:cubicBezTo>
                    <a:pt x="945" y="1670"/>
                    <a:pt x="1231" y="1003"/>
                    <a:pt x="1371" y="673"/>
                  </a:cubicBezTo>
                  <a:cubicBezTo>
                    <a:pt x="1511" y="343"/>
                    <a:pt x="1595" y="112"/>
                    <a:pt x="16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9128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2200" y="26049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 rot="12875400">
            <a:off x="255564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023 C 0.01771 -0.01757 0.08646 -0.09688 0.10573 -0.1022 C 0.125 -0.10751 0.12396 -0.08416 0.11528 -0.03237 C 0.1066 0.01919 0.0441 0.17896 0.0533 0.20856 C 0.0625 0.23815 0.14635 0.15838 0.17083 0.14497 E">
                                      <p:cBhvr>
                                        <p:cTn id="315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191 -0.09433 C 0.24583 -0.07607 0.24809 -0.07907 0.21493 0.01572 C 0.18177 0.11052 0.08993 0.39491 0.0533 0.47491 C 0.01667 0.55491 0.00573 0.5052 -0.00538 0.49595 C -0.01649 0.48671 -0.01163 0.43584 -0.01337 0.41988 E">
                                      <p:cBhvr>
                                        <p:cTn id="318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6000"/>
                            </p:stCondLst>
                            <p:childTnLst>
                              <p:par>
                                <p:cTn id="3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306 0.22543 C 0.28247 0.25896 0.24358 0.3815 0.22951 0.42844 C 0.21545 0.47538 0.21042 0.48647 0.20885 0.50659 C 0.20729 0.52671 0.21354 0.54358 0.21997 0.5489 C 0.22639 0.55422 0.22622 0.55376 0.24705 0.53827 C 0.26788 0.52277 0.32483 0.47306 0.34531 0.45595 E">
                                      <p:cBhvr>
                                        <p:cTn id="321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9000"/>
                            </p:stCondLst>
                            <p:childTnLst>
                              <p:par>
                                <p:cTn id="3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153 0.2296 C 0.41788 0.24254 0.40799 0.27353 0.39774 0.30798 C 0.3875 0.34243 0.38542 0.35861 0.35972 0.43676 C 0.33403 0.51491 0.27257 0.71653 0.24375 0.77711 C 0.21493 0.83769 0.19879 0.80439 0.18663 0.80046 C 0.17448 0.79653 0.16563 0.77711 0.17083 0.75399 C 0.17604 0.73064 0.17031 0.71468 0.2184 0.66104 C 0.26649 0.6074 0.40955 0.48023 0.45972 0.4326 E">
                                      <p:cBhvr>
                                        <p:cTn id="324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 rot="1620600">
            <a:off x="633528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933800" y="2666880"/>
            <a:ext cx="1657440" cy="4077000"/>
          </a:xfrm>
          <a:custGeom>
            <a:avLst/>
            <a:gdLst/>
            <a:ahLst/>
            <a:rect l="l" t="t" r="r" b="b"/>
            <a:pathLst>
              <a:path w="1044" h="2568">
                <a:moveTo>
                  <a:pt x="0" y="2568"/>
                </a:moveTo>
                <a:cubicBezTo>
                  <a:pt x="90" y="2374"/>
                  <a:pt x="351" y="1820"/>
                  <a:pt x="525" y="1392"/>
                </a:cubicBezTo>
                <a:cubicBezTo>
                  <a:pt x="699" y="964"/>
                  <a:pt x="936" y="290"/>
                  <a:pt x="1044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00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2079720" y="476280"/>
            <a:ext cx="2606760" cy="4359240"/>
          </a:xfrm>
          <a:custGeom>
            <a:avLst/>
            <a:gdLst/>
            <a:ahLst/>
            <a:rect l="l" t="t" r="r" b="b"/>
            <a:pathLst>
              <a:path w="1642" h="2746">
                <a:moveTo>
                  <a:pt x="10" y="2328"/>
                </a:moveTo>
                <a:cubicBezTo>
                  <a:pt x="14" y="2360"/>
                  <a:pt x="0" y="2452"/>
                  <a:pt x="34" y="2520"/>
                </a:cubicBezTo>
                <a:cubicBezTo>
                  <a:pt x="68" y="2588"/>
                  <a:pt x="118" y="2746"/>
                  <a:pt x="214" y="2736"/>
                </a:cubicBezTo>
                <a:cubicBezTo>
                  <a:pt x="310" y="2726"/>
                  <a:pt x="452" y="2696"/>
                  <a:pt x="610" y="2460"/>
                </a:cubicBezTo>
                <a:cubicBezTo>
                  <a:pt x="768" y="2224"/>
                  <a:pt x="990" y="1730"/>
                  <a:pt x="1162" y="1320"/>
                </a:cubicBezTo>
                <a:cubicBezTo>
                  <a:pt x="1334" y="910"/>
                  <a:pt x="1542" y="275"/>
                  <a:pt x="1642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1620600">
            <a:off x="5173200" y="263664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1620600">
            <a:off x="3300120" y="475920"/>
            <a:ext cx="936720" cy="21985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1620600">
            <a:off x="4289400" y="437760"/>
            <a:ext cx="936720" cy="219888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3400" y="4748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282920" y="9795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51528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227640" y="3139920"/>
            <a:ext cx="14472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2875400">
            <a:off x="4613040" y="79776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4.79769E-006 C -0.00608 0.01826 -0.00729 0.02034 -0.03698 0.11005 C -0.06667 0.19976 -0.1434 0.45895 -0.17795 0.53919 C -0.2125 0.61942 -0.2276 0.60069 -0.24462 0.59213 C -0.26163 0.58358 -0.2724 0.51005 -0.27969 0.48855 E">
                                      <p:cBhvr>
                                        <p:cTn id="330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3000"/>
                            </p:stCondLst>
                            <p:childTnLst>
                              <p:par>
                                <p:cTn id="3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944 0.05294 C -0.03021 0.08023 -0.06042 0.1845 -0.0842 0.21687 C -0.10799 0.24971 -0.15017 0.2652 -0.16198 0.24878 C -0.17378 0.23237 -0.16719 0.15953 -0.15555 0.11768 C -0.14392 0.07583 -0.11111 0.02011 -0.09201 -0.00278 C -0.07292 -0.02567 -0.05295 -0.02844 -0.04132 -0.01966 C -0.02969 -0.01087 -0.02621 0.03537 -0.02222 0.04994 E">
                                      <p:cBhvr>
                                        <p:cTn id="333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6000"/>
                            </p:stCondLst>
                            <p:childTnLst>
                              <p:par>
                                <p:cTn id="33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223 0.04994 C -0.0165 0.02589 -0.01059 0.00185 0.00156 -0.01365 C 0.01371 -0.02914 0.03958 -0.04232 0.05087 -0.04324 C 0.06215 -0.04417 0.0651 -0.03885 0.06979 -0.01989 C 0.07448 -0.00093 0.0901 0.02659 0.07934 0.07098 C 0.06857 0.11537 0.02691 0.21225 0.00486 0.24647 C -0.01719 0.28069 -0.03941 0.28254 -0.05243 0.27607 C -0.06545 0.26959 -0.07709 0.24878 -0.07292 0.20832 C -0.06875 0.16786 -0.03455 0.06289 -0.02691 0.03306 E">
                                      <p:cBhvr>
                                        <p:cTn id="336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900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059 0.28254 C 0.18195 0.3808 0.07448 0.74936 0.03889 0.87213 E">
                                      <p:cBhvr>
                                        <p:cTn id="339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542 0.36577 C 0.18559 0.34681 0.18594 0.32809 0.17917 0.31722 C 0.1724 0.30635 0.1599 0.2941 0.14427 0.30034 C 0.12865 0.30658 0.10156 0.32809 0.08542 0.35514 C 0.06927 0.38219 0.05382 0.42959 0.0474 0.46311 C 0.04097 0.49664 0.04323 0.53456 0.0474 0.55606 C 0.05156 0.57757 0.05851 0.58936 0.07274 0.5919 C 0.08698 0.59444 0.11406 0.60647 0.13316 0.57086 C 0.15226 0.53525 0.17795 0.41063 0.18698 0.37849 E">
                                      <p:cBhvr>
                                        <p:cTn id="342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875 0.35976 C 0.19462 0.35237 0.21163 0.32508 0.22986 0.31514 C 0.24809 0.3052 0.28646 0.28254 0.29705 0.30057 C 0.30764 0.31861 0.30469 0.38034 0.2934 0.42289 C 0.28212 0.46543 0.25208 0.53063 0.22986 0.55606 C 0.20764 0.5815 0.17222 0.58589 0.16007 0.57502 C 0.14792 0.56416 0.15278 0.52554 0.15695 0.49063 C 0.16111 0.45572 0.17951 0.39167 0.18542 0.36578 E">
                                      <p:cBhvr>
                                        <p:cTn id="345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13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"/>
          <p:cNvGrpSpPr/>
          <p:nvPr/>
        </p:nvGrpSpPr>
        <p:grpSpPr>
          <a:xfrm>
            <a:off x="5796000" y="2712960"/>
            <a:ext cx="2243160" cy="2178000"/>
            <a:chOff x="5796000" y="2712960"/>
            <a:chExt cx="2243160" cy="2178000"/>
          </a:xfrm>
        </p:grpSpPr>
        <p:grpSp>
          <p:nvGrpSpPr>
            <p:cNvPr id="417" name=""/>
            <p:cNvGrpSpPr/>
            <p:nvPr/>
          </p:nvGrpSpPr>
          <p:grpSpPr>
            <a:xfrm>
              <a:off x="6731280" y="2712960"/>
              <a:ext cx="1307880" cy="2128680"/>
              <a:chOff x="6731280" y="2712960"/>
              <a:chExt cx="1307880" cy="2128680"/>
            </a:xfrm>
          </p:grpSpPr>
          <p:sp>
            <p:nvSpPr>
              <p:cNvPr id="418" name=""/>
              <p:cNvSpPr/>
              <p:nvPr/>
            </p:nvSpPr>
            <p:spPr>
              <a:xfrm>
                <a:off x="6731280" y="2712960"/>
                <a:ext cx="1307880" cy="2128680"/>
              </a:xfrm>
              <a:custGeom>
                <a:avLst/>
                <a:gdLst/>
                <a:ahLst/>
                <a:rect l="l" t="t" r="r" b="b"/>
                <a:pathLst>
                  <a:path w="824" h="1341">
                    <a:moveTo>
                      <a:pt x="824" y="919"/>
                    </a:moveTo>
                    <a:cubicBezTo>
                      <a:pt x="778" y="963"/>
                      <a:pt x="654" y="1118"/>
                      <a:pt x="540" y="1184"/>
                    </a:cubicBezTo>
                    <a:cubicBezTo>
                      <a:pt x="426" y="1250"/>
                      <a:pt x="228" y="1341"/>
                      <a:pt x="138" y="1312"/>
                    </a:cubicBezTo>
                    <a:cubicBezTo>
                      <a:pt x="48" y="1283"/>
                      <a:pt x="2" y="1142"/>
                      <a:pt x="1" y="1010"/>
                    </a:cubicBezTo>
                    <a:cubicBezTo>
                      <a:pt x="0" y="878"/>
                      <a:pt x="67" y="662"/>
                      <a:pt x="129" y="517"/>
                    </a:cubicBezTo>
                    <a:cubicBezTo>
                      <a:pt x="191" y="372"/>
                      <a:pt x="289" y="221"/>
                      <a:pt x="376" y="142"/>
                    </a:cubicBezTo>
                    <a:cubicBezTo>
                      <a:pt x="463" y="63"/>
                      <a:pt x="591" y="0"/>
                      <a:pt x="650" y="41"/>
                    </a:cubicBezTo>
                    <a:cubicBezTo>
                      <a:pt x="709" y="82"/>
                      <a:pt x="715" y="317"/>
                      <a:pt x="732" y="38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810560" y="330516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0" name=""/>
            <p:cNvGrpSpPr/>
            <p:nvPr/>
          </p:nvGrpSpPr>
          <p:grpSpPr>
            <a:xfrm>
              <a:off x="5796000" y="2735280"/>
              <a:ext cx="1162080" cy="2155680"/>
              <a:chOff x="5796000" y="2735280"/>
              <a:chExt cx="1162080" cy="2155680"/>
            </a:xfrm>
          </p:grpSpPr>
          <p:sp>
            <p:nvSpPr>
              <p:cNvPr id="421" name=""/>
              <p:cNvSpPr/>
              <p:nvPr/>
            </p:nvSpPr>
            <p:spPr>
              <a:xfrm>
                <a:off x="5796000" y="2735280"/>
                <a:ext cx="1162080" cy="2155680"/>
              </a:xfrm>
              <a:custGeom>
                <a:avLst/>
                <a:gdLst/>
                <a:ahLst/>
                <a:rect l="l" t="t" r="r" b="b"/>
                <a:pathLst>
                  <a:path w="732" h="1358">
                    <a:moveTo>
                      <a:pt x="183" y="266"/>
                    </a:moveTo>
                    <a:cubicBezTo>
                      <a:pt x="218" y="234"/>
                      <a:pt x="323" y="111"/>
                      <a:pt x="391" y="74"/>
                    </a:cubicBezTo>
                    <a:cubicBezTo>
                      <a:pt x="459" y="37"/>
                      <a:pt x="537" y="0"/>
                      <a:pt x="594" y="46"/>
                    </a:cubicBezTo>
                    <a:cubicBezTo>
                      <a:pt x="651" y="92"/>
                      <a:pt x="730" y="216"/>
                      <a:pt x="731" y="348"/>
                    </a:cubicBezTo>
                    <a:cubicBezTo>
                      <a:pt x="732" y="480"/>
                      <a:pt x="665" y="696"/>
                      <a:pt x="603" y="841"/>
                    </a:cubicBezTo>
                    <a:cubicBezTo>
                      <a:pt x="541" y="986"/>
                      <a:pt x="443" y="1137"/>
                      <a:pt x="356" y="1216"/>
                    </a:cubicBezTo>
                    <a:cubicBezTo>
                      <a:pt x="269" y="1295"/>
                      <a:pt x="141" y="1358"/>
                      <a:pt x="82" y="1317"/>
                    </a:cubicBezTo>
                    <a:cubicBezTo>
                      <a:pt x="23" y="1276"/>
                      <a:pt x="17" y="1041"/>
                      <a:pt x="0" y="969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 flipH="1">
                <a:off x="6081120" y="301608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" name=""/>
          <p:cNvSpPr/>
          <p:nvPr/>
        </p:nvSpPr>
        <p:spPr>
          <a:xfrm>
            <a:off x="765000" y="469800"/>
            <a:ext cx="2635560" cy="4280040"/>
          </a:xfrm>
          <a:custGeom>
            <a:avLst/>
            <a:gdLst/>
            <a:ahLst/>
            <a:rect l="l" t="t" r="r" b="b"/>
            <a:pathLst>
              <a:path w="1660" h="2696">
                <a:moveTo>
                  <a:pt x="718" y="508"/>
                </a:moveTo>
                <a:cubicBezTo>
                  <a:pt x="784" y="444"/>
                  <a:pt x="986" y="192"/>
                  <a:pt x="1114" y="124"/>
                </a:cubicBezTo>
                <a:cubicBezTo>
                  <a:pt x="1242" y="56"/>
                  <a:pt x="1399" y="0"/>
                  <a:pt x="1486" y="100"/>
                </a:cubicBezTo>
                <a:cubicBezTo>
                  <a:pt x="1573" y="200"/>
                  <a:pt x="1660" y="458"/>
                  <a:pt x="1637" y="726"/>
                </a:cubicBezTo>
                <a:cubicBezTo>
                  <a:pt x="1614" y="994"/>
                  <a:pt x="1504" y="1407"/>
                  <a:pt x="1349" y="1709"/>
                </a:cubicBezTo>
                <a:cubicBezTo>
                  <a:pt x="1194" y="2011"/>
                  <a:pt x="901" y="2378"/>
                  <a:pt x="706" y="2536"/>
                </a:cubicBezTo>
                <a:cubicBezTo>
                  <a:pt x="511" y="2694"/>
                  <a:pt x="294" y="2696"/>
                  <a:pt x="178" y="2658"/>
                </a:cubicBezTo>
                <a:cubicBezTo>
                  <a:pt x="62" y="2620"/>
                  <a:pt x="24" y="2452"/>
                  <a:pt x="12" y="2310"/>
                </a:cubicBezTo>
                <a:cubicBezTo>
                  <a:pt x="0" y="2168"/>
                  <a:pt x="84" y="1912"/>
                  <a:pt x="103" y="1807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835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833560" y="541440"/>
            <a:ext cx="2557440" cy="4294080"/>
          </a:xfrm>
          <a:custGeom>
            <a:avLst/>
            <a:gdLst/>
            <a:ahLst/>
            <a:rect l="l" t="t" r="r" b="b"/>
            <a:pathLst>
              <a:path w="1611" h="2705">
                <a:moveTo>
                  <a:pt x="1228" y="2320"/>
                </a:moveTo>
                <a:cubicBezTo>
                  <a:pt x="1058" y="2375"/>
                  <a:pt x="409" y="2705"/>
                  <a:pt x="207" y="2647"/>
                </a:cubicBezTo>
                <a:cubicBezTo>
                  <a:pt x="5" y="2589"/>
                  <a:pt x="0" y="2249"/>
                  <a:pt x="16" y="1973"/>
                </a:cubicBezTo>
                <a:cubicBezTo>
                  <a:pt x="32" y="1697"/>
                  <a:pt x="165" y="1279"/>
                  <a:pt x="304" y="990"/>
                </a:cubicBezTo>
                <a:cubicBezTo>
                  <a:pt x="443" y="701"/>
                  <a:pt x="701" y="406"/>
                  <a:pt x="859" y="242"/>
                </a:cubicBezTo>
                <a:cubicBezTo>
                  <a:pt x="1017" y="78"/>
                  <a:pt x="1138" y="14"/>
                  <a:pt x="1251" y="7"/>
                </a:cubicBezTo>
                <a:cubicBezTo>
                  <a:pt x="1364" y="0"/>
                  <a:pt x="1479" y="113"/>
                  <a:pt x="1539" y="199"/>
                </a:cubicBezTo>
                <a:cubicBezTo>
                  <a:pt x="1599" y="285"/>
                  <a:pt x="1596" y="456"/>
                  <a:pt x="1611" y="5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291280" y="126828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12875400">
            <a:off x="1834920" y="148356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2222E-006 -4.62428E-006 C 0.00972 -0.0141 0.03316 -0.06427 0.05885 -0.08254 C 0.08455 -0.1008 0.14028 -0.15791 0.15399 -0.11005 C 0.16771 -0.06219 0.16319 0.11214 0.14132 0.20509 C 0.11944 0.29804 0.0585 0.39723 0.02222 0.44787 C -0.01406 0.4985 -0.05243 0.517 -0.07622 0.50937 C -0.1 0.50174 -0.11511 0.43307 -0.12066 0.40162 C -0.12622 0.37018 -0.11181 0.33781 -0.10955 0.32116 E">
                                      <p:cBhvr>
                                        <p:cTn id="351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000"/>
                            </p:stCondLst>
                            <p:childTnLst>
                              <p:par>
                                <p:cTn id="3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438 0.00416 C 0.38125 -0.01318 0.38056 -0.08185 0.36528 -0.09942 C 0.35 -0.11699 0.31597 -0.11607 0.29236 -0.10173 C 0.26875 -0.0874 0.24827 -0.0585 0.22396 -0.01295 C 0.19965 0.0326 0.1684 0.09965 0.14618 0.1711 C 0.12396 0.24231 0.09097 0.35931 0.0908 0.41642 C 0.09063 0.47353 0.10833 0.51006 0.14462 0.51353 C 0.1809 0.51699 0.27413 0.45318 0.30816 0.43723 E">
                                      <p:cBhvr>
                                        <p:cTn id="354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6000"/>
                            </p:stCondLst>
                            <p:childTnLst>
                              <p:par>
                                <p:cTn id="3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4358 0.25225 C 0.45625 0.24069 0.50208 0.18358 0.51979 0.18243 C 0.5375 0.18127 0.54861 0.21364 0.55 0.24578 C 0.55139 0.27792 0.54045 0.33249 0.52778 0.3748 C 0.51511 0.41711 0.48785 0.48185 0.47379 0.49942 C 0.45972 0.51699 0.45226 0.49526 0.44358 0.48046 C 0.4349 0.46566 0.42604 0.4252 0.42136 0.41064 E">
                                      <p:cBhvr>
                                        <p:cTn id="357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9000"/>
                            </p:stCondLst>
                            <p:childTnLst>
                              <p:par>
                                <p:cTn id="35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556 0.26405 C 0.65365 0.25387 0.65347 0.21272 0.64445 0.20277 C 0.63542 0.19283 0.61875 0.18127 0.60156 0.20486 C 0.58438 0.22844 0.55261 0.29318 0.54132 0.34451 C 0.53004 0.39584 0.52379 0.49017 0.53403 0.51306 C 0.54427 0.53595 0.58108 0.49919 0.6033 0.48185 C 0.62552 0.46451 0.65399 0.42451 0.66736 0.40948 E">
                                      <p:cBhvr>
                                        <p:cTn id="360" dur="3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29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1668600" y="485640"/>
            <a:ext cx="2974680" cy="5456520"/>
            <a:chOff x="1668600" y="485640"/>
            <a:chExt cx="2974680" cy="5456520"/>
          </a:xfrm>
        </p:grpSpPr>
        <p:sp>
          <p:nvSpPr>
            <p:cNvPr id="433" name=""/>
            <p:cNvSpPr/>
            <p:nvPr/>
          </p:nvSpPr>
          <p:spPr>
            <a:xfrm>
              <a:off x="1668600" y="558720"/>
              <a:ext cx="1769760" cy="4291200"/>
            </a:xfrm>
            <a:custGeom>
              <a:avLst/>
              <a:gdLst/>
              <a:ahLst/>
              <a:rect l="l" t="t" r="r" b="b"/>
              <a:pathLst>
                <a:path w="1115" h="2703">
                  <a:moveTo>
                    <a:pt x="894" y="2296"/>
                  </a:moveTo>
                  <a:cubicBezTo>
                    <a:pt x="788" y="2358"/>
                    <a:pt x="396" y="2635"/>
                    <a:pt x="259" y="2669"/>
                  </a:cubicBezTo>
                  <a:cubicBezTo>
                    <a:pt x="122" y="2703"/>
                    <a:pt x="60" y="2654"/>
                    <a:pt x="74" y="2503"/>
                  </a:cubicBezTo>
                  <a:cubicBezTo>
                    <a:pt x="88" y="2352"/>
                    <a:pt x="184" y="2128"/>
                    <a:pt x="344" y="1763"/>
                  </a:cubicBezTo>
                  <a:cubicBezTo>
                    <a:pt x="504" y="1398"/>
                    <a:pt x="953" y="604"/>
                    <a:pt x="1034" y="315"/>
                  </a:cubicBezTo>
                  <a:cubicBezTo>
                    <a:pt x="1115" y="26"/>
                    <a:pt x="913" y="64"/>
                    <a:pt x="832" y="32"/>
                  </a:cubicBezTo>
                  <a:cubicBezTo>
                    <a:pt x="751" y="0"/>
                    <a:pt x="688" y="50"/>
                    <a:pt x="549" y="123"/>
                  </a:cubicBezTo>
                  <a:cubicBezTo>
                    <a:pt x="410" y="196"/>
                    <a:pt x="114" y="399"/>
                    <a:pt x="0" y="471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27520" y="558720"/>
              <a:ext cx="1644480" cy="4251240"/>
            </a:xfrm>
            <a:custGeom>
              <a:avLst/>
              <a:gdLst/>
              <a:ahLst/>
              <a:rect l="l" t="t" r="r" b="b"/>
              <a:pathLst>
                <a:path w="1036" h="2678">
                  <a:moveTo>
                    <a:pt x="606" y="2437"/>
                  </a:moveTo>
                  <a:cubicBezTo>
                    <a:pt x="540" y="2475"/>
                    <a:pt x="298" y="2658"/>
                    <a:pt x="199" y="2668"/>
                  </a:cubicBezTo>
                  <a:cubicBezTo>
                    <a:pt x="100" y="2678"/>
                    <a:pt x="0" y="2652"/>
                    <a:pt x="14" y="2496"/>
                  </a:cubicBezTo>
                  <a:cubicBezTo>
                    <a:pt x="28" y="2339"/>
                    <a:pt x="114" y="2144"/>
                    <a:pt x="284" y="1728"/>
                  </a:cubicBezTo>
                  <a:cubicBezTo>
                    <a:pt x="454" y="1313"/>
                    <a:pt x="879" y="360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143160" y="4397400"/>
              <a:ext cx="1139760" cy="1544760"/>
            </a:xfrm>
            <a:custGeom>
              <a:avLst/>
              <a:gdLst/>
              <a:ahLst/>
              <a:rect l="l" t="t" r="r" b="b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8" y="973"/>
                    <a:pt x="206" y="850"/>
                  </a:cubicBezTo>
                  <a:cubicBezTo>
                    <a:pt x="284" y="727"/>
                    <a:pt x="415" y="177"/>
                    <a:pt x="47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668600" y="119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498920" y="48564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"/>
          <p:cNvGrpSpPr/>
          <p:nvPr/>
        </p:nvGrpSpPr>
        <p:grpSpPr>
          <a:xfrm>
            <a:off x="5051520" y="2576520"/>
            <a:ext cx="2444760" cy="3438360"/>
            <a:chOff x="5051520" y="2576520"/>
            <a:chExt cx="2444760" cy="3438360"/>
          </a:xfrm>
        </p:grpSpPr>
        <p:sp>
          <p:nvSpPr>
            <p:cNvPr id="439" name=""/>
            <p:cNvSpPr/>
            <p:nvPr/>
          </p:nvSpPr>
          <p:spPr>
            <a:xfrm>
              <a:off x="6140520" y="2709720"/>
              <a:ext cx="954000" cy="2141640"/>
            </a:xfrm>
            <a:custGeom>
              <a:avLst/>
              <a:gdLst/>
              <a:ahLst/>
              <a:rect l="l" t="t" r="r" b="b"/>
              <a:pathLst>
                <a:path w="601" h="1349">
                  <a:moveTo>
                    <a:pt x="594" y="1118"/>
                  </a:moveTo>
                  <a:cubicBezTo>
                    <a:pt x="545" y="1151"/>
                    <a:pt x="397" y="1278"/>
                    <a:pt x="301" y="1305"/>
                  </a:cubicBezTo>
                  <a:cubicBezTo>
                    <a:pt x="205" y="1332"/>
                    <a:pt x="42" y="1349"/>
                    <a:pt x="21" y="1279"/>
                  </a:cubicBezTo>
                  <a:cubicBezTo>
                    <a:pt x="0" y="1209"/>
                    <a:pt x="78" y="1098"/>
                    <a:pt x="174" y="886"/>
                  </a:cubicBezTo>
                  <a:cubicBezTo>
                    <a:pt x="271" y="672"/>
                    <a:pt x="512" y="184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51520" y="2649600"/>
              <a:ext cx="1305000" cy="216036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356520" y="4470480"/>
              <a:ext cx="1139760" cy="1544400"/>
            </a:xfrm>
            <a:custGeom>
              <a:avLst/>
              <a:gdLst/>
              <a:ahLst/>
              <a:rect l="l" t="t" r="r" b="b"/>
              <a:pathLst>
                <a:path w="718" h="973">
                  <a:moveTo>
                    <a:pt x="718" y="9"/>
                  </a:moveTo>
                  <a:cubicBezTo>
                    <a:pt x="636" y="76"/>
                    <a:pt x="342" y="289"/>
                    <a:pt x="223" y="411"/>
                  </a:cubicBezTo>
                  <a:cubicBezTo>
                    <a:pt x="104" y="533"/>
                    <a:pt x="6" y="667"/>
                    <a:pt x="3" y="740"/>
                  </a:cubicBezTo>
                  <a:cubicBezTo>
                    <a:pt x="0" y="813"/>
                    <a:pt x="129" y="973"/>
                    <a:pt x="206" y="850"/>
                  </a:cubicBezTo>
                  <a:cubicBezTo>
                    <a:pt x="283" y="727"/>
                    <a:pt x="413" y="177"/>
                    <a:pt x="46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5938920" y="25765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2144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 rot="12875400">
            <a:off x="166824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-3.46821E-007 C 0.03004 -0.01179 0.17448 -0.13064 0.18056 -0.07052 C 0.18663 -0.0104 0.0658 0.26798 0.03611 0.36069 C 0.00643 0.45341 0.0059 0.4578 0.00278 0.48555 C -0.00035 0.5133 -0.0033 0.52902 0.01702 0.52786 C 0.03733 0.52671 0.10261 0.48925 0.125 0.47908 E">
                                      <p:cBhvr>
                                        <p:cTn id="366" dur="3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000"/>
                            </p:stCondLst>
                            <p:childTnLst>
                              <p:par>
                                <p:cTn id="3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476 -0.08393 C 0.28577 0.00115999999999999 0.16528 0.32578 0.1408 0.42613 C 0.11632 0.52624 0.15382 0.50983 0.16788 0.51931 C 0.18195 0.52832 0.22309 0.45619 0.225 0.48116 C 0.22691 0.50613 0.19323 0.6437 0.179 0.66936 C 0.16476 0.69503 0.12413 0.66751 0.13924 0.63538 C 0.15434 0.60324 0.24236 0.51006 0.26945 0.47699 E">
                                      <p:cBhvr>
                                        <p:cTn id="369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8000"/>
                            </p:stCondLst>
                            <p:childTnLst>
                              <p:par>
                                <p:cTn id="3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6615 0.21064 C 0.45052 0.25295 0.38577 0.41179 0.37257 0.46428 C 0.35938 0.51676 0.36545 0.53087 0.38681 0.52555 C 0.40816 0.52023 0.47743 0.45202 0.50122 0.4326 E">
                                      <p:cBhvr>
                                        <p:cTn id="372" dur="3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8681 0.20439 C 0.57882 0.22705 0.55295 0.2948 0.53768 0.34012 C 0.5224 0.38543 0.50226 0.44786 0.49479 0.47699 C 0.48733 0.50613 0.48906 0.50705 0.49323 0.51514 C 0.4974 0.52324 0.50695 0.53364 0.52014 0.52555 C 0.53334 0.51746 0.56962 0.44347 0.57257 0.46636 C 0.57552 0.48925 0.54879 0.63954 0.53768 0.66312 C 0.52656 0.68671 0.49167 0.63769 0.5059 0.60809 C 0.52014 0.5785 0.59896 0.51098 0.62344 0.48555 E">
                                      <p:cBhvr>
                                        <p:cTn id="375" dur="5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5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46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5500800" y="2637000"/>
            <a:ext cx="1663560" cy="2157120"/>
            <a:chOff x="5500800" y="2637000"/>
            <a:chExt cx="1663560" cy="2157120"/>
          </a:xfrm>
        </p:grpSpPr>
        <p:sp>
          <p:nvSpPr>
            <p:cNvPr id="450" name=""/>
            <p:cNvSpPr/>
            <p:nvPr/>
          </p:nvSpPr>
          <p:spPr>
            <a:xfrm>
              <a:off x="6140520" y="2637000"/>
              <a:ext cx="1023840" cy="215712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573880" y="2637000"/>
              <a:ext cx="1211040" cy="314280"/>
            </a:xfrm>
            <a:custGeom>
              <a:avLst/>
              <a:gdLst/>
              <a:ahLst/>
              <a:rect l="l" t="t" r="r" b="b"/>
              <a:pathLst>
                <a:path w="763" h="198">
                  <a:moveTo>
                    <a:pt x="0" y="186"/>
                  </a:moveTo>
                  <a:cubicBezTo>
                    <a:pt x="29" y="160"/>
                    <a:pt x="117" y="23"/>
                    <a:pt x="174" y="21"/>
                  </a:cubicBezTo>
                  <a:cubicBezTo>
                    <a:pt x="231" y="19"/>
                    <a:pt x="286" y="152"/>
                    <a:pt x="341" y="175"/>
                  </a:cubicBezTo>
                  <a:cubicBezTo>
                    <a:pt x="396" y="198"/>
                    <a:pt x="433" y="187"/>
                    <a:pt x="503" y="158"/>
                  </a:cubicBezTo>
                  <a:cubicBezTo>
                    <a:pt x="573" y="129"/>
                    <a:pt x="709" y="33"/>
                    <a:pt x="76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500800" y="2878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2174760" y="476280"/>
            <a:ext cx="2468520" cy="4317840"/>
            <a:chOff x="2174760" y="476280"/>
            <a:chExt cx="2468520" cy="4317840"/>
          </a:xfrm>
        </p:grpSpPr>
        <p:sp>
          <p:nvSpPr>
            <p:cNvPr id="454" name=""/>
            <p:cNvSpPr/>
            <p:nvPr/>
          </p:nvSpPr>
          <p:spPr>
            <a:xfrm>
              <a:off x="2247840" y="504720"/>
              <a:ext cx="1760760" cy="2179800"/>
            </a:xfrm>
            <a:custGeom>
              <a:avLst/>
              <a:gdLst/>
              <a:ahLst/>
              <a:rect l="l" t="t" r="r" b="b"/>
              <a:pathLst>
                <a:path w="1109" h="1373">
                  <a:moveTo>
                    <a:pt x="1109" y="867"/>
                  </a:moveTo>
                  <a:cubicBezTo>
                    <a:pt x="1019" y="943"/>
                    <a:pt x="704" y="1275"/>
                    <a:pt x="571" y="1324"/>
                  </a:cubicBezTo>
                  <a:cubicBezTo>
                    <a:pt x="438" y="1373"/>
                    <a:pt x="292" y="1335"/>
                    <a:pt x="312" y="1160"/>
                  </a:cubicBezTo>
                  <a:cubicBezTo>
                    <a:pt x="332" y="985"/>
                    <a:pt x="638" y="461"/>
                    <a:pt x="692" y="274"/>
                  </a:cubicBezTo>
                  <a:cubicBezTo>
                    <a:pt x="746" y="87"/>
                    <a:pt x="688" y="72"/>
                    <a:pt x="638" y="37"/>
                  </a:cubicBezTo>
                  <a:cubicBezTo>
                    <a:pt x="588" y="2"/>
                    <a:pt x="500" y="0"/>
                    <a:pt x="394" y="66"/>
                  </a:cubicBezTo>
                  <a:cubicBezTo>
                    <a:pt x="288" y="132"/>
                    <a:pt x="82" y="359"/>
                    <a:pt x="0" y="436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927520" y="479520"/>
              <a:ext cx="1644480" cy="431460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74760" y="1123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498920" y="4762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"/>
          <p:cNvSpPr/>
          <p:nvPr/>
        </p:nvSpPr>
        <p:spPr>
          <a:xfrm rot="12875400">
            <a:off x="2174760" y="134100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88889E-006 -3.46821E-007 C 0.01615 -0.01919 0.07674 -0.10682 0.09653 -0.11491 C 0.11632 -0.12301 0.12848 -0.09896 0.11875 -0.04925 C 0.10903 0.000460000000000002 0.04306 0.13919 0.03785 0.18312 C 0.03264 0.22705 0.06424 0.22289 0.08698 0.2148 C 0.10973 0.20671 0.15608 0.15121 0.17431 0.13457 E">
                                      <p:cBhvr>
                                        <p:cTn id="381" dur="3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365 -0.10636 C 0.24601 -0.08116 0.23594 -0.04185 0.20764 0.04786 C 0.17934 0.13757 0.10035 0.35399 0.08386 0.4326 C 0.06737 0.51121 0.08733 0.51815 0.10921 0.51931 C 0.13108 0.52046 0.19341 0.45572 0.21563 0.43908 E">
                                      <p:cBhvr>
                                        <p:cTn id="384" dur="3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000"/>
                            </p:stCondLst>
                            <p:childTnLst>
                              <p:par>
                                <p:cTn id="38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851 0.24671 C 0.3632 0.24116 0.379 0.21225 0.38698 0.21272 C 0.39497 0.21318 0.3974 0.24069 0.40608 0.24879 C 0.41476 0.25688 0.42466 0.26867 0.43941 0.2615 C 0.45417 0.25434 0.48334 0.21804 0.49497 0.20647 E">
                                      <p:cBhvr>
                                        <p:cTn id="387" dur="3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0"/>
                            </p:stCondLst>
                            <p:childTnLst>
                              <p:par>
                                <p:cTn id="38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9983 0.22335 C 0.48785 0.27191 0.43195 0.46613 0.4283 0.51306 C 0.42466 0.56 0.45955 0.51653 0.47761 0.50451 C 0.49566 0.49249 0.52414 0.45434 0.53629 0.44116 E">
                                      <p:cBhvr>
                                        <p:cTn id="390" dur="3000" fill="hold"/>
                                        <p:tgtEl>
                                          <p:spTgt spid="4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60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5138640" y="2635200"/>
            <a:ext cx="3387960" cy="2141640"/>
            <a:chOff x="5138640" y="2635200"/>
            <a:chExt cx="3387960" cy="2141640"/>
          </a:xfrm>
        </p:grpSpPr>
        <p:sp>
          <p:nvSpPr>
            <p:cNvPr id="464" name=""/>
            <p:cNvSpPr/>
            <p:nvPr/>
          </p:nvSpPr>
          <p:spPr>
            <a:xfrm>
              <a:off x="6156360" y="2637000"/>
              <a:ext cx="1289160" cy="213984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38640" y="2708280"/>
              <a:ext cx="1289160" cy="206856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37440" y="2708280"/>
              <a:ext cx="1289160" cy="2068560"/>
            </a:xfrm>
            <a:custGeom>
              <a:avLst/>
              <a:gdLst/>
              <a:ahLst/>
              <a:rect l="l" t="t" r="r" b="b"/>
              <a:pathLst>
                <a:path w="822" h="1492">
                  <a:moveTo>
                    <a:pt x="822" y="1038"/>
                  </a:moveTo>
                  <a:cubicBezTo>
                    <a:pt x="735" y="1103"/>
                    <a:pt x="434" y="1370"/>
                    <a:pt x="301" y="1431"/>
                  </a:cubicBezTo>
                  <a:cubicBezTo>
                    <a:pt x="168" y="1492"/>
                    <a:pt x="42" y="1479"/>
                    <a:pt x="21" y="1402"/>
                  </a:cubicBezTo>
                  <a:cubicBezTo>
                    <a:pt x="0" y="1325"/>
                    <a:pt x="78" y="1204"/>
                    <a:pt x="174" y="971"/>
                  </a:cubicBezTo>
                  <a:cubicBezTo>
                    <a:pt x="271" y="737"/>
                    <a:pt x="512" y="202"/>
                    <a:pt x="6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6012000" y="2635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694692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101080" y="26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82680" y="447840"/>
            <a:ext cx="4332240" cy="4372920"/>
            <a:chOff x="382680" y="447840"/>
            <a:chExt cx="4332240" cy="4372920"/>
          </a:xfrm>
        </p:grpSpPr>
        <p:sp>
          <p:nvSpPr>
            <p:cNvPr id="471" name=""/>
            <p:cNvSpPr/>
            <p:nvPr/>
          </p:nvSpPr>
          <p:spPr>
            <a:xfrm>
              <a:off x="455760" y="461880"/>
              <a:ext cx="1795320" cy="4358880"/>
            </a:xfrm>
            <a:custGeom>
              <a:avLst/>
              <a:gdLst/>
              <a:ahLst/>
              <a:rect l="l" t="t" r="r" b="b"/>
              <a:pathLst>
                <a:path w="1131" h="2746">
                  <a:moveTo>
                    <a:pt x="888" y="2341"/>
                  </a:moveTo>
                  <a:cubicBezTo>
                    <a:pt x="784" y="2403"/>
                    <a:pt x="395" y="2678"/>
                    <a:pt x="259" y="2712"/>
                  </a:cubicBezTo>
                  <a:cubicBezTo>
                    <a:pt x="123" y="2746"/>
                    <a:pt x="60" y="2697"/>
                    <a:pt x="74" y="2546"/>
                  </a:cubicBezTo>
                  <a:cubicBezTo>
                    <a:pt x="88" y="2395"/>
                    <a:pt x="184" y="2171"/>
                    <a:pt x="344" y="1806"/>
                  </a:cubicBezTo>
                  <a:cubicBezTo>
                    <a:pt x="504" y="1441"/>
                    <a:pt x="937" y="654"/>
                    <a:pt x="1034" y="358"/>
                  </a:cubicBezTo>
                  <a:cubicBezTo>
                    <a:pt x="1131" y="62"/>
                    <a:pt x="1008" y="64"/>
                    <a:pt x="927" y="32"/>
                  </a:cubicBezTo>
                  <a:cubicBezTo>
                    <a:pt x="846" y="0"/>
                    <a:pt x="703" y="86"/>
                    <a:pt x="549" y="166"/>
                  </a:cubicBezTo>
                  <a:cubicBezTo>
                    <a:pt x="395" y="246"/>
                    <a:pt x="114" y="442"/>
                    <a:pt x="0" y="514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998800" y="529920"/>
              <a:ext cx="1644480" cy="428904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2680" y="116820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7056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785960" y="529920"/>
              <a:ext cx="1644480" cy="427968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357720" y="44784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 rot="12875400">
            <a:off x="45540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46821E-007 C 0.03021 -0.01179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396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3000"/>
                            </p:stCondLst>
                            <p:childTnLst>
                              <p:par>
                                <p:cTn id="39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399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8647 C 0.42309 -0.000229999999999994 0.30782 0.32948 0.28455 0.43121 C 0.26129 0.53295 0.2915 0.52139 0.31164 0.52439 C 0.33177 0.5274 0.38577 0.4652 0.40521 0.44948 E">
                                      <p:cBhvr>
                                        <p:cTn id="402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1000"/>
                            </p:stCondLst>
                            <p:childTnLst>
                              <p:par>
                                <p:cTn id="40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405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408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323 0.55029 0.7625 0.53827 C 0.78177 0.52624 0.83282 0.47306 0.85122 0.45595 E">
                                      <p:cBhvr>
                                        <p:cTn id="411" dur="5000" fill="hold"/>
                                        <p:tgtEl>
                                          <p:spTgt spid="4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479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"/>
          <p:cNvGrpSpPr/>
          <p:nvPr/>
        </p:nvGrpSpPr>
        <p:grpSpPr>
          <a:xfrm>
            <a:off x="5138640" y="2635200"/>
            <a:ext cx="3532320" cy="3408480"/>
            <a:chOff x="5138640" y="2635200"/>
            <a:chExt cx="3532320" cy="3408480"/>
          </a:xfrm>
        </p:grpSpPr>
        <p:grpSp>
          <p:nvGrpSpPr>
            <p:cNvPr id="483" name=""/>
            <p:cNvGrpSpPr/>
            <p:nvPr/>
          </p:nvGrpSpPr>
          <p:grpSpPr>
            <a:xfrm>
              <a:off x="5138640" y="2635200"/>
              <a:ext cx="3387960" cy="2141640"/>
              <a:chOff x="5138640" y="2635200"/>
              <a:chExt cx="3387960" cy="2141640"/>
            </a:xfrm>
          </p:grpSpPr>
          <p:sp>
            <p:nvSpPr>
              <p:cNvPr id="484" name=""/>
              <p:cNvSpPr/>
              <p:nvPr/>
            </p:nvSpPr>
            <p:spPr>
              <a:xfrm>
                <a:off x="6156360" y="2637000"/>
                <a:ext cx="1289160" cy="2139840"/>
              </a:xfrm>
              <a:custGeom>
                <a:avLst/>
                <a:gdLst/>
                <a:ahLst/>
                <a:rect l="l" t="t" r="r" b="b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138640" y="2708280"/>
                <a:ext cx="1289160" cy="2068560"/>
              </a:xfrm>
              <a:custGeom>
                <a:avLst/>
                <a:gdLst/>
                <a:ahLst/>
                <a:rect l="l" t="t" r="r" b="b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237440" y="2708280"/>
                <a:ext cx="1289160" cy="2068560"/>
              </a:xfrm>
              <a:custGeom>
                <a:avLst/>
                <a:gdLst/>
                <a:ahLst/>
                <a:rect l="l" t="t" r="r" b="b"/>
                <a:pathLst>
                  <a:path w="822" h="1492">
                    <a:moveTo>
                      <a:pt x="822" y="1038"/>
                    </a:moveTo>
                    <a:cubicBezTo>
                      <a:pt x="735" y="1103"/>
                      <a:pt x="434" y="1370"/>
                      <a:pt x="301" y="1431"/>
                    </a:cubicBezTo>
                    <a:cubicBezTo>
                      <a:pt x="168" y="1492"/>
                      <a:pt x="42" y="1479"/>
                      <a:pt x="21" y="1402"/>
                    </a:cubicBezTo>
                    <a:cubicBezTo>
                      <a:pt x="0" y="1325"/>
                      <a:pt x="78" y="1204"/>
                      <a:pt x="174" y="971"/>
                    </a:cubicBezTo>
                    <a:cubicBezTo>
                      <a:pt x="271" y="737"/>
                      <a:pt x="512" y="202"/>
                      <a:pt x="601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012000" y="26352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94692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101080" y="2637000"/>
                <a:ext cx="144360" cy="14436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0" name=""/>
            <p:cNvSpPr/>
            <p:nvPr/>
          </p:nvSpPr>
          <p:spPr>
            <a:xfrm>
              <a:off x="7531200" y="4229280"/>
              <a:ext cx="1139760" cy="1814400"/>
            </a:xfrm>
            <a:custGeom>
              <a:avLst/>
              <a:gdLst/>
              <a:ahLst/>
              <a:rect l="l" t="t" r="r" b="b"/>
              <a:pathLst>
                <a:path w="718" h="1095">
                  <a:moveTo>
                    <a:pt x="718" y="113"/>
                  </a:moveTo>
                  <a:cubicBezTo>
                    <a:pt x="636" y="180"/>
                    <a:pt x="342" y="393"/>
                    <a:pt x="223" y="515"/>
                  </a:cubicBezTo>
                  <a:cubicBezTo>
                    <a:pt x="104" y="637"/>
                    <a:pt x="6" y="771"/>
                    <a:pt x="3" y="844"/>
                  </a:cubicBezTo>
                  <a:cubicBezTo>
                    <a:pt x="0" y="917"/>
                    <a:pt x="114" y="1095"/>
                    <a:pt x="206" y="954"/>
                  </a:cubicBezTo>
                  <a:cubicBezTo>
                    <a:pt x="298" y="813"/>
                    <a:pt x="482" y="199"/>
                    <a:pt x="554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382680" y="447840"/>
            <a:ext cx="4332240" cy="5608440"/>
            <a:chOff x="382680" y="447840"/>
            <a:chExt cx="4332240" cy="5608440"/>
          </a:xfrm>
        </p:grpSpPr>
        <p:grpSp>
          <p:nvGrpSpPr>
            <p:cNvPr id="492" name=""/>
            <p:cNvGrpSpPr/>
            <p:nvPr/>
          </p:nvGrpSpPr>
          <p:grpSpPr>
            <a:xfrm>
              <a:off x="382680" y="447840"/>
              <a:ext cx="4332240" cy="4372920"/>
              <a:chOff x="382680" y="447840"/>
              <a:chExt cx="4332240" cy="4372920"/>
            </a:xfrm>
          </p:grpSpPr>
          <p:sp>
            <p:nvSpPr>
              <p:cNvPr id="493" name=""/>
              <p:cNvSpPr/>
              <p:nvPr/>
            </p:nvSpPr>
            <p:spPr>
              <a:xfrm>
                <a:off x="455760" y="461880"/>
                <a:ext cx="1795320" cy="4358880"/>
              </a:xfrm>
              <a:custGeom>
                <a:avLst/>
                <a:gdLst/>
                <a:ahLst/>
                <a:rect l="l" t="t" r="r" b="b"/>
                <a:pathLst>
                  <a:path w="1131" h="2746">
                    <a:moveTo>
                      <a:pt x="888" y="2341"/>
                    </a:moveTo>
                    <a:cubicBezTo>
                      <a:pt x="784" y="2403"/>
                      <a:pt x="395" y="2678"/>
                      <a:pt x="259" y="2712"/>
                    </a:cubicBezTo>
                    <a:cubicBezTo>
                      <a:pt x="123" y="2746"/>
                      <a:pt x="60" y="2697"/>
                      <a:pt x="74" y="2546"/>
                    </a:cubicBezTo>
                    <a:cubicBezTo>
                      <a:pt x="88" y="2395"/>
                      <a:pt x="184" y="2171"/>
                      <a:pt x="344" y="1806"/>
                    </a:cubicBezTo>
                    <a:cubicBezTo>
                      <a:pt x="504" y="1441"/>
                      <a:pt x="937" y="654"/>
                      <a:pt x="1034" y="358"/>
                    </a:cubicBezTo>
                    <a:cubicBezTo>
                      <a:pt x="1131" y="62"/>
                      <a:pt x="1008" y="64"/>
                      <a:pt x="927" y="32"/>
                    </a:cubicBezTo>
                    <a:cubicBezTo>
                      <a:pt x="846" y="0"/>
                      <a:pt x="703" y="86"/>
                      <a:pt x="549" y="166"/>
                    </a:cubicBezTo>
                    <a:cubicBezTo>
                      <a:pt x="395" y="246"/>
                      <a:pt x="114" y="442"/>
                      <a:pt x="0" y="514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2998800" y="529920"/>
                <a:ext cx="1644480" cy="4289040"/>
              </a:xfrm>
              <a:custGeom>
                <a:avLst/>
                <a:gdLst/>
                <a:ahLst/>
                <a:rect l="l" t="t" r="r" b="b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82680" y="116820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57056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785960" y="529920"/>
                <a:ext cx="1644480" cy="4279680"/>
              </a:xfrm>
              <a:custGeom>
                <a:avLst/>
                <a:gdLst/>
                <a:ahLst/>
                <a:rect l="l" t="t" r="r" b="b"/>
                <a:pathLst>
                  <a:path w="1036" h="2607">
                    <a:moveTo>
                      <a:pt x="834" y="2200"/>
                    </a:moveTo>
                    <a:cubicBezTo>
                      <a:pt x="728" y="2262"/>
                      <a:pt x="336" y="2539"/>
                      <a:pt x="199" y="2573"/>
                    </a:cubicBezTo>
                    <a:cubicBezTo>
                      <a:pt x="62" y="2607"/>
                      <a:pt x="0" y="2558"/>
                      <a:pt x="14" y="2407"/>
                    </a:cubicBezTo>
                    <a:cubicBezTo>
                      <a:pt x="28" y="2256"/>
                      <a:pt x="114" y="2068"/>
                      <a:pt x="284" y="1667"/>
                    </a:cubicBezTo>
                    <a:cubicBezTo>
                      <a:pt x="454" y="1266"/>
                      <a:pt x="879" y="347"/>
                      <a:pt x="1036" y="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357720" y="447840"/>
                <a:ext cx="144360" cy="144000"/>
              </a:xfrm>
              <a:prstGeom prst="flowChartConnector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9" name=""/>
            <p:cNvSpPr/>
            <p:nvPr/>
          </p:nvSpPr>
          <p:spPr>
            <a:xfrm>
              <a:off x="3430440" y="4229280"/>
              <a:ext cx="1140120" cy="1827000"/>
            </a:xfrm>
            <a:custGeom>
              <a:avLst/>
              <a:gdLst/>
              <a:ahLst/>
              <a:rect l="l" t="t" r="r" b="b"/>
              <a:pathLst>
                <a:path w="718" h="1151">
                  <a:moveTo>
                    <a:pt x="718" y="161"/>
                  </a:moveTo>
                  <a:cubicBezTo>
                    <a:pt x="636" y="228"/>
                    <a:pt x="342" y="441"/>
                    <a:pt x="223" y="563"/>
                  </a:cubicBezTo>
                  <a:cubicBezTo>
                    <a:pt x="104" y="685"/>
                    <a:pt x="6" y="819"/>
                    <a:pt x="3" y="892"/>
                  </a:cubicBezTo>
                  <a:cubicBezTo>
                    <a:pt x="0" y="965"/>
                    <a:pt x="121" y="1151"/>
                    <a:pt x="206" y="1002"/>
                  </a:cubicBezTo>
                  <a:cubicBezTo>
                    <a:pt x="291" y="853"/>
                    <a:pt x="451" y="209"/>
                    <a:pt x="515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0" name=""/>
          <p:cNvSpPr/>
          <p:nvPr/>
        </p:nvSpPr>
        <p:spPr>
          <a:xfrm rot="12875400">
            <a:off x="45540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3.46821E-007 C 0.03021 -0.01179 0.17466 -0.13064 0.18073 -0.07052 C 0.18681 -0.0104 0.06598 0.26798 0.03629 0.36069 C 0.0066 0.45341 0.00608 0.4578 0.00295 0.48555 C -0.00017 0.5133 -0.00312 0.52902 0.01719 0.52786 C 0.0375 0.52671 0.10278 0.48925 0.12518 0.47908 E">
                                      <p:cBhvr>
                                        <p:cTn id="417" dur="3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000"/>
                            </p:stCondLst>
                            <p:childTnLst>
                              <p:par>
                                <p:cTn id="41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0834 -0.07884 C 0.22466 0.1563 0.14098 0.39168 0.13542 0.48116 C 0.12986 0.57064 0.25174 0.46197 0.275 0.45804 E">
                                      <p:cBhvr>
                                        <p:cTn id="420" dur="3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5122 -0.09156 C 0.42309 -0.00532000000000001 0.30782 0.32439 0.28455 0.42613 C 0.26129 0.52786 0.2915 0.51769 0.31164 0.51931 C 0.33177 0.52069 0.39775 0.40971 0.40521 0.43468 C 0.41268 0.45942 0.37188 0.63561 0.35608 0.66936 C 0.34028 0.70312 0.2974 0.66821 0.31007 0.63769 C 0.32275 0.60717 0.40677 0.51723 0.43229 0.48555 E">
                                      <p:cBhvr>
                                        <p:cTn id="423" dur="5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1000"/>
                            </p:stCondLst>
                            <p:childTnLst>
                              <p:par>
                                <p:cTn id="4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0799 0.21272 C 0.59236 0.25503 0.52761 0.41387 0.51441 0.46636 C 0.50122 0.51884 0.50729 0.53295 0.52865 0.52763 C 0.55 0.52231 0.61927 0.4541 0.64306 0.43468 E">
                                      <p:cBhvr>
                                        <p:cTn id="426" dur="3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0834 0.21711 C 0.69479 0.26682 0.61789 0.47954 0.62743 0.51514 C 0.63698 0.55075 0.73681 0.44809 0.76563 0.43052 E">
                                      <p:cBhvr>
                                        <p:cTn id="429" dur="3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fill="hold">
                            <p:stCondLst>
                              <p:cond delay="17000"/>
                            </p:stCondLst>
                            <p:childTnLst>
                              <p:par>
                                <p:cTn id="43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917 0.21711 C 0.82118 0.23977 0.79532 0.30751 0.78004 0.35283 C 0.76476 0.39815 0.74462 0.46058 0.73716 0.48971 C 0.72969 0.51884 0.73143 0.51977 0.73559 0.52786 C 0.73976 0.53595 0.74271 0.55191 0.7625 0.53827 C 0.78229 0.52462 0.84896 0.42312 0.85452 0.44532 C 0.86007 0.46751 0.81094 0.64439 0.79566 0.67145 C 0.78039 0.6985 0.74757 0.63977 0.76233 0.60809 C 0.77709 0.57642 0.85903 0.50751 0.88455 0.48116 E">
                                      <p:cBhvr>
                                        <p:cTn id="432" dur="5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826920" y="2637000"/>
            <a:ext cx="1316160" cy="2070000"/>
          </a:xfrm>
          <a:custGeom>
            <a:avLst/>
            <a:gdLst/>
            <a:ahLst/>
            <a:rect l="l" t="t" r="r" b="b"/>
            <a:pathLst>
              <a:path w="829" h="1304">
                <a:moveTo>
                  <a:pt x="498" y="759"/>
                </a:moveTo>
                <a:cubicBezTo>
                  <a:pt x="523" y="748"/>
                  <a:pt x="596" y="689"/>
                  <a:pt x="648" y="693"/>
                </a:cubicBezTo>
                <a:cubicBezTo>
                  <a:pt x="700" y="697"/>
                  <a:pt x="791" y="715"/>
                  <a:pt x="810" y="783"/>
                </a:cubicBezTo>
                <a:cubicBezTo>
                  <a:pt x="829" y="851"/>
                  <a:pt x="812" y="1015"/>
                  <a:pt x="762" y="1101"/>
                </a:cubicBezTo>
                <a:cubicBezTo>
                  <a:pt x="712" y="1187"/>
                  <a:pt x="585" y="1294"/>
                  <a:pt x="510" y="1299"/>
                </a:cubicBezTo>
                <a:cubicBezTo>
                  <a:pt x="435" y="1304"/>
                  <a:pt x="315" y="1232"/>
                  <a:pt x="312" y="1131"/>
                </a:cubicBezTo>
                <a:cubicBezTo>
                  <a:pt x="309" y="1030"/>
                  <a:pt x="419" y="866"/>
                  <a:pt x="494" y="690"/>
                </a:cubicBezTo>
                <a:cubicBezTo>
                  <a:pt x="569" y="514"/>
                  <a:pt x="759" y="150"/>
                  <a:pt x="762" y="75"/>
                </a:cubicBezTo>
                <a:cubicBezTo>
                  <a:pt x="765" y="0"/>
                  <a:pt x="584" y="236"/>
                  <a:pt x="510" y="237"/>
                </a:cubicBezTo>
                <a:cubicBezTo>
                  <a:pt x="436" y="238"/>
                  <a:pt x="403" y="44"/>
                  <a:pt x="318" y="81"/>
                </a:cubicBezTo>
                <a:cubicBezTo>
                  <a:pt x="233" y="118"/>
                  <a:pt x="66" y="380"/>
                  <a:pt x="0" y="4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986520" y="2714760"/>
            <a:ext cx="825480" cy="2023920"/>
          </a:xfrm>
          <a:custGeom>
            <a:avLst/>
            <a:gdLst/>
            <a:ahLst/>
            <a:rect l="l" t="t" r="r" b="b"/>
            <a:pathLst>
              <a:path w="520" h="1275">
                <a:moveTo>
                  <a:pt x="189" y="730"/>
                </a:moveTo>
                <a:cubicBezTo>
                  <a:pt x="214" y="719"/>
                  <a:pt x="287" y="660"/>
                  <a:pt x="339" y="664"/>
                </a:cubicBezTo>
                <a:cubicBezTo>
                  <a:pt x="391" y="668"/>
                  <a:pt x="482" y="686"/>
                  <a:pt x="501" y="754"/>
                </a:cubicBezTo>
                <a:cubicBezTo>
                  <a:pt x="520" y="822"/>
                  <a:pt x="503" y="986"/>
                  <a:pt x="453" y="1072"/>
                </a:cubicBezTo>
                <a:cubicBezTo>
                  <a:pt x="403" y="1158"/>
                  <a:pt x="276" y="1265"/>
                  <a:pt x="201" y="1270"/>
                </a:cubicBezTo>
                <a:cubicBezTo>
                  <a:pt x="126" y="1275"/>
                  <a:pt x="6" y="1203"/>
                  <a:pt x="3" y="1102"/>
                </a:cubicBezTo>
                <a:cubicBezTo>
                  <a:pt x="0" y="1001"/>
                  <a:pt x="108" y="845"/>
                  <a:pt x="185" y="661"/>
                </a:cubicBezTo>
                <a:cubicBezTo>
                  <a:pt x="262" y="477"/>
                  <a:pt x="407" y="138"/>
                  <a:pt x="465" y="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0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754200" y="328284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667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3386160" y="2755800"/>
            <a:ext cx="2376360" cy="2001960"/>
            <a:chOff x="3386160" y="2755800"/>
            <a:chExt cx="2376360" cy="2001960"/>
          </a:xfrm>
        </p:grpSpPr>
        <p:sp>
          <p:nvSpPr>
            <p:cNvPr id="510" name=""/>
            <p:cNvSpPr/>
            <p:nvPr/>
          </p:nvSpPr>
          <p:spPr>
            <a:xfrm>
              <a:off x="3386160" y="2771640"/>
              <a:ext cx="825480" cy="1951200"/>
            </a:xfrm>
            <a:custGeom>
              <a:avLst/>
              <a:gdLst/>
              <a:ahLst/>
              <a:rect l="l" t="t" r="r" b="b"/>
              <a:pathLst>
                <a:path w="520" h="1229">
                  <a:moveTo>
                    <a:pt x="189" y="684"/>
                  </a:moveTo>
                  <a:cubicBezTo>
                    <a:pt x="214" y="673"/>
                    <a:pt x="287" y="614"/>
                    <a:pt x="339" y="618"/>
                  </a:cubicBezTo>
                  <a:cubicBezTo>
                    <a:pt x="391" y="622"/>
                    <a:pt x="482" y="640"/>
                    <a:pt x="501" y="708"/>
                  </a:cubicBezTo>
                  <a:cubicBezTo>
                    <a:pt x="520" y="776"/>
                    <a:pt x="503" y="940"/>
                    <a:pt x="453" y="1026"/>
                  </a:cubicBezTo>
                  <a:cubicBezTo>
                    <a:pt x="403" y="1112"/>
                    <a:pt x="276" y="1219"/>
                    <a:pt x="201" y="1224"/>
                  </a:cubicBezTo>
                  <a:cubicBezTo>
                    <a:pt x="126" y="1229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572000" y="2755800"/>
              <a:ext cx="1190520" cy="2001960"/>
            </a:xfrm>
            <a:custGeom>
              <a:avLst/>
              <a:gdLst/>
              <a:ahLst/>
              <a:rect l="l" t="t" r="r" b="b"/>
              <a:pathLst>
                <a:path w="750" h="1261">
                  <a:moveTo>
                    <a:pt x="750" y="832"/>
                  </a:moveTo>
                  <a:cubicBezTo>
                    <a:pt x="659" y="896"/>
                    <a:pt x="325" y="1187"/>
                    <a:pt x="201" y="1224"/>
                  </a:cubicBezTo>
                  <a:cubicBezTo>
                    <a:pt x="77" y="1261"/>
                    <a:pt x="6" y="1157"/>
                    <a:pt x="3" y="1056"/>
                  </a:cubicBezTo>
                  <a:cubicBezTo>
                    <a:pt x="0" y="955"/>
                    <a:pt x="110" y="791"/>
                    <a:pt x="185" y="615"/>
                  </a:cubicBezTo>
                  <a:cubicBezTo>
                    <a:pt x="260" y="439"/>
                    <a:pt x="408" y="102"/>
                    <a:pt x="453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00680" y="4000680"/>
              <a:ext cx="752400" cy="552240"/>
            </a:xfrm>
            <a:custGeom>
              <a:avLst/>
              <a:gdLst/>
              <a:ahLst/>
              <a:rect l="l" t="t" r="r" b="b"/>
              <a:pathLst>
                <a:path w="474" h="348">
                  <a:moveTo>
                    <a:pt x="474" y="0"/>
                  </a:moveTo>
                  <a:cubicBezTo>
                    <a:pt x="395" y="58"/>
                    <a:pt x="99" y="276"/>
                    <a:pt x="0" y="348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3" name=""/>
          <p:cNvSpPr/>
          <p:nvPr/>
        </p:nvSpPr>
        <p:spPr>
          <a:xfrm>
            <a:off x="4000680" y="440856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964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rot="12875400">
            <a:off x="779400" y="342864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067280" y="268272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1087 C 0.00122 -0.0222 0.03403 -0.07191 0.04757 -0.07862 C 0.06111 -0.08532 0.06024 -0.05041 0.07292 -0.0511 C 0.08559 -0.0518 0.12691 -0.11052 0.12378 -0.08278 C 0.12066 -0.05503 0.06701 0.06797 0.05399 0.11583 C 0.04097 0.1637 0.03681 0.1919 0.04601 0.20462 C 0.05521 0.21734 0.09444 0.21133 0.10955 0.1919 C 0.12465 0.17248 0.1349 0.11445 0.13646 0.08832 C 0.13802 0.06219 0.13038 0.03768 0.1191 0.0356 C 0.10781 0.03352 0.07882 0.06751 0.06823 0.07583 E">
                                      <p:cBhvr>
                                        <p:cTn id="438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000"/>
                            </p:stCondLst>
                            <p:childTnLst>
                              <p:par>
                                <p:cTn id="4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191 -0.01041 C 0.22778 -0.02428 0.25816 -0.08232 0.27135 -0.09341 C 0.28455 -0.10451 0.29097 -0.08509 0.29844 -0.07654 C 0.3059 -0.06798 0.30625 -0.03838 0.3158 -0.04255 C 0.32535 -0.04671 0.36372 -0.13549 0.35556 -0.10174 C 0.3474 -0.06798 0.27674 0.10635 0.26667 0.16023 C 0.2566 0.2141 0.28299 0.21757 0.29514 0.2215 C 0.30729 0.22543 0.32812 0.20046 0.33958 0.18358 C 0.35104 0.1667 0.3625 0.14358 0.36354 0.12023 C 0.36458 0.09688 0.35851 0.05017 0.34601 0.04393 C 0.33351 0.03768 0.30087 0.07422 0.28889 0.08208 E">
                                      <p:cBhvr>
                                        <p:cTn id="441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8000"/>
                            </p:stCondLst>
                            <p:childTnLst>
                              <p:par>
                                <p:cTn id="4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132 0.1815 C 0.35312 0.17133 0.39792 0.13109 0.41267 0.11792 E">
                                      <p:cBhvr>
                                        <p:cTn id="444" dur="2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4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09 -0.08486 C 0.46615 -0.03908 0.39514 0.14266 0.39201 0.18982 C 0.38889 0.23699 0.43906 0.20601 0.46181 0.19838 C 0.48455 0.19075 0.51458 0.15491 0.52847 0.14335 E">
                                      <p:cBhvr>
                                        <p:cTn id="447" dur="5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4983 -0.10035 C 0.73524 -0.05596 0.67187 0.1126 0.66181 0.1667 C 0.65174 0.22081 0.67622 0.21988 0.68889 0.22381 C 0.70156 0.22774 0.72535 0.21086 0.73802 0.18982 C 0.75069 0.16878 0.76354 0.11907 0.7651 0.09688 C 0.76667 0.07468 0.75972 0.05988 0.74757 0.05664 C 0.73542 0.05341 0.70365 0.07352 0.69201 0.07792 E">
                                      <p:cBhvr>
                                        <p:cTn id="450" dur="3000" fill="hold"/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0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98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1395360" y="509760"/>
            <a:ext cx="3670200" cy="4476600"/>
            <a:chOff x="1395360" y="509760"/>
            <a:chExt cx="3670200" cy="4476600"/>
          </a:xfrm>
        </p:grpSpPr>
        <p:sp>
          <p:nvSpPr>
            <p:cNvPr id="102" name=""/>
            <p:cNvSpPr/>
            <p:nvPr/>
          </p:nvSpPr>
          <p:spPr>
            <a:xfrm>
              <a:off x="3635280" y="76356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16360" y="155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395360" y="855720"/>
              <a:ext cx="2251080" cy="4130640"/>
            </a:xfrm>
            <a:custGeom>
              <a:avLst/>
              <a:gdLst/>
              <a:ahLst/>
              <a:rect l="l" t="t" r="r" b="b"/>
              <a:pathLst>
                <a:path w="1418" h="2602">
                  <a:moveTo>
                    <a:pt x="575" y="2231"/>
                  </a:moveTo>
                  <a:cubicBezTo>
                    <a:pt x="581" y="2269"/>
                    <a:pt x="552" y="2426"/>
                    <a:pt x="611" y="2460"/>
                  </a:cubicBezTo>
                  <a:cubicBezTo>
                    <a:pt x="670" y="2494"/>
                    <a:pt x="814" y="2523"/>
                    <a:pt x="931" y="2432"/>
                  </a:cubicBezTo>
                  <a:cubicBezTo>
                    <a:pt x="1048" y="2341"/>
                    <a:pt x="1237" y="2095"/>
                    <a:pt x="1315" y="1911"/>
                  </a:cubicBezTo>
                  <a:cubicBezTo>
                    <a:pt x="1393" y="1727"/>
                    <a:pt x="1418" y="1451"/>
                    <a:pt x="1398" y="1326"/>
                  </a:cubicBezTo>
                  <a:cubicBezTo>
                    <a:pt x="1378" y="1201"/>
                    <a:pt x="1309" y="1159"/>
                    <a:pt x="1196" y="1162"/>
                  </a:cubicBezTo>
                  <a:cubicBezTo>
                    <a:pt x="1083" y="1165"/>
                    <a:pt x="902" y="1192"/>
                    <a:pt x="721" y="1344"/>
                  </a:cubicBezTo>
                  <a:cubicBezTo>
                    <a:pt x="540" y="1496"/>
                    <a:pt x="216" y="1882"/>
                    <a:pt x="108" y="2076"/>
                  </a:cubicBezTo>
                  <a:cubicBezTo>
                    <a:pt x="0" y="2270"/>
                    <a:pt x="17" y="2488"/>
                    <a:pt x="72" y="2506"/>
                  </a:cubicBezTo>
                  <a:cubicBezTo>
                    <a:pt x="127" y="2524"/>
                    <a:pt x="219" y="2602"/>
                    <a:pt x="441" y="2184"/>
                  </a:cubicBezTo>
                  <a:cubicBezTo>
                    <a:pt x="663" y="1766"/>
                    <a:pt x="1206" y="455"/>
                    <a:pt x="1407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2320" y="509760"/>
              <a:ext cx="2973240" cy="1301400"/>
            </a:xfrm>
            <a:custGeom>
              <a:avLst/>
              <a:gdLst/>
              <a:ahLst/>
              <a:rect l="l" t="t" r="r" b="b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4667040" y="509760"/>
            <a:ext cx="3827520" cy="4452480"/>
            <a:chOff x="4667040" y="509760"/>
            <a:chExt cx="3827520" cy="4452480"/>
          </a:xfrm>
        </p:grpSpPr>
        <p:sp>
          <p:nvSpPr>
            <p:cNvPr id="107" name=""/>
            <p:cNvSpPr/>
            <p:nvPr/>
          </p:nvSpPr>
          <p:spPr>
            <a:xfrm rot="1367400">
              <a:off x="5065560" y="2649600"/>
              <a:ext cx="86508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02280" y="509760"/>
              <a:ext cx="2492280" cy="3111480"/>
            </a:xfrm>
            <a:custGeom>
              <a:avLst/>
              <a:gdLst/>
              <a:ahLst/>
              <a:rect l="l" t="t" r="r" b="b"/>
              <a:pathLst>
                <a:path w="1570" h="1960">
                  <a:moveTo>
                    <a:pt x="0" y="1960"/>
                  </a:moveTo>
                  <a:cubicBezTo>
                    <a:pt x="124" y="1686"/>
                    <a:pt x="562" y="630"/>
                    <a:pt x="733" y="315"/>
                  </a:cubicBezTo>
                  <a:cubicBezTo>
                    <a:pt x="904" y="0"/>
                    <a:pt x="886" y="111"/>
                    <a:pt x="1025" y="68"/>
                  </a:cubicBezTo>
                  <a:cubicBezTo>
                    <a:pt x="1164" y="25"/>
                    <a:pt x="1457" y="58"/>
                    <a:pt x="1570" y="55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930640" y="36212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002280" y="3068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12875400">
            <a:off x="3635280" y="105048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11 -0.02338 C -0.04063 0.06944 -0.14827 0.44375 -0.1875 0.53356 C -0.22674 0.62338 -0.24462 0.53819 -0.24688 0.51574 C -0.24914 0.49328 -0.22674 0.44213 -0.20105 0.39884 C -0.17535 0.35555 -0.12518 0.27847 -0.09271 0.25578 C -0.06025 0.2331 -0.01841 0.23403 -0.0066 0.26227 C 0.0052 0.29051 -0.00695 0.37778 -0.02188 0.42523 C -0.03681 0.47268 -0.07674 0.52824 -0.09584 0.54745 C -0.11493 0.56643 -0.12796 0.54884 -0.13646 0.54051 C -0.14497 0.53217 -0.14514 0.50463 -0.14688 0.49745 E">
                                      <p:cBhvr>
                                        <p:cTn id="24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056 0.09953 C -0.09775 0.11203 -0.11476 0.12477 -0.12848 0.11898 C -0.14219 0.11319 -0.1566 0.08565 -0.16285 0.06458 C -0.1691 0.04352 -0.17414 0.00949 -0.16632 -0.0081 C -0.15851 -0.0257 -0.16823 -0.03426 -0.11632 -0.04144 C -0.06441 -0.04861 0.09114 -0.04931 0.14566 -0.05139 E">
                                      <p:cBhvr>
                                        <p:cTn id="27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2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434 0.3287 C 0.26041 0.29097 0.25694 0.27662 0.24809 0.26759 C 0.23923 0.25856 0.22014 0.25231 0.20121 0.27453 C 0.18229 0.29676 0.14687 0.35648 0.13454 0.40092 C 0.12222 0.44537 0.12413 0.51389 0.12725 0.5412 C 0.13038 0.56852 0.13923 0.57268 0.15329 0.56481 C 0.16736 0.55694 0.19427 0.5331 0.21163 0.49398 C 0.22899 0.45486 0.24826 0.36643 0.25434 0.3287 Z">
                                      <p:cBhvr>
                                        <p:cTn id="30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611 0.41504 C 0.25798 0.35 0.33507 0.10069 0.36701 0.02523 C 0.39895 -0.05023 0.40659 -0.02732 0.42829 -0.03727 C 0.45 -0.04722 0.48402 -0.03449 0.49757 -0.03403 C 0.51163 -0.03334 0.50746 -0.03403 0.51007 -0.03403 E">
                                      <p:cBhvr>
                                        <p:cTn id="33" dur="50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3708360" y="2638440"/>
            <a:ext cx="1252440" cy="9360"/>
          </a:xfrm>
          <a:custGeom>
            <a:avLst/>
            <a:gdLst/>
            <a:ahLst/>
            <a:rect l="l" t="t" r="r" b="b"/>
            <a:pathLst>
              <a:path w="789" h="6">
                <a:moveTo>
                  <a:pt x="0" y="0"/>
                </a:moveTo>
                <a:cubicBezTo>
                  <a:pt x="132" y="1"/>
                  <a:pt x="625" y="5"/>
                  <a:pt x="789" y="6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5724360" y="299736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5318280" y="2576520"/>
            <a:ext cx="1276200" cy="2178000"/>
            <a:chOff x="5318280" y="2576520"/>
            <a:chExt cx="1276200" cy="2178000"/>
          </a:xfrm>
        </p:grpSpPr>
        <p:grpSp>
          <p:nvGrpSpPr>
            <p:cNvPr id="520" name=""/>
            <p:cNvGrpSpPr/>
            <p:nvPr/>
          </p:nvGrpSpPr>
          <p:grpSpPr>
            <a:xfrm>
              <a:off x="5318280" y="2576520"/>
              <a:ext cx="1276200" cy="2178000"/>
              <a:chOff x="5318280" y="2576520"/>
              <a:chExt cx="1276200" cy="2178000"/>
            </a:xfrm>
          </p:grpSpPr>
          <p:sp>
            <p:nvSpPr>
              <p:cNvPr id="521" name=""/>
              <p:cNvSpPr/>
              <p:nvPr/>
            </p:nvSpPr>
            <p:spPr>
              <a:xfrm>
                <a:off x="5318280" y="2576520"/>
                <a:ext cx="1276200" cy="2178000"/>
              </a:xfrm>
              <a:custGeom>
                <a:avLst/>
                <a:gdLst/>
                <a:ahLst/>
                <a:rect l="l" t="t" r="r" b="b"/>
                <a:pathLst>
                  <a:path w="804" h="1372">
                    <a:moveTo>
                      <a:pt x="279" y="345"/>
                    </a:moveTo>
                    <a:cubicBezTo>
                      <a:pt x="328" y="296"/>
                      <a:pt x="495" y="86"/>
                      <a:pt x="576" y="43"/>
                    </a:cubicBezTo>
                    <a:cubicBezTo>
                      <a:pt x="657" y="0"/>
                      <a:pt x="730" y="10"/>
                      <a:pt x="764" y="86"/>
                    </a:cubicBezTo>
                    <a:cubicBezTo>
                      <a:pt x="798" y="162"/>
                      <a:pt x="804" y="358"/>
                      <a:pt x="783" y="499"/>
                    </a:cubicBezTo>
                    <a:cubicBezTo>
                      <a:pt x="762" y="640"/>
                      <a:pt x="706" y="802"/>
                      <a:pt x="639" y="931"/>
                    </a:cubicBezTo>
                    <a:cubicBezTo>
                      <a:pt x="572" y="1060"/>
                      <a:pt x="469" y="1203"/>
                      <a:pt x="383" y="1273"/>
                    </a:cubicBezTo>
                    <a:cubicBezTo>
                      <a:pt x="297" y="1343"/>
                      <a:pt x="186" y="1372"/>
                      <a:pt x="125" y="1353"/>
                    </a:cubicBezTo>
                    <a:cubicBezTo>
                      <a:pt x="64" y="1334"/>
                      <a:pt x="30" y="1231"/>
                      <a:pt x="15" y="1161"/>
                    </a:cubicBezTo>
                    <a:cubicBezTo>
                      <a:pt x="0" y="1091"/>
                      <a:pt x="30" y="982"/>
                      <a:pt x="34" y="935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 rot="1212000">
                <a:off x="5740200" y="3501000"/>
                <a:ext cx="792000" cy="288720"/>
              </a:xfrm>
              <a:custGeom>
                <a:avLst/>
                <a:gdLst/>
                <a:ahLst/>
                <a:rect l="l" t="t" r="r" b="b"/>
                <a:pathLst>
                  <a:path w="231" h="11">
                    <a:moveTo>
                      <a:pt x="0" y="0"/>
                    </a:moveTo>
                    <a:cubicBezTo>
                      <a:pt x="40" y="2"/>
                      <a:pt x="193" y="9"/>
                      <a:pt x="231" y="11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" name=""/>
            <p:cNvSpPr/>
            <p:nvPr/>
          </p:nvSpPr>
          <p:spPr>
            <a:xfrm>
              <a:off x="5724360" y="357192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H="1" flipV="1">
              <a:off x="5724360" y="299664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grpSp>
          <p:nvGrpSpPr>
            <p:cNvPr id="526" name=""/>
            <p:cNvGrpSpPr/>
            <p:nvPr/>
          </p:nvGrpSpPr>
          <p:grpSpPr>
            <a:xfrm>
              <a:off x="250920" y="476280"/>
              <a:ext cx="8605800" cy="4392720"/>
              <a:chOff x="250920" y="476280"/>
              <a:chExt cx="8605800" cy="4392720"/>
            </a:xfrm>
          </p:grpSpPr>
          <p:sp>
            <p:nvSpPr>
              <p:cNvPr id="527" name=""/>
              <p:cNvSpPr/>
              <p:nvPr/>
            </p:nvSpPr>
            <p:spPr>
              <a:xfrm>
                <a:off x="250920" y="47628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87280" y="2637000"/>
                <a:ext cx="856944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50920" y="4869000"/>
                <a:ext cx="8569080" cy="0"/>
              </a:xfrm>
              <a:prstGeom prst="line">
                <a:avLst/>
              </a:prstGeom>
              <a:ln w="57240">
                <a:solidFill>
                  <a:srgbClr val="3333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3708360" y="2563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533680" y="507960"/>
              <a:ext cx="2543040" cy="4295880"/>
            </a:xfrm>
            <a:custGeom>
              <a:avLst/>
              <a:gdLst/>
              <a:ahLst/>
              <a:rect l="l" t="t" r="r" b="b"/>
              <a:pathLst>
                <a:path w="1602" h="2706">
                  <a:moveTo>
                    <a:pt x="672" y="436"/>
                  </a:moveTo>
                  <a:cubicBezTo>
                    <a:pt x="747" y="372"/>
                    <a:pt x="983" y="114"/>
                    <a:pt x="1124" y="67"/>
                  </a:cubicBezTo>
                  <a:cubicBezTo>
                    <a:pt x="1265" y="20"/>
                    <a:pt x="1447" y="0"/>
                    <a:pt x="1518" y="153"/>
                  </a:cubicBezTo>
                  <a:cubicBezTo>
                    <a:pt x="1589" y="307"/>
                    <a:pt x="1602" y="702"/>
                    <a:pt x="1558" y="986"/>
                  </a:cubicBezTo>
                  <a:cubicBezTo>
                    <a:pt x="1514" y="1271"/>
                    <a:pt x="1397" y="1597"/>
                    <a:pt x="1256" y="1858"/>
                  </a:cubicBezTo>
                  <a:cubicBezTo>
                    <a:pt x="1116" y="2118"/>
                    <a:pt x="890" y="2415"/>
                    <a:pt x="720" y="2547"/>
                  </a:cubicBezTo>
                  <a:cubicBezTo>
                    <a:pt x="550" y="2679"/>
                    <a:pt x="354" y="2706"/>
                    <a:pt x="234" y="2650"/>
                  </a:cubicBezTo>
                  <a:cubicBezTo>
                    <a:pt x="114" y="2594"/>
                    <a:pt x="49" y="2303"/>
                    <a:pt x="0" y="2212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64000" y="112248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3" name=""/>
          <p:cNvSpPr/>
          <p:nvPr/>
        </p:nvSpPr>
        <p:spPr>
          <a:xfrm rot="12875400">
            <a:off x="3527280" y="12679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0.00023 C 0.01736 -0.01572 0.07674 -0.09086 0.10417 -0.09364 C 0.1316 -0.09641 0.15903 -0.07398 0.16458 -0.01757 C 0.17014 0.03885 0.15208 0.17341 0.1375 0.24463 C 0.12292 0.31584 0.09462 0.36925 0.07726 0.40948 C 0.0599 0.44972 0.05313 0.46474 0.03281 0.48555 C 0.0125 0.50636 -0.02257 0.54636 -0.04496 0.53411 C -0.06736 0.52185 -0.0901 0.437 -0.10208 0.41157 E">
                                      <p:cBhvr>
                                        <p:cTn id="456" dur="5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0"/>
                            </p:stCondLst>
                            <p:childTnLst>
                              <p:par>
                                <p:cTn id="45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9 0.24139 L 0.14184 0.24139 E">
                                      <p:cBhvr>
                                        <p:cTn id="459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7000"/>
                            </p:stCondLst>
                            <p:childTnLst>
                              <p:par>
                                <p:cTn id="46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47 0.37781 L 0.33229 0.37781 E">
                                      <p:cBhvr>
                                        <p:cTn id="462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9000"/>
                            </p:stCondLst>
                            <p:childTnLst>
                              <p:par>
                                <p:cTn id="4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75 0.27422 C 0.25017 0.26405 0.29844 0.2081 0.31372 0.21295 C 0.32899 0.21781 0.33229 0.26798 0.32969 0.30382 C 0.32708 0.33966 0.31059 0.39353 0.29792 0.42844 C 0.28524 0.46336 0.26754 0.49827 0.25347 0.51307 C 0.23941 0.52787 0.22326 0.52995 0.21372 0.51723 C 0.20417 0.50451 0.2 0.45365 0.19635 0.437 E">
                                      <p:cBhvr>
                                        <p:cTn id="465" dur="2000" fill="hold"/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4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35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1044720" y="333360"/>
            <a:ext cx="2190600" cy="4687920"/>
          </a:xfrm>
          <a:custGeom>
            <a:avLst/>
            <a:gdLst/>
            <a:ahLst/>
            <a:rect l="l" t="t" r="r" b="b"/>
            <a:pathLst>
              <a:path w="1380" h="2953">
                <a:moveTo>
                  <a:pt x="1216" y="1463"/>
                </a:moveTo>
                <a:cubicBezTo>
                  <a:pt x="1108" y="1504"/>
                  <a:pt x="739" y="1600"/>
                  <a:pt x="567" y="1710"/>
                </a:cubicBezTo>
                <a:cubicBezTo>
                  <a:pt x="395" y="1820"/>
                  <a:pt x="276" y="1980"/>
                  <a:pt x="183" y="2121"/>
                </a:cubicBezTo>
                <a:cubicBezTo>
                  <a:pt x="90" y="2262"/>
                  <a:pt x="0" y="2469"/>
                  <a:pt x="9" y="2560"/>
                </a:cubicBezTo>
                <a:cubicBezTo>
                  <a:pt x="18" y="2651"/>
                  <a:pt x="64" y="2953"/>
                  <a:pt x="239" y="2669"/>
                </a:cubicBezTo>
                <a:cubicBezTo>
                  <a:pt x="414" y="2385"/>
                  <a:pt x="874" y="1282"/>
                  <a:pt x="1062" y="854"/>
                </a:cubicBezTo>
                <a:cubicBezTo>
                  <a:pt x="1250" y="426"/>
                  <a:pt x="1348" y="200"/>
                  <a:pt x="1364" y="100"/>
                </a:cubicBezTo>
                <a:cubicBezTo>
                  <a:pt x="1380" y="0"/>
                  <a:pt x="1257" y="168"/>
                  <a:pt x="1161" y="256"/>
                </a:cubicBezTo>
                <a:cubicBezTo>
                  <a:pt x="1065" y="344"/>
                  <a:pt x="866" y="552"/>
                  <a:pt x="788" y="630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rot="1367400">
            <a:off x="3058920" y="406440"/>
            <a:ext cx="1928520" cy="4459320"/>
          </a:xfrm>
          <a:prstGeom prst="ellipse">
            <a:avLst/>
          </a:prstGeom>
          <a:noFill/>
          <a:ln w="152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268360" y="119700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14836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5410080" y="2592720"/>
            <a:ext cx="2298960" cy="2392920"/>
            <a:chOff x="5410080" y="2592720"/>
            <a:chExt cx="2298960" cy="2392920"/>
          </a:xfrm>
        </p:grpSpPr>
        <p:sp>
          <p:nvSpPr>
            <p:cNvPr id="543" name=""/>
            <p:cNvSpPr/>
            <p:nvPr/>
          </p:nvSpPr>
          <p:spPr>
            <a:xfrm>
              <a:off x="5410080" y="2673360"/>
              <a:ext cx="914400" cy="2095560"/>
            </a:xfrm>
            <a:custGeom>
              <a:avLst/>
              <a:gdLst/>
              <a:ahLst/>
              <a:rect l="l" t="t" r="r" b="b"/>
              <a:pathLst>
                <a:path w="576" h="1320">
                  <a:moveTo>
                    <a:pt x="0" y="1320"/>
                  </a:moveTo>
                  <a:cubicBezTo>
                    <a:pt x="96" y="1100"/>
                    <a:pt x="456" y="275"/>
                    <a:pt x="57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5834160" y="3730680"/>
              <a:ext cx="538200" cy="33120"/>
            </a:xfrm>
            <a:custGeom>
              <a:avLst/>
              <a:gdLst/>
              <a:ahLst/>
              <a:rect l="l" t="t" r="r" b="b"/>
              <a:pathLst>
                <a:path w="339" h="21">
                  <a:moveTo>
                    <a:pt x="0" y="18"/>
                  </a:moveTo>
                  <a:cubicBezTo>
                    <a:pt x="29" y="18"/>
                    <a:pt x="109" y="21"/>
                    <a:pt x="165" y="18"/>
                  </a:cubicBezTo>
                  <a:cubicBezTo>
                    <a:pt x="221" y="15"/>
                    <a:pt x="303" y="4"/>
                    <a:pt x="3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1367400">
              <a:off x="6445080" y="267300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834160" y="36576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381800" y="299736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251400" y="26352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9" name=""/>
          <p:cNvSpPr/>
          <p:nvPr/>
        </p:nvSpPr>
        <p:spPr>
          <a:xfrm rot="12875400">
            <a:off x="2268360" y="141264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-7.40741E-007 C 0.05312 -0.09421 0.10625 -0.18819 0.09062 -0.10856 C 0.075 -0.02893 -0.0632 0.40764 -0.09375 0.47917 C -0.12431 0.5507 -0.11945 0.36574 -0.09271 0.32037 C -0.06598 0.2757 0.000340000000000007 0.24236 0.06666 0.20926 E">
                                      <p:cBhvr>
                                        <p:cTn id="471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2000"/>
                            </p:stCondLst>
                            <p:childTnLst>
                              <p:par>
                                <p:cTn id="47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632 -0.01737 C 0.31354 -0.04514 0.31076 -0.07269 0.30069 -0.08959 C 0.29062 -0.10649 0.27743 -0.12593 0.2559 -0.11875 C 0.23437 -0.11158 0.2026 -0.09815 0.17152 -0.04653 C 0.14045 0.00509 0.09045 0.11921 0.06944 0.19097 C 0.04843 0.26273 0.04323 0.33495 0.04548 0.38402 C 0.04774 0.4331 0.06527 0.4699 0.08298 0.48541 C 0.10069 0.50092 0.12413 0.50254 0.15173 0.47708 C 0.17934 0.45162 0.22152 0.39166 0.24861 0.33263 C 0.27569 0.27361 0.30277 0.17962 0.31423 0.12291 C 0.32569 0.0662 0.32152 0.02916 0.31736 -0.00764 E">
                                      <p:cBhvr>
                                        <p:cTn id="474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7000"/>
                            </p:stCondLst>
                            <p:childTnLst>
                              <p:par>
                                <p:cTn id="47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2587 0.20671 C 0.40955 0.25601 0.34427 0.45324 0.32795 0.50254 E">
                                      <p:cBhvr>
                                        <p:cTn id="477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7691 0.35717 C 0.40208 0.35763 0.42725 0.35833 0.43732 0.35856 E">
                                      <p:cBhvr>
                                        <p:cTn id="480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1" fill="hold">
                            <p:stCondLst>
                              <p:cond delay="14000"/>
                            </p:stCondLst>
                            <p:childTnLst>
                              <p:par>
                                <p:cTn id="48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816 0.25277 C 0.55955 0.22476 0.5592 0.2162 0.54982 0.21111 C 0.54045 0.20601 0.51962 0.19884 0.50191 0.22222 C 0.4842 0.2456 0.45625 0.3118 0.44357 0.35138 C 0.4309 0.39097 0.42587 0.43333 0.42587 0.45972 C 0.42587 0.48611 0.4335 0.50416 0.44357 0.50972 C 0.45364 0.51527 0.46996 0.51481 0.48628 0.49305 C 0.5026 0.47129 0.52968 0.42013 0.54149 0.37916 C 0.5533 0.33819 0.55677 0.28078 0.55816 0.25277 Z">
                                      <p:cBhvr>
                                        <p:cTn id="483" dur="5000" fill="hold"/>
                                        <p:tgtEl>
                                          <p:spTgt spid="5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0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551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1547640" y="395640"/>
            <a:ext cx="3456000" cy="4473360"/>
            <a:chOff x="1547640" y="395640"/>
            <a:chExt cx="3456000" cy="4473360"/>
          </a:xfrm>
        </p:grpSpPr>
        <p:sp>
          <p:nvSpPr>
            <p:cNvPr id="555" name=""/>
            <p:cNvSpPr/>
            <p:nvPr/>
          </p:nvSpPr>
          <p:spPr>
            <a:xfrm>
              <a:off x="1547640" y="620640"/>
              <a:ext cx="3456000" cy="4248360"/>
            </a:xfrm>
            <a:custGeom>
              <a:avLst/>
              <a:gdLst/>
              <a:ahLst/>
              <a:rect l="l" t="t" r="r" b="b"/>
              <a:pathLst>
                <a:path w="1801" h="2417">
                  <a:moveTo>
                    <a:pt x="22" y="2019"/>
                  </a:moveTo>
                  <a:cubicBezTo>
                    <a:pt x="11" y="2091"/>
                    <a:pt x="0" y="2164"/>
                    <a:pt x="22" y="2226"/>
                  </a:cubicBezTo>
                  <a:cubicBezTo>
                    <a:pt x="44" y="2288"/>
                    <a:pt x="79" y="2377"/>
                    <a:pt x="153" y="2391"/>
                  </a:cubicBezTo>
                  <a:cubicBezTo>
                    <a:pt x="227" y="2406"/>
                    <a:pt x="346" y="2417"/>
                    <a:pt x="466" y="2316"/>
                  </a:cubicBezTo>
                  <a:cubicBezTo>
                    <a:pt x="585" y="2214"/>
                    <a:pt x="648" y="2167"/>
                    <a:pt x="871" y="1781"/>
                  </a:cubicBezTo>
                  <a:cubicBezTo>
                    <a:pt x="1094" y="1395"/>
                    <a:pt x="1607" y="371"/>
                    <a:pt x="1801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1367400">
              <a:off x="3492360" y="4759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14800" y="566640"/>
              <a:ext cx="1788840" cy="4302360"/>
            </a:xfrm>
            <a:custGeom>
              <a:avLst/>
              <a:gdLst/>
              <a:ahLst/>
              <a:rect l="l" t="t" r="r" b="b"/>
              <a:pathLst>
                <a:path w="1036" h="2607">
                  <a:moveTo>
                    <a:pt x="834" y="2200"/>
                  </a:moveTo>
                  <a:cubicBezTo>
                    <a:pt x="728" y="2262"/>
                    <a:pt x="336" y="2539"/>
                    <a:pt x="199" y="2573"/>
                  </a:cubicBezTo>
                  <a:cubicBezTo>
                    <a:pt x="62" y="2607"/>
                    <a:pt x="0" y="2558"/>
                    <a:pt x="14" y="2407"/>
                  </a:cubicBezTo>
                  <a:cubicBezTo>
                    <a:pt x="28" y="2256"/>
                    <a:pt x="114" y="2068"/>
                    <a:pt x="284" y="1667"/>
                  </a:cubicBezTo>
                  <a:cubicBezTo>
                    <a:pt x="454" y="1266"/>
                    <a:pt x="879" y="347"/>
                    <a:pt x="10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"/>
          <p:cNvSpPr/>
          <p:nvPr/>
        </p:nvSpPr>
        <p:spPr>
          <a:xfrm>
            <a:off x="4930920" y="493560"/>
            <a:ext cx="144360" cy="14472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547640" y="407664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61" name="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/>
              <a:ahLst/>
              <a:rect l="l" t="t" r="r" b="b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/>
              <a:ahLst/>
              <a:rect l="l" t="t" r="r" b="b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5578560" y="407664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380360" y="26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rot="12875400">
            <a:off x="1547640" y="422064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5638680" y="2568960"/>
            <a:ext cx="2190960" cy="2323800"/>
            <a:chOff x="5638680" y="2568960"/>
            <a:chExt cx="2190960" cy="2323800"/>
          </a:xfrm>
        </p:grpSpPr>
        <p:sp>
          <p:nvSpPr>
            <p:cNvPr id="568" name=""/>
            <p:cNvSpPr/>
            <p:nvPr/>
          </p:nvSpPr>
          <p:spPr>
            <a:xfrm>
              <a:off x="5638680" y="2724120"/>
              <a:ext cx="1809720" cy="2127240"/>
            </a:xfrm>
            <a:custGeom>
              <a:avLst/>
              <a:gdLst/>
              <a:ahLst/>
              <a:rect l="l" t="t" r="r" b="b"/>
              <a:pathLst>
                <a:path w="1140" h="1340">
                  <a:moveTo>
                    <a:pt x="19" y="862"/>
                  </a:moveTo>
                  <a:cubicBezTo>
                    <a:pt x="18" y="911"/>
                    <a:pt x="0" y="1084"/>
                    <a:pt x="14" y="1154"/>
                  </a:cubicBezTo>
                  <a:cubicBezTo>
                    <a:pt x="28" y="1224"/>
                    <a:pt x="38" y="1289"/>
                    <a:pt x="106" y="1284"/>
                  </a:cubicBezTo>
                  <a:cubicBezTo>
                    <a:pt x="174" y="1279"/>
                    <a:pt x="250" y="1340"/>
                    <a:pt x="422" y="1126"/>
                  </a:cubicBezTo>
                  <a:cubicBezTo>
                    <a:pt x="594" y="912"/>
                    <a:pt x="991" y="235"/>
                    <a:pt x="1140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1528800">
              <a:off x="6516360" y="2637000"/>
              <a:ext cx="577800" cy="115236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630840" y="2708280"/>
              <a:ext cx="1198800" cy="2184480"/>
            </a:xfrm>
            <a:custGeom>
              <a:avLst/>
              <a:gdLst/>
              <a:ahLst/>
              <a:rect l="l" t="t" r="r" b="b"/>
              <a:pathLst>
                <a:path w="755" h="1421">
                  <a:moveTo>
                    <a:pt x="755" y="966"/>
                  </a:moveTo>
                  <a:cubicBezTo>
                    <a:pt x="666" y="1034"/>
                    <a:pt x="346" y="1339"/>
                    <a:pt x="221" y="1380"/>
                  </a:cubicBezTo>
                  <a:cubicBezTo>
                    <a:pt x="96" y="1421"/>
                    <a:pt x="10" y="1314"/>
                    <a:pt x="5" y="1212"/>
                  </a:cubicBezTo>
                  <a:cubicBezTo>
                    <a:pt x="0" y="1110"/>
                    <a:pt x="102" y="970"/>
                    <a:pt x="191" y="768"/>
                  </a:cubicBezTo>
                  <a:cubicBezTo>
                    <a:pt x="280" y="566"/>
                    <a:pt x="467" y="160"/>
                    <a:pt x="53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4.07407E-006 C -0.00313 0.01782 -0.00608 0.03588 -0.00313 0.05138 C -0.00018 0.06689 0.00538 0.08657 0.01771 0.09305 C 0.03003 0.09953 0.05052 0.10416 0.07083 0.09027 C 0.09114 0.07638 0.1085 0.06574 0.13958 0.00972 C 0.17066 -0.0463 0.22778 -0.17176 0.25729 -0.24584 C 0.2868 -0.31991 0.30955 -0.38681 0.31666 -0.43473 C 0.32378 -0.48264 0.31302 -0.52547 0.3 -0.53334 C 0.28698 -0.54121 0.25694 -0.51412 0.23854 -0.48195 C 0.22014 -0.44977 0.1967 -0.38056 0.18958 -0.34028 C 0.18246 -0.3 0.18906 -0.25834 0.19583 -0.24028 C 0.2026 -0.22223 0.21701 -0.22315 0.23021 -0.23195 C 0.2434 -0.24074 0.2592 -0.2669 0.275 -0.29306 E">
                                      <p:cBhvr>
                                        <p:cTn id="493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25000"/>
                            </p:stCondLst>
                            <p:childTnLst>
                              <p:par>
                                <p:cTn id="495" nodeType="afterEffect" fill="hold" presetClass="path" presetID="0" repeatCount="5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6875 -0.51436 C 0.32743 -0.40741 0.28611 -0.30047 0.25521 -0.21574 C 0.2243 -0.13125 0.19705 -0.05787 0.18333 -0.00602 C 0.16962 0.04583 0.16927 0.07708 0.17291 0.09537 C 0.17656 0.11365 0.18038 0.11643 0.20521 0.1037 C 0.23003 0.09097 0.27587 0.05486 0.32187 0.01898 E">
                                      <p:cBhvr>
                                        <p:cTn id="496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194 0.01157 C 0.43055 0.03935 0.42916 0.06736 0.43403 0.0824 C 0.43889 0.09745 0.45191 0.10185 0.46111 0.10185 C 0.47031 0.10185 0.46823 0.11643 0.48923 0.0824 C 0.51024 0.04838 0.56927 -0.05579 0.58715 -0.10232 C 0.60503 -0.14885 0.60034 -0.1794 0.59653 -0.19676 C 0.59271 -0.21412 0.57656 -0.21574 0.56423 -0.20649 C 0.55191 -0.19723 0.52986 -0.16366 0.52257 -0.14121 C 0.51528 -0.11875 0.51701 -0.08635 0.52048 -0.07176 C 0.52396 -0.05718 0.53455 -0.05348 0.5434 -0.05371 C 0.55225 -0.05394 0.56823 -0.06968 0.57361 -0.07315 E">
                                      <p:cBhvr>
                                        <p:cTn id="500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0"/>
                            </p:stCondLst>
                            <p:childTnLst>
                              <p:par>
                                <p:cTn id="5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3073 -0.20116 C 0.59826 -0.11783 0.56597 -0.03426 0.55156 0.01412 C 0.53715 0.0625 0.5408 0.07314 0.54427 0.08912 C 0.54774 0.10509 0.55191 0.12245 0.57239 0.10995 C 0.59288 0.09745 0.64739 0.03426 0.66719 0.01435 E">
                                      <p:cBhvr>
                                        <p:cTn id="503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1" name=""/>
          <p:cNvGrpSpPr/>
          <p:nvPr/>
        </p:nvGrpSpPr>
        <p:grpSpPr>
          <a:xfrm>
            <a:off x="250920" y="907920"/>
            <a:ext cx="8605800" cy="4392720"/>
            <a:chOff x="250920" y="907920"/>
            <a:chExt cx="8605800" cy="4392720"/>
          </a:xfrm>
        </p:grpSpPr>
        <p:sp>
          <p:nvSpPr>
            <p:cNvPr id="572" name=""/>
            <p:cNvSpPr/>
            <p:nvPr/>
          </p:nvSpPr>
          <p:spPr>
            <a:xfrm>
              <a:off x="250920" y="9079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87280" y="306864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50920" y="530064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1042920" y="1511280"/>
            <a:ext cx="691380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Презентацию выполнила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Марченко Вера Владимиров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E-mail: 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Arial"/>
              </a:rPr>
              <a:t>vermarchenk@yandex.r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042920" y="6172200"/>
            <a:ext cx="727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ы скачали презентацию на сайте -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</a:rPr>
              <a:t>Viki.rdf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89040" y="466560"/>
            <a:ext cx="3149640" cy="4640400"/>
          </a:xfrm>
          <a:custGeom>
            <a:avLst/>
            <a:gdLst/>
            <a:ahLst/>
            <a:rect l="l" t="t" r="r" b="b"/>
            <a:pathLst>
              <a:path w="1984" h="2923">
                <a:moveTo>
                  <a:pt x="553" y="2513"/>
                </a:moveTo>
                <a:cubicBezTo>
                  <a:pt x="562" y="2540"/>
                  <a:pt x="557" y="2639"/>
                  <a:pt x="608" y="2677"/>
                </a:cubicBezTo>
                <a:cubicBezTo>
                  <a:pt x="659" y="2715"/>
                  <a:pt x="766" y="2768"/>
                  <a:pt x="859" y="2742"/>
                </a:cubicBezTo>
                <a:cubicBezTo>
                  <a:pt x="952" y="2716"/>
                  <a:pt x="1066" y="2658"/>
                  <a:pt x="1165" y="2520"/>
                </a:cubicBezTo>
                <a:cubicBezTo>
                  <a:pt x="1264" y="2382"/>
                  <a:pt x="1405" y="2065"/>
                  <a:pt x="1453" y="1914"/>
                </a:cubicBezTo>
                <a:cubicBezTo>
                  <a:pt x="1501" y="1763"/>
                  <a:pt x="1473" y="1694"/>
                  <a:pt x="1453" y="1614"/>
                </a:cubicBezTo>
                <a:cubicBezTo>
                  <a:pt x="1433" y="1534"/>
                  <a:pt x="1382" y="1473"/>
                  <a:pt x="1333" y="1434"/>
                </a:cubicBezTo>
                <a:cubicBezTo>
                  <a:pt x="1284" y="1395"/>
                  <a:pt x="1216" y="1393"/>
                  <a:pt x="1159" y="1380"/>
                </a:cubicBezTo>
                <a:cubicBezTo>
                  <a:pt x="1102" y="1367"/>
                  <a:pt x="929" y="1411"/>
                  <a:pt x="991" y="1356"/>
                </a:cubicBezTo>
                <a:cubicBezTo>
                  <a:pt x="1053" y="1301"/>
                  <a:pt x="1380" y="1180"/>
                  <a:pt x="1532" y="1050"/>
                </a:cubicBezTo>
                <a:cubicBezTo>
                  <a:pt x="1684" y="920"/>
                  <a:pt x="1841" y="733"/>
                  <a:pt x="1906" y="575"/>
                </a:cubicBezTo>
                <a:cubicBezTo>
                  <a:pt x="1971" y="417"/>
                  <a:pt x="1984" y="169"/>
                  <a:pt x="1925" y="99"/>
                </a:cubicBezTo>
                <a:cubicBezTo>
                  <a:pt x="1866" y="29"/>
                  <a:pt x="1737" y="0"/>
                  <a:pt x="1550" y="154"/>
                </a:cubicBezTo>
                <a:cubicBezTo>
                  <a:pt x="1363" y="308"/>
                  <a:pt x="1022" y="718"/>
                  <a:pt x="800" y="1023"/>
                </a:cubicBezTo>
                <a:cubicBezTo>
                  <a:pt x="578" y="1328"/>
                  <a:pt x="343" y="1723"/>
                  <a:pt x="215" y="1983"/>
                </a:cubicBezTo>
                <a:cubicBezTo>
                  <a:pt x="87" y="2243"/>
                  <a:pt x="0" y="2499"/>
                  <a:pt x="32" y="2586"/>
                </a:cubicBezTo>
                <a:cubicBezTo>
                  <a:pt x="64" y="2673"/>
                  <a:pt x="169" y="2923"/>
                  <a:pt x="407" y="2504"/>
                </a:cubicBezTo>
                <a:cubicBezTo>
                  <a:pt x="645" y="2085"/>
                  <a:pt x="1239" y="579"/>
                  <a:pt x="1458" y="72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47628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280" y="2637000"/>
            <a:ext cx="8569440" cy="0"/>
          </a:xfrm>
          <a:prstGeom prst="line">
            <a:avLst/>
          </a:prstGeom>
          <a:ln w="5724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4869000"/>
            <a:ext cx="85690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546120"/>
            <a:ext cx="14472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951440" y="479520"/>
            <a:ext cx="2503440" cy="4393440"/>
            <a:chOff x="4951440" y="479520"/>
            <a:chExt cx="2503440" cy="4393440"/>
          </a:xfrm>
        </p:grpSpPr>
        <p:sp>
          <p:nvSpPr>
            <p:cNvPr id="118" name=""/>
            <p:cNvSpPr/>
            <p:nvPr/>
          </p:nvSpPr>
          <p:spPr>
            <a:xfrm>
              <a:off x="4951440" y="3352680"/>
              <a:ext cx="144360" cy="14400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1367400">
              <a:off x="5384520" y="2560680"/>
              <a:ext cx="865080" cy="223164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060880" y="479520"/>
              <a:ext cx="2394000" cy="2903400"/>
            </a:xfrm>
            <a:custGeom>
              <a:avLst/>
              <a:gdLst/>
              <a:ahLst/>
              <a:rect l="l" t="t" r="r" b="b"/>
              <a:pathLst>
                <a:path w="1508" h="1829">
                  <a:moveTo>
                    <a:pt x="0" y="1829"/>
                  </a:moveTo>
                  <a:cubicBezTo>
                    <a:pt x="192" y="1653"/>
                    <a:pt x="910" y="1018"/>
                    <a:pt x="1153" y="774"/>
                  </a:cubicBezTo>
                  <a:cubicBezTo>
                    <a:pt x="1396" y="530"/>
                    <a:pt x="1410" y="486"/>
                    <a:pt x="1459" y="365"/>
                  </a:cubicBezTo>
                  <a:cubicBezTo>
                    <a:pt x="1508" y="244"/>
                    <a:pt x="1490" y="98"/>
                    <a:pt x="1450" y="49"/>
                  </a:cubicBezTo>
                  <a:cubicBezTo>
                    <a:pt x="1410" y="0"/>
                    <a:pt x="1308" y="9"/>
                    <a:pt x="1218" y="68"/>
                  </a:cubicBezTo>
                  <a:cubicBezTo>
                    <a:pt x="1128" y="127"/>
                    <a:pt x="1066" y="118"/>
                    <a:pt x="911" y="403"/>
                  </a:cubicBezTo>
                  <a:cubicBezTo>
                    <a:pt x="756" y="688"/>
                    <a:pt x="419" y="1491"/>
                    <a:pt x="289" y="177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 rot="12875400">
            <a:off x="3774960" y="69012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22222E-006 C -0.06285 0.21111 -0.12552 0.42222 -0.1625 0.52222 C -0.19948 0.62222 -0.2092 0.59699 -0.22223 0.6 C -0.23525 0.60301 -0.24723 0.58148 -0.24028 0.54074 C -0.23334 0.5 -0.21962 0.44005 -0.18056 0.35556 C -0.1415 0.27107 -0.04566 0.09422 -0.00556 0.03334 C 0.03455 -0.02754 0.04444 -0.00555 0.05972 -0.00926 C 0.075 -0.01296 0.08177 -0.0081 0.08611 0.01111 C 0.09045 0.03033 0.09739 0.07107 0.08611 0.10556 C 0.07482 0.14005 0.04409 0.18797 0.01805 0.21852 C -0.00799 0.24908 -0.06111 0.27662 -0.07084 0.28889 C -0.08056 0.30116 -0.05122 0.28797 -0.04028 0.29259 C -0.02934 0.29722 -0.01389 0.3007 -0.00556 0.31667 C 0.00277 0.33218 0.01805 0.34514 0.00972 0.38889 C 0.00139 0.43264 -0.03594 0.54352 -0.05556 0.57963 C -0.07518 0.61574 -0.09427 0.60185 -0.10834 0.60556 C -0.1224 0.60926 -0.13264 0.60857 -0.14028 0.60185 C -0.14792 0.59514 -0.15104 0.57986 -0.15417 0.56482 E">
                                      <p:cBhvr>
                                        <p:cTn id="39" dur="10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056 0.40556 C 0.20348 0.32593 0.27639 0.24722 0.31945 0.18889 C 0.3625 0.13033 0.37969 0.08796 0.38889 0.05556 C 0.39809 0.02315 0.39167 -0.0081 0.375 -0.00555 C 0.35834 -0.00301 0.325 -0.00856 0.28889 0.07037 C 0.25278 0.14931 0.17709 0.37847 0.15834 0.46852 C 0.13959 0.5581 0.1632 0.5963 0.17639 0.60926 C 0.18959 0.62222 0.22136 0.57778 0.2375 0.5463 C 0.25365 0.51482 0.26754 0.45579 0.27362 0.42037 C 0.27969 0.38495 0.2783 0.35278 0.27362 0.33333 C 0.26893 0.31389 0.25834 0.30023 0.24584 0.3037 C 0.23334 0.30718 0.20851 0.34329 0.19862 0.3537 E">
                                      <p:cBhvr>
                                        <p:cTn id="42" dur="7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23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1547640" y="498600"/>
            <a:ext cx="3996000" cy="4421160"/>
            <a:chOff x="1547640" y="498600"/>
            <a:chExt cx="3996000" cy="4421160"/>
          </a:xfrm>
        </p:grpSpPr>
        <p:sp>
          <p:nvSpPr>
            <p:cNvPr id="127" name=""/>
            <p:cNvSpPr/>
            <p:nvPr/>
          </p:nvSpPr>
          <p:spPr>
            <a:xfrm>
              <a:off x="1547640" y="830160"/>
              <a:ext cx="2570400" cy="4089600"/>
            </a:xfrm>
            <a:custGeom>
              <a:avLst/>
              <a:gdLst/>
              <a:ahLst/>
              <a:rect l="l" t="t" r="r" b="b"/>
              <a:pathLst>
                <a:path w="1619" h="2576">
                  <a:moveTo>
                    <a:pt x="0" y="2057"/>
                  </a:moveTo>
                  <a:cubicBezTo>
                    <a:pt x="9" y="2110"/>
                    <a:pt x="17" y="2301"/>
                    <a:pt x="55" y="2377"/>
                  </a:cubicBezTo>
                  <a:cubicBezTo>
                    <a:pt x="93" y="2453"/>
                    <a:pt x="148" y="2524"/>
                    <a:pt x="229" y="2515"/>
                  </a:cubicBezTo>
                  <a:cubicBezTo>
                    <a:pt x="310" y="2506"/>
                    <a:pt x="382" y="2576"/>
                    <a:pt x="540" y="2323"/>
                  </a:cubicBezTo>
                  <a:cubicBezTo>
                    <a:pt x="698" y="2070"/>
                    <a:pt x="1000" y="1384"/>
                    <a:pt x="1180" y="997"/>
                  </a:cubicBezTo>
                  <a:cubicBezTo>
                    <a:pt x="1360" y="610"/>
                    <a:pt x="1528" y="208"/>
                    <a:pt x="1619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70040" y="498600"/>
              <a:ext cx="2973600" cy="1301760"/>
            </a:xfrm>
            <a:custGeom>
              <a:avLst/>
              <a:gdLst/>
              <a:ahLst/>
              <a:rect l="l" t="t" r="r" b="b"/>
              <a:pathLst>
                <a:path w="1873" h="820">
                  <a:moveTo>
                    <a:pt x="529" y="721"/>
                  </a:moveTo>
                  <a:cubicBezTo>
                    <a:pt x="476" y="729"/>
                    <a:pt x="291" y="820"/>
                    <a:pt x="209" y="767"/>
                  </a:cubicBezTo>
                  <a:cubicBezTo>
                    <a:pt x="127" y="714"/>
                    <a:pt x="0" y="518"/>
                    <a:pt x="35" y="401"/>
                  </a:cubicBezTo>
                  <a:cubicBezTo>
                    <a:pt x="70" y="284"/>
                    <a:pt x="116" y="128"/>
                    <a:pt x="422" y="64"/>
                  </a:cubicBezTo>
                  <a:cubicBezTo>
                    <a:pt x="728" y="0"/>
                    <a:pt x="1571" y="27"/>
                    <a:pt x="1873" y="1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057560" y="752400"/>
              <a:ext cx="14472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265560" y="15462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5021280" y="2724120"/>
            <a:ext cx="1859040" cy="2216160"/>
            <a:chOff x="5021280" y="2724120"/>
            <a:chExt cx="1859040" cy="2216160"/>
          </a:xfrm>
        </p:grpSpPr>
        <p:sp>
          <p:nvSpPr>
            <p:cNvPr id="132" name=""/>
            <p:cNvSpPr/>
            <p:nvPr/>
          </p:nvSpPr>
          <p:spPr>
            <a:xfrm>
              <a:off x="5021280" y="2724120"/>
              <a:ext cx="1859040" cy="2216160"/>
            </a:xfrm>
            <a:custGeom>
              <a:avLst/>
              <a:gdLst/>
              <a:ahLst/>
              <a:rect l="l" t="t" r="r" b="b"/>
              <a:pathLst>
                <a:path w="1171" h="1396">
                  <a:moveTo>
                    <a:pt x="1171" y="899"/>
                  </a:moveTo>
                  <a:cubicBezTo>
                    <a:pt x="1075" y="974"/>
                    <a:pt x="725" y="1316"/>
                    <a:pt x="596" y="1356"/>
                  </a:cubicBezTo>
                  <a:cubicBezTo>
                    <a:pt x="467" y="1396"/>
                    <a:pt x="361" y="1330"/>
                    <a:pt x="394" y="1137"/>
                  </a:cubicBezTo>
                  <a:cubicBezTo>
                    <a:pt x="427" y="944"/>
                    <a:pt x="772" y="376"/>
                    <a:pt x="796" y="195"/>
                  </a:cubicBezTo>
                  <a:cubicBezTo>
                    <a:pt x="820" y="14"/>
                    <a:pt x="673" y="0"/>
                    <a:pt x="540" y="49"/>
                  </a:cubicBezTo>
                  <a:cubicBezTo>
                    <a:pt x="407" y="98"/>
                    <a:pt x="112" y="396"/>
                    <a:pt x="0" y="487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21280" y="335592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2875400">
            <a:off x="4057560" y="896400"/>
            <a:ext cx="649440" cy="14472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7037E-006 C -0.02917 0.08357 -0.13542 0.40556 -0.175 0.50139 C -0.21459 0.59723 -0.22205 0.56991 -0.2375 0.57524 C -0.25295 0.58056 -0.26042 0.55139 -0.26806 0.53287 C -0.2757 0.51436 -0.28021 0.47871 -0.28334 0.46436 E">
                                      <p:cBhvr>
                                        <p:cTn id="48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8438 0.12824 C -0.09723 0.13542 -0.11007 0.14283 -0.12188 0.13565 C -0.13368 0.12848 -0.15035 0.10579 -0.15521 0.08565 C -0.16007 0.06551 -0.15938 0.03311 -0.15104 0.01528 C -0.14271 -0.00254 -0.15729 -0.01551 -0.10521 -0.02176 C -0.05313 -0.02801 0.10573 -0.02245 0.16111 -0.02268 E">
                                      <p:cBhvr>
                                        <p:cTn id="51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7000"/>
                            </p:stCondLst>
                            <p:childTnLst>
                              <p:par>
                                <p:cTn id="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9965 0.39977 C 0.12951 0.36528 0.15937 0.33102 0.18021 0.31459 C 0.20104 0.29815 0.2151 0.29584 0.22465 0.30162 C 0.2342 0.30741 0.24705 0.3044 0.23715 0.34977 C 0.22725 0.39514 0.17118 0.53079 0.16493 0.57385 C 0.15868 0.6169 0.17899 0.61922 0.19965 0.60903 C 0.22031 0.59885 0.27274 0.52871 0.28854 0.51274 E">
                                      <p:cBhvr>
                                        <p:cTn id="54" dur="5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"/>
          <p:cNvGrpSpPr/>
          <p:nvPr/>
        </p:nvGrpSpPr>
        <p:grpSpPr>
          <a:xfrm>
            <a:off x="250920" y="549360"/>
            <a:ext cx="8605800" cy="4392360"/>
            <a:chOff x="250920" y="549360"/>
            <a:chExt cx="8605800" cy="4392360"/>
          </a:xfrm>
        </p:grpSpPr>
        <p:sp>
          <p:nvSpPr>
            <p:cNvPr id="136" name=""/>
            <p:cNvSpPr/>
            <p:nvPr/>
          </p:nvSpPr>
          <p:spPr>
            <a:xfrm>
              <a:off x="250920" y="54936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87280" y="270972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50920" y="494172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1854360" y="563400"/>
            <a:ext cx="3276360" cy="4480200"/>
            <a:chOff x="1854360" y="563400"/>
            <a:chExt cx="3276360" cy="4480200"/>
          </a:xfrm>
        </p:grpSpPr>
        <p:sp>
          <p:nvSpPr>
            <p:cNvPr id="140" name=""/>
            <p:cNvSpPr/>
            <p:nvPr/>
          </p:nvSpPr>
          <p:spPr>
            <a:xfrm>
              <a:off x="1854360" y="563400"/>
              <a:ext cx="3276360" cy="4480200"/>
            </a:xfrm>
            <a:custGeom>
              <a:avLst/>
              <a:gdLst/>
              <a:ahLst/>
              <a:rect l="l" t="t" r="r" b="b"/>
              <a:pathLst>
                <a:path w="2064" h="2822">
                  <a:moveTo>
                    <a:pt x="926" y="669"/>
                  </a:moveTo>
                  <a:cubicBezTo>
                    <a:pt x="921" y="642"/>
                    <a:pt x="886" y="576"/>
                    <a:pt x="898" y="504"/>
                  </a:cubicBezTo>
                  <a:cubicBezTo>
                    <a:pt x="910" y="432"/>
                    <a:pt x="943" y="309"/>
                    <a:pt x="999" y="239"/>
                  </a:cubicBezTo>
                  <a:cubicBezTo>
                    <a:pt x="1055" y="169"/>
                    <a:pt x="1112" y="104"/>
                    <a:pt x="1237" y="84"/>
                  </a:cubicBezTo>
                  <a:cubicBezTo>
                    <a:pt x="1362" y="64"/>
                    <a:pt x="1621" y="0"/>
                    <a:pt x="1749" y="120"/>
                  </a:cubicBezTo>
                  <a:cubicBezTo>
                    <a:pt x="1877" y="240"/>
                    <a:pt x="2064" y="417"/>
                    <a:pt x="2005" y="806"/>
                  </a:cubicBezTo>
                  <a:cubicBezTo>
                    <a:pt x="1946" y="1195"/>
                    <a:pt x="1605" y="2135"/>
                    <a:pt x="1392" y="2452"/>
                  </a:cubicBezTo>
                  <a:cubicBezTo>
                    <a:pt x="1179" y="2769"/>
                    <a:pt x="918" y="2719"/>
                    <a:pt x="725" y="2708"/>
                  </a:cubicBezTo>
                  <a:cubicBezTo>
                    <a:pt x="532" y="2697"/>
                    <a:pt x="351" y="2405"/>
                    <a:pt x="231" y="2388"/>
                  </a:cubicBezTo>
                  <a:cubicBezTo>
                    <a:pt x="111" y="2371"/>
                    <a:pt x="0" y="2548"/>
                    <a:pt x="2" y="2607"/>
                  </a:cubicBezTo>
                  <a:cubicBezTo>
                    <a:pt x="4" y="2666"/>
                    <a:pt x="152" y="2776"/>
                    <a:pt x="240" y="2744"/>
                  </a:cubicBezTo>
                  <a:cubicBezTo>
                    <a:pt x="328" y="2712"/>
                    <a:pt x="327" y="2822"/>
                    <a:pt x="533" y="2415"/>
                  </a:cubicBezTo>
                  <a:cubicBezTo>
                    <a:pt x="739" y="2008"/>
                    <a:pt x="1278" y="743"/>
                    <a:pt x="1474" y="30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140360" y="981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848120" y="2561040"/>
            <a:ext cx="2800440" cy="4274640"/>
            <a:chOff x="4848120" y="2561040"/>
            <a:chExt cx="2800440" cy="4274640"/>
          </a:xfrm>
        </p:grpSpPr>
        <p:sp>
          <p:nvSpPr>
            <p:cNvPr id="143" name=""/>
            <p:cNvSpPr/>
            <p:nvPr/>
          </p:nvSpPr>
          <p:spPr>
            <a:xfrm>
              <a:off x="4848120" y="2757600"/>
              <a:ext cx="2800440" cy="4078080"/>
            </a:xfrm>
            <a:custGeom>
              <a:avLst/>
              <a:gdLst/>
              <a:ahLst/>
              <a:rect l="l" t="t" r="r" b="b"/>
              <a:pathLst>
                <a:path w="1764" h="2569">
                  <a:moveTo>
                    <a:pt x="1764" y="741"/>
                  </a:moveTo>
                  <a:cubicBezTo>
                    <a:pt x="1529" y="915"/>
                    <a:pt x="647" y="1509"/>
                    <a:pt x="356" y="1783"/>
                  </a:cubicBezTo>
                  <a:cubicBezTo>
                    <a:pt x="65" y="2057"/>
                    <a:pt x="0" y="2301"/>
                    <a:pt x="18" y="2386"/>
                  </a:cubicBezTo>
                  <a:cubicBezTo>
                    <a:pt x="36" y="2471"/>
                    <a:pt x="267" y="2569"/>
                    <a:pt x="466" y="2295"/>
                  </a:cubicBezTo>
                  <a:cubicBezTo>
                    <a:pt x="665" y="2021"/>
                    <a:pt x="1032" y="1126"/>
                    <a:pt x="1210" y="744"/>
                  </a:cubicBezTo>
                  <a:cubicBezTo>
                    <a:pt x="1388" y="362"/>
                    <a:pt x="1468" y="155"/>
                    <a:pt x="1536" y="0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236000" y="270972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1367400">
              <a:off x="5894280" y="2641320"/>
              <a:ext cx="865440" cy="2232000"/>
            </a:xfrm>
            <a:prstGeom prst="ellipse">
              <a:avLst/>
            </a:prstGeom>
            <a:noFill/>
            <a:ln w="1522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77080" y="328464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 rot="12875400">
            <a:off x="4138560" y="1196640"/>
            <a:ext cx="649440" cy="144360"/>
          </a:xfrm>
          <a:custGeom>
            <a:avLst/>
            <a:gdLst>
              <a:gd name="textAreaLeft" fmla="*/ 0 w 649440"/>
              <a:gd name="textAreaRight" fmla="*/ 649800 w 64944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3.7037E-006 C -0.02239 0.06852 -0.10121 0.31875 -0.13454 0.41135 C -0.16788 0.50394 -0.18125 0.53542 -0.19982 0.55579 C -0.2184 0.57616 -0.23715 0.54561 -0.24566 0.53357 C -0.25416 0.52153 -0.25781 0.49213 -0.25121 0.48357 C -0.24461 0.475 -0.22361 0.46852 -0.20555 0.48149 C -0.1875 0.49445 -0.16961 0.55116 -0.14305 0.56111 C -0.11649 0.57107 -0.07204 0.5632 -0.04583 0.54051 C -0.01961 0.51829 -0.00989 0.49653 0.01389 0.42593 C 0.03768 0.35533 0.09237 0.1963 0.09723 0.11667 C 0.10209 0.03704 0.07101 -0.02384 0.04306 -0.05185 C 0.01511 -0.07986 -0.04652 -0.07291 -0.07083 -0.05185 C -0.09513 -0.03078 -0.09739 0.05301 -0.10277 0.07408 E">
                                      <p:cBhvr>
                                        <p:cTn id="60" dur="8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8000"/>
                            </p:stCondLst>
                            <p:childTnLst>
                              <p:par>
                                <p:cTn id="6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9288 0.34236 C 0.30399 0.29815 0.3 0.27662 0.29288 0.26088 C 0.28576 0.24514 0.26858 0.23102 0.24983 0.24792 C 0.23108 0.26482 0.19479 0.32755 0.18038 0.36274 C 0.16597 0.39792 0.16511 0.4301 0.16372 0.45903 C 0.16233 0.48797 0.16163 0.5257 0.17205 0.53681 C 0.18247 0.54792 0.20556 0.55834 0.22622 0.5257 C 0.24688 0.49306 0.28177 0.38658 0.29288 0.34236 Z">
                                      <p:cBhvr>
                                        <p:cTn id="63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6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611 0.24121 C 0.27413 0.4213 0.21233 0.60162 0.17917 0.69121 C 0.14601 0.78079 0.15 0.75811 0.1375 0.77824 C 0.125 0.79838 0.11406 0.80811 0.10417 0.81158 C 0.09427 0.81505 0.08195 0.81436 0.07778 0.79861 C 0.07361 0.78287 0.06719 0.74607 0.07917 0.71713 C 0.09115 0.6882 0.10226 0.67477 0.15 0.62454 C 0.19774 0.57431 0.28142 0.49468 0.36528 0.41528 E">
                                      <p:cBhvr>
                                        <p:cTn id="66" dur="5000" fill="hold"/>
                                        <p:tgtEl>
                                          <p:spTgt spid="1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49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"/>
          <p:cNvSpPr/>
          <p:nvPr/>
        </p:nvSpPr>
        <p:spPr>
          <a:xfrm>
            <a:off x="2373480" y="463680"/>
            <a:ext cx="2666880" cy="4306680"/>
          </a:xfrm>
          <a:custGeom>
            <a:avLst/>
            <a:gdLst/>
            <a:ahLst/>
            <a:rect l="l" t="t" r="r" b="b"/>
            <a:pathLst>
              <a:path w="1680" h="2713">
                <a:moveTo>
                  <a:pt x="1550" y="485"/>
                </a:moveTo>
                <a:cubicBezTo>
                  <a:pt x="1566" y="455"/>
                  <a:pt x="1638" y="369"/>
                  <a:pt x="1649" y="302"/>
                </a:cubicBezTo>
                <a:cubicBezTo>
                  <a:pt x="1660" y="235"/>
                  <a:pt x="1680" y="116"/>
                  <a:pt x="1619" y="80"/>
                </a:cubicBezTo>
                <a:cubicBezTo>
                  <a:pt x="1558" y="44"/>
                  <a:pt x="1414" y="0"/>
                  <a:pt x="1283" y="86"/>
                </a:cubicBezTo>
                <a:cubicBezTo>
                  <a:pt x="1152" y="172"/>
                  <a:pt x="922" y="421"/>
                  <a:pt x="833" y="596"/>
                </a:cubicBezTo>
                <a:cubicBezTo>
                  <a:pt x="744" y="771"/>
                  <a:pt x="744" y="1016"/>
                  <a:pt x="749" y="1136"/>
                </a:cubicBezTo>
                <a:cubicBezTo>
                  <a:pt x="754" y="1256"/>
                  <a:pt x="826" y="1272"/>
                  <a:pt x="863" y="1316"/>
                </a:cubicBezTo>
                <a:cubicBezTo>
                  <a:pt x="900" y="1360"/>
                  <a:pt x="1029" y="1368"/>
                  <a:pt x="974" y="1399"/>
                </a:cubicBezTo>
                <a:cubicBezTo>
                  <a:pt x="919" y="1430"/>
                  <a:pt x="676" y="1406"/>
                  <a:pt x="533" y="1502"/>
                </a:cubicBezTo>
                <a:cubicBezTo>
                  <a:pt x="390" y="1598"/>
                  <a:pt x="207" y="1838"/>
                  <a:pt x="119" y="1976"/>
                </a:cubicBezTo>
                <a:cubicBezTo>
                  <a:pt x="31" y="2114"/>
                  <a:pt x="10" y="2225"/>
                  <a:pt x="5" y="2330"/>
                </a:cubicBezTo>
                <a:cubicBezTo>
                  <a:pt x="0" y="2435"/>
                  <a:pt x="10" y="2550"/>
                  <a:pt x="89" y="2606"/>
                </a:cubicBezTo>
                <a:cubicBezTo>
                  <a:pt x="168" y="2662"/>
                  <a:pt x="309" y="2713"/>
                  <a:pt x="479" y="2666"/>
                </a:cubicBezTo>
                <a:cubicBezTo>
                  <a:pt x="649" y="2619"/>
                  <a:pt x="979" y="2394"/>
                  <a:pt x="1111" y="2323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905360" y="2665440"/>
            <a:ext cx="1838520" cy="2163600"/>
          </a:xfrm>
          <a:custGeom>
            <a:avLst/>
            <a:gdLst/>
            <a:ahLst/>
            <a:rect l="l" t="t" r="r" b="b"/>
            <a:pathLst>
              <a:path w="1158" h="1363">
                <a:moveTo>
                  <a:pt x="0" y="1171"/>
                </a:moveTo>
                <a:cubicBezTo>
                  <a:pt x="155" y="1053"/>
                  <a:pt x="752" y="649"/>
                  <a:pt x="930" y="463"/>
                </a:cubicBezTo>
                <a:cubicBezTo>
                  <a:pt x="1108" y="277"/>
                  <a:pt x="1100" y="110"/>
                  <a:pt x="1068" y="55"/>
                </a:cubicBezTo>
                <a:cubicBezTo>
                  <a:pt x="1036" y="0"/>
                  <a:pt x="856" y="4"/>
                  <a:pt x="738" y="133"/>
                </a:cubicBezTo>
                <a:cubicBezTo>
                  <a:pt x="620" y="262"/>
                  <a:pt x="420" y="642"/>
                  <a:pt x="360" y="829"/>
                </a:cubicBezTo>
                <a:cubicBezTo>
                  <a:pt x="300" y="1016"/>
                  <a:pt x="326" y="1177"/>
                  <a:pt x="378" y="1255"/>
                </a:cubicBezTo>
                <a:cubicBezTo>
                  <a:pt x="430" y="1333"/>
                  <a:pt x="542" y="1363"/>
                  <a:pt x="672" y="1297"/>
                </a:cubicBezTo>
                <a:cubicBezTo>
                  <a:pt x="802" y="1231"/>
                  <a:pt x="1057" y="950"/>
                  <a:pt x="1158" y="859"/>
                </a:cubicBezTo>
              </a:path>
            </a:pathLst>
          </a:custGeom>
          <a:noFill/>
          <a:ln w="1522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12875400">
            <a:off x="478764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43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1197000"/>
            <a:ext cx="144360" cy="144360"/>
          </a:xfrm>
          <a:prstGeom prst="flowChartConnector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71676E-006 C 0.00555 -0.01434 0.01111 -0.02867 0.01267 -0.0444 C 0.01423 -0.06012 0.01649 -0.0837 0.00955 -0.09503 C 0.0026 -0.10636 -0.00955 -0.12139 -0.02865 -0.11191 C -0.04775 -0.10243 -0.08733 -0.06405 -0.10469 -0.03792 C -0.12205 -0.01179 -0.12622 0.01942 -0.13334 0.04439 C -0.14045 0.06913 -0.14549 0.09456 -0.14757 0.11006 C -0.14966 0.12555 -0.15018 0.12462 -0.14601 0.13734 C -0.14184 0.15006 -0.1283 0.17503 -0.12222 0.18589 C -0.11615 0.19699 -0.10747 0.19884 -0.10955 0.20277 C -0.11163 0.20716 -0.12031 0.20347 -0.1349 0.21133 C -0.14948 0.21896 -0.17709 0.22728 -0.19688 0.24948 C -0.21667 0.27167 -0.24132 0.31144 -0.254 0.34451 C -0.26667 0.37757 -0.27257 0.42335 -0.27309 0.44786 C -0.27361 0.4726 -0.2658 0.48208 -0.25712 0.49225 C -0.24844 0.50243 -0.2349 0.5089 -0.22066 0.50936 C -0.20643 0.50982 -0.19514 0.50867 -0.17136 0.49456 C -0.14757 0.48046 -0.09341 0.4363 -0.07778 0.42497 E">
                                      <p:cBhvr>
                                        <p:cTn id="72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49 0.46844 C 0.04844 0.44069 0.08055 0.41318 0.1085 0.38405 C 0.13646 0.35491 0.16857 0.31792 0.18472 0.29318 C 0.20087 0.26844 0.20573 0.25202 0.20538 0.23607 C 0.20503 0.22012 0.1967 0.19723 0.18316 0.19792 C 0.16962 0.19861 0.14236 0.20601 0.1243 0.24023 C 0.10625 0.27445 0.08316 0.36324 0.07517 0.40301 C 0.06719 0.44277 0.07187 0.4615 0.07673 0.47908 C 0.0816 0.49665 0.09357 0.50751 0.10382 0.50867 C 0.11406 0.50983 0.12083 0.50312 0.13871 0.48555 C 0.1566 0.46798 0.19948 0.41665 0.21163 0.40301 E">
                                      <p:cBhvr>
                                        <p:cTn id="76" dur="5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58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4713120" y="2276640"/>
            <a:ext cx="1955880" cy="2552400"/>
            <a:chOff x="4713120" y="2276640"/>
            <a:chExt cx="1955880" cy="2552400"/>
          </a:xfrm>
        </p:grpSpPr>
        <p:sp>
          <p:nvSpPr>
            <p:cNvPr id="162" name=""/>
            <p:cNvSpPr/>
            <p:nvPr/>
          </p:nvSpPr>
          <p:spPr>
            <a:xfrm>
              <a:off x="4830480" y="2665440"/>
              <a:ext cx="1838520" cy="2163600"/>
            </a:xfrm>
            <a:custGeom>
              <a:avLst/>
              <a:gdLst/>
              <a:ahLst/>
              <a:rect l="l" t="t" r="r" b="b"/>
              <a:pathLst>
                <a:path w="1158" h="1363">
                  <a:moveTo>
                    <a:pt x="0" y="1171"/>
                  </a:moveTo>
                  <a:cubicBezTo>
                    <a:pt x="155" y="1053"/>
                    <a:pt x="752" y="649"/>
                    <a:pt x="930" y="463"/>
                  </a:cubicBezTo>
                  <a:cubicBezTo>
                    <a:pt x="1108" y="277"/>
                    <a:pt x="1100" y="110"/>
                    <a:pt x="1068" y="55"/>
                  </a:cubicBezTo>
                  <a:cubicBezTo>
                    <a:pt x="1036" y="0"/>
                    <a:pt x="856" y="4"/>
                    <a:pt x="738" y="133"/>
                  </a:cubicBezTo>
                  <a:cubicBezTo>
                    <a:pt x="620" y="262"/>
                    <a:pt x="420" y="642"/>
                    <a:pt x="360" y="829"/>
                  </a:cubicBezTo>
                  <a:cubicBezTo>
                    <a:pt x="300" y="1016"/>
                    <a:pt x="326" y="1177"/>
                    <a:pt x="378" y="1255"/>
                  </a:cubicBezTo>
                  <a:cubicBezTo>
                    <a:pt x="430" y="1333"/>
                    <a:pt x="542" y="1363"/>
                    <a:pt x="672" y="1297"/>
                  </a:cubicBezTo>
                  <a:cubicBezTo>
                    <a:pt x="802" y="1231"/>
                    <a:pt x="1057" y="950"/>
                    <a:pt x="1158" y="859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713120" y="4437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08148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41840" y="2276640"/>
              <a:ext cx="14436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336760" y="189000"/>
            <a:ext cx="2666880" cy="4593960"/>
            <a:chOff x="2336760" y="189000"/>
            <a:chExt cx="2666880" cy="4593960"/>
          </a:xfrm>
        </p:grpSpPr>
        <p:sp>
          <p:nvSpPr>
            <p:cNvPr id="167" name=""/>
            <p:cNvSpPr/>
            <p:nvPr/>
          </p:nvSpPr>
          <p:spPr>
            <a:xfrm>
              <a:off x="2336760" y="476280"/>
              <a:ext cx="2666880" cy="4306680"/>
            </a:xfrm>
            <a:custGeom>
              <a:avLst/>
              <a:gdLst/>
              <a:ahLst/>
              <a:rect l="l" t="t" r="r" b="b"/>
              <a:pathLst>
                <a:path w="1680" h="2713">
                  <a:moveTo>
                    <a:pt x="1550" y="485"/>
                  </a:moveTo>
                  <a:cubicBezTo>
                    <a:pt x="1566" y="455"/>
                    <a:pt x="1638" y="369"/>
                    <a:pt x="1649" y="302"/>
                  </a:cubicBezTo>
                  <a:cubicBezTo>
                    <a:pt x="1660" y="235"/>
                    <a:pt x="1680" y="116"/>
                    <a:pt x="1619" y="80"/>
                  </a:cubicBezTo>
                  <a:cubicBezTo>
                    <a:pt x="1558" y="44"/>
                    <a:pt x="1414" y="0"/>
                    <a:pt x="1283" y="86"/>
                  </a:cubicBezTo>
                  <a:cubicBezTo>
                    <a:pt x="1152" y="172"/>
                    <a:pt x="922" y="421"/>
                    <a:pt x="833" y="596"/>
                  </a:cubicBezTo>
                  <a:cubicBezTo>
                    <a:pt x="744" y="771"/>
                    <a:pt x="744" y="1016"/>
                    <a:pt x="749" y="1136"/>
                  </a:cubicBezTo>
                  <a:cubicBezTo>
                    <a:pt x="754" y="1256"/>
                    <a:pt x="826" y="1272"/>
                    <a:pt x="863" y="1316"/>
                  </a:cubicBezTo>
                  <a:cubicBezTo>
                    <a:pt x="900" y="1360"/>
                    <a:pt x="1029" y="1368"/>
                    <a:pt x="974" y="1399"/>
                  </a:cubicBezTo>
                  <a:cubicBezTo>
                    <a:pt x="919" y="1430"/>
                    <a:pt x="676" y="1406"/>
                    <a:pt x="533" y="1502"/>
                  </a:cubicBezTo>
                  <a:cubicBezTo>
                    <a:pt x="390" y="1598"/>
                    <a:pt x="207" y="1838"/>
                    <a:pt x="119" y="1976"/>
                  </a:cubicBezTo>
                  <a:cubicBezTo>
                    <a:pt x="31" y="2114"/>
                    <a:pt x="10" y="2225"/>
                    <a:pt x="5" y="2330"/>
                  </a:cubicBezTo>
                  <a:cubicBezTo>
                    <a:pt x="0" y="2435"/>
                    <a:pt x="10" y="2550"/>
                    <a:pt x="89" y="2606"/>
                  </a:cubicBezTo>
                  <a:cubicBezTo>
                    <a:pt x="168" y="2662"/>
                    <a:pt x="309" y="2713"/>
                    <a:pt x="479" y="2666"/>
                  </a:cubicBezTo>
                  <a:cubicBezTo>
                    <a:pt x="649" y="2619"/>
                    <a:pt x="979" y="2394"/>
                    <a:pt x="1111" y="2323"/>
                  </a:cubicBezTo>
                </a:path>
              </a:pathLst>
            </a:custGeom>
            <a:noFill/>
            <a:ln w="1522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13120" y="1197000"/>
              <a:ext cx="14400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42404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784400" y="189000"/>
              <a:ext cx="144000" cy="144360"/>
            </a:xfrm>
            <a:prstGeom prst="flowChartConnector">
              <a:avLst/>
            </a:prstGeom>
            <a:solidFill>
              <a:srgbClr val="3333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2698920" y="-1898640"/>
            <a:ext cx="144360" cy="144360"/>
          </a:xfrm>
          <a:prstGeom prst="flowChartConnector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2875400">
            <a:off x="4787640" y="1341000"/>
            <a:ext cx="649080" cy="14472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720"/>
              <a:gd name="textAreaBottom" fmla="*/ 145080 h 1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71676E-006 C 0.00555 -0.01434 0.01111 -0.02867 0.01267 -0.0444 C 0.01423 -0.06012 0.01649 -0.0837 0.00955 -0.09503 C 0.0026 -0.10636 -0.00955 -0.12139 -0.02865 -0.11191 C -0.04775 -0.10243 -0.08733 -0.06405 -0.10469 -0.03792 C -0.12205 -0.01179 -0.12622 0.01942 -0.13334 0.04439 C -0.14045 0.06913 -0.14549 0.09456 -0.14757 0.11006 C -0.14966 0.12555 -0.15018 0.12462 -0.14601 0.13734 C -0.14184 0.15006 -0.1283 0.17503 -0.12222 0.18589 C -0.11615 0.19699 -0.10747 0.19884 -0.10955 0.20277 C -0.11163 0.20716 -0.12031 0.20347 -0.1349 0.21133 C -0.14948 0.21896 -0.17709 0.22728 -0.19688 0.24948 C -0.21667 0.27167 -0.24132 0.31144 -0.254 0.34451 C -0.26667 0.37757 -0.27257 0.42335 -0.27309 0.44786 C -0.27361 0.4726 -0.2658 0.48208 -0.25712 0.49225 C -0.24844 0.50243 -0.2349 0.5089 -0.22066 0.50936 C -0.20643 0.50982 -0.19514 0.50867 -0.17136 0.49456 C -0.14757 0.48046 -0.09341 0.4363 -0.07778 0.42497 E">
                                      <p:cBhvr>
                                        <p:cTn id="82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0"/>
                            </p:stCondLst>
                            <p:childTnLst>
                              <p:par>
                                <p:cTn id="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202 -0.15394 C -0.03976 -0.14954 -0.03872 -0.14792 -0.03611 -0.15278 C -0.03872 -0.15509 -0.04323 -0.15857 -0.04115 -0.1507 C -0.03924 -0.15093 -0.03681 -0.15 -0.03525 -0.15162 C -0.03438 -0.15255 -0.03681 -0.15371 -0.03785 -0.15394 C -0.03872 -0.15417 -0.03941 -0.15324 -0.04028 -0.15278 C -0.03872 -0.14722 -0.03629 -0.14838 -0.03785 -0.15394 C -0.04167 -0.15208 -0.04202 -0.15023 -0.03854 -0.14722 C -0.03229 -0.15023 -0.03976 -0.15278 -0.04202 -0.15394 Z">
                                      <p:cBhvr>
                                        <p:cTn id="85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7000"/>
                            </p:stCondLst>
                            <p:childTnLst>
                              <p:par>
                                <p:cTn id="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69 -0.15232 C 0.0026 -0.15671 -0.00052 -0.1581 0.00139 -0.15116 C 0.00312 -0.15162 0.00521 -0.1507 0.00642 -0.15232 C 0.0092 -0.15602 0.00364 -0.15764 0.00312 -0.15787 C 0.00139 -0.15741 -0.00087 -0.15857 -0.00191 -0.15671 C -0.00278 -0.15533 -0.00226 -0.15208 -0.00104 -0.15116 C 0.00069 -0.15 0.00278 -0.15185 0.00469 -0.15232 C 0.00434 -0.15371 0.00451 -0.15556 0.00382 -0.15671 C 0.0033 -0.15764 0.00208 -0.15833 0.00139 -0.15787 C 0.00052 -0.15741 2.22221999999995E-006 -0.15533 0.00052 -0.1544 C 0.00139 -0.15278 0.0033 -0.15301 0.00469 -0.15232 Z">
                                      <p:cBhvr>
                                        <p:cTn id="88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0.46852 C 0.03142 0.44074 0.06354 0.41319 0.09149 0.38403 C 0.11944 0.35486 0.15156 0.31782 0.16771 0.29329 C 0.18385 0.26852 0.18871 0.25208 0.18837 0.23611 C 0.18802 0.22014 0.17969 0.19722 0.16614 0.19792 C 0.1526 0.19861 0.12535 0.20602 0.10729 0.24028 C 0.08923 0.27454 0.06614 0.36319 0.05816 0.40301 C 0.05017 0.44282 0.05486 0.46157 0.05972 0.47917 C 0.06458 0.49676 0.07656 0.50741 0.0868 0.50856 C 0.09705 0.50972 0.10382 0.50301 0.1217 0.48565 C 0.13958 0.46805 0.18246 0.41667 0.19462 0.40301 E">
                                      <p:cBhvr>
                                        <p:cTn id="91" dur="5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3889 0.15787 C 0.1368 0.15694 0.1342 0.15301 0.13264 0.15509 C 0.13107 0.15717 0.13264 0.1625 0.13472 0.16342 C 0.13802 0.16481 0.14166 0.16157 0.14514 0.16065 C 0.14305 0.15879 0.14132 0.1544 0.13889 0.15509 C 0.13646 0.15579 0.1342 0.16018 0.13472 0.16342 C 0.13524 0.1662 0.13889 0.16528 0.14097 0.1662 C 0.15555 0.16528 0.17031 0.16667 0.18472 0.16342 C 0.18715 0.16296 0.1816 0.15509 0.18403 0.15509 C 0.18628 0.15509 0.18194 0.14676 0.18264 0.14954 C 0.18333 0.14676 0.18698 0.15717 0.18541 0.15509 C 0.18385 0.15301 0.1868 0.15486 0.1868 0.15787 C 0.1868 0.16088 0.19305 0.16065 0.19305 0.16088 E">
                                      <p:cBhvr>
                                        <p:cTn id="94" dur="2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"/>
          <p:cNvGrpSpPr/>
          <p:nvPr/>
        </p:nvGrpSpPr>
        <p:grpSpPr>
          <a:xfrm>
            <a:off x="250920" y="476280"/>
            <a:ext cx="8605800" cy="4392720"/>
            <a:chOff x="250920" y="476280"/>
            <a:chExt cx="8605800" cy="4392720"/>
          </a:xfrm>
        </p:grpSpPr>
        <p:sp>
          <p:nvSpPr>
            <p:cNvPr id="174" name=""/>
            <p:cNvSpPr/>
            <p:nvPr/>
          </p:nvSpPr>
          <p:spPr>
            <a:xfrm>
              <a:off x="250920" y="47628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7280" y="2637000"/>
              <a:ext cx="8569440" cy="0"/>
            </a:xfrm>
            <a:prstGeom prst="line">
              <a:avLst/>
            </a:prstGeom>
            <a:ln w="57240">
              <a:solidFill>
                <a:srgbClr val="3333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50920" y="4869000"/>
              <a:ext cx="8569080" cy="0"/>
            </a:xfrm>
            <a:prstGeom prst="line">
              <a:avLst/>
            </a:prstGeom>
            <a:ln w="5724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2195640" y="2637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79280" y="417600"/>
            <a:ext cx="5400720" cy="4497480"/>
            <a:chOff x="179280" y="417600"/>
            <a:chExt cx="5400720" cy="4497480"/>
          </a:xfrm>
        </p:grpSpPr>
        <p:grpSp>
          <p:nvGrpSpPr>
            <p:cNvPr id="179" name=""/>
            <p:cNvGrpSpPr/>
            <p:nvPr/>
          </p:nvGrpSpPr>
          <p:grpSpPr>
            <a:xfrm>
              <a:off x="179280" y="417600"/>
              <a:ext cx="5326200" cy="4497480"/>
              <a:chOff x="179280" y="417600"/>
              <a:chExt cx="5326200" cy="4497480"/>
            </a:xfrm>
          </p:grpSpPr>
          <p:sp>
            <p:nvSpPr>
              <p:cNvPr id="180" name=""/>
              <p:cNvSpPr/>
              <p:nvPr/>
            </p:nvSpPr>
            <p:spPr>
              <a:xfrm>
                <a:off x="3059280" y="531720"/>
                <a:ext cx="2446200" cy="4380120"/>
              </a:xfrm>
              <a:custGeom>
                <a:avLst/>
                <a:gdLst/>
                <a:ahLst/>
                <a:rect l="l" t="t" r="r" b="b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179280" y="417600"/>
                <a:ext cx="2521080" cy="4354560"/>
              </a:xfrm>
              <a:custGeom>
                <a:avLst/>
                <a:gdLst/>
                <a:ahLst/>
                <a:rect l="l" t="t" r="r" b="b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905120" y="571680"/>
                <a:ext cx="1809720" cy="4343400"/>
              </a:xfrm>
              <a:custGeom>
                <a:avLst/>
                <a:gdLst/>
                <a:ahLst/>
                <a:rect l="l" t="t" r="r" b="b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971640" y="134136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409840" y="2419200"/>
              <a:ext cx="144360" cy="14472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35640" y="1413000"/>
              <a:ext cx="144360" cy="1443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5492880" y="2689200"/>
            <a:ext cx="3327120" cy="2135160"/>
            <a:chOff x="5492880" y="2689200"/>
            <a:chExt cx="3327120" cy="2135160"/>
          </a:xfrm>
        </p:grpSpPr>
        <p:grpSp>
          <p:nvGrpSpPr>
            <p:cNvPr id="187" name=""/>
            <p:cNvGrpSpPr/>
            <p:nvPr/>
          </p:nvGrpSpPr>
          <p:grpSpPr>
            <a:xfrm>
              <a:off x="5492880" y="2689200"/>
              <a:ext cx="3239640" cy="2135160"/>
              <a:chOff x="5492880" y="2689200"/>
              <a:chExt cx="3239640" cy="2135160"/>
            </a:xfrm>
          </p:grpSpPr>
          <p:sp>
            <p:nvSpPr>
              <p:cNvPr id="188" name=""/>
              <p:cNvSpPr/>
              <p:nvPr/>
            </p:nvSpPr>
            <p:spPr>
              <a:xfrm>
                <a:off x="7244640" y="2743200"/>
                <a:ext cx="1487880" cy="2079360"/>
              </a:xfrm>
              <a:custGeom>
                <a:avLst/>
                <a:gdLst/>
                <a:ahLst/>
                <a:rect l="l" t="t" r="r" b="b"/>
                <a:pathLst>
                  <a:path w="1541" h="2759">
                    <a:moveTo>
                      <a:pt x="1001" y="2281"/>
                    </a:moveTo>
                    <a:cubicBezTo>
                      <a:pt x="947" y="2333"/>
                      <a:pt x="809" y="2530"/>
                      <a:pt x="677" y="2593"/>
                    </a:cubicBezTo>
                    <a:cubicBezTo>
                      <a:pt x="545" y="2656"/>
                      <a:pt x="317" y="2759"/>
                      <a:pt x="207" y="2658"/>
                    </a:cubicBezTo>
                    <a:cubicBezTo>
                      <a:pt x="97" y="2557"/>
                      <a:pt x="0" y="2260"/>
                      <a:pt x="16" y="1984"/>
                    </a:cubicBezTo>
                    <a:cubicBezTo>
                      <a:pt x="32" y="1708"/>
                      <a:pt x="165" y="1290"/>
                      <a:pt x="304" y="1001"/>
                    </a:cubicBezTo>
                    <a:cubicBezTo>
                      <a:pt x="443" y="712"/>
                      <a:pt x="701" y="417"/>
                      <a:pt x="859" y="253"/>
                    </a:cubicBezTo>
                    <a:cubicBezTo>
                      <a:pt x="1017" y="89"/>
                      <a:pt x="1149" y="36"/>
                      <a:pt x="1251" y="18"/>
                    </a:cubicBezTo>
                    <a:cubicBezTo>
                      <a:pt x="1353" y="0"/>
                      <a:pt x="1421" y="52"/>
                      <a:pt x="1469" y="145"/>
                    </a:cubicBezTo>
                    <a:cubicBezTo>
                      <a:pt x="1517" y="238"/>
                      <a:pt x="1526" y="487"/>
                      <a:pt x="1541" y="577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492880" y="2689200"/>
                <a:ext cx="1533600" cy="2067480"/>
              </a:xfrm>
              <a:custGeom>
                <a:avLst/>
                <a:gdLst/>
                <a:ahLst/>
                <a:rect l="l" t="t" r="r" b="b"/>
                <a:pathLst>
                  <a:path w="1588" h="2743">
                    <a:moveTo>
                      <a:pt x="547" y="649"/>
                    </a:moveTo>
                    <a:cubicBezTo>
                      <a:pt x="605" y="573"/>
                      <a:pt x="755" y="285"/>
                      <a:pt x="895" y="193"/>
                    </a:cubicBezTo>
                    <a:cubicBezTo>
                      <a:pt x="1035" y="101"/>
                      <a:pt x="1271" y="0"/>
                      <a:pt x="1384" y="96"/>
                    </a:cubicBezTo>
                    <a:cubicBezTo>
                      <a:pt x="1497" y="192"/>
                      <a:pt x="1588" y="494"/>
                      <a:pt x="1572" y="770"/>
                    </a:cubicBezTo>
                    <a:cubicBezTo>
                      <a:pt x="1556" y="1046"/>
                      <a:pt x="1425" y="1464"/>
                      <a:pt x="1288" y="1753"/>
                    </a:cubicBezTo>
                    <a:cubicBezTo>
                      <a:pt x="1151" y="2042"/>
                      <a:pt x="897" y="2337"/>
                      <a:pt x="741" y="2501"/>
                    </a:cubicBezTo>
                    <a:cubicBezTo>
                      <a:pt x="586" y="2665"/>
                      <a:pt x="466" y="2729"/>
                      <a:pt x="355" y="2736"/>
                    </a:cubicBezTo>
                    <a:cubicBezTo>
                      <a:pt x="243" y="2743"/>
                      <a:pt x="130" y="2630"/>
                      <a:pt x="71" y="2544"/>
                    </a:cubicBezTo>
                    <a:cubicBezTo>
                      <a:pt x="12" y="2458"/>
                      <a:pt x="15" y="2287"/>
                      <a:pt x="0" y="2220"/>
                    </a:cubicBez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542640" y="2762280"/>
                <a:ext cx="1100880" cy="2062080"/>
              </a:xfrm>
              <a:custGeom>
                <a:avLst/>
                <a:gdLst/>
                <a:ahLst/>
                <a:rect l="l" t="t" r="r" b="b"/>
                <a:pathLst>
                  <a:path w="1140" h="2736">
                    <a:moveTo>
                      <a:pt x="365" y="1302"/>
                    </a:moveTo>
                    <a:lnTo>
                      <a:pt x="1140" y="0"/>
                    </a:lnTo>
                    <a:lnTo>
                      <a:pt x="12" y="2688"/>
                    </a:lnTo>
                    <a:lnTo>
                      <a:pt x="888" y="1224"/>
                    </a:lnTo>
                    <a:lnTo>
                      <a:pt x="0" y="2736"/>
                    </a:lnTo>
                  </a:path>
                </a:pathLst>
              </a:custGeom>
              <a:noFill/>
              <a:ln w="15228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6805440" y="357012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4880" y="2992320"/>
              <a:ext cx="14292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677440" y="3065400"/>
              <a:ext cx="142560" cy="146160"/>
            </a:xfrm>
            <a:prstGeom prst="flowChartConnector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4" name=""/>
          <p:cNvSpPr/>
          <p:nvPr/>
        </p:nvSpPr>
        <p:spPr>
          <a:xfrm rot="12875400">
            <a:off x="971280" y="1485360"/>
            <a:ext cx="649080" cy="144360"/>
          </a:xfrm>
          <a:custGeom>
            <a:avLst/>
            <a:gdLst>
              <a:gd name="textAreaLeft" fmla="*/ 0 w 649080"/>
              <a:gd name="textAreaRight" fmla="*/ 649440 w 649080"/>
              <a:gd name="textAreaTop" fmla="*/ 0 h 144360"/>
              <a:gd name="textAreaBottom" fmla="*/ 144360 h 14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2.22222E-006 C 0.01632 -0.03217 0.03264 -0.06435 0.05417 -0.08333 C 0.0757 -0.10231 0.11077 -0.12546 0.12917 -0.11389 C 0.14757 -0.10231 0.16042 -0.06018 0.16459 -0.01389 C 0.16875 0.03241 0.16355 0.11019 0.15417 0.16389 C 0.1448 0.21759 0.12917 0.26111 0.10834 0.30834 C 0.0875 0.35556 0.05209 0.41435 0.02917 0.44722 C 0.00625 0.48009 -0.01111 0.50093 -0.02916 0.50556 C -0.04722 0.51019 -0.0677 0.49306 -0.07916 0.475 C -0.09062 0.45695 -0.09427 0.42709 -0.09791 0.39722 E">
                                      <p:cBhvr>
                                        <p:cTn id="100" dur="2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6146 0.13658 C 0.22257 0.00301000000000001 0.28368 -0.12939 0.29896 -0.15486 C 0.31423 -0.18032 0.28611 -0.12083 0.25312 -0.0162 C 0.22014 0.08866 0.11944 0.4088 0.10104 0.47292 C 0.08264 0.53658 0.1184 0.42107 0.14271 0.36736 C 0.16701 0.31366 0.22951 0.18658 0.24687 0.15047 E">
                                      <p:cBhvr>
                                        <p:cTn id="103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7000"/>
                            </p:stCondLst>
                            <p:childTnLst>
                              <p:par>
                                <p:cTn id="10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958 0.02014 C 0.4875 0.00116 0.49444 -0.07685 0.475 -0.09375 C 0.45555 -0.11064 0.40434 -0.11064 0.37309 -0.08148 C 0.34184 -0.05231 0.30764 0.03611 0.2875 0.08125 C 0.26736 0.12639 0.2625 0.1426 0.25208 0.18959 C 0.24166 0.23658 0.22517 0.31135 0.22517 0.36297 C 0.22517 0.41459 0.23906 0.47454 0.25225 0.49908 C 0.26545 0.52338 0.2835 0.52153 0.30434 0.51019 C 0.32517 0.49861 0.35121 0.46389 0.37725 0.42963 E">
                                      <p:cBhvr>
                                        <p:cTn id="106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3767 0.25324 C 0.55521 0.23033 0.57274 0.20741 0.58767 0.20324 C 0.6026 0.19908 0.61927 0.20926 0.62725 0.22824 C 0.63524 0.24723 0.6408 0.2875 0.63559 0.31713 C 0.63038 0.34676 0.61232 0.37732 0.596 0.40602 C 0.57968 0.43473 0.55399 0.47547 0.53767 0.48936 C 0.52135 0.50324 0.50816 0.49537 0.49809 0.48936 C 0.48802 0.48334 0.48264 0.46829 0.47725 0.45324 E">
                                      <p:cBhvr>
                                        <p:cTn id="109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5156 0.32547 C 0.69427 0.24676 0.73698 0.16806 0.73073 0.19491 C 0.72448 0.22176 0.61857 0.46297 0.61406 0.48658 C 0.60955 0.51019 0.68871 0.36158 0.70364 0.33658 E">
                                      <p:cBhvr>
                                        <p:cTn id="112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82847 0.25973 C 0.82951 0.24792 0.83055 0.23611 0.82847 0.22639 C 0.82639 0.21667 0.82812 0.20232 0.81597 0.20139 C 0.80382 0.20047 0.77708 0.19908 0.75555 0.22084 C 0.73402 0.2426 0.70034 0.29537 0.6868 0.33195 C 0.67326 0.36852 0.675 0.41482 0.6743 0.44028 C 0.67361 0.46574 0.67534 0.47361 0.68264 0.48473 C 0.68993 0.49584 0.70347 0.51019 0.71805 0.50695 C 0.73264 0.50371 0.75139 0.48449 0.77014 0.46528 E">
                                      <p:cBhvr>
                                        <p:cTn id="115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8T13:37:40Z</dcterms:created>
  <dc:creator>1</dc:creator>
  <dc:description/>
  <dc:language>en-US</dc:language>
  <cp:lastModifiedBy>vvv</cp:lastModifiedBy>
  <dcterms:modified xsi:type="dcterms:W3CDTF">2008-04-15T12:43:04Z</dcterms:modified>
  <cp:revision>20</cp:revision>
  <dc:subject/>
  <dc:title>Слайд 1</dc:title>
</cp:coreProperties>
</file>