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gif" ContentType="image/gi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9BA-E0D2-40C6-8F57-3B958910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921-6FA0-4277-BE49-460438BD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B4B-DA07-4AB3-AE5F-579CA8EC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9EB-929A-423D-81ED-6E1DEDBD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6947-63A8-4734-8F06-79100D37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AC27-96BA-41A8-AF18-25201F81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BD74-A68E-4E70-8E24-69C1E7BD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F45B-0D21-406F-A945-3DF0A750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6445-388C-429B-8004-E5598375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495D-D9EE-4E67-923A-ADA00C8E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15AD-A4F9-482B-B2AF-33CD25C9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968-CE34-4FAD-A329-EB6D8878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48B3-713A-4E23-B8E1-E498BBBE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66C7-26B3-4DE8-BF55-50820D14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7081-3895-447D-8A76-74379A47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67FC-5401-4C7E-B4BB-11395319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0BC3-849C-419A-B71B-951F3FDD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89DE-983A-47A9-81BC-45DA1A66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B898-15A8-40C8-B9E4-FC556AF8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EE7E-DFCB-438D-9F9C-F24274E0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2E4E-2AB8-4A4E-A03D-E6604355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56034-1853-45A4-9E20-33FA178E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B52-5958-4DE1-AB43-BA817169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E048-71D9-41E2-A806-7EEEC20E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7D31-1C40-40C4-B9C7-A9DA8914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04DCD-2EF7-4795-BF74-E2D7F45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CBF43-399D-429A-AAC8-9B6687FC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CD21-06C6-435E-A2D0-B34821EB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A91E-8DB9-47C6-9B42-FA22EAB2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86C1-C9D0-423E-BC6E-97A948F2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680-BD0A-4525-94A5-09FE7CF5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C3A1-6B36-482E-ACA0-5441E3ED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6F9C-4929-43F4-AD32-CA96511A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5B4-11A7-4B42-A005-B6D99936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183-B985-4969-882D-0BBFFC72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F33-96B6-432E-BA4B-ECBCC6B5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0852-5F74-4E5C-A66F-2EDF6B34D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1209-43A6-4623-A814-A9298723F2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ADA3-86C2-4E62-9815-CACEA5E1FE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39640" y="404640"/>
            <a:ext cx="669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 р о к   а л г е б р ы  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9640" y="141300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м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920" y="2565360"/>
            <a:ext cx="734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Геометрическая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огресси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59280" y="5373720"/>
            <a:ext cx="4392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: </a:t>
            </a:r>
            <a:endParaRPr b="0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кса Людмила </a:t>
            </a:r>
            <a:endParaRPr b="0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ргеевна.</a:t>
            </a:r>
            <a:endParaRPr b="0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0" y="1241280"/>
          <a:ext cx="9144000" cy="5616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61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дно растение одуванчика занимает на земле площадь 10 м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и дает в год </a:t>
                      </a:r>
                      <a:r>
                        <a:rPr b="0" lang="en-US" sz="3600" spc="-1" strike="noStrike">
                          <a:solidFill>
                            <a:srgbClr val="f40c64"/>
                          </a:solidFill>
                          <a:latin typeface="Arial Cyr"/>
                        </a:rPr>
                        <a:t>100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летучих семян. Сколько квадратных километров площади покроет все потомство </a:t>
                      </a:r>
                      <a:r>
                        <a:rPr b="0" lang="en-US" sz="3600" spc="-1" strike="noStrike">
                          <a:solidFill>
                            <a:srgbClr val="f40c64"/>
                          </a:solidFill>
                          <a:latin typeface="Arial Cyr"/>
                        </a:rPr>
                        <a:t>одной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особи одуванчика через </a:t>
                      </a:r>
                      <a:r>
                        <a:rPr b="0" lang="en-US" sz="3600" spc="-1" strike="noStrike">
                          <a:solidFill>
                            <a:srgbClr val="f40c64"/>
                          </a:solidFill>
                          <a:latin typeface="Arial Cyr"/>
                        </a:rPr>
                        <a:t>10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лет при беспрепятственном размножении? Хватит ли этим растениям места на поверхности суши земного шара?  (Площадь поверхности суши 148 млн. км</a:t>
                      </a:r>
                      <a:r>
                        <a:rPr b="0" lang="en-US" sz="3600" spc="-1" strike="noStrike" baseline="30000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)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0" name=""/>
          <p:cNvSpPr txBox="1"/>
          <p:nvPr/>
        </p:nvSpPr>
        <p:spPr>
          <a:xfrm>
            <a:off x="2124000" y="333360"/>
            <a:ext cx="54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40c64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2</a:t>
            </a:r>
            <a:endParaRPr b="0" lang="en-US" sz="1800" spc="1" strike="noStrike">
              <a:ln w="0">
                <a:noFill/>
              </a:ln>
              <a:solidFill>
                <a:srgbClr val="f40c64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843280" y="1792440"/>
            <a:ext cx="4033800" cy="3558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2771640" y="1557360"/>
            <a:ext cx="4176720" cy="3959280"/>
          </a:xfrm>
          <a:prstGeom prst="rect">
            <a:avLst/>
          </a:prstGeom>
          <a:ln w="0">
            <a:noFill/>
          </a:ln>
        </p:spPr>
      </p:pic>
      <p:sp>
        <p:nvSpPr>
          <p:cNvPr id="303" name="">
            <a:hlinkClick r:id="rId3" action="ppaction://hlinksldjump"/>
          </p:cNvPr>
          <p:cNvSpPr/>
          <p:nvPr/>
        </p:nvSpPr>
        <p:spPr>
          <a:xfrm>
            <a:off x="395280" y="587700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3794" y="11629"/>
                </a:moveTo>
                <a:lnTo>
                  <a:pt x="17806" y="4623"/>
                </a:lnTo>
                <a:lnTo>
                  <a:pt x="17806" y="1863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662472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уванчикам через 10 лет</a:t>
            </a:r>
            <a:endParaRPr b="0" lang="en-US" sz="3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ребовалась бы планета в</a:t>
            </a:r>
            <a:endParaRPr b="0" lang="en-US" sz="3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492360" y="3141720"/>
            <a:ext cx="310212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9805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547640" y="6165720"/>
            <a:ext cx="6264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 больше Земли</a:t>
            </a:r>
            <a:endParaRPr b="0" lang="en-US" sz="32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олько понадобится лет беспрепятственного размножения для пары голубей, чтобы их потомство составило</a:t>
            </a:r>
            <a:r>
              <a:rPr b="0" lang="en-US" sz="3600" spc="-1" strike="noStrike">
                <a:solidFill>
                  <a:srgbClr val="eb4b0b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миллионов особей, если годовая кладка пары голубей составляет </a:t>
            </a:r>
            <a:r>
              <a:rPr b="0" lang="en-US" sz="3600" spc="-1" strike="noStrike">
                <a:solidFill>
                  <a:srgbClr val="eb4b0b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я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640" y="40464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3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132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1476360" y="0"/>
            <a:ext cx="642636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омство пары голубей 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ле семи лет 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спрепятственного размножения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835280" y="155736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миллионов особей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395280" y="616572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77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770" fill="hold"/>
                                        <p:tgtEl>
                                          <p:spTgt spid="3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еска мечет </a:t>
            </a:r>
            <a:r>
              <a:rPr b="0" lang="en-US" sz="4000" spc="-1" strike="noStrike">
                <a:solidFill>
                  <a:srgbClr val="104bf0"/>
                </a:solidFill>
                <a:latin typeface="Arial"/>
              </a:rPr>
              <a:t>90000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кринок. Рассчитайте потомство одной трески после </a:t>
            </a:r>
            <a:r>
              <a:rPr b="0" lang="en-US" sz="4000" spc="-1" strike="noStrike">
                <a:solidFill>
                  <a:srgbClr val="104bf0"/>
                </a:solidFill>
                <a:latin typeface="Arial"/>
              </a:rPr>
              <a:t>тре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лет беспрепятственного размн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124000" y="404640"/>
            <a:ext cx="489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104bf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4</a:t>
            </a:r>
            <a:endParaRPr b="0" lang="en-US" sz="1800" spc="1" strike="noStrike">
              <a:ln w="0">
                <a:noFill/>
              </a:ln>
              <a:solidFill>
                <a:srgbClr val="104bf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04000" y="-43351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921800" cy="5157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1116000" y="260280"/>
            <a:ext cx="660096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омство трески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сле трех лет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спрепятственного размножен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763640" y="3147840"/>
            <a:ext cx="5977080" cy="12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0 триллион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10800"/>
                </a:moveTo>
                <a:lnTo>
                  <a:pt x="22425" y="3794"/>
                </a:lnTo>
                <a:lnTo>
                  <a:pt x="22425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1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684360" y="404640"/>
            <a:ext cx="7983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еометрическая прогрессия 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- прогрессия размножени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864720" cy="6308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-396720" y="-298440"/>
            <a:ext cx="9864720" cy="71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468360" y="692280"/>
          <a:ext cx="6562800" cy="115884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  <a:gridCol w="505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0" y="28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403280" y="2060640"/>
          <a:ext cx="6077160" cy="1057320"/>
        </p:xfrm>
        <a:graphic>
          <a:graphicData uri="http://schemas.openxmlformats.org/drawingml/2006/table">
            <a:tbl>
              <a:tblPr/>
              <a:tblGrid>
                <a:gridCol w="552600"/>
                <a:gridCol w="552240"/>
                <a:gridCol w="552600"/>
                <a:gridCol w="552600"/>
                <a:gridCol w="552240"/>
                <a:gridCol w="552600"/>
                <a:gridCol w="552240"/>
                <a:gridCol w="552600"/>
                <a:gridCol w="552240"/>
                <a:gridCol w="552600"/>
                <a:gridCol w="55260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"/>
          <p:cNvSpPr/>
          <p:nvPr/>
        </p:nvSpPr>
        <p:spPr>
          <a:xfrm>
            <a:off x="0" y="40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124000" y="3429000"/>
          <a:ext cx="5762520" cy="1103400"/>
        </p:xfrm>
        <a:graphic>
          <a:graphicData uri="http://schemas.openxmlformats.org/drawingml/2006/table">
            <a:tbl>
              <a:tblPr/>
              <a:tblGrid>
                <a:gridCol w="576360"/>
                <a:gridCol w="576000"/>
                <a:gridCol w="576360"/>
                <a:gridCol w="576360"/>
                <a:gridCol w="576360"/>
                <a:gridCol w="576000"/>
                <a:gridCol w="576360"/>
                <a:gridCol w="576360"/>
                <a:gridCol w="576360"/>
                <a:gridCol w="576000"/>
              </a:tblGrid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8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395280" y="490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39640" y="692280"/>
            <a:ext cx="36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47640" y="765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050920" y="765000"/>
            <a:ext cx="3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556000" y="765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59280" y="765000"/>
            <a:ext cx="3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564000" y="765000"/>
            <a:ext cx="392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067280" y="765000"/>
            <a:ext cx="3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0" y="765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580000" y="765000"/>
            <a:ext cx="36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84720" y="765000"/>
            <a:ext cx="358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588000" y="692280"/>
            <a:ext cx="36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ё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76360" y="2133720"/>
            <a:ext cx="358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050920" y="213372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556000" y="2133720"/>
            <a:ext cx="431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132000" y="21337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708360" y="2133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284720" y="2133720"/>
            <a:ext cx="3585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788000" y="213372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64000" y="213372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940360" y="213372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020000" y="213372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95640" y="3500280"/>
            <a:ext cx="39348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771640" y="3500280"/>
            <a:ext cx="43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348000" y="3500280"/>
            <a:ext cx="36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924360" y="3500280"/>
            <a:ext cx="36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00720" y="3500280"/>
            <a:ext cx="3920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76720" y="3500280"/>
            <a:ext cx="358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651640" y="3500280"/>
            <a:ext cx="433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227640" y="350028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04000" y="3500280"/>
            <a:ext cx="43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380360" y="3500280"/>
            <a:ext cx="431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3" name=""/>
          <p:cNvSpPr/>
          <p:nvPr/>
        </p:nvSpPr>
        <p:spPr>
          <a:xfrm>
            <a:off x="395280" y="47242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81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2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93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72 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96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30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5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5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60  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0,5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3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5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5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5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9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324000" y="2781360"/>
            <a:ext cx="6840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 природе - вс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ходится в равновеси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 rot="5400000">
            <a:off x="4248000" y="2817000"/>
            <a:ext cx="5185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71640" y="5157720"/>
            <a:ext cx="504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прогрессия 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ножения"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979640" y="26028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аграм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920" y="220500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763640" y="220500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р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59280" y="2205000"/>
            <a:ext cx="64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780000" y="2205000"/>
            <a:ext cx="863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788000" y="2205000"/>
            <a:ext cx="129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чес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547640" y="3068640"/>
            <a:ext cx="115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ес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843280" y="3068640"/>
            <a:ext cx="93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51280" y="3068640"/>
            <a:ext cx="100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я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1"/>
          <a:stretch/>
        </p:blipFill>
        <p:spPr>
          <a:xfrm>
            <a:off x="0" y="0"/>
            <a:ext cx="6012000" cy="3405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684360" y="3645000"/>
            <a:ext cx="287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</a:t>
            </a:r>
            <a:endParaRPr b="0" lang="en-US" sz="1800" spc="1" strike="noStrike">
              <a:ln w="0">
                <a:noFill/>
              </a:ln>
              <a:blipFill rotWithShape="0">
                <a:blip r:embed="rId2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0.04237 L -0.30712 0.21042 E">
                                      <p:cBhvr>
                                        <p:cTn id="18" dur="5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 L 0.01632 0.21528 E">
                                      <p:cBhvr>
                                        <p:cTn id="21" dur="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.00024 L -0.18107 0.21042 E">
                                      <p:cBhvr>
                                        <p:cTn id="24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4444E-006 L 0.15364 0.21042 E">
                                      <p:cBhvr>
                                        <p:cTn id="27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0.06296 L 0.42934 0.21018 E">
                                      <p:cBhvr>
                                        <p:cTn id="30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4236 L -0.16927 0.18935 E">
                                      <p:cBhvr>
                                        <p:cTn id="33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09445 0.18935 E">
                                      <p:cBhvr>
                                        <p:cTn id="36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40741E-007 L -0.02344 0.1838 E">
                                      <p:cBhvr>
                                        <p:cTn id="39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Активизац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Устный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00000" y="260280"/>
            <a:ext cx="7336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еометрическая прогрессия 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solidFill>
                <a:srgbClr val="00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66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- прогрессия размножения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solidFill>
                <a:srgbClr val="0066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10108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20476" y="10800"/>
                </a:lnTo>
                <a:lnTo>
                  <a:pt x="646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250920" y="6021360"/>
            <a:ext cx="720720" cy="5745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91" h="21600">
                <a:moveTo>
                  <a:pt x="0" y="0"/>
                </a:moveTo>
                <a:lnTo>
                  <a:pt x="27091" y="0"/>
                </a:lnTo>
                <a:lnTo>
                  <a:pt x="27091" y="21600"/>
                </a:lnTo>
                <a:lnTo>
                  <a:pt x="0" y="21600"/>
                </a:lnTo>
                <a:close/>
              </a:path>
              <a:path fill="lightenLess" w="27091" h="21600">
                <a:moveTo>
                  <a:pt x="0" y="0"/>
                </a:moveTo>
                <a:lnTo>
                  <a:pt x="27091" y="0"/>
                </a:lnTo>
                <a:lnTo>
                  <a:pt x="25691" y="1400"/>
                </a:lnTo>
                <a:lnTo>
                  <a:pt x="1400" y="1400"/>
                </a:lnTo>
                <a:close/>
              </a:path>
              <a:path fill="darken" w="27091" h="21600">
                <a:moveTo>
                  <a:pt x="27091" y="0"/>
                </a:moveTo>
                <a:lnTo>
                  <a:pt x="27091" y="21600"/>
                </a:lnTo>
                <a:lnTo>
                  <a:pt x="25691" y="20200"/>
                </a:lnTo>
                <a:lnTo>
                  <a:pt x="25691" y="1400"/>
                </a:lnTo>
                <a:close/>
              </a:path>
              <a:path fill="darkenLess" w="27091" h="21600">
                <a:moveTo>
                  <a:pt x="27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91" y="20200"/>
                </a:lnTo>
                <a:close/>
              </a:path>
              <a:path fill="lighten" w="27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91" h="21600">
                <a:moveTo>
                  <a:pt x="6539" y="10800"/>
                </a:moveTo>
                <a:lnTo>
                  <a:pt x="20552" y="3794"/>
                </a:lnTo>
                <a:lnTo>
                  <a:pt x="2055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11280" y="349992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ff"/>
                </a:solidFill>
                <a:latin typeface="Arial"/>
              </a:rPr>
              <a:t>Геометрической прогрессией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называется последовательность отличных от нуля чисел, каждый член которой, начиная со второго, равен предыдущему члену, умноженному на одно и то ж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280" y="350028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Отношение любого ее члена, начиная со второго, к предыдущему члену равно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знаменателю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геометрической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прогрессии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332000" y="620640"/>
            <a:ext cx="6408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формулируйте определение 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метрической прогрессии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476360" y="1557360"/>
            <a:ext cx="5904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 называется знаменателем </a:t>
            </a:r>
            <a:endParaRPr b="0" lang="en-US" sz="32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метрической прогрессии?</a:t>
            </a:r>
            <a:endParaRPr b="0" lang="en-US" sz="32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771640" y="3645000"/>
                <a:ext cx="30956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124000" y="3284640"/>
                <a:ext cx="453708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03280" y="1915200"/>
            <a:ext cx="58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Формула n-го члена геометрической  прогресс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484360" y="3357720"/>
                <a:ext cx="381636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46836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1627920"/>
            <a:ext cx="760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0c64"/>
                </a:solidFill>
                <a:latin typeface="Arial"/>
              </a:rPr>
              <a:t>Формула суммы n  первых членов геометрической прогресс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3840" y="1411920"/>
            <a:ext cx="5619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0c64"/>
                </a:solidFill>
                <a:latin typeface="Arial"/>
              </a:rPr>
              <a:t>Формула су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0c6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40c64"/>
                </a:solidFill>
                <a:latin typeface="Arial"/>
              </a:rPr>
              <a:t>бесконечно убывающ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0c64"/>
                </a:solidFill>
                <a:latin typeface="Arial"/>
              </a:rPr>
              <a:t>геометрической прогресс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90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1;2;3;4;5;…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2;-4;-8;-16;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7;7;7;7;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0;1;0,1;0,01;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-5;10;-20;40;-80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;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867280" y="162864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d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d=0   q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q=0,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q=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55640" y="620640"/>
            <a:ext cx="768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ределите вид последователь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9528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10800"/>
                </a:moveTo>
                <a:lnTo>
                  <a:pt x="19374" y="3794"/>
                </a:lnTo>
                <a:lnTo>
                  <a:pt x="193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5805360"/>
            <a:ext cx="1079280" cy="64800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5968" h="21600">
                <a:moveTo>
                  <a:pt x="0" y="0"/>
                </a:moveTo>
                <a:lnTo>
                  <a:pt x="35968" y="0"/>
                </a:lnTo>
                <a:lnTo>
                  <a:pt x="35968" y="21600"/>
                </a:lnTo>
                <a:lnTo>
                  <a:pt x="0" y="21600"/>
                </a:lnTo>
                <a:close/>
              </a:path>
              <a:path fill="lightenLess" w="35968" h="21600">
                <a:moveTo>
                  <a:pt x="0" y="0"/>
                </a:moveTo>
                <a:lnTo>
                  <a:pt x="35968" y="0"/>
                </a:lnTo>
                <a:lnTo>
                  <a:pt x="34568" y="1400"/>
                </a:lnTo>
                <a:lnTo>
                  <a:pt x="1400" y="1400"/>
                </a:lnTo>
                <a:close/>
              </a:path>
              <a:path fill="darken" w="35968" h="21600">
                <a:moveTo>
                  <a:pt x="35968" y="0"/>
                </a:moveTo>
                <a:lnTo>
                  <a:pt x="35968" y="21600"/>
                </a:lnTo>
                <a:lnTo>
                  <a:pt x="34568" y="20200"/>
                </a:lnTo>
                <a:lnTo>
                  <a:pt x="34568" y="1400"/>
                </a:lnTo>
                <a:close/>
              </a:path>
              <a:path fill="darkenLess" w="35968" h="21600">
                <a:moveTo>
                  <a:pt x="35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8" y="20200"/>
                </a:lnTo>
                <a:close/>
              </a:path>
              <a:path fill="lighten" w="35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8" h="21600">
                <a:moveTo>
                  <a:pt x="10978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87480" y="131760"/>
            <a:ext cx="563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24000" y="1125360"/>
            <a:ext cx="6357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10</a:t>
            </a:r>
            <a:r>
              <a:rPr b="1" i="1" lang="ru-RU" sz="3200" spc="-1" strike="noStrike" baseline="30000">
                <a:solidFill>
                  <a:srgbClr val="006600"/>
                </a:solidFill>
                <a:latin typeface="Tahoma"/>
              </a:rPr>
              <a:t>3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тыся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10</a:t>
            </a:r>
            <a:r>
              <a:rPr b="1" i="1" lang="ru-RU" sz="3200" spc="-1" strike="noStrike" baseline="30000">
                <a:solidFill>
                  <a:srgbClr val="006600"/>
                </a:solidFill>
                <a:latin typeface="Tahoma"/>
              </a:rPr>
              <a:t>6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м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10</a:t>
            </a:r>
            <a:r>
              <a:rPr b="1" i="1" lang="ru-RU" sz="3200" spc="-1" strike="noStrike" baseline="30000">
                <a:solidFill>
                  <a:srgbClr val="006600"/>
                </a:solidFill>
                <a:latin typeface="Tahoma"/>
              </a:rPr>
              <a:t>9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миллиард (билл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10</a:t>
            </a:r>
            <a:r>
              <a:rPr b="1" i="1" lang="ru-RU" sz="3200" spc="-1" strike="noStrike" baseline="30000">
                <a:solidFill>
                  <a:srgbClr val="006600"/>
                </a:solidFill>
                <a:latin typeface="Tahoma"/>
              </a:rPr>
              <a:t>12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тр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10</a:t>
            </a:r>
            <a:r>
              <a:rPr b="1" i="1" lang="ru-RU" sz="3200" spc="-1" strike="noStrike" baseline="30000">
                <a:solidFill>
                  <a:srgbClr val="006600"/>
                </a:solidFill>
                <a:latin typeface="Tahoma"/>
              </a:rPr>
              <a:t>15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квадр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10</a:t>
            </a:r>
            <a:r>
              <a:rPr b="1" i="1" lang="ru-RU" sz="3200" spc="-1" strike="noStrike" baseline="30000">
                <a:solidFill>
                  <a:srgbClr val="006600"/>
                </a:solidFill>
                <a:latin typeface="Tahoma"/>
              </a:rPr>
              <a:t>18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квинт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10</a:t>
            </a:r>
            <a:r>
              <a:rPr b="1" i="1" lang="ru-RU" sz="3200" spc="-1" strike="noStrike" baseline="30000">
                <a:solidFill>
                  <a:srgbClr val="006600"/>
                </a:solidFill>
                <a:latin typeface="Tahoma"/>
              </a:rPr>
              <a:t>21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секст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10</a:t>
            </a:r>
            <a:r>
              <a:rPr b="1" i="1" lang="ru-RU" sz="3200" spc="-1" strike="noStrike" baseline="30000">
                <a:solidFill>
                  <a:srgbClr val="006600"/>
                </a:solidFill>
                <a:latin typeface="Tahoma"/>
              </a:rPr>
              <a:t>24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септ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10</a:t>
            </a:r>
            <a:r>
              <a:rPr b="1" i="1" lang="ru-RU" sz="3200" spc="-1" strike="noStrike" baseline="30000">
                <a:solidFill>
                  <a:srgbClr val="006600"/>
                </a:solidFill>
                <a:latin typeface="Tahoma"/>
              </a:rPr>
              <a:t>27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окт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10</a:t>
            </a:r>
            <a:r>
              <a:rPr b="1" i="1" lang="ru-RU" sz="3200" spc="-1" strike="noStrike" baseline="30000">
                <a:solidFill>
                  <a:srgbClr val="006600"/>
                </a:solidFill>
                <a:latin typeface="Tahoma"/>
              </a:rPr>
              <a:t>30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 нонилли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116000" y="0"/>
            <a:ext cx="65516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Большие" натуральные числа: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томство тли  за сутки составляет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2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особей. Определите потомство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одно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особи этого легчайшего эфирного создания на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утки беспрепятственного размн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92480" y="260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29080" y="260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908000" y="404640"/>
            <a:ext cx="56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0e917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1</a:t>
            </a:r>
            <a:endParaRPr b="0" lang="en-US" sz="1800" spc="1" strike="noStrike">
              <a:ln w="0">
                <a:noFill/>
              </a:ln>
              <a:solidFill>
                <a:srgbClr val="30e917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5472000" cy="42116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0" y="-316080"/>
            <a:ext cx="478800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томство тли за год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ит полый шар,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й стороной которы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0" y="4076640"/>
            <a:ext cx="3816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сался бы Солнца,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другой – Земл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587700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1" h="21600">
                <a:moveTo>
                  <a:pt x="8134" y="10800"/>
                </a:moveTo>
                <a:lnTo>
                  <a:pt x="22147" y="3794"/>
                </a:lnTo>
                <a:lnTo>
                  <a:pt x="22147" y="17806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4:42:01Z</dcterms:created>
  <dc:creator>Виталий Владимирович</dc:creator>
  <dc:description/>
  <dc:language>en-US</dc:language>
  <cp:lastModifiedBy>1</cp:lastModifiedBy>
  <dcterms:modified xsi:type="dcterms:W3CDTF">2012-06-29T14:48:22Z</dcterms:modified>
  <cp:revision>24</cp:revision>
  <dc:subject/>
  <dc:title>Слайд 1</dc:title>
</cp:coreProperties>
</file>