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B53-EA78-4723-9BB6-C1E6500B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126-9325-45E0-A103-B111F047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56C-9686-424D-B6AB-994C352E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CEC-BA85-4232-A234-718AE5DC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F01-E260-4696-B409-D86D24B7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F28F-6045-4D80-A174-F4B8AEC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452E-6438-4C76-8B95-2CED20D8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4FD6-E8CB-4DD5-B0EA-29980997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93E0-6E97-4EEA-8269-D64C0623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892D-AC7D-4347-9914-D2D4B4DA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9542-98E6-41DC-90C2-77E62A8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0FA-C2B4-42EC-8587-123BBAC7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B977-7E30-4D72-A655-42DABA38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13C3-49ED-48F9-BA94-8CC6F21A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3DAD-95AA-4768-991F-B94A1750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0411-D26F-46DA-9182-CA1D262E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F07E-CF23-4FD4-9B39-9E52D855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475-CC5A-45E7-B736-EDAC344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1C8-13EF-4B0A-8EE7-78B83926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A454-7A2A-4C5D-A342-5931CD0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2F9-7B36-47C1-A6C2-416313D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6B7-6B66-40A4-9282-EDE3CA9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30C-7062-45D8-936B-61B23B7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CC8-5033-49A3-8587-CAA2C102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B55F-F82B-4EEF-8D59-01B77D1FC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5898-2CF8-4FA0-9C7A-99FBEBAFF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3962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-Н- и –НН- в суффиксах страдательных причастий прошедшего времени</a:t>
            </a: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и отглагольных прилагательны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724280"/>
            <a:ext cx="5943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азурова Еле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МОУ «Гимназия имени Н.В. Пушк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г. Троицк, Москов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Запишите текст, выполните грамматическое задание, заменив глаголы в скобках, страдательными причастиям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Около искрившихся снежных сугробов там и сям темными пятнами выступили закоптелые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сквозь пропита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ые дымом убогие избу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Погода утихла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тучи разошлись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равнина лежала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устла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ая волнистым ков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Лес вырубле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. Редкий кустарник подчеркивал ветхость дом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Тучи (рассеять) ветром больше не закрывали четкие очертания молодого месяца. Он играл разноцветными огоньками на  белых просторах (забросить) хут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аленькие искорки вспыхивали на кустах (окутать) серебристой дым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162920" y="6019920"/>
            <a:ext cx="533160" cy="5331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2209680"/>
            <a:ext cx="7772400" cy="2590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пражнение 119, стр. 5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76212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685800"/>
            <a:ext cx="838440" cy="2666880"/>
          </a:xfrm>
          <a:custGeom>
            <a:avLst/>
            <a:gdLst>
              <a:gd name="textAreaLeft" fmla="*/ 112320 w 838440"/>
              <a:gd name="textAreaRight" fmla="*/ 726120 w 838440"/>
              <a:gd name="textAreaTop" fmla="*/ 466560 h 2666880"/>
              <a:gd name="textAreaBottom" fmla="*/ 19335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9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9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0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352680"/>
            <a:ext cx="7925040" cy="2971800"/>
          </a:xfrm>
          <a:prstGeom prst="foldedCorner">
            <a:avLst>
              <a:gd name="adj" fmla="val 12500"/>
            </a:avLst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190760"/>
            <a:ext cx="8156520" cy="1431720"/>
          </a:xfrm>
          <a:prstGeom prst="rect">
            <a:avLst/>
          </a:prstGeom>
          <a:noFill/>
          <a:ln w="0">
            <a:noFill/>
          </a:ln>
          <a:effectLst>
            <a:outerShdw dist="117181" dir="18638369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Black"/>
              </a:rPr>
              <a:t>Спасибо за урок !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42670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28600"/>
            <a:ext cx="8381880" cy="15238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и и 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олжить обучение навыкам распознавать –Н- и –НН- в страдательных причастиях прошедшего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навыки написания –Н- и –НН- в причаст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ть пунктуационные навы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086600" y="6095880"/>
            <a:ext cx="457200" cy="457200"/>
          </a:xfrm>
          <a:prstGeom prst="diamon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905120"/>
            <a:ext cx="8686800" cy="49528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Запишите текст, вставьте пропущенные буквы, расставьте знаки препинания. Определите, какой частью речи являются слова с пропущенными орфограммам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коло искрившихся снежных сугробов там и сям темными пятнами выступили  насквозь пропита(?)ые дымом убогие избу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огода утихла тучи разошлись равнина лежала устла(?)ая волнистым ков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Лес вырубле(н, нн). Редкий кустарник подчеркивал ветхость до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4120" y="3200400"/>
            <a:ext cx="3200400" cy="4572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200400"/>
            <a:ext cx="3352680" cy="5335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676520"/>
            <a:ext cx="7772400" cy="13716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228600"/>
            <a:ext cx="3886200" cy="12193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28600"/>
            <a:ext cx="3809880" cy="12193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-н-                   -нн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954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676520"/>
            <a:ext cx="7696440" cy="42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Если слово образовано от основы глаго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несов. вида                сов. ви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пропит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устл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143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11430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25909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25909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800600" y="1905120"/>
            <a:ext cx="4038480" cy="19810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05120"/>
            <a:ext cx="4038840" cy="19810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8600"/>
            <a:ext cx="3962160" cy="1447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8600"/>
            <a:ext cx="3962520" cy="1447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-н-                    -нн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905120"/>
          <a:ext cx="8235720" cy="2057400"/>
        </p:xfrm>
        <a:graphic>
          <a:graphicData uri="http://schemas.openxmlformats.org/drawingml/2006/table">
            <a:tbl>
              <a:tblPr/>
              <a:tblGrid>
                <a:gridCol w="4117680"/>
                <a:gridCol w="411804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 Если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т</a:t>
                      </a: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приставки кроме  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. Если </a:t>
                      </a: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сть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иставка кроме н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905120" y="2438280"/>
            <a:ext cx="4572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438280"/>
            <a:ext cx="0" cy="1526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438280"/>
            <a:ext cx="4572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2438280"/>
            <a:ext cx="0" cy="7632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49568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о пит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 стлан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5720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572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5181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1814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1371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371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5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1905120"/>
            <a:ext cx="4038480" cy="144756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905120"/>
            <a:ext cx="3962160" cy="144756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228600"/>
            <a:ext cx="3962160" cy="1447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28600"/>
            <a:ext cx="3962520" cy="1447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-н-                 -нн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905120"/>
          <a:ext cx="8235720" cy="1523880"/>
        </p:xfrm>
        <a:graphic>
          <a:graphicData uri="http://schemas.openxmlformats.org/drawingml/2006/table">
            <a:tbl>
              <a:tblPr/>
              <a:tblGrid>
                <a:gridCol w="4117680"/>
                <a:gridCol w="41180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.Если </a:t>
                      </a:r>
                      <a:r>
                        <a:rPr b="0" i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т </a:t>
                      </a:r>
                      <a:r>
                        <a:rPr b="0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ависимых сл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. Если  </a:t>
                      </a:r>
                      <a:r>
                        <a:rPr b="0" i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сть </a:t>
                      </a:r>
                      <a:r>
                        <a:rPr b="0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зависимые слов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828800" y="419112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опитанны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ым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стлан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в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40384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19720" y="41144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41148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483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800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495680" y="5790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791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5791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6095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рублен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13716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1371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876920" y="1828800"/>
            <a:ext cx="4038480" cy="228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828800"/>
            <a:ext cx="3886200" cy="22860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228600"/>
            <a:ext cx="3962520" cy="1447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8600"/>
            <a:ext cx="3962160" cy="1447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44440"/>
            <a:ext cx="81565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-н-                 -нн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9480" y="1828800"/>
          <a:ext cx="8312400" cy="2385720"/>
        </p:xfrm>
        <a:graphic>
          <a:graphicData uri="http://schemas.openxmlformats.org/drawingml/2006/table">
            <a:tbl>
              <a:tblPr/>
              <a:tblGrid>
                <a:gridCol w="4114800"/>
                <a:gridCol w="4197600"/>
              </a:tblGrid>
              <a:tr h="23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. В кратких страдательных причастия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. Если слово оканчивается н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–</a:t>
                      </a:r>
                      <a:r>
                        <a:rPr b="0" i="1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ванный-,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ёванный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438280" y="4267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вырубле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1371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137160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9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Запишите текст, вставьте пропущенные буквы, расставьте знаки препинания. Определите, какой частью речи являются слова с пропущенными орфограммам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коло искрившихся снежных сугробов там и сям темными пятнами выступили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асквозь пропит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ые дымо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убогие избу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года утихл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тучи разошлис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равнина лежал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устл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я волнистым ковро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Лес вырубл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 Редкий кустарник подчеркивал ветхость до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371600"/>
            <a:ext cx="4572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8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8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8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8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9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9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9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9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0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0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0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1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1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2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27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28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9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0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33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34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5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6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Найдите ошибки в словах. Обоснуйте свой выбор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Писаные людьми законы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высушенное на солнце бель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подмоченый водой батон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патентованный препара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лакированый сто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514600"/>
            <a:ext cx="51814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тент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1. Документ, свидетельствующий право изобретателя на его изобрет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Свидетельство на право занятия торговлей, промыслом (уста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ya</cp:lastModifiedBy>
  <dcterms:modified xsi:type="dcterms:W3CDTF">2012-01-09T13:57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