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853-E527-4CB4-A12A-784F9770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3D1-957F-4D54-B67F-DA57CA8D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B74-40EC-4493-AEDC-46D13E2F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85B-9BA2-4B37-8651-012830D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CCE-409A-4053-A67E-EEA5609A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FB8-EBB5-41F0-8E5E-60507E7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B86-5729-4E19-8ACE-DD6DDC1D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F4E-55BA-4891-9851-19569C0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B27-BD5C-4957-B0E1-43618A52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631-6113-4DA9-A746-8E49EEB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EA0-409E-43CD-9ADD-696590B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53F-0B17-46F7-AD0B-0205658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1614-9277-4873-B92C-3BA67FE8D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295280"/>
            <a:ext cx="5639040" cy="434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85800"/>
            <a:ext cx="6858000" cy="556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457200"/>
            <a:ext cx="7632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380880"/>
            <a:ext cx="7596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066680" y="3429000"/>
            <a:ext cx="6934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2362320"/>
            <a:ext cx="175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щ-, -ющ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щ-, -ящ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36232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м, -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1447920"/>
            <a:ext cx="381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4419720"/>
            <a:ext cx="304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28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ини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ини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ш,  -в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80988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енн, н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,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295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143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4800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лица образования действительных и страдательных причас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05520"/>
            <a:ext cx="167652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м инфини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гласная перед –ть, такая и перед ш,в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5257800"/>
            <a:ext cx="213336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м инфини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инитив на –ать,-ять – пишем перед н,нн –а,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тальных случаях -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304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ya</cp:lastModifiedBy>
  <dcterms:modified xsi:type="dcterms:W3CDTF">2011-02-03T10:1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