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538-1F1A-452B-952A-A9AC6FB0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C2A-01F7-4BC5-810E-194A20A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E9C-F24B-4DB3-9963-12AB8BFB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DBD-4AAC-4EC7-9677-DB7B43B4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77A-0F69-4496-B6E6-550F99BE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8EF-0920-463B-82DC-7B229AB7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3E72-4AC3-466B-81D4-BD241D9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743-501E-44AC-AF8E-2121AB0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D9C-2551-4959-AD8C-949B85E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B94-627B-4DEA-AD70-8853F8D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8042-9E59-4B78-8248-10F3EA80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C08-9289-4EEA-8DD3-CAA9A21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3FCF-BD39-4A2E-96FC-A1AD11D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2E9-181A-43CA-8884-4C995FF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833-8EFA-44E0-BD5F-4B12315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00C-7B7B-4DB8-978F-F9ECA7CC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CD7-6479-4E32-B14F-27A95F52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0EA-C826-4306-A491-3CE38EA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2E0-AF6B-4118-A120-14698A1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E3A-E62B-41B4-966C-614D299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3FB-CF5E-418D-8F0B-518E96A5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419-B924-4087-9793-60759DA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E4B-BACE-441A-AECB-B480C2E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2D4-4805-4BE3-8D0C-96BBB444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5B6-FC15-4DCE-8458-04E6529A9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F1A0-36D9-48E3-AE9D-E79718576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208/yavorskiy-oleg.2c/0_32572_6641b123_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4/51/34051069_1224584057_vasilis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oclassics.net/_nw/55/49847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percook.ru/images-skazki-vypusk/sk-kaschey-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6167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рок – сказка  в 5 класс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 теме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Обобщение и систематизация знаний по разделу «Морфемика. Орфография. Культура речи»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к подготовила учител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русского языка и литературы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Терского филиал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МБОУ Заворонежской СОШ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Быкова Наталья Владимировн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ие части слова вы знаете? Расскажите о ни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ишите по 3 слова на каждую сх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00" y="-720"/>
            <a:ext cx="18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81400" y="3368160"/>
            <a:ext cx="227880" cy="252720"/>
            <a:chOff x="3281400" y="3368160"/>
            <a:chExt cx="227880" cy="252720"/>
          </a:xfrm>
        </p:grpSpPr>
        <p:sp>
          <p:nvSpPr>
            <p:cNvPr id="232" name=""/>
            <p:cNvSpPr/>
            <p:nvPr/>
          </p:nvSpPr>
          <p:spPr>
            <a:xfrm flipV="1">
              <a:off x="3281400" y="3368160"/>
              <a:ext cx="11412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95520" y="3368160"/>
              <a:ext cx="11376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 rot="19011000">
            <a:off x="1428120" y="2323080"/>
            <a:ext cx="1832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4" y="4"/>
                </a:moveTo>
                <a:arcTo wR="10800" hR="10800" stAng="-5306300" swAng="5281146"/>
                <a:lnTo>
                  <a:pt x="10800" y="10800"/>
                </a:lnTo>
                <a:close/>
              </a:path>
              <a:path fill="none" w="21600" h="21600">
                <a:moveTo>
                  <a:pt x="11094" y="4"/>
                </a:moveTo>
                <a:arcTo wR="10800" hR="10800" stAng="-5306300" swAng="528114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011000">
            <a:off x="1428480" y="3330000"/>
            <a:ext cx="18302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9" y="1"/>
                </a:moveTo>
                <a:arcTo wR="10800" hR="10800" stAng="-5352545" swAng="5101065"/>
                <a:lnTo>
                  <a:pt x="10800" y="10800"/>
                </a:lnTo>
                <a:close/>
              </a:path>
              <a:path fill="none" w="21600" h="21600">
                <a:moveTo>
                  <a:pt x="10949" y="1"/>
                </a:moveTo>
                <a:arcTo wR="10800" hR="10800" stAng="-5352545" swAng="510106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11000">
            <a:off x="1499040" y="4333680"/>
            <a:ext cx="182916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4" y="48"/>
                </a:moveTo>
                <a:arcTo wR="10800" hR="10800" stAng="-5076612" swAng="4709808"/>
                <a:lnTo>
                  <a:pt x="10800" y="10800"/>
                </a:lnTo>
                <a:close/>
              </a:path>
              <a:path fill="none" w="21600" h="21600">
                <a:moveTo>
                  <a:pt x="11814" y="48"/>
                </a:moveTo>
                <a:arcTo wR="10800" hR="10800" stAng="-5076612" swAng="470980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11000">
            <a:off x="1861200" y="5488200"/>
            <a:ext cx="1828800" cy="182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29" y="13"/>
                </a:moveTo>
                <a:arcTo wR="10800" hR="10800" stAng="-5231667" swAng="5152901"/>
                <a:lnTo>
                  <a:pt x="10800" y="10800"/>
                </a:lnTo>
                <a:close/>
              </a:path>
              <a:path fill="none" w="21600" h="21600">
                <a:moveTo>
                  <a:pt x="11329" y="13"/>
                </a:moveTo>
                <a:arcTo wR="10800" hR="10800" stAng="-5231667" swAng="51529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5589720"/>
            <a:ext cx="3585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65760" y="4390200"/>
            <a:ext cx="490680" cy="163440"/>
            <a:chOff x="1265760" y="4390200"/>
            <a:chExt cx="490680" cy="163440"/>
          </a:xfrm>
        </p:grpSpPr>
        <p:sp>
          <p:nvSpPr>
            <p:cNvPr id="240" name=""/>
            <p:cNvSpPr/>
            <p:nvPr/>
          </p:nvSpPr>
          <p:spPr>
            <a:xfrm>
              <a:off x="1265760" y="4390200"/>
              <a:ext cx="49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6440" y="439020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265760" y="5596560"/>
            <a:ext cx="490680" cy="162000"/>
            <a:chOff x="1265760" y="5596560"/>
            <a:chExt cx="490680" cy="162000"/>
          </a:xfrm>
        </p:grpSpPr>
        <p:sp>
          <p:nvSpPr>
            <p:cNvPr id="243" name=""/>
            <p:cNvSpPr/>
            <p:nvPr/>
          </p:nvSpPr>
          <p:spPr>
            <a:xfrm>
              <a:off x="1265760" y="5596560"/>
              <a:ext cx="49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56440" y="559656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08320" y="4376160"/>
            <a:ext cx="227880" cy="252720"/>
            <a:chOff x="3208320" y="4376160"/>
            <a:chExt cx="227880" cy="252720"/>
          </a:xfrm>
        </p:grpSpPr>
        <p:sp>
          <p:nvSpPr>
            <p:cNvPr id="246" name=""/>
            <p:cNvSpPr/>
            <p:nvPr/>
          </p:nvSpPr>
          <p:spPr>
            <a:xfrm flipV="1">
              <a:off x="3208320" y="4376160"/>
              <a:ext cx="11412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22440" y="4376160"/>
              <a:ext cx="11376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39960" y="5455080"/>
            <a:ext cx="227880" cy="254880"/>
            <a:chOff x="3639960" y="5455080"/>
            <a:chExt cx="227880" cy="254880"/>
          </a:xfrm>
        </p:grpSpPr>
        <p:sp>
          <p:nvSpPr>
            <p:cNvPr id="249" name=""/>
            <p:cNvSpPr/>
            <p:nvPr/>
          </p:nvSpPr>
          <p:spPr>
            <a:xfrm flipV="1">
              <a:off x="3639960" y="5455080"/>
              <a:ext cx="114120" cy="2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54080" y="5455440"/>
              <a:ext cx="113760" cy="2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780000" y="4437000"/>
            <a:ext cx="3585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429000"/>
            <a:ext cx="3589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64000" y="2492280"/>
            <a:ext cx="3585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спомните 7 названий сказок, в которых имеются слова с оценочными суффиксами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спомните о правописании приставок на з- и с-. Выпишите из предложений слова с этими приставками в 2 столбика: в 1- с приставкой, окончивающейся на з-; во 2- на с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 Лучше маленькое дело, чем большое бездел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За бесплодный труд никто спасибо не скаж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У храбрых есть только бессмертие, смерти у них 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Уменье и скалу разруш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 Всякое решение любит рассу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6. Бездонную бочку водой не наполн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7. Хорошему прыжку разбег нуж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8. За один раз дерева не сруб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9. Веника не сломишь, а прутья по одному все перелом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0. Сделал дело, гуляй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Запишите предложения, найдите в них слова с чередующими гласными в корне. Объясните данную орфограм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 Поскорей подрастай, да к работе поспев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Чужую беду руками разведу, а к своей ума не прилож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Умный надеется на свое дело, а глупый полагается на надеж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Не беречь поросли- не видать дерева. (Поросль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молодые деревц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 Отложил на осень, а там и брос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6. Чего не положил- не б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7. Кто любит деньги копить, а кто брюхо раст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8. Что миром положено, тому и быть т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шите предложение по памяти, в котором содержатся слова исключения на орфограмму «Буквы ы - и  после ц» и составьте  схему этого предложения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4830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дание </a:t>
            </a:r>
            <a:br>
              <a:rPr sz="2800"/>
            </a:b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Отгадайте 3 загадки, запишите слова - отгадки, разберите их по состав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Не спорю, не белы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, братцы, попроще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ту я обы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березовой рощ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Из-под снега  расцвета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ньше всех весну встреч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Ночью, в полдень, на рассв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бу он несет в секр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тропе, на бере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граждает путь вра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-main-pic" descr="Картинка 16 из 24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  <p:pic>
        <p:nvPicPr>
          <p:cNvPr id="266" name="p323831416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84978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гадайте кроссвор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9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Род коротких брю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Небольшая лодка, выдолбленная из цельного куста дер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Откидной головной убор, пришитый или пристегиваемый к вороту верхней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Кондитерское изделие – застывшая масса какао с саха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Изделие для чистки, мытья чего-нибудь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411280" y="1341360"/>
          <a:ext cx="4038840" cy="264492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1320"/>
                <a:gridCol w="519120"/>
                <a:gridCol w="517320"/>
                <a:gridCol w="519120"/>
                <a:gridCol w="517680"/>
                <a:gridCol w="519120"/>
              </a:tblGrid>
              <a:tr h="562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бщить и систематизировать знания учащихся по разделу «Морфемика. Орфография. Культура реч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ть навыки объяснения зависимости написания слова от   его   значения и стр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речь учащихся, мышление, внимание, память, развитие навыков морфемного  разбо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вать любовь к устному народному творч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вать любовь и интерес к русскому язы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0" y="0"/>
            <a:ext cx="82440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помощь, ребят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00720" y="1762200"/>
            <a:ext cx="43686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. 70-87, упр. 4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олшебное кольцо: Русские народные сказки.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: Дом, 199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Л.Т.Григорян. Язык мой – друг мой.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: Просвещение,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Т.А. Ладыженская, М.Т. Баранов,  Л.А. Тростенцова и др. Русский язык: учебник для 5 класса  общеобразовательных учреждений.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: Просвещение,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анов М. В. Занимательная орфография. - М., 198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Русские народные загадки, пословицы, поговорки. – М.: Просвещение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усский язык.  5-7 классы. Дидактический и раздаточный материал. Издательство: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-main-pic" descr="Картинка 21 из 136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2519280" cy="6193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348000" y="3573360"/>
            <a:ext cx="534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некотором царстве, в некотором государстве жил-был Иван-царевич.  И было у него 3 сестры: Марья, Елена и Анна. Отец и мать у них умерли. Отдал Иван-царевич сестер замуж за царей медного, серебряного и золотого царства. Целый год жил без сестер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скучился по ним и решил их навестит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отправился в пу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Русская народная сказка - Марья Моревна"/>
          <p:cNvPicPr/>
          <p:nvPr/>
        </p:nvPicPr>
        <p:blipFill>
          <a:blip r:embed="rId3"/>
          <a:stretch/>
        </p:blipFill>
        <p:spPr>
          <a:xfrm>
            <a:off x="3635280" y="260280"/>
            <a:ext cx="5040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403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35280" y="4436640"/>
            <a:ext cx="325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о злой Кощей Бессмертный похитил Василис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48639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-main-pic" descr="Картинка 2 из 52"/>
          <p:cNvPicPr/>
          <p:nvPr/>
        </p:nvPicPr>
        <p:blipFill>
          <a:blip r:embed="rId1"/>
          <a:stretch/>
        </p:blipFill>
        <p:spPr>
          <a:xfrm>
            <a:off x="1258920" y="189000"/>
            <a:ext cx="6769080" cy="6480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19280" y="2997360"/>
            <a:ext cx="1582560" cy="1557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йся сказки, бойся л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-main-pic" descr="Картинка 9 из 73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60280"/>
            <a:ext cx="65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помните и запишите 10 словарных слов по памяти, которые мы изучали в теме «Морфемика. Орфография. Культура речи.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i-main-pic" descr="Картинка 1 из 780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7:46:23Z</dcterms:created>
  <dc:creator>User</dc:creator>
  <dc:description/>
  <dc:language>en-US</dc:language>
  <cp:lastModifiedBy>User</cp:lastModifiedBy>
  <dcterms:modified xsi:type="dcterms:W3CDTF">2012-05-10T18:25:45Z</dcterms:modified>
  <cp:revision>8</cp:revision>
  <dc:subject/>
  <dc:title>Урок – сказка  в 5 классе  по теме: «Обобщение и систематизация знаний по разделу «Словообразование»</dc:title>
</cp:coreProperties>
</file>