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8.gif" ContentType="image/gif"/>
  <Override PartName="/ppt/media/image13.gif" ContentType="image/gif"/>
  <Override PartName="/ppt/media/image10.png" ContentType="image/png"/>
  <Override PartName="/ppt/media/image5.wmf" ContentType="image/x-wmf"/>
  <Override PartName="/ppt/media/image6.png" ContentType="image/png"/>
  <Override PartName="/ppt/media/image9.jpeg" ContentType="image/jpeg"/>
  <Override PartName="/ppt/media/image11.gif" ContentType="image/gi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789E-BABF-400F-A9D4-E128DDA2F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46CE-77B9-4A71-90F4-87A0F9E6E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5EEB-9F93-4BC0-A519-2FA70AF5E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D7C7-3BD4-487D-98FF-9C8E059325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0243-5903-44AE-BEB6-5125CE22EB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6DA2-3521-481C-9A4F-088310AF4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39F9-E02C-4D16-B317-F7F4A1A9B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BCCE-6D1A-403C-A869-AA078EEFC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C280-60FC-4E6B-9C4C-7BE58E69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31EC-9A70-4426-98C4-7BAEDE04A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FFB3-6061-418C-B626-F3ED8FA7E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B45F-EADD-482C-BCAE-8083B3B97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09384-3C83-460C-A2C8-1938173EC76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92000" y="2160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рок «3 склонения имён существительных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1841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20720" y="2873160"/>
            <a:ext cx="7772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рок русского языка, 2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43480" y="5184720"/>
            <a:ext cx="337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втор: Корнеева Лидия Иван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У СОШ №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. Новый Уренг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Алгорит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295280" y="1676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.п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д. числ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нч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315200" y="5029200"/>
            <a:ext cx="1236600" cy="1236600"/>
            <a:chOff x="7315200" y="5029200"/>
            <a:chExt cx="1236600" cy="123660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7315200" y="5029200"/>
              <a:ext cx="1236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7315200" y="5029200"/>
              <a:ext cx="12366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6"/>
          <p:cNvSpPr/>
          <p:nvPr/>
        </p:nvSpPr>
        <p:spPr>
          <a:xfrm>
            <a:off x="1219320" y="1676520"/>
            <a:ext cx="304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43000" y="1600200"/>
            <a:ext cx="3276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с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38280" y="16002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038480" y="1981080"/>
            <a:ext cx="1067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110200" y="1676520"/>
            <a:ext cx="15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858000" y="18288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с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6858000" y="1676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5800" y="2819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ако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с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743200" y="28195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4419720" y="32767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410080" y="28195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ак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с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7391520" y="2666880"/>
            <a:ext cx="1600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914400" y="4191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чь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с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362320" y="41148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4191120" y="44956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181480" y="4267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ч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с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6629400" y="419112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79280" y="11592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гра «Соберём слова в корзинку- скло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684360" y="1125360"/>
            <a:ext cx="2590560" cy="2430720"/>
            <a:chOff x="684360" y="1125360"/>
            <a:chExt cx="2590560" cy="243072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684360" y="1125360"/>
              <a:ext cx="2590560" cy="24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684360" y="1125360"/>
              <a:ext cx="2590560" cy="24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3419640" y="1557360"/>
            <a:ext cx="2374560" cy="2338200"/>
            <a:chOff x="3419640" y="1557360"/>
            <a:chExt cx="2374560" cy="2338200"/>
          </a:xfrm>
        </p:grpSpPr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3419640" y="1557360"/>
              <a:ext cx="2374560" cy="23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7"/>
            <p:cNvSpPr/>
            <p:nvPr/>
          </p:nvSpPr>
          <p:spPr>
            <a:xfrm>
              <a:off x="3419640" y="1557360"/>
              <a:ext cx="237456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6227640" y="1700280"/>
            <a:ext cx="2519640" cy="2340000"/>
            <a:chOff x="6227640" y="1700280"/>
            <a:chExt cx="2519640" cy="2340000"/>
          </a:xfrm>
        </p:grpSpPr>
        <p:pic>
          <p:nvPicPr>
            <p:cNvPr id="129" name="Picture 9" descr=""/>
            <p:cNvPicPr/>
            <p:nvPr/>
          </p:nvPicPr>
          <p:blipFill>
            <a:blip r:embed="rId3"/>
            <a:stretch/>
          </p:blipFill>
          <p:spPr>
            <a:xfrm>
              <a:off x="6227640" y="1700280"/>
              <a:ext cx="25196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0"/>
            <p:cNvSpPr/>
            <p:nvPr/>
          </p:nvSpPr>
          <p:spPr>
            <a:xfrm>
              <a:off x="6227640" y="1700280"/>
              <a:ext cx="2519640" cy="23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1"/>
          <p:cNvSpPr/>
          <p:nvPr/>
        </p:nvSpPr>
        <p:spPr>
          <a:xfrm>
            <a:off x="395280" y="51148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УЖ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710160" y="45370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357800" y="501192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300720" y="44654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АК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611280" y="44654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17800" y="5804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2989440" y="58042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2486160" y="50418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С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5942160" y="5083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1763640" y="981000"/>
            <a:ext cx="57780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183528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42764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500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7236000" y="1341360"/>
            <a:ext cx="64908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730872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 -6 L -1.95466 -6 L 0.30156 -0.34814 E">
                                      <p:cBhvr>
                                        <p:cTn id="12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-1.39255 -6 L -0.34827 -0.40041 E">
                                      <p:cBhvr>
                                        <p:cTn id="1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-1.95466 -6 L -0.25313 -0.29563 E">
                                      <p:cBhvr>
                                        <p:cTn id="13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4187 L 0.05521 -0.53689 E">
                                      <p:cBhvr>
                                        <p:cTn id="13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 -6 L -1.42031 -6 L 0.49618 -0.43211 E">
                                      <p:cBhvr>
                                        <p:cTn id="14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83 -0.04372 L -0.24947 -0.48462 E">
                                      <p:cBhvr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2267 L 0.19409 -0.40042 E">
                                      <p:cBhvr>
                                        <p:cTn id="15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5.20472 -7 L 0.33229 -0.51608 E">
                                      <p:cBhvr>
                                        <p:cTn id="1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5.20472 -7 L 0.01632 -0.5369 E">
                                      <p:cBhvr>
                                        <p:cTn id="15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914400" y="1000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Запишите слова. </a:t>
            </a:r>
            <a:br>
              <a:rPr sz="3200"/>
            </a:b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Вставьте попущенные буквы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еркните в каждом ряду лишнее сл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на, р.ка, ст.кло, стр.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р.на, св.рло, оз.ро, гн.з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в.рец, г.ра, с.рняк, зв.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юга, ласточ.ка, рыс., .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24080" y="27432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124080" y="28195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143000" y="1752480"/>
            <a:ext cx="7696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 12 правило уч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. 14 №28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склонять существительны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6400800" y="4629240"/>
            <a:ext cx="1674720" cy="1474560"/>
            <a:chOff x="6400800" y="4629240"/>
            <a:chExt cx="1674720" cy="1474560"/>
          </a:xfrm>
        </p:grpSpPr>
        <p:pic>
          <p:nvPicPr>
            <p:cNvPr id="153" name="Picture 4" descr=""/>
            <p:cNvPicPr/>
            <p:nvPr/>
          </p:nvPicPr>
          <p:blipFill>
            <a:blip r:embed="rId1"/>
            <a:stretch/>
          </p:blipFill>
          <p:spPr>
            <a:xfrm>
              <a:off x="6400800" y="4629240"/>
              <a:ext cx="167472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6400800" y="4629240"/>
              <a:ext cx="1674720" cy="14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094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изучали на уро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колько типов склонения знае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ие существительные относя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 1 скл., 2ск., 3 скл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 определить склонение существительно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886200" y="4343400"/>
            <a:ext cx="1712880" cy="1712880"/>
            <a:chOff x="3886200" y="4343400"/>
            <a:chExt cx="1712880" cy="171288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3886200" y="4343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5"/>
            <p:cNvSpPr/>
            <p:nvPr/>
          </p:nvSpPr>
          <p:spPr>
            <a:xfrm>
              <a:off x="3886200" y="4343400"/>
              <a:ext cx="1712880" cy="17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оволен ли ты своей работ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было особенно интерес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каким настроением заканчиваем ур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838080" y="3505320"/>
            <a:ext cx="1371600" cy="1523880"/>
          </a:xfrm>
          <a:prstGeom prst="smileyFace">
            <a:avLst>
              <a:gd name="adj" fmla="val 9282"/>
            </a:avLst>
          </a:prstGeom>
          <a:solidFill>
            <a:srgbClr val="fbd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124080" y="3581280"/>
            <a:ext cx="1371600" cy="1524240"/>
          </a:xfrm>
          <a:prstGeom prst="smileyFace">
            <a:avLst>
              <a:gd name="adj" fmla="val 208"/>
            </a:avLst>
          </a:prstGeom>
          <a:solidFill>
            <a:srgbClr val="fbd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5562720" y="3505320"/>
            <a:ext cx="1371600" cy="1523880"/>
          </a:xfrm>
          <a:prstGeom prst="smileyFace">
            <a:avLst>
              <a:gd name="adj" fmla="val -4652"/>
            </a:avLst>
          </a:prstGeom>
          <a:solidFill>
            <a:srgbClr val="fbd2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7467480" y="5029200"/>
            <a:ext cx="1236960" cy="1236600"/>
            <a:chOff x="7467480" y="5029200"/>
            <a:chExt cx="1236960" cy="1236600"/>
          </a:xfrm>
        </p:grpSpPr>
        <p:pic>
          <p:nvPicPr>
            <p:cNvPr id="166" name="Picture 7" descr=""/>
            <p:cNvPicPr/>
            <p:nvPr/>
          </p:nvPicPr>
          <p:blipFill>
            <a:blip r:embed="rId1"/>
            <a:stretch/>
          </p:blipFill>
          <p:spPr>
            <a:xfrm>
              <a:off x="7467480" y="5029200"/>
              <a:ext cx="12369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8"/>
            <p:cNvSpPr/>
            <p:nvPr/>
          </p:nvSpPr>
          <p:spPr>
            <a:xfrm>
              <a:off x="7467480" y="5029200"/>
              <a:ext cx="12369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AutoShape 9"/>
          <p:cNvSpPr/>
          <p:nvPr/>
        </p:nvSpPr>
        <p:spPr>
          <a:xfrm>
            <a:off x="1143000" y="3124080"/>
            <a:ext cx="762120" cy="76212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505320" y="3200400"/>
            <a:ext cx="761760" cy="76212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5867280" y="3200400"/>
            <a:ext cx="762120" cy="76212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19f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cc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5238720" y="2428920"/>
            <a:ext cx="2855880" cy="2865240"/>
            <a:chOff x="5238720" y="2428920"/>
            <a:chExt cx="2855880" cy="286524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tretch/>
          </p:blipFill>
          <p:spPr>
            <a:xfrm>
              <a:off x="5238720" y="2428920"/>
              <a:ext cx="285588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"/>
            <p:cNvSpPr/>
            <p:nvPr/>
          </p:nvSpPr>
          <p:spPr>
            <a:xfrm>
              <a:off x="5238720" y="2428920"/>
              <a:ext cx="285588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Rectangle 4"/>
          <p:cNvSpPr/>
          <p:nvPr/>
        </p:nvSpPr>
        <p:spPr>
          <a:xfrm>
            <a:off x="838080" y="990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1"/>
          <p:cNvSpPr txBox="1"/>
          <p:nvPr/>
        </p:nvSpPr>
        <p:spPr>
          <a:xfrm rot="21000000">
            <a:off x="1417320" y="1201680"/>
            <a:ext cx="6756480" cy="37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00"/>
                    </a:gs>
                  </a:gsLst>
                  <a:lin ang="7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00"/>
                  </a:gs>
                </a:gsLst>
                <a:lin ang="7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590480" cy="1362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53352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:\\allforchildren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sedu.ru/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emcko.naro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71680" y="896400"/>
            <a:ext cx="8143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ойщикова Н. В. Тренинговые карточки по русскому языку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ьной школы. 1-4 классы. Волгоград: Учитель, 200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Бакулина Г. А. Интеллектуальное развитие по русскому языку. – М.: Детская литература, 200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к, Т.Г. Здравствуйте, Имя Существительное! – М.: РИО «Самовар», 1994. – 101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762120" y="1066680"/>
            <a:ext cx="70801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какого падежа является началь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предлога не употребляются какой падеж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ком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ги в, на, за, под, через, про,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ое слово н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ги к,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 – подлежащее всегда стоит в 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ког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чт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ги о, 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914400" y="228600"/>
            <a:ext cx="7466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Игра  «Узнай падеж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73376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533520" y="1371600"/>
            <a:ext cx="8458200" cy="4038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09480" y="1447920"/>
            <a:ext cx="8229600" cy="3733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пт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ше н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 и 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 о лиц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8080" y="16765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236232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523880" y="31240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523880" y="38098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81280" y="1676520"/>
            <a:ext cx="2160720" cy="2950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 кз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 тве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лов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 газ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876840" y="179712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962520" y="243828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886200" y="31240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038480" y="365760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19920" y="1676520"/>
            <a:ext cx="2514600" cy="296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 рков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 трад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 лодеж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бе 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408720" y="1871640"/>
            <a:ext cx="289080" cy="46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324480" y="2438280"/>
            <a:ext cx="2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477120" y="304812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6934320" y="365760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7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203508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925560" y="1447920"/>
            <a:ext cx="74775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3 склоне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имён</a:t>
            </a: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Propisi"/>
              </a:rPr>
              <a:t>существительны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565200" y="1447920"/>
            <a:ext cx="82029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Propisi"/>
              </a:rPr>
              <a:t>3 </a:t>
            </a: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склонен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имен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Propisi"/>
              </a:rPr>
              <a:t>существительных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76212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"/>
          <p:cNvSpPr/>
          <p:nvPr/>
        </p:nvSpPr>
        <p:spPr>
          <a:xfrm>
            <a:off x="1600200" y="16765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у новую оп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о нам запомин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Что за три скло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лицах удивление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концу урока исчезнут сомн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мы узнаем ваше мне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609480" y="1676520"/>
            <a:ext cx="80503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ниги учат нас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мелост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и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дружб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е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62520" y="2666880"/>
            <a:ext cx="5331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086600" y="2590920"/>
            <a:ext cx="533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1733760" cy="184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13986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1066680" y="1447920"/>
            <a:ext cx="7162920" cy="38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то трудное задань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явите-ка старань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 особенность ищит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ичего не прогляди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9528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учное исследов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18253" t="0" r="18253" b="0"/>
          <a:stretch/>
        </p:blipFill>
        <p:spPr>
          <a:xfrm>
            <a:off x="533520" y="52578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694640" y="5334120"/>
            <a:ext cx="107640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-579600" y="290520"/>
            <a:ext cx="571680" cy="1440"/>
          </a:xfrm>
          <a:prstGeom prst="rect">
            <a:avLst/>
          </a:prstGeom>
          <a:solidFill>
            <a:srgbClr val="f9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-579600" y="290520"/>
            <a:ext cx="3430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-579600" y="290520"/>
            <a:ext cx="3430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-579600" y="290520"/>
            <a:ext cx="571680" cy="1440"/>
          </a:xfrm>
          <a:prstGeom prst="rect">
            <a:avLst/>
          </a:prstGeom>
          <a:solidFill>
            <a:srgbClr val="f9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579600" y="290520"/>
            <a:ext cx="3430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-579600" y="290520"/>
            <a:ext cx="3430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609480"/>
          <a:ext cx="8786880" cy="5627880"/>
        </p:xfrm>
        <a:graphic>
          <a:graphicData uri="http://schemas.openxmlformats.org/drawingml/2006/table">
            <a:tbl>
              <a:tblPr/>
              <a:tblGrid>
                <a:gridCol w="685800"/>
                <a:gridCol w="990720"/>
                <a:gridCol w="457200"/>
                <a:gridCol w="685800"/>
                <a:gridCol w="457200"/>
                <a:gridCol w="803160"/>
                <a:gridCol w="488880"/>
                <a:gridCol w="776520"/>
                <a:gridCol w="487080"/>
                <a:gridCol w="798480"/>
                <a:gridCol w="393840"/>
                <a:gridCol w="711360"/>
                <a:gridCol w="471240"/>
                <a:gridCol w="216000"/>
                <a:gridCol w="36360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скло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688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 скло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 скло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Ж.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.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.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.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Ж. 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46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46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т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тек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dd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пе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но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8ea"/>
                    </a:solidFill>
                  </a:tcPr>
                </a:tc>
                <a:tc gridSpan="2"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105"/>
          <p:cNvSpPr/>
          <p:nvPr/>
        </p:nvSpPr>
        <p:spPr>
          <a:xfrm>
            <a:off x="7010280" y="17524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6"/>
          <p:cNvSpPr/>
          <p:nvPr/>
        </p:nvSpPr>
        <p:spPr>
          <a:xfrm>
            <a:off x="8077320" y="1828800"/>
            <a:ext cx="2286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7"/>
          <p:cNvSpPr/>
          <p:nvPr/>
        </p:nvSpPr>
        <p:spPr>
          <a:xfrm>
            <a:off x="8077320" y="40384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08"/>
          <p:cNvSpPr/>
          <p:nvPr/>
        </p:nvSpPr>
        <p:spPr>
          <a:xfrm>
            <a:off x="7010280" y="40384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09"/>
          <p:cNvSpPr/>
          <p:nvPr/>
        </p:nvSpPr>
        <p:spPr>
          <a:xfrm>
            <a:off x="5715000" y="17524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10"/>
          <p:cNvSpPr/>
          <p:nvPr/>
        </p:nvSpPr>
        <p:spPr>
          <a:xfrm>
            <a:off x="5638680" y="4114800"/>
            <a:ext cx="2286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762120" y="274680"/>
            <a:ext cx="7848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клонения имён существи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447920"/>
          <a:ext cx="8307360" cy="5051160"/>
        </p:xfrm>
        <a:graphic>
          <a:graphicData uri="http://schemas.openxmlformats.org/drawingml/2006/table">
            <a:tbl>
              <a:tblPr/>
              <a:tblGrid>
                <a:gridCol w="1747800"/>
                <a:gridCol w="2092320"/>
                <a:gridCol w="1758960"/>
                <a:gridCol w="2708280"/>
              </a:tblGrid>
              <a:tr h="480960">
                <a:tc gridSpan="4"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лон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онч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скло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а-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яд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5ff"/>
                    </a:solidFill>
                  </a:tcPr>
                </a:tc>
              </a:tr>
              <a:tr h="1548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скло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.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е</a:t>
                      </a:r>
                      <a:r>
                        <a:rPr b="1" lang="ru-RU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dce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он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но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dce"/>
                    </a:solidFill>
                  </a:tcPr>
                </a:tc>
              </a:tr>
              <a:tr h="1307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скло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.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6fe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ч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6fe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0"/>
          <p:cNvSpPr/>
          <p:nvPr/>
        </p:nvSpPr>
        <p:spPr>
          <a:xfrm>
            <a:off x="4648320" y="3733920"/>
            <a:ext cx="457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4952880" y="5334120"/>
            <a:ext cx="457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er</cp:lastModifiedBy>
  <dcterms:modified xsi:type="dcterms:W3CDTF">2012-08-23T19:55:31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