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gif" ContentType="image/gif"/>
  <Override PartName="/ppt/media/image15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C3C-82A1-4932-A934-33A18868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888-30F7-4237-BC02-9820F72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8921E-9139-4B6E-9DED-90EFCCD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49B2B-0084-4CF1-9B7F-ACD13D4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E1B0-B937-4D33-9951-7C00815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74C34-AF58-4640-97DC-8E6706B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5AE07-10F9-4D5B-85A4-D11F5F7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CF7D4-26CA-4EF3-A418-5065243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93C05-5221-4511-A642-5901D705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86EA0-331E-4BDF-8108-932BA11E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2F06-477D-40A4-B0E7-8E098139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DAC-A406-41EC-84DA-F769832A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DF5-2CAA-425D-86E3-EA2B174C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999-DFAE-45D7-A06E-154943AE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36A1-F5AF-4590-BCCC-F189500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24F-51CF-417A-A43D-C09288A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207-12EC-47D0-971F-47AB0C0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CE1C-C35C-4E7B-BA03-95826A3B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CB8-5FA6-4151-B710-B8679F7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5DFC-EF66-4E10-A109-33F33A3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FE8-D599-4557-8D28-D2C02E2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73DE-C4EE-416C-BFA0-BD66113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FFBC-055F-4998-9CFF-271DEDD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5A34-DEA7-4BF3-A186-87F562E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61F-157C-489C-A2B9-A39CD10A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B1B-E33B-4EF3-8639-0C9FBEF7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DEE6-66A5-48A1-B49C-3C996F4A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18F9-640E-4381-843D-8435069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94D6-C0E3-4EBA-8AA3-5246659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0E2ED-B3D2-4C07-998E-9C3C350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8F60-5901-475F-9A07-34184D0F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D76-EFB1-440A-9151-08DA7B8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BA23-4ED0-43BB-8156-7A1A293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D3FF-2C6E-40B0-AF04-D3E3B87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ED23-FF5C-457F-926E-DB6EC71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534E-2CAF-4063-88F6-969EF0BD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BA00-BC36-442F-A4DC-7C1B3312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8400-B7DF-4D1A-B553-7894E664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4AD6-1B76-4F5A-BF55-F6AD2FBD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8B1F-ED4C-4824-A1E3-1182BF6F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2374D-64AB-4FAD-A60E-F5DA176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4F6D-5069-483A-B683-D9530FE3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D76-4324-4AEF-A6FC-F84EFFF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95BD-E0B2-4D72-96A3-85D5DF7F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79F2-AF45-4D19-A91B-3695E05D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8A0A-DD62-41E0-90D7-305D17E9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F5DBD-9D26-4713-9421-BAB5F9C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7AF67-AB08-47D8-B912-FBFB68A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7E3A-E798-407A-AB3F-ADF251C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24DF-76B8-4E7C-A878-869B0026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C4E6-4565-4093-90A2-498C049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9148-1766-44A8-AFD8-34484F4D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0D207-3A8D-4D62-BFBA-73B50FAD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D20-6043-4AA1-8A3D-275B8033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1AAC-6EA8-48AE-8117-C9911F5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7799-CA4B-4030-A6A4-B4DCB3E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9E5A-FC0A-4E0B-9E7F-1C58B78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54DB-ACD9-4FE5-8A55-89BD4C2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CB68-BBF8-467E-B573-8C145E6F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CF8F-678D-4CA0-A573-0D758DEE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E5EE-048C-47FA-8470-BAFF29B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2AE5-BC62-4378-817C-0C357A2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0ACC-47EA-4A01-A68A-75291319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D874-411E-4E4C-BF98-4DBC0394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D2C-5A09-4ECB-9448-BDB3C87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C3A31-590D-4038-9846-AA167717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F482E-34F3-4FF1-A5C0-97203B47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088F-AF38-4A53-BF35-DF1F503E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40C6-7501-4CC0-814F-CC52C26A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146F-6EEB-4164-80FE-62B9D86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99D8-92B7-4842-9D6F-38E70F4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33D2-C5D0-4B56-9DB7-76AC03B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7689-CE5D-4A89-A83E-FDD3DA4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1F9F-CBED-4D21-A02C-CB3B163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831E-E818-4B5B-AA74-10D1C91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F1D-AFBB-439C-BF1E-8DFED96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53032-13F4-47CF-BEA8-1BAB30A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E5BD-03AD-424B-9B85-BD65B3EF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D087-614E-469B-9B0E-78D91B1E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5586D-879A-4247-843A-16643CD3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82AFE-3022-42C4-A00A-2364B61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26D0-ADC0-46B0-A09B-FB13FEF8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311D2-FD3B-4B34-B5C4-37C7E8C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2BAD-2FCB-4DAF-99BA-CAFE139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1746-A403-43E0-817A-4AE78AD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B71A-D806-4FF2-8454-2560BFD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B45-314C-4573-8B7C-E04180D4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F121-6DA0-4373-B3E9-8483583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BD6C-FD5E-42A8-8981-9E120A2E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93A27-7D04-4E7C-B670-C05BAC62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D25D-4DE0-4C2E-8CE2-13387C6C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89C4-B25B-408D-BDBC-3DD24C47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C287-3425-4D16-BF0D-ACF7BD2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EB474-7101-45EC-BE9E-17416F4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BBF8-B535-4FFD-89DF-FC43456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3B929-E0BB-4F21-8913-A49E0566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DFEE-9A5E-40AC-9F58-279221ED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D7A-CC4C-481C-A12B-8E8C0F0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55CE-B15B-497D-B49E-D97192BA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28B0-1846-439B-B3B9-5D7881E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A192-BCA7-494C-85CF-95E2CAA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53A0-5D57-4FCA-946E-373668B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D1E3-4283-4EE4-867C-65FFEC5B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3E5DD-F302-4E56-B653-E4C732AA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1470-2BEB-4681-9D13-0D51092A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AB9D6-BE51-4530-8152-C1ED152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CEC82-1F84-4CAC-93D7-6D65A6DA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A618-3EEB-4B87-97C4-BECD5B6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4A75-6265-4BF5-82F1-C3F650ACA2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A49D-67B2-41C2-AEC4-A2856A9CFE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93B-A498-4F80-9ADA-639D5F704F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77B-9D48-4AF9-958B-A27969F3F9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387-44FC-4F77-8F6E-2B0725A0C8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1B7-24D1-46A3-A3A5-5ECFA699E8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FD2D-612B-4ADA-9E79-E1A851DD1D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3DF0-7CA0-40F6-A43B-509D500051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D792-5F75-45D2-9014-CF4141DAB9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ege-study.ru/materialy-ege/teoriya-veroyatnostej-na-ege-po-matematike/" TargetMode="External"/><Relationship Id="rId3" Type="http://schemas.openxmlformats.org/officeDocument/2006/relationships/hyperlink" Target="http://www.berdov.com/ege/teorver/coins/" TargetMode="External"/><Relationship Id="rId4" Type="http://schemas.openxmlformats.org/officeDocument/2006/relationships/hyperlink" Target="http://mathege.ru/or/ege/ShowProblems?offset=6&amp;posMask=512&amp;showProto=true" TargetMode="External"/><Relationship Id="rId5" Type="http://schemas.openxmlformats.org/officeDocument/2006/relationships/hyperlink" Target="http://ege-online-test.ru/theory.php?art=B10-1" TargetMode="External"/><Relationship Id="rId6" Type="http://schemas.openxmlformats.org/officeDocument/2006/relationships/hyperlink" Target="http://mytutor.spb.ru/math_material/b10_solution" TargetMode="External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19240" y="79200"/>
            <a:ext cx="9021600" cy="457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35280" y="5445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Автор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Сидорова А.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математ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МБОУ СОШ № 3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г. Мурманс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330480" y="14176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685800" y="2133720"/>
          <a:ext cx="2819520" cy="360684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TextBox 7"/>
          <p:cNvSpPr/>
          <p:nvPr/>
        </p:nvSpPr>
        <p:spPr>
          <a:xfrm>
            <a:off x="99072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190512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2819520" y="2743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99072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9907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990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990720" y="4191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9907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990720" y="4952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TextBox 16"/>
          <p:cNvSpPr/>
          <p:nvPr/>
        </p:nvSpPr>
        <p:spPr>
          <a:xfrm>
            <a:off x="990720" y="4572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TextBox 17"/>
          <p:cNvSpPr/>
          <p:nvPr/>
        </p:nvSpPr>
        <p:spPr>
          <a:xfrm>
            <a:off x="190512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TextBox 18"/>
          <p:cNvSpPr/>
          <p:nvPr/>
        </p:nvSpPr>
        <p:spPr>
          <a:xfrm>
            <a:off x="190512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TextBox 19"/>
          <p:cNvSpPr/>
          <p:nvPr/>
        </p:nvSpPr>
        <p:spPr>
          <a:xfrm>
            <a:off x="1905120" y="4952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19051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TextBox 21"/>
          <p:cNvSpPr/>
          <p:nvPr/>
        </p:nvSpPr>
        <p:spPr>
          <a:xfrm>
            <a:off x="281952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TextBox 22"/>
          <p:cNvSpPr/>
          <p:nvPr/>
        </p:nvSpPr>
        <p:spPr>
          <a:xfrm>
            <a:off x="281952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2819520" y="4572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TextBox 24"/>
          <p:cNvSpPr/>
          <p:nvPr/>
        </p:nvSpPr>
        <p:spPr>
          <a:xfrm>
            <a:off x="2819520" y="5334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TextBox 25"/>
          <p:cNvSpPr/>
          <p:nvPr/>
        </p:nvSpPr>
        <p:spPr>
          <a:xfrm>
            <a:off x="1905120" y="4572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TextBox 26"/>
          <p:cNvSpPr/>
          <p:nvPr/>
        </p:nvSpPr>
        <p:spPr>
          <a:xfrm>
            <a:off x="1905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TextBox 27"/>
          <p:cNvSpPr/>
          <p:nvPr/>
        </p:nvSpPr>
        <p:spPr>
          <a:xfrm>
            <a:off x="1905120" y="3048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TextBox 28"/>
          <p:cNvSpPr/>
          <p:nvPr/>
        </p:nvSpPr>
        <p:spPr>
          <a:xfrm>
            <a:off x="28195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TextBox 29"/>
          <p:cNvSpPr/>
          <p:nvPr/>
        </p:nvSpPr>
        <p:spPr>
          <a:xfrm>
            <a:off x="28195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TextBox 30"/>
          <p:cNvSpPr/>
          <p:nvPr/>
        </p:nvSpPr>
        <p:spPr>
          <a:xfrm>
            <a:off x="2819520" y="4952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TextBox 31"/>
          <p:cNvSpPr/>
          <p:nvPr/>
        </p:nvSpPr>
        <p:spPr>
          <a:xfrm>
            <a:off x="1651680" y="1447920"/>
            <a:ext cx="64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ножество элементарных исходов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TextBox 37"/>
          <p:cNvSpPr/>
          <p:nvPr/>
        </p:nvSpPr>
        <p:spPr>
          <a:xfrm>
            <a:off x="7661160" y="1509840"/>
            <a:ext cx="85572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TextBox 38"/>
          <p:cNvSpPr/>
          <p:nvPr/>
        </p:nvSpPr>
        <p:spPr>
          <a:xfrm>
            <a:off x="3657600" y="2209680"/>
            <a:ext cx="41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рел выпал ровно 2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TextBox 39"/>
          <p:cNvSpPr/>
          <p:nvPr/>
        </p:nvSpPr>
        <p:spPr>
          <a:xfrm>
            <a:off x="7797240" y="2209680"/>
            <a:ext cx="129636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(А)=3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"/>
              <p:cNvSpPr txBox="1"/>
              <p:nvPr/>
            </p:nvSpPr>
            <p:spPr>
              <a:xfrm>
                <a:off x="4343400" y="3124080"/>
                <a:ext cx="4336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TextBox 40"/>
          <p:cNvSpPr/>
          <p:nvPr/>
        </p:nvSpPr>
        <p:spPr>
          <a:xfrm>
            <a:off x="5969520" y="579132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7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Правая фигурная скобка 41"/>
          <p:cNvSpPr/>
          <p:nvPr/>
        </p:nvSpPr>
        <p:spPr>
          <a:xfrm>
            <a:off x="3581280" y="2819520"/>
            <a:ext cx="228600" cy="28954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895480"/>
              <a:gd name="textAreaBottom" fmla="*/ 28897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"/>
                  <a:pt x="10800" y="142"/>
                </a:cubicBezTo>
                <a:lnTo>
                  <a:pt x="10800" y="10658"/>
                </a:lnTo>
                <a:cubicBezTo>
                  <a:pt x="10800" y="10729"/>
                  <a:pt x="16200" y="10800"/>
                  <a:pt x="21600" y="10800"/>
                </a:cubicBezTo>
                <a:cubicBezTo>
                  <a:pt x="16200" y="10800"/>
                  <a:pt x="10800" y="10871"/>
                  <a:pt x="10800" y="10942"/>
                </a:cubicBezTo>
                <a:lnTo>
                  <a:pt x="10800" y="21458"/>
                </a:lnTo>
                <a:cubicBezTo>
                  <a:pt x="10800" y="215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TextBox 42"/>
          <p:cNvSpPr/>
          <p:nvPr/>
        </p:nvSpPr>
        <p:spPr>
          <a:xfrm>
            <a:off x="3724560" y="40384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8 исходо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Скругленный прямоугольник 1"/>
          <p:cNvSpPr/>
          <p:nvPr/>
        </p:nvSpPr>
        <p:spPr>
          <a:xfrm>
            <a:off x="719280" y="4265640"/>
            <a:ext cx="26874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Скругленный прямоугольник 43"/>
          <p:cNvSpPr/>
          <p:nvPr/>
        </p:nvSpPr>
        <p:spPr>
          <a:xfrm>
            <a:off x="719280" y="3559320"/>
            <a:ext cx="26874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Скругленный прямоугольник 45"/>
          <p:cNvSpPr/>
          <p:nvPr/>
        </p:nvSpPr>
        <p:spPr>
          <a:xfrm>
            <a:off x="750960" y="3178080"/>
            <a:ext cx="26892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Скругленная прямоугольная выноска 46"/>
          <p:cNvSpPr/>
          <p:nvPr/>
        </p:nvSpPr>
        <p:spPr>
          <a:xfrm>
            <a:off x="189000" y="71280"/>
            <a:ext cx="8797680" cy="1486080"/>
          </a:xfrm>
          <a:prstGeom prst="wedgeRoundRectCallout">
            <a:avLst>
              <a:gd name="adj1" fmla="val -28092"/>
              <a:gd name="adj2" fmla="val 50212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случайном эксперименте монету бросили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три раз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Какова вероятность того, что орел выпал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ровно два раз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Скругленная прямоугольная выноска 4"/>
          <p:cNvSpPr/>
          <p:nvPr/>
        </p:nvSpPr>
        <p:spPr>
          <a:xfrm>
            <a:off x="395280" y="838080"/>
            <a:ext cx="8497800" cy="175284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онету бросаю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четыре раз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айдите вероятность того, что орел выпаде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ровно три раз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Скругленный прямоугольник 6"/>
          <p:cNvSpPr/>
          <p:nvPr/>
        </p:nvSpPr>
        <p:spPr>
          <a:xfrm>
            <a:off x="2971800" y="0"/>
            <a:ext cx="5791320" cy="6553080"/>
          </a:xfrm>
          <a:custGeom>
            <a:avLst/>
            <a:gdLst>
              <a:gd name="textAreaLeft" fmla="*/ 282600 w 5791320"/>
              <a:gd name="textAreaRight" fmla="*/ 5508720 w 5791320"/>
              <a:gd name="textAreaTop" fmla="*/ 282600 h 6553080"/>
              <a:gd name="textAreaBottom" fmla="*/ 6270480 h 6553080"/>
            </a:gdLst>
            <a:ahLst/>
            <a:rect l="textAreaLeft" t="textAreaTop" r="textAreaRight" b="textAreaBottom"/>
            <a:pathLst>
              <a:path w="21600" h="24441">
                <a:moveTo>
                  <a:pt x="3600" y="0"/>
                </a:moveTo>
                <a:arcTo wR="3600" hR="3600" stAng="16200000" swAng="-5400000"/>
                <a:lnTo>
                  <a:pt x="0" y="20841"/>
                </a:lnTo>
                <a:arcTo wR="3600" hR="3600" stAng="10800000" swAng="-5400000"/>
                <a:lnTo>
                  <a:pt x="18000" y="24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584676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2"/>
              <p:cNvSpPr txBox="1"/>
              <p:nvPr/>
            </p:nvSpPr>
            <p:spPr>
              <a:xfrm>
                <a:off x="6100920" y="3513240"/>
                <a:ext cx="2798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8" name=""/>
          <p:cNvGraphicFramePr/>
          <p:nvPr/>
        </p:nvGraphicFramePr>
        <p:xfrm>
          <a:off x="3276720" y="189000"/>
          <a:ext cx="2743200" cy="6397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5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6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6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6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6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9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263520" y="3627360"/>
            <a:ext cx="2292480" cy="3116520"/>
          </a:xfrm>
          <a:prstGeom prst="rect">
            <a:avLst/>
          </a:prstGeom>
          <a:ln w="0">
            <a:noFill/>
          </a:ln>
        </p:spPr>
      </p:pic>
      <p:sp>
        <p:nvSpPr>
          <p:cNvPr id="520" name="Скругленный прямоугольник 11"/>
          <p:cNvSpPr/>
          <p:nvPr/>
        </p:nvSpPr>
        <p:spPr>
          <a:xfrm>
            <a:off x="3330720" y="3627360"/>
            <a:ext cx="26892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Скругленный прямоугольник 12"/>
          <p:cNvSpPr/>
          <p:nvPr/>
        </p:nvSpPr>
        <p:spPr>
          <a:xfrm>
            <a:off x="3330720" y="2209680"/>
            <a:ext cx="26892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Скругленный прямоугольник 14"/>
          <p:cNvSpPr/>
          <p:nvPr/>
        </p:nvSpPr>
        <p:spPr>
          <a:xfrm>
            <a:off x="3330720" y="1447920"/>
            <a:ext cx="26892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Скругленный прямоугольник 15"/>
          <p:cNvSpPr/>
          <p:nvPr/>
        </p:nvSpPr>
        <p:spPr>
          <a:xfrm>
            <a:off x="3330720" y="1125360"/>
            <a:ext cx="26892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ак видите, в последней задаче пришлось выписывать 16 вариантов. Вы уверены, что сможете выписать их без единой ошибки? Поэтому давайте рассмотрим второй способ реш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6" name="Рисунок 3" descr=""/>
          <p:cNvPicPr/>
          <p:nvPr/>
        </p:nvPicPr>
        <p:blipFill>
          <a:blip r:embed="rId2"/>
          <a:stretch/>
        </p:blipFill>
        <p:spPr>
          <a:xfrm>
            <a:off x="4197240" y="4076640"/>
            <a:ext cx="951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52360" y="1033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Теорема.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усть монету бросают n раз. Тогда вероятность того, что орел выпадет ровно k раз, можно найти по формул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де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</a:t>
            </a:r>
            <a:r>
              <a:rPr b="0" lang="en-US" sz="2800" spc="-1" strike="noStrike" baseline="-25000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en-US" sz="2800" spc="-1" strike="noStrike" baseline="30000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— число сочетаний из n элементов по k, которое считается по формул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аким образом, для решения задачи с монетами нужны два числа: число бросков и число орлов. Чаще всего эти числа даны прямо в тексте задачи. Более того, не имеет значения, что именно считать: решки или орлы. Ответ получится один и тот ж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9" name="Picture 2" descr="&amp;Scy;&amp;pcy;&amp;iecy;&amp;tscy;&amp;icy;&amp;acy;&amp;lcy;&amp;softcy;&amp;ncy;&amp;acy;&amp;yacy; &amp;fcy;&amp;ocy;&amp;rcy;&amp;mcy;&amp;ucy;&amp;lcy;&amp;acy; &amp;vcy;&amp;iecy;&amp;rcy;&amp;ocy;&amp;yacy;&amp;tcy;&amp;ncy;&amp;ocy;&amp;scy;&amp;tcy;&amp;icy; &amp;dcy;&amp;lcy;&amp;yacy; &amp;zcy;&amp;acy;&amp;dcy;&amp;acy;&amp;chcy;&amp;icy; B10"/>
          <p:cNvPicPr/>
          <p:nvPr/>
        </p:nvPicPr>
        <p:blipFill>
          <a:blip r:embed="rId2"/>
          <a:stretch/>
        </p:blipFill>
        <p:spPr>
          <a:xfrm>
            <a:off x="4572000" y="1916280"/>
            <a:ext cx="1344600" cy="1008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&amp;Fcy;&amp;ocy;&amp;rcy;&amp;mcy;&amp;ucy;&amp;lcy;&amp;acy; &amp;chcy;&amp;icy;&amp;scy;&amp;lcy;&amp;acy; &amp;scy;&amp;ocy;&amp;chcy;&amp;iecy;&amp;tcy;&amp;acy;&amp;ncy;&amp;icy; &amp;icy;&amp;zcy; n &amp;ecy;&amp;lcy;&amp;iecy;&amp;mcy;&amp;iecy;&amp;ncy;&amp;tcy;&amp;ocy;&amp;vcy; &amp;pcy;&amp;ocy; k &amp;ecy;&amp;lcy;&amp;iecy;&amp;mcy;&amp;iecy;&amp;ncy;&amp;tcy;&amp;ocy;&amp;vcy;"/>
          <p:cNvPicPr/>
          <p:nvPr/>
        </p:nvPicPr>
        <p:blipFill>
          <a:blip r:embed="rId3"/>
          <a:stretch/>
        </p:blipFill>
        <p:spPr>
          <a:xfrm>
            <a:off x="5567400" y="3416400"/>
            <a:ext cx="29052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60480" y="115920"/>
            <a:ext cx="8875440" cy="10000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304920" y="2708280"/>
            <a:ext cx="868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ешен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словию задачи, всего бросков было n = 4. Требуемое число орлов: k = 3. Подставляем n и k в формул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Скругленная прямоугольная выноска 3"/>
          <p:cNvSpPr/>
          <p:nvPr/>
        </p:nvSpPr>
        <p:spPr>
          <a:xfrm>
            <a:off x="395280" y="836640"/>
            <a:ext cx="8497800" cy="1752480"/>
          </a:xfrm>
          <a:prstGeom prst="wedgeRoundRectCallout">
            <a:avLst>
              <a:gd name="adj1" fmla="val -28092"/>
              <a:gd name="adj2" fmla="val 50212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онету бросаю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четыре раз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айдите вероятность того, что орел выпаде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ровно три раз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4" name="Picture 2" descr="&amp;Scy;&amp;pcy;&amp;iecy;&amp;tscy;&amp;icy;&amp;acy;&amp;lcy;&amp;softcy;&amp;ncy;&amp;acy;&amp;yacy; &amp;fcy;&amp;ocy;&amp;rcy;&amp;mcy;&amp;ucy;&amp;lcy;&amp;acy; &amp;vcy;&amp;iecy;&amp;rcy;&amp;ocy;&amp;yacy;&amp;tcy;&amp;ncy;&amp;ocy;&amp;scy;&amp;tcy;&amp;icy; &amp;dcy;&amp;lcy;&amp;yacy; n = 4 &amp;icy; k = 3"/>
          <p:cNvPicPr/>
          <p:nvPr/>
        </p:nvPicPr>
        <p:blipFill>
          <a:blip r:embed="rId2"/>
          <a:stretch/>
        </p:blipFill>
        <p:spPr>
          <a:xfrm>
            <a:off x="539640" y="4149720"/>
            <a:ext cx="8239320" cy="13413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"/>
          <p:cNvSpPr/>
          <p:nvPr/>
        </p:nvSpPr>
        <p:spPr>
          <a:xfrm>
            <a:off x="584676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2060280"/>
            <a:ext cx="8686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ешени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нова выписываем числа n и k. Поскольку монету бросают 3 раза, n = 3. А поскольку решек быть не должно, k = 0. Осталось подставить числа n и k в формул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0! = 1 по определению. Поэтому C</a:t>
            </a:r>
            <a:r>
              <a:rPr b="0" lang="ru-RU" sz="2800" spc="-1" strike="noStrike" baseline="-25000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ru-RU" sz="2800" spc="-1" strike="noStrike" baseline="3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= 1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Скругленная прямоугольная выноска 3"/>
          <p:cNvSpPr/>
          <p:nvPr/>
        </p:nvSpPr>
        <p:spPr>
          <a:xfrm>
            <a:off x="395280" y="115920"/>
            <a:ext cx="8215200" cy="1752480"/>
          </a:xfrm>
          <a:prstGeom prst="wedgeRoundRectCallout">
            <a:avLst>
              <a:gd name="adj1" fmla="val -28092"/>
              <a:gd name="adj2" fmla="val 50212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нету бросаю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раза. Найдите вероятность того, чт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решка не выпадет ни разу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9" name="Picture 2" descr="&amp;Scy;&amp;pcy;&amp;iecy;&amp;tscy;&amp;icy;&amp;acy;&amp;lcy;&amp;softcy;&amp;ncy;&amp;acy;&amp;yacy; &amp;fcy;&amp;ocy;&amp;rcy;&amp;mcy;&amp;ucy;&amp;lcy;&amp;acy; &amp;vcy;&amp;iecy;&amp;rcy;&amp;ocy;&amp;yacy;&amp;tcy;&amp;ncy;&amp;ocy;&amp;scy;&amp;tcy;&amp;icy; &amp;dcy;&amp;lcy;&amp;yacy; n = 3 &amp;icy; k = 0"/>
          <p:cNvPicPr/>
          <p:nvPr/>
        </p:nvPicPr>
        <p:blipFill>
          <a:blip r:embed="rId1"/>
          <a:stretch/>
        </p:blipFill>
        <p:spPr>
          <a:xfrm>
            <a:off x="1243080" y="3989520"/>
            <a:ext cx="6600600" cy="11937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5"/>
          <p:cNvSpPr/>
          <p:nvPr/>
        </p:nvSpPr>
        <p:spPr>
          <a:xfrm>
            <a:off x="5815800" y="579132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1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1450440"/>
            <a:ext cx="91440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Решение. 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Чтобы орлов было больше, чем решек, они должны выпасть либо 3 раза, либо 4. Найдем вероятность каждого из этих событи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усть p</a:t>
            </a:r>
            <a:r>
              <a:rPr b="0" lang="ru-RU" sz="27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— вероятность того, что орел выпадет 3 раза. Тогда n = 4, k = 3. Имеем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Пусть p</a:t>
            </a:r>
            <a:r>
              <a:rPr b="0" lang="ru-RU" sz="27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 — вероятность того, что орел выпадет все 4 раза. В этом случае n = 4, k = 4. Имеем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Имеем: </a:t>
            </a:r>
            <a:r>
              <a:rPr b="0" lang="nn-NO" sz="2700" spc="-1" strike="noStrike">
                <a:solidFill>
                  <a:srgbClr val="4e3b30"/>
                </a:solidFill>
                <a:latin typeface="Franklin Gothic Book"/>
              </a:rPr>
              <a:t>p = p</a:t>
            </a:r>
            <a:r>
              <a:rPr b="0" lang="nn-NO" sz="2700" spc="-1" strike="noStrike" baseline="-25000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nn-NO" sz="2700" spc="-1" strike="noStrike">
                <a:solidFill>
                  <a:srgbClr val="4e3b30"/>
                </a:solidFill>
                <a:latin typeface="Franklin Gothic Book"/>
              </a:rPr>
              <a:t> + p</a:t>
            </a:r>
            <a:r>
              <a:rPr b="0" lang="nn-NO" sz="27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nn-NO" sz="2700" spc="-1" strike="noStrike">
                <a:solidFill>
                  <a:srgbClr val="4e3b30"/>
                </a:solidFill>
                <a:latin typeface="Franklin Gothic Book"/>
              </a:rPr>
              <a:t> = 0,25 + 0,0675 = 0,3175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Скругленная прямоугольная выноска 3"/>
          <p:cNvSpPr/>
          <p:nvPr/>
        </p:nvSpPr>
        <p:spPr>
          <a:xfrm>
            <a:off x="179280" y="115920"/>
            <a:ext cx="8785440" cy="1441440"/>
          </a:xfrm>
          <a:prstGeom prst="wedgeRoundRectCallout">
            <a:avLst>
              <a:gd name="adj1" fmla="val -28092"/>
              <a:gd name="adj2" fmla="val 50212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лучайном эксперименте симметричную монету бросаю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4 раз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Найдите вероятность того, чт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орел выпадет больше раз, чем решка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4" name="Picture 2" descr="&amp;Scy;&amp;pcy;&amp;iecy;&amp;tscy;&amp;icy;&amp;acy;&amp;lcy;&amp;softcy;&amp;ncy;&amp;acy;&amp;yacy; &amp;fcy;&amp;ocy;&amp;rcy;&amp;mcy;&amp;ucy;&amp;lcy;&amp;acy; &amp;vcy;&amp;iecy;&amp;rcy;&amp;ocy;&amp;yacy;&amp;tcy;&amp;ncy;&amp;ocy;&amp;scy;&amp;tcy;&amp;icy; &amp;dcy;&amp;lcy;&amp;yacy; n = 4 &amp;icy; k = 3"/>
          <p:cNvPicPr/>
          <p:nvPr/>
        </p:nvPicPr>
        <p:blipFill>
          <a:blip r:embed="rId1"/>
          <a:stretch/>
        </p:blipFill>
        <p:spPr>
          <a:xfrm>
            <a:off x="2946240" y="3357720"/>
            <a:ext cx="5905800" cy="9396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&amp;Scy;&amp;pcy;&amp;iecy;&amp;tscy;&amp;icy;&amp;acy;&amp;lcy;&amp;softcy;&amp;ncy;&amp;acy;&amp;yacy; &amp;fcy;&amp;ocy;&amp;rcy;&amp;mcy;&amp;ucy;&amp;lcy;&amp;acy; &amp;vcy;&amp;iecy;&amp;rcy;&amp;ocy;&amp;yacy;&amp;tcy;&amp;ncy;&amp;ocy;&amp;scy;&amp;tcy;&amp;icy; &amp;dcy;&amp;lcy;&amp;yacy; n = 4 &amp;icy; k = 4"/>
          <p:cNvPicPr/>
          <p:nvPr/>
        </p:nvPicPr>
        <p:blipFill>
          <a:blip r:embed="rId2"/>
          <a:stretch/>
        </p:blipFill>
        <p:spPr>
          <a:xfrm>
            <a:off x="2295360" y="5018040"/>
            <a:ext cx="5645160" cy="936720"/>
          </a:xfrm>
          <a:prstGeom prst="rect">
            <a:avLst/>
          </a:prstGeom>
          <a:ln w="0">
            <a:noFill/>
          </a:ln>
        </p:spPr>
      </p:pic>
      <p:sp>
        <p:nvSpPr>
          <p:cNvPr id="546" name="TextBox 6"/>
          <p:cNvSpPr/>
          <p:nvPr/>
        </p:nvSpPr>
        <p:spPr>
          <a:xfrm>
            <a:off x="6140160" y="6310440"/>
            <a:ext cx="30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0,317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6"/>
          <p:cNvSpPr/>
          <p:nvPr/>
        </p:nvSpPr>
        <p:spPr>
          <a:xfrm>
            <a:off x="506520" y="167796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-12240" y="2252520"/>
            <a:ext cx="94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Случайный эксперимент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бросание кубик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Элементарное событие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число на выпавшей гран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857240" y="4784760"/>
                <a:ext cx="66740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TextBox 12"/>
          <p:cNvSpPr/>
          <p:nvPr/>
        </p:nvSpPr>
        <p:spPr>
          <a:xfrm>
            <a:off x="6172200" y="595008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0,33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660240" y="320688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го граней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2" name="TextBox 15"/>
          <p:cNvSpPr/>
          <p:nvPr/>
        </p:nvSpPr>
        <p:spPr>
          <a:xfrm>
            <a:off x="4133880" y="383688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1, 2, 3, 4, 5, 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3" name="Picture 10" descr="http://obzorcasino.org/Image/BigImage/cubik.gif"/>
          <p:cNvPicPr/>
          <p:nvPr/>
        </p:nvPicPr>
        <p:blipFill>
          <a:blip r:embed="rId1"/>
          <a:stretch/>
        </p:blipFill>
        <p:spPr>
          <a:xfrm>
            <a:off x="114480" y="4592520"/>
            <a:ext cx="1447560" cy="154008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7"/>
          <p:cNvSpPr/>
          <p:nvPr/>
        </p:nvSpPr>
        <p:spPr>
          <a:xfrm>
            <a:off x="-720" y="385920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Элементарные события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5" name="TextBox 19"/>
          <p:cNvSpPr/>
          <p:nvPr/>
        </p:nvSpPr>
        <p:spPr>
          <a:xfrm>
            <a:off x="3031200" y="3206880"/>
            <a:ext cx="81468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6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6" name="Прямая соединительная линия 20"/>
          <p:cNvSpPr/>
          <p:nvPr/>
        </p:nvSpPr>
        <p:spPr>
          <a:xfrm>
            <a:off x="6056280" y="4486320"/>
            <a:ext cx="762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7" name="TextBox 24"/>
          <p:cNvSpPr/>
          <p:nvPr/>
        </p:nvSpPr>
        <p:spPr>
          <a:xfrm>
            <a:off x="7319520" y="3897360"/>
            <a:ext cx="129636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(A)=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Скругленный прямоугольник 18"/>
          <p:cNvSpPr/>
          <p:nvPr/>
        </p:nvSpPr>
        <p:spPr>
          <a:xfrm>
            <a:off x="0" y="176040"/>
            <a:ext cx="9144000" cy="1668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гральный кубик бросили один раз. Какова вероятность того, что выпало число очков,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большее чем 4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Результат округлите до сотых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Скругленная прямоугольная выноска 4"/>
          <p:cNvSpPr/>
          <p:nvPr/>
        </p:nvSpPr>
        <p:spPr>
          <a:xfrm>
            <a:off x="609480" y="260280"/>
            <a:ext cx="7925040" cy="175284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случайном эксперименте игральный кубик бросают один раз. Найдите вероятность того, что выпадет число,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меньшее чем 4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0" name="Скругленный прямоугольник 6"/>
          <p:cNvSpPr/>
          <p:nvPr/>
        </p:nvSpPr>
        <p:spPr>
          <a:xfrm>
            <a:off x="2743200" y="2895480"/>
            <a:ext cx="5791320" cy="304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6180840" y="57913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"/>
              <p:cNvSpPr txBox="1"/>
              <p:nvPr/>
            </p:nvSpPr>
            <p:spPr>
              <a:xfrm>
                <a:off x="4127400" y="4267080"/>
                <a:ext cx="26416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Box 12"/>
          <p:cNvSpPr/>
          <p:nvPr/>
        </p:nvSpPr>
        <p:spPr>
          <a:xfrm>
            <a:off x="3887640" y="32004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, 2, 3, 4, 5, 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Прямоугольник 18"/>
          <p:cNvSpPr/>
          <p:nvPr/>
        </p:nvSpPr>
        <p:spPr>
          <a:xfrm>
            <a:off x="3886200" y="3276720"/>
            <a:ext cx="147960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255600" y="2933640"/>
            <a:ext cx="2292480" cy="3116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http://obzorcasino.org/Image/BigImage/cubik.gif"/>
          <p:cNvPicPr/>
          <p:nvPr/>
        </p:nvPicPr>
        <p:blipFill>
          <a:blip r:embed="rId2"/>
          <a:stretch/>
        </p:blipFill>
        <p:spPr>
          <a:xfrm>
            <a:off x="6970680" y="2430360"/>
            <a:ext cx="14479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0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Скругленная прямоугольная выноска 4"/>
          <p:cNvSpPr/>
          <p:nvPr/>
        </p:nvSpPr>
        <p:spPr>
          <a:xfrm>
            <a:off x="762120" y="189000"/>
            <a:ext cx="7924680" cy="175248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случайном эксперименте игральный кубик бросаю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раз. Найдите вероятность того, что выпаде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четное число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Скругленный прямоугольник 6"/>
          <p:cNvSpPr/>
          <p:nvPr/>
        </p:nvSpPr>
        <p:spPr>
          <a:xfrm>
            <a:off x="2743200" y="2895480"/>
            <a:ext cx="5791320" cy="304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6180840" y="57913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2"/>
              <p:cNvSpPr txBox="1"/>
              <p:nvPr/>
            </p:nvSpPr>
            <p:spPr>
              <a:xfrm>
                <a:off x="4127400" y="4267080"/>
                <a:ext cx="26416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TextBox 12"/>
          <p:cNvSpPr/>
          <p:nvPr/>
        </p:nvSpPr>
        <p:spPr>
          <a:xfrm>
            <a:off x="3887640" y="32004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, 2, 3, 4, 5, 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Прямоугольник 18"/>
          <p:cNvSpPr/>
          <p:nvPr/>
        </p:nvSpPr>
        <p:spPr>
          <a:xfrm>
            <a:off x="4406760" y="3276720"/>
            <a:ext cx="38124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5415120" y="3276720"/>
            <a:ext cx="38088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4" name="Прямоугольник 11"/>
          <p:cNvSpPr/>
          <p:nvPr/>
        </p:nvSpPr>
        <p:spPr>
          <a:xfrm>
            <a:off x="6423120" y="3276720"/>
            <a:ext cx="380880" cy="53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7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255600" y="2933640"/>
            <a:ext cx="2292480" cy="3116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http://obzorcasino.org/Image/BigImage/cubik.gif"/>
          <p:cNvPicPr/>
          <p:nvPr/>
        </p:nvPicPr>
        <p:blipFill>
          <a:blip r:embed="rId2"/>
          <a:stretch/>
        </p:blipFill>
        <p:spPr>
          <a:xfrm>
            <a:off x="6970680" y="2430360"/>
            <a:ext cx="14479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82080" y="1125360"/>
            <a:ext cx="9091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ероятность события количественно характеризует возможность (шанс) осуществления этого события в ходе случайного эксперимен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ероятностью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обытия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А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зывается отношение числа благоприятных исходов к общему числу всех элементарных исходов испытания, если все исходы равновозможны (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лассическое определение вероятност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Формулой это определяется т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3"/>
              <p:cNvSpPr txBox="1"/>
              <p:nvPr/>
            </p:nvSpPr>
            <p:spPr>
              <a:xfrm>
                <a:off x="5940360" y="4581360"/>
                <a:ext cx="257184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380880" y="2590920"/>
          <a:ext cx="4751640" cy="3566880"/>
        </p:xfrm>
        <a:graphic>
          <a:graphicData uri="http://schemas.openxmlformats.org/drawingml/2006/table">
            <a:tbl>
              <a:tblPr/>
              <a:tblGrid>
                <a:gridCol w="1295640"/>
                <a:gridCol w="576000"/>
                <a:gridCol w="576360"/>
                <a:gridCol w="574560"/>
                <a:gridCol w="576360"/>
                <a:gridCol w="576360"/>
                <a:gridCol w="5763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Числ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выпавших сторо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ac7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TextBox 5"/>
          <p:cNvSpPr/>
          <p:nvPr/>
        </p:nvSpPr>
        <p:spPr>
          <a:xfrm>
            <a:off x="81720" y="2057400"/>
            <a:ext cx="64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ножество элементарных исходов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470160" y="160020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1773720" y="3276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   3     4    5    6     7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1773720" y="37339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   4     5    6    7     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773720" y="41911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    5    6    7     8     9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1711440" y="471492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    6    7     8   9     1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1687680" y="510552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    7    8     9   10   1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TextBox 13"/>
          <p:cNvSpPr/>
          <p:nvPr/>
        </p:nvSpPr>
        <p:spPr>
          <a:xfrm>
            <a:off x="1686960" y="556272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    8    9    10   11  1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6107400" y="2119320"/>
            <a:ext cx="87732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36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TextBox 19"/>
          <p:cNvSpPr/>
          <p:nvPr/>
        </p:nvSpPr>
        <p:spPr>
          <a:xfrm>
            <a:off x="5257800" y="2666880"/>
            <a:ext cx="36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сумма равна 8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8" name="TextBox 20"/>
          <p:cNvSpPr/>
          <p:nvPr/>
        </p:nvSpPr>
        <p:spPr>
          <a:xfrm>
            <a:off x="5330520" y="3276720"/>
            <a:ext cx="129636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(А)=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2"/>
              <p:cNvSpPr txBox="1"/>
              <p:nvPr/>
            </p:nvSpPr>
            <p:spPr>
              <a:xfrm>
                <a:off x="5486400" y="3657600"/>
                <a:ext cx="2205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5102280" y="4452840"/>
                <a:ext cx="4041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TextBox 22"/>
          <p:cNvSpPr/>
          <p:nvPr/>
        </p:nvSpPr>
        <p:spPr>
          <a:xfrm>
            <a:off x="6159240" y="579132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0,14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2" name="Picture 10" descr="http://obzorcasino.org/Image/BigImage/cubik.gif"/>
          <p:cNvPicPr/>
          <p:nvPr/>
        </p:nvPicPr>
        <p:blipFill>
          <a:blip r:embed="rId1"/>
          <a:stretch/>
        </p:blipFill>
        <p:spPr>
          <a:xfrm rot="14849400">
            <a:off x="7420680" y="1815120"/>
            <a:ext cx="588960" cy="625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http://obzorcasino.org/Image/BigImage/cubik.gif"/>
          <p:cNvPicPr/>
          <p:nvPr/>
        </p:nvPicPr>
        <p:blipFill>
          <a:blip r:embed="rId2"/>
          <a:stretch/>
        </p:blipFill>
        <p:spPr>
          <a:xfrm rot="6736200">
            <a:off x="8224200" y="1820880"/>
            <a:ext cx="587160" cy="625320"/>
          </a:xfrm>
          <a:prstGeom prst="rect">
            <a:avLst/>
          </a:prstGeom>
          <a:ln w="0">
            <a:noFill/>
          </a:ln>
        </p:spPr>
      </p:pic>
      <p:sp>
        <p:nvSpPr>
          <p:cNvPr id="594" name="Скругленный прямоугольник 25"/>
          <p:cNvSpPr/>
          <p:nvPr/>
        </p:nvSpPr>
        <p:spPr>
          <a:xfrm>
            <a:off x="0" y="0"/>
            <a:ext cx="9144000" cy="1668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лучайном эксперименте бросают две игральные кости. Найдите вероятность того, что в сумме выпадет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8 очков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Результат округлите до сотых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5" name="Овал 1"/>
          <p:cNvSpPr/>
          <p:nvPr/>
        </p:nvSpPr>
        <p:spPr>
          <a:xfrm>
            <a:off x="2300400" y="5576760"/>
            <a:ext cx="52200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Овал 26"/>
          <p:cNvSpPr/>
          <p:nvPr/>
        </p:nvSpPr>
        <p:spPr>
          <a:xfrm>
            <a:off x="2843280" y="5084640"/>
            <a:ext cx="52236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7" name="Овал 27"/>
          <p:cNvSpPr/>
          <p:nvPr/>
        </p:nvSpPr>
        <p:spPr>
          <a:xfrm>
            <a:off x="3490920" y="4646520"/>
            <a:ext cx="52056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8" name="Овал 28"/>
          <p:cNvSpPr/>
          <p:nvPr/>
        </p:nvSpPr>
        <p:spPr>
          <a:xfrm>
            <a:off x="4011480" y="4170240"/>
            <a:ext cx="52236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9" name="Овал 29"/>
          <p:cNvSpPr/>
          <p:nvPr/>
        </p:nvSpPr>
        <p:spPr>
          <a:xfrm>
            <a:off x="4605480" y="3705120"/>
            <a:ext cx="520560" cy="66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Скругленная прямоугольная выноска 14"/>
          <p:cNvSpPr/>
          <p:nvPr/>
        </p:nvSpPr>
        <p:spPr>
          <a:xfrm>
            <a:off x="0" y="152280"/>
            <a:ext cx="9144000" cy="2360880"/>
          </a:xfrm>
          <a:prstGeom prst="wedgeRoundRectCallout">
            <a:avLst>
              <a:gd name="adj1" fmla="val -32481"/>
              <a:gd name="adj2" fmla="val 90175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чемпионате по гимнастике участвуют 20 спортсменок: 8 из России, 7 из США , остальные из Китая. Порядок, в котором выступают гимнастки, определяется жребием. Найдите вероятность того, что спортсменка, выступающая первой, окажется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из Кита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4164120" y="24940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2324880" y="295596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99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Определите </a:t>
            </a:r>
            <a:r>
              <a:rPr b="1" lang="en-US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TextBox 9"/>
          <p:cNvSpPr/>
          <p:nvPr/>
        </p:nvSpPr>
        <p:spPr>
          <a:xfrm>
            <a:off x="5654520" y="2987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N </a:t>
            </a:r>
            <a:r>
              <a:rPr b="0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3586320" y="4711680"/>
                <a:ext cx="4425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TextBox 10"/>
          <p:cNvSpPr/>
          <p:nvPr/>
        </p:nvSpPr>
        <p:spPr>
          <a:xfrm>
            <a:off x="599904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6" name="TextBox 17"/>
          <p:cNvSpPr/>
          <p:nvPr/>
        </p:nvSpPr>
        <p:spPr>
          <a:xfrm>
            <a:off x="2587680" y="3479760"/>
            <a:ext cx="654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первой будет спортсменка из Китая</a:t>
            </a: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7" name="TextBox 11"/>
          <p:cNvSpPr/>
          <p:nvPr/>
        </p:nvSpPr>
        <p:spPr>
          <a:xfrm>
            <a:off x="5791320" y="40053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N(A)= 20 – 8 – 7 = 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08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182520" y="3511440"/>
            <a:ext cx="2292480" cy="31165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3"/>
          <p:cNvSpPr/>
          <p:nvPr/>
        </p:nvSpPr>
        <p:spPr>
          <a:xfrm>
            <a:off x="2237400" y="400536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2)Определите </a:t>
            </a:r>
            <a:r>
              <a:rPr b="1" lang="en-US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N(A)</a:t>
            </a:r>
            <a:r>
              <a:rPr b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0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5"/>
          <p:cNvSpPr/>
          <p:nvPr/>
        </p:nvSpPr>
        <p:spPr>
          <a:xfrm>
            <a:off x="4732920" y="269892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6434280" y="2728800"/>
            <a:ext cx="18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2814480" y="336240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шестым будет прыгун из Парагвая</a:t>
            </a: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Объект 4"/>
              <p:cNvSpPr txBox="1"/>
              <p:nvPr/>
            </p:nvSpPr>
            <p:spPr>
              <a:xfrm>
                <a:off x="3943440" y="4429080"/>
                <a:ext cx="3176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TextBox 8"/>
          <p:cNvSpPr/>
          <p:nvPr/>
        </p:nvSpPr>
        <p:spPr>
          <a:xfrm>
            <a:off x="4457880" y="3902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(A)=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99904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6" name="Скругленная прямоугольная выноска 11"/>
          <p:cNvSpPr/>
          <p:nvPr/>
        </p:nvSpPr>
        <p:spPr>
          <a:xfrm>
            <a:off x="179280" y="142920"/>
            <a:ext cx="8964720" cy="259092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а чемпионате по прыжкам в воду выступают 25 спортсменов, среди них 8 прыгунов из России и 9 прыгунов из Парагвая. Порядок выступлений определяется жеребьёвкой. Найдите вероятность того, что шестым будет выступать прыгун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из Парагва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7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179280" y="4024440"/>
            <a:ext cx="20401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0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5"/>
          <p:cNvSpPr/>
          <p:nvPr/>
        </p:nvSpPr>
        <p:spPr>
          <a:xfrm>
            <a:off x="3703320" y="291312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2367360" y="3359160"/>
            <a:ext cx="70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го спортсменов: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= 4 + 7 + 9 + 5 = 2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0" name="TextBox 15"/>
          <p:cNvSpPr/>
          <p:nvPr/>
        </p:nvSpPr>
        <p:spPr>
          <a:xfrm>
            <a:off x="2265480" y="436392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последний из Швеции</a:t>
            </a:r>
            <a:r>
              <a:rPr b="0" lang="en-US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4965840" y="3873600"/>
            <a:ext cx="87732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6739920" y="4390920"/>
            <a:ext cx="114876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=9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2676600" y="5084640"/>
                <a:ext cx="46371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TextBox 20"/>
          <p:cNvSpPr/>
          <p:nvPr/>
        </p:nvSpPr>
        <p:spPr>
          <a:xfrm>
            <a:off x="6138720" y="607860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33480" y="4179960"/>
            <a:ext cx="1912680" cy="2601720"/>
          </a:xfrm>
          <a:prstGeom prst="rect">
            <a:avLst/>
          </a:prstGeom>
          <a:ln w="0">
            <a:noFill/>
          </a:ln>
        </p:spPr>
      </p:pic>
      <p:sp>
        <p:nvSpPr>
          <p:cNvPr id="626" name="Скругленная прямоугольная выноска 12"/>
          <p:cNvSpPr/>
          <p:nvPr/>
        </p:nvSpPr>
        <p:spPr>
          <a:xfrm>
            <a:off x="114480" y="189000"/>
            <a:ext cx="8964360" cy="259236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ревнованиях по толканию ядра участвуют 4 спортсмена из Финляндии, 7 спортсменов из Дании, 9 спортсменов из Швеции и 5 – из Норвегии. Порядок, в котором  выступают спортсмены, определяется жребием. Найдите вероятность того, что спортсмен, который выступает последним, окаж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Шве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 Antiqua"/>
              </a:rPr>
              <a:t>ЗАМЕЧ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ледние три задачи, по сути, абсолютно одинаковы, но с первого взгляда их вопросы кажутся разными. Зачем? Чтобы запутать школьника? Нет, у составителей другая задача: на экзамене должно быть много разных вариантов одинаковой степени трудности. Итак, не надо пугаться "каверзного вопроса", надо рассматривать ситуацию, которая описывается в задаче, со всех стор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Скругленная прямоугольная выноска 5"/>
          <p:cNvSpPr/>
          <p:nvPr/>
        </p:nvSpPr>
        <p:spPr>
          <a:xfrm>
            <a:off x="179280" y="260280"/>
            <a:ext cx="8964720" cy="2089080"/>
          </a:xfrm>
          <a:prstGeom prst="wedgeRoundRectCallout">
            <a:avLst>
              <a:gd name="adj1" fmla="val -33754"/>
              <a:gd name="adj2" fmla="val 11050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борнике билетов по биологии всег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билетов, в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из них встречается вопрос по ботанике. Найдите вероятность того, что в случайно выбранном на экзамене билете школьнику достанется вопрос по ботаник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3046680" y="293364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TextBox 9"/>
          <p:cNvSpPr/>
          <p:nvPr/>
        </p:nvSpPr>
        <p:spPr>
          <a:xfrm>
            <a:off x="5466600" y="2997360"/>
            <a:ext cx="95364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TextBox 10"/>
          <p:cNvSpPr/>
          <p:nvPr/>
        </p:nvSpPr>
        <p:spPr>
          <a:xfrm>
            <a:off x="2949480" y="34815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достанется вопрос по ботанике</a:t>
            </a: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TextBox 11"/>
          <p:cNvSpPr/>
          <p:nvPr/>
        </p:nvSpPr>
        <p:spPr>
          <a:xfrm>
            <a:off x="3408120" y="4005360"/>
            <a:ext cx="15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A)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Объект 6"/>
              <p:cNvSpPr txBox="1"/>
              <p:nvPr/>
            </p:nvSpPr>
            <p:spPr>
              <a:xfrm>
                <a:off x="3132000" y="4653000"/>
                <a:ext cx="4651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468360" y="3743280"/>
            <a:ext cx="1942920" cy="26431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15"/>
          <p:cNvSpPr/>
          <p:nvPr/>
        </p:nvSpPr>
        <p:spPr>
          <a:xfrm>
            <a:off x="5722200" y="59929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0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Скругленная прямоугольная выноска 3"/>
          <p:cNvSpPr/>
          <p:nvPr/>
        </p:nvSpPr>
        <p:spPr>
          <a:xfrm>
            <a:off x="74520" y="115920"/>
            <a:ext cx="8964720" cy="2089080"/>
          </a:xfrm>
          <a:prstGeom prst="wedgeRoundRectCallout">
            <a:avLst>
              <a:gd name="adj1" fmla="val -33754"/>
              <a:gd name="adj2" fmla="val 11050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сборнике билетов по математике всег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билетов, в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из них встречается вопрос по неравенствам. Найдите вероятность того, что в случайно выбранном на экзамене билете школьнику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не достанется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опроса по неравенствам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8" name="TextBox 5"/>
          <p:cNvSpPr/>
          <p:nvPr/>
        </p:nvSpPr>
        <p:spPr>
          <a:xfrm>
            <a:off x="3478680" y="2622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5455080" y="2654280"/>
            <a:ext cx="11516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0" name="TextBox 7"/>
          <p:cNvSpPr/>
          <p:nvPr/>
        </p:nvSpPr>
        <p:spPr>
          <a:xfrm>
            <a:off x="2124000" y="314640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не достанется вопрос по неравенствам</a:t>
            </a: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3468960" y="3868560"/>
            <a:ext cx="31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(A)=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Объект 4"/>
              <p:cNvSpPr txBox="1"/>
              <p:nvPr/>
            </p:nvSpPr>
            <p:spPr>
              <a:xfrm>
                <a:off x="3041640" y="4508640"/>
                <a:ext cx="47703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3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468360" y="3743280"/>
            <a:ext cx="1942920" cy="2643120"/>
          </a:xfrm>
          <a:prstGeom prst="rect">
            <a:avLst/>
          </a:prstGeom>
          <a:ln w="0">
            <a:noFill/>
          </a:ln>
        </p:spPr>
      </p:pic>
      <p:sp>
        <p:nvSpPr>
          <p:cNvPr id="644" name="TextBox 11"/>
          <p:cNvSpPr/>
          <p:nvPr/>
        </p:nvSpPr>
        <p:spPr>
          <a:xfrm>
            <a:off x="5722200" y="59929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0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5"/>
          <p:cNvSpPr/>
          <p:nvPr/>
        </p:nvSpPr>
        <p:spPr>
          <a:xfrm>
            <a:off x="3046680" y="213516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6" name="TextBox 6"/>
          <p:cNvSpPr/>
          <p:nvPr/>
        </p:nvSpPr>
        <p:spPr>
          <a:xfrm>
            <a:off x="4870080" y="2135160"/>
            <a:ext cx="155700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 100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2916360" y="273528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аккумулятор исправен</a:t>
            </a: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8" name="TextBox 9"/>
          <p:cNvSpPr/>
          <p:nvPr/>
        </p:nvSpPr>
        <p:spPr>
          <a:xfrm>
            <a:off x="3352680" y="336852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(A)= 1000 – 6 = 99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2"/>
              <p:cNvSpPr txBox="1"/>
              <p:nvPr/>
            </p:nvSpPr>
            <p:spPr>
              <a:xfrm>
                <a:off x="3211560" y="4005360"/>
                <a:ext cx="48895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0" name="TextBox 12"/>
          <p:cNvSpPr/>
          <p:nvPr/>
        </p:nvSpPr>
        <p:spPr>
          <a:xfrm>
            <a:off x="5969520" y="579132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994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1" name="Скругленная прямоугольная выноска 10"/>
          <p:cNvSpPr/>
          <p:nvPr/>
        </p:nvSpPr>
        <p:spPr>
          <a:xfrm>
            <a:off x="114480" y="187200"/>
            <a:ext cx="8964360" cy="1692360"/>
          </a:xfrm>
          <a:prstGeom prst="wedgeRoundRectCallout">
            <a:avLst>
              <a:gd name="adj1" fmla="val -33754"/>
              <a:gd name="adj2" fmla="val 11050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среднем из 1000 аккумуляторов, поступивших в продажу, 6 неисправны. Найдите вероятность того, что купленный аккумулятор окажется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исправным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2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33480" y="2997360"/>
            <a:ext cx="2593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0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4"/>
          <p:cNvSpPr/>
          <p:nvPr/>
        </p:nvSpPr>
        <p:spPr>
          <a:xfrm>
            <a:off x="3680280" y="24210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3544560" y="2943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го сумок: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= 100 + 8 = 10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3246480" y="392904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A= {</a:t>
            </a:r>
            <a:r>
              <a:rPr b="0" lang="ru-RU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качественная сумка</a:t>
            </a:r>
            <a:r>
              <a:rPr b="0" lang="en-US" sz="28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Объект 2"/>
              <p:cNvSpPr txBox="1"/>
              <p:nvPr/>
            </p:nvSpPr>
            <p:spPr>
              <a:xfrm>
                <a:off x="3024360" y="4581360"/>
                <a:ext cx="594828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TextBox 8"/>
          <p:cNvSpPr/>
          <p:nvPr/>
        </p:nvSpPr>
        <p:spPr>
          <a:xfrm>
            <a:off x="5367960" y="3406680"/>
            <a:ext cx="126108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8" name="TextBox 9"/>
          <p:cNvSpPr/>
          <p:nvPr/>
        </p:nvSpPr>
        <p:spPr>
          <a:xfrm>
            <a:off x="7311240" y="3930480"/>
            <a:ext cx="170172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(А)=10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9" name="TextBox 10"/>
          <p:cNvSpPr/>
          <p:nvPr/>
        </p:nvSpPr>
        <p:spPr>
          <a:xfrm>
            <a:off x="599760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9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0" name="Скругленная прямоугольная выноска 11"/>
          <p:cNvSpPr/>
          <p:nvPr/>
        </p:nvSpPr>
        <p:spPr>
          <a:xfrm>
            <a:off x="169920" y="115920"/>
            <a:ext cx="8962920" cy="2089080"/>
          </a:xfrm>
          <a:prstGeom prst="wedgeRoundRectCallout">
            <a:avLst>
              <a:gd name="adj1" fmla="val -33754"/>
              <a:gd name="adj2" fmla="val 11050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Фабрика выпускает сумки. В среднем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на 100 качественных сумок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приходится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восемь сумок со скрытыми дефектам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Найдите вероятность того, что купленная сумка окажется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качественной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Результат округлите до сотых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1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177840" y="3486240"/>
            <a:ext cx="2235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0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равните эту и предыдущую задачи. Как важно внимательно относиться к каждому слову в условии!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64" name="Рисунок 3" descr=""/>
          <p:cNvPicPr/>
          <p:nvPr/>
        </p:nvPicPr>
        <p:blipFill>
          <a:blip r:embed="rId2"/>
          <a:stretch/>
        </p:blipFill>
        <p:spPr>
          <a:xfrm>
            <a:off x="6032520" y="2924280"/>
            <a:ext cx="72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nodeType="clickEffect" fill="hold">
                      <p:stCondLst>
                        <p:cond delay="0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Скругленный прямоугольник 11"/>
          <p:cNvSpPr/>
          <p:nvPr/>
        </p:nvSpPr>
        <p:spPr>
          <a:xfrm>
            <a:off x="2627280" y="5373720"/>
            <a:ext cx="28954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2789280" y="5454720"/>
                <a:ext cx="25718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6" name="Рисунок 1" descr=""/>
          <p:cNvPicPr/>
          <p:nvPr/>
        </p:nvPicPr>
        <p:blipFill>
          <a:blip r:embed="rId1"/>
          <a:stretch/>
        </p:blipFill>
        <p:spPr>
          <a:xfrm>
            <a:off x="6753240" y="5361120"/>
            <a:ext cx="482760" cy="1162080"/>
          </a:xfrm>
          <a:prstGeom prst="rect">
            <a:avLst/>
          </a:prstGeom>
          <a:ln w="0">
            <a:noFill/>
          </a:ln>
        </p:spPr>
      </p:pic>
      <p:pic>
        <p:nvPicPr>
          <p:cNvPr id="407" name="Заголовок 2" descr=""/>
          <p:cNvPicPr/>
          <p:nvPr/>
        </p:nvPicPr>
        <p:blipFill>
          <a:blip r:embed="rId2"/>
          <a:stretch/>
        </p:blipFill>
        <p:spPr>
          <a:xfrm>
            <a:off x="-19080" y="115920"/>
            <a:ext cx="887724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22040" y="907920"/>
            <a:ext cx="901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ить, в чем состоит случайный эксперимент и какие у него элементарные события. Убедиться, что они равновероятны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йти общее число элементарных событий (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пределить, какие элементарные события благоприятствуют событию А, и найти их число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(A)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йти вероятность события А по формул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Скругленная прямоугольная выноска 11"/>
          <p:cNvSpPr/>
          <p:nvPr/>
        </p:nvSpPr>
        <p:spPr>
          <a:xfrm>
            <a:off x="108000" y="115920"/>
            <a:ext cx="8964720" cy="3030480"/>
          </a:xfrm>
          <a:prstGeom prst="pie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онкурс исполнителей проводится в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дней. Всего заявлен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выступлений - по одному от каждой страны. В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первый день 8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ыступлений, остальные распределены поровну между оставшимися днями. Порядок выступлений определяется жеребьёвкой. Какова вероятность, что выступление представителя России состоится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в третий день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онкурса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817240" y="579132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1258920" y="5429160"/>
                <a:ext cx="384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8" name="Прямоугольник 8"/>
          <p:cNvSpPr/>
          <p:nvPr/>
        </p:nvSpPr>
        <p:spPr>
          <a:xfrm>
            <a:off x="2195640" y="31464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г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= 80 выступлений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9" name="Прямоугольник 9"/>
          <p:cNvSpPr/>
          <p:nvPr/>
        </p:nvSpPr>
        <p:spPr>
          <a:xfrm>
            <a:off x="231840" y="3657600"/>
            <a:ext cx="85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первый день 8 выступлений, в оставшиеся 5 - 1 = 4 дня по (80 - 8): 4 = 18 выступлений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0" name="Прямоугольник 10"/>
          <p:cNvSpPr/>
          <p:nvPr/>
        </p:nvSpPr>
        <p:spPr>
          <a:xfrm>
            <a:off x="324000" y="4487760"/>
            <a:ext cx="75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третий день состоится 18 выступлений - это благоприятствующие для россиянина события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TextBox 14"/>
          <p:cNvSpPr/>
          <p:nvPr/>
        </p:nvSpPr>
        <p:spPr>
          <a:xfrm>
            <a:off x="146520" y="31860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2" name="TextBox 15"/>
          <p:cNvSpPr/>
          <p:nvPr/>
        </p:nvSpPr>
        <p:spPr>
          <a:xfrm>
            <a:off x="5931360" y="4037040"/>
            <a:ext cx="14990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(А)=1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3" name="TextBox 16"/>
          <p:cNvSpPr/>
          <p:nvPr/>
        </p:nvSpPr>
        <p:spPr>
          <a:xfrm>
            <a:off x="6793920" y="3206880"/>
            <a:ext cx="105840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nodeType="clickEffect" fill="hold">
                      <p:stCondLst>
                        <p:cond delay="0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5"/>
          <p:cNvSpPr/>
          <p:nvPr/>
        </p:nvSpPr>
        <p:spPr>
          <a:xfrm>
            <a:off x="146520" y="31860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Прямоугольник 6"/>
          <p:cNvSpPr/>
          <p:nvPr/>
        </p:nvSpPr>
        <p:spPr>
          <a:xfrm>
            <a:off x="2195640" y="314640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г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= 75 докладов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6" name="Прямоугольник 7"/>
          <p:cNvSpPr/>
          <p:nvPr/>
        </p:nvSpPr>
        <p:spPr>
          <a:xfrm>
            <a:off x="231840" y="3657600"/>
            <a:ext cx="87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первые три дня по 17 докладов: 17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∙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 = 51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оставшиеся 5 - 3 = 2 дня по (75 - 51) : 2 = 12 докладов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7" name="TextBox 8"/>
          <p:cNvSpPr/>
          <p:nvPr/>
        </p:nvSpPr>
        <p:spPr>
          <a:xfrm>
            <a:off x="5863680" y="3195720"/>
            <a:ext cx="105840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TextBox 9"/>
          <p:cNvSpPr/>
          <p:nvPr/>
        </p:nvSpPr>
        <p:spPr>
          <a:xfrm>
            <a:off x="2053800" y="4581360"/>
            <a:ext cx="14990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(А)=1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Прямоугольник 10"/>
          <p:cNvSpPr/>
          <p:nvPr/>
        </p:nvSpPr>
        <p:spPr>
          <a:xfrm>
            <a:off x="237960" y="5041800"/>
            <a:ext cx="829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последний день - 12 докладов - это благоприятствующие для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офессора М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события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Объект 4"/>
              <p:cNvSpPr txBox="1"/>
              <p:nvPr/>
            </p:nvSpPr>
            <p:spPr>
              <a:xfrm>
                <a:off x="1230480" y="5821200"/>
                <a:ext cx="3612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TextBox 12"/>
          <p:cNvSpPr/>
          <p:nvPr/>
        </p:nvSpPr>
        <p:spPr>
          <a:xfrm>
            <a:off x="5693400" y="59929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1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2" name="Скругленная прямоугольная выноска 11"/>
          <p:cNvSpPr/>
          <p:nvPr/>
        </p:nvSpPr>
        <p:spPr>
          <a:xfrm>
            <a:off x="63360" y="115920"/>
            <a:ext cx="8964720" cy="3030480"/>
          </a:xfrm>
          <a:prstGeom prst="pie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Научная конференция проводится в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дней. Всего запланирован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75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 докладов —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первые три дня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17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 докладов,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остальные распределены поровну между четвертым и пятым дням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 Порядок докладов определяется жеребьёвкой. Какова вероятность, что доклад профессора М. окажется запланированным на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последний день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конференци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nodeType="clickEffect" fill="hold">
                      <p:stCondLst>
                        <p:cond delay="0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4"/>
          <p:cNvSpPr/>
          <p:nvPr/>
        </p:nvSpPr>
        <p:spPr>
          <a:xfrm>
            <a:off x="146520" y="378936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84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5724360" y="3924360"/>
            <a:ext cx="1944720" cy="2643120"/>
          </a:xfrm>
          <a:prstGeom prst="rect">
            <a:avLst/>
          </a:prstGeom>
          <a:ln w="0">
            <a:noFill/>
          </a:ln>
        </p:spPr>
      </p:pic>
      <p:sp>
        <p:nvSpPr>
          <p:cNvPr id="685" name="Скругленная прямоугольная выноска 5"/>
          <p:cNvSpPr/>
          <p:nvPr/>
        </p:nvSpPr>
        <p:spPr>
          <a:xfrm>
            <a:off x="0" y="46080"/>
            <a:ext cx="9109080" cy="3878280"/>
          </a:xfrm>
          <a:prstGeom prst="pie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еред началом первого тура чемпионата по бадминтону участников разбивают на игровые пары случайным образом с помощью жребия. Всего в чемпионате участвует 26 бадминтонистов, среди которых 10 участников из России, в том числе Руслан Орлов. Найдите вероятность того, что в первом туре Руслан Орлов будет играть с каким-либо бадминтонистом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из России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86" name="Рисунок 6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15573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3"/>
          <p:cNvSpPr/>
          <p:nvPr/>
        </p:nvSpPr>
        <p:spPr>
          <a:xfrm>
            <a:off x="108000" y="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Событие A - "Руслан Орлов будет играть с бадминтонистом из России"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Соревнования по бадминтону, обычно, проводятся  с выбыванием,</a:t>
            </a:r>
            <a:r>
              <a:rPr b="0" lang="en-US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и только в первом туре участвуют все 26 бадминтонистов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Но число всех возможных исходов не равно 26, </a:t>
            </a:r>
            <a:r>
              <a:rPr b="0" lang="en-US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      N</a:t>
            </a: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= 26 - 1 = 25,  потому что Руслан Орлов не может играть с самим собой.</a:t>
            </a:r>
            <a:r>
              <a:rPr b="0" lang="en-US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По той же причине </a:t>
            </a:r>
            <a:r>
              <a:rPr b="0" lang="en-US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N(A)</a:t>
            </a: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= 10 - 1 = 9,</a:t>
            </a:r>
            <a:r>
              <a:rPr b="0" lang="en-US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Franklin Gothic Book"/>
                <a:ea typeface="Times New Roman"/>
              </a:rPr>
              <a:t> ведь Руслан Орлов входит в число 10 участников из Росси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8" name="TextBox 2"/>
          <p:cNvSpPr/>
          <p:nvPr/>
        </p:nvSpPr>
        <p:spPr>
          <a:xfrm>
            <a:off x="5693400" y="59929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Объект 1"/>
              <p:cNvSpPr txBox="1"/>
              <p:nvPr/>
            </p:nvSpPr>
            <p:spPr>
              <a:xfrm>
                <a:off x="1639800" y="4853160"/>
                <a:ext cx="2830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0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304920" y="23760"/>
            <a:ext cx="8686800" cy="18478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В кармане у Пети было 2 монеты по 5 рублей и 4 монеты по 10 рублей. Петя, не глядя, переложил какие-то 3 монеты в другой карман. Найдите вероятность того, что пятирублевые монеты лежат теперь в разных карман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nodeType="clickEffect" fill="hold">
                      <p:stCondLst>
                        <p:cond delay="0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Franklin Gothic Medium"/>
              </a:rPr>
              <a:t>ЧТО ДЕЛАТЬ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дируем монеты числами: 1, 2 (это пятирублёвые), 3, 4, 5, 6 (это десятирублёвые). Условие задачи можно теперь сформулировать так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Есть шесть фишек с номерами от 1 до 6. Сколькими способами можно разложить их по двум карманам поровну, так чтобы фишки с номерами 1 и 2 не оказались вмес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94" name="Рисунок 3" descr=""/>
          <p:cNvPicPr/>
          <p:nvPr/>
        </p:nvPicPr>
        <p:blipFill>
          <a:blip r:embed="rId1"/>
          <a:stretch/>
        </p:blipFill>
        <p:spPr>
          <a:xfrm>
            <a:off x="2987640" y="528480"/>
            <a:ext cx="295200" cy="561960"/>
          </a:xfrm>
          <a:prstGeom prst="rect">
            <a:avLst/>
          </a:prstGeom>
          <a:ln w="0">
            <a:noFill/>
          </a:ln>
        </p:spPr>
      </p:pic>
      <p:pic>
        <p:nvPicPr>
          <p:cNvPr id="695" name="Рисунок 4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237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nodeType="clickEffect" fill="hold">
                      <p:stCondLst>
                        <p:cond delay="0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авайте запишем, что у нас в первом кармане. </a:t>
            </a:r>
            <a:br>
              <a:rPr sz="2800"/>
            </a:b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йдём число возможных комбинаций из набора 1 2 3 4 5 6. Набор из трёх фишек будет трёхзначным числ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сключим из этого числа набор цифр, в которых есть сочетание 1 и 2: 123, 124,125,126, а также 345,345,356,456, т.к. это означает, что фишки 1 и 2 обе оказались в не в первом, а во втором карман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огда искомая вероят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Объект 3"/>
              <p:cNvSpPr txBox="1"/>
              <p:nvPr/>
            </p:nvSpPr>
            <p:spPr>
              <a:xfrm>
                <a:off x="684360" y="2637000"/>
                <a:ext cx="2447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Объект 4"/>
              <p:cNvSpPr txBox="1"/>
              <p:nvPr/>
            </p:nvSpPr>
            <p:spPr>
              <a:xfrm>
                <a:off x="3780000" y="2565360"/>
                <a:ext cx="31683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Объект 5"/>
              <p:cNvSpPr txBox="1"/>
              <p:nvPr/>
            </p:nvSpPr>
            <p:spPr>
              <a:xfrm>
                <a:off x="4859280" y="5516640"/>
                <a:ext cx="2635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TextBox 6"/>
          <p:cNvSpPr/>
          <p:nvPr/>
        </p:nvSpPr>
        <p:spPr>
          <a:xfrm>
            <a:off x="2958120" y="62182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6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0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Заголовок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3586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Липлянская Т.Г. Подготовка к ЕГЭ. В10.</a:t>
            </a:r>
            <a:r>
              <a:rPr b="0" lang="ru-RU" sz="3200" spc="-1" strike="noStrike">
                <a:solidFill>
                  <a:srgbClr val="4e3b30"/>
                </a:solidFill>
                <a:latin typeface="Monotype Corsiva"/>
              </a:rPr>
              <a:t> Решение задач по теории вероят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Monotype Corsiva"/>
                <a:ea typeface="Arial"/>
                <a:hlinkClick r:id="rId2"/>
              </a:rPr>
              <a:t>http://ege-study.ru/materialy-ege/teoriya-veroyatnostej-na-ege-po-matematike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Monotype Corsiva"/>
                <a:ea typeface="Arial"/>
                <a:hlinkClick r:id="rId3"/>
              </a:rPr>
              <a:t>http://www.berdov.com/ege/teorver/coins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Monotype Corsiva"/>
                <a:ea typeface="Arial"/>
                <a:hlinkClick r:id="rId4"/>
              </a:rPr>
              <a:t>http://mathege.ru/or/ege/ShowProblems?offset=6&amp;posMask=512&amp;showProto=tru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Monotype Corsiva"/>
                <a:ea typeface="Arial"/>
                <a:hlinkClick r:id="rId5"/>
              </a:rPr>
              <a:t>http://ege-online-test.ru/theory.php?art=B10-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Monotype Corsiva"/>
                <a:ea typeface="Arial"/>
                <a:hlinkClick r:id="rId6"/>
              </a:rPr>
              <a:t>http://mytutor.spb.ru/math_material/b10_sol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7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6"/>
          <p:cNvSpPr/>
          <p:nvPr/>
        </p:nvSpPr>
        <p:spPr>
          <a:xfrm>
            <a:off x="676800" y="153360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457200" y="2057400"/>
            <a:ext cx="823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ranklin Gothic Book"/>
                <a:ea typeface="Times New Roman"/>
              </a:rPr>
              <a:t>Случайный эксперимент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бросание жребия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Элементарное событие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участник, который выиграл жребий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536400" y="3586320"/>
            <a:ext cx="64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Число элементарных событий: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Box 9"/>
          <p:cNvSpPr/>
          <p:nvPr/>
        </p:nvSpPr>
        <p:spPr>
          <a:xfrm>
            <a:off x="479520" y="4118040"/>
            <a:ext cx="78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Событие А =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жребий выиграл Петя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(A)=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1835280" y="4654440"/>
                <a:ext cx="4313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Box 12"/>
          <p:cNvSpPr/>
          <p:nvPr/>
        </p:nvSpPr>
        <p:spPr>
          <a:xfrm>
            <a:off x="6151320" y="579132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2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Скругленный прямоугольник 11"/>
          <p:cNvSpPr/>
          <p:nvPr/>
        </p:nvSpPr>
        <p:spPr>
          <a:xfrm>
            <a:off x="77760" y="127080"/>
            <a:ext cx="8996400" cy="1501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Вася, Петя, Коля и Леша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бросили жребий – кому начинать игру. Найдите вероятность того, что игру будет начинать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Петя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Скругленная прямоугольная выноска 4"/>
          <p:cNvSpPr/>
          <p:nvPr/>
        </p:nvSpPr>
        <p:spPr>
          <a:xfrm>
            <a:off x="712800" y="333360"/>
            <a:ext cx="7924680" cy="1752480"/>
          </a:xfrm>
          <a:prstGeom prst="wedgeRoundRectCallout">
            <a:avLst>
              <a:gd name="adj1" fmla="val -38648"/>
              <a:gd name="adj2" fmla="val 12631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Дежурные по классу Алексей, Иван, Татьяна и Ольга бросают жребий - кому стирать с доски. Найдите вероятность того, что стирать с доски достанется одной из девочек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Скругленный прямоугольник 6"/>
          <p:cNvSpPr/>
          <p:nvPr/>
        </p:nvSpPr>
        <p:spPr>
          <a:xfrm>
            <a:off x="3429000" y="2743200"/>
            <a:ext cx="4952880" cy="259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3720240" y="2971800"/>
            <a:ext cx="1808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Алексе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ван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Татьян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льг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5859360" y="3200400"/>
                <a:ext cx="2643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Box 13"/>
          <p:cNvSpPr/>
          <p:nvPr/>
        </p:nvSpPr>
        <p:spPr>
          <a:xfrm>
            <a:off x="6180840" y="57913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Овал 14"/>
          <p:cNvSpPr/>
          <p:nvPr/>
        </p:nvSpPr>
        <p:spPr>
          <a:xfrm>
            <a:off x="3505320" y="3962520"/>
            <a:ext cx="205740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324000" y="3476520"/>
            <a:ext cx="2292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ая прямоугольная выноска 4"/>
          <p:cNvSpPr/>
          <p:nvPr/>
        </p:nvSpPr>
        <p:spPr>
          <a:xfrm>
            <a:off x="609480" y="260280"/>
            <a:ext cx="7925040" cy="1600200"/>
          </a:xfrm>
          <a:prstGeom prst="wedgeRoundRectCallout">
            <a:avLst>
              <a:gd name="adj1" fmla="val -36472"/>
              <a:gd name="adj2" fmla="val 142069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вероятность того, что случайно выбранное натуральное число от 10 до 19 делится на тр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Скругленный прямоугольник 6"/>
          <p:cNvSpPr/>
          <p:nvPr/>
        </p:nvSpPr>
        <p:spPr>
          <a:xfrm>
            <a:off x="3429000" y="2743200"/>
            <a:ext cx="4952880" cy="259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3677760" y="297180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 11, 12, 13, 14, 15, 16, 17, 18, 19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897440" y="3886200"/>
                <a:ext cx="3265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Box 13"/>
          <p:cNvSpPr/>
          <p:nvPr/>
        </p:nvSpPr>
        <p:spPr>
          <a:xfrm>
            <a:off x="6180840" y="579132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Скругленный прямоугольник 11"/>
          <p:cNvSpPr/>
          <p:nvPr/>
        </p:nvSpPr>
        <p:spPr>
          <a:xfrm>
            <a:off x="4762440" y="30384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Скругленный прямоугольник 15"/>
          <p:cNvSpPr/>
          <p:nvPr/>
        </p:nvSpPr>
        <p:spPr>
          <a:xfrm>
            <a:off x="6400800" y="30384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Скругленный прямоугольник 16"/>
          <p:cNvSpPr/>
          <p:nvPr/>
        </p:nvSpPr>
        <p:spPr>
          <a:xfrm>
            <a:off x="7972560" y="30384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395280" y="3203640"/>
            <a:ext cx="24955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24"/>
          <p:cNvSpPr/>
          <p:nvPr/>
        </p:nvSpPr>
        <p:spPr>
          <a:xfrm>
            <a:off x="457200" y="1219320"/>
            <a:ext cx="40384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524160" y="167652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Picture 4" descr="http://sky911.ru/images/money_russia_5ryble_2003.jpg"/>
          <p:cNvPicPr/>
          <p:nvPr/>
        </p:nvPicPr>
        <p:blipFill>
          <a:blip r:embed="rId1"/>
          <a:srcRect l="0" t="0" r="50008" b="0"/>
          <a:stretch/>
        </p:blipFill>
        <p:spPr>
          <a:xfrm>
            <a:off x="533520" y="2209680"/>
            <a:ext cx="1455480" cy="15145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8"/>
          <p:cNvSpPr/>
          <p:nvPr/>
        </p:nvSpPr>
        <p:spPr>
          <a:xfrm>
            <a:off x="2037240" y="368604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рел - 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459000" y="373392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решка - 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4164120" y="1636560"/>
            <a:ext cx="52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озможные исходы события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5562720" y="2209680"/>
          <a:ext cx="2286000" cy="25448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 брос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 брос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TextBox 14"/>
          <p:cNvSpPr/>
          <p:nvPr/>
        </p:nvSpPr>
        <p:spPr>
          <a:xfrm>
            <a:off x="5943600" y="2895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TextBox 15"/>
          <p:cNvSpPr/>
          <p:nvPr/>
        </p:nvSpPr>
        <p:spPr>
          <a:xfrm>
            <a:off x="708660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TextBox 16"/>
          <p:cNvSpPr/>
          <p:nvPr/>
        </p:nvSpPr>
        <p:spPr>
          <a:xfrm>
            <a:off x="5956920" y="33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TextBox 17"/>
          <p:cNvSpPr/>
          <p:nvPr/>
        </p:nvSpPr>
        <p:spPr>
          <a:xfrm>
            <a:off x="70866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TextBox 18"/>
          <p:cNvSpPr/>
          <p:nvPr/>
        </p:nvSpPr>
        <p:spPr>
          <a:xfrm>
            <a:off x="70999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594360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59436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TextBox 21"/>
          <p:cNvSpPr/>
          <p:nvPr/>
        </p:nvSpPr>
        <p:spPr>
          <a:xfrm>
            <a:off x="7086600" y="4267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4106880" y="2819520"/>
            <a:ext cx="85572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=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TextBox 29"/>
          <p:cNvSpPr/>
          <p:nvPr/>
        </p:nvSpPr>
        <p:spPr>
          <a:xfrm>
            <a:off x="3860280" y="3657600"/>
            <a:ext cx="129636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N(A)=2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1368360" y="4876920"/>
                <a:ext cx="48830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Box 31"/>
          <p:cNvSpPr/>
          <p:nvPr/>
        </p:nvSpPr>
        <p:spPr>
          <a:xfrm>
            <a:off x="6189480" y="57913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0,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Правая фигурная скобка 27"/>
          <p:cNvSpPr/>
          <p:nvPr/>
        </p:nvSpPr>
        <p:spPr>
          <a:xfrm>
            <a:off x="7848720" y="2819520"/>
            <a:ext cx="380880" cy="190476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904760"/>
              <a:gd name="textAreaBottom" fmla="*/ 189504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TextBox 30"/>
          <p:cNvSpPr/>
          <p:nvPr/>
        </p:nvSpPr>
        <p:spPr>
          <a:xfrm>
            <a:off x="7924320" y="3809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Franklin Gothic Book"/>
                <a:ea typeface="Times New Roman"/>
              </a:rPr>
              <a:t>4 исход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3" name="Picture 4" descr="http://sky911.ru/images/money_russia_5ryble_2003.jpg"/>
          <p:cNvPicPr/>
          <p:nvPr/>
        </p:nvPicPr>
        <p:blipFill>
          <a:blip r:embed="rId2"/>
          <a:srcRect l="49706" t="0" r="0" b="0"/>
          <a:stretch/>
        </p:blipFill>
        <p:spPr>
          <a:xfrm>
            <a:off x="2133720" y="2227320"/>
            <a:ext cx="1465200" cy="1514520"/>
          </a:xfrm>
          <a:prstGeom prst="rect">
            <a:avLst/>
          </a:prstGeom>
          <a:ln w="0">
            <a:noFill/>
          </a:ln>
        </p:spPr>
      </p:pic>
      <p:sp>
        <p:nvSpPr>
          <p:cNvPr id="454" name="Скругленная прямоугольная выноска 34"/>
          <p:cNvSpPr/>
          <p:nvPr/>
        </p:nvSpPr>
        <p:spPr>
          <a:xfrm>
            <a:off x="307800" y="38160"/>
            <a:ext cx="8215560" cy="1638360"/>
          </a:xfrm>
          <a:prstGeom prst="wedgeRoundRectCallout">
            <a:avLst>
              <a:gd name="adj1" fmla="val -28092"/>
              <a:gd name="adj2" fmla="val 50212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случайном эксперименте симметричную монету бросают дважды. Найдите вероятность того, что орел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выпадет ровно один раз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Скругленный прямоугольник 35"/>
          <p:cNvSpPr/>
          <p:nvPr/>
        </p:nvSpPr>
        <p:spPr>
          <a:xfrm>
            <a:off x="5580000" y="3390840"/>
            <a:ext cx="2268720" cy="419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Скругленный прямоугольник 36"/>
          <p:cNvSpPr/>
          <p:nvPr/>
        </p:nvSpPr>
        <p:spPr>
          <a:xfrm>
            <a:off x="5580000" y="3862440"/>
            <a:ext cx="2268720" cy="419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Скругленный прямоугольник 6"/>
          <p:cNvSpPr/>
          <p:nvPr/>
        </p:nvSpPr>
        <p:spPr>
          <a:xfrm>
            <a:off x="2743200" y="2895480"/>
            <a:ext cx="5791320" cy="304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048120" y="3200400"/>
          <a:ext cx="1371600" cy="22860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Скругленная прямоугольная выноска 4"/>
          <p:cNvSpPr/>
          <p:nvPr/>
        </p:nvSpPr>
        <p:spPr>
          <a:xfrm>
            <a:off x="853920" y="549360"/>
            <a:ext cx="7925040" cy="175248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онету бросают дважды. Найдите вероятность того, что выпадет хотя бы один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ОРЕЛ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256800" y="5791320"/>
            <a:ext cx="26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2"/>
              <p:cNvSpPr txBox="1"/>
              <p:nvPr/>
            </p:nvSpPr>
            <p:spPr>
              <a:xfrm>
                <a:off x="4724280" y="3657600"/>
                <a:ext cx="32324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Прямоугольник 18"/>
          <p:cNvSpPr/>
          <p:nvPr/>
        </p:nvSpPr>
        <p:spPr>
          <a:xfrm>
            <a:off x="3124080" y="4191120"/>
            <a:ext cx="121932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Прямоугольник 10"/>
          <p:cNvSpPr/>
          <p:nvPr/>
        </p:nvSpPr>
        <p:spPr>
          <a:xfrm>
            <a:off x="3124080" y="4648320"/>
            <a:ext cx="121932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Прямоугольник 12"/>
          <p:cNvSpPr/>
          <p:nvPr/>
        </p:nvSpPr>
        <p:spPr>
          <a:xfrm>
            <a:off x="3124080" y="3733920"/>
            <a:ext cx="1219320" cy="304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263520" y="3627360"/>
            <a:ext cx="22924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Скругленная прямоугольная выноска 4"/>
          <p:cNvSpPr/>
          <p:nvPr/>
        </p:nvSpPr>
        <p:spPr>
          <a:xfrm>
            <a:off x="108000" y="200160"/>
            <a:ext cx="8872560" cy="2354040"/>
          </a:xfrm>
          <a:prstGeom prst="wedgeRoundRectCallout">
            <a:avLst>
              <a:gd name="adj1" fmla="val -37560"/>
              <a:gd name="adj2" fmla="val 100828"/>
              <a:gd name="adj3" fmla="val 16667"/>
            </a:avLst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еред началом футбольного матча судья бросает монету, чтобы определить, какая из команд начнет игру с мячом. Команда «Физик» играет три матча с разными командами. Найдите вероятность того, что в этих играх  «Физик» выиграет жребий </a:t>
            </a:r>
            <a:r>
              <a:rPr b="0" lang="ru-RU" sz="2800" spc="-1" strike="noStrike">
                <a:solidFill>
                  <a:srgbClr val="ff0000"/>
                </a:solidFill>
                <a:latin typeface="Franklin Gothic Book"/>
                <a:ea typeface="Times New Roman"/>
              </a:rPr>
              <a:t>ровно два раза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2743200" y="2895480"/>
            <a:ext cx="6006960" cy="331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047280" y="60976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твет: 0,375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2743200" y="3068640"/>
          <a:ext cx="6006960" cy="1731960"/>
        </p:xfrm>
        <a:graphic>
          <a:graphicData uri="http://schemas.openxmlformats.org/drawingml/2006/table">
            <a:tbl>
              <a:tblPr/>
              <a:tblGrid>
                <a:gridCol w="685800"/>
                <a:gridCol w="649440"/>
                <a:gridCol w="666720"/>
                <a:gridCol w="668160"/>
                <a:gridCol w="666720"/>
                <a:gridCol w="668520"/>
                <a:gridCol w="666720"/>
                <a:gridCol w="668160"/>
                <a:gridCol w="6667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Скругленный прямоугольник 21"/>
          <p:cNvSpPr/>
          <p:nvPr/>
        </p:nvSpPr>
        <p:spPr>
          <a:xfrm>
            <a:off x="4199040" y="3129120"/>
            <a:ext cx="444240" cy="1658880"/>
          </a:xfrm>
          <a:custGeom>
            <a:avLst/>
            <a:gdLst>
              <a:gd name="textAreaLeft" fmla="*/ 21600 w 444240"/>
              <a:gd name="textAreaRight" fmla="*/ 422640 w 444240"/>
              <a:gd name="textAreaTop" fmla="*/ 21600 h 1658880"/>
              <a:gd name="textAreaBottom" fmla="*/ 1637280 h 1658880"/>
            </a:gdLst>
            <a:ahLst/>
            <a:rect l="textAreaLeft" t="textAreaTop" r="textAreaRight" b="textAreaBottom"/>
            <a:pathLst>
              <a:path w="21600" h="80611">
                <a:moveTo>
                  <a:pt x="3600" y="0"/>
                </a:moveTo>
                <a:arcTo wR="3600" hR="3600" stAng="16200000" swAng="-5400000"/>
                <a:lnTo>
                  <a:pt x="0" y="77011"/>
                </a:lnTo>
                <a:arcTo wR="3600" hR="3600" stAng="10800000" swAng="-5400000"/>
                <a:lnTo>
                  <a:pt x="18000" y="80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Скругленный прямоугольник 22"/>
          <p:cNvSpPr/>
          <p:nvPr/>
        </p:nvSpPr>
        <p:spPr>
          <a:xfrm>
            <a:off x="6156360" y="3141720"/>
            <a:ext cx="457200" cy="1658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58880"/>
              <a:gd name="textAreaBottom" fmla="*/ 1636560 h 1658880"/>
            </a:gdLst>
            <a:ahLst/>
            <a:rect l="textAreaLeft" t="textAreaTop" r="textAreaRight" b="textAreaBottom"/>
            <a:pathLst>
              <a:path w="21600" h="78328">
                <a:moveTo>
                  <a:pt x="3600" y="0"/>
                </a:moveTo>
                <a:arcTo wR="3600" hR="3600" stAng="16200000" swAng="-5400000"/>
                <a:lnTo>
                  <a:pt x="0" y="74728"/>
                </a:lnTo>
                <a:arcTo wR="3600" hR="3600" stAng="10800000" swAng="-5400000"/>
                <a:lnTo>
                  <a:pt x="18000" y="783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Скругленный прямоугольник 23"/>
          <p:cNvSpPr/>
          <p:nvPr/>
        </p:nvSpPr>
        <p:spPr>
          <a:xfrm>
            <a:off x="4859280" y="3127320"/>
            <a:ext cx="457200" cy="16858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85880"/>
              <a:gd name="textAreaBottom" fmla="*/ 1663560 h 1685880"/>
            </a:gdLst>
            <a:ahLst/>
            <a:rect l="textAreaLeft" t="textAreaTop" r="textAreaRight" b="textAreaBottom"/>
            <a:pathLst>
              <a:path w="21600" h="79602">
                <a:moveTo>
                  <a:pt x="3600" y="0"/>
                </a:moveTo>
                <a:arcTo wR="3600" hR="3600" stAng="16200000" swAng="-5400000"/>
                <a:lnTo>
                  <a:pt x="0" y="76002"/>
                </a:lnTo>
                <a:arcTo wR="3600" hR="3600" stAng="10800000" swAng="-5400000"/>
                <a:lnTo>
                  <a:pt x="18000" y="79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"/>
              <p:cNvSpPr txBox="1"/>
              <p:nvPr/>
            </p:nvSpPr>
            <p:spPr>
              <a:xfrm>
                <a:off x="6019920" y="4952880"/>
                <a:ext cx="276516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Box 12"/>
          <p:cNvSpPr/>
          <p:nvPr/>
        </p:nvSpPr>
        <p:spPr>
          <a:xfrm>
            <a:off x="2611080" y="4941720"/>
            <a:ext cx="34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Franklin Gothic Book"/>
                <a:ea typeface="Times New Roman"/>
              </a:rPr>
              <a:t>О – орел (первый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Franklin Gothic Book"/>
                <a:ea typeface="Times New Roman"/>
              </a:rPr>
              <a:t>Р – решка (второй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Picture 5" descr="http://www.sylviarimm.com/images/Boyatdesk.png"/>
          <p:cNvPicPr/>
          <p:nvPr/>
        </p:nvPicPr>
        <p:blipFill>
          <a:blip r:embed="rId1"/>
          <a:stretch/>
        </p:blipFill>
        <p:spPr>
          <a:xfrm>
            <a:off x="263520" y="3627360"/>
            <a:ext cx="22924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8:17:33Z</dcterms:created>
  <dc:creator>ANNA</dc:creator>
  <dc:description/>
  <dc:language>en-US</dc:language>
  <cp:lastModifiedBy>Анна</cp:lastModifiedBy>
  <dcterms:modified xsi:type="dcterms:W3CDTF">2012-12-16T16:48:27Z</dcterms:modified>
  <cp:revision>48</cp:revision>
  <dc:subject/>
  <dc:title>Задачи типа В 10</dc:title>
</cp:coreProperties>
</file>