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A77A7B-41E6-4D46-B6C2-D27D68CF51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7AA-954C-4B50-9152-E0D5A398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B4A-14FE-425D-B452-E551939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CB6-9041-43F2-AA67-929972B7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D5D-D5A5-4B96-9078-BEE9C486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D0C-3C8D-497A-8CF6-8CD76FF5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1BC-2FEB-4BEC-8260-0BC935A5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460-FD4A-4F71-B233-955B050C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C20-056C-49B9-991A-FF822684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388-7298-49E0-BC33-58993CBF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984-C7B9-4663-B6D6-8FADE35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0F5-D65F-41FA-8A8C-65E9CE3E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B6E-8E08-4B67-AF4F-E936EE7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64AE2A-B95C-44C7-BF55-720C3BDF3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413534/" TargetMode="External"/><Relationship Id="rId2" Type="http://schemas.openxmlformats.org/officeDocument/2006/relationships/hyperlink" Target="http://www.char.ru/books/5455580_Mashinka_-_kinogeroi_Tachki" TargetMode="External"/><Relationship Id="rId3" Type="http://schemas.openxmlformats.org/officeDocument/2006/relationships/hyperlink" Target="http://www.design.chelni.ru/" TargetMode="External"/><Relationship Id="rId4" Type="http://schemas.openxmlformats.org/officeDocument/2006/relationships/hyperlink" Target="http://academi.rodim.ru/kl-azb/bukva-M.html" TargetMode="External"/><Relationship Id="rId5" Type="http://schemas.openxmlformats.org/officeDocument/2006/relationships/hyperlink" Target="http://storoz.ucoz.ru/load/1-1-0-14" TargetMode="External"/><Relationship Id="rId6" Type="http://schemas.openxmlformats.org/officeDocument/2006/relationships/hyperlink" Target="http://www.xrest.ru/preview/23549/" TargetMode="External"/><Relationship Id="rId7" Type="http://schemas.openxmlformats.org/officeDocument/2006/relationships/hyperlink" Target="http://900igr.net/fotografii/khimija/Viktorina/038-Igra-s-mjachom-KHimiko-fizicheskij-gandbol.html" TargetMode="External"/><Relationship Id="rId8" Type="http://schemas.openxmlformats.org/officeDocument/2006/relationships/hyperlink" Target="http://kinderrazukraski.ru/kartinki-dlya-detey-medved.html" TargetMode="External"/><Relationship Id="rId9" Type="http://schemas.openxmlformats.org/officeDocument/2006/relationships/hyperlink" Target="http://forum.dom.shareman.tv/forum/viewtopic.php?p=85294" TargetMode="External"/><Relationship Id="rId10" Type="http://schemas.openxmlformats.org/officeDocument/2006/relationships/hyperlink" Target="http://rybolovlya.ucoz.ru/publ/inform/ryby/som/2-1-0-65" TargetMode="External"/><Relationship Id="rId11" Type="http://schemas.openxmlformats.org/officeDocument/2006/relationships/hyperlink" Target="http://www.liveinternet.ru/users/elena_ddd/post119090533" TargetMode="External"/><Relationship Id="rId12" Type="http://schemas.openxmlformats.org/officeDocument/2006/relationships/hyperlink" Target="http://grandway.com.ua/site/m-reception/op-items/act-print/item_id-1443/" TargetMode="External"/><Relationship Id="rId13" Type="http://schemas.openxmlformats.org/officeDocument/2006/relationships/hyperlink" Target="http://gdou-3.narod.ru/" TargetMode="External"/><Relationship Id="rId14" Type="http://schemas.openxmlformats.org/officeDocument/2006/relationships/hyperlink" Target="http://pix.com.ua/ru/nature/flowers/flowers/002_018-upsee.html" TargetMode="External"/><Relationship Id="rId15" Type="http://schemas.openxmlformats.org/officeDocument/2006/relationships/hyperlink" Target="http://house-md.net.ru/forum/13-730-306" TargetMode="External"/><Relationship Id="rId16" Type="http://schemas.openxmlformats.org/officeDocument/2006/relationships/hyperlink" Target="http://blog.webmoskva.ru/3720858" TargetMode="External"/><Relationship Id="rId17" Type="http://schemas.openxmlformats.org/officeDocument/2006/relationships/hyperlink" Target="http://www.fotkidetey.ru/klipart_deti.htm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8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обучения грамот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« Зву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буква их обозначающая. Заглавная буква «М». Упражнения в чте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40000" y="501300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Антонова Елена Борисовна, учитель начальных классов МБОУ СОШ №1 города Че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581280" y="762120"/>
            <a:ext cx="27432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оск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24080" y="457200"/>
            <a:ext cx="1024200" cy="102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267080" cy="640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1905120"/>
            <a:ext cx="175248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600"/>
            <a:ext cx="838080" cy="113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315200" y="480060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а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934320" y="4267080"/>
            <a:ext cx="838080" cy="113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4527360" cy="5791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295280" y="2971800"/>
            <a:ext cx="261000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альв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438280"/>
            <a:ext cx="7621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382240" cy="5334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657600" y="609480"/>
            <a:ext cx="236232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алы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76720" y="3049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гласные звук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2492280"/>
            <a:ext cx="327672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067280" y="4005360"/>
            <a:ext cx="1152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240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estival.1september.ru/articles/413534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игра «Гласные – неясны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har.ru/books/5455580_Mashinka_-_kinogeroi_Tachki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машин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design.chelni.ru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Винни – Пух с пчелам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academi.rodim.ru/kl-azb/bukva-M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на что похожа буква «М»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storoz.ucoz.ru/load/1-1-0-1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мальчик на качелях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xrest.ru/preview/23549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камыш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900igr.net/fotografii/khimija/Viktorina/038-Igra-s-mjachom-KHimiko-fizicheskij-gandbol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мяч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kinderrazukraski.ru/kartinki-dlya-detey-medved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медведь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forum.dom.shareman.tv/forum/viewtopic.php?p=8529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мух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rybolovlya.ucoz.ru/publ/inform/ryby/som/2-1-0-6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сом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www.liveinternet.ru/users/elena_ddd/post11909053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сум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grandway.com.ua/site/m-reception/op-items/act-print/item_id-1443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нож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gdou-3.narod.ru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ромаш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pix.com.ua/ru/nature/flowers/flowers/002_018-upsee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роз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house-md.net.ru/forum/13-730-30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Винни - Пух с горшочком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blog.webmoskva.ru/372085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Красная Площадь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fotkidetey.ru/klipart_deti.ht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дет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labirint.ru/screenshot/goods/231485/1/ (Малыш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fabrikaglamura.ru/forum/t15322,6-.htm (Мальвин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clipartof.com/portfolio/visekart/teacher (учитель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nattik.ru/?p=6788 (стихи о букве «М»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vsezagadki.ucoz.ru/index/0-13 (загадка о машине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stihi.ru/2008/03/29/2671 (загадка про медвед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miranimashek.com/index/0-90 (танцующая буква «м»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Гласные – неясные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колес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иновые шин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ор и тормоза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что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457200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905120"/>
            <a:ext cx="3581280" cy="342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914400"/>
            <a:ext cx="2666880" cy="16002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3886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олапый он и буры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мёда нет – понуры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детства любит он реве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у что он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0924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г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он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057400"/>
            <a:ext cx="3581280" cy="342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066680"/>
            <a:ext cx="2666880" cy="160020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33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что похожа бу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05160" y="17521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ялись за руки друзья и сказали: «Ты да я – это м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между тем, получилась буква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1905120" cy="173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426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80880" y="1523880"/>
            <a:ext cx="434340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181480" y="2286000"/>
            <a:ext cx="351468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т качели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ква 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есь качать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но вс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1668600"/>
            <a:ext cx="44197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картины перед вам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их задания вам все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корей найдите сам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де здесь нет буквы «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238880" y="4267080"/>
            <a:ext cx="168912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3962520"/>
            <a:ext cx="221472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19520" y="5334120"/>
            <a:ext cx="1714320" cy="131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09480" y="274320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304920"/>
            <a:ext cx="150012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477120" y="228600"/>
            <a:ext cx="2209680" cy="154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468360" y="45194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76720" y="260280"/>
            <a:ext cx="2160360" cy="177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5076720" y="4419720"/>
            <a:ext cx="2025720" cy="1984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7164360" y="1844640"/>
            <a:ext cx="151128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ad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ение с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2895480"/>
            <a:ext cx="106668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438280" y="4952880"/>
            <a:ext cx="561960" cy="67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38280" y="137160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76720" y="2057400"/>
            <a:ext cx="5331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76720" y="4419720"/>
            <a:ext cx="5238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9880" y="32004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57400" y="2131560"/>
            <a:ext cx="533520" cy="8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057400" y="2588760"/>
            <a:ext cx="114300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352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5053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37339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79280" y="2133720"/>
            <a:ext cx="460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5600" y="2743200"/>
            <a:ext cx="1145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055960" y="3427560"/>
            <a:ext cx="1527120" cy="7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055960" y="3655800"/>
            <a:ext cx="993600" cy="76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055600" y="3884760"/>
            <a:ext cx="30780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491000" cy="37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wa</cp:lastModifiedBy>
  <dcterms:modified xsi:type="dcterms:W3CDTF">2012-06-26T20:12:3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