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5C5-EB0E-4AF0-A590-E1D1F290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24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8FB-94BD-4B6F-9C84-54421D0D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24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0" y="38224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8DF-F3EF-485A-B4ED-55269291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6000" y="16765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2200" y="16765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24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6000" y="38224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2200" y="38224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73F-2560-4178-95BB-72430AA3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7E70-88C0-4BED-8DEF-62F4AEA6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65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C5AB-2309-46F6-A3D3-15C69484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659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370F-6776-42C5-A67D-E6AAA148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82AE-88C5-44A7-BE21-2EEE65A2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D007-86E1-400A-8EA0-8B9E02FF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-47880"/>
            <a:ext cx="776592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8C5B-A854-41C8-96A2-EC51A944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24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1501-B12D-4144-A3F7-F66F7BAD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65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316-414D-4372-BCB8-266D3A35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9600" y="38224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5DC1-D614-44DC-84B7-7914BDC7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24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02AF-C821-462A-A9D5-5F9C9673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24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71BD-AC96-44E6-9616-CB0148C0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24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49600" y="38224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4788-0FCC-4C47-8EC1-766BA8B4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6000" y="16765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2200" y="16765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24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6000" y="38224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2200" y="38224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B801-5D4E-4B93-A561-1D76BC9D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659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A0E-CEF5-43D6-BC6E-447F1463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A62-526E-401C-BD9E-BEB65113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1AF-8218-43F2-98E6-5D714C26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-47880"/>
            <a:ext cx="776592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D4C-5802-43EB-A744-4F31DA7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24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832-B7EB-4358-8F67-590305B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9600" y="38224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BB5-8A62-41F3-BD5F-9CCC735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24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8A2-4B87-4CCA-98DD-3345243C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819680" y="-1790640"/>
            <a:ext cx="10463400" cy="11556720"/>
            <a:chOff x="-4819680" y="-1790640"/>
            <a:chExt cx="10463400" cy="11556720"/>
          </a:xfrm>
        </p:grpSpPr>
        <p:sp>
          <p:nvSpPr>
            <p:cNvPr id="1" name=""/>
            <p:cNvSpPr/>
            <p:nvPr/>
          </p:nvSpPr>
          <p:spPr>
            <a:xfrm rot="3600000">
              <a:off x="-2919600" y="-1518480"/>
              <a:ext cx="4741920" cy="7125840"/>
            </a:xfrm>
            <a:custGeom>
              <a:avLst/>
              <a:gdLst>
                <a:gd name="textAreaLeft" fmla="*/ 0 w 4741920"/>
                <a:gd name="textAreaRight" fmla="*/ 2370600 w 4741920"/>
                <a:gd name="textAreaTop" fmla="*/ 0 h 7125840"/>
                <a:gd name="textAreaBottom" fmla="*/ 7125840 h 71258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fb5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rot="3600000">
              <a:off x="-998280" y="2368440"/>
              <a:ext cx="4741920" cy="7125840"/>
            </a:xfrm>
            <a:custGeom>
              <a:avLst/>
              <a:gdLst>
                <a:gd name="textAreaLeft" fmla="*/ 2370600 w 4741920"/>
                <a:gd name="textAreaRight" fmla="*/ 4741920 w 4741920"/>
                <a:gd name="textAreaTop" fmla="*/ 0 h 7125840"/>
                <a:gd name="textAreaBottom" fmla="*/ 7125840 h 71258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fb5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3600000">
              <a:off x="-2441880" y="28080"/>
              <a:ext cx="6328080" cy="76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9600000">
              <a:off x="4046760" y="1525320"/>
              <a:ext cx="798480" cy="337896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-4788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65920" cy="41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E68E8-B448-4E20-B7FE-E18C4C59AE4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5056560" y="-2851560"/>
            <a:ext cx="12049560" cy="12684600"/>
            <a:chOff x="-5056560" y="-2851560"/>
            <a:chExt cx="12049560" cy="12684600"/>
          </a:xfrm>
        </p:grpSpPr>
        <p:sp>
          <p:nvSpPr>
            <p:cNvPr id="47" name=""/>
            <p:cNvSpPr/>
            <p:nvPr/>
          </p:nvSpPr>
          <p:spPr>
            <a:xfrm rot="3600000">
              <a:off x="-3174480" y="-2340360"/>
              <a:ext cx="5533560" cy="7540920"/>
            </a:xfrm>
            <a:custGeom>
              <a:avLst/>
              <a:gdLst>
                <a:gd name="textAreaLeft" fmla="*/ 0 w 5533560"/>
                <a:gd name="textAreaRight" fmla="*/ 2766600 w 5533560"/>
                <a:gd name="textAreaTop" fmla="*/ 0 h 7540920"/>
                <a:gd name="textAreaBottom" fmla="*/ 7540920 h 7540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fb5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3600000">
              <a:off x="-422280" y="1780920"/>
              <a:ext cx="5533200" cy="7541280"/>
            </a:xfrm>
            <a:custGeom>
              <a:avLst/>
              <a:gdLst>
                <a:gd name="textAreaLeft" fmla="*/ 2766240 w 5533200"/>
                <a:gd name="textAreaRight" fmla="*/ 5533200 w 5533200"/>
                <a:gd name="textAreaTop" fmla="*/ 0 h 7541280"/>
                <a:gd name="textAreaBottom" fmla="*/ 7541280 h 75412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fb5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3600000">
              <a:off x="-2321640" y="-610560"/>
              <a:ext cx="7388640" cy="807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9600000">
              <a:off x="2103840" y="1729080"/>
              <a:ext cx="845280" cy="394740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1990440"/>
            <a:ext cx="77659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400" y="639936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3D92FB-B043-4F85-A700-4EDEDFB2D3D6}" type="slidenum">
              <a:rPr b="0" lang="ru-RU" sz="1400" spc="-1" strike="noStrike">
                <a:solidFill>
                  <a:srgbClr val="336699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54380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66ff"/>
                </a:solidFill>
                <a:latin typeface="Times New Roman"/>
              </a:rPr>
              <a:t>МБУ «Социально – реабилитационный центр для несовершеннолетних»</a:t>
            </a:r>
            <a:br>
              <a:rPr sz="1600"/>
            </a:br>
            <a:r>
              <a:rPr b="1" i="1" lang="ru-RU" sz="1600" spc="-1" strike="noStrike">
                <a:solidFill>
                  <a:srgbClr val="0066ff"/>
                </a:solidFill>
                <a:latin typeface="Times New Roman"/>
              </a:rPr>
              <a:t>Ивнянского района Белгородской области</a:t>
            </a:r>
            <a:endParaRPr b="0" lang="en-US" sz="1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cc00ff"/>
                </a:solidFill>
                <a:latin typeface="Times New Roman"/>
              </a:rPr>
              <a:t>ДОСУГ И ВОСПИТАНИЕ НРАВСТВЕННЫХ КАЧЕСТВ  ПОДРОСТКОВ</a:t>
            </a:r>
            <a:br>
              <a:rPr sz="3200"/>
            </a:b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25780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1" i="1" lang="ru-RU" sz="2000" spc="-1" strike="noStrike">
                <a:solidFill>
                  <a:srgbClr val="336699"/>
                </a:solidFill>
                <a:latin typeface="Times New Roman"/>
              </a:rPr>
              <a:t>Социальный педагог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Times New Roman"/>
              </a:rPr>
              <a:t>              </a:t>
            </a:r>
            <a:r>
              <a:rPr b="1" i="1" lang="ru-RU" sz="2000" spc="-1" strike="noStrike">
                <a:solidFill>
                  <a:srgbClr val="336699"/>
                </a:solidFill>
                <a:latin typeface="Times New Roman"/>
              </a:rPr>
              <a:t>Съедина Татьяна Николаевна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03640" y="1309680"/>
            <a:ext cx="65512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формирование потребности в здоровом образе жизни;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патриотическое воспитание;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формирование духовности воспитанников через отношение к литературе и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средствам массовой информации;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эстетическое развитие детей;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развитие детского общественного движения;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совместная работа реабилитационного центра и семь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68360" y="426960"/>
            <a:ext cx="7272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Times New Roman"/>
              </a:rPr>
              <a:t>Направления деятельности педагогов в системе нравственного воспитания: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195120"/>
            <a:ext cx="7086600" cy="15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c00ff"/>
                </a:solidFill>
                <a:latin typeface="Times New Roman"/>
              </a:rPr>
              <a:t>Основные направления: нравственного  воспитания  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160" y="182844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1. Диагностическое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проведение диагностических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сследований поведения педагогов,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оспитанников и их родителе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ы: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педагогические наблюдения,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анкетирование, опрос, беседы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тестировани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47680"/>
            <a:ext cx="73152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2. </a:t>
            </a: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Общение и культура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2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0" i="1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336699"/>
                </a:solidFill>
                <a:latin typeface="Times New Roman"/>
              </a:rPr>
              <a:t>формирование милосердия и толерантности; вооружение несовершеннолетних знаниями о морали и нравственных нормах; формирование культуры общения, привычки заботиться о своем внешнем виде и навыков организации повседневного быт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10080" y="990360"/>
            <a:ext cx="2743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Microsoft YaHei"/>
              </a:rPr>
              <a:t>Формы:</a:t>
            </a:r>
            <a:r>
              <a:rPr b="1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2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 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беседа, рассказ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2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 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работа с научно- 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2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 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популярной 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     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литературой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2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 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экскурсия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2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 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устный журнал.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  <a:ea typeface="Microsoft YaHei"/>
              </a:rPr>
              <a:t>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200400" cy="24004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47680"/>
            <a:ext cx="746604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3. Здоровье и спорт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4920" y="914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59200" indent="0">
              <a:spcBef>
                <a:spcPts val="601"/>
              </a:spcBef>
              <a:buNone/>
              <a:tabLst>
                <a:tab algn="l" pos="0"/>
                <a:tab algn="l" pos="385920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253520"/>
                <a:tab algn="l" pos="10702800"/>
                <a:tab algn="l" pos="11152080"/>
                <a:tab algn="l" pos="11601360"/>
                <a:tab algn="l" pos="12050640"/>
                <a:tab algn="l" pos="124999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8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5920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253520"/>
                <a:tab algn="l" pos="10702800"/>
                <a:tab algn="l" pos="11152080"/>
                <a:tab algn="l" pos="11601360"/>
                <a:tab algn="l" pos="12050640"/>
                <a:tab algn="l" pos="1249992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формирование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5920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253520"/>
                <a:tab algn="l" pos="10702800"/>
                <a:tab algn="l" pos="11152080"/>
                <a:tab algn="l" pos="11601360"/>
                <a:tab algn="l" pos="12050640"/>
                <a:tab algn="l" pos="1249992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знаний о здоровом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5920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253520"/>
                <a:tab algn="l" pos="10702800"/>
                <a:tab algn="l" pos="11152080"/>
                <a:tab algn="l" pos="11601360"/>
                <a:tab algn="l" pos="12050640"/>
                <a:tab algn="l" pos="1249992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образе жизни и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5920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253520"/>
                <a:tab algn="l" pos="10702800"/>
                <a:tab algn="l" pos="11152080"/>
                <a:tab algn="l" pos="11601360"/>
                <a:tab algn="l" pos="12050640"/>
                <a:tab algn="l" pos="1249992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привитие навыков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5920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253520"/>
                <a:tab algn="l" pos="10702800"/>
                <a:tab algn="l" pos="11152080"/>
                <a:tab algn="l" pos="11601360"/>
                <a:tab algn="l" pos="12050640"/>
                <a:tab algn="l" pos="1249992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ответственного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5920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253520"/>
                <a:tab algn="l" pos="10702800"/>
                <a:tab algn="l" pos="11152080"/>
                <a:tab algn="l" pos="11601360"/>
                <a:tab algn="l" pos="12050640"/>
                <a:tab algn="l" pos="1249992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отношения к нему,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5920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253520"/>
                <a:tab algn="l" pos="10702800"/>
                <a:tab algn="l" pos="11152080"/>
                <a:tab algn="l" pos="11601360"/>
                <a:tab algn="l" pos="12050640"/>
                <a:tab algn="l" pos="1249992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профилактика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5920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804240"/>
                <a:tab algn="l" pos="10253520"/>
                <a:tab algn="l" pos="10702800"/>
                <a:tab algn="l" pos="11152080"/>
                <a:tab algn="l" pos="11601360"/>
                <a:tab algn="l" pos="12050640"/>
                <a:tab algn="l" pos="1249992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вредных привычек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95320" y="914400"/>
            <a:ext cx="40388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Формы: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  <a:ea typeface="Microsoft YaHei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Microsoft YaHei"/>
              </a:rPr>
              <a:t>занятия по интересам, спортивно ­ массовые и физкультурно­ оздоровительные мероприятия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366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Microsoft YaHei"/>
              </a:rPr>
              <a:t>Дни здоровья, соревнования, конкурсные программы, турниры,  походы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76920" y="403848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8280" y="6480"/>
            <a:ext cx="8055000" cy="100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8000"/>
                </a:solidFill>
                <a:latin typeface="Times New Roman"/>
              </a:rPr>
              <a:t>4. Этикет и культура поведения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0360" y="1495080"/>
            <a:ext cx="3095640" cy="36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80"/>
                </a:solidFill>
                <a:latin typeface="Arial"/>
              </a:rPr>
              <a:t>Формирование у воспитанников культуры поведения и эстетического вкуса.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9640" y="1728720"/>
            <a:ext cx="43196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1" lang="ru-RU" sz="2600" spc="-1" strike="noStrike">
                <a:solidFill>
                  <a:srgbClr val="000080"/>
                </a:solidFill>
                <a:latin typeface="Arial"/>
              </a:rPr>
              <a:t>этические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80"/>
                </a:solidFill>
                <a:latin typeface="Arial"/>
              </a:rPr>
              <a:t>беседы, тренинги, посещение кружков, театров, музеев, выставки детских работ,посещение библиотеки, знакомство с книгами по тематике и др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16292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00ff"/>
                </a:solidFill>
                <a:latin typeface="Times New Roman"/>
              </a:rPr>
              <a:t>Лучшие национальные </a:t>
            </a:r>
            <a:br>
              <a:rPr sz="4000"/>
            </a:br>
            <a:r>
              <a:rPr b="0" lang="ru-RU" sz="4000" spc="-1" strike="noStrike">
                <a:solidFill>
                  <a:srgbClr val="cc00ff"/>
                </a:solidFill>
                <a:latin typeface="Times New Roman"/>
              </a:rPr>
              <a:t>качества русского человека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– 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это питательная почва нравственного чувства подрастающего поколения,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путь обретения специфических свойств национальной русской духовности. 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247680"/>
            <a:ext cx="655308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Что такое доброта</a:t>
            </a: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Богомаз Ирина в соавторстве с Сажневой Дианой)</a:t>
            </a:r>
            <a:endParaRPr b="0" lang="en-US" sz="1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143000"/>
            <a:ext cx="5029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6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Отчего, скажи скорей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Мир становится добрей?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Оттого, что кто-то счастлив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От простого слова «Здравствуй!»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И от смеха малышей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И от солнечных лучей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От подснежников в лесу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Что я маме принесу.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От березки под окном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Что стучится веткой в дом.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От прохлады ручейка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От цветного мотылька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И от радуги над речкой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И от дров, трещащих в печке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Оттого, что рядом друг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И от бабушкиных рук.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От снежинок на ресницах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И от сказки, что нам снится.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И от запаха сирени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И от соловьиной трели.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Мир загадочный, огромный,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Посмотри, какой он добрый.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Так давай и я и ты </a:t>
            </a:r>
            <a:br>
              <a:rPr sz="1600"/>
            </a:br>
            <a:r>
              <a:rPr b="1" i="1" lang="ru-RU" sz="1600" spc="-1" strike="noStrike">
                <a:solidFill>
                  <a:srgbClr val="336699"/>
                </a:solidFill>
                <a:latin typeface="Arial"/>
              </a:rPr>
              <a:t>Ему добавим доброты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5640" y="45720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Мечтайте, люди добрые, мечтайте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О самом милом, светлом и родном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И в жизни никогда не забывайте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Прощать, и за добро платить добром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Любите рано утром просыпаться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Цените все, что жизнью вам дано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И людям не ленитесь улыбаться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Учитесь отдавать свое тепло.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е будьте лживы, мелочны, сварливы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е покидайте в суете друзей.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Поверьте, все вернется с большей силой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се то, что вы отдали для людей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Это не просьба, зов или пророчество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о тот, кто отвернулся от людей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Давно обрек себя на одиночество,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е понимая участи своей.</a:t>
            </a:r>
            <a:br>
              <a:rPr sz="1800"/>
            </a:b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16600" y="583740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9900"/>
                </a:solidFill>
                <a:latin typeface="Times New Roman"/>
              </a:rPr>
              <a:t>Автор: Татьяна</a:t>
            </a:r>
            <a:r>
              <a:rPr b="0" i="1" lang="ru-RU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9900"/>
                </a:solidFill>
                <a:latin typeface="Times New Roman"/>
              </a:rPr>
              <a:t>Валяева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62012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…</a:t>
            </a: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Убеждены мы: нет плохих детей!</a:t>
            </a:r>
            <a:br>
              <a:rPr sz="3600"/>
            </a:b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  Есть, взрослые, забывшие о долге.</a:t>
            </a:r>
            <a:br>
              <a:rPr sz="3600"/>
            </a:b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  Взвалившие на плечи малышей   </a:t>
            </a:r>
            <a:br>
              <a:rPr sz="3600"/>
            </a:b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  Не детские проблемы и заботы.</a:t>
            </a:r>
            <a:br>
              <a:rPr sz="3600"/>
            </a:b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  А детская наивная душа</a:t>
            </a:r>
            <a:br>
              <a:rPr sz="3600"/>
            </a:b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  Так хочет верить в лучшее  сегодня!</a:t>
            </a:r>
            <a:br>
              <a:rPr sz="3600"/>
            </a:b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  И мы откроем детям этот мир, </a:t>
            </a:r>
            <a:br>
              <a:rPr sz="3600"/>
            </a:b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  Прекрасный мир, наполненный  </a:t>
            </a:r>
            <a:br>
              <a:rPr sz="3600"/>
            </a:br>
            <a:r>
              <a:rPr b="0" i="1" lang="ru-RU" sz="3600" spc="-1" strike="noStrike">
                <a:solidFill>
                  <a:srgbClr val="0066ff"/>
                </a:solidFill>
                <a:latin typeface="Monotype Corsiva"/>
              </a:rPr>
              <a:t>  любовью…</a:t>
            </a:r>
            <a:br>
              <a:rPr sz="3600"/>
            </a:b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                                    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. Курамшин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05120" y="3657600"/>
            <a:ext cx="7010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6699"/>
                </a:solidFill>
                <a:latin typeface="Times New Roman"/>
              </a:rPr>
              <a:t>Детский  возраст —   это        начало         осознанного   восприятия     мира,     когда закладываются  критерии добра  и  зла, порядочности   и    лживости,   смелости 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Times New Roman"/>
              </a:rPr>
              <a:t>и   трусости. Поэтому этот  возраст  является  одним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6699"/>
                </a:solidFill>
                <a:latin typeface="Times New Roman"/>
              </a:rPr>
              <a:t>из    основных   этапов    воспитания,  в котором закладываются     основные    принципы      гуманной жизн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24080" y="533520"/>
            <a:ext cx="4038840" cy="3028680"/>
          </a:xfrm>
          <a:prstGeom prst="rect">
            <a:avLst/>
          </a:prstGeom>
          <a:ln w="76320">
            <a:solidFill>
              <a:srgbClr val="0066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3242880"/>
            <a:ext cx="7088040" cy="30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Цель нравственного воспитания состоит в том, чтобы социально    необходимые требования, предъявляемые обществом, педагоги превратили во внутренние стимулы развития личности каждого ребенка; воспитывали такие   </a:t>
            </a:r>
            <a:br>
              <a:rPr sz="2200"/>
            </a:b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оциально значимые качества личности, как долг, честь, совесть, достоинство, толерантность, милосердие.</a:t>
            </a:r>
            <a:br>
              <a:rPr sz="2000"/>
            </a:br>
            <a:endParaRPr b="0" lang="en-US" sz="2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8120" y="287280"/>
            <a:ext cx="3503520" cy="2851200"/>
          </a:xfrm>
          <a:prstGeom prst="rect">
            <a:avLst/>
          </a:prstGeom>
          <a:ln w="76320">
            <a:solidFill>
              <a:srgbClr val="0066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4480" y="-460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Задачи нравственного воспитания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32000" y="1294920"/>
            <a:ext cx="662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- формирование   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нравственного сознания;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- воспитание и развитие 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нравственных чувств;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- выработка умений и 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привычек нравственного 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поведения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379080"/>
            <a:ext cx="75438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Times New Roman"/>
              </a:rPr>
              <a:t>В системе нравственного воспитания можно выделить следующие направления деятельности педагогов: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8800" y="1980720"/>
            <a:ext cx="67816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формирование потребности в здоровом образе жизни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эстетическое и трудовое развитие детей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формирование духовности воспитанников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патриотическое и семейное воспитание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6699"/>
                </a:solidFill>
                <a:latin typeface="Times New Roman"/>
              </a:rPr>
              <a:t>гражданско – правовое воспитани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72720" y="1163160"/>
            <a:ext cx="705492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Справедливость</a:t>
            </a: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Times New Roman"/>
              </a:rPr>
              <a:t>– объективная сторона личностно-деловых качеств людей и их деятельности, признание их индивидуальности, открытость к общению, самокритичность.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Коллективизм</a:t>
            </a:r>
            <a:r>
              <a:rPr b="0" lang="ru-RU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Times New Roman"/>
              </a:rPr>
              <a:t>– это такая организация труда, посредством которой соединяются индивидуальные, групповые и общественные интересы, ориентирующие работника на достижение конечных общественных полезных результатов, способствует заинтересованности в труде, придает ему положительный социально-нравственный смысл.</a:t>
            </a:r>
            <a:br>
              <a:rPr sz="2000"/>
            </a:br>
            <a:r>
              <a:rPr b="0" lang="ru-RU" sz="2000" spc="-1" strike="noStrike">
                <a:solidFill>
                  <a:srgbClr val="000080"/>
                </a:solidFill>
                <a:latin typeface="Times New Roman"/>
              </a:rPr>
              <a:t>Умение работать в коллективе предполагает стремление работать сообща, готовность прийти на помощь товарищам, дисциплинированность, чувство ответственности за общее дело, высокую требовательность к себе, чувство личной ответственности за результаты своего труда перед коллективом.</a:t>
            </a:r>
            <a:br>
              <a:rPr sz="1500"/>
            </a:b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8000" y="431640"/>
            <a:ext cx="577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Содержание  нравственных качеств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60720" y="503280"/>
            <a:ext cx="66243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b84700"/>
                </a:solidFill>
                <a:latin typeface="Times New Roman"/>
              </a:rPr>
              <a:t>Честность </a:t>
            </a:r>
            <a:r>
              <a:rPr b="0" lang="ru-RU" sz="2000" spc="-1" strike="noStrike">
                <a:solidFill>
                  <a:srgbClr val="000080"/>
                </a:solidFill>
                <a:latin typeface="Times New Roman"/>
              </a:rPr>
              <a:t>– моральное качество, отражающее одно из важнейших требований нравственности, самоотдачи в работе, умение говорить правду "в глаза", требовательность к себе и к другим.</a:t>
            </a:r>
            <a:br>
              <a:rPr sz="2000"/>
            </a:br>
            <a:r>
              <a:rPr b="1" lang="ru-RU" sz="2200" spc="-1" strike="noStrike">
                <a:solidFill>
                  <a:srgbClr val="b84700"/>
                </a:solidFill>
                <a:latin typeface="Times New Roman"/>
              </a:rPr>
              <a:t>Скромность</a:t>
            </a:r>
            <a:r>
              <a:rPr b="0" lang="ru-RU" sz="2000" spc="-1" strike="noStrike">
                <a:solidFill>
                  <a:srgbClr val="b847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Times New Roman"/>
              </a:rPr>
              <a:t>– исполнительность, критическое отношение к своим заслугам и недостаткам.</a:t>
            </a:r>
            <a:br>
              <a:rPr sz="2000"/>
            </a:br>
            <a:r>
              <a:rPr b="1" lang="ru-RU" sz="2400" spc="-1" strike="noStrike">
                <a:solidFill>
                  <a:srgbClr val="b84700"/>
                </a:solidFill>
                <a:latin typeface="Times New Roman"/>
              </a:rPr>
              <a:t>Гражданственность</a:t>
            </a: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Times New Roman"/>
              </a:rPr>
              <a:t>– личная ответственность перед обществом, людьми.</a:t>
            </a:r>
            <a:br>
              <a:rPr sz="2000"/>
            </a:br>
            <a:r>
              <a:rPr b="0" lang="ru-RU" sz="2000" spc="-1" strike="noStrike">
                <a:solidFill>
                  <a:srgbClr val="000080"/>
                </a:solidFill>
                <a:latin typeface="Times New Roman"/>
              </a:rPr>
              <a:t>Воспитание культуры труда во всех ее проявлениях.</a:t>
            </a:r>
            <a:br>
              <a:rPr sz="2000"/>
            </a:br>
            <a:r>
              <a:rPr b="1" lang="ru-RU" sz="2200" spc="-1" strike="noStrike">
                <a:solidFill>
                  <a:srgbClr val="b84700"/>
                </a:solidFill>
                <a:latin typeface="Times New Roman"/>
              </a:rPr>
              <a:t>Чувство собственного достоинства</a:t>
            </a: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80"/>
                </a:solidFill>
                <a:latin typeface="Times New Roman"/>
              </a:rPr>
              <a:t>порождает потребность в достойном поведении, в красивых и добрых поступках. Человек, уважающий себя, уважает и других людей, умеет видеть в них достоинства. Это умение составляет одно из безусловных свойств нравственности. </a:t>
            </a:r>
            <a:br>
              <a:rPr sz="2000"/>
            </a:br>
            <a:r>
              <a:rPr b="0" lang="ru-RU" sz="2000" spc="-1" strike="noStrike">
                <a:solidFill>
                  <a:srgbClr val="000080"/>
                </a:solidFill>
                <a:latin typeface="Times New Roman"/>
              </a:rPr>
              <a:t>Чувство собственного достоинства, как и уважение достоинства в других людях, необходимо воспитывать с детств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00360" y="534960"/>
            <a:ext cx="684036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едагог выполняют функции организации процесса нравственного развития и совершенствования личности, управление этим процессом. При помощи методов нравственного воспитания осуществляется целенаправленное воздействие на воспитанников, организуется и направляется их жизнедеятельность, обогащается их нравственный опыт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Формы организации и методы нравственного воспитания изменяются от индивидуальных особенностей детей. Воспитательная работа проводится не только со всей группой, но и принимает индивидуальные формы. Конечная цель работы с коллективом – воспитание личности каждого ребенка. Этой цели подчиняется вся воспитательная система. Создание коллектива это не самоцель, а лишь наиболее эффективный и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действенный путь формирования личност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07T12:59:4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