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B30-945A-4889-8268-CC338018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AE9-A6D2-4D3E-842B-19B420A0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5AAE1-5C94-4B7C-9C47-B9F02E7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CC499-3BEA-4A5D-9815-3AFEFC9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64CDDF-E8D9-491E-898C-BFD68F7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4214E-2006-48F4-9AB3-8B527D0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C3F20-9AD5-45FC-936C-AAC0B81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7BD4E-35A3-428A-84EF-025C76B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D0881-A67D-42C1-A7E3-15AB856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61A51-1177-40DB-A0DD-3AF82E02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2813C-D6F4-485A-A25F-E794E150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27E-D13B-465F-A9AB-D1D136A9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F6D-0A90-4741-BFD3-B23FEAA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002B6-A106-48D3-9DD6-02C976F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3917F-DC29-4A2B-9853-9267631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BD2C9-63DE-4AEA-8F10-B6711BAD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BF146-4AE4-44CE-A6F3-0E65F39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A1552-30E9-42B1-A70C-A2CAD64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E750F-D0E5-4F10-8F23-F2B3304A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64CA-7ACD-4241-9CCD-7D96FDC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544-EF11-462A-A1F0-6C7E079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7E9F-A11A-4154-8E84-6C667CC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AB73-3934-47F6-82E4-0A40A94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5F092-F010-462E-9C2D-B5C9359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6A79B-0686-4FE6-A068-09809863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4A0A-9AB1-4EE7-8C09-B05E77C5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94E6-AAB0-4FE5-BFCF-B42C3937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F55E-1A5D-4A19-9470-357811F1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ECC4-331C-4DFA-BE01-05D1926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552A-99B2-44F3-8431-004331D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E741-C6B9-4238-9F25-9930AC6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244-DF19-43CC-B975-A036134E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925B-74E6-4F07-B6DB-DA9D23A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6287-4366-4238-970F-D391B58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AAA2-37FA-4F65-A46E-D3745A9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EA5A-2A5E-4DC9-81C5-BF99C3D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6739-2A77-4A62-B586-FC83320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2A24-572A-46E6-895A-CEC7812A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6AD2-EAAE-4BA0-B26D-5F35BFB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5EA59-B9B7-4DA2-918B-C5DB23AC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28869-4588-408E-A55E-F4C562BE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2985A-507C-4FCA-A2D8-F1C161C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231-B242-49C6-A73B-14B62C4B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DF646-16A7-41A1-B3C7-B393CDF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5F75D-E021-460C-91B2-343112C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BAA64-784A-4F4F-8DCD-A0C642D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2F920-7E53-4AAF-AD30-49BF400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99A5E-8375-4EEC-8ADE-F4E8F22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37C1F-3CFD-4AAD-AF2F-022F7A5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272B5-D9C7-41CD-B466-3D5FEF6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5F451-DD4D-4945-AB7D-9C548321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BED52-CE9D-4B6D-862B-FEBCD24C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2A57-C8C0-40FD-BBBE-CAB45F36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F8F-EC55-4F62-AA5F-3BB50E1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AA7B-C1DF-464A-8A08-66B96B2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23FB-632B-4E6A-9C15-692B984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9716-1601-42A9-840B-9AE00254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81BA-B9FB-4AC5-BAF3-F07B9EC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A9E0-C040-4A7F-9F79-89EE10E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E75B-AC27-4F71-A303-EE7501C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CF4A-9EC1-4C1B-A02C-92F7946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41E9-780A-4897-8B94-15DF06A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7DA8-CBB0-45FD-9851-59DAE38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08C1-B2C7-4DDB-A244-382DC888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3BB-97F1-4262-9F13-565C2F2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BDEF-9330-4BBB-BBC3-45AAA97F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2233-671A-47BE-9E58-F42FFB5D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737E-6492-4167-A1F8-7070E85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A57A-335B-41CB-9B88-D06E01FC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40D0-4FC7-4BFB-BC44-2119178C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7FAA-706A-465C-8495-2DA6FB74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D2B9-13BC-4AE3-B166-325E349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36A4-3D89-4696-AE2F-F0731C1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D99E-4ACE-4CDB-BCF8-46D251D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BEB2-806C-44CA-BABE-3A13688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52-41B4-43FB-BB07-F1C6855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4C8ED-622D-40E8-9E3D-443CA4D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0A45-9B4A-46AC-B13C-C51A157F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8179-9B79-466C-9300-F916B4B2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8FD5-53A6-4F6D-8998-54CA3B52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F592-6F27-4939-BA53-FD0F1EF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A998-83C3-466C-9731-669A28D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9D36-BA92-48CE-B21C-69D2A96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2D76-2F63-40ED-A00E-C63756F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3736-6D6E-4794-B874-BBCAB14B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0BE9-7666-4FC5-96B1-1C064993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01A-439B-4733-8F06-8ECB09B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BC78-5694-467A-B5B0-8EC61F7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3425-048C-482B-9586-11B4BA2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C537-4759-4840-9AA0-8AF5BFB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B966-9426-44E7-95D5-C974C0A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68D1D-61C2-4ACC-9AF2-8C21E1F0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07720-C73B-48BD-86B7-6E50570D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D632B-760C-4293-9444-602090F4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C4E24-B5D5-472C-B3C0-72FC40D1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E86AF-EB52-46D3-9929-A4CE91B2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DEE21-3857-4E13-A26A-32D154E6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318-3EB2-4B04-91E5-439905C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A0EE7-B497-4F06-B537-AA75E675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3C41D-6618-4A43-8906-E609B41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DE9BBD-8433-4D8C-B073-974C7E1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0411C-07D7-412E-BCC3-E58CBB6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32F39-9C5B-4BE6-A687-1B0C1A6B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58507-5C1D-4AC0-9C8B-C4ECA897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9CFC3C-C929-49CB-AD1B-689F9B34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D48E6-0A85-4451-975E-3314B78F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8C8CF-D188-4D13-89B6-A93C8FD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96FC9-F9E8-4E56-9F1E-AC53B097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2B12-472B-4D0C-82DD-50C0E2008A87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407-F493-4BF5-9018-9A7051AAC60C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0DA-CDC5-4208-948C-C4C4E19DBA27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3017-67F1-4AE8-8039-8DE9817AE49E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436-0337-4655-A774-AD81D1A419BC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A7F-6B42-433D-A0A1-013D05C2A4F6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6E8-77C6-466E-9471-EBC0587E79D0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D8D-80EB-4F80-A5A6-ACD297CE2EAD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35A-D2FA-4920-AA2F-345AE8D90B8C}" type="slidenum">
              <a:rPr b="0" lang="ru-RU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63680" y="755640"/>
            <a:ext cx="8394480" cy="2523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68360" y="4365360"/>
            <a:ext cx="822960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кружающего мира в 3 класс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 «Наше питание. Пищеварительная систем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: Черевичная Наталья Николае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-1407960"/>
            <a:ext cx="8242560" cy="2809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4260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Пищев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6" name="Содержимое 3" descr="IMG.jpg"/>
          <p:cNvPicPr/>
          <p:nvPr/>
        </p:nvPicPr>
        <p:blipFill>
          <a:blip r:embed="rId2"/>
          <a:stretch/>
        </p:blipFill>
        <p:spPr>
          <a:xfrm>
            <a:off x="3357720" y="2000160"/>
            <a:ext cx="3286080" cy="4000680"/>
          </a:xfrm>
          <a:prstGeom prst="rect">
            <a:avLst/>
          </a:prstGeom>
          <a:ln w="0">
            <a:noFill/>
          </a:ln>
        </p:spPr>
      </p:pic>
      <p:cxnSp>
        <p:nvCxnSpPr>
          <p:cNvPr id="427" name="Прямая со стрелкой 5"/>
          <p:cNvCxnSpPr/>
          <p:nvPr/>
        </p:nvCxnSpPr>
        <p:spPr>
          <a:xfrm>
            <a:off x="2071440" y="3714840"/>
            <a:ext cx="278676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424242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0" name="Содержимое 3" descr="IMG.jpg"/>
          <p:cNvPicPr/>
          <p:nvPr/>
        </p:nvPicPr>
        <p:blipFill>
          <a:blip r:embed="rId1"/>
          <a:stretch/>
        </p:blipFill>
        <p:spPr>
          <a:xfrm>
            <a:off x="1071720" y="1643040"/>
            <a:ext cx="3643200" cy="4500720"/>
          </a:xfrm>
          <a:prstGeom prst="rect">
            <a:avLst/>
          </a:prstGeom>
          <a:ln w="0">
            <a:noFill/>
          </a:ln>
        </p:spPr>
      </p:pic>
      <p:cxnSp>
        <p:nvCxnSpPr>
          <p:cNvPr id="431" name="Прямая со стрелкой 5"/>
          <p:cNvCxnSpPr/>
          <p:nvPr/>
        </p:nvCxnSpPr>
        <p:spPr>
          <a:xfrm flipH="1" flipV="1">
            <a:off x="3142800" y="4500360"/>
            <a:ext cx="328680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1680"/>
            <a:ext cx="8242560" cy="377352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3" descr="IMG.jpg"/>
          <p:cNvPicPr/>
          <p:nvPr/>
        </p:nvPicPr>
        <p:blipFill>
          <a:blip r:embed="rId2"/>
          <a:stretch/>
        </p:blipFill>
        <p:spPr>
          <a:xfrm>
            <a:off x="3857760" y="1714680"/>
            <a:ext cx="3571920" cy="4643280"/>
          </a:xfrm>
          <a:prstGeom prst="rect">
            <a:avLst/>
          </a:prstGeom>
          <a:ln w="0">
            <a:noFill/>
          </a:ln>
        </p:spPr>
      </p:pic>
      <p:cxnSp>
        <p:nvCxnSpPr>
          <p:cNvPr id="434" name="Прямая со стрелкой 19"/>
          <p:cNvCxnSpPr/>
          <p:nvPr/>
        </p:nvCxnSpPr>
        <p:spPr>
          <a:xfrm>
            <a:off x="2214360" y="4714560"/>
            <a:ext cx="2858040" cy="108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sp>
        <p:nvSpPr>
          <p:cNvPr id="435" name="Прямоугольник 5"/>
          <p:cNvSpPr/>
          <p:nvPr/>
        </p:nvSpPr>
        <p:spPr>
          <a:xfrm>
            <a:off x="2071800" y="41432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50720" y="-3328920"/>
            <a:ext cx="8242560" cy="4730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8" name="Содержимое 3" descr="IMG.jpg"/>
          <p:cNvPicPr/>
          <p:nvPr/>
        </p:nvPicPr>
        <p:blipFill>
          <a:blip r:embed="rId2"/>
          <a:stretch/>
        </p:blipFill>
        <p:spPr>
          <a:xfrm>
            <a:off x="3786120" y="1500120"/>
            <a:ext cx="3929040" cy="4857840"/>
          </a:xfrm>
          <a:prstGeom prst="rect">
            <a:avLst/>
          </a:prstGeom>
          <a:ln w="0">
            <a:noFill/>
          </a:ln>
        </p:spPr>
      </p:pic>
      <p:cxnSp>
        <p:nvCxnSpPr>
          <p:cNvPr id="439" name="Прямая со стрелкой 7"/>
          <p:cNvCxnSpPr/>
          <p:nvPr/>
        </p:nvCxnSpPr>
        <p:spPr>
          <a:xfrm>
            <a:off x="2571840" y="5715000"/>
            <a:ext cx="264384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sp>
        <p:nvSpPr>
          <p:cNvPr id="440" name="Прямоугольник 5"/>
          <p:cNvSpPr/>
          <p:nvPr/>
        </p:nvSpPr>
        <p:spPr>
          <a:xfrm>
            <a:off x="928800" y="50720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450720" y="-3157560"/>
            <a:ext cx="8485200" cy="4584600"/>
          </a:xfrm>
          <a:prstGeom prst="rect">
            <a:avLst/>
          </a:prstGeom>
          <a:ln w="0">
            <a:noFill/>
          </a:ln>
        </p:spPr>
      </p:pic>
      <p:pic>
        <p:nvPicPr>
          <p:cNvPr id="442" name="Содержимое 3" descr="IMG.jpg"/>
          <p:cNvPicPr/>
          <p:nvPr/>
        </p:nvPicPr>
        <p:blipFill>
          <a:blip r:embed="rId2"/>
          <a:stretch/>
        </p:blipFill>
        <p:spPr>
          <a:xfrm>
            <a:off x="2143080" y="1785960"/>
            <a:ext cx="3500640" cy="4071960"/>
          </a:xfrm>
          <a:prstGeom prst="rect">
            <a:avLst/>
          </a:prstGeom>
          <a:ln w="0">
            <a:noFill/>
          </a:ln>
        </p:spPr>
      </p:pic>
      <p:cxnSp>
        <p:nvCxnSpPr>
          <p:cNvPr id="443" name="Прямая со стрелкой 9"/>
          <p:cNvCxnSpPr/>
          <p:nvPr/>
        </p:nvCxnSpPr>
        <p:spPr>
          <a:xfrm flipH="1" flipV="1">
            <a:off x="4285440" y="5357520"/>
            <a:ext cx="271548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sp>
        <p:nvSpPr>
          <p:cNvPr id="444" name="Прямоугольник 5"/>
          <p:cNvSpPr/>
          <p:nvPr/>
        </p:nvSpPr>
        <p:spPr>
          <a:xfrm>
            <a:off x="5857920" y="46432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407880" y="249120"/>
            <a:ext cx="852804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Содержимое 3" descr="IMG.jpg"/>
          <p:cNvPicPr/>
          <p:nvPr/>
        </p:nvPicPr>
        <p:blipFill>
          <a:blip r:embed="rId2"/>
          <a:stretch/>
        </p:blipFill>
        <p:spPr>
          <a:xfrm>
            <a:off x="2714760" y="2000160"/>
            <a:ext cx="2928960" cy="35719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285840" y="2571840"/>
            <a:ext cx="871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овая полость                                                                            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од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                                                                                            желу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ая кишка                                                                                  толстая 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Прямая со стрелкой 10"/>
          <p:cNvCxnSpPr/>
          <p:nvPr/>
        </p:nvCxnSpPr>
        <p:spPr>
          <a:xfrm>
            <a:off x="1285560" y="3499920"/>
            <a:ext cx="2786760" cy="252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49" name="Прямая со стрелкой 12"/>
          <p:cNvCxnSpPr/>
          <p:nvPr/>
        </p:nvCxnSpPr>
        <p:spPr>
          <a:xfrm>
            <a:off x="1285560" y="4285800"/>
            <a:ext cx="2429640" cy="252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50" name="Прямая со стрелкой 14"/>
          <p:cNvCxnSpPr/>
          <p:nvPr/>
        </p:nvCxnSpPr>
        <p:spPr>
          <a:xfrm>
            <a:off x="1643040" y="5072040"/>
            <a:ext cx="228672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51" name="Прямая со стрелкой 16"/>
          <p:cNvCxnSpPr/>
          <p:nvPr/>
        </p:nvCxnSpPr>
        <p:spPr>
          <a:xfrm flipH="1" flipV="1">
            <a:off x="4142880" y="3071520"/>
            <a:ext cx="221544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52" name="Прямая со стрелкой 20"/>
          <p:cNvCxnSpPr/>
          <p:nvPr/>
        </p:nvCxnSpPr>
        <p:spPr>
          <a:xfrm flipH="1" flipV="1">
            <a:off x="4428360" y="4285440"/>
            <a:ext cx="1786680" cy="252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53" name="Прямая со стрелкой 22"/>
          <p:cNvCxnSpPr/>
          <p:nvPr/>
        </p:nvCxnSpPr>
        <p:spPr>
          <a:xfrm flipH="1" flipV="1">
            <a:off x="4571640" y="5000400"/>
            <a:ext cx="157248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cxnSp>
        <p:nvCxnSpPr>
          <p:cNvPr id="454" name="Прямая со стрелкой 24"/>
          <p:cNvCxnSpPr/>
          <p:nvPr/>
        </p:nvCxnSpPr>
        <p:spPr>
          <a:xfrm>
            <a:off x="2071440" y="2714760"/>
            <a:ext cx="185796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тараться есть разнообразную пищу. (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ого и сладкого надо есть поменьше. (4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есть много жареного, копчёного, солёного, острого. (5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тараться есть в одно и то же время. (6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перед занятиями надо обязательно завтракать. (9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ать надо не позже, чем за 2 часа до сна. (1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.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686800" cy="1335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6840" y="1500120"/>
            <a:ext cx="7467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. Зачем нам нужно знать свой организм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чтобы человек мог мыслить, говорить, трудитьс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чтобы умело использовать своё здоровье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о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ять и укреплять своё здоровье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. Как называется способность человека чувствовать прикосновения, боль, тепло, холод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язанием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) обонянием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вкусо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. Какую роль играет жир, который выделяет кожа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ир делает кожу крепкой и сильно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 делает кожу мягкой и упруго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жир делает кожу ловкой и стройно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28760" y="1571400"/>
            <a:ext cx="82864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4.Какие предметы ухода за кожей указаны правильно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зубная паста, зубная щётка, жевательная резинка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алка, мыло, полотенце, крем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ыло, зубная щётка, расчёс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. Какова роль скелета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 является опорой тела и движени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 скелет защищает внутренние органы от повреждени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сокращаясь и расслабляясь, скелет приводит в движение мышц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6. Назови орган, расположенный внутри череп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чки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зёнка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мозг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7. От чего зависит осанка человека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от связок и сухожили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келета и мышц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от хрящей и к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ЛИЧНО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16462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e2d37"/>
                </a:solidFill>
                <a:latin typeface="Cambria"/>
              </a:rPr>
              <a:t>Наше питание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385a"/>
                </a:solidFill>
                <a:latin typeface="Cambria"/>
              </a:rPr>
              <a:t>Пищеварительная система.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Наташа\Desktop\2010_02_03\IMG.jpg"/>
          <p:cNvPicPr/>
          <p:nvPr/>
        </p:nvPicPr>
        <p:blipFill>
          <a:blip r:embed="rId2"/>
          <a:stretch/>
        </p:blipFill>
        <p:spPr>
          <a:xfrm>
            <a:off x="571680" y="21430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Users\Наташа\Desktop\2010_02_03\IMG.jpg"/>
          <p:cNvPicPr/>
          <p:nvPr/>
        </p:nvPicPr>
        <p:blipFill>
          <a:blip r:embed="rId3"/>
          <a:stretch/>
        </p:blipFill>
        <p:spPr>
          <a:xfrm>
            <a:off x="549360" y="3571920"/>
            <a:ext cx="1593720" cy="1214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Наташа\Desktop\2010_02_03\IMG.jpg"/>
          <p:cNvPicPr/>
          <p:nvPr/>
        </p:nvPicPr>
        <p:blipFill>
          <a:blip r:embed="rId4"/>
          <a:stretch/>
        </p:blipFill>
        <p:spPr>
          <a:xfrm>
            <a:off x="571680" y="5072040"/>
            <a:ext cx="1714320" cy="1071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Users\Наташа\Desktop\2010_02_03\IMG.jpg"/>
          <p:cNvPicPr/>
          <p:nvPr/>
        </p:nvPicPr>
        <p:blipFill>
          <a:blip r:embed="rId5"/>
          <a:stretch/>
        </p:blipFill>
        <p:spPr>
          <a:xfrm>
            <a:off x="3357720" y="2143080"/>
            <a:ext cx="1682640" cy="1214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C:\Users\Наташа\Desktop\2010_02_03\IMG.jpg"/>
          <p:cNvPicPr/>
          <p:nvPr/>
        </p:nvPicPr>
        <p:blipFill>
          <a:blip r:embed="rId6"/>
          <a:stretch/>
        </p:blipFill>
        <p:spPr>
          <a:xfrm>
            <a:off x="3429000" y="36432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C:\Users\Наташа\Desktop\2010_02_03\IMG.jpg"/>
          <p:cNvPicPr/>
          <p:nvPr/>
        </p:nvPicPr>
        <p:blipFill>
          <a:blip r:embed="rId7"/>
          <a:stretch/>
        </p:blipFill>
        <p:spPr>
          <a:xfrm>
            <a:off x="6572160" y="2143080"/>
            <a:ext cx="1357560" cy="857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C:\Users\Наташа\Desktop\2010_02_03\IMG.jpg"/>
          <p:cNvPicPr/>
          <p:nvPr/>
        </p:nvPicPr>
        <p:blipFill>
          <a:blip r:embed="rId8"/>
          <a:stretch/>
        </p:blipFill>
        <p:spPr>
          <a:xfrm>
            <a:off x="6500880" y="321480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C:\Users\Наташа\Desktop\2010_02_03\IMG.jpg"/>
          <p:cNvPicPr/>
          <p:nvPr/>
        </p:nvPicPr>
        <p:blipFill>
          <a:blip r:embed="rId9"/>
          <a:stretch/>
        </p:blipFill>
        <p:spPr>
          <a:xfrm>
            <a:off x="6500880" y="442908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C:\Users\Наташа\Desktop\2010_02_03\IMG.jpg"/>
          <p:cNvPicPr/>
          <p:nvPr/>
        </p:nvPicPr>
        <p:blipFill>
          <a:blip r:embed="rId10"/>
          <a:stretch/>
        </p:blipFill>
        <p:spPr>
          <a:xfrm>
            <a:off x="6500880" y="557208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7"/>
          <p:cNvSpPr/>
          <p:nvPr/>
        </p:nvSpPr>
        <p:spPr>
          <a:xfrm>
            <a:off x="714240" y="1500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8"/>
          <p:cNvSpPr/>
          <p:nvPr/>
        </p:nvSpPr>
        <p:spPr>
          <a:xfrm>
            <a:off x="3500280" y="1500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6357960" y="142884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424242"/>
              </a:solidFill>
              <a:latin typeface="Cambria"/>
            </a:endParaRPr>
          </a:p>
        </p:txBody>
      </p:sp>
      <p:pic>
        <p:nvPicPr>
          <p:cNvPr id="415" name="Содержимое 3" descr="IMG.jpg"/>
          <p:cNvPicPr/>
          <p:nvPr/>
        </p:nvPicPr>
        <p:blipFill>
          <a:blip r:embed="rId1"/>
          <a:stretch/>
        </p:blipFill>
        <p:spPr>
          <a:xfrm>
            <a:off x="3000240" y="1571760"/>
            <a:ext cx="3571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-2066760"/>
            <a:ext cx="8328240" cy="34686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6" descr="IMG.jpg"/>
          <p:cNvPicPr/>
          <p:nvPr/>
        </p:nvPicPr>
        <p:blipFill>
          <a:blip r:embed="rId2"/>
          <a:stretch/>
        </p:blipFill>
        <p:spPr>
          <a:xfrm>
            <a:off x="3929040" y="1643040"/>
            <a:ext cx="3537000" cy="45007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12"/>
          <p:cNvCxnSpPr/>
          <p:nvPr/>
        </p:nvCxnSpPr>
        <p:spPr>
          <a:xfrm>
            <a:off x="1428480" y="2571840"/>
            <a:ext cx="378684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sp>
        <p:nvSpPr>
          <p:cNvPr id="419" name="Прямоугольник 8"/>
          <p:cNvSpPr/>
          <p:nvPr/>
        </p:nvSpPr>
        <p:spPr>
          <a:xfrm>
            <a:off x="1000080" y="19288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-987480"/>
            <a:ext cx="8339400" cy="24145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IMG.jpg"/>
          <p:cNvPicPr/>
          <p:nvPr/>
        </p:nvPicPr>
        <p:blipFill>
          <a:blip r:embed="rId2"/>
          <a:stretch/>
        </p:blipFill>
        <p:spPr>
          <a:xfrm>
            <a:off x="1928880" y="1643040"/>
            <a:ext cx="3714840" cy="4357800"/>
          </a:xfrm>
          <a:prstGeom prst="rect">
            <a:avLst/>
          </a:prstGeom>
          <a:ln w="0">
            <a:noFill/>
          </a:ln>
        </p:spPr>
      </p:pic>
      <p:cxnSp>
        <p:nvCxnSpPr>
          <p:cNvPr id="422" name="Прямая со стрелкой 5"/>
          <p:cNvCxnSpPr/>
          <p:nvPr/>
        </p:nvCxnSpPr>
        <p:spPr>
          <a:xfrm flipH="1" flipV="1">
            <a:off x="3857400" y="2785680"/>
            <a:ext cx="3358080" cy="2160"/>
          </a:xfrm>
          <a:prstGeom prst="straightConnector1">
            <a:avLst/>
          </a:prstGeom>
          <a:ln w="9360">
            <a:solidFill>
              <a:srgbClr val="2892ad"/>
            </a:solidFill>
            <a:miter/>
            <a:tailEnd len="med" type="arrow" w="med"/>
          </a:ln>
        </p:spPr>
      </p:cxnSp>
      <p:sp>
        <p:nvSpPr>
          <p:cNvPr id="423" name="Прямоугольник 4"/>
          <p:cNvSpPr/>
          <p:nvPr/>
        </p:nvSpPr>
        <p:spPr>
          <a:xfrm>
            <a:off x="6715080" y="22147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9:02Z</dcterms:created>
  <dc:creator>Наташа</dc:creator>
  <dc:description/>
  <dc:language>en-US</dc:language>
  <cp:lastModifiedBy>Наташа</cp:lastModifiedBy>
  <dcterms:modified xsi:type="dcterms:W3CDTF">2011-03-20T08:23:03Z</dcterms:modified>
  <cp:revision>39</cp:revision>
  <dc:subject/>
  <dc:title>1.Полость рта (зубы) 2. Язык  3. Пищевод  4. Желудок  5. Печень 7. Желчный пузырь  10. Поджелудочная железа  11. Тонкая кишка  12. Толстая кишка</dc:title>
</cp:coreProperties>
</file>