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gif" ContentType="image/gif"/>
  <Override PartName="/ppt/media/image16.png" ContentType="image/png"/>
  <Override PartName="/ppt/media/image22.png" ContentType="image/png"/>
  <Override PartName="/ppt/media/image21.jpeg" ContentType="image/jpeg"/>
  <Override PartName="/ppt/media/image17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33.wmf" ContentType="image/x-wmf"/>
  <Override PartName="/ppt/media/image29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3.jpeg" ContentType="image/jpeg"/>
  <Override PartName="/ppt/media/image15.png" ContentType="image/png"/>
  <Override PartName="/ppt/media/image34.wmf" ContentType="image/x-wmf"/>
  <Override PartName="/ppt/media/image12.png" ContentType="image/png"/>
  <Override PartName="/ppt/media/image20.jpeg" ContentType="image/jpe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E434-F191-4275-88DA-B9136B4F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344F-BF6F-4275-AD6D-31162D62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116A-DB7F-4937-8C13-D285DB39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0E8-ABDD-4E97-B01E-65DCC363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ADDE-2024-4EA3-A381-057E1DD6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82F1-97E6-47A7-807B-BA92E911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60F-C036-482F-B038-07A26E67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497-7701-474C-8367-A00BA5B9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A6E-65F0-43C9-991D-B25B2919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C347-CD12-4F3A-97A2-8060245D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4BC7-AF75-47FD-AFB8-C939E0AE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66A-037C-4C2D-9FA9-24C728DB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7FE5-AA52-4671-A7AF-19F2CD3B6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22.png"/><Relationship Id="rId5" Type="http://schemas.openxmlformats.org/officeDocument/2006/relationships/image" Target="../media/image23.gif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4.wmf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hyperlink" Target="http://images.google.ru/imgres?imgurl=http://easycat.ru/img/lev/lion1.jpg&amp;imgrefurl=http://easycat.ru/lev.html&amp;usg=__Vd-ArAbfEHtMCV7UeaTg5bHUkJ0=&amp;h=268&amp;w=320&amp;sz=23&amp;hl=ru&amp;start=4&amp;tbnid=cXsx8xSnoNL1_M:&amp;tbnh=99&amp;tbnw=118&amp;prev=/images%3Fq%3D%25D0%25BB%25D0%25B5%25D0%25B2%26gbv%3D2%26hl%3Dru%26newwindow%3D1%26rlz%3D1T4SKPB_ru___RU305%26sa%3DG" TargetMode="External"/><Relationship Id="rId7" Type="http://schemas.openxmlformats.org/officeDocument/2006/relationships/image" Target="../media/image27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21.jpeg"/><Relationship Id="rId11" Type="http://schemas.openxmlformats.org/officeDocument/2006/relationships/image" Target="../media/image21.jpeg"/><Relationship Id="rId12" Type="http://schemas.openxmlformats.org/officeDocument/2006/relationships/image" Target="../media/image21.jpe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images.google.ru/imgres?imgurl=http://www.ariadna-hobby.ru/data/home/izdeliya/photo/podushka_sobaka.jpg&amp;imgrefurl=http://www.ariadna-hobby.ru/ru/detail/sendvalues/izdeliya/29/&amp;usg=__8cestDlPDtd3i9oaW4UTbCNIBHs=&amp;h=409&amp;w=450&amp;sz=50&amp;hl=ru&amp;start=15&amp;tbnid=7D3sUamN4S1JzM:&amp;tbnh=115&amp;tbnw=127&amp;prev=/images%3Fq%3D%25D1%2581%25D0%25BE%25D0%25B1%25D0%25B0%25D0%25BA%25D0%25B0%26gbv%3D2%26hl%3Dru%26newwindow%3D1%26rlz%3D1T4SKPB_ru___RU305%26sa%3DG" TargetMode="External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hyperlink" Target="http://images.google.ru/imgres?imgurl=http://kakadu.509.com1.ru/fotogal/oboi/hish/102.jpg&amp;imgrefurl=http://www.zooclub.ru/fotogal/oboi/hish/102a.shtml&amp;usg=__8W1KM8pbA7vE7V5rt05C-OUCzdU=&amp;h=768&amp;w=1024&amp;sz=163&amp;hl=ru&amp;start=6&amp;tbnid=k5hZf3_qf0bLSM:&amp;tbnh=113&amp;tbnw=150&amp;prev=/images%3Fq%3D%25D1%2582%25D0%25B8%25D0%25B3%25D1%2580%26gbv%3D2%26hl%3Dru%26newwindow%3D1%26rlz%3D1T4SKPB_ru___RU305%26sa%3DG" TargetMode="External"/><Relationship Id="rId7" Type="http://schemas.openxmlformats.org/officeDocument/2006/relationships/image" Target="../media/image30.jpeg"/><Relationship Id="rId8" Type="http://schemas.openxmlformats.org/officeDocument/2006/relationships/hyperlink" Target="http://images.google.ru/imgres?imgurl=http://www.trky.ru/wwpic/174255026547a75f0b1cb4c&amp;imgrefurl=http://trky.ru/&amp;usg=__UQD0bTE1YNuN5yFN5zyq5kp7BbM=&amp;h=600&amp;w=800&amp;sz=124&amp;hl=ru&amp;start=12&amp;tbnid=GemsrIZIJVAXXM:&amp;tbnh=107&amp;tbnw=143&amp;prev=/images%3Fq%3D%25D1%2580%25D0%25B5%25D0%25BA%25D0%25B0%2B%25D0%25A2%25D0%25B8%25D0%25B3%25D1%2580%26gbv%3D2%26hl%3Dru%26newwindow%3D1%26rlz%3D1T4SKPB_ru___RU305%26sa%3DG" TargetMode="External"/><Relationship Id="rId9" Type="http://schemas.openxmlformats.org/officeDocument/2006/relationships/image" Target="../media/image31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21.jpeg"/><Relationship Id="rId13" Type="http://schemas.openxmlformats.org/officeDocument/2006/relationships/image" Target="../media/image21.jpeg"/><Relationship Id="rId14" Type="http://schemas.openxmlformats.org/officeDocument/2006/relationships/image" Target="../media/image21.jpeg"/><Relationship Id="rId15" Type="http://schemas.openxmlformats.org/officeDocument/2006/relationships/image" Target="../media/image21.jpe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3.wmf"/><Relationship Id="rId9" Type="http://schemas.openxmlformats.org/officeDocument/2006/relationships/image" Target="../media/image34.wmf"/><Relationship Id="rId10" Type="http://schemas.openxmlformats.org/officeDocument/2006/relationships/image" Target="../media/image35.wmf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image" Target="../media/image41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971640" y="1989000"/>
            <a:ext cx="7561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Большая буква в</a:t>
            </a:r>
            <a:endParaRPr b="1" i="1" lang="en-US" sz="40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кличках животных</a:t>
            </a:r>
            <a:endParaRPr b="1" i="1" lang="en-US" sz="40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646000" y="716040"/>
            <a:ext cx="38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Bookman Old Style"/>
              </a:rPr>
              <a:t>Урок русского языка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Bookman Old Style"/>
              </a:rPr>
              <a:t>2 класс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24000" y="479736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Презентацию выполнила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учитель начальных классов 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МОУ СОШ№1 г. Сим Челябинской обл.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Ткачёва Оксана Николаевна</a:t>
            </a:r>
            <a:endParaRPr b="1" i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3203640" y="260280"/>
            <a:ext cx="468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Picture 6" descr="рыжик"/>
          <p:cNvPicPr/>
          <p:nvPr/>
        </p:nvPicPr>
        <p:blipFill>
          <a:blip r:embed="rId4"/>
          <a:stretch/>
        </p:blipFill>
        <p:spPr>
          <a:xfrm>
            <a:off x="468360" y="3429000"/>
            <a:ext cx="1960560" cy="2449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0010530_n"/>
          <p:cNvPicPr/>
          <p:nvPr/>
        </p:nvPicPr>
        <p:blipFill>
          <a:blip r:embed="rId5"/>
          <a:stretch/>
        </p:blipFill>
        <p:spPr>
          <a:xfrm>
            <a:off x="179280" y="0"/>
            <a:ext cx="2664000" cy="244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5877000"/>
            <a:ext cx="2663640" cy="7207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рыж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2565360"/>
            <a:ext cx="2664000" cy="72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Рыж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Кот Рыжик любит молоко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"/>
          <p:cNvSpPr/>
          <p:nvPr/>
        </p:nvSpPr>
        <p:spPr>
          <a:xfrm>
            <a:off x="3059280" y="3284640"/>
            <a:ext cx="58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В лесу под ёлкой можно найти много рыжиков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rcRect l="26973" t="26380" r="22540" b="3701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pic>
        <p:nvPicPr>
          <p:cNvPr id="94" name="Picture 9" descr="J0233040"/>
          <p:cNvPicPr/>
          <p:nvPr/>
        </p:nvPicPr>
        <p:blipFill>
          <a:blip r:embed="rId3"/>
          <a:stretch/>
        </p:blipFill>
        <p:spPr>
          <a:xfrm>
            <a:off x="324000" y="1197000"/>
            <a:ext cx="1836720" cy="1825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роза"/>
          <p:cNvPicPr/>
          <p:nvPr/>
        </p:nvPicPr>
        <p:blipFill>
          <a:blip r:embed="rId4"/>
          <a:stretch/>
        </p:blipFill>
        <p:spPr>
          <a:xfrm>
            <a:off x="324000" y="3213000"/>
            <a:ext cx="1800000" cy="173988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96" name="Picture 4" descr="Лещенко"/>
          <p:cNvPicPr/>
          <p:nvPr/>
        </p:nvPicPr>
        <p:blipFill>
          <a:blip r:embed="rId5"/>
          <a:stretch/>
        </p:blipFill>
        <p:spPr>
          <a:xfrm>
            <a:off x="4572000" y="1125360"/>
            <a:ext cx="2016000" cy="172908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97" name="Picture 6" descr="lion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3068640"/>
            <a:ext cx="2087640" cy="187164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sp>
        <p:nvSpPr>
          <p:cNvPr id="98" name="WordArt 4"/>
          <p:cNvSpPr txBox="1"/>
          <p:nvPr/>
        </p:nvSpPr>
        <p:spPr>
          <a:xfrm>
            <a:off x="2340000" y="333360"/>
            <a:ext cx="468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1844640"/>
            <a:ext cx="2016360" cy="72072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Роза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0" name=""/>
          <p:cNvSpPr/>
          <p:nvPr/>
        </p:nvSpPr>
        <p:spPr>
          <a:xfrm>
            <a:off x="2268360" y="3789360"/>
            <a:ext cx="2016360" cy="72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роза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1773360"/>
            <a:ext cx="2016000" cy="72072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Лев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"/>
          <p:cNvSpPr/>
          <p:nvPr/>
        </p:nvSpPr>
        <p:spPr>
          <a:xfrm>
            <a:off x="6804000" y="3933720"/>
            <a:ext cx="2016000" cy="72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лев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5516640"/>
            <a:ext cx="71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 саду  . оза поливала  . озу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"/>
          <p:cNvSpPr/>
          <p:nvPr/>
        </p:nvSpPr>
        <p:spPr>
          <a:xfrm>
            <a:off x="2779200" y="5516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ookman Old Style"/>
              </a:rPr>
              <a:t>Р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"/>
          <p:cNvSpPr/>
          <p:nvPr/>
        </p:nvSpPr>
        <p:spPr>
          <a:xfrm>
            <a:off x="6315480" y="5516640"/>
            <a:ext cx="4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ookman Old Style"/>
              </a:rPr>
              <a:t>р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rcRect l="26973" t="26380" r="22540" b="3701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pic>
        <p:nvPicPr>
          <p:cNvPr id="107" name="Picture 9" descr="podushka_sobak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981000"/>
            <a:ext cx="2232000" cy="202104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108" name="Picture 4" descr="шарик"/>
          <p:cNvPicPr/>
          <p:nvPr/>
        </p:nvPicPr>
        <p:blipFill>
          <a:blip r:embed="rId5"/>
          <a:stretch/>
        </p:blipFill>
        <p:spPr>
          <a:xfrm>
            <a:off x="250920" y="3141720"/>
            <a:ext cx="2232000" cy="185724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109" name="Picture 7" descr="10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16360" y="981000"/>
            <a:ext cx="2305080" cy="194328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110" name="Picture 5" descr="174255026547a75f0b1cb4c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16360" y="3068640"/>
            <a:ext cx="2376720" cy="192888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sp>
        <p:nvSpPr>
          <p:cNvPr id="111" name="WordArt 4"/>
          <p:cNvSpPr txBox="1"/>
          <p:nvPr/>
        </p:nvSpPr>
        <p:spPr>
          <a:xfrm>
            <a:off x="2340000" y="260280"/>
            <a:ext cx="468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2556000" y="1557360"/>
            <a:ext cx="2016000" cy="72072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Шар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3645000"/>
            <a:ext cx="2016000" cy="72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шар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4" name=""/>
          <p:cNvSpPr/>
          <p:nvPr/>
        </p:nvSpPr>
        <p:spPr>
          <a:xfrm>
            <a:off x="7093080" y="1484280"/>
            <a:ext cx="1728720" cy="72072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тигр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3860640"/>
            <a:ext cx="1728720" cy="72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Тигр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5229360"/>
            <a:ext cx="41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воздушный – …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охраняет дом - …    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5229360"/>
            <a:ext cx="41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река – …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хищный зверь - …    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3203640" y="404640"/>
            <a:ext cx="46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Закреплени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/>
          <p:nvPr/>
        </p:nvSpPr>
        <p:spPr>
          <a:xfrm>
            <a:off x="2202480" y="112536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( тетрадь по чистописанию стр.19)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179280" y="5373720"/>
            <a:ext cx="4248360" cy="9349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Bookman Old Style"/>
              </a:rPr>
              <a:t>Что обозначают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Bookman Old Style"/>
              </a:rPr>
              <a:t>эти слова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1" name=""/>
          <p:cNvSpPr/>
          <p:nvPr/>
        </p:nvSpPr>
        <p:spPr>
          <a:xfrm>
            <a:off x="769680" y="1557360"/>
            <a:ext cx="3813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Г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ена  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Р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екс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щенок    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кошк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П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ушок и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Т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узик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179280" y="4869000"/>
            <a:ext cx="4248360" cy="1800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Bookman Old Style"/>
              </a:rPr>
              <a:t>Допиши кличку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Bookman Old Style"/>
              </a:rPr>
              <a:t>животным. Составь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Bookman Old Style"/>
              </a:rPr>
              <a:t>предложение и запиши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660033"/>
                </a:solidFill>
                <a:latin typeface="Bookman Old Style"/>
              </a:rPr>
              <a:t>его.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3" name=""/>
          <p:cNvSpPr/>
          <p:nvPr/>
        </p:nvSpPr>
        <p:spPr>
          <a:xfrm>
            <a:off x="3008880" y="2133720"/>
            <a:ext cx="222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М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ухтар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4" name=""/>
          <p:cNvSpPr/>
          <p:nvPr/>
        </p:nvSpPr>
        <p:spPr>
          <a:xfrm>
            <a:off x="3017160" y="2708280"/>
            <a:ext cx="212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М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аньк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5" name=""/>
          <p:cNvSpPr/>
          <p:nvPr/>
        </p:nvSpPr>
        <p:spPr>
          <a:xfrm>
            <a:off x="773280" y="4076640"/>
            <a:ext cx="60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Пушок и Тузик подружились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rcRect l="26973" t="26380" r="22540" b="37011"/>
          <a:stretch/>
        </p:blipFill>
        <p:spPr>
          <a:xfrm>
            <a:off x="179280" y="1916280"/>
            <a:ext cx="8785440" cy="469872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250920" y="2060640"/>
            <a:ext cx="8642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Летом      и        жили в     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… </a:t>
            </a: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. По утрам        кормила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     …</a:t>
            </a: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, а       -     …  . Во дворе у       …  жили      … ,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      …  </a:t>
            </a: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и     …  .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 rot="21054000">
            <a:off x="0" y="-171000"/>
            <a:ext cx="2340000" cy="2108160"/>
          </a:xfrm>
          <a:prstGeom prst="rect">
            <a:avLst/>
          </a:prstGeom>
          <a:ln w="0">
            <a:noFill/>
          </a:ln>
        </p:spPr>
      </p:pic>
      <p:sp>
        <p:nvSpPr>
          <p:cNvPr id="129" name="WordArt 4"/>
          <p:cNvSpPr txBox="1"/>
          <p:nvPr/>
        </p:nvSpPr>
        <p:spPr>
          <a:xfrm>
            <a:off x="2484360" y="40464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Картинный диктант.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 flipH="1">
            <a:off x="2627280" y="206064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4427640" y="213372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 flipH="1">
            <a:off x="5076720" y="270828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2916360" y="3429000"/>
            <a:ext cx="664920" cy="79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2987640" y="4149720"/>
            <a:ext cx="576360" cy="907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1"/>
          <a:stretch/>
        </p:blipFill>
        <p:spPr>
          <a:xfrm>
            <a:off x="6588000" y="4076640"/>
            <a:ext cx="1079640" cy="698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2"/>
          <a:stretch/>
        </p:blipFill>
        <p:spPr>
          <a:xfrm>
            <a:off x="4284720" y="3500280"/>
            <a:ext cx="720720" cy="640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3"/>
          <a:stretch/>
        </p:blipFill>
        <p:spPr>
          <a:xfrm>
            <a:off x="324000" y="3500280"/>
            <a:ext cx="842760" cy="711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4"/>
          <a:stretch/>
        </p:blipFill>
        <p:spPr>
          <a:xfrm>
            <a:off x="539640" y="4797360"/>
            <a:ext cx="792360" cy="717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Просмотреть картинку полностью"/>
          <p:cNvPicPr/>
          <p:nvPr/>
        </p:nvPicPr>
        <p:blipFill>
          <a:blip r:embed="rId15"/>
          <a:srcRect l="0" t="0" r="18236" b="0"/>
          <a:stretch/>
        </p:blipFill>
        <p:spPr>
          <a:xfrm>
            <a:off x="2987640" y="5013360"/>
            <a:ext cx="647640" cy="681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6"/>
          <a:stretch/>
        </p:blipFill>
        <p:spPr>
          <a:xfrm>
            <a:off x="7812000" y="1916280"/>
            <a:ext cx="1152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 rot="21054000">
            <a:off x="0" y="-171000"/>
            <a:ext cx="2340000" cy="2108160"/>
          </a:xfrm>
          <a:prstGeom prst="rect">
            <a:avLst/>
          </a:prstGeom>
          <a:ln w="0">
            <a:noFill/>
          </a:ln>
        </p:spPr>
      </p:pic>
      <p:sp>
        <p:nvSpPr>
          <p:cNvPr id="142" name="WordArt 4"/>
          <p:cNvSpPr txBox="1"/>
          <p:nvPr/>
        </p:nvSpPr>
        <p:spPr>
          <a:xfrm>
            <a:off x="2484360" y="40464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Взаимопроверк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rcRect l="26973" t="26380" r="22540" b="37011"/>
          <a:stretch/>
        </p:blipFill>
        <p:spPr>
          <a:xfrm>
            <a:off x="179280" y="1916280"/>
            <a:ext cx="8785440" cy="469872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250920" y="2060640"/>
            <a:ext cx="864216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000000"/>
                </a:solidFill>
                <a:latin typeface="Bookman Old Style"/>
              </a:rPr>
              <a:t>Летом Катя и Иван жили в деревне Сосновка. По утрам Катя кормила кошку Мурку, а Иван – собаку Рекса. Во дворе у дедушки Гриши жили корова Бурёнка, коза Милка и петух Крикун.</a:t>
            </a:r>
            <a:endParaRPr b="1" i="1" lang="en-US" sz="39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3203640" y="404640"/>
            <a:ext cx="46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Итог урок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1773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Что нового узнали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26370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Как пишутся клички животных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50028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Что необходимо знать о слове, чтобы правильно его написать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2700360" y="620640"/>
            <a:ext cx="5977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Домашне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задани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2484360" y="3213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Стр. 99, упр 161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2268360" y="404640"/>
            <a:ext cx="669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Минутка чистописания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5" descr="п"/>
          <p:cNvPicPr/>
          <p:nvPr/>
        </p:nvPicPr>
        <p:blipFill>
          <a:blip r:embed="rId4"/>
          <a:stretch/>
        </p:blipFill>
        <p:spPr>
          <a:xfrm>
            <a:off x="250920" y="1628640"/>
            <a:ext cx="3889440" cy="2711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6" name="Picture 6" descr="т"/>
          <p:cNvPicPr/>
          <p:nvPr/>
        </p:nvPicPr>
        <p:blipFill>
          <a:blip r:embed="rId5"/>
          <a:stretch/>
        </p:blipFill>
        <p:spPr>
          <a:xfrm>
            <a:off x="4572000" y="1628640"/>
            <a:ext cx="4103640" cy="2716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7" name="Picture 7" descr="г"/>
          <p:cNvPicPr/>
          <p:nvPr/>
        </p:nvPicPr>
        <p:blipFill>
          <a:blip r:embed="rId6"/>
          <a:stretch/>
        </p:blipFill>
        <p:spPr>
          <a:xfrm>
            <a:off x="250920" y="4351320"/>
            <a:ext cx="3889440" cy="2506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2268360" y="404640"/>
            <a:ext cx="669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Словарная работ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24000" y="177336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Стреляный      …      , считать                              …         ,      …        на хвосте принесла, как      …        на сене.</a:t>
            </a:r>
            <a:endParaRPr b="1" i="1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476880" y="1700280"/>
            <a:ext cx="225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в</a:t>
            </a:r>
            <a:r>
              <a:rPr b="1" i="1" lang="en-US" sz="4000" spc="-1" strike="noStrike">
                <a:solidFill>
                  <a:srgbClr val="ff0000"/>
                </a:solidFill>
                <a:latin typeface="Bookman Old Style"/>
              </a:rPr>
              <a:t>о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р</a:t>
            </a:r>
            <a:r>
              <a:rPr b="1" i="1" lang="en-US" sz="4000" spc="-1" strike="noStrike">
                <a:solidFill>
                  <a:srgbClr val="ff0000"/>
                </a:solidFill>
                <a:latin typeface="Bookman Old Style"/>
              </a:rPr>
              <a:t>о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бей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43880" y="2276640"/>
            <a:ext cx="168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в</a:t>
            </a:r>
            <a:r>
              <a:rPr b="1" i="1" lang="en-US" sz="4000" spc="-1" strike="noStrike">
                <a:solidFill>
                  <a:srgbClr val="ff0000"/>
                </a:solidFill>
                <a:latin typeface="Bookman Old Style"/>
              </a:rPr>
              <a:t>о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рон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731680" y="2276640"/>
            <a:ext cx="191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i="1" lang="en-US" sz="4000" spc="-1" strike="noStrike">
                <a:solidFill>
                  <a:srgbClr val="ff0000"/>
                </a:solidFill>
                <a:latin typeface="Bookman Old Style"/>
              </a:rPr>
              <a:t>о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р</a:t>
            </a:r>
            <a:r>
              <a:rPr b="1" i="1" lang="en-US" sz="4000" spc="-1" strike="noStrike">
                <a:solidFill>
                  <a:srgbClr val="ff0000"/>
                </a:solidFill>
                <a:latin typeface="Bookman Old Style"/>
              </a:rPr>
              <a:t>о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к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397040" y="2852640"/>
            <a:ext cx="191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с</a:t>
            </a:r>
            <a:r>
              <a:rPr b="1" i="1" lang="en-US" sz="4000" spc="-1" strike="noStrike">
                <a:solidFill>
                  <a:srgbClr val="ff0000"/>
                </a:solidFill>
                <a:latin typeface="Bookman Old Style"/>
              </a:rPr>
              <a:t>о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бак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250920" y="4581360"/>
            <a:ext cx="4248000" cy="719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Bookman Old Style"/>
              </a:rPr>
              <a:t>Когда так говорят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250920" y="4581360"/>
            <a:ext cx="4248000" cy="935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Bookman Old Style"/>
              </a:rPr>
              <a:t>С какой буквы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Bookman Old Style"/>
              </a:rPr>
              <a:t>написаны слова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2268360" y="404640"/>
            <a:ext cx="669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Словарная работ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42920" y="4714920"/>
            <a:ext cx="4392720" cy="180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Bookman Old Style"/>
              </a:rPr>
              <a:t>Какую бы кличку вы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Bookman Old Style"/>
              </a:rPr>
              <a:t>дали вороне? сороке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Bookman Old Style"/>
              </a:rPr>
              <a:t>воробью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8" name="Picture 6" descr="seraya%20vorona%202"/>
          <p:cNvPicPr/>
          <p:nvPr/>
        </p:nvPicPr>
        <p:blipFill>
          <a:blip r:embed="rId5"/>
          <a:stretch/>
        </p:blipFill>
        <p:spPr>
          <a:xfrm>
            <a:off x="395280" y="1844640"/>
            <a:ext cx="2585880" cy="194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сорока"/>
          <p:cNvPicPr/>
          <p:nvPr/>
        </p:nvPicPr>
        <p:blipFill>
          <a:blip r:embed="rId6"/>
          <a:stretch/>
        </p:blipFill>
        <p:spPr>
          <a:xfrm>
            <a:off x="3348000" y="1916280"/>
            <a:ext cx="2808360" cy="189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воробей"/>
          <p:cNvPicPr/>
          <p:nvPr/>
        </p:nvPicPr>
        <p:blipFill>
          <a:blip r:embed="rId7"/>
          <a:stretch/>
        </p:blipFill>
        <p:spPr>
          <a:xfrm>
            <a:off x="6443640" y="1916280"/>
            <a:ext cx="2376360" cy="1888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489240" y="3857760"/>
            <a:ext cx="24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Каркуш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3557160" y="3857760"/>
            <a:ext cx="256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Белобок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6764040" y="385776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Чирик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79280" y="5084640"/>
            <a:ext cx="4392720" cy="13575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Bookman Old Style"/>
              </a:rPr>
              <a:t>Как написали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Bookman Old Style"/>
              </a:rPr>
              <a:t>клички животных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1" descr=""/>
          <p:cNvPicPr/>
          <p:nvPr/>
        </p:nvPicPr>
        <p:blipFill>
          <a:blip r:embed="rId2"/>
          <a:stretch/>
        </p:blipFill>
        <p:spPr>
          <a:xfrm>
            <a:off x="2286000" y="122400"/>
            <a:ext cx="4614840" cy="14508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285840" y="1785960"/>
            <a:ext cx="864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Клички животных </a:t>
            </a: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– это имена собственные. Они пишутся с большой буквы. </a:t>
            </a:r>
            <a:endParaRPr b="1" i="1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5"/>
          <p:cNvSpPr/>
          <p:nvPr/>
        </p:nvSpPr>
        <p:spPr>
          <a:xfrm>
            <a:off x="5148360" y="2708280"/>
            <a:ext cx="3714480" cy="13572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Bookman Old Style"/>
              </a:rPr>
              <a:t>Правильно ли даны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Bookman Old Style"/>
              </a:rPr>
              <a:t>клички животным?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68" name="Прямоугольник 3" descr=""/>
          <p:cNvPicPr/>
          <p:nvPr/>
        </p:nvPicPr>
        <p:blipFill>
          <a:blip r:embed="rId3"/>
          <a:stretch/>
        </p:blipFill>
        <p:spPr>
          <a:xfrm>
            <a:off x="0" y="914400"/>
            <a:ext cx="5005440" cy="578484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4" descr=""/>
          <p:cNvPicPr/>
          <p:nvPr/>
        </p:nvPicPr>
        <p:blipFill>
          <a:blip r:embed="rId4"/>
          <a:stretch/>
        </p:blipFill>
        <p:spPr>
          <a:xfrm>
            <a:off x="5145120" y="914400"/>
            <a:ext cx="3217680" cy="6159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5" descr=""/>
          <p:cNvPicPr/>
          <p:nvPr/>
        </p:nvPicPr>
        <p:blipFill>
          <a:blip r:embed="rId5"/>
          <a:stretch/>
        </p:blipFill>
        <p:spPr>
          <a:xfrm>
            <a:off x="5145120" y="1481040"/>
            <a:ext cx="3822840" cy="10494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6" descr=""/>
          <p:cNvPicPr/>
          <p:nvPr/>
        </p:nvPicPr>
        <p:blipFill>
          <a:blip r:embed="rId6"/>
          <a:stretch/>
        </p:blipFill>
        <p:spPr>
          <a:xfrm>
            <a:off x="5145120" y="2554200"/>
            <a:ext cx="3217680" cy="104796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7" descr=""/>
          <p:cNvPicPr/>
          <p:nvPr/>
        </p:nvPicPr>
        <p:blipFill>
          <a:blip r:embed="rId7"/>
          <a:stretch/>
        </p:blipFill>
        <p:spPr>
          <a:xfrm>
            <a:off x="5218200" y="3627360"/>
            <a:ext cx="3717720" cy="6159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8" descr=""/>
          <p:cNvPicPr/>
          <p:nvPr/>
        </p:nvPicPr>
        <p:blipFill>
          <a:blip r:embed="rId8"/>
          <a:stretch/>
        </p:blipFill>
        <p:spPr>
          <a:xfrm>
            <a:off x="5218200" y="4200480"/>
            <a:ext cx="3219480" cy="615960"/>
          </a:xfrm>
          <a:prstGeom prst="rect">
            <a:avLst/>
          </a:prstGeom>
          <a:ln w="0">
            <a:noFill/>
          </a:ln>
        </p:spPr>
      </p:pic>
      <p:sp>
        <p:nvSpPr>
          <p:cNvPr id="74" name="WordArt 4"/>
          <p:cNvSpPr txBox="1"/>
          <p:nvPr/>
        </p:nvSpPr>
        <p:spPr>
          <a:xfrm>
            <a:off x="3132000" y="189000"/>
            <a:ext cx="475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Прямоугольник 1" descr=""/>
          <p:cNvPicPr/>
          <p:nvPr/>
        </p:nvPicPr>
        <p:blipFill>
          <a:blip r:embed="rId2"/>
          <a:stretch/>
        </p:blipFill>
        <p:spPr>
          <a:xfrm>
            <a:off x="2286000" y="122400"/>
            <a:ext cx="4614840" cy="145080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142920" y="17146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Кличка животного </a:t>
            </a: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должна соответствовать цвету, внешним особенностям.</a:t>
            </a:r>
            <a:endParaRPr b="1" i="1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5"/>
          <p:cNvSpPr/>
          <p:nvPr/>
        </p:nvSpPr>
        <p:spPr>
          <a:xfrm>
            <a:off x="2286000" y="1285920"/>
            <a:ext cx="6715080" cy="3079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Bookman Old Style"/>
              </a:rPr>
              <a:t>Читая книгу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660033"/>
                </a:solidFill>
                <a:latin typeface="Bookman Old Style"/>
              </a:rPr>
              <a:t>я увидела, что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Bookman Old Style"/>
              </a:rPr>
              <a:t>слово</a:t>
            </a: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3600" spc="-1" strike="noStrike">
                <a:solidFill>
                  <a:srgbClr val="ff0066"/>
                </a:solidFill>
                <a:latin typeface="Bookman Old Style"/>
              </a:rPr>
              <a:t>лев</a:t>
            </a: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2800" spc="-1" strike="noStrike">
                <a:solidFill>
                  <a:srgbClr val="660033"/>
                </a:solidFill>
                <a:latin typeface="Bookman Old Style"/>
              </a:rPr>
              <a:t>написано с 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Bookman Old Style"/>
              </a:rPr>
              <a:t>маленькой буквы, а потом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Bookman Old Style"/>
              </a:rPr>
              <a:t>встретила слово</a:t>
            </a: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n-US" sz="3600" spc="-1" strike="noStrike">
                <a:solidFill>
                  <a:srgbClr val="ff0066"/>
                </a:solidFill>
                <a:latin typeface="Bookman Old Style"/>
              </a:rPr>
              <a:t>Лев</a:t>
            </a:r>
            <a:r>
              <a:rPr b="1" i="1" lang="en-US" sz="3600" spc="-1" strike="noStrike">
                <a:solidFill>
                  <a:srgbClr val="660033"/>
                </a:solidFill>
                <a:latin typeface="Bookman Old Style"/>
              </a:rPr>
              <a:t>,</a:t>
            </a:r>
            <a:r>
              <a:rPr b="1" i="1" lang="en-US" sz="2800" spc="-1" strike="noStrike">
                <a:solidFill>
                  <a:srgbClr val="660033"/>
                </a:solidFill>
                <a:latin typeface="Bookman Old Style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Bookman Old Style"/>
              </a:rPr>
              <a:t>написанное с большой буквы.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Bookman Old Style"/>
              </a:rPr>
              <a:t>Могло ли так быть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2268360" y="404640"/>
            <a:ext cx="669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Проблемный вопрос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24000" y="4292640"/>
            <a:ext cx="2539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1"/>
          <p:cNvPicPr/>
          <p:nvPr/>
        </p:nvPicPr>
        <p:blipFill>
          <a:blip r:embed="rId2"/>
          <a:stretch/>
        </p:blipFill>
        <p:spPr>
          <a:xfrm>
            <a:off x="3419640" y="1413000"/>
            <a:ext cx="3095640" cy="289692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81" name="Picture 9" descr="Орёл"/>
          <p:cNvPicPr/>
          <p:nvPr/>
        </p:nvPicPr>
        <p:blipFill>
          <a:blip r:embed="rId3"/>
          <a:stretch/>
        </p:blipFill>
        <p:spPr>
          <a:xfrm>
            <a:off x="179280" y="189000"/>
            <a:ext cx="2971800" cy="302400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sp>
        <p:nvSpPr>
          <p:cNvPr id="82" name="WordArt 4"/>
          <p:cNvSpPr txBox="1"/>
          <p:nvPr/>
        </p:nvSpPr>
        <p:spPr>
          <a:xfrm>
            <a:off x="3203640" y="404640"/>
            <a:ext cx="468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2708280"/>
            <a:ext cx="2340000" cy="7207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орёл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3500280"/>
            <a:ext cx="2663640" cy="72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Орёл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250920" y="5013360"/>
            <a:ext cx="4248000" cy="129528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Bookman Old Style"/>
              </a:rPr>
              <a:t>С какой буквы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Bookman Old Style"/>
              </a:rPr>
              <a:t>написаны слова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Bookman Old Style"/>
              </a:rPr>
              <a:t>Почему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3:27:40Z</dcterms:created>
  <dc:creator>user</dc:creator>
  <dc:description/>
  <dc:language>en-US</dc:language>
  <cp:lastModifiedBy>user</cp:lastModifiedBy>
  <dcterms:modified xsi:type="dcterms:W3CDTF">2009-02-04T07:13:20Z</dcterms:modified>
  <cp:revision>15</cp:revision>
  <dc:subject/>
  <dc:title>Слайд 1</dc:title>
</cp:coreProperties>
</file>