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5CE-E2F0-4DDA-B66F-1A3D69F6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134-1CAD-4C6B-9788-0E7D353E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403-96C0-4EC2-9213-95B2B8BD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DC69-0924-4C25-AE48-F49C0D23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CB63-232C-4A22-BA31-04871321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2EC7-A9EE-44B3-8768-6FCE931A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F404-34B6-4648-913D-6E3B9E0F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A0F3-D9D4-492C-9885-FEDCD9A5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B2A9-DCEB-40EA-85A0-664F2316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14BC-1439-4133-B739-052AAF18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24C8-E6E5-4FBB-AF51-8B5CB315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8BD-D1F6-4FFE-A68C-C303A7D4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FE6F-8ED2-4E9D-B89D-8DF365B8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45E6-0594-4C0C-9B62-D7182E08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A478-0152-452F-91AF-99F18623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F307-044E-48DD-B33D-95C7E843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D7A5-218A-4C9E-9140-F1FEDC8B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EBE-27BF-4EC3-81E1-405EB00C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50D-36BD-4037-86B8-CD1B2D02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4BB-E11F-4199-A33B-E70EECAD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DBA-1385-4112-8925-8B0EFF13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9FF-B53B-43C5-A6B3-701D8098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1FE-5EDA-4A22-BE48-0D85155E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3123-5CA7-48C7-9134-384FDABA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F7E0-47E2-4489-B88F-70A25EB1A1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DA0A-2A61-434F-9F7A-E099D4E0682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Педагогический совет </a:t>
            </a:r>
            <a:br>
              <a:rPr sz="2000"/>
            </a:b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«Аналитическая деятельность учителя: </a:t>
            </a:r>
            <a:br>
              <a:rPr sz="2000"/>
            </a:b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содержание, результаты, пути совершенствования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56760" y="2000160"/>
            <a:ext cx="8358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ганизация работы над ошибками через анализ контрольных работ как фактор повышения качества обуч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Балдина М.И., учитель русского  язы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 литературы МБОУ «СОШ №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. Калининска Саратовской обла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2 апреля 2012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БАГАЖ (древнесканд.– багги – “узел” франц. – баг – “пакет»)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Содержимое 4" descr=""/>
          <p:cNvPicPr/>
          <p:nvPr/>
        </p:nvPicPr>
        <p:blipFill>
          <a:blip r:embed="rId1"/>
          <a:stretch/>
        </p:blipFill>
        <p:spPr>
          <a:xfrm>
            <a:off x="714240" y="1714680"/>
            <a:ext cx="3286440" cy="4500360"/>
          </a:xfrm>
          <a:prstGeom prst="rect">
            <a:avLst/>
          </a:prstGeom>
          <a:ln w="0">
            <a:noFill/>
          </a:ln>
        </p:spPr>
      </p:pic>
      <p:pic>
        <p:nvPicPr>
          <p:cNvPr id="201" name="Содержимое 5" descr=""/>
          <p:cNvPicPr/>
          <p:nvPr/>
        </p:nvPicPr>
        <p:blipFill>
          <a:blip r:embed="rId2"/>
          <a:stretch/>
        </p:blipFill>
        <p:spPr>
          <a:xfrm>
            <a:off x="4714920" y="1714680"/>
            <a:ext cx="37148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КАРТИНА (от латин. карта – “лист бумаги”)</a:t>
            </a:r>
            <a:br>
              <a:rPr sz="3600"/>
            </a:b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3" name="Содержимое 4" descr=""/>
          <p:cNvPicPr/>
          <p:nvPr/>
        </p:nvPicPr>
        <p:blipFill>
          <a:blip r:embed="rId1"/>
          <a:stretch/>
        </p:blipFill>
        <p:spPr>
          <a:xfrm>
            <a:off x="571680" y="1857240"/>
            <a:ext cx="3500280" cy="4286520"/>
          </a:xfrm>
          <a:prstGeom prst="rect">
            <a:avLst/>
          </a:prstGeom>
          <a:ln w="0">
            <a:noFill/>
          </a:ln>
        </p:spPr>
      </p:pic>
      <p:pic>
        <p:nvPicPr>
          <p:cNvPr id="204" name="Содержимое 5" descr=""/>
          <p:cNvPicPr/>
          <p:nvPr/>
        </p:nvPicPr>
        <p:blipFill>
          <a:blip r:embed="rId2"/>
          <a:stretch/>
        </p:blipFill>
        <p:spPr>
          <a:xfrm>
            <a:off x="4357800" y="2071800"/>
            <a:ext cx="4429080" cy="37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Этимологическая странич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4040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ЛДА′Т – (ист.) военный в Италии, служащий за малые день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4720" y="1428840"/>
            <a:ext cx="404172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′льдо – название мелкой итальянской моне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Содержимое 4" descr=""/>
          <p:cNvPicPr/>
          <p:nvPr/>
        </p:nvPicPr>
        <p:blipFill>
          <a:blip r:embed="rId1"/>
          <a:stretch/>
        </p:blipFill>
        <p:spPr>
          <a:xfrm>
            <a:off x="714240" y="2786040"/>
            <a:ext cx="3071880" cy="3571920"/>
          </a:xfrm>
          <a:prstGeom prst="rect">
            <a:avLst/>
          </a:prstGeom>
          <a:ln w="0">
            <a:noFill/>
          </a:ln>
        </p:spPr>
      </p:pic>
      <p:pic>
        <p:nvPicPr>
          <p:cNvPr id="209" name="Содержимое 5" descr=""/>
          <p:cNvPicPr/>
          <p:nvPr/>
        </p:nvPicPr>
        <p:blipFill>
          <a:blip r:embed="rId2"/>
          <a:stretch/>
        </p:blipFill>
        <p:spPr>
          <a:xfrm>
            <a:off x="4357800" y="2786040"/>
            <a:ext cx="42148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4200" y="27756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Элементы игровой технологии</a:t>
            </a: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укцион «Кто больше?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оссворд «По следам моих ошибо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орческая работа «Письмо ученому соседу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-путешествие «По стране Безграмотланд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сс-конференция  «Ответь на мой вопрос» (в старших класса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Корректо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Использование ИКТ </a:t>
            </a:r>
            <a:br>
              <a:rPr sz="3600"/>
            </a:b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в работе над ошибкам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2428560"/>
            <a:ext cx="82296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Корректо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нные тренажеры ( по разным разделам русского язык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Интернет -ресур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85840" y="1599840"/>
            <a:ext cx="857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мота.Ру: справочно-информационный портал «Русский язык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правила грамматики русского язы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стема дистанционного обучения «Веди» — Русский яз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авочная служба русского язы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льтура письменной реч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Ян Амос Коменск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57400" y="1928880"/>
            <a:ext cx="5072040" cy="42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ая ошибка превращается из маленького “снежка” в большой “снежный ком” неуспеваемости, если на эту ошибку сразу же не реагировал учитель при непременном привлечении самого учащегося к её осознанию и последующему труду, направленному на её полное преодо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318960" y="1928880"/>
            <a:ext cx="3727440" cy="42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пользованная 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196640"/>
            <a:ext cx="864216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катов В.М., Ершова А.П. Я иду на урок: Хрестоматия игровых приёмов обучения: Книга для учителя. – М.: Издательство «Первое сентября»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ванов В.В., Потиха З.А. Исторический комметнарий к занятиям по русскому языку в средней школе: Пособие для учителя. – М.: Просвещение,19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цкий П.С. Орфография без правил. – М.: Просвещение, 19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ахова Л.А. Работа над ошибками. Учебное пособие. - Тамбов: 200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тернет-ресур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rmk-verhneuralsk.narod.ru/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edupage.so/blogs/nominaci/put-k-gramotnosti-cherez-sistemnuyu-rabotu-nad-oshibkami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rus.1september.ru/view_article.php?ID=20080200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referats.allbest.ru/pedagogics/9000149009.htm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yamal.org/ook/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Причины, которые наиболее часто порождают ошибки учащихс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56760" y="2142720"/>
            <a:ext cx="8358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внимание, рассеянность, поспеш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к не понимает значения слова, словосочетания, предложения, смысла текс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ет медленно, не успевает применить свои зн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видит орфограммы ( нет орфографической зоркост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5480" y="277920"/>
            <a:ext cx="8643960" cy="13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Классификация ошиб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рфографические (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на)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унктуационные  (легко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,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и понятно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Грамматические (ров – 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а)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г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Фактические    ( Я люблю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лет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)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ечевые 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Имее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большую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рол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)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Запомни эти алгоритмы!</a:t>
            </a:r>
            <a:br>
              <a:rPr sz="4000"/>
            </a:br>
            <a:br>
              <a:rPr sz="4000"/>
            </a:br>
            <a:r>
              <a:rPr b="0" lang="ru-RU" sz="3200" spc="-1" strike="noStrike" u="sng">
                <a:solidFill>
                  <a:srgbClr val="ccecff"/>
                </a:solidFill>
                <a:uFillTx/>
                <a:latin typeface="Arial"/>
              </a:rPr>
              <a:t>Безударные гласные в слове, проверяемые ударением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643120"/>
            <a:ext cx="8229600" cy="34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Определи устно в слове ударную и безударную гласные, которые надо провер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Запиши слово правильно, поставь ударение, обозначь морфему, выдели безударную гласну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одбери проверочное сло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2286000" y="-311500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тем не__ужиться, ктолюбитбран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мудрому человеку совет требу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ься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етедругзадружкудерж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жете ничегоне__боя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местеибедалегчепереноси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тохва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ся, тотсгорысвали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гкохвалиться, легкоисвали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ся,  у того она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тоработынебо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ори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омастерабо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Использование наглядно-графического изображения слов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55720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коло</a:t>
            </a: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1000080" y="1531800"/>
            <a:ext cx="7215120" cy="40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Comic Sans MS"/>
              </a:rPr>
              <a:t>Запишите </a:t>
            </a:r>
            <a:br>
              <a:rPr sz="4400"/>
            </a:br>
            <a:r>
              <a:rPr b="1" i="1" lang="ru-RU" sz="4400" spc="-1" strike="noStrike">
                <a:solidFill>
                  <a:srgbClr val="cc3300"/>
                </a:solidFill>
                <a:latin typeface="Comic Sans MS"/>
              </a:rPr>
              <a:t>опорную схему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85840" y="1714680"/>
            <a:ext cx="864072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тивопоставление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(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страя смена собы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ени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условие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(если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я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(когд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(как будт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едствие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(так что, поэтому, значи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12" descr="Карандаш"/>
          <p:cNvPicPr/>
          <p:nvPr/>
        </p:nvPicPr>
        <p:blipFill>
          <a:blip r:embed="rId1"/>
          <a:stretch/>
        </p:blipFill>
        <p:spPr>
          <a:xfrm>
            <a:off x="0" y="0"/>
            <a:ext cx="2484360" cy="1762200"/>
          </a:xfrm>
          <a:prstGeom prst="rect">
            <a:avLst/>
          </a:prstGeom>
          <a:ln w="0">
            <a:noFill/>
          </a:ln>
        </p:spPr>
      </p:pic>
      <p:sp>
        <p:nvSpPr>
          <p:cNvPr id="177" name="Line 13"/>
          <p:cNvSpPr/>
          <p:nvPr/>
        </p:nvSpPr>
        <p:spPr>
          <a:xfrm flipV="1">
            <a:off x="1403280" y="2707920"/>
            <a:ext cx="86508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 flipV="1">
            <a:off x="1403280" y="3212640"/>
            <a:ext cx="79236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 flipV="1">
            <a:off x="1403280" y="3715920"/>
            <a:ext cx="8650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258920" y="3716280"/>
            <a:ext cx="1009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1403280" y="3789360"/>
            <a:ext cx="86508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>
            <a:off x="1403280" y="3789360"/>
            <a:ext cx="936720" cy="1366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6372360" y="2781360"/>
            <a:ext cx="122400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6300720" y="3213000"/>
            <a:ext cx="1224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>
            <a:off x="5003640" y="3716280"/>
            <a:ext cx="259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 flipV="1">
            <a:off x="4643280" y="3716280"/>
            <a:ext cx="288000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3"/>
          <p:cNvSpPr/>
          <p:nvPr/>
        </p:nvSpPr>
        <p:spPr>
          <a:xfrm flipV="1">
            <a:off x="5940360" y="3716280"/>
            <a:ext cx="158436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4"/>
          <p:cNvSpPr/>
          <p:nvPr/>
        </p:nvSpPr>
        <p:spPr>
          <a:xfrm flipV="1">
            <a:off x="7093080" y="3573360"/>
            <a:ext cx="35856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25"/>
          <p:cNvSpPr/>
          <p:nvPr/>
        </p:nvSpPr>
        <p:spPr>
          <a:xfrm>
            <a:off x="7308720" y="3213000"/>
            <a:ext cx="1008360" cy="115272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288000 h 1152720"/>
              <a:gd name="textAreaBottom" fmla="*/ 8647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ТИ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Повторим изученно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вари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л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ктивный п…ртрет, кла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я р…бота,  т…нистая а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л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я,  по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ржка с…стры, уд…вительная ко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л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к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вари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е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й фу…бол, пра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д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чный обе(д,т), опа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й вра(г,к), преле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т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й голу(п,б)ь, че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т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й дру(к,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вари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л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ктивный пОртрет, кла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я рАбота,  тенистая а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л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я,  по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ржка сЕстры, удИвительная ко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л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к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вари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е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й фуТбол, пра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д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чный обеД, опа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й враГ, преле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т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й голуБь, че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т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й дру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Этимологическая странич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285840"/>
            <a:ext cx="4040280" cy="26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РЕЗА (общеслав.  бер – “светлый, ясный, белый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4720" y="1356840"/>
            <a:ext cx="404172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ЛИНА (общеслав.   мал, малый -“состоящая из малых частей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Содержимое 6" descr=""/>
          <p:cNvPicPr/>
          <p:nvPr/>
        </p:nvPicPr>
        <p:blipFill>
          <a:blip r:embed="rId1"/>
          <a:stretch/>
        </p:blipFill>
        <p:spPr>
          <a:xfrm>
            <a:off x="714240" y="2286000"/>
            <a:ext cx="3214800" cy="3786120"/>
          </a:xfrm>
          <a:prstGeom prst="rect">
            <a:avLst/>
          </a:prstGeom>
          <a:ln w="0">
            <a:noFill/>
          </a:ln>
        </p:spPr>
      </p:pic>
      <p:pic>
        <p:nvPicPr>
          <p:cNvPr id="198" name="Содержимое 7" descr=""/>
          <p:cNvPicPr/>
          <p:nvPr/>
        </p:nvPicPr>
        <p:blipFill>
          <a:blip r:embed="rId2"/>
          <a:stretch/>
        </p:blipFill>
        <p:spPr>
          <a:xfrm>
            <a:off x="4857840" y="2357280"/>
            <a:ext cx="3357360" cy="364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12:29:26Z</dcterms:created>
  <dc:creator>Ольга</dc:creator>
  <dc:description/>
  <dc:language>en-US</dc:language>
  <cp:lastModifiedBy>Marina</cp:lastModifiedBy>
  <dcterms:modified xsi:type="dcterms:W3CDTF">2012-11-27T19:27:07Z</dcterms:modified>
  <cp:revision>90</cp:revision>
  <dc:subject/>
  <dc:title>Приложение к элективным курсам  Тема: «Мир детства»    о  </dc:title>
</cp:coreProperties>
</file>