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BC1F-DD68-41C6-8D35-1EAD94679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7EE-5B22-4ACE-ACBD-840DCD355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3E2-718B-4983-8EA7-E185092E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D72-6768-460C-A4BD-CC8ADC5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B8A-01AE-43AE-A89A-DE17B7B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02E-6908-4AF4-A6FE-08D1A60D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05D-FDB2-4440-ABC6-72D3D0D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5A0-41F6-4CD9-A738-1518E390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7FC-F676-4BBF-900C-91F0D2E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613-B630-4A72-99F7-69ADF08F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9D4-D454-4C2C-AEE9-31FF7C0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B18-5749-4243-A80D-1C24648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C3B-6A7A-4EB0-A864-A120478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ADE-DFBD-4C2B-B012-F5CD7C35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7A5F-793D-4777-9D37-04C3246A9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s40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16000" y="1988640"/>
            <a:ext cx="6120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os40080"/>
          <p:cNvPicPr/>
          <p:nvPr/>
        </p:nvPicPr>
        <p:blipFill>
          <a:blip r:embed="rId2"/>
          <a:stretch/>
        </p:blipFill>
        <p:spPr>
          <a:xfrm rot="8012400">
            <a:off x="4067640" y="3223080"/>
            <a:ext cx="5185080" cy="378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290680" y="2697120"/>
            <a:ext cx="45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нездил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1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Ко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мазч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2050920" y="1557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2627280" y="1557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183528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 flipH="1">
            <a:off x="1835280" y="249228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12400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1835280" y="249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ик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- щи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чик,                    экскаваторщ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писчик,                   расфасовщ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чик,                   стекольщ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чик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39640" y="3789360"/>
            <a:ext cx="514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И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 7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-  6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 5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1042920" y="259920"/>
            <a:ext cx="792000" cy="143280"/>
            <a:chOff x="1042920" y="259920"/>
            <a:chExt cx="792000" cy="143280"/>
          </a:xfrm>
        </p:grpSpPr>
        <p:sp>
          <p:nvSpPr>
            <p:cNvPr id="207" name="Line 6"/>
            <p:cNvSpPr/>
            <p:nvPr/>
          </p:nvSpPr>
          <p:spPr>
            <a:xfrm flipV="1">
              <a:off x="1042920" y="259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>
              <a:off x="1474560" y="260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8"/>
          <p:cNvGrpSpPr/>
          <p:nvPr/>
        </p:nvGrpSpPr>
        <p:grpSpPr>
          <a:xfrm>
            <a:off x="5651640" y="259920"/>
            <a:ext cx="792000" cy="143280"/>
            <a:chOff x="5651640" y="259920"/>
            <a:chExt cx="792000" cy="143280"/>
          </a:xfrm>
        </p:grpSpPr>
        <p:sp>
          <p:nvSpPr>
            <p:cNvPr id="210" name="Line 9"/>
            <p:cNvSpPr/>
            <p:nvPr/>
          </p:nvSpPr>
          <p:spPr>
            <a:xfrm flipV="1">
              <a:off x="5651640" y="259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6083280" y="260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1979640" y="1412640"/>
            <a:ext cx="792000" cy="143280"/>
            <a:chOff x="1979640" y="1412640"/>
            <a:chExt cx="792000" cy="143280"/>
          </a:xfrm>
        </p:grpSpPr>
        <p:sp>
          <p:nvSpPr>
            <p:cNvPr id="213" name="Line 12"/>
            <p:cNvSpPr/>
            <p:nvPr/>
          </p:nvSpPr>
          <p:spPr>
            <a:xfrm flipV="1">
              <a:off x="1979640" y="14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2411280" y="14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2124000" y="1988640"/>
            <a:ext cx="792000" cy="143280"/>
            <a:chOff x="2124000" y="1988640"/>
            <a:chExt cx="792000" cy="143280"/>
          </a:xfrm>
        </p:grpSpPr>
        <p:sp>
          <p:nvSpPr>
            <p:cNvPr id="216" name="Line 15"/>
            <p:cNvSpPr/>
            <p:nvPr/>
          </p:nvSpPr>
          <p:spPr>
            <a:xfrm flipV="1">
              <a:off x="2124000" y="1988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2555640" y="1989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1187280" y="2637000"/>
            <a:ext cx="792000" cy="142560"/>
            <a:chOff x="1187280" y="2637000"/>
            <a:chExt cx="792000" cy="142560"/>
          </a:xfrm>
        </p:grpSpPr>
        <p:sp>
          <p:nvSpPr>
            <p:cNvPr id="219" name="Line 18"/>
            <p:cNvSpPr/>
            <p:nvPr/>
          </p:nvSpPr>
          <p:spPr>
            <a:xfrm flipV="1">
              <a:off x="1187280" y="2637000"/>
              <a:ext cx="4316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9"/>
            <p:cNvSpPr/>
            <p:nvPr/>
          </p:nvSpPr>
          <p:spPr>
            <a:xfrm>
              <a:off x="1618920" y="2637000"/>
              <a:ext cx="3603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3"/>
          <p:cNvGrpSpPr/>
          <p:nvPr/>
        </p:nvGrpSpPr>
        <p:grpSpPr>
          <a:xfrm>
            <a:off x="6948360" y="836280"/>
            <a:ext cx="792000" cy="143280"/>
            <a:chOff x="6948360" y="836280"/>
            <a:chExt cx="792000" cy="143280"/>
          </a:xfrm>
        </p:grpSpPr>
        <p:sp>
          <p:nvSpPr>
            <p:cNvPr id="222" name="Line 24"/>
            <p:cNvSpPr/>
            <p:nvPr/>
          </p:nvSpPr>
          <p:spPr>
            <a:xfrm flipV="1">
              <a:off x="6948360" y="836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5"/>
            <p:cNvSpPr/>
            <p:nvPr/>
          </p:nvSpPr>
          <p:spPr>
            <a:xfrm>
              <a:off x="7380000" y="836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6"/>
          <p:cNvGrpSpPr/>
          <p:nvPr/>
        </p:nvGrpSpPr>
        <p:grpSpPr>
          <a:xfrm>
            <a:off x="6516720" y="1988640"/>
            <a:ext cx="792000" cy="143280"/>
            <a:chOff x="6516720" y="1988640"/>
            <a:chExt cx="792000" cy="143280"/>
          </a:xfrm>
        </p:grpSpPr>
        <p:sp>
          <p:nvSpPr>
            <p:cNvPr id="225" name="Line 27"/>
            <p:cNvSpPr/>
            <p:nvPr/>
          </p:nvSpPr>
          <p:spPr>
            <a:xfrm flipV="1">
              <a:off x="6516720" y="1988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6948360" y="1989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9"/>
          <p:cNvGrpSpPr/>
          <p:nvPr/>
        </p:nvGrpSpPr>
        <p:grpSpPr>
          <a:xfrm>
            <a:off x="6659640" y="1412640"/>
            <a:ext cx="792000" cy="143280"/>
            <a:chOff x="6659640" y="1412640"/>
            <a:chExt cx="792000" cy="143280"/>
          </a:xfrm>
        </p:grpSpPr>
        <p:sp>
          <p:nvSpPr>
            <p:cNvPr id="228" name="Line 30"/>
            <p:cNvSpPr/>
            <p:nvPr/>
          </p:nvSpPr>
          <p:spPr>
            <a:xfrm flipV="1">
              <a:off x="6659640" y="14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1"/>
            <p:cNvSpPr/>
            <p:nvPr/>
          </p:nvSpPr>
          <p:spPr>
            <a:xfrm>
              <a:off x="7091280" y="14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2"/>
          <p:cNvGrpSpPr/>
          <p:nvPr/>
        </p:nvGrpSpPr>
        <p:grpSpPr>
          <a:xfrm>
            <a:off x="1835280" y="1341360"/>
            <a:ext cx="339480" cy="73080"/>
            <a:chOff x="1835280" y="1341360"/>
            <a:chExt cx="339480" cy="73080"/>
          </a:xfrm>
        </p:grpSpPr>
        <p:sp>
          <p:nvSpPr>
            <p:cNvPr id="231" name="Line 43"/>
            <p:cNvSpPr/>
            <p:nvPr/>
          </p:nvSpPr>
          <p:spPr>
            <a:xfrm>
              <a:off x="1835280" y="1341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 flipV="1">
              <a:off x="1835280" y="141300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2050920" y="134136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8"/>
          <p:cNvGrpSpPr/>
          <p:nvPr/>
        </p:nvGrpSpPr>
        <p:grpSpPr>
          <a:xfrm>
            <a:off x="1763640" y="836280"/>
            <a:ext cx="792000" cy="143280"/>
            <a:chOff x="1763640" y="836280"/>
            <a:chExt cx="792000" cy="143280"/>
          </a:xfrm>
        </p:grpSpPr>
        <p:sp>
          <p:nvSpPr>
            <p:cNvPr id="235" name="Line 79"/>
            <p:cNvSpPr/>
            <p:nvPr/>
          </p:nvSpPr>
          <p:spPr>
            <a:xfrm flipV="1">
              <a:off x="1763640" y="836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0"/>
            <p:cNvSpPr/>
            <p:nvPr/>
          </p:nvSpPr>
          <p:spPr>
            <a:xfrm>
              <a:off x="2195280" y="836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83"/>
          <p:cNvGrpSpPr/>
          <p:nvPr/>
        </p:nvGrpSpPr>
        <p:grpSpPr>
          <a:xfrm>
            <a:off x="1979640" y="1916280"/>
            <a:ext cx="339480" cy="72000"/>
            <a:chOff x="1979640" y="1916280"/>
            <a:chExt cx="339480" cy="72000"/>
          </a:xfrm>
        </p:grpSpPr>
        <p:sp>
          <p:nvSpPr>
            <p:cNvPr id="238" name="Line 84"/>
            <p:cNvSpPr/>
            <p:nvPr/>
          </p:nvSpPr>
          <p:spPr>
            <a:xfrm>
              <a:off x="197964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5"/>
            <p:cNvSpPr/>
            <p:nvPr/>
          </p:nvSpPr>
          <p:spPr>
            <a:xfrm flipV="1">
              <a:off x="1979640" y="1987200"/>
              <a:ext cx="14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2195280" y="19162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91"/>
          <p:cNvGrpSpPr/>
          <p:nvPr/>
        </p:nvGrpSpPr>
        <p:grpSpPr>
          <a:xfrm>
            <a:off x="1979640" y="2492280"/>
            <a:ext cx="339480" cy="73080"/>
            <a:chOff x="1979640" y="2492280"/>
            <a:chExt cx="339480" cy="73080"/>
          </a:xfrm>
        </p:grpSpPr>
        <p:sp>
          <p:nvSpPr>
            <p:cNvPr id="242" name="Line 92"/>
            <p:cNvSpPr/>
            <p:nvPr/>
          </p:nvSpPr>
          <p:spPr>
            <a:xfrm>
              <a:off x="1979640" y="249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93"/>
            <p:cNvSpPr/>
            <p:nvPr/>
          </p:nvSpPr>
          <p:spPr>
            <a:xfrm flipV="1">
              <a:off x="1979640" y="256392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4"/>
            <p:cNvSpPr/>
            <p:nvPr/>
          </p:nvSpPr>
          <p:spPr>
            <a:xfrm>
              <a:off x="2195280" y="24922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95"/>
          <p:cNvGrpSpPr/>
          <p:nvPr/>
        </p:nvGrpSpPr>
        <p:grpSpPr>
          <a:xfrm>
            <a:off x="1042920" y="3068640"/>
            <a:ext cx="339480" cy="73080"/>
            <a:chOff x="1042920" y="3068640"/>
            <a:chExt cx="339480" cy="73080"/>
          </a:xfrm>
        </p:grpSpPr>
        <p:sp>
          <p:nvSpPr>
            <p:cNvPr id="246" name="Line 96"/>
            <p:cNvSpPr/>
            <p:nvPr/>
          </p:nvSpPr>
          <p:spPr>
            <a:xfrm>
              <a:off x="1042920" y="3068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7"/>
            <p:cNvSpPr/>
            <p:nvPr/>
          </p:nvSpPr>
          <p:spPr>
            <a:xfrm flipV="1">
              <a:off x="1042920" y="314028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8"/>
            <p:cNvSpPr/>
            <p:nvPr/>
          </p:nvSpPr>
          <p:spPr>
            <a:xfrm>
              <a:off x="1258560" y="306864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9"/>
          <p:cNvGrpSpPr/>
          <p:nvPr/>
        </p:nvGrpSpPr>
        <p:grpSpPr>
          <a:xfrm>
            <a:off x="6877080" y="1341360"/>
            <a:ext cx="339480" cy="73080"/>
            <a:chOff x="6877080" y="1341360"/>
            <a:chExt cx="339480" cy="73080"/>
          </a:xfrm>
        </p:grpSpPr>
        <p:sp>
          <p:nvSpPr>
            <p:cNvPr id="250" name="Line 100"/>
            <p:cNvSpPr/>
            <p:nvPr/>
          </p:nvSpPr>
          <p:spPr>
            <a:xfrm>
              <a:off x="6877080" y="1341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01"/>
            <p:cNvSpPr/>
            <p:nvPr/>
          </p:nvSpPr>
          <p:spPr>
            <a:xfrm flipV="1">
              <a:off x="6877080" y="141300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02"/>
            <p:cNvSpPr/>
            <p:nvPr/>
          </p:nvSpPr>
          <p:spPr>
            <a:xfrm>
              <a:off x="7092720" y="134136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03"/>
          <p:cNvGrpSpPr/>
          <p:nvPr/>
        </p:nvGrpSpPr>
        <p:grpSpPr>
          <a:xfrm>
            <a:off x="6659640" y="1916280"/>
            <a:ext cx="339480" cy="72000"/>
            <a:chOff x="6659640" y="1916280"/>
            <a:chExt cx="339480" cy="72000"/>
          </a:xfrm>
        </p:grpSpPr>
        <p:sp>
          <p:nvSpPr>
            <p:cNvPr id="254" name="Line 104"/>
            <p:cNvSpPr/>
            <p:nvPr/>
          </p:nvSpPr>
          <p:spPr>
            <a:xfrm>
              <a:off x="665964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05"/>
            <p:cNvSpPr/>
            <p:nvPr/>
          </p:nvSpPr>
          <p:spPr>
            <a:xfrm flipV="1">
              <a:off x="6659640" y="1987200"/>
              <a:ext cx="14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6"/>
            <p:cNvSpPr/>
            <p:nvPr/>
          </p:nvSpPr>
          <p:spPr>
            <a:xfrm>
              <a:off x="6875280" y="19162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11"/>
          <p:cNvGrpSpPr/>
          <p:nvPr/>
        </p:nvGrpSpPr>
        <p:grpSpPr>
          <a:xfrm>
            <a:off x="6012000" y="2492280"/>
            <a:ext cx="720720" cy="73080"/>
            <a:chOff x="6012000" y="2492280"/>
            <a:chExt cx="720720" cy="73080"/>
          </a:xfrm>
        </p:grpSpPr>
        <p:sp>
          <p:nvSpPr>
            <p:cNvPr id="258" name="Line 108"/>
            <p:cNvSpPr/>
            <p:nvPr/>
          </p:nvSpPr>
          <p:spPr>
            <a:xfrm>
              <a:off x="6012000" y="2492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09"/>
            <p:cNvSpPr/>
            <p:nvPr/>
          </p:nvSpPr>
          <p:spPr>
            <a:xfrm>
              <a:off x="6012000" y="256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0"/>
            <p:cNvSpPr/>
            <p:nvPr/>
          </p:nvSpPr>
          <p:spPr>
            <a:xfrm>
              <a:off x="6516720" y="2492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де только не строят в нашей стране! Строитель – очень почётная профе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я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бственно, это не одна, а много разных  профе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тобы построить большой дом, укладывают немало камня или  кирпича. Это  делают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аменщик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Нужно установить арм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уру. Эту работу выполняют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арматурщик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 Надо сварит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еталлические части. Этим занимаются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варщик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 Долго пришлось бы перечислять всех, кто возводит прекрасные  современные до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932360" y="2997360"/>
            <a:ext cx="18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</a:rPr>
              <a:t>каменщи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516720" y="3357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</a:rPr>
              <a:t>арм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500" spc="-1" strike="noStrike">
                <a:solidFill>
                  <a:srgbClr val="0000ff"/>
                </a:solidFill>
                <a:latin typeface="Times New Roman"/>
              </a:rPr>
              <a:t>турщи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50920" y="4076640"/>
            <a:ext cx="18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</a:rPr>
              <a:t>сварщи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556000" y="1916280"/>
            <a:ext cx="57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411280" y="2276640"/>
            <a:ext cx="50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2411280" y="335772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7093080" y="3357720"/>
            <a:ext cx="57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302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2916360" y="2060640"/>
            <a:ext cx="60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род занятий,         труд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08000" y="350028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м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2916360" y="3500280"/>
            <a:ext cx="60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устройств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али, необходимые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я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руд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unga"/>
              </a:rPr>
              <a:t>§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ung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unga"/>
              </a:rPr>
              <a:t>Кто выполнил самостоятельную работу без ошибок и получил «5», выполняет упражнение </a:t>
            </a:r>
            <a:r>
              <a:rPr b="1" lang="ru-RU" sz="2400" spc="-1" strike="noStrike">
                <a:solidFill>
                  <a:srgbClr val="000000"/>
                </a:solidFill>
                <a:latin typeface="Tunga"/>
              </a:rPr>
              <a:t>2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ung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unga"/>
              </a:rPr>
              <a:t>Кто в самостоятельной работе допустил 1 – 2 ошибки, выполняет упражнение</a:t>
            </a:r>
            <a:r>
              <a:rPr b="0" lang="ru-RU" sz="2800" spc="-1" strike="noStrike">
                <a:solidFill>
                  <a:srgbClr val="000000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unga"/>
              </a:rPr>
              <a:t>2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знаю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мею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пока трудн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1835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мотрите на рису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58920" y="4044960"/>
            <a:ext cx="66261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3357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ака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ка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оаппара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тепьяно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деец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га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8"/>
          <p:cNvGrpSpPr/>
          <p:nvPr/>
        </p:nvGrpSpPr>
        <p:grpSpPr>
          <a:xfrm>
            <a:off x="34920" y="1197000"/>
            <a:ext cx="8951760" cy="1968480"/>
            <a:chOff x="34920" y="1197000"/>
            <a:chExt cx="8951760" cy="1968480"/>
          </a:xfrm>
        </p:grpSpPr>
        <p:pic>
          <p:nvPicPr>
            <p:cNvPr id="57" name="Picture 21" descr=""/>
            <p:cNvPicPr/>
            <p:nvPr/>
          </p:nvPicPr>
          <p:blipFill>
            <a:blip r:embed="rId1"/>
            <a:stretch/>
          </p:blipFill>
          <p:spPr>
            <a:xfrm>
              <a:off x="34920" y="1341360"/>
              <a:ext cx="120492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2" descr=""/>
            <p:cNvPicPr/>
            <p:nvPr/>
          </p:nvPicPr>
          <p:blipFill>
            <a:blip r:embed="rId2"/>
            <a:stretch/>
          </p:blipFill>
          <p:spPr>
            <a:xfrm>
              <a:off x="1332000" y="1557360"/>
              <a:ext cx="1376280" cy="14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3" descr=""/>
            <p:cNvPicPr/>
            <p:nvPr/>
          </p:nvPicPr>
          <p:blipFill>
            <a:blip r:embed="rId3"/>
            <a:stretch/>
          </p:blipFill>
          <p:spPr>
            <a:xfrm>
              <a:off x="2700360" y="1413000"/>
              <a:ext cx="1719360" cy="17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4" descr=""/>
            <p:cNvPicPr/>
            <p:nvPr/>
          </p:nvPicPr>
          <p:blipFill>
            <a:blip r:embed="rId4"/>
            <a:stretch/>
          </p:blipFill>
          <p:spPr>
            <a:xfrm>
              <a:off x="4427640" y="1341360"/>
              <a:ext cx="1552320" cy="16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5" descr=""/>
            <p:cNvPicPr/>
            <p:nvPr/>
          </p:nvPicPr>
          <p:blipFill>
            <a:blip r:embed="rId5"/>
            <a:stretch/>
          </p:blipFill>
          <p:spPr>
            <a:xfrm>
              <a:off x="6012000" y="1197000"/>
              <a:ext cx="124776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6" descr=""/>
            <p:cNvPicPr/>
            <p:nvPr/>
          </p:nvPicPr>
          <p:blipFill>
            <a:blip r:embed="rId6"/>
            <a:stretch/>
          </p:blipFill>
          <p:spPr>
            <a:xfrm>
              <a:off x="7308720" y="1413000"/>
              <a:ext cx="8622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7" descr=""/>
            <p:cNvPicPr/>
            <p:nvPr/>
          </p:nvPicPr>
          <p:blipFill>
            <a:blip r:embed="rId7"/>
            <a:stretch/>
          </p:blipFill>
          <p:spPr>
            <a:xfrm>
              <a:off x="8244000" y="1268280"/>
              <a:ext cx="74268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ереводчик, обойщик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рокатчик, фонарщик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арайчик, грузчик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разносчик, прицепщик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еребежчик, съёмщик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тульчик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Д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ОБОЙ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Т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ФОНАР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З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ПРИЦЕПЩИК РАЗНОС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ЪЁМ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БЕЖ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Й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556000" y="1557000"/>
            <a:ext cx="792000" cy="143280"/>
            <a:chOff x="2556000" y="1557000"/>
            <a:chExt cx="792000" cy="143280"/>
          </a:xfrm>
        </p:grpSpPr>
        <p:sp>
          <p:nvSpPr>
            <p:cNvPr id="69" name="Line 5"/>
            <p:cNvSpPr/>
            <p:nvPr/>
          </p:nvSpPr>
          <p:spPr>
            <a:xfrm flipV="1">
              <a:off x="255600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298764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2195640" y="2133360"/>
            <a:ext cx="792000" cy="143280"/>
            <a:chOff x="2195640" y="2133360"/>
            <a:chExt cx="792000" cy="143280"/>
          </a:xfrm>
        </p:grpSpPr>
        <p:sp>
          <p:nvSpPr>
            <p:cNvPr id="72" name="Line 8"/>
            <p:cNvSpPr/>
            <p:nvPr/>
          </p:nvSpPr>
          <p:spPr>
            <a:xfrm flipV="1">
              <a:off x="219564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>
              <a:off x="262728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1547640" y="2707920"/>
            <a:ext cx="792000" cy="143280"/>
            <a:chOff x="1547640" y="2707920"/>
            <a:chExt cx="792000" cy="143280"/>
          </a:xfrm>
        </p:grpSpPr>
        <p:sp>
          <p:nvSpPr>
            <p:cNvPr id="75" name="Line 11"/>
            <p:cNvSpPr/>
            <p:nvPr/>
          </p:nvSpPr>
          <p:spPr>
            <a:xfrm flipV="1">
              <a:off x="154764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197928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3"/>
          <p:cNvGrpSpPr/>
          <p:nvPr/>
        </p:nvGrpSpPr>
        <p:grpSpPr>
          <a:xfrm>
            <a:off x="2268360" y="3212640"/>
            <a:ext cx="792000" cy="144720"/>
            <a:chOff x="2268360" y="3212640"/>
            <a:chExt cx="792000" cy="144720"/>
          </a:xfrm>
        </p:grpSpPr>
        <p:sp>
          <p:nvSpPr>
            <p:cNvPr id="78" name="Line 14"/>
            <p:cNvSpPr/>
            <p:nvPr/>
          </p:nvSpPr>
          <p:spPr>
            <a:xfrm flipV="1">
              <a:off x="2268360" y="3212640"/>
              <a:ext cx="43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2700000" y="3213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2556000" y="3789000"/>
            <a:ext cx="792000" cy="143280"/>
            <a:chOff x="2556000" y="3789000"/>
            <a:chExt cx="792000" cy="143280"/>
          </a:xfrm>
        </p:grpSpPr>
        <p:sp>
          <p:nvSpPr>
            <p:cNvPr id="81" name="Line 17"/>
            <p:cNvSpPr/>
            <p:nvPr/>
          </p:nvSpPr>
          <p:spPr>
            <a:xfrm flipV="1">
              <a:off x="2556000" y="3789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2987640" y="3789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6948360" y="1557000"/>
            <a:ext cx="792000" cy="143280"/>
            <a:chOff x="6948360" y="1557000"/>
            <a:chExt cx="792000" cy="143280"/>
          </a:xfrm>
        </p:grpSpPr>
        <p:sp>
          <p:nvSpPr>
            <p:cNvPr id="84" name="Line 20"/>
            <p:cNvSpPr/>
            <p:nvPr/>
          </p:nvSpPr>
          <p:spPr>
            <a:xfrm flipV="1">
              <a:off x="6948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7380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2"/>
          <p:cNvGrpSpPr/>
          <p:nvPr/>
        </p:nvGrpSpPr>
        <p:grpSpPr>
          <a:xfrm>
            <a:off x="7164360" y="2133360"/>
            <a:ext cx="792000" cy="143280"/>
            <a:chOff x="7164360" y="2133360"/>
            <a:chExt cx="792000" cy="143280"/>
          </a:xfrm>
        </p:grpSpPr>
        <p:sp>
          <p:nvSpPr>
            <p:cNvPr id="87" name="Line 23"/>
            <p:cNvSpPr/>
            <p:nvPr/>
          </p:nvSpPr>
          <p:spPr>
            <a:xfrm flipV="1">
              <a:off x="716436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759600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7524720" y="2707920"/>
            <a:ext cx="792000" cy="143280"/>
            <a:chOff x="7524720" y="2707920"/>
            <a:chExt cx="792000" cy="143280"/>
          </a:xfrm>
        </p:grpSpPr>
        <p:sp>
          <p:nvSpPr>
            <p:cNvPr id="90" name="Line 26"/>
            <p:cNvSpPr/>
            <p:nvPr/>
          </p:nvSpPr>
          <p:spPr>
            <a:xfrm flipV="1">
              <a:off x="752472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7"/>
            <p:cNvSpPr/>
            <p:nvPr/>
          </p:nvSpPr>
          <p:spPr>
            <a:xfrm>
              <a:off x="795636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8"/>
          <p:cNvGrpSpPr/>
          <p:nvPr/>
        </p:nvGrpSpPr>
        <p:grpSpPr>
          <a:xfrm>
            <a:off x="6948360" y="3212640"/>
            <a:ext cx="792000" cy="143280"/>
            <a:chOff x="6948360" y="3212640"/>
            <a:chExt cx="792000" cy="143280"/>
          </a:xfrm>
        </p:grpSpPr>
        <p:sp>
          <p:nvSpPr>
            <p:cNvPr id="93" name="Line 29"/>
            <p:cNvSpPr/>
            <p:nvPr/>
          </p:nvSpPr>
          <p:spPr>
            <a:xfrm flipV="1">
              <a:off x="6948360" y="32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0"/>
            <p:cNvSpPr/>
            <p:nvPr/>
          </p:nvSpPr>
          <p:spPr>
            <a:xfrm>
              <a:off x="7380000" y="32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31"/>
          <p:cNvSpPr/>
          <p:nvPr/>
        </p:nvSpPr>
        <p:spPr>
          <a:xfrm flipV="1">
            <a:off x="1979640" y="436536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2411280" y="4365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3"/>
          <p:cNvSpPr/>
          <p:nvPr/>
        </p:nvSpPr>
        <p:spPr>
          <a:xfrm flipV="1">
            <a:off x="1908000" y="494136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4"/>
          <p:cNvSpPr/>
          <p:nvPr/>
        </p:nvSpPr>
        <p:spPr>
          <a:xfrm>
            <a:off x="2340000" y="494172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ДЧИК      ОБОЙЩИК        САРАЙ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Т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ФОНАРЩИК      СТУ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ЗЧИК               ПРИЦЕПЩ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СЧ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ЁМЩ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БЕЖЧИК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2268360" y="1557000"/>
            <a:ext cx="792000" cy="143280"/>
            <a:chOff x="2268360" y="1557000"/>
            <a:chExt cx="792000" cy="143280"/>
          </a:xfrm>
        </p:grpSpPr>
        <p:sp>
          <p:nvSpPr>
            <p:cNvPr id="102" name="Line 7"/>
            <p:cNvSpPr/>
            <p:nvPr/>
          </p:nvSpPr>
          <p:spPr>
            <a:xfrm flipV="1">
              <a:off x="2268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2700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1258920" y="2707920"/>
            <a:ext cx="792000" cy="143280"/>
            <a:chOff x="1258920" y="2707920"/>
            <a:chExt cx="792000" cy="143280"/>
          </a:xfrm>
        </p:grpSpPr>
        <p:sp>
          <p:nvSpPr>
            <p:cNvPr id="105" name="Line 10"/>
            <p:cNvSpPr/>
            <p:nvPr/>
          </p:nvSpPr>
          <p:spPr>
            <a:xfrm flipV="1">
              <a:off x="125892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169056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1979640" y="3212640"/>
            <a:ext cx="792000" cy="143280"/>
            <a:chOff x="1979640" y="3212640"/>
            <a:chExt cx="792000" cy="143280"/>
          </a:xfrm>
        </p:grpSpPr>
        <p:sp>
          <p:nvSpPr>
            <p:cNvPr id="108" name="Line 13"/>
            <p:cNvSpPr/>
            <p:nvPr/>
          </p:nvSpPr>
          <p:spPr>
            <a:xfrm flipV="1">
              <a:off x="1979640" y="32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>
              <a:off x="2411280" y="32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2268360" y="3860280"/>
            <a:ext cx="792000" cy="143280"/>
            <a:chOff x="2268360" y="3860280"/>
            <a:chExt cx="792000" cy="143280"/>
          </a:xfrm>
        </p:grpSpPr>
        <p:sp>
          <p:nvSpPr>
            <p:cNvPr id="111" name="Line 16"/>
            <p:cNvSpPr/>
            <p:nvPr/>
          </p:nvSpPr>
          <p:spPr>
            <a:xfrm flipV="1">
              <a:off x="2268360" y="3860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2700000" y="3860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4932360" y="1557000"/>
            <a:ext cx="792000" cy="143280"/>
            <a:chOff x="4932360" y="1557000"/>
            <a:chExt cx="792000" cy="143280"/>
          </a:xfrm>
        </p:grpSpPr>
        <p:sp>
          <p:nvSpPr>
            <p:cNvPr id="114" name="Line 19"/>
            <p:cNvSpPr/>
            <p:nvPr/>
          </p:nvSpPr>
          <p:spPr>
            <a:xfrm flipV="1">
              <a:off x="4932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364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219640" y="2133360"/>
            <a:ext cx="792000" cy="143280"/>
            <a:chOff x="5219640" y="2133360"/>
            <a:chExt cx="792000" cy="143280"/>
          </a:xfrm>
        </p:grpSpPr>
        <p:sp>
          <p:nvSpPr>
            <p:cNvPr id="117" name="Line 22"/>
            <p:cNvSpPr/>
            <p:nvPr/>
          </p:nvSpPr>
          <p:spPr>
            <a:xfrm flipV="1">
              <a:off x="521964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65128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508720" y="2707920"/>
            <a:ext cx="792000" cy="143280"/>
            <a:chOff x="5508720" y="2707920"/>
            <a:chExt cx="792000" cy="143280"/>
          </a:xfrm>
        </p:grpSpPr>
        <p:sp>
          <p:nvSpPr>
            <p:cNvPr id="120" name="Line 25"/>
            <p:cNvSpPr/>
            <p:nvPr/>
          </p:nvSpPr>
          <p:spPr>
            <a:xfrm flipV="1">
              <a:off x="550872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6"/>
            <p:cNvSpPr/>
            <p:nvPr/>
          </p:nvSpPr>
          <p:spPr>
            <a:xfrm>
              <a:off x="594036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5003640" y="3284280"/>
            <a:ext cx="792000" cy="143280"/>
            <a:chOff x="5003640" y="3284280"/>
            <a:chExt cx="792000" cy="143280"/>
          </a:xfrm>
        </p:grpSpPr>
        <p:sp>
          <p:nvSpPr>
            <p:cNvPr id="123" name="Line 28"/>
            <p:cNvSpPr/>
            <p:nvPr/>
          </p:nvSpPr>
          <p:spPr>
            <a:xfrm flipV="1">
              <a:off x="5003640" y="3284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5435280" y="3284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8172360" y="2133360"/>
            <a:ext cx="792000" cy="143280"/>
            <a:chOff x="8172360" y="2133360"/>
            <a:chExt cx="792000" cy="143280"/>
          </a:xfrm>
        </p:grpSpPr>
        <p:sp>
          <p:nvSpPr>
            <p:cNvPr id="126" name="Line 31"/>
            <p:cNvSpPr/>
            <p:nvPr/>
          </p:nvSpPr>
          <p:spPr>
            <a:xfrm flipV="1">
              <a:off x="817236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860400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3"/>
          <p:cNvGrpSpPr/>
          <p:nvPr/>
        </p:nvGrpSpPr>
        <p:grpSpPr>
          <a:xfrm>
            <a:off x="8101080" y="1557000"/>
            <a:ext cx="792000" cy="143280"/>
            <a:chOff x="8101080" y="1557000"/>
            <a:chExt cx="792000" cy="143280"/>
          </a:xfrm>
        </p:grpSpPr>
        <p:sp>
          <p:nvSpPr>
            <p:cNvPr id="129" name="Line 34"/>
            <p:cNvSpPr/>
            <p:nvPr/>
          </p:nvSpPr>
          <p:spPr>
            <a:xfrm flipV="1">
              <a:off x="810108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5"/>
            <p:cNvSpPr/>
            <p:nvPr/>
          </p:nvSpPr>
          <p:spPr>
            <a:xfrm>
              <a:off x="853272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1908000" y="2133360"/>
            <a:ext cx="792000" cy="143280"/>
            <a:chOff x="1908000" y="2133360"/>
            <a:chExt cx="792000" cy="143280"/>
          </a:xfrm>
        </p:grpSpPr>
        <p:sp>
          <p:nvSpPr>
            <p:cNvPr id="132" name="Line 40"/>
            <p:cNvSpPr/>
            <p:nvPr/>
          </p:nvSpPr>
          <p:spPr>
            <a:xfrm flipV="1">
              <a:off x="190800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1"/>
            <p:cNvSpPr/>
            <p:nvPr/>
          </p:nvSpPr>
          <p:spPr>
            <a:xfrm>
              <a:off x="233964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ДЧИК      ОБОЙЩИК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Т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ФОНАРЩ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ЗЧИК               ПРИЦЕПЩ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СЧ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ЁМЩ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БЕЖЧИК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2268360" y="1557000"/>
            <a:ext cx="792000" cy="143280"/>
            <a:chOff x="2268360" y="1557000"/>
            <a:chExt cx="792000" cy="143280"/>
          </a:xfrm>
        </p:grpSpPr>
        <p:sp>
          <p:nvSpPr>
            <p:cNvPr id="137" name="Line 5"/>
            <p:cNvSpPr/>
            <p:nvPr/>
          </p:nvSpPr>
          <p:spPr>
            <a:xfrm flipV="1">
              <a:off x="2268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2700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7"/>
          <p:cNvGrpSpPr/>
          <p:nvPr/>
        </p:nvGrpSpPr>
        <p:grpSpPr>
          <a:xfrm>
            <a:off x="1258920" y="2707920"/>
            <a:ext cx="792000" cy="143280"/>
            <a:chOff x="1258920" y="2707920"/>
            <a:chExt cx="792000" cy="143280"/>
          </a:xfrm>
        </p:grpSpPr>
        <p:sp>
          <p:nvSpPr>
            <p:cNvPr id="140" name="Line 8"/>
            <p:cNvSpPr/>
            <p:nvPr/>
          </p:nvSpPr>
          <p:spPr>
            <a:xfrm flipV="1">
              <a:off x="125892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69056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1979640" y="3212640"/>
            <a:ext cx="792000" cy="143280"/>
            <a:chOff x="1979640" y="3212640"/>
            <a:chExt cx="792000" cy="143280"/>
          </a:xfrm>
        </p:grpSpPr>
        <p:sp>
          <p:nvSpPr>
            <p:cNvPr id="143" name="Line 11"/>
            <p:cNvSpPr/>
            <p:nvPr/>
          </p:nvSpPr>
          <p:spPr>
            <a:xfrm flipV="1">
              <a:off x="1979640" y="32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2411280" y="32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2268360" y="3860280"/>
            <a:ext cx="792000" cy="143280"/>
            <a:chOff x="2268360" y="3860280"/>
            <a:chExt cx="792000" cy="143280"/>
          </a:xfrm>
        </p:grpSpPr>
        <p:sp>
          <p:nvSpPr>
            <p:cNvPr id="146" name="Line 14"/>
            <p:cNvSpPr/>
            <p:nvPr/>
          </p:nvSpPr>
          <p:spPr>
            <a:xfrm flipV="1">
              <a:off x="2268360" y="3860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2700000" y="3860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4932360" y="1557000"/>
            <a:ext cx="792000" cy="143280"/>
            <a:chOff x="4932360" y="1557000"/>
            <a:chExt cx="792000" cy="143280"/>
          </a:xfrm>
        </p:grpSpPr>
        <p:sp>
          <p:nvSpPr>
            <p:cNvPr id="149" name="Line 17"/>
            <p:cNvSpPr/>
            <p:nvPr/>
          </p:nvSpPr>
          <p:spPr>
            <a:xfrm flipV="1">
              <a:off x="4932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5364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9"/>
          <p:cNvGrpSpPr/>
          <p:nvPr/>
        </p:nvGrpSpPr>
        <p:grpSpPr>
          <a:xfrm>
            <a:off x="5219640" y="2060280"/>
            <a:ext cx="792000" cy="143280"/>
            <a:chOff x="5219640" y="2060280"/>
            <a:chExt cx="792000" cy="143280"/>
          </a:xfrm>
        </p:grpSpPr>
        <p:sp>
          <p:nvSpPr>
            <p:cNvPr id="152" name="Line 20"/>
            <p:cNvSpPr/>
            <p:nvPr/>
          </p:nvSpPr>
          <p:spPr>
            <a:xfrm flipV="1">
              <a:off x="5219640" y="2060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5651280" y="2060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2"/>
          <p:cNvGrpSpPr/>
          <p:nvPr/>
        </p:nvGrpSpPr>
        <p:grpSpPr>
          <a:xfrm>
            <a:off x="5508720" y="2637000"/>
            <a:ext cx="792000" cy="142560"/>
            <a:chOff x="5508720" y="2637000"/>
            <a:chExt cx="792000" cy="142560"/>
          </a:xfrm>
        </p:grpSpPr>
        <p:sp>
          <p:nvSpPr>
            <p:cNvPr id="155" name="Line 23"/>
            <p:cNvSpPr/>
            <p:nvPr/>
          </p:nvSpPr>
          <p:spPr>
            <a:xfrm flipV="1">
              <a:off x="5508720" y="2637000"/>
              <a:ext cx="4316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5940360" y="2637000"/>
              <a:ext cx="3603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5"/>
          <p:cNvGrpSpPr/>
          <p:nvPr/>
        </p:nvGrpSpPr>
        <p:grpSpPr>
          <a:xfrm>
            <a:off x="5003640" y="3212640"/>
            <a:ext cx="792000" cy="143280"/>
            <a:chOff x="5003640" y="3212640"/>
            <a:chExt cx="792000" cy="143280"/>
          </a:xfrm>
        </p:grpSpPr>
        <p:sp>
          <p:nvSpPr>
            <p:cNvPr id="158" name="Line 26"/>
            <p:cNvSpPr/>
            <p:nvPr/>
          </p:nvSpPr>
          <p:spPr>
            <a:xfrm flipV="1">
              <a:off x="5003640" y="32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5435280" y="32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1835280" y="2060280"/>
            <a:ext cx="792000" cy="143280"/>
            <a:chOff x="1835280" y="2060280"/>
            <a:chExt cx="792000" cy="143280"/>
          </a:xfrm>
        </p:grpSpPr>
        <p:sp>
          <p:nvSpPr>
            <p:cNvPr id="161" name="Line 35"/>
            <p:cNvSpPr/>
            <p:nvPr/>
          </p:nvSpPr>
          <p:spPr>
            <a:xfrm flipV="1">
              <a:off x="1835280" y="206028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6"/>
            <p:cNvSpPr/>
            <p:nvPr/>
          </p:nvSpPr>
          <p:spPr>
            <a:xfrm>
              <a:off x="2266920" y="206064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правило  написания суффиксов  - чик, - щ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 применять данное прав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щ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суффиксе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чик -(-щик)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ОБОЙ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ФОНАР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ПРИЦЕПЩИК РАЗН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ЪЁМ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Б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2556000" y="1557000"/>
            <a:ext cx="792000" cy="143280"/>
            <a:chOff x="2556000" y="1557000"/>
            <a:chExt cx="792000" cy="143280"/>
          </a:xfrm>
        </p:grpSpPr>
        <p:sp>
          <p:nvSpPr>
            <p:cNvPr id="170" name="Line 5"/>
            <p:cNvSpPr/>
            <p:nvPr/>
          </p:nvSpPr>
          <p:spPr>
            <a:xfrm flipV="1">
              <a:off x="255600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298764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7"/>
          <p:cNvGrpSpPr/>
          <p:nvPr/>
        </p:nvGrpSpPr>
        <p:grpSpPr>
          <a:xfrm>
            <a:off x="2195640" y="2133360"/>
            <a:ext cx="792000" cy="143280"/>
            <a:chOff x="2195640" y="2133360"/>
            <a:chExt cx="792000" cy="143280"/>
          </a:xfrm>
        </p:grpSpPr>
        <p:sp>
          <p:nvSpPr>
            <p:cNvPr id="173" name="Line 8"/>
            <p:cNvSpPr/>
            <p:nvPr/>
          </p:nvSpPr>
          <p:spPr>
            <a:xfrm flipV="1">
              <a:off x="219564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262728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0"/>
          <p:cNvGrpSpPr/>
          <p:nvPr/>
        </p:nvGrpSpPr>
        <p:grpSpPr>
          <a:xfrm>
            <a:off x="1547640" y="2707920"/>
            <a:ext cx="792000" cy="143280"/>
            <a:chOff x="1547640" y="2707920"/>
            <a:chExt cx="792000" cy="143280"/>
          </a:xfrm>
        </p:grpSpPr>
        <p:sp>
          <p:nvSpPr>
            <p:cNvPr id="176" name="Line 11"/>
            <p:cNvSpPr/>
            <p:nvPr/>
          </p:nvSpPr>
          <p:spPr>
            <a:xfrm flipV="1">
              <a:off x="154764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197928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2268360" y="3212640"/>
            <a:ext cx="792000" cy="144720"/>
            <a:chOff x="2268360" y="3212640"/>
            <a:chExt cx="792000" cy="144720"/>
          </a:xfrm>
        </p:grpSpPr>
        <p:sp>
          <p:nvSpPr>
            <p:cNvPr id="179" name="Line 14"/>
            <p:cNvSpPr/>
            <p:nvPr/>
          </p:nvSpPr>
          <p:spPr>
            <a:xfrm flipV="1">
              <a:off x="2268360" y="3212640"/>
              <a:ext cx="43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2700000" y="3213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"/>
          <p:cNvGrpSpPr/>
          <p:nvPr/>
        </p:nvGrpSpPr>
        <p:grpSpPr>
          <a:xfrm>
            <a:off x="2556000" y="3789000"/>
            <a:ext cx="792000" cy="143280"/>
            <a:chOff x="2556000" y="3789000"/>
            <a:chExt cx="792000" cy="143280"/>
          </a:xfrm>
        </p:grpSpPr>
        <p:sp>
          <p:nvSpPr>
            <p:cNvPr id="182" name="Line 17"/>
            <p:cNvSpPr/>
            <p:nvPr/>
          </p:nvSpPr>
          <p:spPr>
            <a:xfrm flipV="1">
              <a:off x="2556000" y="3789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2987640" y="3789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6948360" y="1557000"/>
            <a:ext cx="792000" cy="143280"/>
            <a:chOff x="6948360" y="1557000"/>
            <a:chExt cx="792000" cy="143280"/>
          </a:xfrm>
        </p:grpSpPr>
        <p:sp>
          <p:nvSpPr>
            <p:cNvPr id="185" name="Line 20"/>
            <p:cNvSpPr/>
            <p:nvPr/>
          </p:nvSpPr>
          <p:spPr>
            <a:xfrm flipV="1">
              <a:off x="6948360" y="155700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7380000" y="155736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7164360" y="2133360"/>
            <a:ext cx="792000" cy="143280"/>
            <a:chOff x="7164360" y="2133360"/>
            <a:chExt cx="792000" cy="143280"/>
          </a:xfrm>
        </p:grpSpPr>
        <p:sp>
          <p:nvSpPr>
            <p:cNvPr id="188" name="Line 23"/>
            <p:cNvSpPr/>
            <p:nvPr/>
          </p:nvSpPr>
          <p:spPr>
            <a:xfrm flipV="1">
              <a:off x="7164360" y="2133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4"/>
            <p:cNvSpPr/>
            <p:nvPr/>
          </p:nvSpPr>
          <p:spPr>
            <a:xfrm>
              <a:off x="7596000" y="213372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7524720" y="2707920"/>
            <a:ext cx="792000" cy="143280"/>
            <a:chOff x="7524720" y="2707920"/>
            <a:chExt cx="792000" cy="143280"/>
          </a:xfrm>
        </p:grpSpPr>
        <p:sp>
          <p:nvSpPr>
            <p:cNvPr id="191" name="Line 26"/>
            <p:cNvSpPr/>
            <p:nvPr/>
          </p:nvSpPr>
          <p:spPr>
            <a:xfrm flipV="1">
              <a:off x="7524720" y="270792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>
              <a:off x="7956360" y="270828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6948360" y="3212640"/>
            <a:ext cx="792000" cy="143280"/>
            <a:chOff x="6948360" y="3212640"/>
            <a:chExt cx="792000" cy="143280"/>
          </a:xfrm>
        </p:grpSpPr>
        <p:sp>
          <p:nvSpPr>
            <p:cNvPr id="194" name="Line 29"/>
            <p:cNvSpPr/>
            <p:nvPr/>
          </p:nvSpPr>
          <p:spPr>
            <a:xfrm flipV="1">
              <a:off x="6948360" y="32126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7380000" y="3213000"/>
              <a:ext cx="360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9:03:37Z</dcterms:created>
  <dc:creator>XTreme</dc:creator>
  <dc:description/>
  <dc:language>en-US</dc:language>
  <cp:lastModifiedBy>user</cp:lastModifiedBy>
  <dcterms:modified xsi:type="dcterms:W3CDTF">2010-01-18T09:49:35Z</dcterms:modified>
  <cp:revision>47</cp:revision>
  <dc:subject/>
  <dc:title>ПЕРЕВОДЧИК, ОБОЙЩИК, ПРОКАТЧИК, ФОНАРЩИК, ГРУЗЧИК,  РАЗНОСЧИК,  ПРИЦЕПЩИК,  ПЕРЕБЕЖЧИК,   СЪЁМЩИК .</dc:title>
</cp:coreProperties>
</file>