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9C8E-7B41-4307-AEC8-787209A924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6C65-C2E9-4B4A-AFF8-C1366FD1341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88E-573D-4A5F-A7BE-D945BC00E05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08C3-E100-4732-87C8-9AC4EDEDD05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52CE-5301-4D6A-AF4D-CD77AAD93AF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F74-0EC9-4533-9499-B942B493556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A8CD-A37B-48D9-B073-5475C2F901F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297-96E8-4D72-A30C-FF0921FF630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308F-B3F3-4601-9FD8-779649000C8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3B90-A65D-4F2A-8803-E97911C77C4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0EC9-93F1-4D00-9976-44CDC8981E2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AEC3-B1DD-4C40-92F6-C8F0E1C85E9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021A-A60E-4D1F-B786-8F40875084C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953-BAA4-43B2-ABC2-4EAB3000554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B30F-4B60-4E96-A1A5-EEDDDB10B74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825-63FB-49D8-BECB-A88B91D7834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7DB8-3878-432C-AA15-151F47B7CB4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7C3-B9D0-445E-81C3-1DF71C78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6B4-CB8F-4B66-8EC6-46919426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27546-6B47-4906-83DC-A2CC5113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401A-BACB-4CB2-BDBA-02A7928F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62876-B84A-4214-B184-9BC5A4D7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7F76-EABB-46A5-8BDF-945FEE6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40674-1998-42B7-BEAD-90A4655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0D3A6-FB8F-4300-BC29-EAC9A65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88E62-B642-4477-AB73-80C60312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33DDB-2FA1-4E92-9AC0-0C4C5C7E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86E06-63D9-4D15-BA4E-BF31E21D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FE587-15C2-4C4E-9D24-A7154CEE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11E-C723-4AC2-BB6F-4C8C0C98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2260A-2534-41F8-BF78-03B56DAA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7F0BD-7DC0-4F9B-B2ED-B89DB082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DCEC7-C3C2-4F98-9FE8-C7F066AD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D3A9A-E212-43E3-AC4E-568970D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3E478-A9DC-49D9-A3D3-6B870F9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E04B1-8E61-4B35-BCC9-9F60A25A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B742D-D32F-46B9-BB8F-1903141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703A7-9F0F-48D0-B52E-AD88B143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AFD4C-1E8E-4419-B0AD-D067366B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71A03-AD0B-4908-AD54-66BB0BDA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FBD-1BCC-4D88-84E3-67678DD5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27FA2-E218-4D64-8EC9-F276845B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19FC-94FD-43C3-9345-EAD0B1D1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93A-B1E1-49D3-85FD-0538B7B3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4DE2-F4CC-4584-BEC3-81B0A717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CEB0-85FA-43ED-B3C1-81638053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EF3C-828B-4EF2-B6A9-F7A7849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15F1-0D7E-4399-A21D-86B48822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185-9BE9-4AFF-A92C-8D8A76C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E11-31D0-41F8-8B0A-DA317B1A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0F3-D898-4897-8AAB-FF980F08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3A6A-255A-4B48-8BD5-276D5BD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678B-911D-4D73-BBAC-5AD81A55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4BC5-F6A0-4FA4-B5B4-47D75195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B398-8882-48F6-9202-8F0C946B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1600-9684-4804-ADBE-BD13F6DB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A6ED-FCF5-4EBD-A24A-4171D1E2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2985-FB53-4D74-8C29-9EBA14B9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900E-27E2-484F-A37E-1C34F71D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BD23-4C7A-4403-9EC0-7FAE10C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06D-7DF4-4DA5-8350-5EE26C5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8BE8-6E57-4D9E-B8C1-DD43BBF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A5F2-808F-4A4E-AA5C-9AEEBB1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7DA4-D0B2-47CA-BBD4-2E00CE9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BA16-2418-46E0-86A0-6724846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6AAA-B639-4577-8D4D-6929DF36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E77C-AC85-4B12-AFE1-52CFF302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476B-FA13-40B0-A139-11005B92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7408-6DCE-4C13-B7FF-EBD86B6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8BEE-2DE0-4A38-8698-DBEF311B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8711-3F3E-42E7-8F6E-E2FEF0A8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17F-31E7-4EB7-B05F-307C7F82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8157-8599-48C8-B332-5CB26FF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0405-02EF-4A11-B39D-BBB82AFE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E7A5E-1CD6-4FCA-9C7A-C3451ACC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3A3B-D9E5-4594-8EF1-3A403E6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9985-CEB0-4B50-9DD9-D7D392C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E900-CE06-4705-8F45-7287536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462E-67E9-4FEB-B026-82077B4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C398-2BA1-4971-84AF-32001C08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6C8B-51E2-4215-844F-927F9A48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982AD-ED31-455D-A217-9AC2384C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A5F-B95A-4D3D-AF99-937A007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0979E-0BFA-48FE-9D84-3DBBC8AD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74BB-D08B-492F-9F8E-1DFBA658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95E6-803A-4382-B4C9-4B0F6996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E5F18-D16A-488D-BCE2-D9B9959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6F72E-985C-4219-96AA-58700884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E4EFB-75C0-4A69-94E8-E4230F8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14A8-13D2-4D79-B4DD-37CC1E4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8A2A-B28B-4105-81BF-2322ADEC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B9E6-4A7F-440B-8D47-4856DF3C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890D-71F3-481C-AEB3-E988FD2B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D3D-4D7E-4F23-B962-9097A4B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7503-E13D-4DC2-B3F2-8353E13C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19EF-1753-4AA3-85CA-A28A7331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6818C-2C72-4C68-9693-8187FEEE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929EF-86C6-4366-AC26-71097A7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AD04-8295-483C-9B5C-C0E6C4D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3C8A-124C-4DD7-BF69-BCA39AC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F28A-E822-4529-BF3C-925D057E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512C-D822-486A-9CBB-4C93B409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51172-4ADF-488D-A902-173BD8C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28F95-0735-44C8-84EB-FA8A8690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557-F32B-4F9F-A384-D4E1E7B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F68D8-8F8A-47B6-98E7-2AEE2E6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8FD4-A478-4FE6-B9C2-1AAC2C03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2942F-88A3-4680-8BAF-044B7A1F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485DE-65C0-4AA9-B80D-4137BA04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6BBF-B429-4279-B8D6-29319046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ECD9-6AF3-4B6A-9869-8858ABE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EFB3F-9094-4F7F-8653-D44E2DF9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53E94-FA4B-4FA0-B3F6-EB5F4D9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9071B-7A18-4E1B-8269-9AC660E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8EA6-08CE-4B12-8ACC-E020417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18F-C8A1-4D2E-9EC2-40D13441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9FEE7-7364-49C0-B74D-AB942ED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6F348-765A-4B8A-963A-B2CFAC8D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C5457-FB21-4C33-8CA0-EB6692A6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E0E95-5F53-4596-A9AD-3B85A493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5EF7-3881-4FC0-A5BC-B381E8E4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C2FE-A71F-4893-9888-93B01090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2CDC5-55E9-4277-AAC4-AF22AC18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90AB2-076F-4680-BDF2-61624863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093B-8040-42EC-866B-9729A732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E334E-EB65-4535-AB5E-720059A2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A9A-40A0-43CA-B02D-EB848962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36538-2B69-4BF5-A3EA-3CE24BAB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A9B4-5201-4FF4-AC16-B051A71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D5AFB-92B3-44F6-B044-B38732A9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29AC8-0CD2-424B-B7F4-442F396B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12412-0CD6-49E6-9987-F146D45D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6ECBA-23DE-48D4-A5B0-A0E706F4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EDC6-C0AC-450C-B136-213AE64A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768FB-0264-4CBA-A93F-8161955C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5E7FA-DCBA-478E-9B16-CC15A70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69FB-806C-4B1E-A207-CB0BC1F8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32DF-19C8-4ABA-B84E-86F07C51B6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6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7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71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7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8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5DF8-4084-40E7-9724-BDD58BB99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9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4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4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8E4E-DF79-4916-A2B9-3FE775FE4E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4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4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98A1-44B6-4307-9FA1-97E0B72CE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FE98-9087-45BC-A48A-245FDE39C2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7956-BC03-4B55-8163-EC3C46B56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7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DE15-7DD4-4A8E-86F5-73695EBC20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424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425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43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2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443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5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447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0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451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4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455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593-C1F7-4536-8998-69B392A75F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51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52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6E9-E67D-422F-ADB0-583B6CA7DA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0038-362E-438E-8083-0A0FDE2FFF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8610480" cy="99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br>
              <a:rPr sz="4100"/>
            </a:br>
            <a:r>
              <a:rPr b="1" lang="en-US" sz="4100" spc="-1" strike="noStrike">
                <a:solidFill>
                  <a:srgbClr val="703dff"/>
                </a:solidFill>
                <a:latin typeface="Comic Sans MS"/>
              </a:rPr>
              <a:t>Орфограммы     в пословицах и поговорках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учиться обнаруживать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ывать орфограммы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средством анализ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28600" y="507204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1f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61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оклоном поясницы не переломи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звался грибом – полезай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ак с неба  свалил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1066680" y="228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685800" y="21337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762120" y="2666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295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594360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6858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762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2952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4952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54100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858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17"/>
          <p:cNvSpPr/>
          <p:nvPr/>
        </p:nvSpPr>
        <p:spPr>
          <a:xfrm>
            <a:off x="160020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19"/>
          <p:cNvSpPr/>
          <p:nvPr/>
        </p:nvSpPr>
        <p:spPr>
          <a:xfrm>
            <a:off x="32767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828800" y="1828440"/>
            <a:ext cx="2735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6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чен_е – путь к умен_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 обойти, не об_ех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руз_я познаются в бед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1523880" y="304920"/>
            <a:ext cx="647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6094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Правописание разделительного Ъ и разделительного Ь зна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20574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5562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4572000" y="4267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057400" y="5410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10"/>
          <p:cNvSpPr/>
          <p:nvPr/>
        </p:nvSpPr>
        <p:spPr>
          <a:xfrm>
            <a:off x="42670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11"/>
          <p:cNvSpPr/>
          <p:nvPr/>
        </p:nvSpPr>
        <p:spPr>
          <a:xfrm>
            <a:off x="48006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5f2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00200" y="182844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Не) зная броду – (не) суйся в в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1981080" y="457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"/>
              </a:rPr>
              <a:t>НЕ с глаголам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380880" y="35053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кажешь – (не) воротиш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380880" y="41911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пишешь – (не) сотрёш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54680" y="480060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отрубишь –  (не) пристав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Rectangle 8"/>
          <p:cNvSpPr/>
          <p:nvPr/>
        </p:nvSpPr>
        <p:spPr>
          <a:xfrm>
            <a:off x="543240" y="5486400"/>
            <a:ext cx="64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Не) шути с огнём – обгор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Rectangle 9"/>
          <p:cNvSpPr/>
          <p:nvPr/>
        </p:nvSpPr>
        <p:spPr>
          <a:xfrm>
            <a:off x="643680" y="266688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Не зная броду – не суйся в вод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Rectangle 10"/>
          <p:cNvSpPr/>
          <p:nvPr/>
        </p:nvSpPr>
        <p:spPr>
          <a:xfrm>
            <a:off x="443160" y="350532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Скажешь – не воротишь,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456120" y="419112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напишешь – не</a:t>
            </a: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сотрёшь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409320" y="4800600"/>
            <a:ext cx="61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отрубишь –  не пристав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650520" y="5486400"/>
            <a:ext cx="61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Не шути с огнём – обгор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гра - сказ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Чтобы сказку здесь сыграть,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Нужно роли всем раздат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Кто загадку отгадает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Роль он тут же получает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553080" y="4648320"/>
            <a:ext cx="2286000" cy="194148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3276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100000">
              <a:srgbClr val="e4ba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15922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ед,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560" y="3962160"/>
            <a:ext cx="7086600" cy="26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Репка        внучка         кош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дед             Жучка         мыш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баб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2286000" y="1447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баб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4800600" y="1371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внуч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634680" y="22096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Жуч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2806200" y="2209680"/>
            <a:ext cx="18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кош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Rectangle 9"/>
          <p:cNvSpPr/>
          <p:nvPr/>
        </p:nvSpPr>
        <p:spPr>
          <a:xfrm>
            <a:off x="5067360" y="2133720"/>
            <a:ext cx="20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мыш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3341880" y="281952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реп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Rectangle 11"/>
          <p:cNvSpPr/>
          <p:nvPr/>
        </p:nvSpPr>
        <p:spPr>
          <a:xfrm>
            <a:off x="2133720" y="228600"/>
            <a:ext cx="4876560" cy="703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omic Sans MS"/>
              </a:rPr>
              <a:t>Театр - экспром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d9ec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8240" y="-30711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И лиса около своей норы смирно живё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0" y="2438280"/>
            <a:ext cx="86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а чужой лошадке не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аездишь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0" y="373392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Гладкий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и мягкий, да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вкус гадкий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0" y="5105520"/>
            <a:ext cx="8229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е мудрён привет, а сердц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покоряет.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WordArt 7"/>
          <p:cNvSpPr txBox="1"/>
          <p:nvPr/>
        </p:nvSpPr>
        <p:spPr>
          <a:xfrm>
            <a:off x="1752480" y="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Найди орфограм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Спасибо за урок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38" name="Picture 5" descr="10351676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9" name="WordArt 6"/>
          <p:cNvSpPr txBox="1"/>
          <p:nvPr/>
        </p:nvSpPr>
        <p:spPr>
          <a:xfrm rot="20812200">
            <a:off x="1295280" y="2286000"/>
            <a:ext cx="647712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Нн Аа Аа Лл Оо Ч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3250800"/>
            <a:ext cx="822960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457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Орфография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– правила написания слов и их фор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Поговорка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– краткое устойчивое выражение, образное, не составляющее, в отличие от пословицы, законченного высказывания.           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80880" y="2286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словиц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краткое народное изречение с назидательным содержан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WordArt 6"/>
          <p:cNvSpPr txBox="1"/>
          <p:nvPr/>
        </p:nvSpPr>
        <p:spPr>
          <a:xfrm>
            <a:off x="2286000" y="2286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бота со словарё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2038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3f1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828440" y="1752120"/>
            <a:ext cx="5173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задание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05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Липнет, как см_ла к ст_н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мён на сл_вах, да глуп на д_л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сякая с_сна в св_ём б_ру шум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38862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56386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30481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68580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2514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4495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11"/>
          <p:cNvSpPr/>
          <p:nvPr/>
        </p:nvSpPr>
        <p:spPr>
          <a:xfrm flipV="1" rot="10800000">
            <a:off x="5638680" y="540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228600" y="30492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описание безударных глас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корне слова (проверяем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47560" y="182844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реги но_ в большой моро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Гне_ - плохой советч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 чужой ло_ке всегда больше  ры_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2743200" y="3124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6553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1295280" y="42670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29718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78487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304920" y="228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Правописание парных соглас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в корне сл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9ec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2887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3 задание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77724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усти козла в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огород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Мороз да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метели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под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февраль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лете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лотника не шуба греет, а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топор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описание безударных глас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корне слова (непроверяем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7315200" y="2209680"/>
            <a:ext cx="144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«Каково начало, таков и конец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28600" y="1523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Физкультминут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WordArt 9"/>
          <p:cNvSpPr txBox="1"/>
          <p:nvPr/>
        </p:nvSpPr>
        <p:spPr>
          <a:xfrm rot="1357800">
            <a:off x="1304640" y="3147480"/>
            <a:ext cx="3836880" cy="39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2304000"/>
                </a:gradFill>
                <a:latin typeface="Arial"/>
              </a:rPr>
              <a:t>Одушевлённо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2304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2304000"/>
                </a:gradFill>
                <a:latin typeface="Arial"/>
              </a:rPr>
              <a:t>неодушевлё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2304000"/>
              </a:gradFill>
              <a:latin typeface="Arial"/>
              <a:ea typeface="Arial"/>
            </a:endParaRPr>
          </a:p>
        </p:txBody>
      </p:sp>
      <p:sp>
        <p:nvSpPr>
          <p:cNvPr id="766" name="WordArt 10"/>
          <p:cNvSpPr txBox="1"/>
          <p:nvPr/>
        </p:nvSpPr>
        <p:spPr>
          <a:xfrm rot="715200">
            <a:off x="4800600" y="1752480"/>
            <a:ext cx="342900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4686000"/>
                </a:gradFill>
                <a:latin typeface="Arial"/>
              </a:rPr>
              <a:t>Летает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4686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4686000"/>
                </a:gradFill>
                <a:latin typeface="Arial"/>
              </a:rPr>
              <a:t>не лет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4686000"/>
              </a:gradFill>
              <a:latin typeface="Arial"/>
              <a:ea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7200" y="2486160"/>
            <a:ext cx="2409840" cy="14382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5638680" y="4673520"/>
            <a:ext cx="327672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2811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Ты только свис_ни, а я и сам осмысл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сторожность – мать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Рукам работа – душе праз_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457200" y="228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вописание непроизносимых согласных в корне с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5410080" y="19810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373392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6095880" y="53341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5334120" y="41148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опас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5334120" y="4114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зопас_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5f2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77724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По)клоном поясницы не (пере)ломи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На)звался грибом – (по)лезай                 (в)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ак (с) неба (с)валил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066680" y="38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иблиотека</cp:lastModifiedBy>
  <dcterms:modified xsi:type="dcterms:W3CDTF">2010-01-18T10:49:2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