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DF2-D55C-42B4-BEAC-F4A89E4D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A9D-90FA-434C-9DBF-5980E728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6F8-237E-48E6-AEF2-C8419CA1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37E-C204-4B41-A9A6-FEBF71B0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A69-F6A3-42FF-9FAB-50D3E7A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5A3-492C-432E-BDE9-2E71D57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BCC-58CD-4F1A-88DD-75DA347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6BC-6407-4DEE-847D-88B624D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F00-A7C5-4B57-A887-759BD8A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B0B-8C8A-4B62-BA65-03D46217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8A0-0842-4D2C-BB8F-8ABB1E0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9C7-D294-4D55-B5BD-6ACAB0D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5CF0-661D-4BBF-82CD-424BBCAAC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4:33:41Z</dcterms:created>
  <dc:creator>Admin</dc:creator>
  <dc:description/>
  <dc:language>en-US</dc:language>
  <cp:lastModifiedBy>Admin</cp:lastModifiedBy>
  <dcterms:modified xsi:type="dcterms:W3CDTF">2012-11-14T04:34:35Z</dcterms:modified>
  <cp:revision>1</cp:revision>
  <dc:subject/>
  <dc:title>Слайд 1</dc:title>
</cp:coreProperties>
</file>