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23F4-753D-49C6-8BFB-6941D6493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4BE4-A9E2-4C80-9FCE-B25E0C88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BD32-66EA-42A6-8958-671F37F6B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1356-62D8-4EF6-A8E0-CFEB25525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FCCE6-749D-481F-B50B-D863C791E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69E6-426E-4575-9AAC-FBCF3FFB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8A6D-BC34-4BB6-8DB3-EC8459CA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A23E-A4B0-41A0-ADF6-1ED11696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9ABC-3E29-477A-A148-00A162FD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7E47-F8D6-4AD2-90FD-CEF26C7D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02617-4A00-4EB2-BE01-7375649A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035C-86DE-496D-922D-0AE5B497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67FE1-8C8F-4F43-B4AD-77852556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824E-04ED-48EC-96FE-D7ADD337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E925-AC7A-49D7-AE68-2466AA1E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92BC-D004-4D28-90D0-1FC6C5151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F15A-362A-4E36-80BF-8C8D356E2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3302-A72B-42E7-9612-D9AFD1AD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6272-56A2-4CB5-9481-19D09DF8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4F33-0A3A-4388-B4B3-350588B1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1BF0-C555-43DC-971D-B42CE62D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2BA8-8C3D-4D3B-9C43-242386D1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9E83-A1CC-4B44-B810-744C4C16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96B0-2432-4EAD-A453-2F1F50E7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DFB3-3299-40BD-8A11-29D81F9618B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B43A-02A8-4B2A-A519-24EC6458A9D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егодня я на уроке узнал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Я понял, что 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ебя я могу похвалить за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Я научился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 следующих уроках мне надо поработать над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ти знания мне пригодятся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Оцени свою работу на урок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"/>
          <p:cNvSpPr/>
          <p:nvPr/>
        </p:nvSpPr>
        <p:spPr>
          <a:xfrm>
            <a:off x="826920" y="1484280"/>
            <a:ext cx="1008360" cy="10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26920" y="3068640"/>
            <a:ext cx="1008360" cy="1008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4653000"/>
            <a:ext cx="1008000" cy="1008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68360" y="1628640"/>
            <a:ext cx="64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Стоп! Вперёд нельзя, друзья!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Повторять усядусь 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Здесь – внимание, друзья!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Сомневаюсь ещё 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А теперь вперёд, друзья!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В знаниях уверен 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Домашнее задани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думайте, почему Эзоп считает язык «самой худшей вещью в мир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писать 10 глаголов с –тся, -ть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пр. 83 с. 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–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писать небольшой рассказ с глаголами на тся, ть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5280" y="3284640"/>
            <a:ext cx="503280" cy="50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4292640"/>
            <a:ext cx="503280" cy="50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5013360"/>
            <a:ext cx="503280" cy="504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11280" y="2060640"/>
            <a:ext cx="792144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ктивную  работу!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33"/>
                </a:solidFill>
                <a:latin typeface="Garamond"/>
              </a:rPr>
              <a:t>Если мы будем хорошо  знать язык, то сможем...</a:t>
            </a: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Алгоритм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33360"/>
            <a:ext cx="2737080" cy="72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48000" y="1484280"/>
            <a:ext cx="295272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йди глаг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76720" y="2421000"/>
            <a:ext cx="295272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ставь 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87640" y="3284640"/>
            <a:ext cx="3311640" cy="187308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вопросе есть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4437000"/>
            <a:ext cx="270180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ишу –т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опр.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12000" y="4581360"/>
            <a:ext cx="2736720" cy="7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ишу –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лиц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5445000"/>
            <a:ext cx="2736720" cy="72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16360" y="105264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16360" y="198900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292428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27640" y="4221000"/>
            <a:ext cx="136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332000" y="4149720"/>
            <a:ext cx="172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96360" y="42210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32000" y="4149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79640" y="530064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08720" y="53737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79640" y="580536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156000" y="5950080"/>
            <a:ext cx="115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50560" y="620280"/>
            <a:ext cx="8713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емля (… ...       ?) освещает   ся солнцем, а человек знание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… …       ?)  Учит   ся никогда не поздн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сяк человек по делу (… …     ?) познаёт   с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40000" y="765000"/>
            <a:ext cx="2232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то дел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812000" y="90792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2276640"/>
            <a:ext cx="223200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то делат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32360" y="2349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27640" y="3716280"/>
            <a:ext cx="20178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то дел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71640" y="4508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оверь себ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коро начнё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тс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первый сен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с. Закипит в лугах жаркая р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ота. Обычно она начинае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тс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с рассвет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равы будут ложи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тьс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ровными р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ами. Над пол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е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польё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тс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уд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ительный аромат скошенной тр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348000" y="836640"/>
            <a:ext cx="863640" cy="3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8000"/>
                </a:solidFill>
                <a:latin typeface="Arial"/>
              </a:rPr>
              <a:t>3 л. I</a:t>
            </a:r>
            <a:endParaRPr b="1" lang="en-US" sz="1800" spc="1" strike="noStrike">
              <a:ln w="0">
                <a:noFill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492360" y="1484280"/>
            <a:ext cx="863640" cy="3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8000"/>
                </a:solidFill>
                <a:latin typeface="Arial"/>
              </a:rPr>
              <a:t>3 л. II</a:t>
            </a:r>
            <a:endParaRPr b="1" lang="en-US" sz="1800" spc="1" strike="noStrike">
              <a:ln w="0">
                <a:noFill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084720" y="2133720"/>
            <a:ext cx="863640" cy="32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8000"/>
                </a:solidFill>
                <a:latin typeface="Arial"/>
              </a:rPr>
              <a:t>3 л. I</a:t>
            </a:r>
            <a:endParaRPr b="1" lang="en-US" sz="1800" spc="1" strike="noStrike">
              <a:ln w="0">
                <a:noFill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348000" y="3429000"/>
            <a:ext cx="863640" cy="3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8000"/>
                </a:solidFill>
                <a:latin typeface="Arial"/>
              </a:rPr>
              <a:t>3 л. I</a:t>
            </a:r>
            <a:endParaRPr b="1" lang="en-US" sz="1800" spc="1" strike="noStrike">
              <a:ln w="0">
                <a:noFill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58920" y="4653000"/>
            <a:ext cx="863640" cy="3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8000"/>
                </a:solidFill>
                <a:latin typeface="Arial"/>
              </a:rPr>
              <a:t>3 л. I</a:t>
            </a:r>
            <a:endParaRPr b="1" lang="en-US" sz="1800" spc="1" strike="noStrike">
              <a:ln w="0">
                <a:noFill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148360" y="3429000"/>
            <a:ext cx="863640" cy="3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8000"/>
                </a:solidFill>
                <a:latin typeface="Arial"/>
              </a:rPr>
              <a:t>Н.ф.</a:t>
            </a:r>
            <a:endParaRPr b="1" lang="en-US" sz="1800" spc="1" strike="noStrike">
              <a:ln w="0">
                <a:noFill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84360" y="155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32000" y="155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16000" y="2205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51280" y="2205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48000" y="2205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19640" y="2205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101080" y="2205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43280" y="28526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95640" y="2781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27640" y="285264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59280" y="28526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59640" y="2781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84720" y="28526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451640" y="28526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79640" y="3429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71640" y="342900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59280" y="342900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50920" y="414972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32360" y="414972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84720" y="47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87280" y="537372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64000" y="5445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236000" y="537372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659640" y="537372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50920" y="6021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59500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16360" y="595008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88000" y="537372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Алгоритм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"/>
          <p:cNvSpPr/>
          <p:nvPr/>
        </p:nvSpPr>
        <p:spPr>
          <a:xfrm>
            <a:off x="3492360" y="333360"/>
            <a:ext cx="2737080" cy="72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48000" y="1484280"/>
            <a:ext cx="295272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йди глаг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76720" y="2421000"/>
            <a:ext cx="295272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ставь 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87640" y="3284640"/>
            <a:ext cx="3311640" cy="187308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вопросе есть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0920" y="4437000"/>
            <a:ext cx="270180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ишу –т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опр.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2000" y="4581360"/>
            <a:ext cx="2736720" cy="7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ишу –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лиц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64000" y="5445000"/>
            <a:ext cx="2736720" cy="72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716360" y="105264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16360" y="198900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43280" y="292428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227640" y="4221000"/>
            <a:ext cx="136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332000" y="4149720"/>
            <a:ext cx="172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96360" y="42210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332000" y="4149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79640" y="530064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08720" y="53737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79640" y="580536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6000" y="5950080"/>
            <a:ext cx="115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4:54:41Z</dcterms:created>
  <dc:creator>User</dc:creator>
  <dc:description/>
  <dc:language>en-US</dc:language>
  <cp:lastModifiedBy>User</cp:lastModifiedBy>
  <dcterms:modified xsi:type="dcterms:W3CDTF">2012-03-15T22:21:30Z</dcterms:modified>
  <cp:revision>8</cp:revision>
  <dc:subject/>
  <dc:title>Если мы будем хорошо  знать русский язык, то сможем... </dc:title>
</cp:coreProperties>
</file>