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80C-E8D5-4AD5-B074-BA30E8D2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409-6B62-4340-AD8A-7C7B933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2F0-8345-4D74-A7E1-B92EB0A5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84C-C980-483F-84DE-AB1BBD05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DE07-A212-4561-B381-B8020EA1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C488-0A69-4D22-86D4-2348C14D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BD5C-6AE0-494E-943F-FA07F70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0DCE-7B0D-48F8-9B28-034F1FE9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49E3-3F68-4A55-BE42-AC39DA4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5CA-B7C0-4CAC-ABCD-C426D6CF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DC10-FE94-4269-97BE-ABD42D3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765-4CCF-4F2B-8E8E-F5C6E4E5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20D-93FF-4E7E-B62D-F8457AB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9FCE-7621-43EA-B5CE-38F4401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05AA-2527-41B0-965B-267F451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B543-1CC5-432A-95E5-4F9BB941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947D-457A-431C-8E7C-DFD15B82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8ED-62F0-4660-BE17-798761DC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B50-6F13-458D-AF13-7BFB807B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217-7F87-4474-923A-418BEB6C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40A-7AC1-45A1-89EE-6A4374F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0A1-7D78-4018-9A57-B76DE4E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DD4-9653-4B52-80EB-63AF9FC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D48-2DFD-4AC9-8979-8B2A70B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EB35-33C1-4DB3-8E4A-0B372B367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DE9-AE1A-4C5C-BA0A-EF70596AA0B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53.radikal.ru/i140/1106/a1/9f55b10a1d2a.jp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 Black"/>
              </a:rPr>
              <a:t>П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утешествие по Москве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Московский Кремль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Дементьева Наталья Владимировна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учитель начальных классов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Monotype Corsiva"/>
              </a:rPr>
              <a:t>МОУ СОШ № 7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Picture 4" descr="people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plo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Московский Крем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Книги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Я познаю мир. Истор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Я познаю мир. Чудеса све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РОСМЕН». Сокровища Росс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одина Н.М. Московский Кремль. Я живу в Росси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Times New Roman"/>
                <a:hlinkClick r:id="rId1"/>
              </a:rPr>
              <a:t>http://s53.radikal.ru/i140/1106/a1/9f55b10a1d2a.jp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s001.radikal.ru/i193/1106/03/17de91714f5a.jp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s008.radikal.ru/i303/1106/03/bac3de113f45.jp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s004.radikal.ru/i207/1106/88/3c0ffed08662.jp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i036.radikal.ru/1106/42/a7e46c2963fc.jp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ttp://i032.radikal.ru/1106/41/044c902ce1d9.jp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http://kreml.by.ru/index.files/original_images/p0000084.jpg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2613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Москва_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http://kreml.art-by.ru/index.files/original_images/p000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http://greenrain2.narod.ru/Photos/Moscow-images/img-2003-08-13-348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http://tmn.fio.ru/works/52x/311/3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http://proigor.narod.ru/Kremlin_Troitskaya.jpg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mu_belb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2:17:18Z</dcterms:created>
  <dc:creator>Natalya</dc:creator>
  <dc:description/>
  <dc:language>en-US</dc:language>
  <cp:lastModifiedBy>UserXP</cp:lastModifiedBy>
  <dcterms:modified xsi:type="dcterms:W3CDTF">2011-06-27T02:58:50Z</dcterms:modified>
  <cp:revision>13</cp:revision>
  <dc:subject/>
  <dc:title>Путешествие по Москве. Московский Кремль.</dc:title>
</cp:coreProperties>
</file>