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1.jpeg" ContentType="image/jpeg"/>
  <Override PartName="/ppt/media/image35.jpeg" ContentType="image/jpeg"/>
  <Override PartName="/ppt/media/image9.gif" ContentType="image/gif"/>
  <Override PartName="/ppt/media/image23.png" ContentType="image/png"/>
  <Override PartName="/ppt/media/image13.jpeg" ContentType="image/jpeg"/>
  <Override PartName="/ppt/media/image40.jpeg" ContentType="image/jpeg"/>
  <Override PartName="/ppt/media/image6.gif" ContentType="image/gif"/>
  <Override PartName="/ppt/media/image14.jpeg" ContentType="image/jpeg"/>
  <Override PartName="/ppt/media/image33.png" ContentType="image/png"/>
  <Override PartName="/ppt/media/image39.jpeg" ContentType="image/jpeg"/>
  <Override PartName="/ppt/media/image8.png" ContentType="image/png"/>
  <Override PartName="/ppt/media/image30.jpeg" ContentType="image/jpeg"/>
  <Override PartName="/ppt/media/image3.jpeg" ContentType="image/jpeg"/>
  <Override PartName="/ppt/media/image31.png" ContentType="image/png"/>
  <Override PartName="/ppt/media/image12.png" ContentType="image/png"/>
  <Override PartName="/ppt/media/image37.png" ContentType="image/pn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1.png" ContentType="image/png"/>
  <Override PartName="/ppt/media/image10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20.png" ContentType="image/pn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3AB7-E3ED-4734-882D-655B04B02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5B8D-7066-4182-99B6-5E561AB40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A7DE-322B-433A-9991-ACB891AE6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45DF-E5F5-4431-91B3-B7592F386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6B7E-A2DB-4B82-9E1C-CC2A628A8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584B-D26E-4F24-B0ED-DABFB42EB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C1DA-8B2C-4986-9E52-45BD6E24D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30D7-1397-4224-B938-0933F526F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810F-EDB2-4FEB-AA03-789348326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84C6-8FED-4698-8CF8-A57DE8D5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A2BD-C04B-4A95-B337-BAC63CFB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7099-54EF-4520-BEA7-8C934051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6752B-DF72-4992-B05B-84CB488F9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png"/><Relationship Id="rId6" Type="http://schemas.openxmlformats.org/officeDocument/2006/relationships/image" Target="../media/image38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067280" y="4149720"/>
            <a:ext cx="4680000" cy="25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Автор: Козьякова Татьяна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читель начальных класс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ОУ «СОШ №32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Г. Краснотурьин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вердлов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8"/>
          <p:cNvSpPr txBox="1"/>
          <p:nvPr/>
        </p:nvSpPr>
        <p:spPr>
          <a:xfrm>
            <a:off x="684360" y="836640"/>
            <a:ext cx="806436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66"/>
                    </a:gs>
                    <a:gs pos="50000">
                      <a:srgbClr val="ffff66"/>
                    </a:gs>
                    <a:gs pos="100000">
                      <a:srgbClr val="ff9966"/>
                    </a:gs>
                  </a:gsLst>
                  <a:lin ang="5400000"/>
                </a:gradFill>
                <a:latin typeface="Arial"/>
              </a:rPr>
              <a:t>Наша  планета-Земл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66"/>
                  </a:gs>
                  <a:gs pos="50000">
                    <a:srgbClr val="ffff66"/>
                  </a:gs>
                  <a:gs pos="100000">
                    <a:srgbClr val="ff996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42920" y="2924280"/>
            <a:ext cx="6697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рок окружающего мира, 3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МК «Начальная школа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XI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е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60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7"/>
          <p:cNvSpPr/>
          <p:nvPr/>
        </p:nvSpPr>
        <p:spPr>
          <a:xfrm>
            <a:off x="259560" y="836640"/>
            <a:ext cx="84452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Наша планета дарит нам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разнообразную, богатую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и удивительно красивую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ПРИРОД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0"/>
          <p:cNvSpPr/>
          <p:nvPr/>
        </p:nvSpPr>
        <p:spPr>
          <a:xfrm>
            <a:off x="3926880" y="260280"/>
            <a:ext cx="50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ff99"/>
                </a:solidFill>
                <a:latin typeface="Arial"/>
              </a:rPr>
              <a:t>Великолепные го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780000" y="3357720"/>
            <a:ext cx="52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99"/>
                </a:solidFill>
                <a:latin typeface="Arial"/>
              </a:rPr>
              <a:t>Бескрайние  степ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672000" cy="2152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348000" y="1125360"/>
            <a:ext cx="2664000" cy="21304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179280" y="3645000"/>
            <a:ext cx="3478320" cy="26082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3564000" y="4292640"/>
            <a:ext cx="3132000" cy="2449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6" descr="dic0002"/>
          <p:cNvPicPr/>
          <p:nvPr/>
        </p:nvPicPr>
        <p:blipFill>
          <a:blip r:embed="rId1"/>
          <a:stretch/>
        </p:blipFill>
        <p:spPr>
          <a:xfrm>
            <a:off x="1835280" y="155736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dic0052"/>
          <p:cNvPicPr/>
          <p:nvPr/>
        </p:nvPicPr>
        <p:blipFill>
          <a:blip r:embed="rId2"/>
          <a:stretch/>
        </p:blipFill>
        <p:spPr>
          <a:xfrm>
            <a:off x="250920" y="18900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dic0021"/>
          <p:cNvPicPr/>
          <p:nvPr/>
        </p:nvPicPr>
        <p:blipFill>
          <a:blip r:embed="rId3"/>
          <a:stretch/>
        </p:blipFill>
        <p:spPr>
          <a:xfrm>
            <a:off x="6095880" y="314172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0"/>
          <p:cNvSpPr/>
          <p:nvPr/>
        </p:nvSpPr>
        <p:spPr>
          <a:xfrm>
            <a:off x="3710520" y="549360"/>
            <a:ext cx="42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99"/>
                </a:solidFill>
                <a:latin typeface="Arial"/>
              </a:rPr>
              <a:t>Ледяное цар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3600" y="3860640"/>
            <a:ext cx="595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99"/>
                </a:solidFill>
                <a:latin typeface="Arial"/>
              </a:rPr>
              <a:t>Красивые моря и океа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4" descr="dic0060"/>
          <p:cNvPicPr/>
          <p:nvPr/>
        </p:nvPicPr>
        <p:blipFill>
          <a:blip r:embed="rId4"/>
          <a:stretch/>
        </p:blipFill>
        <p:spPr>
          <a:xfrm>
            <a:off x="3780000" y="44370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24360" y="4581360"/>
            <a:ext cx="2714400" cy="21733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0"/>
          <p:cNvSpPr/>
          <p:nvPr/>
        </p:nvSpPr>
        <p:spPr>
          <a:xfrm>
            <a:off x="4140360" y="333360"/>
            <a:ext cx="47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ff99"/>
                </a:solidFill>
                <a:latin typeface="Arial"/>
              </a:rPr>
              <a:t>Сказочные ле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-181080" y="393372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ff99"/>
                </a:solidFill>
                <a:latin typeface="Arial"/>
              </a:rPr>
              <a:t>Радужный ми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ff99"/>
                </a:solidFill>
                <a:latin typeface="Arial"/>
              </a:rPr>
              <a:t>цве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300720" y="3789360"/>
            <a:ext cx="2641680" cy="19796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3600720" cy="2259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3132000" y="1341360"/>
            <a:ext cx="3200400" cy="2400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9"/>
          <p:cNvSpPr/>
          <p:nvPr/>
        </p:nvSpPr>
        <p:spPr>
          <a:xfrm>
            <a:off x="2987640" y="0"/>
            <a:ext cx="36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99"/>
                </a:solidFill>
                <a:latin typeface="Arial"/>
              </a:rPr>
              <a:t>Разнообразный животный 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8360" y="3573360"/>
            <a:ext cx="79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99"/>
                </a:solidFill>
                <a:latin typeface="Arial"/>
              </a:rPr>
              <a:t>Таинственный мир морей и океа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952720" cy="24764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405480" y="0"/>
            <a:ext cx="2738520" cy="2664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108000" y="4221000"/>
            <a:ext cx="3058920" cy="2294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2987640" y="4437000"/>
            <a:ext cx="3168720" cy="21877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5940360" y="4292640"/>
            <a:ext cx="3203640" cy="21700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059280" y="981000"/>
            <a:ext cx="3313080" cy="2435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1"/>
          <p:cNvSpPr/>
          <p:nvPr/>
        </p:nvSpPr>
        <p:spPr>
          <a:xfrm>
            <a:off x="756720" y="2997360"/>
            <a:ext cx="739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99"/>
                </a:solidFill>
                <a:latin typeface="Arial"/>
              </a:rPr>
              <a:t>На нашей планете проживае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99"/>
                </a:solidFill>
                <a:latin typeface="Arial"/>
              </a:rPr>
              <a:t>6,5 миллиардов люд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 rot="20724000">
            <a:off x="237960" y="423720"/>
            <a:ext cx="2808360" cy="2108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 rot="20621400">
            <a:off x="2966760" y="517680"/>
            <a:ext cx="3024000" cy="20095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 rot="20445000">
            <a:off x="6011640" y="620280"/>
            <a:ext cx="2885760" cy="2163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 rot="20735400">
            <a:off x="3203640" y="4581000"/>
            <a:ext cx="2808360" cy="20545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 rot="20608200">
            <a:off x="317520" y="4323960"/>
            <a:ext cx="2448000" cy="22622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 rot="20749200">
            <a:off x="6315120" y="4265640"/>
            <a:ext cx="2448000" cy="2074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WordArt 5"/>
          <p:cNvSpPr txBox="1"/>
          <p:nvPr/>
        </p:nvSpPr>
        <p:spPr>
          <a:xfrm>
            <a:off x="0" y="189000"/>
            <a:ext cx="8813880" cy="590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99"/>
                </a:solidFill>
                <a:latin typeface="Monotype Corsiva"/>
              </a:rPr>
              <a:t> </a:t>
            </a: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99"/>
                </a:solidFill>
                <a:latin typeface="Monotype Corsiva"/>
              </a:rPr>
              <a:t>Люди -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ffcc99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99"/>
                </a:solidFill>
                <a:latin typeface="Monotype Corsiva"/>
              </a:rPr>
              <a:t> </a:t>
            </a: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99"/>
                </a:solidFill>
                <a:latin typeface="Monotype Corsiva"/>
              </a:rPr>
              <a:t>главное богатство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ffcc99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99"/>
                </a:solidFill>
                <a:latin typeface="Monotype Corsiva"/>
              </a:rPr>
              <a:t>нашей планеты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ffcc99"/>
              </a:solidFill>
              <a:latin typeface="Monotype Corsiva"/>
              <a:ea typeface="Monotype Corsiva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1708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25b"/>
          <p:cNvPicPr/>
          <p:nvPr/>
        </p:nvPicPr>
        <p:blipFill>
          <a:blip r:embed="rId1"/>
          <a:stretch/>
        </p:blipFill>
        <p:spPr>
          <a:xfrm>
            <a:off x="3059280" y="2297160"/>
            <a:ext cx="6084720" cy="4560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79280" y="620640"/>
            <a:ext cx="882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ПЛАНЕТА (от греческого «планетос») –  обозначает «БЛУЖДАЮЩИ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411280" y="2637000"/>
            <a:ext cx="4248360" cy="3828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11280" y="0"/>
            <a:ext cx="784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99"/>
                </a:solidFill>
                <a:latin typeface="Arial"/>
              </a:rPr>
              <a:t>В древности люди считали, что Земля находится в центре Вселенной, а все небесные тела вращаются вокруг не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067280" y="1844640"/>
            <a:ext cx="4824360" cy="4824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2646360" cy="3024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50920" y="3645000"/>
            <a:ext cx="3600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Arial"/>
              </a:rPr>
              <a:t>Николай Коперник (1473-1543), великий польский астроном  доказал, что Земля вращается не только вокруг свой оси, но и вокруг Солн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236000" y="4797360"/>
            <a:ext cx="28872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877080" y="4653000"/>
            <a:ext cx="719280" cy="719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067280" y="3051000"/>
            <a:ext cx="5076720" cy="3807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50920" y="189000"/>
            <a:ext cx="8497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Нашей планете боле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4,5 миллиардов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08000" y="836640"/>
            <a:ext cx="5759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99"/>
                </a:solidFill>
                <a:latin typeface="Arial"/>
              </a:rPr>
              <a:t>Многие столетия люди мечтали посмотреть на Землю из космо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9280" y="3357720"/>
            <a:ext cx="3330720" cy="3300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56360" y="3860640"/>
            <a:ext cx="2735280" cy="2735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Планета Земля из космоса. Фото с сайта wallpaperbase.com."/>
          <p:cNvPicPr/>
          <p:nvPr/>
        </p:nvPicPr>
        <p:blipFill>
          <a:blip r:embed="rId3"/>
          <a:stretch/>
        </p:blipFill>
        <p:spPr>
          <a:xfrm>
            <a:off x="5724360" y="115920"/>
            <a:ext cx="3279960" cy="246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name0008"/>
          <p:cNvPicPr/>
          <p:nvPr/>
        </p:nvPicPr>
        <p:blipFill>
          <a:blip r:embed="rId1"/>
          <a:stretch/>
        </p:blipFill>
        <p:spPr>
          <a:xfrm>
            <a:off x="179280" y="189000"/>
            <a:ext cx="3075120" cy="35002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3635280" y="1268280"/>
            <a:ext cx="511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Юрий Алексеевич Гагарин – первый российский космонав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12 апреля 1961 года  на космическом корабле «Восто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он совершил первый космический полё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и пробыл в космосе 108 мин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За это время ему удалось совершить три оборо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вокруг нашей плане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>
            <a:off x="4643280" y="333360"/>
            <a:ext cx="4284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 тех пор  космонавты постоянно работают на орбите. Они изучают нашу планету и огромное космическое пространство вокруг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dic0045"/>
          <p:cNvPicPr/>
          <p:nvPr/>
        </p:nvPicPr>
        <p:blipFill>
          <a:blip r:embed="rId1"/>
          <a:stretch/>
        </p:blipFill>
        <p:spPr>
          <a:xfrm>
            <a:off x="324000" y="189000"/>
            <a:ext cx="4032000" cy="3024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395280" y="4005360"/>
            <a:ext cx="3924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Благодаря этому и мы можем любоваться снимками с изображениями нашей плане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076720" y="3789360"/>
            <a:ext cx="3749760" cy="2813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5T15:35:06Z</dcterms:created>
  <dc:creator>Kate</dc:creator>
  <dc:description/>
  <dc:language>en-US</dc:language>
  <cp:lastModifiedBy>Admin</cp:lastModifiedBy>
  <dcterms:modified xsi:type="dcterms:W3CDTF">2011-05-15T11:09:47Z</dcterms:modified>
  <cp:revision>46</cp:revision>
  <dc:subject/>
  <dc:title>Слайд 1</dc:title>
</cp:coreProperties>
</file>