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10D3-A46F-4000-B6CB-C580319D7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A705-D378-4EA3-B92F-91F16339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D279-2866-45AB-882C-2C50FDEB8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957A-27E0-4D24-9664-F2C7EA1EF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DED0-0BCA-434D-ABF7-4F7869758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725F-4DC5-45B8-A2EA-6EDDDF90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32F94-9B68-4484-A38B-DA9BB7A4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BBC0D-33C9-45BB-8A8A-D829FF51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703F-0B77-4D32-B19B-6FB44433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11AD-7F93-4F99-BFAC-DCC68F4B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A719-DF5C-44EA-B947-B8ADC7CC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2437-94CA-4E77-9F3A-B25075C2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54BF-A52F-4940-83DB-726EAD29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A183-2466-4B82-9311-4772E3AD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63159-C282-46F1-8162-207E4D9B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E827-D6F1-452F-9191-1236641CE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BA38-8DCB-4282-ACD1-80FAAA7DB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289AD0-936F-4449-AC59-C4AA3516C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5EE290-43A8-4E5D-AE2F-CEA3F0C2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186EFF-47DA-44E2-AD13-2582A754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8D5BFD-551B-49E4-9DE6-A7AC5E1A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82508F-177B-4FDD-AD27-8017955E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1DC6-FF2A-46EC-9A84-ACB54D21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3192DE-6C49-45E2-B853-87890632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EA2B49-1F10-423B-8696-D83133A3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90A9A5-CC03-4F31-A946-28995A9F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1E11F4-544C-4FD0-AB61-29AC206C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9EA178-4C60-4769-B4DD-25CFCF6F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9B2E7C-A3CB-424B-8B6F-8027894FD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26AD38-4D1A-47B5-A597-844E891F0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CC670-E8DE-40DA-B923-BC67C488C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E6A1B-24F4-4694-9825-393B596D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0874B-688D-4E2F-9019-166C636D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9393-DD92-4372-91B7-4C3F94BF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3D97C-E654-4114-B1A3-366F4F92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A4577-3664-4B43-9C05-191EE261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C649C-209D-4455-8B77-72884D12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6CEC1-43E7-4EE9-B7E2-4A8675E7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9DE1F-4E88-46A6-96D1-CBF3DB37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A0031-CC02-40F3-B50A-8E61EBAF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591D2-F455-4B19-BBF4-B954C158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6FDCD-DEEB-4816-A0B5-38180C2F3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3233E-A3D4-4201-9656-A69B43EB0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31D7-AD40-4D53-BD58-E0DB8E5A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4D98-6AA6-4B3C-9B72-E8BAF3E5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BB3B-15CA-4D7F-9554-EC1004C4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AA14-6E49-4E00-A7EE-86204936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F272-1F6C-46CC-8FCB-8F964D07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2223-3892-4F60-86BA-25654BDF0542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3D04-B4A4-41E8-A3EB-71BFD2F559A4}" type="slidenum">
              <a:rPr b="0" lang="ru-RU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344A-4637-4D6D-A25B-8A459123AEB1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3091-FA43-4D0A-868F-5BDDD1E11974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0" y="2997000"/>
            <a:ext cx="3672000" cy="36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a6300"/>
                </a:solidFill>
                <a:latin typeface="Century Gothic"/>
              </a:rPr>
              <a:t>Конспект урока русского языка в 9-м классе при написании сжатого изложения.</a:t>
            </a:r>
            <a:br>
              <a:rPr sz="2800"/>
            </a:br>
            <a:br>
              <a:rPr sz="2800"/>
            </a:br>
            <a:r>
              <a:rPr b="1" lang="ru-RU" sz="1600" spc="-1" strike="noStrike">
                <a:solidFill>
                  <a:srgbClr val="4a6300"/>
                </a:solidFill>
                <a:latin typeface="Century Gothic"/>
              </a:rPr>
              <a:t>АОУ школа № 10        г.Долгопрудный </a:t>
            </a:r>
            <a:br>
              <a:rPr sz="1600"/>
            </a:br>
            <a:r>
              <a:rPr b="1" lang="ru-RU" sz="1600" spc="-1" strike="noStrike">
                <a:solidFill>
                  <a:srgbClr val="4a6300"/>
                </a:solidFill>
                <a:latin typeface="Century Gothic"/>
              </a:rPr>
              <a:t>Арсеньева Н.С., учитель русского языка и литературы.</a:t>
            </a:r>
            <a:br>
              <a:rPr sz="2800"/>
            </a:br>
            <a:endParaRPr b="0" lang="en-US" sz="16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42560" y="692280"/>
            <a:ext cx="70246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Синквейн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68360" y="2204640"/>
            <a:ext cx="82072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Человек успешны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Интеллектуальный, сопереживающи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Понимает, сочувствует, воспринимае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Сопереживая, идёт к профессиональному успеху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Эмоциональный интеллек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15640" y="907560"/>
            <a:ext cx="702468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6300"/>
                </a:solidFill>
                <a:latin typeface="Century Gothic"/>
              </a:rPr>
              <a:t>Результаты экзамена по русскому языку.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5" name="Объект 6" descr=""/>
          <p:cNvPicPr/>
          <p:nvPr/>
        </p:nvPicPr>
        <p:blipFill>
          <a:blip r:embed="rId1"/>
          <a:stretch/>
        </p:blipFill>
        <p:spPr>
          <a:xfrm>
            <a:off x="560520" y="2262240"/>
            <a:ext cx="3952800" cy="3595680"/>
          </a:xfrm>
          <a:prstGeom prst="rect">
            <a:avLst/>
          </a:prstGeom>
          <a:ln w="0">
            <a:noFill/>
          </a:ln>
        </p:spPr>
      </p:pic>
      <p:pic>
        <p:nvPicPr>
          <p:cNvPr id="356" name="Объект 7" descr=""/>
          <p:cNvPicPr/>
          <p:nvPr/>
        </p:nvPicPr>
        <p:blipFill>
          <a:blip r:embed="rId2"/>
          <a:stretch/>
        </p:blipFill>
        <p:spPr>
          <a:xfrm>
            <a:off x="4594320" y="2262240"/>
            <a:ext cx="406080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a6300"/>
                </a:solidFill>
                <a:latin typeface="Century Gothic"/>
              </a:rPr>
              <a:t>Урок русского языка в 9-м классе «Подготовка к написанию сжатого изложения».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042560" y="2781000"/>
            <a:ext cx="6777000" cy="30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e3d2d"/>
                </a:solidFill>
                <a:latin typeface="Century Gothic"/>
              </a:rPr>
              <a:t>Использование педагогической технологии «Развитие критического мышления через чтение и письмо (РКМЧП)»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42560" y="1027080"/>
            <a:ext cx="7024680" cy="6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4a6300"/>
                </a:solidFill>
                <a:latin typeface="Century Gothic"/>
              </a:rPr>
              <a:t>I </a:t>
            </a:r>
            <a:r>
              <a:rPr b="1" i="1" lang="ru-RU" sz="3600" spc="-1" strike="noStrike">
                <a:solidFill>
                  <a:srgbClr val="4a6300"/>
                </a:solidFill>
                <a:latin typeface="Century Gothic"/>
              </a:rPr>
              <a:t>этап.  Мотивационный.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e3d2d"/>
                </a:solidFill>
                <a:latin typeface="Century Gothic"/>
              </a:rPr>
              <a:t>«Интеллектуальные способности» - в течение 1-2 минуты пишут всё, что знают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e3d2d"/>
                </a:solidFill>
                <a:latin typeface="Century Gothic"/>
              </a:rPr>
              <a:t>«Личностные качества» - в течение 1-2 минуты пишут всё, что знают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4a6300"/>
                </a:solidFill>
                <a:uFillTx/>
                <a:latin typeface="Century Gothic"/>
              </a:rPr>
              <a:t>Беседа: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755640" y="2323800"/>
            <a:ext cx="7561440" cy="38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1.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бладаете ли вы интеллектуальными способностями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2.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Можно ли развить свои интеллектуальные способности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3.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аких личностных качеств у вас больше: положительных или отрицательных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4.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Можно ли развить определённые личностные качества, или человек рождается с определённым набором таких качеств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71280" y="7646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4a6300"/>
                </a:solidFill>
                <a:latin typeface="Century Gothic"/>
              </a:rPr>
              <a:t>II </a:t>
            </a:r>
            <a:r>
              <a:rPr b="1" i="1" lang="ru-RU" sz="3600" spc="-1" strike="noStrike">
                <a:solidFill>
                  <a:srgbClr val="4a6300"/>
                </a:solidFill>
                <a:latin typeface="Century Gothic"/>
              </a:rPr>
              <a:t>этап. Реализационный. Осмысления.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68360" y="1988640"/>
            <a:ext cx="82072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егодня мы будем работать с текстом для написания изложения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Исходя из предварительной беседы попробуйте предположить о чём или о ком будет идти речь в этом тексте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1" i="1" lang="ru-RU" sz="2400" spc="-1" strike="noStrike">
                <a:solidFill>
                  <a:srgbClr val="3e3d2d"/>
                </a:solidFill>
                <a:latin typeface="Century Gothic"/>
              </a:rPr>
              <a:t>«Дерево предсказаний» </a:t>
            </a: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-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записываем на доску 2-3 версии. О чём пойдёт речь в тексте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(О человеке с выдающимся интеллектом, но отрицательными личностными качествам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 человеке высокообразованном с положительными личностными качествами: добрый, чуткий, щедрый внимательный)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71280" y="836280"/>
            <a:ext cx="702468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a6300"/>
                </a:solidFill>
                <a:latin typeface="Century Gothic"/>
              </a:rPr>
              <a:t>Чтение текста.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68360" y="1628640"/>
            <a:ext cx="82072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е так давно учёные считали, что успех в жизни напрямую связан с нашими интеллектуальными способностями. Чем больше человек знает и умеет, тем больше вероятность того, что он многого добьётся в жизни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днако оказывается, что будущие профессиональные перспективы определяются не только объёмом и качеством всего, что нам удалось узнать в школе. Как утверждают учёные, наполненная знаниями голова ещё не спасение от серьёзных жизненных неудач и провалов.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&lt;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…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&gt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7024680" cy="16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a6300"/>
                </a:solidFill>
                <a:latin typeface="Century Gothic"/>
              </a:rPr>
              <a:t>Разноуровневые вопросы после чтения: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68360" y="1773360"/>
            <a:ext cx="82072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Оправдались ли ваши версии?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Есть в тексте конкретный герой? Почему?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К какому стилю речи можно отнести этот текст?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Что говорится об интеллектуальных способностях человека?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Может ли человек полагаться только на свой ум, свои знания? Почему?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Что необходимо человеку для того, чтобы добиться успеха на профессиональном поприще?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О каких личностных качествах говорится в тексте?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Можно ли воспитать в себе это качество?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Что может помочь воспитать в человеке чувство сопереживания окружающим его людям?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Как называют способность человека чувствовать, понимать произведения любого вида искусства?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2560" y="692280"/>
            <a:ext cx="702468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4a6300"/>
                </a:solidFill>
                <a:latin typeface="Century Gothic"/>
              </a:rPr>
              <a:t>III </a:t>
            </a:r>
            <a:r>
              <a:rPr b="1" i="1" lang="ru-RU" sz="4000" spc="-1" strike="noStrike">
                <a:solidFill>
                  <a:srgbClr val="4a6300"/>
                </a:solidFill>
                <a:latin typeface="Century Gothic"/>
              </a:rPr>
              <a:t>этап. Рефлексии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68360" y="1484280"/>
            <a:ext cx="82072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 чем мы говорили на уроке? Как можно сформулировать тему урока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ыпишите из записанных на доске тем ту, которая, на ваш взгляд, отражает суть нашего урока, его основную мысль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Интеллектуальные способности человека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Личностные качества человека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Человеческие эмоции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Эмоциональный интеллект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Эмоциональный интеллект – путь к гармонии с окружающим миром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Эмоциональный интеллект – путь к профессиональному успеху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42560" y="692280"/>
            <a:ext cx="7024680" cy="7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a6300"/>
                </a:solidFill>
                <a:latin typeface="Century Gothic"/>
              </a:rPr>
              <a:t>Синквейн.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Учитель попробуйте  составить синквейн: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Синквейн – своеобразное стихотворение-миниатюра из 5 строк, имеющее определённое строение: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1-я строка</a:t>
            </a: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Кто? Что? (тема).</a:t>
            </a: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1 существительное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2-я строка</a:t>
            </a: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Какой? (определение темы).   2 прилагательных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3-я строка</a:t>
            </a: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Что делает? (характерные действия или состояния предмета). </a:t>
            </a: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3 глагол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4-я строка</a:t>
            </a: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Что автор думает?</a:t>
            </a: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Фраза из 4 слов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5-я строка</a:t>
            </a: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Кто? Что? (новое звучание темы).</a:t>
            </a: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1 существительное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9T13:15:51Z</dcterms:created>
  <dc:creator>user</dc:creator>
  <dc:description/>
  <dc:language>en-US</dc:language>
  <cp:lastModifiedBy>user</cp:lastModifiedBy>
  <dcterms:modified xsi:type="dcterms:W3CDTF">2012-10-29T14:38:34Z</dcterms:modified>
  <cp:revision>9</cp:revision>
  <dc:subject/>
  <dc:title>Конспект урока русского языка в 9-м классе при написании сжатого изложения</dc:title>
</cp:coreProperties>
</file>