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2F0-0A57-4C39-9A10-C62C999F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349-E95F-42DB-81BF-7F1D9586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ADF-1092-4B00-B631-ECA0351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77A-6D58-4006-AB78-B2651005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F36-2942-442B-B4E3-4B85E82F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F2FF-992C-4267-A297-9D5570B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D498-B6D7-4189-9FD6-9D169E5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C02-E7F0-4536-97C7-DCD4BD3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F15-B60E-4EAA-BD3A-2BE068C5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E7F9-D9C4-4887-B470-D305522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709B-B865-4320-BCFA-7C1908E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B3C-63B4-4D2B-9999-9B55CC68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D492-8743-44BA-B56A-92B34CC0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D0C3-5BFA-4771-BEE6-AC3B421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68F-78EF-4D48-A806-B84F36A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329B-0126-4B2E-B0E4-E6AAC364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99B4-8C84-45DA-B213-6E94DAA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AE5-4521-4EA6-B9F9-CB4CDE1C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02A-2B15-4B67-9E94-3430B4E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A9B-0370-4813-9018-BB63108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B59-DE5B-4B75-BC0F-1F7BDAA9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5A3-49E7-4915-99B4-89E9CA77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FD5-D1E7-464B-9601-9BBE4959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9D5-0BAF-44B2-98E0-66AFE47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2667-2F77-4842-8DC7-0FCA09DD9E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1F09-0825-4559-A0D2-9214F3C71B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406200">
            <a:off x="1114200" y="1776240"/>
            <a:ext cx="727236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МЯ СУЩЕСТВИТЕЛЬНО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4437000"/>
            <a:ext cx="4465800" cy="1440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ибгат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ртукская средняя школ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ктюбинская область с.Мар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16360" y="404640"/>
            <a:ext cx="4608360" cy="122400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773360"/>
            <a:ext cx="2808360" cy="1368360"/>
          </a:xfrm>
          <a:custGeom>
            <a:avLst/>
            <a:gdLst>
              <a:gd name="textAreaLeft" fmla="*/ 641160 w 2808360"/>
              <a:gd name="textAreaRight" fmla="*/ 2167200 w 2808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916280"/>
            <a:ext cx="2808360" cy="1152360"/>
          </a:xfrm>
          <a:custGeom>
            <a:avLst/>
            <a:gdLst>
              <a:gd name="textAreaLeft" fmla="*/ 641160 w 2808360"/>
              <a:gd name="textAreaRight" fmla="*/ 2167200 w 280836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УЖЕ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429000"/>
            <a:ext cx="3816360" cy="2305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525960 h 2305080"/>
              <a:gd name="textAreaBottom" fmla="*/ 1779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Я 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3357720"/>
            <a:ext cx="3384360" cy="2303280"/>
          </a:xfrm>
          <a:custGeom>
            <a:avLst/>
            <a:gdLst>
              <a:gd name="textAreaLeft" fmla="*/ 772560 w 3384360"/>
              <a:gd name="textAreaRight" fmla="*/ 2611800 w 3384360"/>
              <a:gd name="textAreaTop" fmla="*/ 525600 h 2303280"/>
              <a:gd name="textAreaBottom" fmla="*/ 17776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Имя существительное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мя существительное обозначает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мена существительные отвечают на вопросы … и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душевлённые имена существительные отвечают на вопрос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одушевлённые имена существительные отвечают на вопрос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З.м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Хол.д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н.гов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н.жо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.теро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.до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Трещат морозы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нег укутал деревья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Медведь спит в берлоге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Трещат морозы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нег укутал деревья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Медведь спит в берлоге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09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68360" y="765000"/>
            <a:ext cx="49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rcRect l="0" t="4980" r="0" b="4855"/>
          <a:stretch/>
        </p:blipFill>
        <p:spPr>
          <a:xfrm>
            <a:off x="1285920" y="1341360"/>
            <a:ext cx="1177920" cy="14400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268280" y="2997360"/>
            <a:ext cx="1150920" cy="1265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-7024" t="0" r="0" b="0"/>
          <a:stretch/>
        </p:blipFill>
        <p:spPr>
          <a:xfrm>
            <a:off x="1258920" y="4508640"/>
            <a:ext cx="1158840" cy="12459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627280" y="1700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Я  считаю, что урок прошёл для меня с пользой. Я научился различать одушевлённые и неодушевлённые имена существительные и могу помочь дру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357720"/>
            <a:ext cx="59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Я  считаю, что научился различать одушевлённые и неодушевлённые имена существительные, но мне ещё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61720" y="501480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Я  считаю, что было трудно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ользуемые материал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люстрация «Зима» -сканировано из учебника «Русская грамота» 1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маты «Атамура»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55:52Z</dcterms:created>
  <dc:creator>uzer</dc:creator>
  <dc:description/>
  <dc:language>en-US</dc:language>
  <cp:lastModifiedBy>uzer</cp:lastModifiedBy>
  <dcterms:modified xsi:type="dcterms:W3CDTF">2010-10-21T14:42:34Z</dcterms:modified>
  <cp:revision>5</cp:revision>
  <dc:subject/>
  <dc:title>Слайд 1</dc:title>
</cp:coreProperties>
</file>