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D03-DEEA-4A9B-83B8-FEACA3B7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B3E-4EB4-49CD-99AB-4A86623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5EA-646C-45D7-B4D8-7B289D4C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804-7E28-4B48-BD7A-C7D0A4A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8BA-A3BE-4481-BFCC-938F71E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9A7-DB22-435B-BEFE-759C547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A80-7786-45FB-AFDC-80100F2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302-C81B-42FA-8D7D-124165B5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D27-F65B-4CB8-88A8-550CDFB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3F4-F0E2-43E9-95E4-0C7380B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592-31EF-445D-8856-05F6B37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CCD-3F4D-4553-9F20-D1D4535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C3A6-0FF1-4BD9-AB3B-FFC36A433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619280" y="45813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У СОШ № 169 г. Санкт-Петербур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имовой Анны Валерь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8" descr=""/>
          <p:cNvPicPr/>
          <p:nvPr/>
        </p:nvPicPr>
        <p:blipFill>
          <a:blip r:embed="rId1"/>
          <a:stretch/>
        </p:blipFill>
        <p:spPr>
          <a:xfrm>
            <a:off x="536400" y="974880"/>
            <a:ext cx="84250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68360" y="2636640"/>
            <a:ext cx="8424720" cy="2763360"/>
            <a:chOff x="468360" y="2636640"/>
            <a:chExt cx="8424720" cy="2763360"/>
          </a:xfrm>
        </p:grpSpPr>
        <p:grpSp>
          <p:nvGrpSpPr>
            <p:cNvPr id="88" name="Group 27"/>
            <p:cNvGrpSpPr/>
            <p:nvPr/>
          </p:nvGrpSpPr>
          <p:grpSpPr>
            <a:xfrm>
              <a:off x="468360" y="2636640"/>
              <a:ext cx="8424720" cy="2763360"/>
              <a:chOff x="468360" y="2636640"/>
              <a:chExt cx="8424720" cy="2763360"/>
            </a:xfrm>
          </p:grpSpPr>
          <p:grpSp>
            <p:nvGrpSpPr>
              <p:cNvPr id="89" name="Group 28"/>
              <p:cNvGrpSpPr/>
              <p:nvPr/>
            </p:nvGrpSpPr>
            <p:grpSpPr>
              <a:xfrm>
                <a:off x="468360" y="2636640"/>
                <a:ext cx="8424720" cy="2087280"/>
                <a:chOff x="468360" y="2636640"/>
                <a:chExt cx="8424720" cy="2087280"/>
              </a:xfrm>
            </p:grpSpPr>
            <p:sp>
              <p:nvSpPr>
                <p:cNvPr id="90" name="Rectangle 29"/>
                <p:cNvSpPr/>
                <p:nvPr/>
              </p:nvSpPr>
              <p:spPr>
                <a:xfrm flipH="1">
                  <a:off x="468360" y="3789000"/>
                  <a:ext cx="8424720" cy="144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" name="Group 30"/>
                <p:cNvGrpSpPr/>
                <p:nvPr/>
              </p:nvGrpSpPr>
              <p:grpSpPr>
                <a:xfrm>
                  <a:off x="4861080" y="2636640"/>
                  <a:ext cx="504720" cy="1152000"/>
                  <a:chOff x="4861080" y="2636640"/>
                  <a:chExt cx="504720" cy="1152000"/>
                </a:xfrm>
              </p:grpSpPr>
              <p:sp>
                <p:nvSpPr>
                  <p:cNvPr id="92" name="Line 31"/>
                  <p:cNvSpPr/>
                  <p:nvPr/>
                </p:nvSpPr>
                <p:spPr>
                  <a:xfrm flipH="1">
                    <a:off x="5364360" y="2993760"/>
                    <a:ext cx="1440" cy="79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AutoShape 32"/>
                  <p:cNvSpPr/>
                  <p:nvPr/>
                </p:nvSpPr>
                <p:spPr>
                  <a:xfrm rot="16200000">
                    <a:off x="4861080" y="2636280"/>
                    <a:ext cx="504360" cy="504720"/>
                  </a:xfrm>
                  <a:prstGeom prst="rtTriangle">
                    <a:avLst/>
                  </a:prstGeom>
                  <a:solidFill>
                    <a:srgbClr val="ff33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AutoShape 33"/>
                <p:cNvSpPr/>
                <p:nvPr/>
              </p:nvSpPr>
              <p:spPr>
                <a:xfrm flipH="1" rot="16200000">
                  <a:off x="4285440" y="116280"/>
                  <a:ext cx="790200" cy="8424720"/>
                </a:xfrm>
                <a:custGeom>
                  <a:avLst/>
                  <a:gdLst>
                    <a:gd name="textAreaLeft" fmla="*/ 0 w 790200"/>
                    <a:gd name="textAreaRight" fmla="*/ 285480 w 790200"/>
                    <a:gd name="textAreaTop" fmla="*/ 219600 h 8424720"/>
                    <a:gd name="textAreaBottom" fmla="*/ 8205120 h 8424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34"/>
              <p:cNvSpPr/>
              <p:nvPr/>
            </p:nvSpPr>
            <p:spPr>
              <a:xfrm flipH="1">
                <a:off x="3422520" y="4940280"/>
                <a:ext cx="17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     </a:t>
                </a: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220  к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35"/>
            <p:cNvSpPr/>
            <p:nvPr/>
          </p:nvSpPr>
          <p:spPr>
            <a:xfrm>
              <a:off x="7237440" y="3500280"/>
              <a:ext cx="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>
              <a:off x="2989440" y="3500280"/>
              <a:ext cx="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47"/>
          <p:cNvSpPr/>
          <p:nvPr/>
        </p:nvSpPr>
        <p:spPr>
          <a:xfrm>
            <a:off x="971640" y="5445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  какой  скоростью  двигался                                 второй  автомобили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6"/>
          <p:cNvGrpSpPr/>
          <p:nvPr/>
        </p:nvGrpSpPr>
        <p:grpSpPr>
          <a:xfrm>
            <a:off x="2842920" y="1916280"/>
            <a:ext cx="2482200" cy="1839240"/>
            <a:chOff x="2842920" y="1916280"/>
            <a:chExt cx="2482200" cy="1839240"/>
          </a:xfrm>
        </p:grpSpPr>
        <p:pic>
          <p:nvPicPr>
            <p:cNvPr id="100" name="Picture 57" descr="j0212957"/>
            <p:cNvPicPr/>
            <p:nvPr/>
          </p:nvPicPr>
          <p:blipFill>
            <a:blip r:embed="rId1"/>
            <a:stretch/>
          </p:blipFill>
          <p:spPr>
            <a:xfrm>
              <a:off x="3836520" y="2836800"/>
              <a:ext cx="1325160" cy="9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58"/>
            <p:cNvSpPr/>
            <p:nvPr/>
          </p:nvSpPr>
          <p:spPr>
            <a:xfrm flipH="1">
              <a:off x="2842920" y="2555640"/>
              <a:ext cx="225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3824640" y="191628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60  км / 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60"/>
          <p:cNvGrpSpPr/>
          <p:nvPr/>
        </p:nvGrpSpPr>
        <p:grpSpPr>
          <a:xfrm>
            <a:off x="5508720" y="1916280"/>
            <a:ext cx="1727280" cy="1821960"/>
            <a:chOff x="5508720" y="1916280"/>
            <a:chExt cx="1727280" cy="1821960"/>
          </a:xfrm>
        </p:grpSpPr>
        <p:pic>
          <p:nvPicPr>
            <p:cNvPr id="104" name="Picture 61" descr="j0212957"/>
            <p:cNvPicPr/>
            <p:nvPr/>
          </p:nvPicPr>
          <p:blipFill>
            <a:blip r:embed="rId2"/>
            <a:stretch/>
          </p:blipFill>
          <p:spPr>
            <a:xfrm flipH="1">
              <a:off x="5520960" y="2850120"/>
              <a:ext cx="1554120" cy="88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62"/>
            <p:cNvGrpSpPr/>
            <p:nvPr/>
          </p:nvGrpSpPr>
          <p:grpSpPr>
            <a:xfrm>
              <a:off x="5508720" y="1916280"/>
              <a:ext cx="1727280" cy="611280"/>
              <a:chOff x="5508720" y="1916280"/>
              <a:chExt cx="1727280" cy="611280"/>
            </a:xfrm>
          </p:grpSpPr>
          <p:sp>
            <p:nvSpPr>
              <p:cNvPr id="106" name="Line 63"/>
              <p:cNvSpPr/>
              <p:nvPr/>
            </p:nvSpPr>
            <p:spPr>
              <a:xfrm>
                <a:off x="5585760" y="2526480"/>
                <a:ext cx="164988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64"/>
              <p:cNvSpPr/>
              <p:nvPr/>
            </p:nvSpPr>
            <p:spPr>
              <a:xfrm>
                <a:off x="5508720" y="1916280"/>
                <a:ext cx="172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       </a:t>
                </a: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20 : 2 = 110  ( км / ч )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 УД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0 – 60 = 50  ( км / ч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твет : 50  километров  в 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324000" y="2349360"/>
            <a:ext cx="8424720" cy="2763360"/>
            <a:chOff x="324000" y="2349360"/>
            <a:chExt cx="8424720" cy="2763360"/>
          </a:xfrm>
        </p:grpSpPr>
        <p:grpSp>
          <p:nvGrpSpPr>
            <p:cNvPr id="112" name="Group 5"/>
            <p:cNvGrpSpPr/>
            <p:nvPr/>
          </p:nvGrpSpPr>
          <p:grpSpPr>
            <a:xfrm>
              <a:off x="324000" y="2349360"/>
              <a:ext cx="8424720" cy="2087640"/>
              <a:chOff x="324000" y="2349360"/>
              <a:chExt cx="8424720" cy="2087640"/>
            </a:xfrm>
          </p:grpSpPr>
          <p:sp>
            <p:nvSpPr>
              <p:cNvPr id="113" name="Rectangle 6"/>
              <p:cNvSpPr/>
              <p:nvPr/>
            </p:nvSpPr>
            <p:spPr>
              <a:xfrm flipH="1">
                <a:off x="324000" y="3501720"/>
                <a:ext cx="8424720" cy="144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4716720" y="2349360"/>
                <a:ext cx="504720" cy="1152360"/>
                <a:chOff x="4716720" y="2349360"/>
                <a:chExt cx="504720" cy="1152360"/>
              </a:xfrm>
            </p:grpSpPr>
            <p:sp>
              <p:nvSpPr>
                <p:cNvPr id="115" name="Line 8"/>
                <p:cNvSpPr/>
                <p:nvPr/>
              </p:nvSpPr>
              <p:spPr>
                <a:xfrm flipH="1">
                  <a:off x="5220000" y="2706480"/>
                  <a:ext cx="1440" cy="79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9"/>
                <p:cNvSpPr/>
                <p:nvPr/>
              </p:nvSpPr>
              <p:spPr>
                <a:xfrm rot="16200000">
                  <a:off x="4716720" y="2349360"/>
                  <a:ext cx="504720" cy="504720"/>
                </a:xfrm>
                <a:prstGeom prst="rtTriangle">
                  <a:avLst/>
                </a:prstGeom>
                <a:solidFill>
                  <a:srgbClr val="ff33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10"/>
              <p:cNvSpPr/>
              <p:nvPr/>
            </p:nvSpPr>
            <p:spPr>
              <a:xfrm flipH="1" rot="16200000">
                <a:off x="4141080" y="-170280"/>
                <a:ext cx="790560" cy="8424720"/>
              </a:xfrm>
              <a:custGeom>
                <a:avLst/>
                <a:gdLst>
                  <a:gd name="textAreaLeft" fmla="*/ 360 w 790560"/>
                  <a:gd name="textAreaRight" fmla="*/ 285840 w 790560"/>
                  <a:gd name="textAreaTop" fmla="*/ 219600 h 8424720"/>
                  <a:gd name="textAreaBottom" fmla="*/ 8205120 h 842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 Box 11"/>
            <p:cNvSpPr/>
            <p:nvPr/>
          </p:nvSpPr>
          <p:spPr>
            <a:xfrm flipH="1">
              <a:off x="3278160" y="465300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220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4"/>
          <p:cNvSpPr/>
          <p:nvPr/>
        </p:nvSpPr>
        <p:spPr>
          <a:xfrm>
            <a:off x="1908000" y="5373720"/>
            <a:ext cx="72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з  какое  время  расстояние                                                     станет  равным  220  км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5"/>
          <p:cNvGrpSpPr/>
          <p:nvPr/>
        </p:nvGrpSpPr>
        <p:grpSpPr>
          <a:xfrm>
            <a:off x="2484000" y="1628640"/>
            <a:ext cx="2390760" cy="1839960"/>
            <a:chOff x="2484000" y="1628640"/>
            <a:chExt cx="2390760" cy="1839960"/>
          </a:xfrm>
        </p:grpSpPr>
        <p:pic>
          <p:nvPicPr>
            <p:cNvPr id="121" name="Picture 16" descr="j0212957"/>
            <p:cNvPicPr/>
            <p:nvPr/>
          </p:nvPicPr>
          <p:blipFill>
            <a:blip r:embed="rId1"/>
            <a:stretch/>
          </p:blipFill>
          <p:spPr>
            <a:xfrm>
              <a:off x="3385440" y="2549520"/>
              <a:ext cx="120240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17"/>
            <p:cNvSpPr/>
            <p:nvPr/>
          </p:nvSpPr>
          <p:spPr>
            <a:xfrm flipH="1">
              <a:off x="2484000" y="2268360"/>
              <a:ext cx="2043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3374280" y="162864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60  км / 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4"/>
          <p:cNvGrpSpPr/>
          <p:nvPr/>
        </p:nvGrpSpPr>
        <p:grpSpPr>
          <a:xfrm>
            <a:off x="5508720" y="1628640"/>
            <a:ext cx="1727280" cy="1822680"/>
            <a:chOff x="5508720" y="1628640"/>
            <a:chExt cx="1727280" cy="1822680"/>
          </a:xfrm>
        </p:grpSpPr>
        <p:pic>
          <p:nvPicPr>
            <p:cNvPr id="125" name="Picture 25" descr="j0212957"/>
            <p:cNvPicPr/>
            <p:nvPr/>
          </p:nvPicPr>
          <p:blipFill>
            <a:blip r:embed="rId2"/>
            <a:stretch/>
          </p:blipFill>
          <p:spPr>
            <a:xfrm flipH="1">
              <a:off x="5520960" y="2562840"/>
              <a:ext cx="1554120" cy="88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26"/>
            <p:cNvGrpSpPr/>
            <p:nvPr/>
          </p:nvGrpSpPr>
          <p:grpSpPr>
            <a:xfrm>
              <a:off x="5508720" y="1628640"/>
              <a:ext cx="1727280" cy="611280"/>
              <a:chOff x="5508720" y="1628640"/>
              <a:chExt cx="1727280" cy="611280"/>
            </a:xfrm>
          </p:grpSpPr>
          <p:sp>
            <p:nvSpPr>
              <p:cNvPr id="127" name="Line 27"/>
              <p:cNvSpPr/>
              <p:nvPr/>
            </p:nvSpPr>
            <p:spPr>
              <a:xfrm>
                <a:off x="5585760" y="2238840"/>
                <a:ext cx="164988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28"/>
              <p:cNvSpPr/>
              <p:nvPr/>
            </p:nvSpPr>
            <p:spPr>
              <a:xfrm>
                <a:off x="5508720" y="1628640"/>
                <a:ext cx="172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50  км / 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0 + 50 = 110  ( км / ч )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 УД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20 : 110 = 2 ( ч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твет : через  2  ча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1214280" y="500040"/>
            <a:ext cx="684864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85880" y="2500200"/>
            <a:ext cx="7429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900igr.net/kartinki/rastenija-i-griby/V-sadu.files/021-Ulitk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kart.net/stock/reptiles/tortoises/spider_tortoise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jili-bili.ru/img.php?p=32353&amp;g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atvijasdaba.lv/ziditaji/sistematiskais-raditajs/leporida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rum.materinstvo.ru/lofiversion/index.php/%3C/t113335-450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freepik.com/free-photos-vectors/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atyana-chulan.ucoz.ru/forum/8-13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ция картинок 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улитка.jpg"/>
          <p:cNvPicPr/>
          <p:nvPr/>
        </p:nvPicPr>
        <p:blipFill>
          <a:blip r:embed="rId1"/>
          <a:stretch/>
        </p:blipFill>
        <p:spPr>
          <a:xfrm>
            <a:off x="714240" y="571680"/>
            <a:ext cx="1857600" cy="1538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928800" y="2571840"/>
            <a:ext cx="7143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итка ползёт со скорость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м/ч. Какое расстояние она преодолеет за 4 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643120" y="5143680"/>
            <a:ext cx="42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 ∙ 4 = 20 (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12 -0.00741 L 0.61111 -0.00741 E">
                                      <p:cBhvr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черепаха.jpg"/>
          <p:cNvPicPr/>
          <p:nvPr/>
        </p:nvPicPr>
        <p:blipFill>
          <a:blip r:embed="rId1"/>
          <a:stretch/>
        </p:blipFill>
        <p:spPr>
          <a:xfrm>
            <a:off x="6429240" y="714240"/>
            <a:ext cx="2148120" cy="1203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000080" y="22147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паха за 10 мин проползёт 40 м. С какой скоростью ползёт черепах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214720" y="4643280"/>
            <a:ext cx="585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0 : 10 = 4 (м/мин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61 -0.00695 L -0.63542 -0.00695 E">
                                      <p:cBhvr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верблюд.jpg"/>
          <p:cNvPicPr/>
          <p:nvPr/>
        </p:nvPicPr>
        <p:blipFill>
          <a:blip r:embed="rId1"/>
          <a:stretch/>
        </p:blipFill>
        <p:spPr>
          <a:xfrm>
            <a:off x="6500880" y="714240"/>
            <a:ext cx="1857240" cy="1749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42960" y="27860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блюд передвигается по пустыне со скоростью 9 км/ч. За какое время он пройдёт 54 к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286080" y="500076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4 : 9 = 6 (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91 -0.00463 L -0.60382 -0.00463 E">
                                      <p:cBhvr>
                                        <p:cTn id="4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заяц.jpeg"/>
          <p:cNvPicPr/>
          <p:nvPr/>
        </p:nvPicPr>
        <p:blipFill>
          <a:blip r:embed="rId1"/>
          <a:stretch/>
        </p:blipFill>
        <p:spPr>
          <a:xfrm>
            <a:off x="785880" y="857160"/>
            <a:ext cx="1701720" cy="121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785880" y="23572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яц за 3 ч пробегает 72 км. С какой скоростью бежит заяц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000160" y="4214880"/>
            <a:ext cx="557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2 : 3 = 24 (км/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60452 0.00301 E">
                                      <p:cBhvr>
                                        <p:cTn id="6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голубь.png"/>
          <p:cNvPicPr/>
          <p:nvPr/>
        </p:nvPicPr>
        <p:blipFill>
          <a:blip r:embed="rId1"/>
          <a:stretch/>
        </p:blipFill>
        <p:spPr>
          <a:xfrm>
            <a:off x="928800" y="642960"/>
            <a:ext cx="1214280" cy="1643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642960" y="25718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убь летит со скорость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0  км/ч. Какое расстояние пролетит  голубь за 6 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286000" y="4929120"/>
            <a:ext cx="542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50 ∙ 6 = 300 (к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924 0.00301 E">
                                      <p:cBhvr>
                                        <p:cTn id="7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орел.jpg"/>
          <p:cNvPicPr/>
          <p:nvPr/>
        </p:nvPicPr>
        <p:blipFill>
          <a:blip r:embed="rId1"/>
          <a:stretch/>
        </p:blipFill>
        <p:spPr>
          <a:xfrm>
            <a:off x="6715080" y="642960"/>
            <a:ext cx="163044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785880" y="271476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ёл летит со скоростью       30 м/с. За какое время он пролетит 270 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071800" y="5000760"/>
            <a:ext cx="56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70 : 30 = 9 (с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05 -0.00231 L -0.64636 -0.00231 E">
                                      <p:cBhvr>
                                        <p:cTn id="90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4000" y="2781000"/>
            <a:ext cx="8424720" cy="2692080"/>
            <a:chOff x="324000" y="2781000"/>
            <a:chExt cx="8424720" cy="2692080"/>
          </a:xfrm>
        </p:grpSpPr>
        <p:grpSp>
          <p:nvGrpSpPr>
            <p:cNvPr id="63" name="Group 5"/>
            <p:cNvGrpSpPr/>
            <p:nvPr/>
          </p:nvGrpSpPr>
          <p:grpSpPr>
            <a:xfrm>
              <a:off x="324000" y="2781000"/>
              <a:ext cx="8424720" cy="2087280"/>
              <a:chOff x="324000" y="2781000"/>
              <a:chExt cx="8424720" cy="2087280"/>
            </a:xfrm>
          </p:grpSpPr>
          <p:grpSp>
            <p:nvGrpSpPr>
              <p:cNvPr id="64" name="Group 6"/>
              <p:cNvGrpSpPr/>
              <p:nvPr/>
            </p:nvGrpSpPr>
            <p:grpSpPr>
              <a:xfrm>
                <a:off x="324000" y="2781000"/>
                <a:ext cx="8424720" cy="2087280"/>
                <a:chOff x="324000" y="2781000"/>
                <a:chExt cx="8424720" cy="2087280"/>
              </a:xfrm>
            </p:grpSpPr>
            <p:sp>
              <p:nvSpPr>
                <p:cNvPr id="65" name="Rectangle 7"/>
                <p:cNvSpPr/>
                <p:nvPr/>
              </p:nvSpPr>
              <p:spPr>
                <a:xfrm flipH="1">
                  <a:off x="324000" y="3933360"/>
                  <a:ext cx="8424720" cy="144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" name="Group 8"/>
                <p:cNvGrpSpPr/>
                <p:nvPr/>
              </p:nvGrpSpPr>
              <p:grpSpPr>
                <a:xfrm>
                  <a:off x="4716720" y="2781000"/>
                  <a:ext cx="504720" cy="1152000"/>
                  <a:chOff x="4716720" y="2781000"/>
                  <a:chExt cx="504720" cy="1152000"/>
                </a:xfrm>
              </p:grpSpPr>
              <p:sp>
                <p:nvSpPr>
                  <p:cNvPr id="67" name="Line 9"/>
                  <p:cNvSpPr/>
                  <p:nvPr/>
                </p:nvSpPr>
                <p:spPr>
                  <a:xfrm flipH="1">
                    <a:off x="5220000" y="3138120"/>
                    <a:ext cx="1440" cy="79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10"/>
                  <p:cNvSpPr/>
                  <p:nvPr/>
                </p:nvSpPr>
                <p:spPr>
                  <a:xfrm rot="16200000">
                    <a:off x="4716720" y="2780640"/>
                    <a:ext cx="504360" cy="504720"/>
                  </a:xfrm>
                  <a:prstGeom prst="rtTriangle">
                    <a:avLst/>
                  </a:prstGeom>
                  <a:solidFill>
                    <a:srgbClr val="ff33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AutoShape 11"/>
                <p:cNvSpPr/>
                <p:nvPr/>
              </p:nvSpPr>
              <p:spPr>
                <a:xfrm flipH="1" rot="16200000">
                  <a:off x="4141080" y="260640"/>
                  <a:ext cx="790200" cy="8424720"/>
                </a:xfrm>
                <a:custGeom>
                  <a:avLst/>
                  <a:gdLst>
                    <a:gd name="textAreaLeft" fmla="*/ 0 w 790200"/>
                    <a:gd name="textAreaRight" fmla="*/ 285480 w 790200"/>
                    <a:gd name="textAreaTop" fmla="*/ 219600 h 8424720"/>
                    <a:gd name="textAreaBottom" fmla="*/ 8205120 h 8424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Line 12"/>
              <p:cNvSpPr/>
              <p:nvPr/>
            </p:nvSpPr>
            <p:spPr>
              <a:xfrm>
                <a:off x="7021800" y="3644640"/>
                <a:ext cx="0" cy="576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3"/>
              <p:cNvSpPr/>
              <p:nvPr/>
            </p:nvSpPr>
            <p:spPr>
              <a:xfrm>
                <a:off x="2916360" y="3644640"/>
                <a:ext cx="0" cy="576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14"/>
            <p:cNvSpPr/>
            <p:nvPr/>
          </p:nvSpPr>
          <p:spPr>
            <a:xfrm flipH="1">
              <a:off x="3852720" y="501336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4"/>
          <p:cNvSpPr/>
          <p:nvPr/>
        </p:nvSpPr>
        <p:spPr>
          <a:xfrm>
            <a:off x="684360" y="551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йти  расстояние  между                             автомобилями  через  2  ча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6"/>
          <p:cNvGrpSpPr/>
          <p:nvPr/>
        </p:nvGrpSpPr>
        <p:grpSpPr>
          <a:xfrm>
            <a:off x="2771640" y="1989000"/>
            <a:ext cx="2481840" cy="1839960"/>
            <a:chOff x="2771640" y="1989000"/>
            <a:chExt cx="2481840" cy="1839960"/>
          </a:xfrm>
        </p:grpSpPr>
        <p:pic>
          <p:nvPicPr>
            <p:cNvPr id="75" name="Picture 27" descr="j0212957"/>
            <p:cNvPicPr/>
            <p:nvPr/>
          </p:nvPicPr>
          <p:blipFill>
            <a:blip r:embed="rId1"/>
            <a:stretch/>
          </p:blipFill>
          <p:spPr>
            <a:xfrm>
              <a:off x="3765240" y="2909880"/>
              <a:ext cx="1325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28"/>
            <p:cNvSpPr/>
            <p:nvPr/>
          </p:nvSpPr>
          <p:spPr>
            <a:xfrm flipH="1">
              <a:off x="2771640" y="2628720"/>
              <a:ext cx="22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3753000" y="19890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60  км / 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0"/>
          <p:cNvGrpSpPr/>
          <p:nvPr/>
        </p:nvGrpSpPr>
        <p:grpSpPr>
          <a:xfrm>
            <a:off x="5364000" y="1989000"/>
            <a:ext cx="1727280" cy="1822680"/>
            <a:chOff x="5364000" y="1989000"/>
            <a:chExt cx="1727280" cy="1822680"/>
          </a:xfrm>
        </p:grpSpPr>
        <p:pic>
          <p:nvPicPr>
            <p:cNvPr id="79" name="Picture 31" descr="j0212957"/>
            <p:cNvPicPr/>
            <p:nvPr/>
          </p:nvPicPr>
          <p:blipFill>
            <a:blip r:embed="rId2"/>
            <a:stretch/>
          </p:blipFill>
          <p:spPr>
            <a:xfrm flipH="1">
              <a:off x="5376240" y="2923200"/>
              <a:ext cx="1554120" cy="88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Group 32"/>
            <p:cNvGrpSpPr/>
            <p:nvPr/>
          </p:nvGrpSpPr>
          <p:grpSpPr>
            <a:xfrm>
              <a:off x="5364000" y="1989000"/>
              <a:ext cx="1727280" cy="611280"/>
              <a:chOff x="5364000" y="1989000"/>
              <a:chExt cx="1727280" cy="611280"/>
            </a:xfrm>
          </p:grpSpPr>
          <p:sp>
            <p:nvSpPr>
              <p:cNvPr id="81" name="Line 33"/>
              <p:cNvSpPr/>
              <p:nvPr/>
            </p:nvSpPr>
            <p:spPr>
              <a:xfrm>
                <a:off x="5441040" y="2599200"/>
                <a:ext cx="164988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4"/>
              <p:cNvSpPr/>
              <p:nvPr/>
            </p:nvSpPr>
            <p:spPr>
              <a:xfrm>
                <a:off x="5364000" y="1989000"/>
                <a:ext cx="172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50  км / 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ВИЖ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ТИВОПОЛО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60 + 50 = 110  ( км / ч )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 УД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10 х 2 = 220  ( км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твет : 220  километ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8:17:05Z</dcterms:created>
  <dc:creator>XTreme</dc:creator>
  <dc:description/>
  <dc:language>en-US</dc:language>
  <cp:lastModifiedBy>User</cp:lastModifiedBy>
  <dcterms:modified xsi:type="dcterms:W3CDTF">2011-11-08T19:57:08Z</dcterms:modified>
  <cp:revision>22</cp:revision>
  <dc:subject/>
  <dc:title>Слайд 1</dc:title>
</cp:coreProperties>
</file>