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4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12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2.wmf" ContentType="image/x-wmf"/>
  <Override PartName="/ppt/media/image23.jpeg" ContentType="image/jpeg"/>
  <Override PartName="/ppt/media/image1.wmf" ContentType="image/x-wmf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media/image10.jpeg" ContentType="image/jpe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1DE-0EDC-4D67-A50D-60E45A3D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677-3B9D-4690-9EF3-97553FCC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115-3CD6-435A-92CE-9C642451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23C-BF5F-4DCC-8F9C-737477B5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6F79-5474-4AB3-82B8-79004FEF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AB53-39A9-4F70-A603-BFE76AC9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3E4-F92B-4CDE-9553-B754F6A0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4968-C6DC-4630-AD2E-92E75E84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7537-C13A-47AE-B93D-B321EF0D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CB50-D689-48CA-BB03-B2C7FED5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94CF-772A-4E36-A472-2DD3329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3CB-DC94-4ABA-99CB-7546F872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9D63-1835-4A0D-87B4-020477D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FA8A-A621-4040-8560-A34F76A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D57A-4E1C-4870-9FCB-B987D9F9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E585-7D4E-4C2D-8D60-9870FF2B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09BA-1CF4-45FB-93E5-08F461A8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431-075A-4919-925E-3BF0F5B9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48E-AEF4-4D4E-8813-5BE6414E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A40-0BD4-4E68-98E6-4EB11D0C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C0A-E628-46B0-B781-BF6A6F30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DF7-0A46-4EFB-B3A3-9B94586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868-D29B-4495-A276-963F10D6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F69-A8FF-473F-82E6-1861AF2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C61A-72B0-43C1-8A7E-7A5AE844BC5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4EB2-D855-41F1-B249-A8D24111621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7.png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743200"/>
            <a:ext cx="8004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УРО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АТЕМАТИ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20574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980400" y="1523880"/>
            <a:ext cx="1554120" cy="1295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504040" y="1523880"/>
            <a:ext cx="1554120" cy="1295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948120" y="1523880"/>
            <a:ext cx="1555920" cy="1295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394000" y="1523880"/>
            <a:ext cx="1554120" cy="1295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762120" y="1523880"/>
            <a:ext cx="155412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5029200" y="304920"/>
            <a:ext cx="3124080" cy="914400"/>
            <a:chOff x="5029200" y="304920"/>
            <a:chExt cx="3124080" cy="914400"/>
          </a:xfrm>
        </p:grpSpPr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5029200" y="3049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7"/>
            <a:stretch/>
          </p:blipFill>
          <p:spPr>
            <a:xfrm>
              <a:off x="7238880" y="3049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8"/>
            <a:stretch/>
          </p:blipFill>
          <p:spPr>
            <a:xfrm>
              <a:off x="6172200" y="30492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457200" y="3200400"/>
            <a:ext cx="2814480" cy="327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90720" y="380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00"/>
                </a:solidFill>
                <a:uFillTx/>
                <a:latin typeface="Comic Sans MS"/>
              </a:rPr>
              <a:t>РИСУН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2971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00"/>
                </a:solidFill>
                <a:uFillTx/>
                <a:latin typeface="Comic Sans MS"/>
              </a:rPr>
              <a:t>СХ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352680" y="3886200"/>
            <a:ext cx="5028840" cy="2514600"/>
            <a:chOff x="3352680" y="3886200"/>
            <a:chExt cx="5028840" cy="2514600"/>
          </a:xfrm>
        </p:grpSpPr>
        <p:sp>
          <p:nvSpPr>
            <p:cNvPr id="246" name=""/>
            <p:cNvSpPr/>
            <p:nvPr/>
          </p:nvSpPr>
          <p:spPr>
            <a:xfrm>
              <a:off x="3352680" y="3886200"/>
              <a:ext cx="502884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545280" y="4755960"/>
              <a:ext cx="4448160" cy="772920"/>
              <a:chOff x="3545280" y="4755960"/>
              <a:chExt cx="4448160" cy="772920"/>
            </a:xfrm>
          </p:grpSpPr>
          <p:sp>
            <p:nvSpPr>
              <p:cNvPr id="248" name=""/>
              <p:cNvSpPr/>
              <p:nvPr/>
            </p:nvSpPr>
            <p:spPr>
              <a:xfrm>
                <a:off x="3545280" y="5239080"/>
                <a:ext cx="4448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46520" y="5046120"/>
                <a:ext cx="0" cy="4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5527800" y="2773080"/>
                <a:ext cx="482760" cy="4448160"/>
              </a:xfrm>
              <a:custGeom>
                <a:avLst/>
                <a:gdLst>
                  <a:gd name="textAreaLeft" fmla="*/ 0 w 482760"/>
                  <a:gd name="textAreaRight" fmla="*/ 338760 w 482760"/>
                  <a:gd name="textAreaTop" fmla="*/ 185040 h 4448160"/>
                  <a:gd name="textAreaBottom" fmla="*/ 4263120 h 444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7024320" y="5433840"/>
              <a:ext cx="478800" cy="586080"/>
            </a:xfrm>
            <a:prstGeom prst="rect">
              <a:avLst/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47400" y="4038480"/>
              <a:ext cx="535320" cy="621000"/>
            </a:xfrm>
            <a:prstGeom prst="rect">
              <a:avLst/>
            </a:prstGeom>
            <a:solidFill>
              <a:srgbClr val="cccc66"/>
            </a:solidFill>
            <a:ln w="9360">
              <a:solidFill>
                <a:srgbClr val="99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69000" y="5410080"/>
              <a:ext cx="478800" cy="586080"/>
            </a:xfrm>
            <a:prstGeom prst="rect">
              <a:avLst/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38080" y="685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600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6094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 + 3 = 8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( г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5238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 горшочков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33520" y="2514600"/>
            <a:ext cx="3165480" cy="4114800"/>
          </a:xfrm>
          <a:prstGeom prst="rect">
            <a:avLst/>
          </a:prstGeom>
          <a:ln w="76320">
            <a:solidFill>
              <a:srgbClr val="9999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391520" y="5334120"/>
            <a:ext cx="1554120" cy="1295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638680" y="5257800"/>
            <a:ext cx="1554120" cy="1295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3809880" y="5181480"/>
            <a:ext cx="1555920" cy="1295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1554120" cy="12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4648320" y="3809880"/>
            <a:ext cx="155412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4800600" y="2743200"/>
            <a:ext cx="3124080" cy="914400"/>
            <a:chOff x="4800600" y="2743200"/>
            <a:chExt cx="3124080" cy="914400"/>
          </a:xfrm>
        </p:grpSpPr>
        <p:pic>
          <p:nvPicPr>
            <p:cNvPr id="265" name="" descr=""/>
            <p:cNvPicPr/>
            <p:nvPr/>
          </p:nvPicPr>
          <p:blipFill>
            <a:blip r:embed="rId7"/>
            <a:stretch/>
          </p:blipFill>
          <p:spPr>
            <a:xfrm>
              <a:off x="4800600" y="27432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8"/>
            <a:stretch/>
          </p:blipFill>
          <p:spPr>
            <a:xfrm>
              <a:off x="7010280" y="27432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9"/>
            <a:stretch/>
          </p:blipFill>
          <p:spPr>
            <a:xfrm>
              <a:off x="5943600" y="2743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"/>
          <p:cNvSpPr/>
          <p:nvPr/>
        </p:nvSpPr>
        <p:spPr>
          <a:xfrm>
            <a:off x="533520" y="228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80880" y="228600"/>
            <a:ext cx="8229600" cy="6445080"/>
            <a:chOff x="380880" y="228600"/>
            <a:chExt cx="8229600" cy="644508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4648320" y="3048120"/>
              <a:ext cx="3962160" cy="3625560"/>
            </a:xfrm>
            <a:prstGeom prst="rect">
              <a:avLst/>
            </a:prstGeom>
            <a:ln w="76320">
              <a:solidFill>
                <a:srgbClr val="999900"/>
              </a:solidFill>
              <a:miter/>
            </a:ln>
          </p:spPr>
        </p:pic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4724640" cy="2598840"/>
            </a:xfrm>
            <a:prstGeom prst="rect">
              <a:avLst/>
            </a:prstGeom>
            <a:ln w="76320">
              <a:solidFill>
                <a:srgbClr val="999900"/>
              </a:solidFill>
              <a:miter/>
            </a:ln>
          </p:spPr>
        </p:pic>
        <p:grpSp>
          <p:nvGrpSpPr>
            <p:cNvPr id="272" name=""/>
            <p:cNvGrpSpPr/>
            <p:nvPr/>
          </p:nvGrpSpPr>
          <p:grpSpPr>
            <a:xfrm>
              <a:off x="380880" y="3124080"/>
              <a:ext cx="5029200" cy="3505320"/>
              <a:chOff x="380880" y="3124080"/>
              <a:chExt cx="5029200" cy="3505320"/>
            </a:xfrm>
          </p:grpSpPr>
          <p:pic>
            <p:nvPicPr>
              <p:cNvPr id="2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124080"/>
                <a:ext cx="3260880" cy="3505320"/>
              </a:xfrm>
              <a:prstGeom prst="rect">
                <a:avLst/>
              </a:prstGeom>
              <a:ln w="76320">
                <a:solidFill>
                  <a:srgbClr val="999900"/>
                </a:solidFill>
                <a:miter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3429000" y="3124080"/>
                <a:ext cx="1981080" cy="1143000"/>
              </a:xfrm>
              <a:prstGeom prst="wedgeRoundRectCallout">
                <a:avLst>
                  <a:gd name="adj1" fmla="val -71472"/>
                  <a:gd name="adj2" fmla="val 21388"/>
                  <a:gd name="adj3" fmla="val 16667"/>
                </a:avLst>
              </a:prstGeom>
              <a:solidFill>
                <a:srgbClr val="ffff99"/>
              </a:solidFill>
              <a:ln w="76320">
                <a:solidFill>
                  <a:srgbClr val="99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Comic Sans MS"/>
                  </a:rPr>
                  <a:t>Знай меру!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6095880" y="1981080"/>
            <a:ext cx="2819520" cy="1752840"/>
          </a:xfrm>
          <a:prstGeom prst="wedgeRoundRectCallout">
            <a:avLst>
              <a:gd name="adj1" fmla="val -16162"/>
              <a:gd name="adj2" fmla="val 83606"/>
              <a:gd name="adj3" fmla="val 16667"/>
            </a:avLst>
          </a:prstGeom>
          <a:solidFill>
            <a:srgbClr val="ffff99"/>
          </a:solidFill>
          <a:ln w="7632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Не ленись, делай зарядк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609480"/>
            <a:ext cx="3505320" cy="990720"/>
          </a:xfrm>
          <a:prstGeom prst="wedgeRoundRectCallout">
            <a:avLst>
              <a:gd name="adj1" fmla="val -70152"/>
              <a:gd name="adj2" fmla="val 26282"/>
              <a:gd name="adj3" fmla="val 16667"/>
            </a:avLst>
          </a:prstGeom>
          <a:solidFill>
            <a:srgbClr val="ffff99"/>
          </a:solidFill>
          <a:ln w="7632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Больше двигай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5035680" cy="6553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3657600" y="137160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РЯД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114800" y="3875040"/>
            <a:ext cx="1219320" cy="447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352680" y="5216400"/>
            <a:ext cx="2667240" cy="52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ДВЕЖА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18860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rcRect l="36001" t="2504" r="28007" b="12507"/>
          <a:stretch/>
        </p:blipFill>
        <p:spPr>
          <a:xfrm>
            <a:off x="838080" y="2590920"/>
            <a:ext cx="2178000" cy="4114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1751" t="4626" r="3502" b="2707"/>
          <a:stretch/>
        </p:blipFill>
        <p:spPr>
          <a:xfrm>
            <a:off x="4495680" y="3436920"/>
            <a:ext cx="4419720" cy="3274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638680" y="1676520"/>
            <a:ext cx="2819520" cy="1752480"/>
          </a:xfrm>
          <a:prstGeom prst="wedgeEllipseCallout">
            <a:avLst>
              <a:gd name="adj1" fmla="val 8837"/>
              <a:gd name="adj2" fmla="val 1205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ТО ЖЕ ПОДАРИТЬДР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304920"/>
            <a:ext cx="3886200" cy="1752480"/>
          </a:xfrm>
          <a:prstGeom prst="wedgeEllipseCallout">
            <a:avLst>
              <a:gd name="adj1" fmla="val -30597"/>
              <a:gd name="adj2" fmla="val 145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ДАРОК ДОЛЖЕН БЫТЬ НЕОБЫЧН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3276720" y="4952880"/>
            <a:ext cx="106668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14400" y="3733920"/>
            <a:ext cx="7467480" cy="533160"/>
          </a:xfrm>
          <a:custGeom>
            <a:avLst/>
            <a:gdLst>
              <a:gd name="textAreaLeft" fmla="*/ 0 w 7467480"/>
              <a:gd name="textAreaRight" fmla="*/ 7467840 w 7467480"/>
              <a:gd name="textAreaTop" fmla="*/ 69120 h 533160"/>
              <a:gd name="textAreaBottom" fmla="*/ 464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2895480"/>
            <a:ext cx="2133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ПЯ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36001" t="2504" r="28007" b="19783"/>
          <a:stretch/>
        </p:blipFill>
        <p:spPr>
          <a:xfrm>
            <a:off x="1295280" y="152280"/>
            <a:ext cx="1411560" cy="2438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rcRect l="1751" t="4626" r="3502" b="2707"/>
          <a:stretch/>
        </p:blipFill>
        <p:spPr>
          <a:xfrm>
            <a:off x="5562720" y="304920"/>
            <a:ext cx="3047760" cy="2259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14400" y="4724280"/>
            <a:ext cx="7467480" cy="533520"/>
          </a:xfrm>
          <a:custGeom>
            <a:avLst/>
            <a:gdLst>
              <a:gd name="textAreaLeft" fmla="*/ 0 w 7467480"/>
              <a:gd name="textAreaRight" fmla="*/ 7467840 w 746748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5715000"/>
            <a:ext cx="7467480" cy="533520"/>
          </a:xfrm>
          <a:custGeom>
            <a:avLst/>
            <a:gdLst>
              <a:gd name="textAreaLeft" fmla="*/ 0 w 7467480"/>
              <a:gd name="textAreaRight" fmla="*/ 7467840 w 746748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6765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1676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.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2895480"/>
            <a:ext cx="2133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2819520"/>
            <a:ext cx="21337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2057400"/>
            <a:ext cx="45720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67480" y="1676520"/>
            <a:ext cx="45720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2819520"/>
            <a:ext cx="45720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2409840" cy="3504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744560" cy="3809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rcRect l="66669" t="60373" r="8890" b="7039"/>
          <a:stretch/>
        </p:blipFill>
        <p:spPr>
          <a:xfrm>
            <a:off x="3733920" y="34290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СТАРИННЫЕ МЕРЫ ДЛИНЫ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838080"/>
            <a:ext cx="1600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ПЯ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838080"/>
            <a:ext cx="19047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ЛОК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838080"/>
            <a:ext cx="19047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ДЮЙ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4372 L 0.35416 0.288 E">
                                      <p:cBhvr>
                                        <p:cTn id="274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4372 L 0.35417 0.12145 E">
                                      <p:cBhvr>
                                        <p:cTn id="27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167 0.16655 E">
                                      <p:cBhvr>
                                        <p:cTn id="27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rcRect l="36001" t="2504" r="28007" b="27011"/>
          <a:stretch/>
        </p:blipFill>
        <p:spPr>
          <a:xfrm>
            <a:off x="609480" y="4038480"/>
            <a:ext cx="1654200" cy="2590920"/>
          </a:xfrm>
          <a:prstGeom prst="rect">
            <a:avLst/>
          </a:prstGeom>
          <a:ln w="76320">
            <a:solidFill>
              <a:srgbClr val="9999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rcRect l="12779" t="4626" r="3502" b="2707"/>
          <a:stretch/>
        </p:blipFill>
        <p:spPr>
          <a:xfrm>
            <a:off x="5867280" y="4114800"/>
            <a:ext cx="2895840" cy="2428920"/>
          </a:xfrm>
          <a:prstGeom prst="rect">
            <a:avLst/>
          </a:prstGeom>
          <a:ln w="76320">
            <a:solidFill>
              <a:srgbClr val="999900"/>
            </a:solidFill>
            <a:miter/>
          </a:ln>
        </p:spPr>
      </p:pic>
      <p:sp>
        <p:nvSpPr>
          <p:cNvPr id="309" name=""/>
          <p:cNvSpPr/>
          <p:nvPr/>
        </p:nvSpPr>
        <p:spPr>
          <a:xfrm>
            <a:off x="3200400" y="2590920"/>
            <a:ext cx="21337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ПЯ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rcRect l="66669" t="60373" r="8890" b="7039"/>
          <a:stretch/>
        </p:blipFill>
        <p:spPr>
          <a:xfrm>
            <a:off x="2971800" y="3657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04920" y="3276720"/>
            <a:ext cx="21333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3352680"/>
            <a:ext cx="2133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3402000">
            <a:off x="2630520" y="2706840"/>
            <a:ext cx="342720" cy="1218960"/>
          </a:xfrm>
          <a:prstGeom prst="upArrow">
            <a:avLst>
              <a:gd name="adj1" fmla="val 50000"/>
              <a:gd name="adj2" fmla="val 889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8637200">
            <a:off x="5505480" y="2723760"/>
            <a:ext cx="343080" cy="1295280"/>
          </a:xfrm>
          <a:prstGeom prst="upArrow">
            <a:avLst>
              <a:gd name="adj1" fmla="val 50000"/>
              <a:gd name="adj2" fmla="val 943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533520"/>
            <a:ext cx="8153280" cy="1752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ЕМЬ ПЯДЕЙ ВО ЛБ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1673280" cy="2057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895480" y="1752480"/>
            <a:ext cx="56390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ВЫБОР ПОДА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952880"/>
            <a:ext cx="56386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1480" y="3276720"/>
            <a:ext cx="914400" cy="1523880"/>
          </a:xfrm>
          <a:prstGeom prst="upDownArrow">
            <a:avLst>
              <a:gd name="adj1" fmla="val 50000"/>
              <a:gd name="adj2" fmla="val 33176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2133720" cy="1771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3520" y="304920"/>
            <a:ext cx="8229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ПОДВЕДЁМ ИТОГ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248160" cy="5442120"/>
          </a:xfrm>
          <a:prstGeom prst="rect">
            <a:avLst/>
          </a:prstGeom>
          <a:ln w="9360">
            <a:solidFill>
              <a:srgbClr val="999900"/>
            </a:solidFill>
            <a:miter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ДЕРЕВО ЖЕЛАН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 rot="15394800">
            <a:off x="457920" y="1904040"/>
            <a:ext cx="776160" cy="990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 rot="15394800">
            <a:off x="488160" y="3321720"/>
            <a:ext cx="776160" cy="990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 rot="15394800">
            <a:off x="488160" y="4998240"/>
            <a:ext cx="776160" cy="990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 rot="3645600">
            <a:off x="7955280" y="1721880"/>
            <a:ext cx="776160" cy="990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6"/>
          <a:stretch/>
        </p:blipFill>
        <p:spPr>
          <a:xfrm rot="3801600">
            <a:off x="7955280" y="3398040"/>
            <a:ext cx="776160" cy="990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7"/>
          <a:stretch/>
        </p:blipFill>
        <p:spPr>
          <a:xfrm rot="3940200">
            <a:off x="7955280" y="5074200"/>
            <a:ext cx="7765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ГОСТИ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52388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0481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Garamond"/>
              </a:rPr>
              <a:t>ПРАЗДНИ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4572000"/>
            <a:ext cx="7391520" cy="1752480"/>
            <a:chOff x="914400" y="4572000"/>
            <a:chExt cx="7391520" cy="17524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914400" y="4724280"/>
              <a:ext cx="13017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6705720" y="4724280"/>
              <a:ext cx="1600200" cy="14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4648320" y="4648320"/>
              <a:ext cx="176040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2666880" y="4572000"/>
              <a:ext cx="15829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733920" cy="54100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ОЦЕНИ СЕБЯ САМ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010200" cy="65534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7772400" y="762120"/>
            <a:ext cx="1152360" cy="5533920"/>
            <a:chOff x="7772400" y="762120"/>
            <a:chExt cx="1152360" cy="5533920"/>
          </a:xfrm>
        </p:grpSpPr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>
              <a:off x="7924680" y="762120"/>
              <a:ext cx="771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4"/>
            <a:stretch/>
          </p:blipFill>
          <p:spPr>
            <a:xfrm>
              <a:off x="7772400" y="3048120"/>
              <a:ext cx="771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5"/>
            <a:stretch/>
          </p:blipFill>
          <p:spPr>
            <a:xfrm>
              <a:off x="8153280" y="1905120"/>
              <a:ext cx="771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6"/>
            <a:stretch/>
          </p:blipFill>
          <p:spPr>
            <a:xfrm>
              <a:off x="8153280" y="4191120"/>
              <a:ext cx="771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7"/>
            <a:stretch/>
          </p:blipFill>
          <p:spPr>
            <a:xfrm>
              <a:off x="7848720" y="5562720"/>
              <a:ext cx="771480" cy="7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304560" y="685800"/>
            <a:ext cx="1152360" cy="5533920"/>
            <a:chOff x="304560" y="685800"/>
            <a:chExt cx="1152360" cy="5533920"/>
          </a:xfrm>
        </p:grpSpPr>
        <p:pic>
          <p:nvPicPr>
            <p:cNvPr id="341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533160" y="5486400"/>
              <a:ext cx="771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85440" y="3200400"/>
              <a:ext cx="771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304560" y="4343400"/>
              <a:ext cx="771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04560" y="2057400"/>
              <a:ext cx="771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9120" y="685440"/>
              <a:ext cx="771480" cy="73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233942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80880" y="34596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4386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419720" y="457200"/>
          <a:ext cx="4114800" cy="700200"/>
        </p:xfrm>
        <a:graphic>
          <a:graphicData uri="http://schemas.openxmlformats.org/drawingml/2006/table">
            <a:tbl>
              <a:tblPr/>
              <a:tblGrid>
                <a:gridCol w="588960"/>
                <a:gridCol w="587520"/>
                <a:gridCol w="587520"/>
                <a:gridCol w="587160"/>
                <a:gridCol w="588960"/>
                <a:gridCol w="587520"/>
                <a:gridCol w="587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" y="457200"/>
          <a:ext cx="3527280" cy="700200"/>
        </p:xfrm>
        <a:graphic>
          <a:graphicData uri="http://schemas.openxmlformats.org/drawingml/2006/table">
            <a:tbl>
              <a:tblPr/>
              <a:tblGrid>
                <a:gridCol w="588600"/>
                <a:gridCol w="587520"/>
                <a:gridCol w="587520"/>
                <a:gridCol w="587160"/>
                <a:gridCol w="588960"/>
                <a:gridCol w="587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1134720" y="1968120"/>
            <a:ext cx="4901040" cy="1046520"/>
            <a:chOff x="1134720" y="1968120"/>
            <a:chExt cx="4901040" cy="1046520"/>
          </a:xfrm>
        </p:grpSpPr>
        <p:sp>
          <p:nvSpPr>
            <p:cNvPr id="103" name=""/>
            <p:cNvSpPr/>
            <p:nvPr/>
          </p:nvSpPr>
          <p:spPr>
            <a:xfrm rot="342600">
              <a:off x="1231560" y="2336040"/>
              <a:ext cx="4790160" cy="258480"/>
            </a:xfrm>
            <a:custGeom>
              <a:avLst/>
              <a:gdLst>
                <a:gd name="textAreaLeft" fmla="*/ 0 w 4790160"/>
                <a:gd name="textAreaRight" fmla="*/ 4790520 w 4790160"/>
                <a:gd name="textAreaTop" fmla="*/ 33480 h 258480"/>
                <a:gd name="textAreaBottom" fmla="*/ 225000 h 25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342600">
              <a:off x="1157760" y="1987920"/>
              <a:ext cx="427320" cy="4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342600">
              <a:off x="2435040" y="2115720"/>
              <a:ext cx="427320" cy="48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342600">
              <a:off x="3796200" y="2251800"/>
              <a:ext cx="427320" cy="4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342600">
              <a:off x="5583600" y="2507040"/>
              <a:ext cx="428760" cy="48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676520" y="533520"/>
            <a:ext cx="457200" cy="533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533520"/>
            <a:ext cx="457200" cy="533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01000" y="533520"/>
            <a:ext cx="457200" cy="533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9480" y="3352680"/>
            <a:ext cx="5257440" cy="565200"/>
            <a:chOff x="609480" y="3352680"/>
            <a:chExt cx="5257440" cy="565200"/>
          </a:xfrm>
        </p:grpSpPr>
        <p:sp>
          <p:nvSpPr>
            <p:cNvPr id="112" name=""/>
            <p:cNvSpPr/>
            <p:nvPr/>
          </p:nvSpPr>
          <p:spPr>
            <a:xfrm>
              <a:off x="609480" y="3504960"/>
              <a:ext cx="5257440" cy="304920"/>
            </a:xfrm>
            <a:custGeom>
              <a:avLst/>
              <a:gdLst>
                <a:gd name="textAreaLeft" fmla="*/ 0 w 5257440"/>
                <a:gd name="textAreaRight" fmla="*/ 5257800 w 525744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05080" y="3428640"/>
              <a:ext cx="861840" cy="48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V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53480" y="3352680"/>
              <a:ext cx="430920" cy="48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3428640"/>
              <a:ext cx="603360" cy="48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I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2240" y="3352680"/>
              <a:ext cx="6033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895480" y="533520"/>
            <a:ext cx="457200" cy="533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533520"/>
            <a:ext cx="457200" cy="533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" y="4449960"/>
            <a:ext cx="6032880" cy="610200"/>
            <a:chOff x="375120" y="4449960"/>
            <a:chExt cx="6032880" cy="610200"/>
          </a:xfrm>
        </p:grpSpPr>
        <p:sp>
          <p:nvSpPr>
            <p:cNvPr id="120" name=""/>
            <p:cNvSpPr/>
            <p:nvPr/>
          </p:nvSpPr>
          <p:spPr>
            <a:xfrm rot="21477600">
              <a:off x="465840" y="4592520"/>
              <a:ext cx="5933520" cy="295200"/>
            </a:xfrm>
            <a:custGeom>
              <a:avLst/>
              <a:gdLst>
                <a:gd name="textAreaLeft" fmla="*/ 0 w 5933520"/>
                <a:gd name="textAreaRight" fmla="*/ 5933880 w 5933520"/>
                <a:gd name="textAreaTop" fmla="*/ 38160 h 295200"/>
                <a:gd name="textAreaBottom" fmla="*/ 257040 h 2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477600">
              <a:off x="381960" y="4644720"/>
              <a:ext cx="429840" cy="40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77600">
              <a:off x="2271600" y="4528080"/>
              <a:ext cx="4298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1477600">
              <a:off x="3907080" y="4531320"/>
              <a:ext cx="430200" cy="4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477600">
              <a:off x="5969520" y="4457520"/>
              <a:ext cx="430200" cy="4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029200" y="533520"/>
            <a:ext cx="533520" cy="533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5640" y="5140080"/>
            <a:ext cx="7551000" cy="1331640"/>
            <a:chOff x="305640" y="5140080"/>
            <a:chExt cx="7551000" cy="1331640"/>
          </a:xfrm>
        </p:grpSpPr>
        <p:sp>
          <p:nvSpPr>
            <p:cNvPr id="127" name=""/>
            <p:cNvSpPr/>
            <p:nvPr/>
          </p:nvSpPr>
          <p:spPr>
            <a:xfrm rot="21213000">
              <a:off x="457560" y="5604120"/>
              <a:ext cx="7315200" cy="334800"/>
            </a:xfrm>
            <a:custGeom>
              <a:avLst/>
              <a:gdLst>
                <a:gd name="textAreaLeft" fmla="*/ 0 w 7315200"/>
                <a:gd name="textAreaRight" fmla="*/ 7315560 w 7315200"/>
                <a:gd name="textAreaTop" fmla="*/ 43200 h 334800"/>
                <a:gd name="textAreaBottom" fmla="*/ 291600 h 33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213000">
              <a:off x="7373160" y="5164200"/>
              <a:ext cx="457200" cy="48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1213000">
              <a:off x="330840" y="5951880"/>
              <a:ext cx="60948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1213000">
              <a:off x="1988280" y="5687640"/>
              <a:ext cx="609480" cy="4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1213000">
              <a:off x="5706720" y="5343840"/>
              <a:ext cx="609840" cy="4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1213000">
              <a:off x="3805560" y="5482080"/>
              <a:ext cx="609480" cy="4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33520" y="533520"/>
            <a:ext cx="457200" cy="533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26318" t="21431" r="21066" b="32146"/>
          <a:stretch/>
        </p:blipFill>
        <p:spPr>
          <a:xfrm>
            <a:off x="2133720" y="1523880"/>
            <a:ext cx="5181480" cy="4988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6" name=""/>
          <p:cNvSpPr/>
          <p:nvPr/>
        </p:nvSpPr>
        <p:spPr>
          <a:xfrm>
            <a:off x="1676520" y="380880"/>
            <a:ext cx="5867280" cy="990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Мистер Санде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19926000">
            <a:off x="1143000" y="4571640"/>
            <a:ext cx="171468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 rot="1283400">
            <a:off x="6400440" y="4800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1216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248520" cy="504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90920" y="380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ННИ-ПУ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304920"/>
            <a:ext cx="80773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 ОКТЯБРЯ 1926 ГОД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ЛОНДОНЕ НАПЕЧАТАНА ПЕРВАЯ КНИГА (2011 год - 8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733560" cy="345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АН МИ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3038400" cy="3657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57150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2259000" cy="3289320"/>
          </a:xfrm>
          <a:prstGeom prst="rect">
            <a:avLst/>
          </a:prstGeom>
          <a:ln w="7632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920960" cy="2361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95480" y="914400"/>
            <a:ext cx="56390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ВЫБОР ПОДА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4419720"/>
            <a:ext cx="56386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590920"/>
            <a:ext cx="914400" cy="1523880"/>
          </a:xfrm>
          <a:prstGeom prst="upDownArrow">
            <a:avLst>
              <a:gd name="adj1" fmla="val 50000"/>
              <a:gd name="adj2" fmla="val 33176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21337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533520" y="304920"/>
            <a:ext cx="7924680" cy="5022720"/>
            <a:chOff x="533520" y="304920"/>
            <a:chExt cx="7924680" cy="5022720"/>
          </a:xfrm>
        </p:grpSpPr>
        <p:grpSp>
          <p:nvGrpSpPr>
            <p:cNvPr id="155" name=""/>
            <p:cNvGrpSpPr/>
            <p:nvPr/>
          </p:nvGrpSpPr>
          <p:grpSpPr>
            <a:xfrm>
              <a:off x="533520" y="457200"/>
              <a:ext cx="1828440" cy="2422440"/>
              <a:chOff x="533520" y="457200"/>
              <a:chExt cx="1828440" cy="242244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533520" y="457200"/>
                <a:ext cx="1828440" cy="1904760"/>
                <a:chOff x="533520" y="457200"/>
                <a:chExt cx="1828440" cy="1904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33520" y="457200"/>
                  <a:ext cx="1828440" cy="173160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8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29760" y="2015640"/>
                  <a:ext cx="435240" cy="34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1297080" y="2124000"/>
                <a:ext cx="419040" cy="755640"/>
              </a:xfrm>
              <a:custGeom>
                <a:avLst/>
                <a:gdLst/>
                <a:ahLst/>
                <a:rect l="l" t="t" r="r" b="b"/>
                <a:pathLst>
                  <a:path w="264" h="476">
                    <a:moveTo>
                      <a:pt x="161" y="43"/>
                    </a:moveTo>
                    <a:cubicBezTo>
                      <a:pt x="146" y="18"/>
                      <a:pt x="134" y="11"/>
                      <a:pt x="107" y="2"/>
                    </a:cubicBezTo>
                    <a:cubicBezTo>
                      <a:pt x="75" y="4"/>
                      <a:pt x="42" y="0"/>
                      <a:pt x="12" y="9"/>
                    </a:cubicBezTo>
                    <a:cubicBezTo>
                      <a:pt x="0" y="13"/>
                      <a:pt x="26" y="35"/>
                      <a:pt x="39" y="36"/>
                    </a:cubicBezTo>
                    <a:cubicBezTo>
                      <a:pt x="77" y="40"/>
                      <a:pt x="116" y="41"/>
                      <a:pt x="154" y="43"/>
                    </a:cubicBezTo>
                    <a:cubicBezTo>
                      <a:pt x="168" y="45"/>
                      <a:pt x="182" y="44"/>
                      <a:pt x="195" y="49"/>
                    </a:cubicBezTo>
                    <a:cubicBezTo>
                      <a:pt x="210" y="55"/>
                      <a:pt x="236" y="77"/>
                      <a:pt x="236" y="77"/>
                    </a:cubicBezTo>
                    <a:cubicBezTo>
                      <a:pt x="255" y="106"/>
                      <a:pt x="257" y="123"/>
                      <a:pt x="263" y="158"/>
                    </a:cubicBezTo>
                    <a:cubicBezTo>
                      <a:pt x="261" y="190"/>
                      <a:pt x="264" y="222"/>
                      <a:pt x="256" y="253"/>
                    </a:cubicBezTo>
                    <a:cubicBezTo>
                      <a:pt x="247" y="289"/>
                      <a:pt x="186" y="350"/>
                      <a:pt x="154" y="361"/>
                    </a:cubicBezTo>
                    <a:cubicBezTo>
                      <a:pt x="147" y="368"/>
                      <a:pt x="141" y="376"/>
                      <a:pt x="134" y="382"/>
                    </a:cubicBezTo>
                    <a:cubicBezTo>
                      <a:pt x="128" y="387"/>
                      <a:pt x="116" y="387"/>
                      <a:pt x="114" y="395"/>
                    </a:cubicBezTo>
                    <a:cubicBezTo>
                      <a:pt x="110" y="413"/>
                      <a:pt x="116" y="431"/>
                      <a:pt x="120" y="449"/>
                    </a:cubicBezTo>
                    <a:cubicBezTo>
                      <a:pt x="122" y="459"/>
                      <a:pt x="134" y="476"/>
                      <a:pt x="134" y="47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858000" y="304920"/>
              <a:ext cx="1600200" cy="2203200"/>
              <a:chOff x="6858000" y="304920"/>
              <a:chExt cx="1600200" cy="220320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6858000" y="304920"/>
                <a:ext cx="1600200" cy="1675800"/>
                <a:chOff x="6858000" y="304920"/>
                <a:chExt cx="1600200" cy="16758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858000" y="304920"/>
                  <a:ext cx="1600200" cy="1523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467480" y="1676160"/>
                  <a:ext cx="38088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467840" y="1752480"/>
                <a:ext cx="419040" cy="755640"/>
              </a:xfrm>
              <a:custGeom>
                <a:avLst/>
                <a:gdLst/>
                <a:ahLst/>
                <a:rect l="l" t="t" r="r" b="b"/>
                <a:pathLst>
                  <a:path w="264" h="476">
                    <a:moveTo>
                      <a:pt x="161" y="43"/>
                    </a:moveTo>
                    <a:cubicBezTo>
                      <a:pt x="146" y="18"/>
                      <a:pt x="134" y="11"/>
                      <a:pt x="107" y="2"/>
                    </a:cubicBezTo>
                    <a:cubicBezTo>
                      <a:pt x="75" y="4"/>
                      <a:pt x="42" y="0"/>
                      <a:pt x="12" y="9"/>
                    </a:cubicBezTo>
                    <a:cubicBezTo>
                      <a:pt x="0" y="13"/>
                      <a:pt x="26" y="35"/>
                      <a:pt x="39" y="36"/>
                    </a:cubicBezTo>
                    <a:cubicBezTo>
                      <a:pt x="77" y="40"/>
                      <a:pt x="116" y="41"/>
                      <a:pt x="154" y="43"/>
                    </a:cubicBezTo>
                    <a:cubicBezTo>
                      <a:pt x="168" y="45"/>
                      <a:pt x="182" y="44"/>
                      <a:pt x="195" y="49"/>
                    </a:cubicBezTo>
                    <a:cubicBezTo>
                      <a:pt x="210" y="55"/>
                      <a:pt x="236" y="77"/>
                      <a:pt x="236" y="77"/>
                    </a:cubicBezTo>
                    <a:cubicBezTo>
                      <a:pt x="255" y="106"/>
                      <a:pt x="257" y="123"/>
                      <a:pt x="263" y="158"/>
                    </a:cubicBezTo>
                    <a:cubicBezTo>
                      <a:pt x="261" y="190"/>
                      <a:pt x="264" y="222"/>
                      <a:pt x="256" y="253"/>
                    </a:cubicBezTo>
                    <a:cubicBezTo>
                      <a:pt x="247" y="289"/>
                      <a:pt x="186" y="350"/>
                      <a:pt x="154" y="361"/>
                    </a:cubicBezTo>
                    <a:cubicBezTo>
                      <a:pt x="147" y="368"/>
                      <a:pt x="141" y="376"/>
                      <a:pt x="134" y="382"/>
                    </a:cubicBezTo>
                    <a:cubicBezTo>
                      <a:pt x="128" y="387"/>
                      <a:pt x="116" y="387"/>
                      <a:pt x="114" y="395"/>
                    </a:cubicBezTo>
                    <a:cubicBezTo>
                      <a:pt x="110" y="413"/>
                      <a:pt x="116" y="431"/>
                      <a:pt x="120" y="449"/>
                    </a:cubicBezTo>
                    <a:cubicBezTo>
                      <a:pt x="122" y="459"/>
                      <a:pt x="134" y="476"/>
                      <a:pt x="134" y="47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209680" y="2438280"/>
              <a:ext cx="990360" cy="1670040"/>
              <a:chOff x="2209680" y="2438280"/>
              <a:chExt cx="990360" cy="16700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209680" y="2438280"/>
                <a:ext cx="990360" cy="1067040"/>
                <a:chOff x="2209680" y="2438280"/>
                <a:chExt cx="990360" cy="10670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209680" y="2438280"/>
                  <a:ext cx="990360" cy="969840"/>
                </a:xfrm>
                <a:prstGeom prst="ellips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Verdana"/>
                    </a:rPr>
                    <a:t>9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586600" y="3311280"/>
                  <a:ext cx="23544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2590560" y="3352680"/>
                <a:ext cx="419040" cy="755640"/>
              </a:xfrm>
              <a:custGeom>
                <a:avLst/>
                <a:gdLst/>
                <a:ahLst/>
                <a:rect l="l" t="t" r="r" b="b"/>
                <a:pathLst>
                  <a:path w="264" h="476">
                    <a:moveTo>
                      <a:pt x="161" y="43"/>
                    </a:moveTo>
                    <a:cubicBezTo>
                      <a:pt x="146" y="18"/>
                      <a:pt x="134" y="11"/>
                      <a:pt x="107" y="2"/>
                    </a:cubicBezTo>
                    <a:cubicBezTo>
                      <a:pt x="75" y="4"/>
                      <a:pt x="42" y="0"/>
                      <a:pt x="12" y="9"/>
                    </a:cubicBezTo>
                    <a:cubicBezTo>
                      <a:pt x="0" y="13"/>
                      <a:pt x="26" y="35"/>
                      <a:pt x="39" y="36"/>
                    </a:cubicBezTo>
                    <a:cubicBezTo>
                      <a:pt x="77" y="40"/>
                      <a:pt x="116" y="41"/>
                      <a:pt x="154" y="43"/>
                    </a:cubicBezTo>
                    <a:cubicBezTo>
                      <a:pt x="168" y="45"/>
                      <a:pt x="182" y="44"/>
                      <a:pt x="195" y="49"/>
                    </a:cubicBezTo>
                    <a:cubicBezTo>
                      <a:pt x="210" y="55"/>
                      <a:pt x="236" y="77"/>
                      <a:pt x="236" y="77"/>
                    </a:cubicBezTo>
                    <a:cubicBezTo>
                      <a:pt x="255" y="106"/>
                      <a:pt x="257" y="123"/>
                      <a:pt x="263" y="158"/>
                    </a:cubicBezTo>
                    <a:cubicBezTo>
                      <a:pt x="261" y="190"/>
                      <a:pt x="264" y="222"/>
                      <a:pt x="256" y="253"/>
                    </a:cubicBezTo>
                    <a:cubicBezTo>
                      <a:pt x="247" y="289"/>
                      <a:pt x="186" y="350"/>
                      <a:pt x="154" y="361"/>
                    </a:cubicBezTo>
                    <a:cubicBezTo>
                      <a:pt x="147" y="368"/>
                      <a:pt x="141" y="376"/>
                      <a:pt x="134" y="382"/>
                    </a:cubicBezTo>
                    <a:cubicBezTo>
                      <a:pt x="128" y="387"/>
                      <a:pt x="116" y="387"/>
                      <a:pt x="114" y="395"/>
                    </a:cubicBezTo>
                    <a:cubicBezTo>
                      <a:pt x="110" y="413"/>
                      <a:pt x="116" y="431"/>
                      <a:pt x="120" y="449"/>
                    </a:cubicBezTo>
                    <a:cubicBezTo>
                      <a:pt x="122" y="459"/>
                      <a:pt x="134" y="476"/>
                      <a:pt x="134" y="47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85800" y="3352680"/>
              <a:ext cx="990720" cy="1670040"/>
              <a:chOff x="685800" y="3352680"/>
              <a:chExt cx="990720" cy="16700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685800" y="3352680"/>
                <a:ext cx="990720" cy="1066320"/>
                <a:chOff x="685800" y="3352680"/>
                <a:chExt cx="990720" cy="10663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85800" y="3352680"/>
                  <a:ext cx="990720" cy="96948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063080" y="4225320"/>
                  <a:ext cx="23580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6ff33"/>
                </a:solidFill>
                <a:ln w="936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066680" y="4267080"/>
                <a:ext cx="419400" cy="755640"/>
              </a:xfrm>
              <a:custGeom>
                <a:avLst/>
                <a:gdLst/>
                <a:ahLst/>
                <a:rect l="l" t="t" r="r" b="b"/>
                <a:pathLst>
                  <a:path w="264" h="476">
                    <a:moveTo>
                      <a:pt x="161" y="43"/>
                    </a:moveTo>
                    <a:cubicBezTo>
                      <a:pt x="146" y="18"/>
                      <a:pt x="134" y="11"/>
                      <a:pt x="107" y="2"/>
                    </a:cubicBezTo>
                    <a:cubicBezTo>
                      <a:pt x="75" y="4"/>
                      <a:pt x="42" y="0"/>
                      <a:pt x="12" y="9"/>
                    </a:cubicBezTo>
                    <a:cubicBezTo>
                      <a:pt x="0" y="13"/>
                      <a:pt x="26" y="35"/>
                      <a:pt x="39" y="36"/>
                    </a:cubicBezTo>
                    <a:cubicBezTo>
                      <a:pt x="77" y="40"/>
                      <a:pt x="116" y="41"/>
                      <a:pt x="154" y="43"/>
                    </a:cubicBezTo>
                    <a:cubicBezTo>
                      <a:pt x="168" y="45"/>
                      <a:pt x="182" y="44"/>
                      <a:pt x="195" y="49"/>
                    </a:cubicBezTo>
                    <a:cubicBezTo>
                      <a:pt x="210" y="55"/>
                      <a:pt x="236" y="77"/>
                      <a:pt x="236" y="77"/>
                    </a:cubicBezTo>
                    <a:cubicBezTo>
                      <a:pt x="255" y="106"/>
                      <a:pt x="257" y="123"/>
                      <a:pt x="263" y="158"/>
                    </a:cubicBezTo>
                    <a:cubicBezTo>
                      <a:pt x="261" y="190"/>
                      <a:pt x="264" y="222"/>
                      <a:pt x="256" y="253"/>
                    </a:cubicBezTo>
                    <a:cubicBezTo>
                      <a:pt x="247" y="289"/>
                      <a:pt x="186" y="350"/>
                      <a:pt x="154" y="361"/>
                    </a:cubicBezTo>
                    <a:cubicBezTo>
                      <a:pt x="147" y="368"/>
                      <a:pt x="141" y="376"/>
                      <a:pt x="134" y="382"/>
                    </a:cubicBezTo>
                    <a:cubicBezTo>
                      <a:pt x="128" y="387"/>
                      <a:pt x="116" y="387"/>
                      <a:pt x="114" y="395"/>
                    </a:cubicBezTo>
                    <a:cubicBezTo>
                      <a:pt x="110" y="413"/>
                      <a:pt x="116" y="431"/>
                      <a:pt x="120" y="449"/>
                    </a:cubicBezTo>
                    <a:cubicBezTo>
                      <a:pt x="122" y="459"/>
                      <a:pt x="134" y="476"/>
                      <a:pt x="134" y="47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38480" y="3352680"/>
              <a:ext cx="1218960" cy="1974960"/>
              <a:chOff x="4038480" y="3352680"/>
              <a:chExt cx="1218960" cy="19749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4038480" y="3352680"/>
                <a:ext cx="1218960" cy="1523880"/>
                <a:chOff x="4038480" y="3352680"/>
                <a:chExt cx="1218960" cy="15238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038480" y="3352680"/>
                  <a:ext cx="1218960" cy="1316160"/>
                </a:xfrm>
                <a:custGeom>
                  <a:avLst/>
                  <a:gdLst>
                    <a:gd name="textAreaLeft" fmla="*/ 286560 w 1218960"/>
                    <a:gd name="textAreaRight" fmla="*/ 931680 w 1218960"/>
                    <a:gd name="textAreaTop" fmla="*/ 154440 h 1316160"/>
                    <a:gd name="textAreaBottom" fmla="*/ 825480 h 131616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512600" y="4530240"/>
                  <a:ext cx="270720" cy="34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4495680" y="4572000"/>
                <a:ext cx="419040" cy="755640"/>
              </a:xfrm>
              <a:custGeom>
                <a:avLst/>
                <a:gdLst/>
                <a:ahLst/>
                <a:rect l="l" t="t" r="r" b="b"/>
                <a:pathLst>
                  <a:path w="264" h="476">
                    <a:moveTo>
                      <a:pt x="161" y="43"/>
                    </a:moveTo>
                    <a:cubicBezTo>
                      <a:pt x="146" y="18"/>
                      <a:pt x="134" y="11"/>
                      <a:pt x="107" y="2"/>
                    </a:cubicBezTo>
                    <a:cubicBezTo>
                      <a:pt x="75" y="4"/>
                      <a:pt x="42" y="0"/>
                      <a:pt x="12" y="9"/>
                    </a:cubicBezTo>
                    <a:cubicBezTo>
                      <a:pt x="0" y="13"/>
                      <a:pt x="26" y="35"/>
                      <a:pt x="39" y="36"/>
                    </a:cubicBezTo>
                    <a:cubicBezTo>
                      <a:pt x="77" y="40"/>
                      <a:pt x="116" y="41"/>
                      <a:pt x="154" y="43"/>
                    </a:cubicBezTo>
                    <a:cubicBezTo>
                      <a:pt x="168" y="45"/>
                      <a:pt x="182" y="44"/>
                      <a:pt x="195" y="49"/>
                    </a:cubicBezTo>
                    <a:cubicBezTo>
                      <a:pt x="210" y="55"/>
                      <a:pt x="236" y="77"/>
                      <a:pt x="236" y="77"/>
                    </a:cubicBezTo>
                    <a:cubicBezTo>
                      <a:pt x="255" y="106"/>
                      <a:pt x="257" y="123"/>
                      <a:pt x="263" y="158"/>
                    </a:cubicBezTo>
                    <a:cubicBezTo>
                      <a:pt x="261" y="190"/>
                      <a:pt x="264" y="222"/>
                      <a:pt x="256" y="253"/>
                    </a:cubicBezTo>
                    <a:cubicBezTo>
                      <a:pt x="247" y="289"/>
                      <a:pt x="186" y="350"/>
                      <a:pt x="154" y="361"/>
                    </a:cubicBezTo>
                    <a:cubicBezTo>
                      <a:pt x="147" y="368"/>
                      <a:pt x="141" y="376"/>
                      <a:pt x="134" y="382"/>
                    </a:cubicBezTo>
                    <a:cubicBezTo>
                      <a:pt x="128" y="387"/>
                      <a:pt x="116" y="387"/>
                      <a:pt x="114" y="395"/>
                    </a:cubicBezTo>
                    <a:cubicBezTo>
                      <a:pt x="110" y="413"/>
                      <a:pt x="116" y="431"/>
                      <a:pt x="120" y="449"/>
                    </a:cubicBezTo>
                    <a:cubicBezTo>
                      <a:pt x="122" y="459"/>
                      <a:pt x="134" y="476"/>
                      <a:pt x="134" y="47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429000" y="304920"/>
              <a:ext cx="990720" cy="3193560"/>
              <a:chOff x="3429000" y="304920"/>
              <a:chExt cx="990720" cy="31935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3429000" y="304920"/>
                <a:ext cx="990720" cy="2742120"/>
                <a:chOff x="3429000" y="304920"/>
                <a:chExt cx="990720" cy="2742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429000" y="304920"/>
                  <a:ext cx="990720" cy="249264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Verdana"/>
                    </a:rPr>
                    <a:t>7</a:t>
                  </a:r>
                  <a:endParaRPr b="0" lang="en-US" sz="7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806280" y="2548440"/>
                  <a:ext cx="235800" cy="49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3399"/>
                </a:solidFill>
                <a:ln w="936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733920" y="2743200"/>
                <a:ext cx="419040" cy="755280"/>
              </a:xfrm>
              <a:custGeom>
                <a:avLst/>
                <a:gdLst/>
                <a:ahLst/>
                <a:rect l="l" t="t" r="r" b="b"/>
                <a:pathLst>
                  <a:path w="264" h="476">
                    <a:moveTo>
                      <a:pt x="161" y="43"/>
                    </a:moveTo>
                    <a:cubicBezTo>
                      <a:pt x="146" y="18"/>
                      <a:pt x="134" y="11"/>
                      <a:pt x="107" y="2"/>
                    </a:cubicBezTo>
                    <a:cubicBezTo>
                      <a:pt x="75" y="4"/>
                      <a:pt x="42" y="0"/>
                      <a:pt x="12" y="9"/>
                    </a:cubicBezTo>
                    <a:cubicBezTo>
                      <a:pt x="0" y="13"/>
                      <a:pt x="26" y="35"/>
                      <a:pt x="39" y="36"/>
                    </a:cubicBezTo>
                    <a:cubicBezTo>
                      <a:pt x="77" y="40"/>
                      <a:pt x="116" y="41"/>
                      <a:pt x="154" y="43"/>
                    </a:cubicBezTo>
                    <a:cubicBezTo>
                      <a:pt x="168" y="45"/>
                      <a:pt x="182" y="44"/>
                      <a:pt x="195" y="49"/>
                    </a:cubicBezTo>
                    <a:cubicBezTo>
                      <a:pt x="210" y="55"/>
                      <a:pt x="236" y="77"/>
                      <a:pt x="236" y="77"/>
                    </a:cubicBezTo>
                    <a:cubicBezTo>
                      <a:pt x="255" y="106"/>
                      <a:pt x="257" y="123"/>
                      <a:pt x="263" y="158"/>
                    </a:cubicBezTo>
                    <a:cubicBezTo>
                      <a:pt x="261" y="190"/>
                      <a:pt x="264" y="222"/>
                      <a:pt x="256" y="253"/>
                    </a:cubicBezTo>
                    <a:cubicBezTo>
                      <a:pt x="247" y="289"/>
                      <a:pt x="186" y="350"/>
                      <a:pt x="154" y="361"/>
                    </a:cubicBezTo>
                    <a:cubicBezTo>
                      <a:pt x="147" y="368"/>
                      <a:pt x="141" y="376"/>
                      <a:pt x="134" y="382"/>
                    </a:cubicBezTo>
                    <a:cubicBezTo>
                      <a:pt x="128" y="387"/>
                      <a:pt x="116" y="387"/>
                      <a:pt x="114" y="395"/>
                    </a:cubicBezTo>
                    <a:cubicBezTo>
                      <a:pt x="110" y="413"/>
                      <a:pt x="116" y="431"/>
                      <a:pt x="120" y="449"/>
                    </a:cubicBezTo>
                    <a:cubicBezTo>
                      <a:pt x="122" y="459"/>
                      <a:pt x="134" y="476"/>
                      <a:pt x="134" y="47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648320" y="457200"/>
              <a:ext cx="1904760" cy="2819160"/>
              <a:chOff x="4648320" y="457200"/>
              <a:chExt cx="1904760" cy="28191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648320" y="457200"/>
                <a:ext cx="1904760" cy="2509920"/>
                <a:chOff x="4648320" y="457200"/>
                <a:chExt cx="1904760" cy="25099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494680" y="2505240"/>
                  <a:ext cx="217440" cy="461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648320" y="457200"/>
                  <a:ext cx="1904760" cy="2189160"/>
                </a:xfrm>
                <a:custGeom>
                  <a:avLst/>
                  <a:gdLst>
                    <a:gd name="textAreaLeft" fmla="*/ 447480 w 1904760"/>
                    <a:gd name="textAreaRight" fmla="*/ 1455840 w 1904760"/>
                    <a:gd name="textAreaTop" fmla="*/ 257400 h 2189160"/>
                    <a:gd name="textAreaBottom" fmla="*/ 1373040 h 218916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5494680" y="2576160"/>
                <a:ext cx="387720" cy="700200"/>
              </a:xfrm>
              <a:custGeom>
                <a:avLst/>
                <a:gdLst/>
                <a:ahLst/>
                <a:rect l="l" t="t" r="r" b="b"/>
                <a:pathLst>
                  <a:path w="264" h="476">
                    <a:moveTo>
                      <a:pt x="161" y="43"/>
                    </a:moveTo>
                    <a:cubicBezTo>
                      <a:pt x="146" y="18"/>
                      <a:pt x="134" y="11"/>
                      <a:pt x="107" y="2"/>
                    </a:cubicBezTo>
                    <a:cubicBezTo>
                      <a:pt x="75" y="4"/>
                      <a:pt x="42" y="0"/>
                      <a:pt x="12" y="9"/>
                    </a:cubicBezTo>
                    <a:cubicBezTo>
                      <a:pt x="0" y="13"/>
                      <a:pt x="26" y="35"/>
                      <a:pt x="39" y="36"/>
                    </a:cubicBezTo>
                    <a:cubicBezTo>
                      <a:pt x="77" y="40"/>
                      <a:pt x="116" y="41"/>
                      <a:pt x="154" y="43"/>
                    </a:cubicBezTo>
                    <a:cubicBezTo>
                      <a:pt x="168" y="45"/>
                      <a:pt x="182" y="44"/>
                      <a:pt x="195" y="49"/>
                    </a:cubicBezTo>
                    <a:cubicBezTo>
                      <a:pt x="210" y="55"/>
                      <a:pt x="236" y="77"/>
                      <a:pt x="236" y="77"/>
                    </a:cubicBezTo>
                    <a:cubicBezTo>
                      <a:pt x="255" y="106"/>
                      <a:pt x="257" y="123"/>
                      <a:pt x="263" y="158"/>
                    </a:cubicBezTo>
                    <a:cubicBezTo>
                      <a:pt x="261" y="190"/>
                      <a:pt x="264" y="222"/>
                      <a:pt x="256" y="253"/>
                    </a:cubicBezTo>
                    <a:cubicBezTo>
                      <a:pt x="247" y="289"/>
                      <a:pt x="186" y="350"/>
                      <a:pt x="154" y="361"/>
                    </a:cubicBezTo>
                    <a:cubicBezTo>
                      <a:pt x="147" y="368"/>
                      <a:pt x="141" y="376"/>
                      <a:pt x="134" y="382"/>
                    </a:cubicBezTo>
                    <a:cubicBezTo>
                      <a:pt x="128" y="387"/>
                      <a:pt x="116" y="387"/>
                      <a:pt x="114" y="395"/>
                    </a:cubicBezTo>
                    <a:cubicBezTo>
                      <a:pt x="110" y="413"/>
                      <a:pt x="116" y="431"/>
                      <a:pt x="120" y="449"/>
                    </a:cubicBezTo>
                    <a:cubicBezTo>
                      <a:pt x="122" y="459"/>
                      <a:pt x="134" y="476"/>
                      <a:pt x="134" y="47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12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5943600" y="1143000"/>
            <a:ext cx="2208960" cy="2971080"/>
            <a:chOff x="5943600" y="1143000"/>
            <a:chExt cx="2208960" cy="2971080"/>
          </a:xfrm>
        </p:grpSpPr>
        <p:grpSp>
          <p:nvGrpSpPr>
            <p:cNvPr id="191" name=""/>
            <p:cNvGrpSpPr/>
            <p:nvPr/>
          </p:nvGrpSpPr>
          <p:grpSpPr>
            <a:xfrm>
              <a:off x="5943600" y="1143000"/>
              <a:ext cx="2208960" cy="2336400"/>
              <a:chOff x="5943600" y="1143000"/>
              <a:chExt cx="2208960" cy="2336400"/>
            </a:xfrm>
          </p:grpSpPr>
          <p:sp>
            <p:nvSpPr>
              <p:cNvPr id="192" name=""/>
              <p:cNvSpPr/>
              <p:nvPr/>
            </p:nvSpPr>
            <p:spPr>
              <a:xfrm>
                <a:off x="5943600" y="1143000"/>
                <a:ext cx="2208960" cy="212364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4920" y="3054600"/>
                <a:ext cx="525600" cy="42480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865920" y="3187440"/>
              <a:ext cx="506160" cy="926640"/>
            </a:xfrm>
            <a:custGeom>
              <a:avLst/>
              <a:gdLst/>
              <a:ahLst/>
              <a:rect l="l" t="t" r="r" b="b"/>
              <a:pathLst>
                <a:path w="264" h="476">
                  <a:moveTo>
                    <a:pt x="161" y="43"/>
                  </a:moveTo>
                  <a:cubicBezTo>
                    <a:pt x="146" y="18"/>
                    <a:pt x="134" y="11"/>
                    <a:pt x="107" y="2"/>
                  </a:cubicBezTo>
                  <a:cubicBezTo>
                    <a:pt x="75" y="4"/>
                    <a:pt x="42" y="0"/>
                    <a:pt x="12" y="9"/>
                  </a:cubicBezTo>
                  <a:cubicBezTo>
                    <a:pt x="0" y="13"/>
                    <a:pt x="26" y="35"/>
                    <a:pt x="39" y="36"/>
                  </a:cubicBezTo>
                  <a:cubicBezTo>
                    <a:pt x="77" y="40"/>
                    <a:pt x="116" y="41"/>
                    <a:pt x="154" y="43"/>
                  </a:cubicBezTo>
                  <a:cubicBezTo>
                    <a:pt x="168" y="45"/>
                    <a:pt x="182" y="44"/>
                    <a:pt x="195" y="49"/>
                  </a:cubicBezTo>
                  <a:cubicBezTo>
                    <a:pt x="210" y="55"/>
                    <a:pt x="236" y="77"/>
                    <a:pt x="236" y="77"/>
                  </a:cubicBezTo>
                  <a:cubicBezTo>
                    <a:pt x="255" y="106"/>
                    <a:pt x="257" y="123"/>
                    <a:pt x="263" y="158"/>
                  </a:cubicBezTo>
                  <a:cubicBezTo>
                    <a:pt x="261" y="190"/>
                    <a:pt x="264" y="222"/>
                    <a:pt x="256" y="253"/>
                  </a:cubicBezTo>
                  <a:cubicBezTo>
                    <a:pt x="247" y="289"/>
                    <a:pt x="186" y="350"/>
                    <a:pt x="154" y="361"/>
                  </a:cubicBezTo>
                  <a:cubicBezTo>
                    <a:pt x="147" y="368"/>
                    <a:pt x="141" y="376"/>
                    <a:pt x="134" y="382"/>
                  </a:cubicBezTo>
                  <a:cubicBezTo>
                    <a:pt x="128" y="387"/>
                    <a:pt x="116" y="387"/>
                    <a:pt x="114" y="395"/>
                  </a:cubicBezTo>
                  <a:cubicBezTo>
                    <a:pt x="110" y="413"/>
                    <a:pt x="116" y="431"/>
                    <a:pt x="120" y="449"/>
                  </a:cubicBezTo>
                  <a:cubicBezTo>
                    <a:pt x="122" y="459"/>
                    <a:pt x="134" y="476"/>
                    <a:pt x="134" y="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228600"/>
            <a:ext cx="1600200" cy="2203200"/>
            <a:chOff x="4724280" y="228600"/>
            <a:chExt cx="1600200" cy="2203200"/>
          </a:xfrm>
        </p:grpSpPr>
        <p:grpSp>
          <p:nvGrpSpPr>
            <p:cNvPr id="196" name=""/>
            <p:cNvGrpSpPr/>
            <p:nvPr/>
          </p:nvGrpSpPr>
          <p:grpSpPr>
            <a:xfrm>
              <a:off x="4724280" y="228600"/>
              <a:ext cx="1600200" cy="1675800"/>
              <a:chOff x="4724280" y="228600"/>
              <a:chExt cx="1600200" cy="1675800"/>
            </a:xfrm>
          </p:grpSpPr>
          <p:sp>
            <p:nvSpPr>
              <p:cNvPr id="197" name=""/>
              <p:cNvSpPr/>
              <p:nvPr/>
            </p:nvSpPr>
            <p:spPr>
              <a:xfrm>
                <a:off x="4724280" y="228600"/>
                <a:ext cx="1600200" cy="1523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33760" y="1599840"/>
                <a:ext cx="3808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334120" y="1676160"/>
              <a:ext cx="419040" cy="755640"/>
            </a:xfrm>
            <a:custGeom>
              <a:avLst/>
              <a:gdLst/>
              <a:ahLst/>
              <a:rect l="l" t="t" r="r" b="b"/>
              <a:pathLst>
                <a:path w="264" h="476">
                  <a:moveTo>
                    <a:pt x="161" y="43"/>
                  </a:moveTo>
                  <a:cubicBezTo>
                    <a:pt x="146" y="18"/>
                    <a:pt x="134" y="11"/>
                    <a:pt x="107" y="2"/>
                  </a:cubicBezTo>
                  <a:cubicBezTo>
                    <a:pt x="75" y="4"/>
                    <a:pt x="42" y="0"/>
                    <a:pt x="12" y="9"/>
                  </a:cubicBezTo>
                  <a:cubicBezTo>
                    <a:pt x="0" y="13"/>
                    <a:pt x="26" y="35"/>
                    <a:pt x="39" y="36"/>
                  </a:cubicBezTo>
                  <a:cubicBezTo>
                    <a:pt x="77" y="40"/>
                    <a:pt x="116" y="41"/>
                    <a:pt x="154" y="43"/>
                  </a:cubicBezTo>
                  <a:cubicBezTo>
                    <a:pt x="168" y="45"/>
                    <a:pt x="182" y="44"/>
                    <a:pt x="195" y="49"/>
                  </a:cubicBezTo>
                  <a:cubicBezTo>
                    <a:pt x="210" y="55"/>
                    <a:pt x="236" y="77"/>
                    <a:pt x="236" y="77"/>
                  </a:cubicBezTo>
                  <a:cubicBezTo>
                    <a:pt x="255" y="106"/>
                    <a:pt x="257" y="123"/>
                    <a:pt x="263" y="158"/>
                  </a:cubicBezTo>
                  <a:cubicBezTo>
                    <a:pt x="261" y="190"/>
                    <a:pt x="264" y="222"/>
                    <a:pt x="256" y="253"/>
                  </a:cubicBezTo>
                  <a:cubicBezTo>
                    <a:pt x="247" y="289"/>
                    <a:pt x="186" y="350"/>
                    <a:pt x="154" y="361"/>
                  </a:cubicBezTo>
                  <a:cubicBezTo>
                    <a:pt x="147" y="368"/>
                    <a:pt x="141" y="376"/>
                    <a:pt x="134" y="382"/>
                  </a:cubicBezTo>
                  <a:cubicBezTo>
                    <a:pt x="128" y="387"/>
                    <a:pt x="116" y="387"/>
                    <a:pt x="114" y="395"/>
                  </a:cubicBezTo>
                  <a:cubicBezTo>
                    <a:pt x="110" y="413"/>
                    <a:pt x="116" y="431"/>
                    <a:pt x="120" y="449"/>
                  </a:cubicBezTo>
                  <a:cubicBezTo>
                    <a:pt x="122" y="459"/>
                    <a:pt x="134" y="476"/>
                    <a:pt x="134" y="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267080" y="1828800"/>
            <a:ext cx="914400" cy="1447560"/>
            <a:chOff x="4267080" y="1828800"/>
            <a:chExt cx="914400" cy="1447560"/>
          </a:xfrm>
        </p:grpSpPr>
        <p:grpSp>
          <p:nvGrpSpPr>
            <p:cNvPr id="201" name=""/>
            <p:cNvGrpSpPr/>
            <p:nvPr/>
          </p:nvGrpSpPr>
          <p:grpSpPr>
            <a:xfrm>
              <a:off x="4267080" y="1828800"/>
              <a:ext cx="914400" cy="924840"/>
              <a:chOff x="4267080" y="1828800"/>
              <a:chExt cx="914400" cy="924840"/>
            </a:xfrm>
          </p:grpSpPr>
          <p:sp>
            <p:nvSpPr>
              <p:cNvPr id="202" name=""/>
              <p:cNvSpPr/>
              <p:nvPr/>
            </p:nvSpPr>
            <p:spPr>
              <a:xfrm>
                <a:off x="4267080" y="1828800"/>
                <a:ext cx="914400" cy="84060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15200" y="2585520"/>
                <a:ext cx="217440" cy="16812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618440" y="2621520"/>
              <a:ext cx="386640" cy="654840"/>
            </a:xfrm>
            <a:custGeom>
              <a:avLst/>
              <a:gdLst/>
              <a:ahLst/>
              <a:rect l="l" t="t" r="r" b="b"/>
              <a:pathLst>
                <a:path w="264" h="476">
                  <a:moveTo>
                    <a:pt x="161" y="43"/>
                  </a:moveTo>
                  <a:cubicBezTo>
                    <a:pt x="146" y="18"/>
                    <a:pt x="134" y="11"/>
                    <a:pt x="107" y="2"/>
                  </a:cubicBezTo>
                  <a:cubicBezTo>
                    <a:pt x="75" y="4"/>
                    <a:pt x="42" y="0"/>
                    <a:pt x="12" y="9"/>
                  </a:cubicBezTo>
                  <a:cubicBezTo>
                    <a:pt x="0" y="13"/>
                    <a:pt x="26" y="35"/>
                    <a:pt x="39" y="36"/>
                  </a:cubicBezTo>
                  <a:cubicBezTo>
                    <a:pt x="77" y="40"/>
                    <a:pt x="116" y="41"/>
                    <a:pt x="154" y="43"/>
                  </a:cubicBezTo>
                  <a:cubicBezTo>
                    <a:pt x="168" y="45"/>
                    <a:pt x="182" y="44"/>
                    <a:pt x="195" y="49"/>
                  </a:cubicBezTo>
                  <a:cubicBezTo>
                    <a:pt x="210" y="55"/>
                    <a:pt x="236" y="77"/>
                    <a:pt x="236" y="77"/>
                  </a:cubicBezTo>
                  <a:cubicBezTo>
                    <a:pt x="255" y="106"/>
                    <a:pt x="257" y="123"/>
                    <a:pt x="263" y="158"/>
                  </a:cubicBezTo>
                  <a:cubicBezTo>
                    <a:pt x="261" y="190"/>
                    <a:pt x="264" y="222"/>
                    <a:pt x="256" y="253"/>
                  </a:cubicBezTo>
                  <a:cubicBezTo>
                    <a:pt x="247" y="289"/>
                    <a:pt x="186" y="350"/>
                    <a:pt x="154" y="361"/>
                  </a:cubicBezTo>
                  <a:cubicBezTo>
                    <a:pt x="147" y="368"/>
                    <a:pt x="141" y="376"/>
                    <a:pt x="134" y="382"/>
                  </a:cubicBezTo>
                  <a:cubicBezTo>
                    <a:pt x="128" y="387"/>
                    <a:pt x="116" y="387"/>
                    <a:pt x="114" y="395"/>
                  </a:cubicBezTo>
                  <a:cubicBezTo>
                    <a:pt x="110" y="413"/>
                    <a:pt x="116" y="431"/>
                    <a:pt x="120" y="449"/>
                  </a:cubicBezTo>
                  <a:cubicBezTo>
                    <a:pt x="122" y="459"/>
                    <a:pt x="134" y="476"/>
                    <a:pt x="134" y="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905120" y="2057400"/>
            <a:ext cx="990360" cy="1670040"/>
            <a:chOff x="1905120" y="2057400"/>
            <a:chExt cx="990360" cy="1670040"/>
          </a:xfrm>
        </p:grpSpPr>
        <p:grpSp>
          <p:nvGrpSpPr>
            <p:cNvPr id="206" name=""/>
            <p:cNvGrpSpPr/>
            <p:nvPr/>
          </p:nvGrpSpPr>
          <p:grpSpPr>
            <a:xfrm>
              <a:off x="1905120" y="2057400"/>
              <a:ext cx="990360" cy="1066320"/>
              <a:chOff x="1905120" y="2057400"/>
              <a:chExt cx="990360" cy="1066320"/>
            </a:xfrm>
          </p:grpSpPr>
          <p:sp>
            <p:nvSpPr>
              <p:cNvPr id="207" name=""/>
              <p:cNvSpPr/>
              <p:nvPr/>
            </p:nvSpPr>
            <p:spPr>
              <a:xfrm>
                <a:off x="1905120" y="2057400"/>
                <a:ext cx="990360" cy="96948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82040" y="2930040"/>
                <a:ext cx="235440" cy="193680"/>
              </a:xfrm>
              <a:prstGeom prst="triangle">
                <a:avLst>
                  <a:gd name="adj" fmla="val 50000"/>
                </a:avLst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285640" y="2971800"/>
              <a:ext cx="419040" cy="755640"/>
            </a:xfrm>
            <a:custGeom>
              <a:avLst/>
              <a:gdLst/>
              <a:ahLst/>
              <a:rect l="l" t="t" r="r" b="b"/>
              <a:pathLst>
                <a:path w="264" h="476">
                  <a:moveTo>
                    <a:pt x="161" y="43"/>
                  </a:moveTo>
                  <a:cubicBezTo>
                    <a:pt x="146" y="18"/>
                    <a:pt x="134" y="11"/>
                    <a:pt x="107" y="2"/>
                  </a:cubicBezTo>
                  <a:cubicBezTo>
                    <a:pt x="75" y="4"/>
                    <a:pt x="42" y="0"/>
                    <a:pt x="12" y="9"/>
                  </a:cubicBezTo>
                  <a:cubicBezTo>
                    <a:pt x="0" y="13"/>
                    <a:pt x="26" y="35"/>
                    <a:pt x="39" y="36"/>
                  </a:cubicBezTo>
                  <a:cubicBezTo>
                    <a:pt x="77" y="40"/>
                    <a:pt x="116" y="41"/>
                    <a:pt x="154" y="43"/>
                  </a:cubicBezTo>
                  <a:cubicBezTo>
                    <a:pt x="168" y="45"/>
                    <a:pt x="182" y="44"/>
                    <a:pt x="195" y="49"/>
                  </a:cubicBezTo>
                  <a:cubicBezTo>
                    <a:pt x="210" y="55"/>
                    <a:pt x="236" y="77"/>
                    <a:pt x="236" y="77"/>
                  </a:cubicBezTo>
                  <a:cubicBezTo>
                    <a:pt x="255" y="106"/>
                    <a:pt x="257" y="123"/>
                    <a:pt x="263" y="158"/>
                  </a:cubicBezTo>
                  <a:cubicBezTo>
                    <a:pt x="261" y="190"/>
                    <a:pt x="264" y="222"/>
                    <a:pt x="256" y="253"/>
                  </a:cubicBezTo>
                  <a:cubicBezTo>
                    <a:pt x="247" y="289"/>
                    <a:pt x="186" y="350"/>
                    <a:pt x="154" y="361"/>
                  </a:cubicBezTo>
                  <a:cubicBezTo>
                    <a:pt x="147" y="368"/>
                    <a:pt x="141" y="376"/>
                    <a:pt x="134" y="382"/>
                  </a:cubicBezTo>
                  <a:cubicBezTo>
                    <a:pt x="128" y="387"/>
                    <a:pt x="116" y="387"/>
                    <a:pt x="114" y="395"/>
                  </a:cubicBezTo>
                  <a:cubicBezTo>
                    <a:pt x="110" y="413"/>
                    <a:pt x="116" y="431"/>
                    <a:pt x="120" y="449"/>
                  </a:cubicBezTo>
                  <a:cubicBezTo>
                    <a:pt x="122" y="459"/>
                    <a:pt x="134" y="476"/>
                    <a:pt x="134" y="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543800" y="228600"/>
            <a:ext cx="1218960" cy="1974960"/>
            <a:chOff x="7543800" y="228600"/>
            <a:chExt cx="1218960" cy="1974960"/>
          </a:xfrm>
        </p:grpSpPr>
        <p:grpSp>
          <p:nvGrpSpPr>
            <p:cNvPr id="211" name=""/>
            <p:cNvGrpSpPr/>
            <p:nvPr/>
          </p:nvGrpSpPr>
          <p:grpSpPr>
            <a:xfrm>
              <a:off x="7543800" y="228600"/>
              <a:ext cx="1218960" cy="1523880"/>
              <a:chOff x="7543800" y="228600"/>
              <a:chExt cx="1218960" cy="1523880"/>
            </a:xfrm>
          </p:grpSpPr>
          <p:sp>
            <p:nvSpPr>
              <p:cNvPr id="212" name=""/>
              <p:cNvSpPr/>
              <p:nvPr/>
            </p:nvSpPr>
            <p:spPr>
              <a:xfrm>
                <a:off x="7543800" y="228600"/>
                <a:ext cx="1218960" cy="1316160"/>
              </a:xfrm>
              <a:custGeom>
                <a:avLst/>
                <a:gdLst>
                  <a:gd name="textAreaLeft" fmla="*/ 286560 w 1218960"/>
                  <a:gd name="textAreaRight" fmla="*/ 931680 w 1218960"/>
                  <a:gd name="textAreaTop" fmla="*/ 154440 h 1316160"/>
                  <a:gd name="textAreaBottom" fmla="*/ 825480 h 13161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017920" y="1406160"/>
                <a:ext cx="270720" cy="3463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8001000" y="1447920"/>
              <a:ext cx="419040" cy="755640"/>
            </a:xfrm>
            <a:custGeom>
              <a:avLst/>
              <a:gdLst/>
              <a:ahLst/>
              <a:rect l="l" t="t" r="r" b="b"/>
              <a:pathLst>
                <a:path w="264" h="476">
                  <a:moveTo>
                    <a:pt x="161" y="43"/>
                  </a:moveTo>
                  <a:cubicBezTo>
                    <a:pt x="146" y="18"/>
                    <a:pt x="134" y="11"/>
                    <a:pt x="107" y="2"/>
                  </a:cubicBezTo>
                  <a:cubicBezTo>
                    <a:pt x="75" y="4"/>
                    <a:pt x="42" y="0"/>
                    <a:pt x="12" y="9"/>
                  </a:cubicBezTo>
                  <a:cubicBezTo>
                    <a:pt x="0" y="13"/>
                    <a:pt x="26" y="35"/>
                    <a:pt x="39" y="36"/>
                  </a:cubicBezTo>
                  <a:cubicBezTo>
                    <a:pt x="77" y="40"/>
                    <a:pt x="116" y="41"/>
                    <a:pt x="154" y="43"/>
                  </a:cubicBezTo>
                  <a:cubicBezTo>
                    <a:pt x="168" y="45"/>
                    <a:pt x="182" y="44"/>
                    <a:pt x="195" y="49"/>
                  </a:cubicBezTo>
                  <a:cubicBezTo>
                    <a:pt x="210" y="55"/>
                    <a:pt x="236" y="77"/>
                    <a:pt x="236" y="77"/>
                  </a:cubicBezTo>
                  <a:cubicBezTo>
                    <a:pt x="255" y="106"/>
                    <a:pt x="257" y="123"/>
                    <a:pt x="263" y="158"/>
                  </a:cubicBezTo>
                  <a:cubicBezTo>
                    <a:pt x="261" y="190"/>
                    <a:pt x="264" y="222"/>
                    <a:pt x="256" y="253"/>
                  </a:cubicBezTo>
                  <a:cubicBezTo>
                    <a:pt x="247" y="289"/>
                    <a:pt x="186" y="350"/>
                    <a:pt x="154" y="361"/>
                  </a:cubicBezTo>
                  <a:cubicBezTo>
                    <a:pt x="147" y="368"/>
                    <a:pt x="141" y="376"/>
                    <a:pt x="134" y="382"/>
                  </a:cubicBezTo>
                  <a:cubicBezTo>
                    <a:pt x="128" y="387"/>
                    <a:pt x="116" y="387"/>
                    <a:pt x="114" y="395"/>
                  </a:cubicBezTo>
                  <a:cubicBezTo>
                    <a:pt x="110" y="413"/>
                    <a:pt x="116" y="431"/>
                    <a:pt x="120" y="449"/>
                  </a:cubicBezTo>
                  <a:cubicBezTo>
                    <a:pt x="122" y="459"/>
                    <a:pt x="134" y="476"/>
                    <a:pt x="134" y="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8120" y="533520"/>
            <a:ext cx="990360" cy="3193560"/>
            <a:chOff x="3048120" y="533520"/>
            <a:chExt cx="990360" cy="3193560"/>
          </a:xfrm>
        </p:grpSpPr>
        <p:grpSp>
          <p:nvGrpSpPr>
            <p:cNvPr id="216" name=""/>
            <p:cNvGrpSpPr/>
            <p:nvPr/>
          </p:nvGrpSpPr>
          <p:grpSpPr>
            <a:xfrm>
              <a:off x="3048120" y="533520"/>
              <a:ext cx="990360" cy="2742120"/>
              <a:chOff x="3048120" y="533520"/>
              <a:chExt cx="990360" cy="2742120"/>
            </a:xfrm>
          </p:grpSpPr>
          <p:sp>
            <p:nvSpPr>
              <p:cNvPr id="217" name=""/>
              <p:cNvSpPr/>
              <p:nvPr/>
            </p:nvSpPr>
            <p:spPr>
              <a:xfrm>
                <a:off x="3048120" y="533520"/>
                <a:ext cx="990360" cy="249264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425040" y="2777040"/>
                <a:ext cx="235440" cy="498600"/>
              </a:xfrm>
              <a:prstGeom prst="triangle">
                <a:avLst>
                  <a:gd name="adj" fmla="val 50000"/>
                </a:avLst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3352680" y="2971800"/>
              <a:ext cx="418680" cy="755280"/>
            </a:xfrm>
            <a:custGeom>
              <a:avLst/>
              <a:gdLst/>
              <a:ahLst/>
              <a:rect l="l" t="t" r="r" b="b"/>
              <a:pathLst>
                <a:path w="264" h="476">
                  <a:moveTo>
                    <a:pt x="161" y="43"/>
                  </a:moveTo>
                  <a:cubicBezTo>
                    <a:pt x="146" y="18"/>
                    <a:pt x="134" y="11"/>
                    <a:pt x="107" y="2"/>
                  </a:cubicBezTo>
                  <a:cubicBezTo>
                    <a:pt x="75" y="4"/>
                    <a:pt x="42" y="0"/>
                    <a:pt x="12" y="9"/>
                  </a:cubicBezTo>
                  <a:cubicBezTo>
                    <a:pt x="0" y="13"/>
                    <a:pt x="26" y="35"/>
                    <a:pt x="39" y="36"/>
                  </a:cubicBezTo>
                  <a:cubicBezTo>
                    <a:pt x="77" y="40"/>
                    <a:pt x="116" y="41"/>
                    <a:pt x="154" y="43"/>
                  </a:cubicBezTo>
                  <a:cubicBezTo>
                    <a:pt x="168" y="45"/>
                    <a:pt x="182" y="44"/>
                    <a:pt x="195" y="49"/>
                  </a:cubicBezTo>
                  <a:cubicBezTo>
                    <a:pt x="210" y="55"/>
                    <a:pt x="236" y="77"/>
                    <a:pt x="236" y="77"/>
                  </a:cubicBezTo>
                  <a:cubicBezTo>
                    <a:pt x="255" y="106"/>
                    <a:pt x="257" y="123"/>
                    <a:pt x="263" y="158"/>
                  </a:cubicBezTo>
                  <a:cubicBezTo>
                    <a:pt x="261" y="190"/>
                    <a:pt x="264" y="222"/>
                    <a:pt x="256" y="253"/>
                  </a:cubicBezTo>
                  <a:cubicBezTo>
                    <a:pt x="247" y="289"/>
                    <a:pt x="186" y="350"/>
                    <a:pt x="154" y="361"/>
                  </a:cubicBezTo>
                  <a:cubicBezTo>
                    <a:pt x="147" y="368"/>
                    <a:pt x="141" y="376"/>
                    <a:pt x="134" y="382"/>
                  </a:cubicBezTo>
                  <a:cubicBezTo>
                    <a:pt x="128" y="387"/>
                    <a:pt x="116" y="387"/>
                    <a:pt x="114" y="395"/>
                  </a:cubicBezTo>
                  <a:cubicBezTo>
                    <a:pt x="110" y="413"/>
                    <a:pt x="116" y="431"/>
                    <a:pt x="120" y="449"/>
                  </a:cubicBezTo>
                  <a:cubicBezTo>
                    <a:pt x="122" y="459"/>
                    <a:pt x="134" y="476"/>
                    <a:pt x="134" y="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80880" y="838080"/>
            <a:ext cx="1905120" cy="2819160"/>
            <a:chOff x="380880" y="838080"/>
            <a:chExt cx="1905120" cy="2819160"/>
          </a:xfrm>
        </p:grpSpPr>
        <p:grpSp>
          <p:nvGrpSpPr>
            <p:cNvPr id="221" name=""/>
            <p:cNvGrpSpPr/>
            <p:nvPr/>
          </p:nvGrpSpPr>
          <p:grpSpPr>
            <a:xfrm>
              <a:off x="380880" y="838080"/>
              <a:ext cx="1905120" cy="2509920"/>
              <a:chOff x="380880" y="838080"/>
              <a:chExt cx="1905120" cy="2509920"/>
            </a:xfrm>
          </p:grpSpPr>
          <p:sp>
            <p:nvSpPr>
              <p:cNvPr id="222" name=""/>
              <p:cNvSpPr/>
              <p:nvPr/>
            </p:nvSpPr>
            <p:spPr>
              <a:xfrm>
                <a:off x="1227600" y="2886120"/>
                <a:ext cx="217440" cy="46188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880" y="838080"/>
                <a:ext cx="1905120" cy="2189160"/>
              </a:xfrm>
              <a:custGeom>
                <a:avLst/>
                <a:gdLst>
                  <a:gd name="textAreaLeft" fmla="*/ 447480 w 1905120"/>
                  <a:gd name="textAreaRight" fmla="*/ 1456200 w 1905120"/>
                  <a:gd name="textAreaTop" fmla="*/ 257400 h 2189160"/>
                  <a:gd name="textAreaBottom" fmla="*/ 1373040 h 21891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227600" y="2957040"/>
              <a:ext cx="387720" cy="700200"/>
            </a:xfrm>
            <a:custGeom>
              <a:avLst/>
              <a:gdLst/>
              <a:ahLst/>
              <a:rect l="l" t="t" r="r" b="b"/>
              <a:pathLst>
                <a:path w="264" h="476">
                  <a:moveTo>
                    <a:pt x="161" y="43"/>
                  </a:moveTo>
                  <a:cubicBezTo>
                    <a:pt x="146" y="18"/>
                    <a:pt x="134" y="11"/>
                    <a:pt x="107" y="2"/>
                  </a:cubicBezTo>
                  <a:cubicBezTo>
                    <a:pt x="75" y="4"/>
                    <a:pt x="42" y="0"/>
                    <a:pt x="12" y="9"/>
                  </a:cubicBezTo>
                  <a:cubicBezTo>
                    <a:pt x="0" y="13"/>
                    <a:pt x="26" y="35"/>
                    <a:pt x="39" y="36"/>
                  </a:cubicBezTo>
                  <a:cubicBezTo>
                    <a:pt x="77" y="40"/>
                    <a:pt x="116" y="41"/>
                    <a:pt x="154" y="43"/>
                  </a:cubicBezTo>
                  <a:cubicBezTo>
                    <a:pt x="168" y="45"/>
                    <a:pt x="182" y="44"/>
                    <a:pt x="195" y="49"/>
                  </a:cubicBezTo>
                  <a:cubicBezTo>
                    <a:pt x="210" y="55"/>
                    <a:pt x="236" y="77"/>
                    <a:pt x="236" y="77"/>
                  </a:cubicBezTo>
                  <a:cubicBezTo>
                    <a:pt x="255" y="106"/>
                    <a:pt x="257" y="123"/>
                    <a:pt x="263" y="158"/>
                  </a:cubicBezTo>
                  <a:cubicBezTo>
                    <a:pt x="261" y="190"/>
                    <a:pt x="264" y="222"/>
                    <a:pt x="256" y="253"/>
                  </a:cubicBezTo>
                  <a:cubicBezTo>
                    <a:pt x="247" y="289"/>
                    <a:pt x="186" y="350"/>
                    <a:pt x="154" y="361"/>
                  </a:cubicBezTo>
                  <a:cubicBezTo>
                    <a:pt x="147" y="368"/>
                    <a:pt x="141" y="376"/>
                    <a:pt x="134" y="382"/>
                  </a:cubicBezTo>
                  <a:cubicBezTo>
                    <a:pt x="128" y="387"/>
                    <a:pt x="116" y="387"/>
                    <a:pt x="114" y="395"/>
                  </a:cubicBezTo>
                  <a:cubicBezTo>
                    <a:pt x="110" y="413"/>
                    <a:pt x="116" y="431"/>
                    <a:pt x="120" y="449"/>
                  </a:cubicBezTo>
                  <a:cubicBezTo>
                    <a:pt x="122" y="459"/>
                    <a:pt x="134" y="476"/>
                    <a:pt x="134" y="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33520" y="228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962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ЮБИМЫЙ ЦВЕТ ВИННИ-ПУ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495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ЮБИМЫЙ РАЗМЕР ВИННИ-ПУ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5029200"/>
            <a:ext cx="7543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ЮБИМОЕ ЧИСЛО ВИННИ-ПУ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5+5-7+5-4+1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743200" y="5486400"/>
            <a:ext cx="51444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05320" y="5486400"/>
            <a:ext cx="28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91120" y="5486400"/>
            <a:ext cx="28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724280" y="5486400"/>
            <a:ext cx="28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11-11-06T14:03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