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907588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799920" y="728640"/>
            <a:ext cx="525780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3248-01A6-4B40-BB43-1BD1BAE568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0FBC-30B2-4423-8817-3A438476F4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CB99-DCCE-4EA2-A0FD-9461EFC0B3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E1BC-8E71-4692-8ADA-1376F045C9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38EC-5160-47EC-B565-14ADBE773C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C458-BA0A-4A4E-8B5D-ED35B8F525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0C1D-C52D-40D2-974B-D6E3314DAE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0346-F8A1-4A3E-BA37-1FDCD6D4DD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B987-7849-404E-98F5-A9EF3407AA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00280" y="728640"/>
            <a:ext cx="5257800" cy="36417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5CD-D4B7-4914-8307-B9BEBDEA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B3D-7860-46C2-A208-614CD6DF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EF06F-CBDD-45D2-9918-6106163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143BD-311A-4E90-A233-3675B1E1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5CBDC-8F4F-4993-8919-5E714316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9DB49-6408-4CFE-A154-1FFA4CB0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87F28-7C33-431D-B056-99CF93A3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3C927-CE5E-444F-AFE7-2D521C4F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AECD0-624D-4CAD-B45B-6E5B854F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EB432-F70F-48A0-83AB-79D88ED1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621E-47DB-4337-9507-31B2B75D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648DB-E5C7-4824-98E5-AA961AD2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AC5-E180-4CB3-818D-63A025DF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55D94-5BD2-4650-85ED-142943C0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A7025-C72A-4590-BF2B-B0E0CF2A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280CD-3EE5-4ECA-8783-7D32F289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0F2A4-A47E-4F9F-8F17-7732DD10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F42BF-D55B-4267-93B7-697AF037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683B-9115-4042-A60D-09B6D71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84D6C-AE06-406D-A2E4-23A40FA4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AC653-13CA-4B5E-B484-8FD0B617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46DEB-41EF-4A98-8A23-B8FD0C1E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C929D-3FB2-4B82-A926-4019D11B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DA4-36DD-443A-BDBB-F9956379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E0A69-6087-4163-B48F-2DDB2648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2D88E-6711-4B4A-B892-567F30EB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58051-00DF-4DC9-9966-6D82E844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2290B-D873-486F-BEA8-9D99A3D1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64D07-17D2-4EBA-A4DE-93562108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CCA95-B450-41CC-B09C-321563A1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CBD4D-2F0D-489A-A2E5-AC928C49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21747-7051-4A3A-97B7-58AD4F3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DB312-0D66-4A85-BA78-809D51E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65A41-7BFC-474A-BF51-61F3EB95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4F7D-8556-472D-A57E-2887E29F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30AA3-357B-41A5-BD8A-A04928EB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96DE7-A71F-48D8-B7B5-0F96FEC5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CFBC9-1E0F-4950-A305-3D366243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3922A-D13C-4921-9A9A-1A6A65B4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798BD-F01C-480F-A48B-1A7EACB3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AEB90-3FF9-4474-A700-F0DF38A2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B9728-34F4-4E6F-921F-C81C2F2C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D7F9A-214D-42C8-A671-BAF1CD5E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BBC90-EF4E-4FB2-AF6B-19476D53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2E2B9-3B9F-40DD-A222-21C28AAE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4887-0D18-49B4-AF9D-4C60DF88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68A9B-DA28-4F58-AE87-6F02B0EC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919A0-7956-4707-8636-B8DE0800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07231-298F-4C59-BAB1-CC762C2B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320C7-7818-4C86-BC88-B3713DBD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B7C07-0FD9-48FA-B738-8C165F19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84441-F0A3-4BC5-A748-912FD2C4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515A4-32AE-497B-A8B7-7A29B241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19CC6-558B-4299-BA52-85A77357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08691-AF84-457B-B561-BDBD43AF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315F3-3313-4C0F-AFF6-1E36BAFD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9B3A-A568-48E6-A4E6-232BA5C1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FDD4F-029C-4F2F-A700-3E4655DA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ADC45-8BA2-41EF-8DA1-0D9AA50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75FF6-AE4B-4846-ABAF-34A2B4D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B3132-A953-4C41-88B3-5CE09FD9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BA9EF-1152-40F4-AE0E-D69E50AD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6E86A-9840-4535-A8FE-EBC528F3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F1AE2-E3C5-4877-BDDB-7CA5375F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A3EB0-4E40-4C38-93C2-01ACDCCC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688B4-B4ED-483A-A1CF-C92D9835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9C4D1-9E2A-4C91-B68E-72809EF2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157F-6F2B-4491-957C-36CB912A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2FECD-4AEC-4F20-B4DA-4792F6B6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60ECF-85D3-4E74-B739-6EA24DA3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40EBA-CE62-4260-B077-5A25FC1E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7524F-0885-4540-B8E5-04F0C043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98FEE-A00B-4183-BF5A-9FF5B1B4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0BB15-C429-443B-B654-BFF2590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80D2B-63CA-4054-85D7-2679B578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EDAE0-F9D6-4960-9E3D-DB1C7D89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A9A77-2902-4CF0-9684-7E5CD58F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C33F-4EFF-4809-AC9F-CED18329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2304-1D4D-4670-AFCF-2730A8BC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58F9-BF8B-43F9-9F06-F20CE0A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9C5-B1C3-4194-9F04-E35C357E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F87F-8BD5-4191-9F8C-6D3C458A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CB35-888D-421F-AC4D-7F9F7192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5E57-1C4D-45F1-8D55-BC88284C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5642-80C7-4B05-B416-ABAA77A4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CF62-CE7D-4650-8BFA-4FF5D810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9511-713A-4CF2-A0F4-CA8D724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17AC-0818-48E8-8492-50F267C5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7059-0D29-41AB-AB42-BCA4A1A5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D012-8A07-4768-B24A-B44A0CF0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6184-3A46-435C-B177-A2496C49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21A-DF54-4297-811F-0D9AC5F0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1553-70B1-4213-849D-25BDDE5F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0F15-0125-446A-8FE8-74F15B1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B049-1066-4E39-8801-BF350520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F8DB-2A54-47DF-9B80-7ADACE9A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E196-9714-4780-99FE-CF5F8C92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B4171-3565-4D29-92F1-E421CA4B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2472-9EA3-4980-8282-6BF8B2CA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498A-78CA-461B-9FAC-B69A3D5E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ACCC1-DC4B-44A2-9570-667EA588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92E2-B249-471B-878F-B573C791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720-C908-4064-91FF-066C6160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27A4A-244C-4992-8664-109BF731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E0AC5-7D12-485E-A63D-C4B84DD5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BA6F7-14F8-4EFE-BD0B-1FBB8F71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CA5B-7C23-4598-A898-BFD8F83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F036-A96B-4517-9E63-CB78DF66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4476-5058-44F4-A855-CAAD0CF9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6912C-C569-41C5-980D-F72FC27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5A48-2ECD-4F01-A454-9723B958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B887-C512-4931-B58F-5B4D135A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C6282-899B-468F-B90D-7865ADFD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B1F-2007-4DE9-AB70-3FE5B33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8F7B0-FDD9-4D8A-BB41-32AF07D7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1C7C-CBD5-42E7-9BDE-81F720E4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B9862-6E6E-4A20-BC0A-8DECB2C8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1AE48-5542-409D-9F58-78B08C61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3A96-963F-4C26-9D48-2B93EECA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3B087-3872-49AA-833A-E7420D6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8D16F-B3D1-49BB-B83B-5F180E81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3D62-4053-400E-955D-06360259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AE74-9139-45C5-BD08-9238E2C1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45F5-8EEB-4341-9EEA-8E43517F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829-6E2C-4DE0-93AE-9D86704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A125-5FD2-4DDB-86ED-53DE2E64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810F2-6DE7-4872-A620-7511B4A8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8CCE5-6581-42A2-917D-70075483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12A2E-6806-40A6-B054-CDFF1387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C28A5-4BE5-4380-8F5F-5353518A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AA23-0A1D-436B-97EC-1328A8ED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18AA5-8A29-4F61-96A1-9B53E2D8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4C654-BF96-4746-9E21-4EA8646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6D2F1-67A9-417C-B823-65172075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2A2A-33F3-46B5-83CA-5D84D30A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005-4FB4-4202-AD23-A972193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16BB0-E4C4-4234-9CC8-0B05BBCA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F36B-6DF0-45AC-82E8-F3ADB66C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9B4D7-1BC0-40DF-AACE-B2BA8ED3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396E5-67DB-4B57-984A-18656BE1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B2197-8EDB-4832-B9B8-CF876EB9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1348-2BD5-49DB-A1F3-1DF5EF29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10F19-6374-4166-96ED-AF4E280C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6D126-CD22-4EDA-906D-17B23673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05CAD-B0BF-406E-80D2-EBE11849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9F52E-CDF5-43CA-9643-B062B533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B3A-3F52-44A8-88CF-B37E48DB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6BA61-1531-475B-A8AF-91D53270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81301-556B-489F-BFAE-50F9A0E0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8E014-7811-4476-8FDA-0AB9EC92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0056D-84D2-44BD-8388-0629272A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B0CBE-BE87-45F8-A16E-B953D425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A76D8-7653-4EDE-9625-FBC9ABCF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48619-3DC3-4D7B-A8CB-9D3EB17F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1FB47-5B66-4A77-89DF-5CF19161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149B7-8A5C-4762-9589-F0E0A40D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EAAF3-A8B0-408C-841D-3EF21421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DEF-66D4-4147-94E3-C27DA50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FC660-49D5-4557-A250-AC9BDF8C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944CC-6629-48FF-B530-8D1A9DCA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4280-42AE-45D0-A00B-2798DED1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DCCB9-B870-4FF4-9C6B-2992A97A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5CD9D-31C7-4162-B9B5-065FE683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BD276-8AE3-426C-AB55-12680736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A646B-E76D-44C8-87FE-74A2D124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2FD5A-4491-4B40-B960-3A895306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3ED26-B5FE-4B42-ACD2-E445351B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3E072-2DB6-4D73-B1DF-A78604D0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4089-6E7C-40F2-AF82-8B8D63E8C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52BD-BC8C-4A8B-A8E2-8EB6FAA82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E8EF-0744-4454-8E7D-48C5F73DF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EBD9-6174-4A33-8504-92CFCA359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74CE-D95F-4254-A887-88C59A8E2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E7EE-DF02-4EA7-B6CC-0E14CA56F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2091-1325-4009-8D31-0769EA8AC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EEB2-55B6-42F8-B794-71EB4AFA6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411A-626A-4292-BBFA-2E9ED0BBF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E2AD-6782-46CB-94DB-9AF73EE0D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8470-7B70-431A-B6F2-3DA52ECF5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C169-6EC0-40F0-9EF5-B28074C2B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954-E7BA-4EC8-A624-1D161C85B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EA0-9EFC-4A32-977D-89A1CDFC8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:\Documents and Settings\1\&#1052;&#1086;&#1080; &#1076;&#1086;&#1082;&#1091;&#1084;&#1077;&#1085;&#1090;&#1099;\&#1042;&#1089;&#1105; &#1076;&#1083;&#1103; &#1087;&#1088;&#1077;&#1079;&#1077;&#1085;&#1090;&#1072;&#1094;&#1080;&#1081;\&#1053;&#1086;&#1074;&#1086;&#1075;&#1086;&#1076;&#1055;&#1086;&#1079;&#1076;&#1088;&#1072;&#1074;&#1083;\&#1042; &#1083;&#1077;&#1089;&#1091; &#1088;&#1086;&#1076;&#1080;&#1083;&#1072;&#1089;&#1100; &#1077;&#1083;&#1086;&#1095;&#1082;&#1072;.mp3.sfap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5"/>
          <p:cNvSpPr/>
          <p:nvPr/>
        </p:nvSpPr>
        <p:spPr>
          <a:xfrm>
            <a:off x="428760" y="1725480"/>
            <a:ext cx="92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741240" y="260280"/>
            <a:ext cx="865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WordArt 5"/>
          <p:cNvSpPr txBox="1"/>
          <p:nvPr/>
        </p:nvSpPr>
        <p:spPr>
          <a:xfrm>
            <a:off x="920880" y="404640"/>
            <a:ext cx="8064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ультимедийная  презентация  </a:t>
            </a:r>
            <a:endParaRPr b="1" i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на  тему:</a:t>
            </a:r>
            <a:endParaRPr b="1" i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85" name="WordArt 8" descr=""/>
          <p:cNvPicPr/>
          <p:nvPr/>
        </p:nvPicPr>
        <p:blipFill>
          <a:blip r:embed="rId3"/>
          <a:stretch/>
        </p:blipFill>
        <p:spPr>
          <a:xfrm>
            <a:off x="1700280" y="2414520"/>
            <a:ext cx="6499080" cy="2906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minipeiz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9" descr="flowers31"/>
          <p:cNvPicPr/>
          <p:nvPr/>
        </p:nvPicPr>
        <p:blipFill>
          <a:blip r:embed="rId2"/>
          <a:stretch/>
        </p:blipFill>
        <p:spPr>
          <a:xfrm>
            <a:off x="8385120" y="6381720"/>
            <a:ext cx="515880" cy="476280"/>
          </a:xfrm>
          <a:prstGeom prst="rect">
            <a:avLst/>
          </a:prstGeom>
          <a:ln w="0">
            <a:noFill/>
          </a:ln>
        </p:spPr>
      </p:pic>
      <p:pic>
        <p:nvPicPr>
          <p:cNvPr id="646" name="Прямоугольник 22" descr=""/>
          <p:cNvPicPr/>
          <p:nvPr/>
        </p:nvPicPr>
        <p:blipFill>
          <a:blip r:embed="rId3"/>
          <a:stretch/>
        </p:blipFill>
        <p:spPr>
          <a:xfrm>
            <a:off x="1316160" y="1809720"/>
            <a:ext cx="7400880" cy="1562040"/>
          </a:xfrm>
          <a:prstGeom prst="rect">
            <a:avLst/>
          </a:prstGeom>
          <a:ln w="0">
            <a:noFill/>
          </a:ln>
        </p:spPr>
      </p:pic>
      <p:sp>
        <p:nvSpPr>
          <p:cNvPr id="647" name="Прямоугольник 20"/>
          <p:cNvSpPr/>
          <p:nvPr/>
        </p:nvSpPr>
        <p:spPr>
          <a:xfrm>
            <a:off x="3212640" y="6021360"/>
            <a:ext cx="338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Составитель: воспитател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3333cc"/>
                </a:solidFill>
                <a:latin typeface="Times New Roman"/>
              </a:rPr>
              <a:t>Лукашина Анастасия Михайл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10"/>
          <p:cNvSpPr/>
          <p:nvPr/>
        </p:nvSpPr>
        <p:spPr>
          <a:xfrm>
            <a:off x="272880" y="333360"/>
            <a:ext cx="943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99"/>
                </a:solidFill>
                <a:latin typeface="Georgia"/>
                <a:ea typeface="Arial"/>
              </a:rPr>
              <a:t>Одним  из  непременных условий  воспитания  ребёнка в ДОУ является взаимодействие с семьями  воспитан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4"/>
          <p:cNvSpPr/>
          <p:nvPr/>
        </p:nvSpPr>
        <p:spPr>
          <a:xfrm>
            <a:off x="415800" y="42210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Детский с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5"/>
          <p:cNvSpPr/>
          <p:nvPr/>
        </p:nvSpPr>
        <p:spPr>
          <a:xfrm>
            <a:off x="696924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16"/>
          <p:cNvSpPr/>
          <p:nvPr/>
        </p:nvSpPr>
        <p:spPr>
          <a:xfrm>
            <a:off x="4448160" y="616572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Ребён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Прямая соединительная линия 20" descr=""/>
          <p:cNvPicPr/>
          <p:nvPr/>
        </p:nvPicPr>
        <p:blipFill>
          <a:blip r:embed="rId2"/>
          <a:stretch/>
        </p:blipFill>
        <p:spPr>
          <a:xfrm>
            <a:off x="3728880" y="1989000"/>
            <a:ext cx="3888000" cy="216000"/>
          </a:xfrm>
          <a:prstGeom prst="rect">
            <a:avLst/>
          </a:prstGeom>
          <a:ln w="0">
            <a:noFill/>
          </a:ln>
        </p:spPr>
      </p:pic>
      <p:pic>
        <p:nvPicPr>
          <p:cNvPr id="592" name="Прямая соединительная линия 22" descr=""/>
          <p:cNvPicPr/>
          <p:nvPr/>
        </p:nvPicPr>
        <p:blipFill>
          <a:blip r:embed="rId3"/>
          <a:stretch/>
        </p:blipFill>
        <p:spPr>
          <a:xfrm>
            <a:off x="2908440" y="4157640"/>
            <a:ext cx="1425600" cy="1079640"/>
          </a:xfrm>
          <a:prstGeom prst="rect">
            <a:avLst/>
          </a:prstGeom>
          <a:ln w="0">
            <a:noFill/>
          </a:ln>
        </p:spPr>
      </p:pic>
      <p:pic>
        <p:nvPicPr>
          <p:cNvPr id="593" name="Прямая соединительная линия 25" descr=""/>
          <p:cNvPicPr/>
          <p:nvPr/>
        </p:nvPicPr>
        <p:blipFill>
          <a:blip r:embed="rId4"/>
          <a:stretch/>
        </p:blipFill>
        <p:spPr>
          <a:xfrm>
            <a:off x="5857920" y="4157640"/>
            <a:ext cx="1573200" cy="107964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7040520" y="1844640"/>
            <a:ext cx="2324160" cy="30970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415800" y="1844640"/>
            <a:ext cx="3511800" cy="27367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4160880" y="3789360"/>
            <a:ext cx="2249280" cy="240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5"/>
          <p:cNvSpPr/>
          <p:nvPr/>
        </p:nvSpPr>
        <p:spPr>
          <a:xfrm>
            <a:off x="428760" y="1197000"/>
            <a:ext cx="92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741240" y="260280"/>
            <a:ext cx="865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WordArt 5"/>
          <p:cNvSpPr txBox="1"/>
          <p:nvPr/>
        </p:nvSpPr>
        <p:spPr>
          <a:xfrm>
            <a:off x="1833480" y="260280"/>
            <a:ext cx="631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Box 7"/>
          <p:cNvSpPr/>
          <p:nvPr/>
        </p:nvSpPr>
        <p:spPr>
          <a:xfrm>
            <a:off x="631800" y="333360"/>
            <a:ext cx="87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Вовлечение семьи в воспитательно – образовательный процесс способствует улучшению эмоционального  самочувствия детей, обогащению воспитательного опыта родителей, повышению их родительско-педагогической компетентности при подготовке дошколят к шко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 rot="1131000">
            <a:off x="415440" y="2708280"/>
            <a:ext cx="3818160" cy="28638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4"/>
          <a:stretch/>
        </p:blipFill>
        <p:spPr>
          <a:xfrm rot="20090400">
            <a:off x="5745240" y="2565360"/>
            <a:ext cx="3744720" cy="28274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5"/>
          <a:stretch/>
        </p:blipFill>
        <p:spPr>
          <a:xfrm>
            <a:off x="3224160" y="4237200"/>
            <a:ext cx="3240000" cy="2620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WordArt 3"/>
          <p:cNvSpPr txBox="1"/>
          <p:nvPr/>
        </p:nvSpPr>
        <p:spPr>
          <a:xfrm>
            <a:off x="495360" y="1371600"/>
            <a:ext cx="3632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66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               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66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07" name="Picture 4" descr="dudka"/>
          <p:cNvPicPr/>
          <p:nvPr/>
        </p:nvPicPr>
        <p:blipFill>
          <a:blip r:embed="rId2"/>
          <a:stretch/>
        </p:blipFill>
        <p:spPr>
          <a:xfrm>
            <a:off x="272880" y="1484280"/>
            <a:ext cx="1756080" cy="205740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0"/>
          <p:cNvSpPr/>
          <p:nvPr/>
        </p:nvSpPr>
        <p:spPr>
          <a:xfrm>
            <a:off x="1352520" y="333360"/>
            <a:ext cx="69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Мы выделяем два основных направления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заимодействия </a:t>
            </a: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с семьё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11"/>
          <p:cNvSpPr/>
          <p:nvPr/>
        </p:nvSpPr>
        <p:spPr>
          <a:xfrm>
            <a:off x="2289240" y="1773360"/>
            <a:ext cx="691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1. </a:t>
            </a:r>
            <a:r>
              <a:rPr b="1" lang="en-US" sz="2000" spc="-1" strike="noStrike">
                <a:solidFill>
                  <a:srgbClr val="262699"/>
                </a:solidFill>
                <a:latin typeface="Georgia"/>
              </a:rPr>
              <a:t>Повышение уровня педагогической компетентности родителей через родительские собрания, родительские уголки, папки – передвижки, групповые консультации, индивидуальные бесе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12"/>
          <p:cNvSpPr/>
          <p:nvPr/>
        </p:nvSpPr>
        <p:spPr>
          <a:xfrm>
            <a:off x="704880" y="378936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2.  </a:t>
            </a:r>
            <a:r>
              <a:rPr b="1" lang="ru-RU" sz="2000" spc="-1" strike="noStrike">
                <a:solidFill>
                  <a:srgbClr val="262699"/>
                </a:solidFill>
                <a:latin typeface="Georgia"/>
              </a:rPr>
              <a:t>Привлечение родителей к работе детского сада посредством организации досуговых мероприят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776160" y="5229360"/>
            <a:ext cx="66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Учитывая, что у взрослых в современном обществе нет лишнего времени работу стараемся организовывать компактной, но эффектив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WordArt 3"/>
          <p:cNvSpPr txBox="1"/>
          <p:nvPr/>
        </p:nvSpPr>
        <p:spPr>
          <a:xfrm>
            <a:off x="495360" y="1371600"/>
            <a:ext cx="3632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66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               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66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776160" y="260280"/>
            <a:ext cx="849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Основные принципы организации работы с семьё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415800" y="1341360"/>
            <a:ext cx="914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-   Открытость детского сада для семьи (каждому родителю обеспечивае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возможность знать и видеть как живёт и развивается его ребёнок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-   Сотрудничество педагогов и родителей в воспитании де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-   Отсутствие формализма в организации работы с семьё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-   Создание активной развивающей среды, обеспечивающей еди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подходы к развитию личности в семье и детском коллектив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-   Диагностика  общих  и   частных  проблем  в  воспитании  и  развит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ребё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2649600" y="367200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9360">
            <a:solidFill>
              <a:srgbClr val="ffcccc"/>
            </a:solidFill>
            <a:miter/>
          </a:ln>
        </p:spPr>
      </p:pic>
      <p:sp>
        <p:nvSpPr>
          <p:cNvPr id="618" name="Text Box 268"/>
          <p:cNvSpPr/>
          <p:nvPr/>
        </p:nvSpPr>
        <p:spPr>
          <a:xfrm>
            <a:off x="2066760" y="6165720"/>
            <a:ext cx="343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WordArt 271"/>
          <p:cNvSpPr txBox="1"/>
          <p:nvPr/>
        </p:nvSpPr>
        <p:spPr>
          <a:xfrm>
            <a:off x="1130400" y="0"/>
            <a:ext cx="55814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20" name="TextBox 250"/>
          <p:cNvSpPr/>
          <p:nvPr/>
        </p:nvSpPr>
        <p:spPr>
          <a:xfrm>
            <a:off x="1065240" y="260280"/>
            <a:ext cx="77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Формы общения с родителя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251"/>
          <p:cNvSpPr/>
          <p:nvPr/>
        </p:nvSpPr>
        <p:spPr>
          <a:xfrm>
            <a:off x="2402640" y="98100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Georgia"/>
              </a:rPr>
              <a:t>Совместные  досуги  и  праздн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2000160" y="1700280"/>
            <a:ext cx="6050160" cy="4538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WordArt 3"/>
          <p:cNvSpPr txBox="1"/>
          <p:nvPr/>
        </p:nvSpPr>
        <p:spPr>
          <a:xfrm>
            <a:off x="495360" y="1371600"/>
            <a:ext cx="3632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66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                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66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5" name="WordArt 5"/>
          <p:cNvSpPr txBox="1"/>
          <p:nvPr/>
        </p:nvSpPr>
        <p:spPr>
          <a:xfrm>
            <a:off x="344520" y="260280"/>
            <a:ext cx="9217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ff0000"/>
                </a:solidFill>
                <a:latin typeface="Georgia"/>
              </a:rPr>
              <a:t>Выставка поделок «Фабрика Деда Мороза»</a:t>
            </a:r>
            <a:endParaRPr b="1" i="1" lang="en-US" sz="2800" spc="1" strike="noStrike">
              <a:ln w="0">
                <a:noFill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626" name="TextBox 9"/>
          <p:cNvSpPr/>
          <p:nvPr/>
        </p:nvSpPr>
        <p:spPr>
          <a:xfrm>
            <a:off x="992160" y="5877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Декабрь 2012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5689440" cy="394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5529240" y="1484280"/>
            <a:ext cx="4183200" cy="50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0" algn="ctr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 algn="just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WordArt 5"/>
          <p:cNvSpPr txBox="1"/>
          <p:nvPr/>
        </p:nvSpPr>
        <p:spPr>
          <a:xfrm>
            <a:off x="2301840" y="260280"/>
            <a:ext cx="514836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3" name="Прямоугольник 6"/>
          <p:cNvSpPr/>
          <p:nvPr/>
        </p:nvSpPr>
        <p:spPr>
          <a:xfrm>
            <a:off x="1468440" y="260280"/>
            <a:ext cx="66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Georgia"/>
              </a:rPr>
              <a:t>Участие родителей воспитанников в выстав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816120" y="765000"/>
            <a:ext cx="83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Выставка поделок из природного материа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Чудеса природы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11"/>
          <p:cNvSpPr/>
          <p:nvPr/>
        </p:nvSpPr>
        <p:spPr>
          <a:xfrm>
            <a:off x="2863800" y="6308640"/>
            <a:ext cx="36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Апрель</a:t>
            </a: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 2013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1136520" y="1916280"/>
            <a:ext cx="7439040" cy="4333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2" descr="">
            <a:hlinkClick r:id="rId1"/>
          </p:cNvPr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3" descr="DSC02942.JPG"/>
          <p:cNvPicPr/>
          <p:nvPr/>
        </p:nvPicPr>
        <p:blipFill>
          <a:blip r:embed="rId3"/>
          <a:stretch/>
        </p:blipFill>
        <p:spPr>
          <a:xfrm>
            <a:off x="3440160" y="4221000"/>
            <a:ext cx="2928960" cy="216072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5" descr="DSC02951.JPG"/>
          <p:cNvPicPr/>
          <p:nvPr/>
        </p:nvPicPr>
        <p:blipFill>
          <a:blip r:embed="rId4"/>
          <a:stretch/>
        </p:blipFill>
        <p:spPr>
          <a:xfrm>
            <a:off x="6608880" y="260280"/>
            <a:ext cx="3025800" cy="226872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6" descr="DSC03175.JPG"/>
          <p:cNvPicPr/>
          <p:nvPr/>
        </p:nvPicPr>
        <p:blipFill>
          <a:blip r:embed="rId5"/>
          <a:stretch/>
        </p:blipFill>
        <p:spPr>
          <a:xfrm>
            <a:off x="6681960" y="4221000"/>
            <a:ext cx="3024000" cy="2160720"/>
          </a:xfrm>
          <a:prstGeom prst="rect">
            <a:avLst/>
          </a:prstGeom>
          <a:ln w="0">
            <a:noFill/>
          </a:ln>
        </p:spPr>
      </p:pic>
      <p:pic>
        <p:nvPicPr>
          <p:cNvPr id="642" name="Прямоугольник 12" descr=""/>
          <p:cNvPicPr/>
          <p:nvPr/>
        </p:nvPicPr>
        <p:blipFill>
          <a:blip r:embed="rId6"/>
          <a:stretch/>
        </p:blipFill>
        <p:spPr>
          <a:xfrm>
            <a:off x="1928880" y="1413000"/>
            <a:ext cx="5918040" cy="26175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7"/>
          <a:stretch/>
        </p:blipFill>
        <p:spPr>
          <a:xfrm>
            <a:off x="0" y="836640"/>
            <a:ext cx="295596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2:42:22Z</dcterms:created>
  <dc:creator>Оператор</dc:creator>
  <dc:description/>
  <dc:language>en-US</dc:language>
  <cp:lastModifiedBy>Дмитрий Каленюк</cp:lastModifiedBy>
  <dcterms:modified xsi:type="dcterms:W3CDTF">2013-04-28T13:22:17Z</dcterms:modified>
  <cp:revision>30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00000000000010260500207f7000400038000</vt:lpwstr>
  </property>
</Properties>
</file>