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B7A3-A154-459C-B232-ED9EC97A1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37C1-E9D6-4B88-91F3-29FAA23C538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028880" y="579600"/>
            <a:ext cx="4163760" cy="294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22440" y="3714480"/>
            <a:ext cx="497664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A33-B56A-4303-8564-038D152C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397-C554-4876-AA2C-58AEE604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DE4-EE16-4527-B7AD-2EA8AE07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528-3BA0-4109-A6F8-D39809C3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57A-B5A7-4516-8F8C-840A695C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3BB-CB83-4D75-BEA3-2C24AEDF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A6E-A4EE-4D8D-8AE1-3F8CEFB1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92F-E686-46E1-BA4B-763168B5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A47-0A5F-4B8B-98D5-CC1B3F8B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4FF-DCB8-4ECF-856E-A1FCAFB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EAC-A3BD-424B-BA0A-1E60A5F9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016-C9D5-416F-8148-20AA0DC0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D8F5-138E-4F7E-B062-3C2D5C81D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"/>
          <a:srcRect l="0" t="2000" r="2003" b="3457"/>
          <a:stretch/>
        </p:blipFill>
        <p:spPr>
          <a:xfrm rot="3825000">
            <a:off x="5476320" y="2143080"/>
            <a:ext cx="3502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6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9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 flipH="1">
            <a:off x="3580920" y="1143000"/>
            <a:ext cx="304920" cy="1523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6"/>
          <p:cNvSpPr/>
          <p:nvPr/>
        </p:nvSpPr>
        <p:spPr>
          <a:xfrm rot="6838800">
            <a:off x="4184640" y="424800"/>
            <a:ext cx="988920" cy="13683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7"/>
          <p:cNvSpPr/>
          <p:nvPr/>
        </p:nvSpPr>
        <p:spPr>
          <a:xfrm rot="615600">
            <a:off x="2993760" y="2525760"/>
            <a:ext cx="2338200" cy="33400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3809880" y="10666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 rot="7451400">
            <a:off x="3025800" y="-129600"/>
            <a:ext cx="387360" cy="1714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524240" cy="151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5791320" y="2971800"/>
            <a:ext cx="1523880" cy="150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7391520" y="3048120"/>
            <a:ext cx="1447560" cy="1436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5791320" y="4651200"/>
            <a:ext cx="1447560" cy="1435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6"/>
          <a:stretch/>
        </p:blipFill>
        <p:spPr>
          <a:xfrm>
            <a:off x="7315200" y="4648320"/>
            <a:ext cx="1447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5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8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21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из данных чисел можно вписать в «окошк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714680" y="2000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 &lt;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4500720" y="2428920"/>
            <a:ext cx="13572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из данных чисел можно вписать в «окошк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000160" y="2214720"/>
            <a:ext cx="571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&lt; 12           10 &lt; 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ЕГОДНЯ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-115920" y="1298520"/>
            <a:ext cx="855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633680" y="488880"/>
            <a:ext cx="61387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88800" y="388800"/>
            <a:ext cx="1312920" cy="1149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122560" y="979560"/>
            <a:ext cx="620532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900" spc="-1" strike="noStrike">
                <a:solidFill>
                  <a:srgbClr val="000080"/>
                </a:solidFill>
                <a:latin typeface="Comic Sans MS"/>
              </a:rPr>
              <a:t>Закончен  урок и выполнен план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900" spc="-1" strike="noStrike">
                <a:solidFill>
                  <a:srgbClr val="000080"/>
                </a:solidFill>
                <a:latin typeface="Comic Sans MS"/>
              </a:rPr>
              <a:t>Спасибо, ребята,  огромное вам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900" spc="-1" strike="noStrike">
                <a:solidFill>
                  <a:srgbClr val="000080"/>
                </a:solidFill>
                <a:latin typeface="Comic Sans MS"/>
              </a:rPr>
              <a:t>За то что упорно и дружно трудилис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9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fi-FI" sz="2900" spc="-1" strike="noStrike">
                <a:solidFill>
                  <a:srgbClr val="000080"/>
                </a:solidFill>
                <a:latin typeface="Comic Sans MS"/>
              </a:rPr>
              <a:t>Что на  уроке вы не ленились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19280" y="112500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зови числа по порядку,</a:t>
            </a:r>
            <a:br>
              <a:rPr sz="2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 начиная с самого маленького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0" y="1204200"/>
            <a:ext cx="878688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3, 15, 12, 17, 14, 19, 18, 16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зови числа по порядку,</a:t>
            </a:r>
            <a:br>
              <a:rPr sz="2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 начиная с самого больш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1310760" y="2571840"/>
            <a:ext cx="67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1, 4, 10, 3, 6, 9, 7, 5, 8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пропущен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42920" y="2500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…,…,…,4,…,…, 7,…,…,…,11,…,13,…,…,…,17,18,…,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4200" y="3214800"/>
            <a:ext cx="2295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пропущен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42920" y="2500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1,2,3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5,6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8,9,1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,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13,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17,18,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4200" y="3214800"/>
            <a:ext cx="2295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869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16:04Z</dcterms:created>
  <dc:creator>Люсенька</dc:creator>
  <dc:description/>
  <dc:language>en-US</dc:language>
  <cp:lastModifiedBy>Admin</cp:lastModifiedBy>
  <dcterms:modified xsi:type="dcterms:W3CDTF">2011-05-16T14:00:38Z</dcterms:modified>
  <cp:revision>25</cp:revision>
  <dc:subject/>
  <dc:title>Слайд 1</dc:title>
</cp:coreProperties>
</file>