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70E3-D88B-4485-8F54-BA2BA674D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A322-2E8F-4BF7-B11D-5EB6A7E6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0828-EF97-4B7C-9730-3ABA61292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2BF4-7BAB-4757-AC31-5B02F3F86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8799-A465-4B74-80EE-01109594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938F-A93A-4FC1-AD3F-37BD76AF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6FB3-A178-446D-807B-2A05406E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5428-959A-4F6E-BA44-BBEA25DC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C44D-FF47-4CE1-B9BF-7ED3AB4C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C75E-3975-4B1C-AC3C-D253655C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5F27-8695-4574-B4B0-3A9CA966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5A6F-D6B5-4185-ADC8-EE04A924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FC0F-1C4C-47C9-B543-22AB439C6D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городский Институт Развития Образова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дошкольного 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ическая разработка разд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узыкальное образован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программе «Камертон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тимизация развития музыка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ей дошкольного возрас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условиях системного использ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а кинези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полнила: Маврычева Г.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узыкальный руководи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ДОУ Центр развития ребёнка №1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. Дзержин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праксина О.А. «Музыкальное воспитание в школе» (М.1978г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гаева Н.Н. «Субъект-субъектное взаимодействие как средство обеспечения комфорта младших школьников» (Екатеринбург.2003г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готский Л.С. «Психология искусства». (М. 1998г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тлугина Н.А. «Методика музыкального воспитания». (М. «Просвещение» 1976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тлугина Н.А. «Музыкальное развитие ребёнка» (М. Просвещение 1967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Г.Декер-Фойт «Музыкотерапия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урналы «Дошкольное воспитани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тина Э.П. Программа «Камертон» (Нижний Новгород.2001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тина Э.П. «Теоретические и методические основы муз. развития ребёнка в образовательном процессе ДОУ». (Н.Н. 2002г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тина Э.П. «Гуманизация процесса музыкального воспитания детей в детском саду». (Нижний Новгород.1991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тина Э.П. «Диагностика муз. развития ребёнка-дошкольника» (Н.Н. 2002г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.Кэмпбелл «Эффект Моцарта». (М.1999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балевский Д.Б. «Педагогические размышления». (М. Педагогика 1986г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юкова С.В., Слободяник Н.П. Программы эмоционального развития детей дошкольного возраста. (М. «Генезис» 2000г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трушин В.И. «Музыкальная психотерапия». (М.1999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а комфорта: проблема определения (материал международной научно-практической конференции. Нижний Новгород, 2003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ротюк А.Л. «Коррекция обучения и развития школьников» (творческий центр. М. 2001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ротюк А.Л. «Развитие интеллекта дошкольников» (творческий центр. М 2001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расова К.В. «Онтогенез муз. способностей». (М.1988г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лов Б.М. Избранные труды. (М. «Педагогика» 1985г.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. Фельденкрайз. «Искусство движения. Уроки мастера. (М. ЭКСМО, 200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ушарджан «Музыкотерапия и резервы человеческого организма».(М.19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Шмидт «Интеллект и музык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32"/>
          <p:cNvSpPr/>
          <p:nvPr/>
        </p:nvSpPr>
        <p:spPr>
          <a:xfrm>
            <a:off x="1258920" y="508464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7"/>
          <p:cNvSpPr/>
          <p:nvPr/>
        </p:nvSpPr>
        <p:spPr>
          <a:xfrm>
            <a:off x="0" y="2133720"/>
            <a:ext cx="9144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Кинезиология –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ука о развитии умственных и творческих способностей через определённые двигательные упражнения.  Развитие межполушарного взаимодействия является основой развития интеллекта и творческого самовыражения»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Сиротюк Л.А.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Organization Chart 18"/>
          <p:cNvGrpSpPr/>
          <p:nvPr/>
        </p:nvGrpSpPr>
        <p:grpSpPr>
          <a:xfrm>
            <a:off x="479520" y="4341960"/>
            <a:ext cx="8218440" cy="2225520"/>
            <a:chOff x="479520" y="4341960"/>
            <a:chExt cx="8218440" cy="2225520"/>
          </a:xfrm>
        </p:grpSpPr>
        <p:cxnSp>
          <p:nvCxnSpPr>
            <p:cNvPr id="46" name="_s1028"/>
            <p:cNvCxnSpPr>
              <a:stCxn id="47" idx="0"/>
              <a:endCxn id="48" idx="2"/>
            </p:cNvCxnSpPr>
            <p:nvPr/>
          </p:nvCxnSpPr>
          <p:spPr>
            <a:xfrm flipV="1" rot="16200000">
              <a:off x="6033600" y="3479040"/>
              <a:ext cx="299160" cy="3201120"/>
            </a:xfrm>
            <a:prstGeom prst="bentConnector3">
              <a:avLst>
                <a:gd name="adj1" fmla="val 284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9" name="_s1029"/>
            <p:cNvCxnSpPr>
              <a:stCxn id="50" idx="0"/>
              <a:endCxn id="48" idx="2"/>
            </p:cNvCxnSpPr>
            <p:nvPr/>
          </p:nvCxnSpPr>
          <p:spPr>
            <a:xfrm flipV="1" rot="16200000">
              <a:off x="4966560" y="4546080"/>
              <a:ext cx="299160" cy="1067400"/>
            </a:xfrm>
            <a:prstGeom prst="bentConnector3">
              <a:avLst>
                <a:gd name="adj1" fmla="val 284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1030"/>
            <p:cNvCxnSpPr>
              <a:stCxn id="52" idx="0"/>
              <a:endCxn id="48" idx="2"/>
            </p:cNvCxnSpPr>
            <p:nvPr/>
          </p:nvCxnSpPr>
          <p:spPr>
            <a:xfrm flipH="1" flipV="1" rot="5400000">
              <a:off x="3900240" y="4546080"/>
              <a:ext cx="299160" cy="1067400"/>
            </a:xfrm>
            <a:prstGeom prst="bentConnector3">
              <a:avLst>
                <a:gd name="adj1" fmla="val 284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8" name="_s1031"/>
            <p:cNvSpPr/>
            <p:nvPr/>
          </p:nvSpPr>
          <p:spPr>
            <a:xfrm>
              <a:off x="479520" y="4341960"/>
              <a:ext cx="8207280" cy="588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Цели метода кинезиолог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32"/>
            <p:cNvSpPr/>
            <p:nvPr/>
          </p:nvSpPr>
          <p:spPr>
            <a:xfrm>
              <a:off x="2602080" y="5229360"/>
              <a:ext cx="1828800" cy="133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инхронизация работы полушар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1033"/>
            <p:cNvSpPr/>
            <p:nvPr/>
          </p:nvSpPr>
          <p:spPr>
            <a:xfrm>
              <a:off x="4735440" y="5229360"/>
              <a:ext cx="1828800" cy="133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азвитие мелкой мотори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1034"/>
            <p:cNvSpPr/>
            <p:nvPr/>
          </p:nvSpPr>
          <p:spPr>
            <a:xfrm>
              <a:off x="6869160" y="5229360"/>
              <a:ext cx="1828800" cy="133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азвитие памяти, внимания, мышл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31"/>
            <p:cNvSpPr/>
            <p:nvPr/>
          </p:nvSpPr>
          <p:spPr>
            <a:xfrm flipH="1">
              <a:off x="1258560" y="5084640"/>
              <a:ext cx="25923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60428"/>
            <p:cNvSpPr/>
            <p:nvPr/>
          </p:nvSpPr>
          <p:spPr>
            <a:xfrm>
              <a:off x="479520" y="5229360"/>
              <a:ext cx="1828800" cy="133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Развитие межполу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шарного взаимодей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тв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36"/>
          <p:cNvSpPr/>
          <p:nvPr/>
        </p:nvSpPr>
        <p:spPr>
          <a:xfrm>
            <a:off x="0" y="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часто встречающаяс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бле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 музыкально-педагогической практике последних лет – отсутствие у детей специальных музыкальных способностей и согласованное функционирование двух систем: эмоциональной сферы и интеллектуального развития.  Без этого невозможно полноценное развитие музыкальности. Разносторонне развитой, цельной можно назвать такую личность, у которой одинаково развиты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моциональные и интеллектуальные реакци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Л.С. Выгот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3628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Цель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беспечить оптимизацию развития музыкальности детей в процессе системного музыкального образования, предусматривающего создание эмоционального комфорта, посредством внедрения  метода кинезиолог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3"/>
          <p:cNvSpPr/>
          <p:nvPr/>
        </p:nvSpPr>
        <p:spPr>
          <a:xfrm>
            <a:off x="468360" y="1557360"/>
            <a:ext cx="8229600" cy="48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владения детьми всеми видами детской музыкальной деятель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Развивать способ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*   Музыкальные способнос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бщие музыкальные способности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пециальные музыкальные способнос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координация слуха и голоса, координация движен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узыкально-творческие способ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*   Интеллектуальные способ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*   Физические способ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 Развивать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равственную сферу ребёнк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ориентированную на общечеловеческие цен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 Развивать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знавательные процесс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 Развивать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личностные новообраз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своей системе работы я условно выделила 3 этап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♪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 этап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–  изучение и анализ исследований по данной проблеме в психолого-педагогической литературе, разработка цели и задач, создание условий для обеспечения эмоционального комфор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♪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 этап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 апробация тестирования показателей межполушарного взаимодейств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работка системы кинезиологических упражнений для всех видов музыкальн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-  разработка системы использования кинезиологических упражнений для специалистов МДО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♪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3 этап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–  отслеживание результативности, сравнительный анализ результатов развития музыкальности детей до и после применения мет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4"/>
          <p:cNvSpPr/>
          <p:nvPr/>
        </p:nvSpPr>
        <p:spPr>
          <a:xfrm>
            <a:off x="17640" y="2727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 flipV="1" rot="10800000">
            <a:off x="228240" y="40680"/>
            <a:ext cx="86900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спешному развитию ребёнка в дошкольном возрасте способствуют несколько составляющих, э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-541440" y="3751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179280" y="2492280"/>
            <a:ext cx="8642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фференцированное обучение с учётом функциональной асимметрии полушарий головного мозга ребёнка – один из самых сложных, но очень эффективных способов развития. В музыкальной практике метод кинезиологии – это система упражнений, сопрвождаемая пение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6"/>
          <p:cNvSpPr/>
          <p:nvPr/>
        </p:nvSpPr>
        <p:spPr>
          <a:xfrm>
            <a:off x="0" y="4437000"/>
            <a:ext cx="3205080" cy="2160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ложнение упражнени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ответствии с возрастны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ями де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7"/>
          <p:cNvSpPr/>
          <p:nvPr/>
        </p:nvSpPr>
        <p:spPr>
          <a:xfrm>
            <a:off x="3132000" y="4724280"/>
            <a:ext cx="2808360" cy="2133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очерёдный перено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здействия с од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сихического процесс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ругой во время выпол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бёнком упраж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9"/>
          <p:cNvSpPr/>
          <p:nvPr/>
        </p:nvSpPr>
        <p:spPr>
          <a:xfrm>
            <a:off x="5940360" y="4221000"/>
            <a:ext cx="2952720" cy="2637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нение упражн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целью обеспе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моционального комфор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1"/>
          <p:cNvSpPr/>
          <p:nvPr/>
        </p:nvSpPr>
        <p:spPr>
          <a:xfrm>
            <a:off x="179280" y="1052640"/>
            <a:ext cx="2089080" cy="1368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ёт асиммет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ушар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ловного моз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2"/>
          <p:cNvSpPr/>
          <p:nvPr/>
        </p:nvSpPr>
        <p:spPr>
          <a:xfrm>
            <a:off x="2195640" y="1052640"/>
            <a:ext cx="2016000" cy="1368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оцен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золистого те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3"/>
          <p:cNvSpPr/>
          <p:nvPr/>
        </p:nvSpPr>
        <p:spPr>
          <a:xfrm>
            <a:off x="4284720" y="1052640"/>
            <a:ext cx="1655640" cy="1368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ёт полов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ен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4"/>
          <p:cNvSpPr/>
          <p:nvPr/>
        </p:nvSpPr>
        <p:spPr>
          <a:xfrm>
            <a:off x="5940360" y="981000"/>
            <a:ext cx="2772000" cy="1440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тие в соответств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динамикой 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ловного мозга ребё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6"/>
          <p:cNvSpPr/>
          <p:nvPr/>
        </p:nvSpPr>
        <p:spPr>
          <a:xfrm>
            <a:off x="2059920" y="3789360"/>
            <a:ext cx="472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нципы действия метода кинезиолог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истема кинезиологических упражн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P4300548"/>
          <p:cNvPicPr/>
          <p:nvPr/>
        </p:nvPicPr>
        <p:blipFill>
          <a:blip r:embed="rId1"/>
          <a:stretch/>
        </p:blipFill>
        <p:spPr>
          <a:xfrm>
            <a:off x="395280" y="692280"/>
            <a:ext cx="2808360" cy="19857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19280" y="692280"/>
            <a:ext cx="526716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♪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жнения с младши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школьника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полняются в медленном темпе сначал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ной рукой или симметрич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положенными пальцами, а в завершении - двумя руками вместе. Основным требованием является точное выполнение движений и чистое интониров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3419640" y="3141720"/>
            <a:ext cx="53290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♪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ъём заданий для старших дошкольников увеличивается, наращивается темп выполнения, варьируется использование мелод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♪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уются одновременные разнотипные движения рук, сопровождаемые пеним интервалов, соответствующих азбуке 6 и 7-ой ступени разви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♪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 отличие от содружественных движений, разнотипные движения расширяют резервные возможности функционирования мозга, развивается координация движений, звуковысотный слух, музыкальное мышл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3" descr="72 091"/>
          <p:cNvPicPr/>
          <p:nvPr/>
        </p:nvPicPr>
        <p:blipFill>
          <a:blip r:embed="rId2"/>
          <a:stretch/>
        </p:blipFill>
        <p:spPr>
          <a:xfrm>
            <a:off x="395280" y="2781360"/>
            <a:ext cx="2808360" cy="1920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72 090"/>
          <p:cNvPicPr/>
          <p:nvPr/>
        </p:nvPicPr>
        <p:blipFill>
          <a:blip r:embed="rId3"/>
          <a:stretch/>
        </p:blipFill>
        <p:spPr>
          <a:xfrm>
            <a:off x="395280" y="4797360"/>
            <a:ext cx="2808360" cy="192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3579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пражнения для обеспечения эмоционального комфорта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916000" y="980640"/>
            <a:ext cx="59036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♪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ыхательные – не только снимают эмоциональное напряжение, но и стимулируют движения диафрагмы, укрепляют дыхательную мускулатур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♪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ятник – разнообразные плавные движения головы и рук. Снимают мышечный зажим, развивают звуковысотный слу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♪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рижирование – концентрирует внимание детей, снимает эмоциональное напря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1" descr="P4300547"/>
          <p:cNvPicPr/>
          <p:nvPr/>
        </p:nvPicPr>
        <p:blipFill>
          <a:blip r:embed="rId1"/>
          <a:stretch/>
        </p:blipFill>
        <p:spPr>
          <a:xfrm>
            <a:off x="250920" y="907920"/>
            <a:ext cx="2233440" cy="1675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3" descr="72 147"/>
          <p:cNvPicPr/>
          <p:nvPr/>
        </p:nvPicPr>
        <p:blipFill>
          <a:blip r:embed="rId2"/>
          <a:stretch/>
        </p:blipFill>
        <p:spPr>
          <a:xfrm>
            <a:off x="179280" y="3357720"/>
            <a:ext cx="2376720" cy="1585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4" descr="72 158"/>
          <p:cNvPicPr/>
          <p:nvPr/>
        </p:nvPicPr>
        <p:blipFill>
          <a:blip r:embed="rId3"/>
          <a:stretch/>
        </p:blipFill>
        <p:spPr>
          <a:xfrm>
            <a:off x="179280" y="5084640"/>
            <a:ext cx="2376720" cy="15843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5"/>
          <p:cNvSpPr/>
          <p:nvPr/>
        </p:nvSpPr>
        <p:spPr>
          <a:xfrm>
            <a:off x="2340000" y="3141720"/>
            <a:ext cx="66103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пражнения для развития творческого и логического мыш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2987640" y="4005360"/>
            <a:ext cx="597708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♪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жнения типа марионетка, кросс-ролл с пением разнообразных попев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♪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еркальное рисование, сопровождающиеся пением звуков октавы, либо трезвуч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♪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имнастика для глаз с пе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♪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мена слов в пении распевок разнообразными движен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1" descr="Точечный рисунок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79280" y="549360"/>
            <a:ext cx="866772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78"/>
          <p:cNvSpPr/>
          <p:nvPr/>
        </p:nvSpPr>
        <p:spPr>
          <a:xfrm>
            <a:off x="3276720" y="2133720"/>
            <a:ext cx="2590560" cy="1871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гласован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ий вс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дагогическ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лект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79"/>
          <p:cNvSpPr/>
          <p:nvPr/>
        </p:nvSpPr>
        <p:spPr>
          <a:xfrm>
            <a:off x="6300720" y="2133720"/>
            <a:ext cx="2592360" cy="19429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ение мет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ж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ществля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азличных форм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ской музыкаль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80"/>
          <p:cNvSpPr/>
          <p:nvPr/>
        </p:nvSpPr>
        <p:spPr>
          <a:xfrm>
            <a:off x="250920" y="5157720"/>
            <a:ext cx="2232000" cy="4334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л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81"/>
          <p:cNvSpPr/>
          <p:nvPr/>
        </p:nvSpPr>
        <p:spPr>
          <a:xfrm>
            <a:off x="2627280" y="5157720"/>
            <a:ext cx="2232000" cy="432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чные зн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2"/>
          <p:cNvSpPr/>
          <p:nvPr/>
        </p:nvSpPr>
        <p:spPr>
          <a:xfrm>
            <a:off x="5003640" y="5157720"/>
            <a:ext cx="2232360" cy="432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кие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84"/>
          <p:cNvSpPr/>
          <p:nvPr/>
        </p:nvSpPr>
        <p:spPr>
          <a:xfrm rot="5400000">
            <a:off x="6372360" y="835560"/>
            <a:ext cx="1152720" cy="1443240"/>
          </a:xfrm>
          <a:custGeom>
            <a:avLst/>
            <a:gdLst>
              <a:gd name="textAreaLeft" fmla="*/ 663120 w 1152720"/>
              <a:gd name="textAreaRight" fmla="*/ 896760 w 1152720"/>
              <a:gd name="textAreaTop" fmla="*/ 193680 h 1443240"/>
              <a:gd name="textAreaBottom" fmla="*/ 618480 h 14432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2427" y="0"/>
                </a:lnTo>
                <a:lnTo>
                  <a:pt x="12427" y="2899"/>
                </a:lnTo>
                <a:cubicBezTo>
                  <a:pt x="5564" y="2899"/>
                  <a:pt x="0" y="7044"/>
                  <a:pt x="0" y="12158"/>
                </a:cubicBezTo>
                <a:lnTo>
                  <a:pt x="0" y="21600"/>
                </a:lnTo>
                <a:lnTo>
                  <a:pt x="6501" y="21600"/>
                </a:lnTo>
                <a:lnTo>
                  <a:pt x="6501" y="12158"/>
                </a:lnTo>
                <a:cubicBezTo>
                  <a:pt x="6501" y="10557"/>
                  <a:pt x="9154" y="9259"/>
                  <a:pt x="12427" y="9259"/>
                </a:cubicBezTo>
                <a:lnTo>
                  <a:pt x="12427" y="12158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85"/>
          <p:cNvSpPr/>
          <p:nvPr/>
        </p:nvSpPr>
        <p:spPr>
          <a:xfrm flipH="1" rot="16150200">
            <a:off x="1111320" y="906120"/>
            <a:ext cx="1147680" cy="1296720"/>
          </a:xfrm>
          <a:custGeom>
            <a:avLst/>
            <a:gdLst>
              <a:gd name="textAreaLeft" fmla="*/ 660600 w 1147680"/>
              <a:gd name="textAreaRight" fmla="*/ 963360 w 1147680"/>
              <a:gd name="textAreaTop" fmla="*/ 172440 h 1296720"/>
              <a:gd name="textAreaBottom" fmla="*/ 55728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001" y="0"/>
                </a:lnTo>
                <a:lnTo>
                  <a:pt x="15001" y="2872"/>
                </a:lnTo>
                <a:lnTo>
                  <a:pt x="12427" y="2872"/>
                </a:lnTo>
                <a:cubicBezTo>
                  <a:pt x="5564" y="2872"/>
                  <a:pt x="0" y="7029"/>
                  <a:pt x="0" y="12158"/>
                </a:cubicBezTo>
                <a:lnTo>
                  <a:pt x="0" y="21600"/>
                </a:lnTo>
                <a:lnTo>
                  <a:pt x="6556" y="21600"/>
                </a:lnTo>
                <a:lnTo>
                  <a:pt x="6556" y="12158"/>
                </a:lnTo>
                <a:cubicBezTo>
                  <a:pt x="6556" y="10572"/>
                  <a:pt x="9185" y="9286"/>
                  <a:pt x="12427" y="9286"/>
                </a:cubicBezTo>
                <a:lnTo>
                  <a:pt x="15001" y="9286"/>
                </a:lnTo>
                <a:lnTo>
                  <a:pt x="15001" y="12158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6"/>
          <p:cNvSpPr/>
          <p:nvPr/>
        </p:nvSpPr>
        <p:spPr>
          <a:xfrm>
            <a:off x="4067280" y="1125360"/>
            <a:ext cx="936360" cy="976320"/>
          </a:xfrm>
          <a:prstGeom prst="downArrow">
            <a:avLst>
              <a:gd name="adj1" fmla="val 50000"/>
              <a:gd name="adj2" fmla="val 260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76"/>
          <p:cNvSpPr/>
          <p:nvPr/>
        </p:nvSpPr>
        <p:spPr>
          <a:xfrm>
            <a:off x="2340000" y="404640"/>
            <a:ext cx="3887640" cy="1224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словия реа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етода кинези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 практ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3"/>
          <p:cNvSpPr/>
          <p:nvPr/>
        </p:nvSpPr>
        <p:spPr>
          <a:xfrm>
            <a:off x="3348000" y="4508640"/>
            <a:ext cx="609480" cy="626760"/>
          </a:xfrm>
          <a:prstGeom prst="downArrowCallout">
            <a:avLst>
              <a:gd name="adj1" fmla="val 25002"/>
              <a:gd name="adj2" fmla="val 35157"/>
              <a:gd name="adj3" fmla="val 19786"/>
              <a:gd name="adj4" fmla="val 83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96"/>
          <p:cNvSpPr/>
          <p:nvPr/>
        </p:nvSpPr>
        <p:spPr>
          <a:xfrm>
            <a:off x="1042920" y="4508640"/>
            <a:ext cx="609840" cy="626760"/>
          </a:xfrm>
          <a:prstGeom prst="downArrowCallout">
            <a:avLst>
              <a:gd name="adj1" fmla="val 25002"/>
              <a:gd name="adj2" fmla="val 35157"/>
              <a:gd name="adj3" fmla="val 19774"/>
              <a:gd name="adj4" fmla="val 83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97"/>
          <p:cNvSpPr/>
          <p:nvPr/>
        </p:nvSpPr>
        <p:spPr>
          <a:xfrm>
            <a:off x="5724360" y="4508640"/>
            <a:ext cx="609840" cy="626760"/>
          </a:xfrm>
          <a:prstGeom prst="downArrowCallout">
            <a:avLst>
              <a:gd name="adj1" fmla="val 25002"/>
              <a:gd name="adj2" fmla="val 35157"/>
              <a:gd name="adj3" fmla="val 19774"/>
              <a:gd name="adj4" fmla="val 83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5"/>
          <p:cNvSpPr/>
          <p:nvPr/>
        </p:nvSpPr>
        <p:spPr>
          <a:xfrm>
            <a:off x="1042920" y="4437000"/>
            <a:ext cx="53294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98"/>
          <p:cNvSpPr/>
          <p:nvPr/>
        </p:nvSpPr>
        <p:spPr>
          <a:xfrm>
            <a:off x="2268360" y="3716280"/>
            <a:ext cx="1008360" cy="976320"/>
          </a:xfrm>
          <a:custGeom>
            <a:avLst/>
            <a:gdLst>
              <a:gd name="textAreaLeft" fmla="*/ 147600 w 1008360"/>
              <a:gd name="textAreaRight" fmla="*/ 860760 w 1008360"/>
              <a:gd name="textAreaTop" fmla="*/ 142920 h 976320"/>
              <a:gd name="textAreaBottom" fmla="*/ 833400 h 97632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10742" y="5399"/>
                  <a:pt x="10685" y="5400"/>
                  <a:pt x="10628" y="5402"/>
                </a:cubicBezTo>
                <a:lnTo>
                  <a:pt x="10456" y="5"/>
                </a:lnTo>
                <a:cubicBezTo>
                  <a:pt x="10571" y="1"/>
                  <a:pt x="10685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77"/>
          <p:cNvSpPr/>
          <p:nvPr/>
        </p:nvSpPr>
        <p:spPr>
          <a:xfrm>
            <a:off x="250920" y="2133720"/>
            <a:ext cx="2590560" cy="1873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незиология как мет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ет существ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ько внут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ы друг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новацио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4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4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4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4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4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16:20:30Z</dcterms:created>
  <dc:creator>Егор</dc:creator>
  <dc:description/>
  <dc:language>en-US</dc:language>
  <cp:lastModifiedBy>Egor</cp:lastModifiedBy>
  <dcterms:modified xsi:type="dcterms:W3CDTF">2012-10-07T09:37:46Z</dcterms:modified>
  <cp:revision>86</cp:revision>
  <dc:subject/>
  <dc:title>Слайд 1</dc:title>
</cp:coreProperties>
</file>