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438-7CA8-42FD-B962-CE61258F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5FA-85B7-4489-9FFE-E842329E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0F0-C5F5-46D9-A507-92FBE62C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FF1-5BE4-4BA7-9FB9-61424767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217-AF3E-4544-9F41-24BE9E21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629-C3E6-4764-A430-8BAEA9F7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6B7-FD57-45A5-98BA-34E9576D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AF1-9B1B-4DC7-BF86-276B6AE3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574-B630-45AA-AFB1-56165B8C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3B3-28E1-4741-AC61-B31A2B62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FFE-F490-44E7-8C3B-0EF6A06B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AE2-994C-4647-B43C-7622B7CD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B9EA-9FC0-4382-A28E-9D39D6A75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rtiaspb.ru/magazin?mode=product&amp;product_id=15602201" TargetMode="External"/><Relationship Id="rId3" Type="http://schemas.openxmlformats.org/officeDocument/2006/relationships/hyperlink" Target="http://tertiaspb.ru/magazin?mode=product&amp;product_id=15602201" TargetMode="External"/><Relationship Id="rId4" Type="http://schemas.openxmlformats.org/officeDocument/2006/relationships/hyperlink" Target="http://tertiaspb.ru/magazin?mode=product&amp;product_id=15602201" TargetMode="External"/><Relationship Id="rId5" Type="http://schemas.openxmlformats.org/officeDocument/2006/relationships/hyperlink" Target="http://tertiaspb.ru/magazin?mode=product&amp;product_id=15602201" TargetMode="External"/><Relationship Id="rId6" Type="http://schemas.openxmlformats.org/officeDocument/2006/relationships/hyperlink" Target="http://tertiaspb.ru/magazin?mode=product&amp;product_id=15602201" TargetMode="External"/><Relationship Id="rId7" Type="http://schemas.openxmlformats.org/officeDocument/2006/relationships/hyperlink" Target="http://www.cirota.ru/forum/view.php?subj=62346" TargetMode="External"/><Relationship Id="rId8" Type="http://schemas.openxmlformats.org/officeDocument/2006/relationships/hyperlink" Target="http://www.cirota.ru/forum/view.php?subj=62346" TargetMode="External"/><Relationship Id="rId9" Type="http://schemas.openxmlformats.org/officeDocument/2006/relationships/hyperlink" Target="http://www.cirota.ru/forum/view.php?subj=62346" TargetMode="External"/><Relationship Id="rId10" Type="http://schemas.openxmlformats.org/officeDocument/2006/relationships/hyperlink" Target="http://www.cirota.ru/forum/view.php?subj=62346" TargetMode="External"/><Relationship Id="rId11" Type="http://schemas.openxmlformats.org/officeDocument/2006/relationships/hyperlink" Target="http://www.cirota.ru/forum/view.php?subj=62346" TargetMode="External"/><Relationship Id="rId12" Type="http://schemas.openxmlformats.org/officeDocument/2006/relationships/hyperlink" Target="http://www.cirota.ru/forum/view.php?subj=62346" TargetMode="External"/><Relationship Id="rId13" Type="http://schemas.openxmlformats.org/officeDocument/2006/relationships/hyperlink" Target="http://myarmy58b.narod.ru/srashenia/borodinskoe_srazhenie_1812_god/" TargetMode="Externa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oynablog.ru/2011/04/01/russkij-imperator-aleksandr-i/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ыкова Елена Викторовна, учитель начальных классов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СОШ №1 г. Мичуринска, Тамб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«Недаром помнит вся Россия…»</a:t>
            </a:r>
            <a:br>
              <a:rPr sz="2800"/>
            </a:b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стория одного чис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5562720" cy="367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21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нформационные источн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ская энциклопедия №11, 2011г, стр. 1, 46-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. Новичкова.1812 – 2012  к 200-летию Отечественной войны.  Изд. «Планета». М., 2011год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рафические изображ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3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ertiaspb.ru/magazin?mod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oduct&amp;product_i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=15602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cdn.dipity.com/uploads/...5b8f58_1M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34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99"/>
                </a:solidFill>
                <a:latin typeface="Arial"/>
              </a:rPr>
              <a:t>http://www.runivers.ru/images/date/2010_jule/18/s_42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3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http://nason.ru/otechvoina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http://www.dev77.ru/index.php?limitstart=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cirota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forum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/view.php?subj=62346</a:t>
            </a:r>
            <a:r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myarmy58b.narod.ru</a:t>
            </a:r>
            <a:r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http://www.dorogi.net/TM/idea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rod.tomsk.ru/index-1194948424.ph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encyclopaedia-russia.ru/view_post.php?id=1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ammler.ru/index.php?s=109f481520b7725f86bbe008e68b2ccc&amp;act=ST&amp;f=198&amp;t=157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www.calend.ru/event/5567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forum.artinvestment.ru/blog.php?b=489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676160" y="2325240"/>
            <a:ext cx="563868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7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ыкова Елена Викторовна, учитель начальных классов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ОШ №1 г. Мичуринска, Тамбовской обла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4"/>
          <p:cNvSpPr/>
          <p:nvPr/>
        </p:nvSpPr>
        <p:spPr>
          <a:xfrm>
            <a:off x="1523880" y="304920"/>
            <a:ext cx="6019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оковое число - ш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1981080"/>
            <a:ext cx="2819520" cy="1219320"/>
          </a:xfrm>
          <a:prstGeom prst="wedgeEllipseCallout">
            <a:avLst>
              <a:gd name="adj1" fmla="val -91101"/>
              <a:gd name="adj2" fmla="val 725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Шестое число у нас в руке!"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утуз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42674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06-06-1812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нифест о созыве народного опол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1507320"/>
            <a:ext cx="42606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Император Александр I, подписал 6 июля 1812 г. в русском военном лагере близ Полоцка и обращение </a:t>
            </a:r>
            <a:r>
              <a:rPr b="0" i="1" lang="ru-RU" sz="1400" spc="-1" strike="noStrike">
                <a:solidFill>
                  <a:srgbClr val="800000"/>
                </a:solidFill>
                <a:latin typeface="Arial"/>
              </a:rPr>
              <a:t>«ко всем сословиям и состояниям, духовным и мирским»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Неприятель вступил в пределы наши и продолжает нести оружие свое внутрь России, надеясь силою и соблазнами потрясти спокойствие великой сей держа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нифест от 6 июля сбор ополчения поручал дворянству. Командный состав формировался из дворянского сословия.  Дворяне должны были из каждой губернии определить количество крепостных, направляемых в ополчение, а также выделить средства на обеспечение их снаряжением и запасом продовольствия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37497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-08-1812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она Смоленской Божией Мат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579120"/>
            <a:ext cx="7923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6 августа из Смоленска, была вывезена икона Смоленской Божией Матер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 икона была перенесена артиллерийскою ротою полковника Глухова в стан русских войск и все время находилась в 3-й походной дивизии А.П. Ермолова. Перед нею служили благодарственные молебны после каждой победы над неприятелем, перед нею же главнокомандующий М.И. Кутузов со всем войском молил Богоматерь о помощи и спасении России. Накануне знаменитой Бородинской битвы икону носили по всему лагерю для укрепления и поддержки мужества русских вои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90920" y="990720"/>
            <a:ext cx="41148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06-09-1812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рш-манёвр с Рязанской дороги на Калужскую, остановка в Тарутинском лагере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48120" y="1901880"/>
            <a:ext cx="51958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6 сентября Кутузов принял решение перейти с Рязанской дороги на Калужскую и таким образом закрыл от французов богатые южные губер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емясь сохранить армию, Кутузов без боя сдал Наполеону Москву и, совершив смелый фланговый марш-манёвр с Рязанской дороги на Калужску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рутинский маневр у реки Нары изменил всю стратегическую обстановку в пользу русской армии. Само расположение русских войск в Тарутинском лагере прикрывало не только Калугу, где были сосредоточены огромные запасы продовольствия и фуража, но также Тулу и Брянск с оружейным и литейным зав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5431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-10-1812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арутинское сражение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1751400"/>
            <a:ext cx="38102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6 октября Кутузов под Тарутином нанёс поражение французскому корпусу И. Мюрата и вынудил Наполеона ускорить оставление Москв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градив под Малоярославцем путь французской армии в южнорусские губернии, Кутузов заставил её отступать на Запад по разорённой Смоленской дороге. Энергично преследуя против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4800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.11.1812г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ажение под Крас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753200"/>
            <a:ext cx="373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6 ноября была одержана победа в жестоком, кровопролитном сражении при селе Красн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ри дня активных боевых действий французы понесли тяжёлые потери. Однако Наполеону всё же удалось избежать полного разгрома под Крас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1632" t="4329" r="1632" b="1378"/>
          <a:stretch/>
        </p:blipFill>
        <p:spPr>
          <a:xfrm>
            <a:off x="228600" y="1697040"/>
            <a:ext cx="48769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. 12. 1812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егство Наполеона из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67616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6 декабря Наполеон покинул армию, отправившись в Париж набирать новых солдат взамен погибших в Росс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тки разгромленной французской армии покидали территорию Росс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20555" r="0" b="3382"/>
          <a:stretch/>
        </p:blipFill>
        <p:spPr>
          <a:xfrm>
            <a:off x="2133720" y="3068640"/>
            <a:ext cx="48006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. 01. 1813г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лександр I подписал манифест об окончании Отечественной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752480"/>
            <a:ext cx="859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6 января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лександр I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подписал «Манифес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ифест объявлял завершение Отечественной войны. Манифестом также предписывалось ежегодно в день Рождества Христова праздновать и великий День Победы. Праздник был отменен после Октябрьской революции 1917 год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rcRect l="0" t="0" r="0" b="7026"/>
          <a:stretch/>
        </p:blipFill>
        <p:spPr>
          <a:xfrm>
            <a:off x="2514600" y="3643200"/>
            <a:ext cx="3962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5-02T19:48:37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