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72D1-7DF4-407A-9EDC-5B3016097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-184320"/>
            <a:ext cx="8837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920" y="1066680"/>
            <a:ext cx="754200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920" y="3891960"/>
            <a:ext cx="754200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D6D8-8936-4E61-A665-425B0228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-184320"/>
            <a:ext cx="8837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1066680"/>
            <a:ext cx="368028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2520" y="1066680"/>
            <a:ext cx="368028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920" y="3891960"/>
            <a:ext cx="368028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2520" y="3891960"/>
            <a:ext cx="368028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E5AF-EE31-446C-A37E-8B3EB4A0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-184320"/>
            <a:ext cx="8837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920" y="1066680"/>
            <a:ext cx="242820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7800" y="1066680"/>
            <a:ext cx="242820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48040" y="1066680"/>
            <a:ext cx="242820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920" y="3891960"/>
            <a:ext cx="242820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7800" y="3891960"/>
            <a:ext cx="242820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48040" y="3891960"/>
            <a:ext cx="242820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CB35-2AC3-4F4E-A885-89F94AC3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8136-0831-4F69-A534-6338E9A48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-184320"/>
            <a:ext cx="8837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1066680"/>
            <a:ext cx="7542000" cy="54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B749-2DD2-45DF-9001-ACF7B296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-184320"/>
            <a:ext cx="8837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1066680"/>
            <a:ext cx="754200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9704-473B-4FFD-AF18-9F910433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-184320"/>
            <a:ext cx="8837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1066680"/>
            <a:ext cx="368028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2520" y="1066680"/>
            <a:ext cx="368028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01A2-3CCD-4F04-9B0F-FA123BDF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-184320"/>
            <a:ext cx="8837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E149-CA02-4A87-9EB1-E64F1CF4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240" y="-184320"/>
            <a:ext cx="88376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69EE-385F-4470-A46C-EAD394F0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-184320"/>
            <a:ext cx="8837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1066680"/>
            <a:ext cx="368028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2520" y="1066680"/>
            <a:ext cx="368028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891960"/>
            <a:ext cx="368028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951F-B112-43A3-B7E3-228BDBD9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-184320"/>
            <a:ext cx="8837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920" y="1066680"/>
            <a:ext cx="7542000" cy="54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48EF-338A-499B-A97A-DB1AAAE1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-184320"/>
            <a:ext cx="8837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1066680"/>
            <a:ext cx="368028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2520" y="1066680"/>
            <a:ext cx="368028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2520" y="3891960"/>
            <a:ext cx="368028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9B59-556E-4AAD-AA90-0561D1E9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-184320"/>
            <a:ext cx="8837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1066680"/>
            <a:ext cx="368028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2520" y="1066680"/>
            <a:ext cx="368028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891960"/>
            <a:ext cx="754200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3D62-E4FF-41F8-8C01-A494165A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-184320"/>
            <a:ext cx="8837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1066680"/>
            <a:ext cx="754200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891960"/>
            <a:ext cx="754200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3407-692F-4124-A1D8-CC65F0EB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-184320"/>
            <a:ext cx="8837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1066680"/>
            <a:ext cx="368028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2520" y="1066680"/>
            <a:ext cx="368028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891960"/>
            <a:ext cx="368028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2520" y="3891960"/>
            <a:ext cx="368028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115B-06D0-4C6A-BCB0-485A0C1B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-184320"/>
            <a:ext cx="8837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1066680"/>
            <a:ext cx="242820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7800" y="1066680"/>
            <a:ext cx="242820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48040" y="1066680"/>
            <a:ext cx="242820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891960"/>
            <a:ext cx="242820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7800" y="3891960"/>
            <a:ext cx="242820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48040" y="3891960"/>
            <a:ext cx="242820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B491-4B8A-4963-8DAD-503320DF1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-184320"/>
            <a:ext cx="8837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920" y="1066680"/>
            <a:ext cx="754200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210A-6389-448D-8C66-B293DDD0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-184320"/>
            <a:ext cx="8837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920" y="1066680"/>
            <a:ext cx="368028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2520" y="1066680"/>
            <a:ext cx="368028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0611-FCAC-4AB3-AE5A-DA00BC3C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-184320"/>
            <a:ext cx="8837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8C86-986E-4807-B186-8719C197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-184320"/>
            <a:ext cx="88376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3EF9-82CB-4811-A17B-6101FEC0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-184320"/>
            <a:ext cx="8837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920" y="1066680"/>
            <a:ext cx="368028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2520" y="1066680"/>
            <a:ext cx="368028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920" y="3891960"/>
            <a:ext cx="368028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7A9E-30A1-4A24-82FC-AE3C0EDE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-184320"/>
            <a:ext cx="8837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920" y="1066680"/>
            <a:ext cx="368028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2520" y="1066680"/>
            <a:ext cx="368028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2520" y="3891960"/>
            <a:ext cx="368028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650D-A806-4D4D-9C72-868C9817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-184320"/>
            <a:ext cx="8837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920" y="1066680"/>
            <a:ext cx="368028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2520" y="1066680"/>
            <a:ext cx="368028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920" y="3891960"/>
            <a:ext cx="754200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9FD5-F0C6-4201-8A42-01782905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-184320"/>
            <a:ext cx="8837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emi Head 426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920" y="1066680"/>
            <a:ext cx="754200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 C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 C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 C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 C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 C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 C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 C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903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80720" y="6552720"/>
            <a:ext cx="2894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52880" y="6552720"/>
            <a:ext cx="1903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Franklin Gothic Medium Cond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291AD5C-822F-445B-AE85-7C01173BDFC5}" type="slidenum">
              <a:rPr b="0" lang="ru-RU" sz="1400" spc="-1" strike="noStrike">
                <a:solidFill>
                  <a:srgbClr val="ffffff"/>
                </a:solidFill>
                <a:latin typeface="Franklin Gothic Medium C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39596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emi Head 426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552720"/>
            <a:ext cx="1903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552720"/>
            <a:ext cx="2894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552720"/>
            <a:ext cx="1903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Franklin Gothic Medium Cond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FC0E836-1568-4FC9-9932-E71EDC5D98B6}" type="slidenum">
              <a:rPr b="0" lang="ru-RU" sz="1400" spc="-1" strike="noStrike">
                <a:solidFill>
                  <a:srgbClr val="ffffff"/>
                </a:solidFill>
                <a:latin typeface="Franklin Gothic Medium C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 C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 C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 C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 C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 C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 C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 C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astronaut.ru/as_turst/foto/simony_2.jpg" TargetMode="External"/><Relationship Id="rId2" Type="http://schemas.openxmlformats.org/officeDocument/2006/relationships/hyperlink" Target="http://www.testpilot.ru/espace/foto/t2/vostok/v6.jpg" TargetMode="External"/><Relationship Id="rId3" Type="http://schemas.openxmlformats.org/officeDocument/2006/relationships/hyperlink" Target="http://images.izvestia.ru/inauka/49096.jpg" TargetMode="External"/><Relationship Id="rId4" Type="http://schemas.openxmlformats.org/officeDocument/2006/relationships/hyperlink" Target="http://veved.ru/uploads/posts/2010-11/1289892981_kosmonavt.jpg" TargetMode="External"/><Relationship Id="rId5" Type="http://schemas.openxmlformats.org/officeDocument/2006/relationships/hyperlink" Target="http://saratov.rfn.ru/p/s_15337.jpg" TargetMode="External"/><Relationship Id="rId6" Type="http://schemas.openxmlformats.org/officeDocument/2006/relationships/hyperlink" Target="http://www.avrora-k.ru/f_gidro5.jpg" TargetMode="External"/><Relationship Id="rId7" Type="http://schemas.openxmlformats.org/officeDocument/2006/relationships/hyperlink" Target="http://img.66.ru/news/0/0/79/797.jpg%20-%20&#1070;.&#1040;.&#1043;&#1072;&#1075;&#1072;&#1088;&#1080;&#1085;" TargetMode="External"/><Relationship Id="rId8" Type="http://schemas.openxmlformats.org/officeDocument/2006/relationships/hyperlink" Target="http://www1.fips.ru/wps/wcm/connect/434fd4004d98014d93f99b4fa86fbc72/MKS.jpg?MOD=AJPERES&amp;CACHEID=434fd4004d98014d93f99b4fa86fbc72" TargetMode="External"/><Relationship Id="rId9" Type="http://schemas.openxmlformats.org/officeDocument/2006/relationships/hyperlink" Target="http://ruscosmos.narod.ru/KA/glavnaia/MIR/album3/slides/05.jpg" TargetMode="External"/><Relationship Id="rId10" Type="http://schemas.openxmlformats.org/officeDocument/2006/relationships/hyperlink" Target="http://rcio.pnzgu.ru/personal/55/1/7/index.1.gif" TargetMode="External"/><Relationship Id="rId11" Type="http://schemas.openxmlformats.org/officeDocument/2006/relationships/hyperlink" Target="http://lh6.ggpht.com/_dRCn6Dyf_LU/S1DKmTpcq4I/AAAAAAAAGjw/jFP96yROFrw/1263582335042417222.jpg" TargetMode="External"/><Relationship Id="rId12" Type="http://schemas.openxmlformats.org/officeDocument/2006/relationships/hyperlink" Target="http://img-fotki.yandex.ru/get/51/vitektlt-2008.1f/0_dc42_6d71d220_XL" TargetMode="External"/><Relationship Id="rId13" Type="http://schemas.openxmlformats.org/officeDocument/2006/relationships/hyperlink" Target="http://photojournal.jpl.nasa.gov/jpeg/PIA05981.jpg" TargetMode="External"/><Relationship Id="rId14" Type="http://schemas.openxmlformats.org/officeDocument/2006/relationships/hyperlink" Target="http://www.yelenaisinbaeva.ru/" TargetMode="External"/><Relationship Id="rId15" Type="http://schemas.openxmlformats.org/officeDocument/2006/relationships/hyperlink" Target="http://numeroquince.files.wordpress.com/2007/12/marte_hubble.jpg?w=470&amp;h=514" TargetMode="External"/><Relationship Id="rId1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cdn.endata.cx/data/games/7767/photoExtreme/33a8b1f4-bd1c-4766-8c8b-d99cc425aeca.jpg" TargetMode="External"/><Relationship Id="rId2" Type="http://schemas.openxmlformats.org/officeDocument/2006/relationships/hyperlink" Target="http://storage0.dms.mpinteractiv.ro/media/401/321/5106/4627050/20/marte.jpg?width=500&amp;height=501" TargetMode="External"/><Relationship Id="rId3" Type="http://schemas.openxmlformats.org/officeDocument/2006/relationships/hyperlink" Target="http://img-fotki.yandex.ru/get/3103/scotty2008.2/0_3c92_e9ec5332_X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11280" y="4005360"/>
            <a:ext cx="813744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Times New Roman"/>
              </a:rPr>
              <a:t>Математика. Задачи на космическую тему</a:t>
            </a:r>
            <a:endParaRPr b="0" lang="en-US" sz="20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МК – любой</a:t>
            </a:r>
            <a:endParaRPr b="0" lang="en-US" sz="20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 - 4 класс</a:t>
            </a:r>
            <a:endParaRPr b="0" lang="en-US" sz="18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орунова Валентина Васильевна, учитель начальных классов,</a:t>
            </a:r>
            <a:endParaRPr b="0" lang="en-US" sz="1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У СОШ № 6 г. Великие Луки Псковской области</a:t>
            </a:r>
            <a:endParaRPr b="0" lang="en-US" sz="1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83" name="WordArt 33"/>
          <p:cNvSpPr txBox="1"/>
          <p:nvPr/>
        </p:nvSpPr>
        <p:spPr>
          <a:xfrm>
            <a:off x="2124000" y="2565360"/>
            <a:ext cx="5184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наете  ли  вы…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-184320"/>
            <a:ext cx="8837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cffcc"/>
                </a:solidFill>
                <a:latin typeface="Hemi Head 426"/>
              </a:rPr>
              <a:t>Выразите длительность первого полёта в минутах</a:t>
            </a:r>
            <a:endParaRPr b="0" lang="en-US" sz="2800" spc="-1" strike="noStrike">
              <a:solidFill>
                <a:srgbClr val="ffffff"/>
              </a:solidFill>
              <a:latin typeface="Hemi Head 426"/>
            </a:endParaRPr>
          </a:p>
        </p:txBody>
      </p:sp>
      <p:pic>
        <p:nvPicPr>
          <p:cNvPr id="118" name="Picture 6" descr="ГАГАРИН"/>
          <p:cNvPicPr/>
          <p:nvPr/>
        </p:nvPicPr>
        <p:blipFill>
          <a:blip r:embed="rId1"/>
          <a:stretch/>
        </p:blipFill>
        <p:spPr>
          <a:xfrm>
            <a:off x="1403280" y="981000"/>
            <a:ext cx="3816360" cy="5543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294160" y="1066680"/>
            <a:ext cx="36957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ервый</a:t>
            </a:r>
            <a:endParaRPr b="0" lang="en-US" sz="26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смический полет</a:t>
            </a:r>
            <a:endParaRPr b="0" lang="en-US" sz="26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Юрия Гагарина</a:t>
            </a:r>
            <a:endParaRPr b="0" lang="en-US" sz="26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лился ровно </a:t>
            </a:r>
            <a:endParaRPr b="0" lang="en-US" sz="26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 час  48 минут.</a:t>
            </a:r>
            <a:endParaRPr b="0" lang="en-US" sz="26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5651640" y="3933720"/>
            <a:ext cx="3095640" cy="1224000"/>
          </a:xfrm>
          <a:prstGeom prst="flowChartPunchedTape">
            <a:avLst/>
          </a:prstGeom>
          <a:solidFill>
            <a:srgbClr val="cc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1ч 48мин = 108м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-184320"/>
            <a:ext cx="8837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cffcc"/>
                </a:solidFill>
                <a:latin typeface="Hemi Head 426"/>
              </a:rPr>
              <a:t>На борту станции “Мир” находилось более 14 тонн различной исследовательской аппаратуры</a:t>
            </a:r>
            <a:endParaRPr b="0" lang="en-US" sz="2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292720" y="1052640"/>
            <a:ext cx="36957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лько килограммов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 тонне?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ите вес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ппаратуры 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илограммах на борту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нции «Мир»?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pic>
        <p:nvPicPr>
          <p:cNvPr id="123" name="Picture 6" descr="MKS"/>
          <p:cNvPicPr/>
          <p:nvPr/>
        </p:nvPicPr>
        <p:blipFill>
          <a:blip r:embed="rId1"/>
          <a:stretch/>
        </p:blipFill>
        <p:spPr>
          <a:xfrm>
            <a:off x="1332000" y="1052640"/>
            <a:ext cx="3744720" cy="547200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9"/>
          <p:cNvSpPr/>
          <p:nvPr/>
        </p:nvSpPr>
        <p:spPr>
          <a:xfrm>
            <a:off x="5651640" y="4941720"/>
            <a:ext cx="2952720" cy="1440000"/>
          </a:xfrm>
          <a:prstGeom prst="flowChartPunchedTape">
            <a:avLst/>
          </a:prstGeom>
          <a:solidFill>
            <a:srgbClr val="cc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14т = 14000к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AutoShape 10"/>
          <p:cNvSpPr/>
          <p:nvPr/>
        </p:nvSpPr>
        <p:spPr>
          <a:xfrm>
            <a:off x="5724360" y="1844640"/>
            <a:ext cx="2953080" cy="1440000"/>
          </a:xfrm>
          <a:prstGeom prst="flowChartPunchedTape">
            <a:avLst/>
          </a:prstGeom>
          <a:solidFill>
            <a:srgbClr val="cc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1т = 1000к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1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4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0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-184320"/>
            <a:ext cx="8837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cffcc"/>
                </a:solidFill>
                <a:latin typeface="Hemi Head 426"/>
              </a:rPr>
              <a:t>Выразите массу станции «Мир» в килограммах</a:t>
            </a:r>
            <a:r>
              <a:rPr b="0" lang="ru-RU" sz="4400" spc="-1" strike="noStrike">
                <a:solidFill>
                  <a:srgbClr val="ffffff"/>
                </a:solidFill>
                <a:latin typeface="Hemi Head 426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256000" y="1052640"/>
            <a:ext cx="388764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ая масса станции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Мир» с двумя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стыкованными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аблями составляла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ее 36 тонн.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pic>
        <p:nvPicPr>
          <p:cNvPr id="128" name="Picture 7" descr="05"/>
          <p:cNvPicPr/>
          <p:nvPr/>
        </p:nvPicPr>
        <p:blipFill>
          <a:blip r:embed="rId1"/>
          <a:stretch/>
        </p:blipFill>
        <p:spPr>
          <a:xfrm>
            <a:off x="1476360" y="1052640"/>
            <a:ext cx="3672000" cy="547200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10"/>
          <p:cNvSpPr/>
          <p:nvPr/>
        </p:nvSpPr>
        <p:spPr>
          <a:xfrm>
            <a:off x="5651640" y="3645000"/>
            <a:ext cx="2952720" cy="1512720"/>
          </a:xfrm>
          <a:prstGeom prst="flowChartPunchedTape">
            <a:avLst/>
          </a:prstGeom>
          <a:solidFill>
            <a:srgbClr val="cc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36т = 36000к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4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601280" y="1066680"/>
            <a:ext cx="75423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Medium Cond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Franklin Gothic Medium Cond"/>
              </a:rPr>
              <a:t>По порядку все планет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Franklin Gothic Medium Cond"/>
              </a:rPr>
              <a:t>Назовёт любой из нас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Franklin Gothic Medium Cond"/>
              </a:rPr>
              <a:t>Раз — Меркури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Franklin Gothic Medium Cond"/>
              </a:rPr>
              <a:t>Два — Венер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Franklin Gothic Medium Cond"/>
              </a:rPr>
              <a:t>Три — Земл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Franklin Gothic Medium Cond"/>
              </a:rPr>
              <a:t>Четыре — Марс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Franklin Gothic Medium Cond"/>
              </a:rPr>
              <a:t>Пять — Юпитер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Franklin Gothic Medium Cond"/>
              </a:rPr>
              <a:t>Шесть — Сатурн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Franklin Gothic Medium Cond"/>
              </a:rPr>
              <a:t>Семь — Уран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Franklin Gothic Medium Cond"/>
              </a:rPr>
              <a:t>За ним — Нептун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Franklin Gothic Medium Cond"/>
              </a:rPr>
              <a:t>Он восьмым идёт по счёт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Franklin Gothic Medium Cond"/>
              </a:rPr>
              <a:t>А за ним уже, потом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Franklin Gothic Medium Cond"/>
              </a:rPr>
              <a:t>И девятая планет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Franklin Gothic Medium Cond"/>
              </a:rPr>
              <a:t>Под названием Плутон.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400"/>
            </a:br>
            <a:r>
              <a:rPr b="0" i="1" lang="ru-RU" sz="1800" spc="-1" strike="noStrike">
                <a:solidFill>
                  <a:srgbClr val="000000"/>
                </a:solidFill>
                <a:latin typeface="Franklin Gothic Medium Cond"/>
              </a:rPr>
              <a:t>Аркадий Хайт</a:t>
            </a:r>
            <a:endParaRPr b="0" lang="en-US" sz="1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pic>
        <p:nvPicPr>
          <p:cNvPr id="131" name="Picture 7" descr="index_1"/>
          <p:cNvPicPr/>
          <p:nvPr/>
        </p:nvPicPr>
        <p:blipFill>
          <a:blip r:embed="rId1"/>
          <a:srcRect l="0" t="0" r="0" b="2516"/>
          <a:stretch/>
        </p:blipFill>
        <p:spPr>
          <a:xfrm>
            <a:off x="4572000" y="1197000"/>
            <a:ext cx="4176720" cy="5262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"/>
          <p:cNvPicPr/>
          <p:nvPr/>
        </p:nvPicPr>
        <p:blipFill>
          <a:blip r:embed="rId2"/>
          <a:stretch/>
        </p:blipFill>
        <p:spPr>
          <a:xfrm>
            <a:off x="684360" y="314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9" dur="29000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-184320"/>
            <a:ext cx="8837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ccffcc"/>
                </a:solidFill>
                <a:latin typeface="Hemi Head 426"/>
              </a:rPr>
              <a:t>Длительность полного солнечного затмения не превышает 7мин 30 секунд ; полного лунного затмения — 104 минут</a:t>
            </a:r>
            <a:endParaRPr b="0" lang="en-US" sz="2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447560" y="1066680"/>
            <a:ext cx="369396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сколько минут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ньше длится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ное  лунное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тмение?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364000" y="3860280"/>
            <a:ext cx="3695760" cy="26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pic>
        <p:nvPicPr>
          <p:cNvPr id="136" name="Picture 8" descr="солнечное затмение"/>
          <p:cNvPicPr/>
          <p:nvPr/>
        </p:nvPicPr>
        <p:blipFill>
          <a:blip r:embed="rId1"/>
          <a:stretch/>
        </p:blipFill>
        <p:spPr>
          <a:xfrm>
            <a:off x="5292720" y="1052640"/>
            <a:ext cx="3743280" cy="273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лунное затмение"/>
          <p:cNvPicPr/>
          <p:nvPr/>
        </p:nvPicPr>
        <p:blipFill>
          <a:blip r:embed="rId2"/>
          <a:stretch/>
        </p:blipFill>
        <p:spPr>
          <a:xfrm>
            <a:off x="1476360" y="3789360"/>
            <a:ext cx="3672000" cy="273528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11"/>
          <p:cNvSpPr/>
          <p:nvPr/>
        </p:nvSpPr>
        <p:spPr>
          <a:xfrm>
            <a:off x="5292720" y="3789360"/>
            <a:ext cx="3743280" cy="2808360"/>
          </a:xfrm>
          <a:prstGeom prst="flowChartPunchedTape">
            <a:avLst/>
          </a:prstGeom>
          <a:solidFill>
            <a:srgbClr val="cc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104мин – 7мин 30с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= 96мин 30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7мин 30с = 450с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04мин = 6240с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6240 – 450 = 5790(с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0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-184320"/>
            <a:ext cx="8837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cffcc"/>
                </a:solidFill>
                <a:latin typeface="Hemi Head 426"/>
              </a:rPr>
              <a:t>Сколько суток было бы в году?</a:t>
            </a:r>
            <a:endParaRPr b="0" lang="en-US" sz="2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560" y="1066680"/>
            <a:ext cx="36939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бы Земля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ращалась в обратную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орону вокруг своей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и, то в году было бы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двое суток меньш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pic>
        <p:nvPicPr>
          <p:cNvPr id="141" name="Picture 8" descr="ось"/>
          <p:cNvPicPr/>
          <p:nvPr/>
        </p:nvPicPr>
        <p:blipFill>
          <a:blip r:embed="rId1"/>
          <a:stretch/>
        </p:blipFill>
        <p:spPr>
          <a:xfrm>
            <a:off x="5294160" y="1052640"/>
            <a:ext cx="3741840" cy="54720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10"/>
          <p:cNvSpPr/>
          <p:nvPr/>
        </p:nvSpPr>
        <p:spPr>
          <a:xfrm>
            <a:off x="1835280" y="4005360"/>
            <a:ext cx="2952720" cy="1512720"/>
          </a:xfrm>
          <a:prstGeom prst="flowChartPunchedTape">
            <a:avLst/>
          </a:prstGeom>
          <a:solidFill>
            <a:srgbClr val="cc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363 или 364 дн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(високосный г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6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2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5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-184320"/>
            <a:ext cx="8837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Hemi Head 426"/>
              </a:rPr>
              <a:t>       </a:t>
            </a:r>
            <a:r>
              <a:rPr b="0" lang="ru-RU" sz="2800" spc="-1" strike="noStrike">
                <a:solidFill>
                  <a:srgbClr val="ccffcc"/>
                </a:solidFill>
                <a:latin typeface="Hemi Head 426"/>
              </a:rPr>
              <a:t>Марс - четвертая от Солнца планета</a:t>
            </a:r>
            <a:endParaRPr b="0" lang="en-US" sz="2800" spc="-1" strike="noStrike">
              <a:solidFill>
                <a:srgbClr val="ffffff"/>
              </a:solidFill>
              <a:latin typeface="Hemi Head 426"/>
            </a:endParaRPr>
          </a:p>
        </p:txBody>
      </p:sp>
      <p:pic>
        <p:nvPicPr>
          <p:cNvPr id="144" name="Picture 2" descr="C:\Documents and Settings\Admin\Рабочий стол\марс.jpg"/>
          <p:cNvPicPr/>
          <p:nvPr/>
        </p:nvPicPr>
        <p:blipFill>
          <a:blip r:embed="rId1"/>
          <a:stretch/>
        </p:blipFill>
        <p:spPr>
          <a:xfrm>
            <a:off x="5508720" y="1052640"/>
            <a:ext cx="3384360" cy="3240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9"/>
          <p:cNvSpPr/>
          <p:nvPr/>
        </p:nvSpPr>
        <p:spPr>
          <a:xfrm>
            <a:off x="5292720" y="4221000"/>
            <a:ext cx="38512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 Марсе челове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ожет прыгнуть 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за выше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ем 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емле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Чему был бы раве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этот прыжок на Марс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3" descr="C:\Documents and Settings\Admin\Рабочий стол\59.jpg"/>
          <p:cNvPicPr/>
          <p:nvPr/>
        </p:nvPicPr>
        <p:blipFill>
          <a:blip r:embed="rId2"/>
          <a:stretch/>
        </p:blipFill>
        <p:spPr>
          <a:xfrm>
            <a:off x="1403280" y="1052640"/>
            <a:ext cx="3816360" cy="5472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1"/>
          <p:cNvSpPr/>
          <p:nvPr/>
        </p:nvSpPr>
        <p:spPr>
          <a:xfrm>
            <a:off x="1619280" y="-659880"/>
            <a:ext cx="331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Елена Исинбае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м – 15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02.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18"/>
          <p:cNvSpPr/>
          <p:nvPr/>
        </p:nvSpPr>
        <p:spPr>
          <a:xfrm>
            <a:off x="1692360" y="4797360"/>
            <a:ext cx="2952720" cy="1513080"/>
          </a:xfrm>
          <a:prstGeom prst="flowChartPunchedTape">
            <a:avLst/>
          </a:prstGeom>
          <a:solidFill>
            <a:srgbClr val="cc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5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×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2,5 = 12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12 м 50 с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1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1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6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240" y="-184320"/>
            <a:ext cx="8837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cffcc"/>
                </a:solidFill>
                <a:latin typeface="Hemi Head 426"/>
              </a:rPr>
              <a:t>Выразите высоту вулкана Никс в метрах</a:t>
            </a:r>
            <a:endParaRPr b="0" lang="en-US" sz="2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47560" y="1066680"/>
            <a:ext cx="36939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сота вулкана Никс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лимпик,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ходящегося на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рсе, — более 20 км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pic>
        <p:nvPicPr>
          <p:cNvPr id="151" name="Picture 6" descr="вулкан на марсе"/>
          <p:cNvPicPr/>
          <p:nvPr/>
        </p:nvPicPr>
        <p:blipFill>
          <a:blip r:embed="rId1"/>
          <a:stretch/>
        </p:blipFill>
        <p:spPr>
          <a:xfrm>
            <a:off x="5170320" y="1052640"/>
            <a:ext cx="3772080" cy="54720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8"/>
          <p:cNvSpPr/>
          <p:nvPr/>
        </p:nvSpPr>
        <p:spPr>
          <a:xfrm>
            <a:off x="1908000" y="3500280"/>
            <a:ext cx="2953080" cy="1513080"/>
          </a:xfrm>
          <a:prstGeom prst="flowChartPunchedTape">
            <a:avLst/>
          </a:prstGeom>
          <a:solidFill>
            <a:srgbClr val="cc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20км = 20000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5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8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-184320"/>
            <a:ext cx="8837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cffcc"/>
                </a:solidFill>
                <a:latin typeface="Hemi Head 426"/>
              </a:rPr>
              <a:t>Выразите высоту гор в метрах</a:t>
            </a:r>
            <a:endParaRPr b="0" lang="en-US" sz="2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294160" y="1066680"/>
            <a:ext cx="36957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ры на Марсе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стигают высоты 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 - 25 километров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pic>
        <p:nvPicPr>
          <p:cNvPr id="155" name="Picture 6" descr="горы на марсе"/>
          <p:cNvPicPr/>
          <p:nvPr/>
        </p:nvPicPr>
        <p:blipFill>
          <a:blip r:embed="rId1"/>
          <a:stretch/>
        </p:blipFill>
        <p:spPr>
          <a:xfrm>
            <a:off x="1447920" y="1052640"/>
            <a:ext cx="3771720" cy="540072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8"/>
          <p:cNvSpPr/>
          <p:nvPr/>
        </p:nvSpPr>
        <p:spPr>
          <a:xfrm>
            <a:off x="5580000" y="3284640"/>
            <a:ext cx="2952720" cy="1512720"/>
          </a:xfrm>
          <a:prstGeom prst="flowChartPunchedTape">
            <a:avLst/>
          </a:prstGeom>
          <a:solidFill>
            <a:srgbClr val="cc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20км = 20000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25км = 25000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4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7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6000" y="-184320"/>
            <a:ext cx="8837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cffcc"/>
                </a:solidFill>
                <a:latin typeface="Hemi Head 426"/>
              </a:rPr>
              <a:t>Вырази толщину ледяного покрова в метрах</a:t>
            </a:r>
            <a:endParaRPr b="0" lang="en-US" sz="2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476360" y="1052640"/>
            <a:ext cx="374328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км 500м -</a:t>
            </a:r>
            <a:endParaRPr b="0" lang="en-US" sz="26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аксимальная</a:t>
            </a:r>
            <a:endParaRPr b="0" lang="en-US" sz="26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олщина ледяного</a:t>
            </a:r>
            <a:endParaRPr b="0" lang="en-US" sz="26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крова на Северном</a:t>
            </a:r>
            <a:endParaRPr b="0" lang="en-US" sz="26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люсе Марса</a:t>
            </a:r>
            <a:endParaRPr b="0" lang="en-US" sz="26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pic>
        <p:nvPicPr>
          <p:cNvPr id="159" name="Picture 6" descr="ледник на марсе"/>
          <p:cNvPicPr/>
          <p:nvPr/>
        </p:nvPicPr>
        <p:blipFill>
          <a:blip r:embed="rId1"/>
          <a:stretch/>
        </p:blipFill>
        <p:spPr>
          <a:xfrm>
            <a:off x="5292720" y="1052640"/>
            <a:ext cx="3672000" cy="5472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1476000" y="3846600"/>
            <a:ext cx="381636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448240" y="1066680"/>
            <a:ext cx="36957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162" name="AutoShape 19"/>
          <p:cNvSpPr/>
          <p:nvPr/>
        </p:nvSpPr>
        <p:spPr>
          <a:xfrm>
            <a:off x="1908000" y="4076640"/>
            <a:ext cx="2953080" cy="1513080"/>
          </a:xfrm>
          <a:prstGeom prst="flowChartPunchedTape">
            <a:avLst/>
          </a:prstGeom>
          <a:solidFill>
            <a:srgbClr val="cc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2км 500м = 2500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6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9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2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68000" y="1628640"/>
            <a:ext cx="822780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 Cond"/>
              </a:rPr>
              <a:t>     </a:t>
            </a:r>
            <a:r>
              <a:rPr b="0" lang="ru-RU" sz="2600" spc="-1" strike="noStrike">
                <a:solidFill>
                  <a:srgbClr val="33cccc"/>
                </a:solidFill>
                <a:latin typeface="Franklin Gothic Medium Cond"/>
              </a:rPr>
              <a:t>Кто полетел к планетам первый?</a:t>
            </a:r>
            <a:br>
              <a:rPr sz="2600"/>
            </a:br>
            <a:r>
              <a:rPr b="0" lang="ru-RU" sz="2600" spc="-1" strike="noStrike">
                <a:solidFill>
                  <a:srgbClr val="33cccc"/>
                </a:solidFill>
                <a:latin typeface="Franklin Gothic Medium Cond"/>
              </a:rPr>
              <a:t>Какой в апреле праздник раз в году?</a:t>
            </a:r>
            <a:br>
              <a:rPr sz="2600"/>
            </a:br>
            <a:r>
              <a:rPr b="0" lang="ru-RU" sz="2600" spc="-1" strike="noStrike">
                <a:solidFill>
                  <a:srgbClr val="33cccc"/>
                </a:solidFill>
                <a:latin typeface="Franklin Gothic Medium Cond"/>
              </a:rPr>
              <a:t>О космосе слагаются легенды,</a:t>
            </a:r>
            <a:br>
              <a:rPr sz="2600"/>
            </a:br>
            <a:r>
              <a:rPr b="0" lang="ru-RU" sz="2600" spc="-1" strike="noStrike">
                <a:solidFill>
                  <a:srgbClr val="33cccc"/>
                </a:solidFill>
                <a:latin typeface="Franklin Gothic Medium Cond"/>
              </a:rPr>
              <a:t>Герои - космонавты на виду!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33cccc"/>
                </a:solidFill>
                <a:latin typeface="Franklin Gothic Medium Cond"/>
              </a:rPr>
              <a:t>Им на земле спокойно не живётся,</a:t>
            </a:r>
            <a:br>
              <a:rPr sz="2600"/>
            </a:br>
            <a:r>
              <a:rPr b="0" lang="ru-RU" sz="2600" spc="-1" strike="noStrike">
                <a:solidFill>
                  <a:srgbClr val="33cccc"/>
                </a:solidFill>
                <a:latin typeface="Franklin Gothic Medium Cond"/>
              </a:rPr>
              <a:t>Их почему - то вечно тянет в высь,</a:t>
            </a:r>
            <a:br>
              <a:rPr sz="2600"/>
            </a:br>
            <a:r>
              <a:rPr b="0" lang="ru-RU" sz="2600" spc="-1" strike="noStrike">
                <a:solidFill>
                  <a:srgbClr val="33cccc"/>
                </a:solidFill>
                <a:latin typeface="Franklin Gothic Medium Cond"/>
              </a:rPr>
              <a:t>Им звёзды покоряются, сдаются,</a:t>
            </a:r>
            <a:br>
              <a:rPr sz="2600"/>
            </a:br>
            <a:r>
              <a:rPr b="0" lang="ru-RU" sz="2600" spc="-1" strike="noStrike">
                <a:solidFill>
                  <a:srgbClr val="33cccc"/>
                </a:solidFill>
                <a:latin typeface="Franklin Gothic Medium Cond"/>
              </a:rPr>
              <a:t>На их погонах золотом зажглись.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pic>
        <p:nvPicPr>
          <p:cNvPr id="85" name="Picture 11" descr=""/>
          <p:cNvPicPr/>
          <p:nvPr/>
        </p:nvPicPr>
        <p:blipFill>
          <a:blip r:embed="rId1"/>
          <a:stretch/>
        </p:blipFill>
        <p:spPr>
          <a:xfrm>
            <a:off x="611280" y="314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00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-184320"/>
            <a:ext cx="8837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Hemi Head 426"/>
              </a:rPr>
              <a:t>    </a:t>
            </a:r>
            <a:r>
              <a:rPr b="0" lang="ru-RU" sz="2800" spc="-1" strike="noStrike">
                <a:solidFill>
                  <a:srgbClr val="ccffcc"/>
                </a:solidFill>
                <a:latin typeface="Hemi Head 426"/>
              </a:rPr>
              <a:t>Какой вес смог бы поднять Дмитрий на Луне?</a:t>
            </a:r>
            <a:r>
              <a:rPr b="0" lang="ru-RU" sz="2800" spc="-1" strike="noStrike">
                <a:solidFill>
                  <a:srgbClr val="ffffff"/>
                </a:solidFill>
                <a:latin typeface="Hemi Head 426"/>
              </a:rPr>
              <a:t>               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Hemi Head 426"/>
            </a:endParaRPr>
          </a:p>
        </p:txBody>
      </p:sp>
      <p:pic>
        <p:nvPicPr>
          <p:cNvPr id="164" name="Picture 2" descr="C:\Documents and Settings\Admin\Рабочий стол\луна.jpg"/>
          <p:cNvPicPr/>
          <p:nvPr/>
        </p:nvPicPr>
        <p:blipFill>
          <a:blip r:embed="rId1"/>
          <a:stretch/>
        </p:blipFill>
        <p:spPr>
          <a:xfrm>
            <a:off x="1476360" y="1052640"/>
            <a:ext cx="3454560" cy="3240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1"/>
          <p:cNvSpPr/>
          <p:nvPr/>
        </p:nvSpPr>
        <p:spPr>
          <a:xfrm>
            <a:off x="1476360" y="454608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мизинцах Дмитрий Халаджи собирается поднять две гири, каждая из которых весом в 40 к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292720" y="1052640"/>
            <a:ext cx="36957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Луне человек может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нять  груз в 6 раз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ше, чем на Земле.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pic>
        <p:nvPicPr>
          <p:cNvPr id="167" name="Picture 13" descr="halaji250"/>
          <p:cNvPicPr/>
          <p:nvPr/>
        </p:nvPicPr>
        <p:blipFill>
          <a:blip r:embed="rId2"/>
          <a:stretch/>
        </p:blipFill>
        <p:spPr>
          <a:xfrm>
            <a:off x="5508720" y="2349360"/>
            <a:ext cx="3311280" cy="295128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15"/>
          <p:cNvSpPr/>
          <p:nvPr/>
        </p:nvSpPr>
        <p:spPr>
          <a:xfrm>
            <a:off x="5867280" y="5013360"/>
            <a:ext cx="2952720" cy="1512720"/>
          </a:xfrm>
          <a:prstGeom prst="flowChartPunchedTape">
            <a:avLst/>
          </a:prstGeom>
          <a:solidFill>
            <a:srgbClr val="cc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80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×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6 = 480к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8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-184320"/>
            <a:ext cx="8837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cffcc"/>
                </a:solidFill>
                <a:latin typeface="Hemi Head 426"/>
              </a:rPr>
              <a:t>   </a:t>
            </a:r>
            <a:r>
              <a:rPr b="0" lang="ru-RU" sz="2800" spc="-1" strike="noStrike">
                <a:solidFill>
                  <a:srgbClr val="ccffcc"/>
                </a:solidFill>
                <a:latin typeface="Hemi Head 426"/>
              </a:rPr>
              <a:t>Диаметр Луны — 3476 километров</a:t>
            </a:r>
            <a:endParaRPr b="0" lang="en-US" sz="2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47560" y="1066680"/>
            <a:ext cx="36939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94160" y="1066680"/>
            <a:ext cx="36957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Колючими искрами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блещет снежок.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Январская ночь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холодна. 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В пушистое облачко,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словно в платок,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закуталась в небе луна.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разите диаметр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уны в метрах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pic>
        <p:nvPicPr>
          <p:cNvPr id="172" name="Picture 9" descr="whentheful_kqkl77op"/>
          <p:cNvPicPr/>
          <p:nvPr/>
        </p:nvPicPr>
        <p:blipFill>
          <a:blip r:embed="rId1"/>
          <a:stretch/>
        </p:blipFill>
        <p:spPr>
          <a:xfrm>
            <a:off x="1403280" y="981000"/>
            <a:ext cx="3745080" cy="5543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11"/>
          <p:cNvSpPr/>
          <p:nvPr/>
        </p:nvSpPr>
        <p:spPr>
          <a:xfrm>
            <a:off x="1763640" y="2781360"/>
            <a:ext cx="3097440" cy="1512720"/>
          </a:xfrm>
          <a:prstGeom prst="flowChartPunchedTape">
            <a:avLst/>
          </a:prstGeom>
          <a:solidFill>
            <a:srgbClr val="cc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3476км = 3476000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0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3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6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9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2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7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8000" y="-184680"/>
            <a:ext cx="895824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Hemi Head 426"/>
              </a:rPr>
              <a:t>  </a:t>
            </a:r>
            <a:br>
              <a:rPr sz="4000"/>
            </a:br>
            <a:r>
              <a:rPr b="0" lang="ru-RU" sz="2800" spc="-1" strike="noStrike">
                <a:solidFill>
                  <a:srgbClr val="ccffcc"/>
                </a:solidFill>
                <a:latin typeface="Hemi Head 426"/>
              </a:rPr>
              <a:t>Каждый год Луна удаляется от Земли  почти на 4см </a:t>
            </a:r>
            <a:r>
              <a:rPr b="0" lang="ru-RU" sz="4000" spc="-1" strike="noStrike">
                <a:solidFill>
                  <a:srgbClr val="ffffff"/>
                </a:solidFill>
                <a:latin typeface="Hemi Head 426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294160" y="1066680"/>
            <a:ext cx="36957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какое расстояние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далится Луна от Земли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рез 10 лет, 100 лет?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pic>
        <p:nvPicPr>
          <p:cNvPr id="176" name="Picture 6" descr="79711_82497"/>
          <p:cNvPicPr/>
          <p:nvPr/>
        </p:nvPicPr>
        <p:blipFill>
          <a:blip r:embed="rId1"/>
          <a:stretch/>
        </p:blipFill>
        <p:spPr>
          <a:xfrm>
            <a:off x="1403280" y="981000"/>
            <a:ext cx="3803760" cy="554364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10"/>
          <p:cNvSpPr/>
          <p:nvPr/>
        </p:nvSpPr>
        <p:spPr>
          <a:xfrm>
            <a:off x="5580000" y="4797360"/>
            <a:ext cx="2952720" cy="1513080"/>
          </a:xfrm>
          <a:prstGeom prst="flowChartPunchedTape">
            <a:avLst/>
          </a:prstGeom>
          <a:solidFill>
            <a:srgbClr val="cc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Через 100 лет 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а 400см или 4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5580000" y="2924280"/>
            <a:ext cx="2952720" cy="1512720"/>
          </a:xfrm>
          <a:prstGeom prst="flowChartPunchedTape">
            <a:avLst/>
          </a:prstGeom>
          <a:solidFill>
            <a:srgbClr val="cc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Через 10 лет –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а 40с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3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6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9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240" y="-184320"/>
            <a:ext cx="8837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cffcc"/>
                </a:solidFill>
                <a:latin typeface="Hemi Head 426"/>
              </a:rPr>
              <a:t>Около 40 новых звезд появляется в нашей галактике каждый год</a:t>
            </a:r>
            <a:endParaRPr b="0" lang="en-US" sz="2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447560" y="1066680"/>
            <a:ext cx="36939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294160" y="1066680"/>
            <a:ext cx="36957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лько новых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вёзд появится в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шей галактике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 5 лет? 10 лет?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pic>
        <p:nvPicPr>
          <p:cNvPr id="182" name="Picture 7" descr="untitled"/>
          <p:cNvPicPr/>
          <p:nvPr/>
        </p:nvPicPr>
        <p:blipFill>
          <a:blip r:embed="rId1"/>
          <a:stretch/>
        </p:blipFill>
        <p:spPr>
          <a:xfrm>
            <a:off x="1403280" y="1052640"/>
            <a:ext cx="3889440" cy="547200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12"/>
          <p:cNvSpPr/>
          <p:nvPr/>
        </p:nvSpPr>
        <p:spPr>
          <a:xfrm>
            <a:off x="5651640" y="4653000"/>
            <a:ext cx="2952720" cy="1512720"/>
          </a:xfrm>
          <a:prstGeom prst="flowChartPunchedTape">
            <a:avLst/>
          </a:prstGeom>
          <a:solidFill>
            <a:srgbClr val="cc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За 10 лет –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400 звёз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AutoShape 13"/>
          <p:cNvSpPr/>
          <p:nvPr/>
        </p:nvSpPr>
        <p:spPr>
          <a:xfrm>
            <a:off x="5651640" y="2852640"/>
            <a:ext cx="2952720" cy="1513080"/>
          </a:xfrm>
          <a:prstGeom prst="flowChartPunchedTape">
            <a:avLst/>
          </a:prstGeom>
          <a:solidFill>
            <a:srgbClr val="cc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За 5 лет –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200 звёз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1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4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7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240" y="-184320"/>
            <a:ext cx="8837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cffcc"/>
                </a:solidFill>
                <a:latin typeface="Hemi Head 426"/>
              </a:rPr>
              <a:t>Это интересно знать…</a:t>
            </a:r>
            <a:endParaRPr b="0" lang="en-US" sz="2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47920" y="1066680"/>
            <a:ext cx="754200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Franklin Gothic Medium C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Medium Cond"/>
              </a:rPr>
              <a:t>Самая маленькая планета Солнечной системы — Плутон, самая большая — Юпитер.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Franklin Gothic Medium C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Medium Cond"/>
              </a:rPr>
              <a:t>Все планеты солнечной системы могли бы поместиться внутри планеты Юпитер.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Franklin Gothic Medium C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Medium Cond"/>
              </a:rPr>
              <a:t>За одну минуту Солнце производит больше энергии, чем вся Земля расходует за год.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Franklin Gothic Medium C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Medium Cond"/>
              </a:rPr>
              <a:t>Продолжительность одного “года” на планете Плутон — 247,7 земных лет.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Franklin Gothic Medium C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Medium Cond"/>
              </a:rPr>
              <a:t>Земля — единственная планета, названная не в честь бога.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Franklin Gothic Medium C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Medium Cond"/>
              </a:rPr>
              <a:t>19% солнечной энергии поглощается атмосферой, 47% — падает на Землю, а 34% — возвращается в космос.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684360" y="306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5" dur="61000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712000" cy="62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Medium Cond"/>
              </a:rPr>
              <a:t>Ссылки</a:t>
            </a:r>
            <a:r>
              <a:rPr b="0" lang="ru-RU" sz="1600" spc="-1" strike="noStrike">
                <a:solidFill>
                  <a:srgbClr val="000000"/>
                </a:solidFill>
                <a:latin typeface="Franklin Gothic Medium Cond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Medium Cond"/>
              </a:rPr>
              <a:t>*      </a:t>
            </a:r>
            <a:r>
              <a:rPr b="0" lang="ru-RU" sz="1400" spc="-1" strike="noStrike">
                <a:solidFill>
                  <a:srgbClr val="000000"/>
                </a:solidFill>
                <a:latin typeface="Franklin Gothic Medium Cond"/>
              </a:rPr>
              <a:t>Невесомость - 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Franklin Gothic Medium Cond"/>
                <a:hlinkClick r:id="rId1"/>
              </a:rPr>
              <a:t>http://www.astronaut.ru/as_turst/foto/simony_2.jpg</a:t>
            </a:r>
            <a:endParaRPr b="0" lang="en-US" sz="1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anklin Gothic Medium C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Franklin Gothic Medium Cond"/>
              </a:rPr>
              <a:t>Обед - </a:t>
            </a:r>
            <a:r>
              <a:rPr b="0" lang="ru-RU" sz="1400" spc="-1" strike="noStrike" u="sng">
                <a:solidFill>
                  <a:srgbClr val="ccccff"/>
                </a:solidFill>
                <a:uFillTx/>
                <a:latin typeface="Franklin Gothic Medium Cond"/>
                <a:hlinkClick r:id="rId2"/>
              </a:rPr>
              <a:t>http://www.testpilot.ru/espace/foto/t2/vostok/v6.jpg</a:t>
            </a:r>
            <a:r>
              <a:rPr b="0" lang="ru-RU" sz="1400" spc="-1" strike="noStrike">
                <a:solidFill>
                  <a:srgbClr val="000000"/>
                </a:solidFill>
                <a:latin typeface="Franklin Gothic Medium Con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anklin Gothic Medium C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 Cond"/>
              </a:rPr>
              <a:t>Спорт - </a:t>
            </a:r>
            <a:r>
              <a:rPr b="0" lang="ru-RU" sz="1400" spc="-1" strike="noStrike" u="sng">
                <a:solidFill>
                  <a:srgbClr val="ccccff"/>
                </a:solidFill>
                <a:uFillTx/>
                <a:latin typeface="Franklin Gothic Medium Cond"/>
                <a:hlinkClick r:id="rId3"/>
              </a:rPr>
              <a:t>http://images.izvestia.ru/inauka/49096.jpg</a:t>
            </a:r>
            <a:r>
              <a:rPr b="0" lang="ru-RU" sz="1400" spc="-1" strike="noStrike">
                <a:solidFill>
                  <a:srgbClr val="000000"/>
                </a:solidFill>
                <a:latin typeface="Franklin Gothic Medium Con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anklin Gothic Medium C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 Cond"/>
              </a:rPr>
              <a:t>Уборка, хозяйственные дела - </a:t>
            </a:r>
            <a:r>
              <a:rPr b="0" lang="ru-RU" sz="1400" spc="-1" strike="noStrike" u="sng">
                <a:solidFill>
                  <a:srgbClr val="ccccff"/>
                </a:solidFill>
                <a:uFillTx/>
                <a:latin typeface="Franklin Gothic Medium Cond"/>
                <a:hlinkClick r:id="rId4"/>
              </a:rPr>
              <a:t>http://veved.ru/uploads/posts/2010-11/1289892981_kosmonavt.jpg</a:t>
            </a:r>
            <a:r>
              <a:rPr b="0" lang="ru-RU" sz="1400" spc="-1" strike="noStrike">
                <a:solidFill>
                  <a:srgbClr val="000000"/>
                </a:solidFill>
                <a:latin typeface="Franklin Gothic Medium Con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anklin Gothic Medium C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 Cond"/>
              </a:rPr>
              <a:t>Связь с землёй  - </a:t>
            </a:r>
            <a:r>
              <a:rPr b="0" lang="ru-RU" sz="1400" spc="-1" strike="noStrike" u="sng">
                <a:solidFill>
                  <a:srgbClr val="ccccff"/>
                </a:solidFill>
                <a:uFillTx/>
                <a:latin typeface="Franklin Gothic Medium Cond"/>
                <a:hlinkClick r:id="rId5"/>
              </a:rPr>
              <a:t>http://saratov.rfn.ru/p/s_15337.jpg</a:t>
            </a:r>
            <a:endParaRPr b="0" lang="en-US" sz="1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anklin Gothic Medium C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 Cond"/>
              </a:rPr>
              <a:t>Наблюдения. Эксперимент - </a:t>
            </a:r>
            <a:r>
              <a:rPr b="0" lang="ru-RU" sz="1400" spc="-1" strike="noStrike" u="sng">
                <a:solidFill>
                  <a:srgbClr val="ccccff"/>
                </a:solidFill>
                <a:uFillTx/>
                <a:latin typeface="Franklin Gothic Medium Cond"/>
                <a:hlinkClick r:id="rId6"/>
              </a:rPr>
              <a:t>http://www.avrora-k.ru/f_gidro5.jpg</a:t>
            </a:r>
            <a:r>
              <a:rPr b="0" lang="ru-RU" sz="1400" spc="-1" strike="noStrike">
                <a:solidFill>
                  <a:srgbClr val="000000"/>
                </a:solidFill>
                <a:latin typeface="Franklin Gothic Medium Con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anklin Gothic Medium C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 Cond"/>
              </a:rPr>
              <a:t>Гагарин - </a:t>
            </a:r>
            <a:r>
              <a:rPr b="0" lang="ru-RU" sz="1400" spc="-1" strike="noStrike" u="sng">
                <a:solidFill>
                  <a:srgbClr val="ccccff"/>
                </a:solidFill>
                <a:uFillTx/>
                <a:latin typeface="Franklin Gothic Medium Cond"/>
                <a:hlinkClick r:id="rId7"/>
              </a:rPr>
              <a:t>http://img.66.ru/news/0/0/79/797.jpg - Ю.А.Гагарин</a:t>
            </a:r>
            <a:r>
              <a:rPr b="0" lang="ru-RU" sz="1400" spc="-1" strike="noStrike">
                <a:solidFill>
                  <a:srgbClr val="000000"/>
                </a:solidFill>
                <a:latin typeface="Franklin Gothic Medium Con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anklin Gothic Medium C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 Cond"/>
              </a:rPr>
              <a:t>Станция «Мир» -</a:t>
            </a:r>
            <a:r>
              <a:rPr b="0" lang="ru-RU" sz="1400" spc="-1" strike="noStrike">
                <a:solidFill>
                  <a:srgbClr val="ffffff"/>
                </a:solidFill>
                <a:latin typeface="Franklin Gothic Medium Cond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Franklin Gothic Medium Cond"/>
              </a:rPr>
              <a:t> </a:t>
            </a:r>
            <a:r>
              <a:rPr b="0" lang="ru-RU" sz="1400" spc="-1" strike="noStrike" u="sng">
                <a:solidFill>
                  <a:srgbClr val="ccccff"/>
                </a:solidFill>
                <a:uFillTx/>
                <a:latin typeface="Franklin Gothic Medium Cond"/>
                <a:hlinkClick r:id="rId8"/>
              </a:rPr>
              <a:t>http://www1.fips.ru/wps/wcm/connect/434fd4004d98014d93f99b4fa86fbc72/MKS.jpg?MOD=AJPERES&amp;CACHEID=434fd4004d98014d93f99b4fa86fbc72</a:t>
            </a:r>
            <a:r>
              <a:rPr b="0" lang="ru-RU" sz="1400" spc="-1" strike="noStrike">
                <a:solidFill>
                  <a:srgbClr val="ffffff"/>
                </a:solidFill>
                <a:latin typeface="Franklin Gothic Medium Con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anklin Gothic Medium C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 Cond"/>
              </a:rPr>
              <a:t>Станция «Мир»</a:t>
            </a:r>
            <a:r>
              <a:rPr b="0" lang="ru-RU" sz="1400" spc="-1" strike="noStrike">
                <a:solidFill>
                  <a:srgbClr val="ffffff"/>
                </a:solidFill>
                <a:latin typeface="Franklin Gothic Medium Cond"/>
              </a:rPr>
              <a:t> - </a:t>
            </a:r>
            <a:r>
              <a:rPr b="0" lang="ru-RU" sz="1400" spc="-1" strike="noStrike" u="sng">
                <a:solidFill>
                  <a:srgbClr val="ccccff"/>
                </a:solidFill>
                <a:uFillTx/>
                <a:latin typeface="Franklin Gothic Medium Cond"/>
                <a:hlinkClick r:id="rId9"/>
              </a:rPr>
              <a:t>http://ruscosmos.narod.ru/KA/glavnaia/MIR/album3/slides/05.jpg</a:t>
            </a:r>
            <a:endParaRPr b="0" lang="en-US" sz="1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anklin Gothic Medium C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 Cond"/>
              </a:rPr>
              <a:t>Планеты - </a:t>
            </a:r>
            <a:r>
              <a:rPr b="0" lang="ru-RU" sz="1400" spc="-1" strike="noStrike" u="sng">
                <a:solidFill>
                  <a:srgbClr val="ccccff"/>
                </a:solidFill>
                <a:uFillTx/>
                <a:latin typeface="Franklin Gothic Medium Cond"/>
                <a:hlinkClick r:id="rId10"/>
              </a:rPr>
              <a:t>http://rcio.pnzgu.ru/personal/55/1/7/index.1.gif</a:t>
            </a:r>
            <a:r>
              <a:rPr b="0" lang="ru-RU" sz="1400" spc="-1" strike="noStrike">
                <a:solidFill>
                  <a:srgbClr val="000000"/>
                </a:solidFill>
                <a:latin typeface="Franklin Gothic Medium Con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anklin Gothic Medium C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 Cond"/>
              </a:rPr>
              <a:t>Затмение  солнечное- </a:t>
            </a:r>
            <a:r>
              <a:rPr b="0" lang="ru-RU" sz="1400" spc="-1" strike="noStrike" u="sng">
                <a:solidFill>
                  <a:srgbClr val="ccccff"/>
                </a:solidFill>
                <a:uFillTx/>
                <a:latin typeface="Franklin Gothic Medium Cond"/>
                <a:hlinkClick r:id="rId11"/>
              </a:rPr>
              <a:t>http://lh6.ggpht.com/_dRCn6Dyf_LU/S1DKmTpcq4I/AAAAAAAAGjw/jFP96yROFrw/1263582335042417222.jpg</a:t>
            </a:r>
            <a:r>
              <a:rPr b="0" lang="ru-RU" sz="1400" spc="-1" strike="noStrike">
                <a:solidFill>
                  <a:srgbClr val="000000"/>
                </a:solidFill>
                <a:latin typeface="Franklin Gothic Medium Cond"/>
              </a:rPr>
              <a:t> -</a:t>
            </a:r>
            <a:r>
              <a:rPr b="0" lang="ru-RU" sz="1400" spc="-1" strike="noStrike">
                <a:solidFill>
                  <a:srgbClr val="000000"/>
                </a:solidFill>
                <a:latin typeface="Franklin Gothic Medium Con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anklin Gothic Medium C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 Cond"/>
              </a:rPr>
              <a:t>Затмение лунное - </a:t>
            </a:r>
            <a:r>
              <a:rPr b="0" lang="ru-RU" sz="1400" spc="-1" strike="noStrike" u="sng">
                <a:solidFill>
                  <a:srgbClr val="ccccff"/>
                </a:solidFill>
                <a:uFillTx/>
                <a:latin typeface="Franklin Gothic Medium Cond"/>
                <a:hlinkClick r:id="rId12"/>
              </a:rPr>
              <a:t>http://img-fotki.yandex.ru/get/51/vitektlt-2008.1f/0_dc42_6d71d220_XL</a:t>
            </a:r>
            <a:r>
              <a:rPr b="0" lang="ru-RU" sz="1400" spc="-1" strike="noStrike">
                <a:solidFill>
                  <a:srgbClr val="000000"/>
                </a:solidFill>
                <a:latin typeface="Franklin Gothic Medium Con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anklin Gothic Medium C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 Cond"/>
              </a:rPr>
              <a:t>Вращение Земли - </a:t>
            </a:r>
            <a:r>
              <a:rPr b="0" lang="ru-RU" sz="1400" spc="-1" strike="noStrike" u="sng">
                <a:solidFill>
                  <a:srgbClr val="ccccff"/>
                </a:solidFill>
                <a:uFillTx/>
                <a:latin typeface="Franklin Gothic Medium Cond"/>
                <a:hlinkClick r:id="rId13"/>
              </a:rPr>
              <a:t>http://photojournal.jpl.nasa.gov/jpeg/PIA05981.jpg</a:t>
            </a:r>
            <a:r>
              <a:rPr b="0" lang="ru-RU" sz="1400" spc="-1" strike="noStrike">
                <a:solidFill>
                  <a:srgbClr val="ffffff"/>
                </a:solidFill>
                <a:latin typeface="Franklin Gothic Medium Cond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Franklin Gothic Medium Con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anklin Gothic Medium C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 Cond"/>
              </a:rPr>
              <a:t>Елена Исинбаева - </a:t>
            </a:r>
            <a:r>
              <a:rPr b="0" lang="ru-RU" sz="1400" spc="-1" strike="noStrike" u="sng">
                <a:solidFill>
                  <a:srgbClr val="ccccff"/>
                </a:solidFill>
                <a:uFillTx/>
                <a:latin typeface="Franklin Gothic Medium Cond"/>
                <a:hlinkClick r:id="rId14"/>
              </a:rPr>
              <a:t>http://www.yelenaisinbaeva.ru</a:t>
            </a:r>
            <a:r>
              <a:rPr b="0" lang="ru-RU" sz="1400" spc="-1" strike="noStrike">
                <a:solidFill>
                  <a:srgbClr val="000000"/>
                </a:solidFill>
                <a:latin typeface="Franklin Gothic Medium Cond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Franklin Gothic Medium C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anklin Gothic Medium C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Medium Cond"/>
              </a:rPr>
              <a:t>Марс - </a:t>
            </a:r>
            <a:r>
              <a:rPr b="0" lang="ru-RU" sz="1600" spc="-1" strike="noStrike" u="sng">
                <a:solidFill>
                  <a:srgbClr val="ccccff"/>
                </a:solidFill>
                <a:uFillTx/>
                <a:latin typeface="Franklin Gothic Medium Cond"/>
                <a:hlinkClick r:id="rId15"/>
              </a:rPr>
              <a:t>http://numeroquince.files.wordpress.com/2007/12/marte_hubble.jpg?w=470&amp;h=514</a:t>
            </a:r>
            <a:r>
              <a:rPr b="0" lang="ru-RU" sz="1600" spc="-1" strike="noStrike">
                <a:solidFill>
                  <a:srgbClr val="000000"/>
                </a:solidFill>
                <a:latin typeface="Franklin Gothic Medium C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Medium Cond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748720" cy="60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ranklin Gothic Medium C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 Cond"/>
              </a:rPr>
              <a:t>Вулкан - </a:t>
            </a:r>
            <a:r>
              <a:rPr b="0" lang="ru-RU" sz="1400" spc="-1" strike="noStrike" u="sng">
                <a:solidFill>
                  <a:srgbClr val="ccccff"/>
                </a:solidFill>
                <a:uFillTx/>
                <a:latin typeface="Franklin Gothic Medium Cond"/>
                <a:hlinkClick r:id="rId1"/>
              </a:rPr>
              <a:t>http://cdn.endata.cx/data/games/7767/photoExtreme/33a8b1f4-bd1c-4766-8c8b-d99cc425aeca.jpg</a:t>
            </a:r>
            <a:endParaRPr b="0" lang="en-US" sz="1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ranklin Gothic Medium C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 Cond"/>
              </a:rPr>
              <a:t>Горы на Марсе -  </a:t>
            </a:r>
            <a:r>
              <a:rPr b="0" lang="ru-RU" sz="1400" spc="-1" strike="noStrike" u="sng">
                <a:solidFill>
                  <a:srgbClr val="ccccff"/>
                </a:solidFill>
                <a:uFillTx/>
                <a:latin typeface="Franklin Gothic Medium Cond"/>
                <a:hlinkClick r:id="rId2"/>
              </a:rPr>
              <a:t>http://storage0.dms.mpinteractiv.ro/media/401/321/5106/4627050/20/marte.jpg?width=500&amp;height=501</a:t>
            </a:r>
            <a:r>
              <a:rPr b="0" lang="ru-RU" sz="1400" spc="-1" strike="noStrike">
                <a:solidFill>
                  <a:srgbClr val="000000"/>
                </a:solidFill>
                <a:latin typeface="Franklin Gothic Medium Con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ranklin Gothic Medium C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 Cond"/>
              </a:rPr>
              <a:t>Ледник на Марсе - </a:t>
            </a:r>
            <a:r>
              <a:rPr b="0" lang="ru-RU" sz="1400" spc="-1" strike="noStrike" u="sng">
                <a:solidFill>
                  <a:srgbClr val="ccccff"/>
                </a:solidFill>
                <a:uFillTx/>
                <a:latin typeface="Franklin Gothic Medium Cond"/>
                <a:hlinkClick r:id="rId3"/>
              </a:rPr>
              <a:t>http://img-fotki.yandex.ru/get/3103/scotty2008.2/0_3c92_e9ec5332_XL</a:t>
            </a:r>
            <a:r>
              <a:rPr b="0" lang="ru-RU" sz="1400" spc="-1" strike="noStrike">
                <a:solidFill>
                  <a:srgbClr val="000000"/>
                </a:solidFill>
                <a:latin typeface="Franklin Gothic Medium Con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ranklin Gothic Medium C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 Cond"/>
              </a:rPr>
              <a:t>Гири - http://www.bodysekret.ru/forum/showthread.php?s=82bac264fcecbd7c2f9c56e7274e6a7a&amp;p=1858&amp;mode=linear </a:t>
            </a:r>
            <a:endParaRPr b="0" lang="en-US" sz="1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ranklin Gothic Medium C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 Cond"/>
              </a:rPr>
              <a:t>Луна - http://i.piccy.info/i3/60/07/e142476c0def1609bd9d9801a186.jpeg </a:t>
            </a:r>
            <a:endParaRPr b="0" lang="en-US" sz="1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ranklin Gothic Medium C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 Cond"/>
              </a:rPr>
              <a:t>Луна - </a:t>
            </a:r>
            <a:r>
              <a:rPr b="0" lang="ru-RU" sz="1400" spc="-1" strike="noStrike">
                <a:solidFill>
                  <a:srgbClr val="000000"/>
                </a:solidFill>
                <a:latin typeface="Franklin Gothic Medium Cond"/>
              </a:rPr>
              <a:t>http://myphoneblog.ru/wp-content/gallery/240x400/whentheful_kqkl77op.jpg </a:t>
            </a:r>
            <a:endParaRPr b="0" lang="en-US" sz="1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ranklin Gothic Medium C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 Cond"/>
              </a:rPr>
              <a:t>Луна - </a:t>
            </a:r>
            <a:r>
              <a:rPr b="0" lang="ru-RU" sz="1400" spc="-1" strike="noStrike">
                <a:solidFill>
                  <a:srgbClr val="000000"/>
                </a:solidFill>
                <a:latin typeface="Franklin Gothic Medium Cond"/>
              </a:rPr>
              <a:t>http://bm.img.com.ua/img/prikol/images/large/1/1/79711_82497.jpg </a:t>
            </a:r>
            <a:endParaRPr b="0" lang="en-US" sz="1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ranklin Gothic Medium C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 Cond"/>
              </a:rPr>
              <a:t>Звёзды </a:t>
            </a:r>
            <a:r>
              <a:rPr b="0" lang="ru-RU" sz="1400" spc="-1" strike="noStrike">
                <a:solidFill>
                  <a:srgbClr val="ffffff"/>
                </a:solidFill>
                <a:latin typeface="Franklin Gothic Medium Cond"/>
              </a:rPr>
              <a:t> - http://www.penza-press.ru/files/pomoyka5/934.jpg </a:t>
            </a:r>
            <a:endParaRPr b="0" lang="en-US" sz="1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 Cond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Franklin Gothic Medium Cond"/>
              </a:rPr>
              <a:t>Материал для составления задач :</a:t>
            </a:r>
            <a:endParaRPr b="0" lang="en-US" sz="1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 Cond"/>
              </a:rPr>
              <a:t>http://littlehuman.ru/420osmose.html  - стихи о времени </a:t>
            </a:r>
            <a:endParaRPr b="0" lang="en-US" sz="1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 Cond"/>
              </a:rPr>
              <a:t>http://littlehuman.ru/362  - стихи о луне</a:t>
            </a:r>
            <a:endParaRPr b="0" lang="en-US" sz="1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 Cond"/>
              </a:rPr>
              <a:t>http://www.potehechas.ru/club/fact_kosmos.shtml </a:t>
            </a:r>
            <a:endParaRPr b="0" lang="en-US" sz="1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 Cond"/>
              </a:rPr>
              <a:t>http://drink.dax.ru/fakt/fakt_13.shtml </a:t>
            </a:r>
            <a:endParaRPr b="0" lang="en-US" sz="1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 Cond"/>
              </a:rPr>
              <a:t>http://www.znaniy.com/2010-03-03-15-58-57/29-2010-05-11-10-28-45.html </a:t>
            </a:r>
            <a:endParaRPr b="0" lang="en-US" sz="1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 Cond"/>
              </a:rPr>
              <a:t>http://www.fun4child.ru/1331-stikhi-o-professii.-kosmonavt.htm - стихи о космонавте</a:t>
            </a:r>
            <a:endParaRPr b="0" lang="en-US" sz="1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Medium Cond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3429000"/>
            <a:ext cx="822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33cccc"/>
                </a:solidFill>
                <a:latin typeface="Hemi Head 426"/>
              </a:rPr>
              <a:t>Так же, как и на Земле,</a:t>
            </a:r>
            <a:br>
              <a:rPr sz="2600"/>
            </a:br>
            <a:r>
              <a:rPr b="0" lang="ru-RU" sz="2600" spc="-1" strike="noStrike">
                <a:solidFill>
                  <a:srgbClr val="33cccc"/>
                </a:solidFill>
                <a:latin typeface="Hemi Head 426"/>
              </a:rPr>
              <a:t> рабочая пятидневка и два выходных. </a:t>
            </a:r>
            <a:br>
              <a:rPr sz="2600"/>
            </a:br>
            <a:r>
              <a:rPr b="0" lang="ru-RU" sz="2600" spc="-1" strike="noStrike">
                <a:solidFill>
                  <a:srgbClr val="33cccc"/>
                </a:solidFill>
                <a:latin typeface="Hemi Head 426"/>
              </a:rPr>
              <a:t>«Рабочие» сутки космонавтов примерно</a:t>
            </a:r>
            <a:br>
              <a:rPr sz="2600"/>
            </a:br>
            <a:r>
              <a:rPr b="0" lang="ru-RU" sz="2600" spc="-1" strike="noStrike">
                <a:solidFill>
                  <a:srgbClr val="33cccc"/>
                </a:solidFill>
                <a:latin typeface="Hemi Head 426"/>
              </a:rPr>
              <a:t>выглядят так: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ccff"/>
                </a:solidFill>
                <a:latin typeface="Franklin Gothic Medium Cond"/>
              </a:rPr>
              <a:t>Как распределён день у космонавтов, находящихся </a:t>
            </a:r>
            <a:br>
              <a:rPr sz="2600"/>
            </a:br>
            <a:r>
              <a:rPr b="0" lang="ru-RU" sz="2600" spc="-1" strike="noStrike">
                <a:solidFill>
                  <a:srgbClr val="00ccff"/>
                </a:solidFill>
                <a:latin typeface="Franklin Gothic Medium Cond"/>
              </a:rPr>
              <a:t>«в командировке» на орбите?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Franklin Gothic Medium Cond"/>
            </a:endParaRPr>
          </a:p>
        </p:txBody>
      </p:sp>
    </p:spTree>
  </p:cSld>
  <p:transition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188640"/>
            <a:ext cx="883764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400"/>
            </a:br>
            <a:r>
              <a:rPr b="0" lang="ru-RU" sz="2800" spc="-1" strike="noStrike">
                <a:solidFill>
                  <a:srgbClr val="ccffcc"/>
                </a:solidFill>
                <a:latin typeface="Hemi Head 426"/>
              </a:rPr>
              <a:t>9 часов требуется на сон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447560" y="1066680"/>
            <a:ext cx="369396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лько минут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288000" indent="-288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ляют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288000" indent="-288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 часов?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288000" indent="-2880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288000" indent="-2880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288000" indent="-2880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pic>
        <p:nvPicPr>
          <p:cNvPr id="90" name="Picture 3" descr="C:\Documents and Settings\Admin\Рабочий стол\невесомость.jpg"/>
          <p:cNvPicPr/>
          <p:nvPr/>
        </p:nvPicPr>
        <p:blipFill>
          <a:blip r:embed="rId1"/>
          <a:stretch/>
        </p:blipFill>
        <p:spPr>
          <a:xfrm>
            <a:off x="5364000" y="1052640"/>
            <a:ext cx="3600720" cy="2771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920" y="3846600"/>
            <a:ext cx="754200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смонавтам не нужны постельные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адлежности,  так как они спят в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оянии невесомости, пристёгнутым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креслу.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92" name="AutoShape 26"/>
          <p:cNvSpPr/>
          <p:nvPr/>
        </p:nvSpPr>
        <p:spPr>
          <a:xfrm>
            <a:off x="1979640" y="2492280"/>
            <a:ext cx="2808360" cy="1224000"/>
          </a:xfrm>
          <a:prstGeom prst="flowChartPunchedTape">
            <a:avLst/>
          </a:prstGeom>
          <a:solidFill>
            <a:srgbClr val="cc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540 мину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188640"/>
            <a:ext cx="883764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cffcc"/>
                </a:solidFill>
                <a:latin typeface="Hemi Head 426"/>
              </a:rPr>
              <a:t>2 часа - на завтрак, обед и ужин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447560" y="1066680"/>
            <a:ext cx="369396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лько минут в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нем приходится на один приём пищи?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47920" y="3846600"/>
            <a:ext cx="754200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ременные учёные решили проблему питания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смонавтов: пища в загерметизированном виде 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удобств не причиняет, отвинтил крышечку у 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юбика и, пожалуйста: хочешь борщ или телятину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юре из птицы или картофеля; сосиски- малютки,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ыр, хлеб, кекс, кофе с молоком, даже шоколад и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гое другое.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pic>
        <p:nvPicPr>
          <p:cNvPr id="96" name="Picture 9" descr="обед"/>
          <p:cNvPicPr/>
          <p:nvPr/>
        </p:nvPicPr>
        <p:blipFill>
          <a:blip r:embed="rId1"/>
          <a:stretch/>
        </p:blipFill>
        <p:spPr>
          <a:xfrm>
            <a:off x="5318280" y="1066680"/>
            <a:ext cx="3647880" cy="272268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12"/>
          <p:cNvSpPr/>
          <p:nvPr/>
        </p:nvSpPr>
        <p:spPr>
          <a:xfrm>
            <a:off x="2124000" y="2276640"/>
            <a:ext cx="2808360" cy="1368360"/>
          </a:xfrm>
          <a:prstGeom prst="flowChartPunchedTape">
            <a:avLst/>
          </a:prstGeom>
          <a:solidFill>
            <a:srgbClr val="cc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40 мину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6000" y="188640"/>
            <a:ext cx="883764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cffcc"/>
                </a:solidFill>
                <a:latin typeface="Hemi Head 426"/>
              </a:rPr>
              <a:t>2 часа 30 минут – на занятия физкультурой</a:t>
            </a:r>
            <a:r>
              <a:rPr b="1" lang="ru-RU" sz="3200" spc="-1" strike="noStrike">
                <a:solidFill>
                  <a:srgbClr val="ccffcc"/>
                </a:solidFill>
                <a:latin typeface="Hemi Head 426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63640" y="1066680"/>
            <a:ext cx="352908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Чтобы космонавтом стать,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Надо потрудиться: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день с зарядки начинать,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Хорошо учиться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198720" indent="-198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198720" indent="-198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лько минут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198720" indent="-198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утки  занимаются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198720" indent="-198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ртом космонавты?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198720" indent="-198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198720" indent="-198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pic>
        <p:nvPicPr>
          <p:cNvPr id="100" name="Picture 7" descr="спорт"/>
          <p:cNvPicPr/>
          <p:nvPr/>
        </p:nvPicPr>
        <p:blipFill>
          <a:blip r:embed="rId1"/>
          <a:stretch/>
        </p:blipFill>
        <p:spPr>
          <a:xfrm>
            <a:off x="1403280" y="1052640"/>
            <a:ext cx="3745080" cy="547200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15"/>
          <p:cNvSpPr/>
          <p:nvPr/>
        </p:nvSpPr>
        <p:spPr>
          <a:xfrm>
            <a:off x="5508720" y="5084640"/>
            <a:ext cx="3166920" cy="1224000"/>
          </a:xfrm>
          <a:prstGeom prst="flowChartPunchedTape">
            <a:avLst/>
          </a:prstGeom>
          <a:solidFill>
            <a:srgbClr val="cc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2ч 30мин = 150м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-184320"/>
            <a:ext cx="8837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cffcc"/>
                </a:solidFill>
                <a:latin typeface="Hemi Head 426"/>
              </a:rPr>
              <a:t>Около часа уходит на уборку и хозяйственные дела</a:t>
            </a:r>
            <a:endParaRPr b="0" lang="en-US" sz="2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47560" y="1066680"/>
            <a:ext cx="377172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 – секунда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209160" indent="-209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летела,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209160" indent="-209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глянуться не успела.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209160" indent="-209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естьдесят секунд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209160" indent="-209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мчались –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209160" indent="-209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минуткой оказались.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209160" indent="-209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у а шестьдесят минут целый час 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209160" indent="-209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собой ведут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209160" indent="-209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зяйственные дела, 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м числе и уборка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мещений, занимают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коло часа.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294160" y="1066680"/>
            <a:ext cx="369576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pic>
        <p:nvPicPr>
          <p:cNvPr id="105" name="Picture 12" descr="уборка"/>
          <p:cNvPicPr/>
          <p:nvPr/>
        </p:nvPicPr>
        <p:blipFill>
          <a:blip r:embed="rId1"/>
          <a:stretch/>
        </p:blipFill>
        <p:spPr>
          <a:xfrm>
            <a:off x="5292720" y="1052640"/>
            <a:ext cx="3672000" cy="309708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27"/>
          <p:cNvSpPr/>
          <p:nvPr/>
        </p:nvSpPr>
        <p:spPr>
          <a:xfrm>
            <a:off x="5651640" y="4653000"/>
            <a:ext cx="2808000" cy="1224000"/>
          </a:xfrm>
          <a:prstGeom prst="flowChartPunchedTape">
            <a:avLst/>
          </a:prstGeom>
          <a:solidFill>
            <a:srgbClr val="cc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1 час = 60 м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-184320"/>
            <a:ext cx="8837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cffcc"/>
                </a:solidFill>
                <a:latin typeface="Hemi Head 426"/>
              </a:rPr>
              <a:t>1 час 30 минут -  разговоры с Землёй</a:t>
            </a:r>
            <a:endParaRPr b="0" lang="en-US" sz="2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476000" y="1125360"/>
            <a:ext cx="38163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Мы привет ему пошлем,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усть его согреет: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«На Земле тебя все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ждём – 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рилетай  скорее!»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колько минут в</a:t>
            </a:r>
            <a:endParaRPr b="0" lang="en-US" sz="26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утки уходит на</a:t>
            </a:r>
            <a:endParaRPr b="0" lang="en-US" sz="26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вязь с Землёй?</a:t>
            </a:r>
            <a:endParaRPr b="0" lang="en-US" sz="26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pic>
        <p:nvPicPr>
          <p:cNvPr id="109" name="Picture 13" descr="s_15337"/>
          <p:cNvPicPr/>
          <p:nvPr/>
        </p:nvPicPr>
        <p:blipFill>
          <a:blip r:embed="rId1"/>
          <a:stretch/>
        </p:blipFill>
        <p:spPr>
          <a:xfrm>
            <a:off x="5435640" y="1052640"/>
            <a:ext cx="3552840" cy="2952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547640" y="3357720"/>
            <a:ext cx="36007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111" name="AutoShape 20"/>
          <p:cNvSpPr/>
          <p:nvPr/>
        </p:nvSpPr>
        <p:spPr>
          <a:xfrm>
            <a:off x="5508720" y="4365720"/>
            <a:ext cx="3240000" cy="1224000"/>
          </a:xfrm>
          <a:prstGeom prst="flowChartPunchedTape">
            <a:avLst/>
          </a:prstGeom>
          <a:solidFill>
            <a:srgbClr val="cc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1час 30мин = 90м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9" dur="5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8920" y="-243000"/>
            <a:ext cx="8837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cffcc"/>
                </a:solidFill>
                <a:latin typeface="Hemi Head 426"/>
              </a:rPr>
              <a:t>Трудовые будни</a:t>
            </a:r>
            <a:endParaRPr b="0" lang="en-US" sz="2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447560" y="1066680"/>
            <a:ext cx="36939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 часов идёт на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едение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спериментов и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блюдений, ремонтно-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филактические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ы, операции по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ыковке и расстыковке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анспортных кораблей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дицинский контроль. 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Всё расписано по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минутам!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294160" y="3846600"/>
            <a:ext cx="369576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ая часть суток отведена на выполнение этой работы?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pic>
        <p:nvPicPr>
          <p:cNvPr id="115" name="Picture 21" descr="f_gidro5"/>
          <p:cNvPicPr/>
          <p:nvPr/>
        </p:nvPicPr>
        <p:blipFill>
          <a:blip r:embed="rId1"/>
          <a:stretch/>
        </p:blipFill>
        <p:spPr>
          <a:xfrm>
            <a:off x="5292720" y="1052640"/>
            <a:ext cx="3743280" cy="27716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22"/>
          <p:cNvSpPr/>
          <p:nvPr/>
        </p:nvSpPr>
        <p:spPr>
          <a:xfrm>
            <a:off x="5940360" y="5300640"/>
            <a:ext cx="2952720" cy="1152720"/>
          </a:xfrm>
          <a:prstGeom prst="flowChartPunchedTape">
            <a:avLst/>
          </a:prstGeom>
          <a:solidFill>
            <a:srgbClr val="cc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1/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6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" dur="5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05:23:06Z</dcterms:created>
  <dc:creator>gheka </dc:creator>
  <dc:description/>
  <dc:language>en-US</dc:language>
  <cp:lastModifiedBy>User</cp:lastModifiedBy>
  <dcterms:modified xsi:type="dcterms:W3CDTF">2012-05-13T13:08:12Z</dcterms:modified>
  <cp:revision>63</cp:revision>
  <dc:subject/>
  <dc:title>PowerPoint Presentation</dc:title>
</cp:coreProperties>
</file>