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686-A1AD-400B-A721-D1937AAB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CDC-5A27-4926-B27B-4AC007CE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2FE-76C5-44E3-B495-6BB37237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9DD-CDAF-47AB-8D42-D626F4F5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648-ACCF-48A3-8197-4D0C73B7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3C3-C4AB-49AC-A18B-958E9B44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CEC-F1D2-4AB5-B563-2E6CDC6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C7E-00D5-4990-AB06-45728F6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C47-14FF-46C6-9A0D-F987D65E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9DF-EEA9-4239-84C1-6BA5B0F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35C-9224-46F3-AF22-1F7BF7DE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035-14AC-4371-95D9-CD093F93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71A-E5F4-42EB-A0C8-FA36813EB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lf01.wav" TargetMode="External"/><Relationship Id="rId2" Type="http://schemas.microsoft.com/office/2007/relationships/media" Target="file:///tmp/home/.config/libreoffice/4/user/gallery/wolf01.wav" TargetMode="External"/><Relationship Id="rId3" Type="http://schemas.openxmlformats.org/officeDocument/2006/relationships/image" Target="../media/image8.png"/><Relationship Id="rId4" Type="http://schemas.openxmlformats.org/officeDocument/2006/relationships/audio" Target="file:///tmp/home/.config/libreoffice/4/user/gallery/wolfgav.wav" TargetMode="External"/><Relationship Id="rId5" Type="http://schemas.microsoft.com/office/2007/relationships/media" Target="file:///tmp/home/.config/libreoffice/4/user/gallery/wolfgav.wav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0;&#1089;&#1099;.wav" TargetMode="External"/><Relationship Id="rId2" Type="http://schemas.microsoft.com/office/2007/relationships/media" Target="file:///tmp/home/.config/libreoffice/4/user/gallery/&#1083;&#1080;&#1089;&#1099;.wav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6;&#1089;&#1100;.wav" TargetMode="External"/><Relationship Id="rId2" Type="http://schemas.microsoft.com/office/2007/relationships/media" Target="file:///tmp/home/.config/libreoffice/4/user/gallery/&#1083;&#1086;&#1089;&#1100;.wav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7;&#1085;&#1086;&#1090;.wav" TargetMode="External"/><Relationship Id="rId2" Type="http://schemas.microsoft.com/office/2007/relationships/media" Target="file:///tmp/home/.config/libreoffice/4/user/gallery/&#1077;&#1085;&#1086;&#1090;.wav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0"/>
            <a:ext cx="3672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ые лес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929040" y="3214800"/>
            <a:ext cx="10717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 rot="20392800">
            <a:off x="671040" y="601200"/>
            <a:ext cx="10717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бан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 rot="1096200">
            <a:off x="7254360" y="504360"/>
            <a:ext cx="8496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сь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9" descr="C:\Documents and Settings\RAY\Рабочий стол\картинки лес\белка.jpg"/>
          <p:cNvPicPr/>
          <p:nvPr/>
        </p:nvPicPr>
        <p:blipFill>
          <a:blip r:embed="rId9"/>
          <a:stretch/>
        </p:blipFill>
        <p:spPr>
          <a:xfrm>
            <a:off x="3059280" y="2924280"/>
            <a:ext cx="2571480" cy="31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Documents and Settings\RAY\Рабочий стол\картинки лес\лось.jpg"/>
          <p:cNvPicPr/>
          <p:nvPr/>
        </p:nvPicPr>
        <p:blipFill>
          <a:blip r:embed="rId10"/>
          <a:stretch/>
        </p:blipFill>
        <p:spPr>
          <a:xfrm rot="1027800">
            <a:off x="5336640" y="1058760"/>
            <a:ext cx="350064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C:\Documents and Settings\RAY\Рабочий стол\картинки лес\кабан.jpg"/>
          <p:cNvPicPr/>
          <p:nvPr/>
        </p:nvPicPr>
        <p:blipFill>
          <a:blip r:embed="rId11"/>
          <a:stretch/>
        </p:blipFill>
        <p:spPr>
          <a:xfrm rot="20449800">
            <a:off x="253800" y="1063800"/>
            <a:ext cx="350028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40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7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70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1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200"/>
          <p:cNvPicPr/>
          <p:nvPr/>
        </p:nvPicPr>
        <p:blipFill>
          <a:blip r:embed="rId4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87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волк"/>
          <p:cNvPicPr/>
          <p:nvPr/>
        </p:nvPicPr>
        <p:blipFill>
          <a:blip r:embed="rId7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46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46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2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ис"/>
          <p:cNvPicPr/>
          <p:nvPr/>
        </p:nvPicPr>
        <p:blipFill>
          <a:blip r:embed="rId4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4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Безымянный"/>
          <p:cNvPicPr/>
          <p:nvPr/>
        </p:nvPicPr>
        <p:blipFill>
          <a:blip r:embed="rId4"/>
          <a:stretch/>
        </p:blipFill>
        <p:spPr>
          <a:xfrm>
            <a:off x="395280" y="33336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73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6_6_b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619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enot2"/>
          <p:cNvPicPr/>
          <p:nvPr/>
        </p:nvPicPr>
        <p:blipFill>
          <a:blip r:embed="rId4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59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заяц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131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279600" y="5943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истый зай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елка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20:45Z</dcterms:created>
  <dc:creator>Елена Васильевна</dc:creator>
  <dc:description/>
  <dc:language>en-US</dc:language>
  <cp:lastModifiedBy>Елена Васильевна</cp:lastModifiedBy>
  <dcterms:modified xsi:type="dcterms:W3CDTF">2012-09-16T18:20:45Z</dcterms:modified>
  <cp:revision>1</cp:revision>
  <dc:subject/>
  <dc:title>Слайд 1</dc:title>
</cp:coreProperties>
</file>