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946-E40E-4C0B-AE81-426E9CD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837-F98F-442D-BFA0-4DCE66C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C38-4390-41C9-A762-A4F1E057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462-5D32-4662-B8EF-AA492D6A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5A2-FD2B-41BF-B6CB-5BD8BA0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1FF-CCBA-4920-9F0A-A9C3754C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FA4-F11F-4986-BBF8-0578BE67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054-2F97-41E1-8228-4A7275C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9AE-03FD-4A0B-B828-1B6C41B2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EAA-9E35-4F6C-92C3-4AF824D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BCC-7F0F-43EB-8C2E-EE81E83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493-5447-417B-8358-98818EC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C351-20BA-4C2C-BC4D-DA457F21C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403280" y="155736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«КУДЕСНИКИ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55640" y="3105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рограмма кружка по художественному творчест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241128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оспитатель 1-й категории Намда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Людмил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567160" y="33336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МБДОУ детский сад «Лесная поля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Песня\Desktop\Новая папка (2)\1025_babochkiz_narod_ru.gif"/>
          <p:cNvPicPr/>
          <p:nvPr/>
        </p:nvPicPr>
        <p:blipFill>
          <a:blip r:embed="rId2"/>
          <a:stretch/>
        </p:blipFill>
        <p:spPr>
          <a:xfrm>
            <a:off x="7164360" y="981000"/>
            <a:ext cx="142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68360" y="1305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мение понимать, удерживать в памяти и воспроизводить цели какой- - либо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мение переключать внимание с одного вида деятельности на другой, с одного этапа на следующ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пособность на длительный период удерживать внимание в процесс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мствен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Творческие способности использовать различные способы создания образов -изобразительным творчеством, пластикой, лепкой из пластилина,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ладение приемами слушать и понимать речь окруж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792080" y="26028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нтеллектуальн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Песня\Desktop\Новая папка (2)\1025_babochkiz_narod_ru.gif"/>
          <p:cNvPicPr/>
          <p:nvPr/>
        </p:nvPicPr>
        <p:blipFill>
          <a:blip r:embed="rId2"/>
          <a:stretch/>
        </p:blipFill>
        <p:spPr>
          <a:xfrm>
            <a:off x="7524720" y="5229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Песня\Desktop\Новая папка (2)\1025_babochkiz_narod_ru.gif"/>
          <p:cNvPicPr/>
          <p:nvPr/>
        </p:nvPicPr>
        <p:blipFill>
          <a:blip r:embed="rId3"/>
          <a:stretch/>
        </p:blipFill>
        <p:spPr>
          <a:xfrm rot="3369000">
            <a:off x="6300720" y="5732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Песня\Desktop\Новая папка (2)\1025_babochkiz_narod_ru.gif"/>
          <p:cNvPicPr/>
          <p:nvPr/>
        </p:nvPicPr>
        <p:blipFill>
          <a:blip r:embed="rId4"/>
          <a:stretch/>
        </p:blipFill>
        <p:spPr>
          <a:xfrm rot="15641400">
            <a:off x="429840" y="1058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539640" y="170028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Практические задан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Творческие работ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ыставки творческих работ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Массов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Диагнос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539640" y="40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пособы проверки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380360" y="429264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Песня\Desktop\Новая папка (2)\1015_babochkiz_narod_ru.gif"/>
          <p:cNvPicPr/>
          <p:nvPr/>
        </p:nvPicPr>
        <p:blipFill>
          <a:blip r:embed="rId3"/>
          <a:stretch/>
        </p:blipFill>
        <p:spPr>
          <a:xfrm>
            <a:off x="5724360" y="52293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Песня\Desktop\Новая папка (2)\1015_babochkiz_narod_ru.gif"/>
          <p:cNvPicPr/>
          <p:nvPr/>
        </p:nvPicPr>
        <p:blipFill>
          <a:blip r:embed="rId4"/>
          <a:stretch/>
        </p:blipFill>
        <p:spPr>
          <a:xfrm>
            <a:off x="7308720" y="321300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Песня\Desktop\Новая папка (2)\1015_babochkiz_narod_ru.gif"/>
          <p:cNvPicPr/>
          <p:nvPr/>
        </p:nvPicPr>
        <p:blipFill>
          <a:blip r:embed="rId5"/>
          <a:stretch/>
        </p:blipFill>
        <p:spPr>
          <a:xfrm>
            <a:off x="7380360" y="1413000"/>
            <a:ext cx="155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0" y="620640"/>
            <a:ext cx="88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Calibri"/>
              </a:rPr>
              <a:t>      </a:t>
            </a:r>
            <a:r>
              <a:rPr b="1" lang="ru-RU" sz="4800" spc="-1" strike="noStrike">
                <a:solidFill>
                  <a:srgbClr val="604a7b"/>
                </a:solidFill>
                <a:latin typeface="Calibri"/>
              </a:rPr>
              <a:t>Содержание програм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абота с бумаг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абота с пластилином, тестопластика, работа с бросовым материало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абота с тканью, работа с природным материал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Песня\Desktop\Новая папка (2)\1034_babochkiz_narod_ru.gif"/>
          <p:cNvPicPr/>
          <p:nvPr/>
        </p:nvPicPr>
        <p:blipFill>
          <a:blip r:embed="rId2"/>
          <a:stretch/>
        </p:blipFill>
        <p:spPr>
          <a:xfrm>
            <a:off x="8172360" y="1197000"/>
            <a:ext cx="762120" cy="258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Песня\Desktop\Новая папка (2)\1034_babochkiz_narod_ru.gif"/>
          <p:cNvPicPr/>
          <p:nvPr/>
        </p:nvPicPr>
        <p:blipFill>
          <a:blip r:embed="rId3"/>
          <a:stretch/>
        </p:blipFill>
        <p:spPr>
          <a:xfrm>
            <a:off x="7667640" y="0"/>
            <a:ext cx="762120" cy="25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Песня\Desktop\Новая папка (2)\1034_babochkiz_narod_ru.gif"/>
          <p:cNvPicPr/>
          <p:nvPr/>
        </p:nvPicPr>
        <p:blipFill>
          <a:blip r:embed="rId4"/>
          <a:stretch/>
        </p:blipFill>
        <p:spPr>
          <a:xfrm>
            <a:off x="6372360" y="5567400"/>
            <a:ext cx="761760" cy="258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Песня\Desktop\Новая папка (2)\1034_babochkiz_narod_ru.gif"/>
          <p:cNvPicPr/>
          <p:nvPr/>
        </p:nvPicPr>
        <p:blipFill>
          <a:blip r:embed="rId5"/>
          <a:stretch/>
        </p:blipFill>
        <p:spPr>
          <a:xfrm>
            <a:off x="6659640" y="0"/>
            <a:ext cx="761760" cy="258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Песня\Desktop\Новая папка (2)\1034_babochkiz_narod_ru.gif"/>
          <p:cNvPicPr/>
          <p:nvPr/>
        </p:nvPicPr>
        <p:blipFill>
          <a:blip r:embed="rId6"/>
          <a:stretch/>
        </p:blipFill>
        <p:spPr>
          <a:xfrm>
            <a:off x="8101080" y="2133720"/>
            <a:ext cx="761760" cy="2581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Песня\Desktop\Новая папка (2)\1034_babochkiz_narod_ru.gif"/>
          <p:cNvPicPr/>
          <p:nvPr/>
        </p:nvPicPr>
        <p:blipFill>
          <a:blip r:embed="rId7"/>
          <a:stretch/>
        </p:blipFill>
        <p:spPr>
          <a:xfrm>
            <a:off x="7956720" y="3933720"/>
            <a:ext cx="7617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826920" y="549360"/>
            <a:ext cx="777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Техники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Рисование по ше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оноти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ри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Лепка из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ластилиновая живо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Аппликация из тк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оза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Бумажная пл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оделки из природного материала (береста, солом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Колл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Песня\Desktop\Новая папка (2)\1059_babochkiz_narod_ru.gif"/>
          <p:cNvPicPr/>
          <p:nvPr/>
        </p:nvPicPr>
        <p:blipFill>
          <a:blip r:embed="rId2"/>
          <a:stretch/>
        </p:blipFill>
        <p:spPr>
          <a:xfrm flipH="1">
            <a:off x="5405400" y="2766960"/>
            <a:ext cx="2695680" cy="132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Песня\Desktop\Новая папка (2)\1059_babochkiz_narod_ru.gif"/>
          <p:cNvPicPr/>
          <p:nvPr/>
        </p:nvPicPr>
        <p:blipFill>
          <a:blip r:embed="rId3"/>
          <a:stretch/>
        </p:blipFill>
        <p:spPr>
          <a:xfrm flipH="1">
            <a:off x="5795640" y="765000"/>
            <a:ext cx="3056040" cy="132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Песня\Desktop\Новая папка (2)\1059_babochkiz_narod_ru.gif"/>
          <p:cNvPicPr/>
          <p:nvPr/>
        </p:nvPicPr>
        <p:blipFill>
          <a:blip r:embed="rId4"/>
          <a:stretch/>
        </p:blipFill>
        <p:spPr>
          <a:xfrm flipH="1">
            <a:off x="6804000" y="4869000"/>
            <a:ext cx="183024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523880" y="1397160"/>
          <a:ext cx="5761080" cy="31096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  <a:gridCol w="1152360"/>
                <a:gridCol w="1152720"/>
                <a:gridCol w="115236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дел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оябрь-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Январь-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арт-апрель-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5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бота с бумаг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бота с пластили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естопла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бота с бросов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бота с ткан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бота с природн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3"/>
          <p:cNvSpPr/>
          <p:nvPr/>
        </p:nvSpPr>
        <p:spPr>
          <a:xfrm>
            <a:off x="971640" y="549360"/>
            <a:ext cx="88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аспределение учебных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Песня\Desktop\Новая папка (2)\1047_babochkiz_narod_ru.gif"/>
          <p:cNvPicPr/>
          <p:nvPr/>
        </p:nvPicPr>
        <p:blipFill>
          <a:blip r:embed="rId2"/>
          <a:stretch/>
        </p:blipFill>
        <p:spPr>
          <a:xfrm rot="12865800">
            <a:off x="7354080" y="253332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Песня\Desktop\Новая папка (2)\1047_babochkiz_narod_ru.gif"/>
          <p:cNvPicPr/>
          <p:nvPr/>
        </p:nvPicPr>
        <p:blipFill>
          <a:blip r:embed="rId3"/>
          <a:stretch/>
        </p:blipFill>
        <p:spPr>
          <a:xfrm rot="12484800">
            <a:off x="7370640" y="48960"/>
            <a:ext cx="1562400" cy="128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Песня\Desktop\Новая папка (2)\1047_babochkiz_narod_ru.gif"/>
          <p:cNvPicPr/>
          <p:nvPr/>
        </p:nvPicPr>
        <p:blipFill>
          <a:blip r:embed="rId4"/>
          <a:stretch/>
        </p:blipFill>
        <p:spPr>
          <a:xfrm rot="6641400">
            <a:off x="-155520" y="165564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Песня\Desktop\Новая папка (2)\1047_babochkiz_narod_ru.gif"/>
          <p:cNvPicPr/>
          <p:nvPr/>
        </p:nvPicPr>
        <p:blipFill>
          <a:blip r:embed="rId5"/>
          <a:stretch/>
        </p:blipFill>
        <p:spPr>
          <a:xfrm>
            <a:off x="5076720" y="557208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Песня\Desktop\Новая папка (2)\1047_babochkiz_narod_ru.gif"/>
          <p:cNvPicPr/>
          <p:nvPr/>
        </p:nvPicPr>
        <p:blipFill>
          <a:blip r:embed="rId6"/>
          <a:stretch/>
        </p:blipFill>
        <p:spPr>
          <a:xfrm>
            <a:off x="7581960" y="5013360"/>
            <a:ext cx="1562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Песня\Desktop\Новая папка (2)\1047_babochkiz_narod_ru.gif"/>
          <p:cNvPicPr/>
          <p:nvPr/>
        </p:nvPicPr>
        <p:blipFill>
          <a:blip r:embed="rId2"/>
          <a:stretch/>
        </p:blipFill>
        <p:spPr>
          <a:xfrm rot="12865800">
            <a:off x="7751160" y="282204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Песня\Desktop\Новая папка (2)\1047_babochkiz_narod_ru.gif"/>
          <p:cNvPicPr/>
          <p:nvPr/>
        </p:nvPicPr>
        <p:blipFill>
          <a:blip r:embed="rId3"/>
          <a:stretch/>
        </p:blipFill>
        <p:spPr>
          <a:xfrm rot="12484800">
            <a:off x="7370640" y="48960"/>
            <a:ext cx="156240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Песня\Desktop\Новая папка (2)\1047_babochkiz_narod_ru.gif"/>
          <p:cNvPicPr/>
          <p:nvPr/>
        </p:nvPicPr>
        <p:blipFill>
          <a:blip r:embed="rId4"/>
          <a:stretch/>
        </p:blipFill>
        <p:spPr>
          <a:xfrm rot="6641400">
            <a:off x="-155520" y="165564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Users\Песня\Desktop\Новая папка (2)\1047_babochkiz_narod_ru.gif"/>
          <p:cNvPicPr/>
          <p:nvPr/>
        </p:nvPicPr>
        <p:blipFill>
          <a:blip r:embed="rId5"/>
          <a:stretch/>
        </p:blipFill>
        <p:spPr>
          <a:xfrm>
            <a:off x="5076720" y="557208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Песня\Desktop\Новая папка (2)\1047_babochkiz_narod_ru.gif"/>
          <p:cNvPicPr/>
          <p:nvPr/>
        </p:nvPicPr>
        <p:blipFill>
          <a:blip r:embed="rId6"/>
          <a:stretch/>
        </p:blipFill>
        <p:spPr>
          <a:xfrm>
            <a:off x="7581960" y="5013360"/>
            <a:ext cx="1562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042920" y="252360"/>
            <a:ext cx="64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  <a:ea typeface="Calibri"/>
              </a:rPr>
              <a:t>Диаграмма уровня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1979640" y="1989000"/>
            <a:ext cx="380880" cy="1019160"/>
          </a:xfrm>
          <a:prstGeom prst="flowChartMagneticDisk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916360" y="1557360"/>
            <a:ext cx="438120" cy="1467000"/>
          </a:xfrm>
          <a:prstGeom prst="flowChartMagneticDisk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1697400" y="981000"/>
            <a:ext cx="7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2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2776320" y="10526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03280" y="30384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009г. Н. 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627280" y="3022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009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. к. 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050920" y="4508640"/>
            <a:ext cx="381240" cy="1076040"/>
          </a:xfrm>
          <a:prstGeom prst="flowChartMagneticDisk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059280" y="4076640"/>
            <a:ext cx="485640" cy="1533600"/>
          </a:xfrm>
          <a:prstGeom prst="flowChartMagneticDisk">
            <a:avLst/>
          </a:prstGeom>
          <a:solidFill>
            <a:srgbClr val="7030a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1"/>
          <p:cNvSpPr/>
          <p:nvPr/>
        </p:nvSpPr>
        <p:spPr>
          <a:xfrm>
            <a:off x="1839960" y="4005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2"/>
          <p:cNvSpPr/>
          <p:nvPr/>
        </p:nvSpPr>
        <p:spPr>
          <a:xfrm>
            <a:off x="2992320" y="3573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3"/>
          <p:cNvSpPr/>
          <p:nvPr/>
        </p:nvSpPr>
        <p:spPr>
          <a:xfrm>
            <a:off x="1472760" y="5732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г. Н.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>
            <a:off x="2922840" y="573264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. к.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5"/>
          <p:cNvSpPr/>
          <p:nvPr/>
        </p:nvSpPr>
        <p:spPr>
          <a:xfrm>
            <a:off x="4356000" y="981000"/>
            <a:ext cx="38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 этого следует, что занятия в кружке пошли на пользу детям. Считаю, что мо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казалась продуктивной и интересн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дальнейшем планирую добиваться устойчивых результатов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1476360" y="1916280"/>
            <a:ext cx="71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за внима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Users\Песня\Desktop\Новая папка (2)\1005_babochkiz_narod_ru.gif"/>
          <p:cNvPicPr/>
          <p:nvPr/>
        </p:nvPicPr>
        <p:blipFill>
          <a:blip r:embed="rId2"/>
          <a:stretch/>
        </p:blipFill>
        <p:spPr>
          <a:xfrm>
            <a:off x="5381640" y="4429080"/>
            <a:ext cx="376236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Песня\Desktop\Новая папка (2)\1015_babochkiz_narod_ru.gif"/>
          <p:cNvPicPr/>
          <p:nvPr/>
        </p:nvPicPr>
        <p:blipFill>
          <a:blip r:embed="rId3"/>
          <a:stretch/>
        </p:blipFill>
        <p:spPr>
          <a:xfrm>
            <a:off x="7236000" y="206064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Users\Песня\Desktop\Новая папка (2)\1015_babochkiz_narod_ru.gif"/>
          <p:cNvPicPr/>
          <p:nvPr/>
        </p:nvPicPr>
        <p:blipFill>
          <a:blip r:embed="rId4"/>
          <a:stretch/>
        </p:blipFill>
        <p:spPr>
          <a:xfrm>
            <a:off x="6875640" y="836640"/>
            <a:ext cx="15523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250920" y="144468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грамма помогает в формировании таких качеств у ребенка, как: отзывчивость, милосердие, почитание и уважение к окружающим его людям, способность к преодолению трудностей, учит его трудиться; помогает обращать внимание ребенка на каждое проявление красоты в жизни, воспитывает в нем стремление самому творить прекрасное и беречь его. Это очень важно, так как быть человеком - это значит не только быть таким как все, владеть всем, чем владеют другие, но и быть неповторимым, с собственными вкусами, интересами и способ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357120" y="285840"/>
            <a:ext cx="6518520" cy="64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Актуальност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Песня\Desktop\Новая папка (2)\1034_babochkiz_narod_ru.gif"/>
          <p:cNvPicPr/>
          <p:nvPr/>
        </p:nvPicPr>
        <p:blipFill>
          <a:blip r:embed="rId2"/>
          <a:stretch/>
        </p:blipFill>
        <p:spPr>
          <a:xfrm>
            <a:off x="7885080" y="404640"/>
            <a:ext cx="762120" cy="25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Песня\Desktop\Новая папка (2)\1034_babochkiz_narod_ru.gif"/>
          <p:cNvPicPr/>
          <p:nvPr/>
        </p:nvPicPr>
        <p:blipFill>
          <a:blip r:embed="rId3"/>
          <a:stretch/>
        </p:blipFill>
        <p:spPr>
          <a:xfrm>
            <a:off x="7164360" y="0"/>
            <a:ext cx="762120" cy="25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Песня\Desktop\Новая папка (2)\1034_babochkiz_narod_ru.gif"/>
          <p:cNvPicPr/>
          <p:nvPr/>
        </p:nvPicPr>
        <p:blipFill>
          <a:blip r:embed="rId4"/>
          <a:stretch/>
        </p:blipFill>
        <p:spPr>
          <a:xfrm>
            <a:off x="8028000" y="3573360"/>
            <a:ext cx="762120" cy="258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Песня\Desktop\Новая папка (2)\1034_babochkiz_narod_ru.gif"/>
          <p:cNvPicPr/>
          <p:nvPr/>
        </p:nvPicPr>
        <p:blipFill>
          <a:blip r:embed="rId5"/>
          <a:stretch/>
        </p:blipFill>
        <p:spPr>
          <a:xfrm>
            <a:off x="7956720" y="4941720"/>
            <a:ext cx="761760" cy="258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Песня\Desktop\Новая папка (2)\1034_babochkiz_narod_ru.gif"/>
          <p:cNvPicPr/>
          <p:nvPr/>
        </p:nvPicPr>
        <p:blipFill>
          <a:blip r:embed="rId6"/>
          <a:stretch/>
        </p:blipFill>
        <p:spPr>
          <a:xfrm>
            <a:off x="8028000" y="1916280"/>
            <a:ext cx="762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62064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аксимальный учет возрастных и индивидуальных особенност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заимосвязь художественно-творческой деятельности самих детей с воспитательно-образовательной работой, дающей разнообразную пищу для развития восприятия, образных представлений, воображения и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нтеграция различных видов искусства и разнообразных видов художественно-творческой деятельности, способствующая более глубокому эстетическому осмыслению действительности, собственного художественного творчества, образного, ассоциативного мышления и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важительное отношение к результатам творчества детей, широкого включения их произведений в жизнь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рганизация совместных выставок с родителями, выставок работ воспитанников, индивидуальных и коллективны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Тесная взаимосвязь и взаимодействие детского сада с семь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3276720" y="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591320" y="0"/>
            <a:ext cx="155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50920" y="1125360"/>
            <a:ext cx="86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ринцип взаимосвязи обучения и творчества как важный фактор формирования творческой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своение детьми доступных им средств художественной выразительности, необходимых для создания об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ринцип интеграции разнообразных видов художественно-творческой деятельности детей ( изобразительной, художественно-речев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863800" y="0"/>
            <a:ext cx="392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Принцип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Песня\Desktop\Новая папка (2)\1059_babochkiz_narod_ru.gif"/>
          <p:cNvPicPr/>
          <p:nvPr/>
        </p:nvPicPr>
        <p:blipFill>
          <a:blip r:embed="rId2"/>
          <a:stretch/>
        </p:blipFill>
        <p:spPr>
          <a:xfrm flipH="1">
            <a:off x="7235640" y="189000"/>
            <a:ext cx="1182600" cy="93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Песня\Desktop\Новая папка (2)\1059_babochkiz_narod_ru.gif"/>
          <p:cNvPicPr/>
          <p:nvPr/>
        </p:nvPicPr>
        <p:blipFill>
          <a:blip r:embed="rId3"/>
          <a:stretch/>
        </p:blipFill>
        <p:spPr>
          <a:xfrm>
            <a:off x="46836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Песня\Desktop\Новая папка (2)\1059_babochkiz_narod_ru.gif"/>
          <p:cNvPicPr/>
          <p:nvPr/>
        </p:nvPicPr>
        <p:blipFill>
          <a:blip r:embed="rId4"/>
          <a:stretch/>
        </p:blipFill>
        <p:spPr>
          <a:xfrm flipH="1">
            <a:off x="7313760" y="2133720"/>
            <a:ext cx="18302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0" y="1844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Развитие мелкой моторики руки посредством продуктивной деятельност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700360" y="404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Цель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Песня\Desktop\Новая папка (2)\1047_babochkiz_narod_ru.gif"/>
          <p:cNvPicPr/>
          <p:nvPr/>
        </p:nvPicPr>
        <p:blipFill>
          <a:blip r:embed="rId2"/>
          <a:stretch/>
        </p:blipFill>
        <p:spPr>
          <a:xfrm>
            <a:off x="7236000" y="5157720"/>
            <a:ext cx="156204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Песня\Desktop\Новая папка (2)\1047_babochkiz_narod_ru.gif"/>
          <p:cNvPicPr/>
          <p:nvPr/>
        </p:nvPicPr>
        <p:blipFill>
          <a:blip r:embed="rId3"/>
          <a:stretch/>
        </p:blipFill>
        <p:spPr>
          <a:xfrm rot="6042000">
            <a:off x="607680" y="576000"/>
            <a:ext cx="1562040" cy="1285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Песня\Desktop\Новая папка (2)\1047_babochkiz_narod_ru.gif"/>
          <p:cNvPicPr/>
          <p:nvPr/>
        </p:nvPicPr>
        <p:blipFill>
          <a:blip r:embed="rId4"/>
          <a:stretch/>
        </p:blipFill>
        <p:spPr>
          <a:xfrm rot="11608800">
            <a:off x="7003800" y="496440"/>
            <a:ext cx="1562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50920" y="1197000"/>
            <a:ext cx="8461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буждение у детей любознательности, интереса к творческой деятельности с учетом индивидуальных особенностей и специфики возрас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витие у детей творческих и художественных способностей, формирование творческой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148560" y="0"/>
            <a:ext cx="32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Песня\Desktop\Новая папка (2)\1015_babochkiz_narod_ru.gif"/>
          <p:cNvPicPr/>
          <p:nvPr/>
        </p:nvPicPr>
        <p:blipFill>
          <a:blip r:embed="rId2"/>
          <a:stretch/>
        </p:blipFill>
        <p:spPr>
          <a:xfrm>
            <a:off x="7236000" y="3213000"/>
            <a:ext cx="1552320" cy="141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Песня\Desktop\Новая папка (2)\1015_babochkiz_narod_ru.gif"/>
          <p:cNvPicPr/>
          <p:nvPr/>
        </p:nvPicPr>
        <p:blipFill>
          <a:blip r:embed="rId3"/>
          <a:stretch/>
        </p:blipFill>
        <p:spPr>
          <a:xfrm>
            <a:off x="6156360" y="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Песня\Desktop\Новая папка (2)\1015_babochkiz_narod_ru.gif"/>
          <p:cNvPicPr/>
          <p:nvPr/>
        </p:nvPicPr>
        <p:blipFill>
          <a:blip r:embed="rId4"/>
          <a:stretch/>
        </p:blipFill>
        <p:spPr>
          <a:xfrm>
            <a:off x="7020000" y="620640"/>
            <a:ext cx="155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468360" y="196920"/>
            <a:ext cx="820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грамма основана на определенных подход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Личностно - ориентированном - его сущность заключается в ориентации педагога на создание условий для развития личности ребенка : его интеллектуального и творческого потенциала, отношения к миру, людям, самому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Коммуникативном - образовательный процесс строится в форме общения. В учебном процессе превалируют такие формы как: диалог, беседа, и другие, которые развивают коммуникативные качеств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Творческом - творчество рассматривается как уникальный механизм развития личности ребенка. Непременное условие образовательного процесса -создание атмосферы творческого поиска и созидания, направленное на обогащение собственной деятельности (самовыражения)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324000" y="4762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ограмма основана на принципе сотрудничества, сотворчества и содружества педагогов, детей и их родителей, творческого развития ребенка 5-7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ограмма предусматривает комплексное усвоение различных видов художественно-эстетической деятельности, при котором происходит взаимодействие органов чувств: у детей развивается фантазия, воображение, интеллект; оптимизируются творческие способности; формируется ассоциативное поле; преодолеваются однобокость и фрагментарность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Песня\Desktop\Новая папка (2)\5___\126 фоны для презентаций\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539640" y="1028880"/>
            <a:ext cx="842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 области социального развития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овестливость - старательность, ответственность, бережливость, работоспособность; вежливость, общительность, 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мение оценивать поступки и событ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ктивность в общении: в течении всего занятия участвовать во всех заданиях, данных педагогом; изъявлять желание отвечать самому и помогать товарищу; охотно вступать в диалог с преподавателем и детьми; легко брать на себя любую роль в играх - диалог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явление чувства свободы и раскованности на занят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формированность умений легко входить в контакт с детьми и педаг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840320" y="189000"/>
            <a:ext cx="61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Песня\Desktop\Новая папка (2)\1026_babochkiz_narod_ru.gif"/>
          <p:cNvPicPr/>
          <p:nvPr/>
        </p:nvPicPr>
        <p:blipFill>
          <a:blip r:embed="rId2"/>
          <a:stretch/>
        </p:blipFill>
        <p:spPr>
          <a:xfrm rot="8944200">
            <a:off x="-99720" y="-87480"/>
            <a:ext cx="1524240" cy="129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Песня\Desktop\Новая папка (2)\1026_babochkiz_narod_ru.gif"/>
          <p:cNvPicPr/>
          <p:nvPr/>
        </p:nvPicPr>
        <p:blipFill>
          <a:blip r:embed="rId3"/>
          <a:stretch/>
        </p:blipFill>
        <p:spPr>
          <a:xfrm>
            <a:off x="7380360" y="52293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Песня\Desktop\Новая папка (2)\1026_babochkiz_narod_ru.gif"/>
          <p:cNvPicPr/>
          <p:nvPr/>
        </p:nvPicPr>
        <p:blipFill>
          <a:blip r:embed="rId4"/>
          <a:stretch/>
        </p:blipFill>
        <p:spPr>
          <a:xfrm rot="15861600">
            <a:off x="7620120" y="14122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2:29:49Z</dcterms:created>
  <dc:creator>Песня</dc:creator>
  <dc:description/>
  <dc:language>en-US</dc:language>
  <cp:lastModifiedBy>Песня</cp:lastModifiedBy>
  <dcterms:modified xsi:type="dcterms:W3CDTF">2011-11-10T08:04:30Z</dcterms:modified>
  <cp:revision>7</cp:revision>
  <dc:subject/>
  <dc:title>Слайд 1</dc:title>
</cp:coreProperties>
</file>