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E959-AEF5-454F-BBCB-28851573E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ижний колонтитул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1B8C-F87D-495C-9103-B2FD97391A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F594-34E5-4CED-960F-3992AC8AB1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BA31-B3EB-4E00-B3CA-CB0A0CBCFE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ED86-03E6-4E86-BEBC-2C2330F25F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5714-614B-4B20-A9F6-2C0490C474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42D2-2157-4962-8AC4-501BCF817C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B805-5AE9-466B-9FEA-824DFE2C99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DD7D-72CD-45CD-8EE8-C9C040AB0F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455A-E7E2-4156-9481-98B7183BAA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29B5-DFEA-4BF3-9144-6C745EF24E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- Егоров Антон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16B5-0118-4C06-B54D-D09AA35ADA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193-120B-4C0E-B132-732239C0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9A5-8641-41DB-B9C3-801ACB7E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E8F-139B-4B94-B52E-E7A8A892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1AA-8E44-48E2-A83D-FF46178A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D21-3107-4FBF-93D4-706C841E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4F8-F80B-447B-9815-D707CFB7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F1F-47AD-47FD-A77E-583E67C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DAF-A7DA-4AD2-902E-377F8857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AED-5EBA-47A4-8621-EC889DED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0ED-E184-442C-9E2D-B078A73E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E95-161C-4D52-8537-F681816D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1B3-0ACF-4B24-9AF7-FF29DD8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5911-74A8-43B6-98BA-EC76045F48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7D66-3E31-4356-AF19-24AC06359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3789360"/>
            <a:ext cx="652608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Тренинг по подбору </a:t>
            </a:r>
            <a:br>
              <a:rPr sz="29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ited Element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7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2"/>
          <p:cNvSpPr/>
          <p:nvPr/>
        </p:nvSpPr>
        <p:spPr>
          <a:xfrm>
            <a:off x="225360" y="1628640"/>
            <a:ext cx="7947000" cy="1871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/>
          <p:cNvSpPr/>
          <p:nvPr/>
        </p:nvSpPr>
        <p:spPr>
          <a:xfrm>
            <a:off x="6526080" y="56689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Бушман Татьяна Васи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БДОУ № 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лини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44D4D11C-F391-4BA4-A203-BF23972AE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8" descr="фон общ"/>
          <p:cNvPicPr/>
          <p:nvPr/>
        </p:nvPicPr>
        <p:blipFill>
          <a:blip r:embed="rId1"/>
          <a:stretch/>
        </p:blipFill>
        <p:spPr>
          <a:xfrm>
            <a:off x="0" y="0"/>
            <a:ext cx="9139320" cy="60627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179280" y="549360"/>
            <a:ext cx="85694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оздание развивающей сре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3851280" y="1395360"/>
            <a:ext cx="504180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53735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953735"/>
                </a:solidFill>
                <a:latin typeface="Calibri"/>
              </a:rPr>
              <a:t>Предметы народного быта и орудий труда используются при проведении различных игр: народных подвижных, хороводных, дидактических, режиссёрских, театрализованных. А также во время свободного общения с детьми на различные темы, при отгадывании загадок, разучивании потешек, прибауток, пословиц и поговорок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10" descr=""/>
          <p:cNvPicPr/>
          <p:nvPr/>
        </p:nvPicPr>
        <p:blipFill>
          <a:blip r:embed="rId2"/>
          <a:stretch/>
        </p:blipFill>
        <p:spPr>
          <a:xfrm>
            <a:off x="0" y="4537080"/>
            <a:ext cx="3132000" cy="2060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1" descr=""/>
          <p:cNvPicPr/>
          <p:nvPr/>
        </p:nvPicPr>
        <p:blipFill>
          <a:blip r:embed="rId3"/>
          <a:stretch/>
        </p:blipFill>
        <p:spPr>
          <a:xfrm>
            <a:off x="246240" y="1244520"/>
            <a:ext cx="25970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6838BAA9-6D52-442E-BE41-E07E24F09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8" descr="фон общ"/>
          <p:cNvPicPr/>
          <p:nvPr/>
        </p:nvPicPr>
        <p:blipFill>
          <a:blip r:embed="rId1"/>
          <a:stretch/>
        </p:blipFill>
        <p:spPr>
          <a:xfrm>
            <a:off x="0" y="0"/>
            <a:ext cx="9139320" cy="606276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79280" y="549360"/>
            <a:ext cx="85694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ивность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144360" y="1125360"/>
            <a:ext cx="8748720" cy="54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  </a:t>
            </a:r>
            <a:r>
              <a:rPr b="1" lang="ru-RU" sz="2200" spc="-1" strike="noStrike">
                <a:solidFill>
                  <a:srgbClr val="953735"/>
                </a:solidFill>
                <a:latin typeface="Calibri"/>
              </a:rPr>
              <a:t>Результатом работы по приобщению детей к истокам русской народной культуры можно счита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Народные праздники, проводимые в нашем сад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Посиделки с родителя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Изготовление газет родителями и деть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Театрализованные представления ребя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53735"/>
                </a:solidFill>
                <a:latin typeface="Calibri"/>
              </a:rPr>
              <a:t>Продуктивная деятельность: рисование, изготовление русских народных игрушек, лепка по русско-народным мотивам, вышивка, плетеление, конструирование из строительного материала теремов и из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"/>
          <p:cNvPicPr/>
          <p:nvPr/>
        </p:nvPicPr>
        <p:blipFill>
          <a:blip r:embed="rId2"/>
          <a:stretch/>
        </p:blipFill>
        <p:spPr>
          <a:xfrm rot="571200">
            <a:off x="7075080" y="1553760"/>
            <a:ext cx="1568520" cy="11764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"/>
          <p:cNvPicPr/>
          <p:nvPr/>
        </p:nvPicPr>
        <p:blipFill>
          <a:blip r:embed="rId3"/>
          <a:stretch/>
        </p:blipFill>
        <p:spPr>
          <a:xfrm rot="21169200">
            <a:off x="325440" y="237636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"/>
          <p:cNvPicPr/>
          <p:nvPr/>
        </p:nvPicPr>
        <p:blipFill>
          <a:blip r:embed="rId4"/>
          <a:stretch/>
        </p:blipFill>
        <p:spPr>
          <a:xfrm rot="20779800">
            <a:off x="5627520" y="3806640"/>
            <a:ext cx="1497240" cy="11221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"/>
          <p:cNvPicPr/>
          <p:nvPr/>
        </p:nvPicPr>
        <p:blipFill>
          <a:blip r:embed="rId5"/>
          <a:stretch/>
        </p:blipFill>
        <p:spPr>
          <a:xfrm rot="912600">
            <a:off x="7443360" y="3801600"/>
            <a:ext cx="1550880" cy="11638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4" descr=""/>
          <p:cNvPicPr/>
          <p:nvPr/>
        </p:nvPicPr>
        <p:blipFill>
          <a:blip r:embed="rId6"/>
          <a:stretch/>
        </p:blipFill>
        <p:spPr>
          <a:xfrm rot="543600">
            <a:off x="1989000" y="2535120"/>
            <a:ext cx="1548000" cy="1160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"/>
          <p:cNvPicPr/>
          <p:nvPr/>
        </p:nvPicPr>
        <p:blipFill>
          <a:blip r:embed="rId7"/>
          <a:stretch/>
        </p:blipFill>
        <p:spPr>
          <a:xfrm>
            <a:off x="1163520" y="4205160"/>
            <a:ext cx="1416240" cy="1062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7" descr=""/>
          <p:cNvPicPr/>
          <p:nvPr/>
        </p:nvPicPr>
        <p:blipFill>
          <a:blip r:embed="rId8"/>
          <a:stretch/>
        </p:blipFill>
        <p:spPr>
          <a:xfrm>
            <a:off x="3619440" y="4245120"/>
            <a:ext cx="13064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83A69451-2946-475B-938E-8ED63AB1D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8" descr="фон общ"/>
          <p:cNvPicPr/>
          <p:nvPr/>
        </p:nvPicPr>
        <p:blipFill>
          <a:blip r:embed="rId1"/>
          <a:stretch/>
        </p:blipFill>
        <p:spPr>
          <a:xfrm>
            <a:off x="0" y="0"/>
            <a:ext cx="9139320" cy="60627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6"/>
          <p:cNvSpPr/>
          <p:nvPr/>
        </p:nvSpPr>
        <p:spPr>
          <a:xfrm>
            <a:off x="179280" y="736560"/>
            <a:ext cx="85694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Тема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250920" y="1557360"/>
            <a:ext cx="856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2590920" cy="1944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3"/>
          <a:stretch/>
        </p:blipFill>
        <p:spPr>
          <a:xfrm>
            <a:off x="2916360" y="2924280"/>
            <a:ext cx="2808000" cy="2106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4"/>
          <a:stretch/>
        </p:blipFill>
        <p:spPr>
          <a:xfrm>
            <a:off x="4932360" y="41497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5"/>
          <a:stretch/>
        </p:blipFill>
        <p:spPr>
          <a:xfrm>
            <a:off x="6649920" y="2838600"/>
            <a:ext cx="2394000" cy="17953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"/>
          <p:cNvPicPr/>
          <p:nvPr/>
        </p:nvPicPr>
        <p:blipFill>
          <a:blip r:embed="rId6"/>
          <a:stretch/>
        </p:blipFill>
        <p:spPr>
          <a:xfrm>
            <a:off x="-36360" y="2924280"/>
            <a:ext cx="23400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277E33A1-E8DE-4058-9B84-2FB4EF505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8" descr="фон общ"/>
          <p:cNvPicPr/>
          <p:nvPr/>
        </p:nvPicPr>
        <p:blipFill>
          <a:blip r:embed="rId1"/>
          <a:stretch/>
        </p:blipFill>
        <p:spPr>
          <a:xfrm>
            <a:off x="0" y="0"/>
            <a:ext cx="9139320" cy="60627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179280" y="736560"/>
            <a:ext cx="85694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2"/>
          <a:stretch/>
        </p:blipFill>
        <p:spPr>
          <a:xfrm>
            <a:off x="2987640" y="3772080"/>
            <a:ext cx="2952720" cy="2379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468360" y="1484280"/>
            <a:ext cx="828036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Пробуждение чувства любви к своей Родине, воспитание в детях патриотизма через приобщение детей ко всем видам национальной культуры: фольклор, традиции, обычаи, танец, музыка, народно-прикладное искусство,  архитектура, теа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0" descr=""/>
          <p:cNvPicPr/>
          <p:nvPr/>
        </p:nvPicPr>
        <p:blipFill>
          <a:blip r:embed="rId3"/>
          <a:stretch/>
        </p:blipFill>
        <p:spPr>
          <a:xfrm>
            <a:off x="0" y="4076640"/>
            <a:ext cx="3035160" cy="227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2" descr=""/>
          <p:cNvPicPr/>
          <p:nvPr/>
        </p:nvPicPr>
        <p:blipFill>
          <a:blip r:embed="rId4"/>
          <a:stretch/>
        </p:blipFill>
        <p:spPr>
          <a:xfrm>
            <a:off x="5935680" y="4005360"/>
            <a:ext cx="3203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A9F346CF-DBFF-4E6A-B283-0F09F137B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8" descr="фон общ"/>
          <p:cNvPicPr/>
          <p:nvPr/>
        </p:nvPicPr>
        <p:blipFill>
          <a:blip r:embed="rId1"/>
          <a:stretch/>
        </p:blipFill>
        <p:spPr>
          <a:xfrm>
            <a:off x="0" y="122400"/>
            <a:ext cx="9180360" cy="60624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179280" y="644400"/>
            <a:ext cx="85694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Задачи по направлени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0"/>
          <p:cNvSpPr/>
          <p:nvPr/>
        </p:nvSpPr>
        <p:spPr>
          <a:xfrm>
            <a:off x="34920" y="1341360"/>
            <a:ext cx="3097080" cy="1143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комить детей с основными календарно-обрядовыми праздника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1"/>
          <p:cNvSpPr/>
          <p:nvPr/>
        </p:nvSpPr>
        <p:spPr>
          <a:xfrm>
            <a:off x="-25560" y="4979880"/>
            <a:ext cx="3089520" cy="11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ь связь праздников с трудовой деятельностью русского народа и явлениями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2"/>
          <p:cNvSpPr/>
          <p:nvPr/>
        </p:nvSpPr>
        <p:spPr>
          <a:xfrm>
            <a:off x="6016680" y="4979880"/>
            <a:ext cx="3127320" cy="1224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историческое сознание через взаимосвязь прошлого, настоящего и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33"/>
          <p:cNvSpPr/>
          <p:nvPr/>
        </p:nvSpPr>
        <p:spPr>
          <a:xfrm>
            <a:off x="6084720" y="1268280"/>
            <a:ext cx="3119760" cy="1224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зывать интерес к народным праздникам и активное участие в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083040" y="2276640"/>
            <a:ext cx="3001680" cy="2881080"/>
          </a:xfrm>
          <a:prstGeom prst="ellipse">
            <a:avLst/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комство с народными календарно-обрядовыми празд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24"/>
          <p:cNvCxnSpPr>
            <a:stCxn id="81" idx="7"/>
          </p:cNvCxnSpPr>
          <p:nvPr/>
        </p:nvCxnSpPr>
        <p:spPr>
          <a:xfrm flipV="1">
            <a:off x="5645160" y="2421000"/>
            <a:ext cx="44352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37"/>
          <p:cNvCxnSpPr>
            <a:stCxn id="81" idx="5"/>
          </p:cNvCxnSpPr>
          <p:nvPr/>
        </p:nvCxnSpPr>
        <p:spPr>
          <a:xfrm>
            <a:off x="5645160" y="4735080"/>
            <a:ext cx="443520" cy="244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45"/>
          <p:cNvCxnSpPr>
            <a:stCxn id="81" idx="1"/>
          </p:cNvCxnSpPr>
          <p:nvPr/>
        </p:nvCxnSpPr>
        <p:spPr>
          <a:xfrm flipH="1" flipV="1">
            <a:off x="3147120" y="2421000"/>
            <a:ext cx="37548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52"/>
          <p:cNvCxnSpPr>
            <a:stCxn id="81" idx="3"/>
          </p:cNvCxnSpPr>
          <p:nvPr/>
        </p:nvCxnSpPr>
        <p:spPr>
          <a:xfrm flipH="1">
            <a:off x="3063600" y="4735080"/>
            <a:ext cx="459360" cy="244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9BADF770-1710-41AD-BDDB-35C2E383F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8" descr="фон общ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0624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179280" y="644400"/>
            <a:ext cx="85694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Задачи по направлени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0"/>
          <p:cNvSpPr/>
          <p:nvPr/>
        </p:nvSpPr>
        <p:spPr>
          <a:xfrm>
            <a:off x="34920" y="1341360"/>
            <a:ext cx="3097080" cy="1143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комить детей с основными ремеслами на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1"/>
          <p:cNvSpPr/>
          <p:nvPr/>
        </p:nvSpPr>
        <p:spPr>
          <a:xfrm>
            <a:off x="-25560" y="4979880"/>
            <a:ext cx="3089520" cy="11509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ывать уважение к трудовой деятельности русского народа и негативное отношение к л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3"/>
          <p:cNvSpPr/>
          <p:nvPr/>
        </p:nvSpPr>
        <p:spPr>
          <a:xfrm>
            <a:off x="6084720" y="1268280"/>
            <a:ext cx="3119760" cy="1224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ь, что трудолюбие это основная добродетель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0"/>
          <p:cNvSpPr/>
          <p:nvPr/>
        </p:nvSpPr>
        <p:spPr>
          <a:xfrm>
            <a:off x="3063960" y="2276640"/>
            <a:ext cx="3020760" cy="2881080"/>
          </a:xfrm>
          <a:prstGeom prst="ellipse">
            <a:avLst/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комство с русскими старинными ремес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24"/>
          <p:cNvCxnSpPr>
            <a:stCxn id="94" idx="7"/>
          </p:cNvCxnSpPr>
          <p:nvPr/>
        </p:nvCxnSpPr>
        <p:spPr>
          <a:xfrm flipV="1">
            <a:off x="5641560" y="2421000"/>
            <a:ext cx="44676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Прямая со стрелкой 45"/>
          <p:cNvCxnSpPr>
            <a:stCxn id="94" idx="1"/>
          </p:cNvCxnSpPr>
          <p:nvPr/>
        </p:nvCxnSpPr>
        <p:spPr>
          <a:xfrm flipH="1" flipV="1">
            <a:off x="3147120" y="2421000"/>
            <a:ext cx="35964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Прямая со стрелкой 52"/>
          <p:cNvCxnSpPr>
            <a:stCxn id="94" idx="3"/>
          </p:cNvCxnSpPr>
          <p:nvPr/>
        </p:nvCxnSpPr>
        <p:spPr>
          <a:xfrm flipH="1">
            <a:off x="3063600" y="4735080"/>
            <a:ext cx="443520" cy="244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8" name="Рисунок 8" descr=""/>
          <p:cNvPicPr/>
          <p:nvPr/>
        </p:nvPicPr>
        <p:blipFill>
          <a:blip r:embed="rId2"/>
          <a:stretch/>
        </p:blipFill>
        <p:spPr>
          <a:xfrm>
            <a:off x="6218280" y="400536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A90B8F8F-94B5-4671-9DF1-63B3BD9C3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8" descr="фон общ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0624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179280" y="644400"/>
            <a:ext cx="85694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Задачи по направлени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30"/>
          <p:cNvSpPr/>
          <p:nvPr/>
        </p:nvSpPr>
        <p:spPr>
          <a:xfrm>
            <a:off x="34920" y="1341360"/>
            <a:ext cx="3259080" cy="135756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знакомить детей с основными видами устного народного творчества: потешки, пословицы, поговорки, загадки, сказки, песни, часту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32"/>
          <p:cNvSpPr/>
          <p:nvPr/>
        </p:nvSpPr>
        <p:spPr>
          <a:xfrm>
            <a:off x="6016680" y="4979880"/>
            <a:ext cx="3127320" cy="1224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звать эмоциональный отклик и творческую активность у детей через драматизацию некоторых сюжетов сказ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3"/>
          <p:cNvSpPr/>
          <p:nvPr/>
        </p:nvSpPr>
        <p:spPr>
          <a:xfrm>
            <a:off x="5935680" y="1309680"/>
            <a:ext cx="3208320" cy="14288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казать связь между произведениями устного народного творчества и ближайшим бытовым окружением человека и его этическо-эстетическими чертами в прошлом и настоящ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0"/>
          <p:cNvSpPr/>
          <p:nvPr/>
        </p:nvSpPr>
        <p:spPr>
          <a:xfrm>
            <a:off x="3156120" y="2492280"/>
            <a:ext cx="3000240" cy="2881440"/>
          </a:xfrm>
          <a:prstGeom prst="ellipse">
            <a:avLst/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комство с устным народным твор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24"/>
          <p:cNvCxnSpPr>
            <a:stCxn id="107" idx="7"/>
          </p:cNvCxnSpPr>
          <p:nvPr/>
        </p:nvCxnSpPr>
        <p:spPr>
          <a:xfrm flipV="1">
            <a:off x="5716080" y="2698200"/>
            <a:ext cx="2962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Прямая со стрелкой 37"/>
          <p:cNvCxnSpPr>
            <a:stCxn id="107" idx="5"/>
          </p:cNvCxnSpPr>
          <p:nvPr/>
        </p:nvCxnSpPr>
        <p:spPr>
          <a:xfrm>
            <a:off x="5716440" y="4951080"/>
            <a:ext cx="300600" cy="12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Прямая со стрелкой 45"/>
          <p:cNvCxnSpPr>
            <a:stCxn id="107" idx="1"/>
          </p:cNvCxnSpPr>
          <p:nvPr/>
        </p:nvCxnSpPr>
        <p:spPr>
          <a:xfrm flipH="1" flipV="1">
            <a:off x="3218760" y="2636280"/>
            <a:ext cx="37548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71280" y="4221000"/>
            <a:ext cx="30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A6D967E9-7B72-40B5-B346-87D46A0AC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8" descr="фон общ"/>
          <p:cNvPicPr/>
          <p:nvPr/>
        </p:nvPicPr>
        <p:blipFill>
          <a:blip r:embed="rId1"/>
          <a:stretch/>
        </p:blipFill>
        <p:spPr>
          <a:xfrm>
            <a:off x="0" y="122400"/>
            <a:ext cx="9180360" cy="60624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179280" y="644400"/>
            <a:ext cx="85694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Задачи по направлени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30"/>
          <p:cNvSpPr/>
          <p:nvPr/>
        </p:nvSpPr>
        <p:spPr>
          <a:xfrm>
            <a:off x="34920" y="1341360"/>
            <a:ext cx="3097080" cy="1143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комить детей с бытом, обычаями и традициями рус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31"/>
          <p:cNvSpPr/>
          <p:nvPr/>
        </p:nvSpPr>
        <p:spPr>
          <a:xfrm>
            <a:off x="-25560" y="4979880"/>
            <a:ext cx="3089520" cy="1224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здать у детей этнический облик народа, выражающий его специфику через знакомство с элементами жилища, предметов быта, одежды, этикета русского человека в прош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32"/>
          <p:cNvSpPr/>
          <p:nvPr/>
        </p:nvSpPr>
        <p:spPr>
          <a:xfrm>
            <a:off x="6016680" y="4979880"/>
            <a:ext cx="3127320" cy="1224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ть у детей чувство патриотизма, приобщая их к духовной культуре русского на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33"/>
          <p:cNvSpPr/>
          <p:nvPr/>
        </p:nvSpPr>
        <p:spPr>
          <a:xfrm>
            <a:off x="6084720" y="1268280"/>
            <a:ext cx="3119760" cy="1224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ть у детей взаимосвязь традиций прошлого и настоя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10"/>
          <p:cNvSpPr/>
          <p:nvPr/>
        </p:nvSpPr>
        <p:spPr>
          <a:xfrm>
            <a:off x="3083040" y="2276640"/>
            <a:ext cx="3001680" cy="2881080"/>
          </a:xfrm>
          <a:prstGeom prst="ellipse">
            <a:avLst/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комство с русским народным бытом, обычаями и тради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24"/>
          <p:cNvCxnSpPr>
            <a:stCxn id="121" idx="7"/>
          </p:cNvCxnSpPr>
          <p:nvPr/>
        </p:nvCxnSpPr>
        <p:spPr>
          <a:xfrm flipV="1">
            <a:off x="5645160" y="2421000"/>
            <a:ext cx="44352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Прямая со стрелкой 37"/>
          <p:cNvCxnSpPr>
            <a:stCxn id="121" idx="5"/>
          </p:cNvCxnSpPr>
          <p:nvPr/>
        </p:nvCxnSpPr>
        <p:spPr>
          <a:xfrm>
            <a:off x="5645160" y="4735080"/>
            <a:ext cx="443520" cy="244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Прямая со стрелкой 45"/>
          <p:cNvCxnSpPr>
            <a:stCxn id="121" idx="1"/>
          </p:cNvCxnSpPr>
          <p:nvPr/>
        </p:nvCxnSpPr>
        <p:spPr>
          <a:xfrm flipH="1" flipV="1">
            <a:off x="3147120" y="2421000"/>
            <a:ext cx="37548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Прямая со стрелкой 52"/>
          <p:cNvCxnSpPr>
            <a:stCxn id="121" idx="3"/>
          </p:cNvCxnSpPr>
          <p:nvPr/>
        </p:nvCxnSpPr>
        <p:spPr>
          <a:xfrm flipH="1">
            <a:off x="3063600" y="4735080"/>
            <a:ext cx="459360" cy="244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ABFD197B-5503-4019-AB63-83444F8D4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8" descr="фон общ"/>
          <p:cNvPicPr/>
          <p:nvPr/>
        </p:nvPicPr>
        <p:blipFill>
          <a:blip r:embed="rId1"/>
          <a:stretch/>
        </p:blipFill>
        <p:spPr>
          <a:xfrm>
            <a:off x="-27000" y="141120"/>
            <a:ext cx="9180360" cy="60627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6"/>
          <p:cNvSpPr/>
          <p:nvPr/>
        </p:nvSpPr>
        <p:spPr>
          <a:xfrm>
            <a:off x="179280" y="644400"/>
            <a:ext cx="85694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Задачи по направления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30"/>
          <p:cNvSpPr/>
          <p:nvPr/>
        </p:nvSpPr>
        <p:spPr>
          <a:xfrm>
            <a:off x="34920" y="1341360"/>
            <a:ext cx="3097080" cy="12175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ть у детей эстетическое восприятие мира через знакомство с некоторыми видами русского народно-прикладного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31"/>
          <p:cNvSpPr/>
          <p:nvPr/>
        </p:nvSpPr>
        <p:spPr>
          <a:xfrm>
            <a:off x="-25560" y="4979880"/>
            <a:ext cx="3089520" cy="1224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буждать детей к созданию собственных работ по образу русских мастеров, поощряя их воображение, активность и инициати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33"/>
          <p:cNvSpPr/>
          <p:nvPr/>
        </p:nvSpPr>
        <p:spPr>
          <a:xfrm>
            <a:off x="6084720" y="1268280"/>
            <a:ext cx="3119760" cy="12906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зывать восхищение умениями и талантами мастеров, создавших произведения народно-прикладного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0"/>
          <p:cNvSpPr/>
          <p:nvPr/>
        </p:nvSpPr>
        <p:spPr>
          <a:xfrm>
            <a:off x="3083040" y="2349360"/>
            <a:ext cx="3001680" cy="2880000"/>
          </a:xfrm>
          <a:prstGeom prst="ellipse">
            <a:avLst/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комство с русским народным искус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24"/>
          <p:cNvCxnSpPr>
            <a:stCxn id="134" idx="7"/>
          </p:cNvCxnSpPr>
          <p:nvPr/>
        </p:nvCxnSpPr>
        <p:spPr>
          <a:xfrm flipV="1">
            <a:off x="5645160" y="2492280"/>
            <a:ext cx="44352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Прямая со стрелкой 45"/>
          <p:cNvCxnSpPr>
            <a:stCxn id="134" idx="1"/>
          </p:cNvCxnSpPr>
          <p:nvPr/>
        </p:nvCxnSpPr>
        <p:spPr>
          <a:xfrm flipH="1" flipV="1">
            <a:off x="3147120" y="2492280"/>
            <a:ext cx="37548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Прямая со стрелкой 52"/>
          <p:cNvCxnSpPr>
            <a:stCxn id="134" idx="3"/>
          </p:cNvCxnSpPr>
          <p:nvPr/>
        </p:nvCxnSpPr>
        <p:spPr>
          <a:xfrm flipH="1">
            <a:off x="3063600" y="4806720"/>
            <a:ext cx="459360" cy="244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8" name="Рисунок 3" descr=""/>
          <p:cNvPicPr/>
          <p:nvPr/>
        </p:nvPicPr>
        <p:blipFill>
          <a:blip r:embed="rId2"/>
          <a:stretch/>
        </p:blipFill>
        <p:spPr>
          <a:xfrm>
            <a:off x="6405480" y="4143240"/>
            <a:ext cx="27748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15ECDF81-0C28-4B33-92C6-47A8D0807F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8" descr="фон общ"/>
          <p:cNvPicPr/>
          <p:nvPr/>
        </p:nvPicPr>
        <p:blipFill>
          <a:blip r:embed="rId1"/>
          <a:stretch/>
        </p:blipFill>
        <p:spPr>
          <a:xfrm>
            <a:off x="0" y="0"/>
            <a:ext cx="9139320" cy="60627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179280" y="736560"/>
            <a:ext cx="85694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оздание развивающей сре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спитатель Бушман Т.В. ГБДОУ № 81 Калин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9360" y="-27000"/>
            <a:ext cx="9134640" cy="64764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Calibri"/>
              </a:rPr>
              <a:t>«Приобщение детей к истокам русской народной культур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6"/>
          <p:cNvSpPr/>
          <p:nvPr/>
        </p:nvSpPr>
        <p:spPr>
          <a:xfrm>
            <a:off x="250920" y="1631880"/>
            <a:ext cx="46814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В саду было оборудовано небольшое помещение в стиле русской избы, где собраны предмета русского народного быта: горшки, самовар, миски, плошки, ложки, коромысло, кочерга, а также муляжи некоторых орудий труда (серп, топор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5" descr=""/>
          <p:cNvPicPr/>
          <p:nvPr/>
        </p:nvPicPr>
        <p:blipFill>
          <a:blip r:embed="rId2"/>
          <a:srcRect l="12161" t="0" r="12336" b="0"/>
          <a:stretch/>
        </p:blipFill>
        <p:spPr>
          <a:xfrm>
            <a:off x="5148360" y="177336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6:34:35Z</dcterms:created>
  <dc:creator>Test</dc:creator>
  <dc:description/>
  <dc:language>en-US</dc:language>
  <cp:lastModifiedBy>User</cp:lastModifiedBy>
  <dcterms:modified xsi:type="dcterms:W3CDTF">2012-03-24T14:12:41Z</dcterms:modified>
  <cp:revision>43</cp:revision>
  <dc:subject/>
  <dc:title>Тренинг по подбору  United Elements Group</dc:title>
</cp:coreProperties>
</file>