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5.png" ContentType="image/png"/>
  <Override PartName="/ppt/media/image8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4.gif" ContentType="image/gif"/>
  <Override PartName="/ppt/media/image11.jpeg" ContentType="image/jpeg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4.gif" ContentType="image/gif"/>
  <Override PartName="/ppt/media/image7.jpeg" ContentType="image/jpeg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CC9-3943-40CE-86E9-11149EB2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F42-89A7-4B0F-843A-CE1AA15C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48C11-DFC4-422B-B775-74038BD8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34470-C9A6-4091-AECA-86E8530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827D-6BDA-4820-812B-A8AA6E0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2880F-26D2-479B-928E-34FD178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DFA44-3664-4FA1-BF53-4EC7A83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C3CEF-F4B2-40A3-A78C-D66703CC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16AC1-4189-4653-8734-FB3E1F5E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A5D07-B1E0-4B98-9C88-485623AA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0DEEB-1DE8-4E10-9264-88EEA559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06982-CF1D-4BC6-8FA6-805DA26D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770-6BD0-432C-8B5F-2D706883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F97A2-0D88-496B-9B37-692A2D7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9248A-356F-4468-8963-B57C8AB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1D9AF-B3BE-45FB-88E0-2BE2CA15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C35A4-CF12-4F51-B7CD-3C065277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F6868-BFFC-4FE9-8D93-A2F43D6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D0AA7-3FBD-48C5-B763-AB86CF5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ED756-E0B2-43B9-8C95-6B19A6A1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C71B9-0D16-469E-926A-EFF64D81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EC9CF-760F-423D-A471-495F2649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F8C71-5576-4A78-B36F-DE695203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621-FB18-47B8-87A7-0996BA70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770A6-2551-44E2-B75C-C0D5473A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6264B-4292-4A78-B276-BE420251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4B7BE-0B31-433D-90E1-5D78B02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4977F-E089-4D59-899A-5089FCE9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110F9-C134-4D38-951E-132AC110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0E2D-B0C9-4963-BA26-3072F98A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F4F1-3513-4B5E-9547-3EE5D305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F3B23-B992-4A93-875D-24D5382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6BBE6-97B4-4BA0-A20E-7D623F1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9F88D-BC08-489F-B4DF-BAE4EF5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BAD8-363A-4801-98D2-AC5D843D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1DE60-5C72-422C-8B9B-4FC6624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FF6A5-A391-4B85-B168-C9C0BC31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3B7A2-64ED-4D59-8FAD-09B49F24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D345D-31B9-4348-9DA9-F8B9E020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8DD87-0C58-4260-9CB7-BCD7325D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02A80-8380-4D50-92D6-25C8FB6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7B182-E83E-4715-BCAE-E9F49047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A32E8-7368-422E-9401-EC449C1E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2296-A6AA-4CA8-AAD6-D249E020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78D09-7A0B-4057-91E8-4D5F2E4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08DF-6549-4529-A9E7-2923F7B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0D5F3-1258-498E-AB10-EB4DBAC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95C1B-48A6-4EF3-806F-93C156B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24F6F-42D2-48F7-AE44-4BB63FCB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E2131-E973-416C-92F7-E30A7455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6438D-B29D-4FFA-B23D-4D7FE0E9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7FC04-58F4-417A-B7D7-ACC47F17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45C9F-80BB-4CB9-ACBB-3ECFE1AF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DC9E7-0368-4767-A0FC-B666CB3E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45819-8F60-47B0-A64C-A1A3C356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EF02A-0B07-47CF-96C6-27F40350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D9EF-96B2-46D9-ADAB-7C5A5483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D0EFC-27EB-4239-97D6-6223D1F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93351-E784-45D9-8F9D-5F8E91D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264FD-8B8F-45A5-B9CB-B6C12B0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1AE2B-0A9E-4189-A1C6-555407F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827F9-1BCC-4621-AE5A-9A153F76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33DB7-23FA-45F2-9EAF-DF58957A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8F22F-1163-48D3-BC46-0256030F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D24E8-2907-4D07-9EC9-949E37C3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8E64A-924B-4EC8-8A43-01BD8688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737C6-50B1-4F2F-9F45-216F64E6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F4A2-9B3B-4CCB-B0C3-C66EA87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90863-0534-4FF5-8515-C839DD79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2872C-231F-41D1-9E67-1A342900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74A96-8480-44AE-B2CA-093FEFF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1F3BF-57B4-4B23-BC57-AF06FA0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73E82-752A-46C6-B246-0A9495C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F0F48-2347-4399-B535-A441E0E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DAAA7-12F4-4D4F-BB3A-F5D5FEFE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FEF50-B577-478F-84CF-615C3766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B0967-718C-4329-9ACA-10F763D5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99CD8-BFC9-4A6C-B875-B6FD3F9F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589F-BA74-4897-92CF-63C24E3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93976-98BA-4260-B3D6-9A5BED48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81361-7293-495D-9994-402E72F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4AE84-8EDD-4A93-9ADC-3732D637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EBAFB-D453-46B9-97D3-B2550C24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72A23-9CE4-4768-BB45-DA4F08A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63A1F-262B-4EA6-92C0-9D5D257E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B17AE-9E64-409B-8BD9-4AE1409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B3F5E-2793-498A-ADF6-848926C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BC540-E581-4476-B01E-75A84E81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EB72B-EC11-4C44-BCD7-9EC47EE8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6471-6A0F-48B4-82F4-DA0BB4C1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7EBFA-743C-4E2D-A770-B4B6CA0B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F66A-2DA5-44FC-8DA3-2FEE54CD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371-0F51-4678-B854-D4A81FA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05BC-772D-493B-A2A6-D557CE6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BBAB-6249-45FC-8AA5-B932E40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B7AC-4C2A-4880-96EE-C644C32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3BCF-3F84-4DB0-B21D-0C25DC3E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7DBD-AD08-474B-9608-20190591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79B2-CA4F-451C-BB0D-2B90B4C0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5BE3-EF62-4CBE-ABF7-F163299F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5B87-3397-4F84-8D6D-39631403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D34D-74B0-4AE5-BEEF-BAE57600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1B22B-391B-4DBC-B25E-B1D2ECAC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788-232C-433E-B666-A32D4CDF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A938-D3E4-4C8A-945E-F3B201F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3662-9125-4EE6-854C-D01172E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0F9D-6A8E-4B7C-A695-C95EDA0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3034-4438-4D8C-8E99-9727B11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3013-C260-4081-B9EB-5F9D5E92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6F3E-2058-4575-9FE1-61688940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7D85-0D54-4070-82F6-72B4586D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0FE0-E7E9-42E6-BFEC-AB536DE1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18AA-876B-489A-8F4B-4E09EE7A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3C96-0DBB-4628-B83E-B17DC38E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608-3CDE-4332-9823-0BA92D5B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D31E-0311-49D4-B4D3-3DC235EF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F78F-EC7F-4804-A608-41320FF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12F9-DD8E-4F0F-9E7F-5E394AB2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05A7-B248-4BD7-A3F3-16919485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53A8-4EC6-46EB-A526-BFD81465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1955-2306-4D52-AE98-54F734BA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DD75-E784-4806-8FD4-F4E03BDC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709F5-9E4F-428F-A0A6-CD87C9CF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A3F9-11B6-45BA-9D40-2CDA4567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23F8F-5DB4-4EB6-9C37-0FD2BDE3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B57-8B66-4B4E-95D0-E0F1C25B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5134A-F34C-4DC9-8254-396281AD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0B5F-677A-4776-A0C0-6149146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96D2-9858-4573-A55F-FF62DD30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C225-41A4-4B59-929A-3C2A6185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9F3F-A360-4EEA-A0A4-29C7B12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5ED4-0612-4466-A76C-3C8B298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53B5-D6FD-47E5-9E87-BD5933E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4CCFA-E4BA-48BC-8F6F-2D63E90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3F700-ACAA-408C-B356-08E5A96F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EADD-6CED-4992-9FE3-68CCC89A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934-7443-45BB-AF60-8CB2B126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2A781-EB1D-4CF0-AC32-C597CB84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F0DB-D02D-4E58-910D-549986F9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7D946-1E74-4370-8AFD-A61CD96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7DA6-14AE-4DD0-9D71-F80DBF4F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37C4-D269-4CE7-97C4-B3089CA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2202C-5DA6-430E-96B1-5CE6BC1D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6156-17C5-4438-9765-6FA5476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2BAA-0A49-4067-9D5A-D5D45620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C710-9A74-4792-A670-0F821C56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291C-5144-4287-A546-6BAE4089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7A2-A49D-4145-A2EE-DFEA08DC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947EC-40C3-47AE-884C-7B9B67BF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C111-699C-4917-8148-4CF25AC5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58E0B-B46A-4D49-9DC4-37745542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9292-D6AD-4221-B16F-030D6E03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9BE8-6A14-4F04-9420-A3F88F8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30CA7-C33F-4CE1-831A-538F0D0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24A5C-F4F2-4C12-A4B0-9DC93EA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D087-2971-4DCE-8BDB-ECCF870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AAF3-F735-43A5-BB7E-012E35C5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7CA0-6C0C-4F13-8A84-79E6B0B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83F-CB6D-460C-90C9-87C363C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9B13F-7B64-438E-A2C3-598AF94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75709-8197-4FF2-B306-5576F38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CCAF5-DF42-4251-BF20-5D6C281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A2F6-6A81-4B36-8916-6BAA976F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EFA65-A29A-42C5-B256-71D1496D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4729-496F-442E-976E-49F46EA6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752E8-63E3-49D4-B039-D70EC27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532D9-6357-4142-B7D9-60A38241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C1C54-8031-4E5D-AF6E-EAAEFB0E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AF7C9-9AE3-460A-9415-DC0D627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919-E320-4557-85EE-DCF50AF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168CB-F97C-4F02-A221-ADCB3348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ED3F4-CA4C-40F3-AB4B-657BF3E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7F8F2-20EA-4E41-9743-58D8A86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46D20-B345-4869-A99F-ED0982B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DDDD-BE42-4E6F-9D98-EEF9AB3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8E6B-B47B-4DFA-865C-669DD220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5CC2-D2AB-4E5A-827C-03C51054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315F2-477A-4B9F-9623-53C05C10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701D6-032C-4C86-A05D-C4B7542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83A77-7929-460F-921A-CBB8E32C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E457-CDD9-42EF-89FF-BCE4978DEA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5F5F-FB18-4AB1-BCE3-2A0F5231A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C489-66DE-4EE1-AB21-D515DAF4EC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35D-D489-4AD1-997A-A261FFBB85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6F4-F45A-4828-895C-4BF5A64B57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4B27-1131-47E4-8840-90CA23C00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DA6D-54D3-4921-BA57-E78AC1781A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65D4-B95C-4833-B331-5A302952D7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907-1CB7-4776-8A98-51E57B859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C261-C85E-4073-8011-7B7F705DE2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AFE9-1265-47F9-95D3-A2A0EE64BD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9DE4-B242-40A0-A111-B1E9E53A8C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26DA-6536-4BD2-B017-960D4DC051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4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ABC-8808-4AD7-AA8A-F815E3D73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5347-5E36-4DEF-96C8-A147C0C66C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C:\Documents and Settings\пользователь\Мои документы\Фон для прехзентациии\smile5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Прямоугольник 4"/>
          <p:cNvSpPr/>
          <p:nvPr/>
        </p:nvSpPr>
        <p:spPr>
          <a:xfrm>
            <a:off x="457200" y="380880"/>
            <a:ext cx="898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ительское собрание в средней групп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втор: Бехлер Елена 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атель МБОУ «СОШ №6» г. Югорск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Picture 6" descr="14A6"/>
          <p:cNvPicPr/>
          <p:nvPr/>
        </p:nvPicPr>
        <p:blipFill>
          <a:blip r:embed="rId2"/>
          <a:stretch/>
        </p:blipFill>
        <p:spPr>
          <a:xfrm rot="3558000">
            <a:off x="1042920" y="4657320"/>
            <a:ext cx="1720800" cy="1447920"/>
          </a:xfrm>
          <a:prstGeom prst="rect">
            <a:avLst/>
          </a:prstGeom>
          <a:ln w="0">
            <a:noFill/>
          </a:ln>
        </p:spPr>
      </p:pic>
      <p:sp>
        <p:nvSpPr>
          <p:cNvPr id="751" name="WordArt 8"/>
          <p:cNvSpPr txBox="1"/>
          <p:nvPr/>
        </p:nvSpPr>
        <p:spPr>
          <a:xfrm>
            <a:off x="1143000" y="1828800"/>
            <a:ext cx="7172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Детские капризы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2" name="002 Улыбка.mp3" descr=""/>
          <p:cNvPicPr/>
          <p:nvPr/>
        </p:nvPicPr>
        <p:blipFill>
          <a:blip r:embed="rId3"/>
          <a:stretch/>
        </p:blipFill>
        <p:spPr>
          <a:xfrm>
            <a:off x="78487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1110" fill="hold"/>
                                        <p:tgtEl>
                                          <p:spTgt spid="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10" descr="cartoons_glitter_wallot"/>
          <p:cNvPicPr/>
          <p:nvPr/>
        </p:nvPicPr>
        <p:blipFill>
          <a:blip r:embed="rId1"/>
          <a:stretch/>
        </p:blipFill>
        <p:spPr>
          <a:xfrm>
            <a:off x="380880" y="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801" name="TextBox 3"/>
          <p:cNvSpPr/>
          <p:nvPr/>
        </p:nvSpPr>
        <p:spPr>
          <a:xfrm>
            <a:off x="914400" y="190512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такого рода ситуациях бесполезно что-то объяснять ребенку- он все равно сейчас не слышит никого, кроме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авильным было бы  уйти в другую комнату, оставив  ребенка одного до тех пор, пока не пройдет это состояни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иметь ввиду, что такие бурные сцены рассчитаны ребенком на зрителей и сочувству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малыш постоянно будет убеждаться, что его вопли не волнуют окружающих и аудитории у него нет, то привычка устраивать истерики постепенно исчез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4" name="Picture 4" descr="Копия smile50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9" descr="p10"/>
          <p:cNvPicPr/>
          <p:nvPr/>
        </p:nvPicPr>
        <p:blipFill>
          <a:blip r:embed="rId2"/>
          <a:stretch/>
        </p:blipFill>
        <p:spPr>
          <a:xfrm>
            <a:off x="7772400" y="5419800"/>
            <a:ext cx="1171440" cy="14382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1" descr="sun-old"/>
          <p:cNvPicPr/>
          <p:nvPr/>
        </p:nvPicPr>
        <p:blipFill>
          <a:blip r:embed="rId3"/>
          <a:stretch/>
        </p:blipFill>
        <p:spPr>
          <a:xfrm rot="20410200">
            <a:off x="259920" y="174240"/>
            <a:ext cx="1219320" cy="11890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3" descr="butterfly_20014[1]"/>
          <p:cNvPicPr/>
          <p:nvPr/>
        </p:nvPicPr>
        <p:blipFill>
          <a:blip r:embed="rId4"/>
          <a:stretch/>
        </p:blipFill>
        <p:spPr>
          <a:xfrm rot="19456200">
            <a:off x="640080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08" name="TextBox 8"/>
          <p:cNvSpPr/>
          <p:nvPr/>
        </p:nvSpPr>
        <p:spPr>
          <a:xfrm>
            <a:off x="1753560" y="457200"/>
            <a:ext cx="57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оугольник 9"/>
          <p:cNvSpPr/>
          <p:nvPr/>
        </p:nvSpPr>
        <p:spPr>
          <a:xfrm>
            <a:off x="609480" y="1523880"/>
            <a:ext cx="784872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ша бросается с криком на пол, чего-то требуя. Родители непреклонны. Миша кричит громче, ногами стучит сильнее, слезы катятся быстрее. Мама крепится с трудом, но ее стойкости хватает не надолго, и она гов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п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, ладно, давай уступи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А Мише только этого и надо. Он кричит и требует еще настойчив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ожно сказать про эту ситу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0" descr="cartoons_glitter_wallot"/>
          <p:cNvPicPr/>
          <p:nvPr/>
        </p:nvPicPr>
        <p:blipFill>
          <a:blip r:embed="rId1"/>
          <a:stretch/>
        </p:blipFill>
        <p:spPr>
          <a:xfrm>
            <a:off x="380880" y="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3"/>
          <p:cNvSpPr/>
          <p:nvPr/>
        </p:nvSpPr>
        <p:spPr>
          <a:xfrm>
            <a:off x="914400" y="1447920"/>
            <a:ext cx="7696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 всего родителям следует четко определить список разрешенных и запрещенных вещей, и всегда придерживаться однажды установленного запрета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те внимание на высказывание Ж.Ж.Рус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видно, что демонстративное поведение Миши было рассчитано именно на маму. Дети гораздо наблюдательней, чем мы думаем. И прекрасно понимают, что за конфетой, которую не дает мама, надо идти к деду, что гулять надо с папой, потому что он купи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псы. А если устроить истерику бабушке, то получишь все и немного боль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еобходимо выработать единые требования к ребенку у всех членов семь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в коем случае один из родителей не должен отменять запретов друг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еобходимо дать ребенку понятие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ельзя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”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Прямоугольник 4"/>
          <p:cNvSpPr/>
          <p:nvPr/>
        </p:nvSpPr>
        <p:spPr>
          <a:xfrm>
            <a:off x="4572000" y="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Знаете ли Вы,  какой самый верный способ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делать вашего ребенка несчастны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то приучить его не встречать ни в чем отказа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Ж.Ж.Русс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2" descr="C:\Documents and Settings\пользователь\Мои документы\Фон для прехзентациии\limon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34c196b8adb4"/>
          <p:cNvPicPr/>
          <p:nvPr/>
        </p:nvPicPr>
        <p:blipFill>
          <a:blip r:embed="rId2"/>
          <a:stretch/>
        </p:blipFill>
        <p:spPr>
          <a:xfrm rot="20089800">
            <a:off x="351000" y="1980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B_Fly02"/>
          <p:cNvPicPr/>
          <p:nvPr/>
        </p:nvPicPr>
        <p:blipFill>
          <a:blip r:embed="rId3"/>
          <a:stretch/>
        </p:blipFill>
        <p:spPr>
          <a:xfrm>
            <a:off x="533520" y="434340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816" name="TextBox 8"/>
          <p:cNvSpPr/>
          <p:nvPr/>
        </p:nvSpPr>
        <p:spPr>
          <a:xfrm>
            <a:off x="1030680" y="22860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мятк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преодолеть каприз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Горизонтальный свиток 5"/>
          <p:cNvSpPr/>
          <p:nvPr/>
        </p:nvSpPr>
        <p:spPr>
          <a:xfrm>
            <a:off x="3429000" y="609480"/>
            <a:ext cx="5105520" cy="35053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Прямоугольник 6"/>
          <p:cNvSpPr/>
          <p:nvPr/>
        </p:nvSpPr>
        <p:spPr>
          <a:xfrm>
            <a:off x="3886200" y="1219320"/>
            <a:ext cx="4572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ичины капризов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ушения режима д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илие новых впечатл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ический  и психический дискомфо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од, голод, неудобная одежда, сонливость и т.п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хое самочувств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равильное поведение взросл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Вертикальный свиток 7"/>
          <p:cNvSpPr/>
          <p:nvPr/>
        </p:nvSpPr>
        <p:spPr>
          <a:xfrm rot="5400000">
            <a:off x="2590560" y="1447560"/>
            <a:ext cx="3505320" cy="7315200"/>
          </a:xfrm>
          <a:prstGeom prst="verticalScroll">
            <a:avLst>
              <a:gd name="adj" fmla="val 125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Прямоугольник 9"/>
          <p:cNvSpPr/>
          <p:nvPr/>
        </p:nvSpPr>
        <p:spPr>
          <a:xfrm>
            <a:off x="1143000" y="3809880"/>
            <a:ext cx="624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еодолеть капризы можно если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члены семьи будут иметь единые требования    к ребен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т тверды в позиции, дадут понять значение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ат ребенка хотеть, т.е. вырабатывать настойчивость в достижении ц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т развивать у ребенка самостоятельность в совместной со взрослыми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822" name="Picture 2" descr="C:\Documents and Settings\пользователь\Мои документы\Фон для прехзентациии\orange2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1" descr="Бабочки Анимационные картинки открытки,Butterfly Glitter Graphics for MySpace"/>
          <p:cNvPicPr/>
          <p:nvPr/>
        </p:nvPicPr>
        <p:blipFill>
          <a:blip r:embed="rId2"/>
          <a:stretch/>
        </p:blipFill>
        <p:spPr>
          <a:xfrm rot="1590600">
            <a:off x="625320" y="34416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3" descr="Птицы,попугаи картинки фото открытки аниамшки блестяшки"/>
          <p:cNvPicPr/>
          <p:nvPr/>
        </p:nvPicPr>
        <p:blipFill>
          <a:blip r:embed="rId3"/>
          <a:stretch/>
        </p:blipFill>
        <p:spPr>
          <a:xfrm rot="700800">
            <a:off x="0" y="453384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"/>
          <p:cNvSpPr/>
          <p:nvPr/>
        </p:nvSpPr>
        <p:spPr>
          <a:xfrm>
            <a:off x="9207360" y="43434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Прямоугольник 7"/>
          <p:cNvSpPr/>
          <p:nvPr/>
        </p:nvSpPr>
        <p:spPr>
          <a:xfrm>
            <a:off x="762120" y="685800"/>
            <a:ext cx="83818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амоанали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вас на столах лежат карточки трех цв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будем зачитывать пункты из общепринятых правил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выполняется данное правило, то родители поднимают фишку красного цвета, если не всегда- желтого, если не выполняются – си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рушать режим д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ть  в семье единые требования к ребен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страивать конфликты между взрослыми при ребе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ть самостоятельность, умение преодолевать труд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примером для своего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ощрять ребенка за хорошие поступки и 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оставлять без внимания отрицательный поступок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ть у ребенка культуру по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учать ребенка заботиться о младших и старших в сем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ывод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Все эти правила безусловно важны, и мы надеемся, что вы будете руководствоваться ими при воспитании своих дете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828" name="Picture 2" descr="C:\Documents and Settings\пользователь\Мои документы\Фон для прехзентациии\orange2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21" descr="Бабочки Анимационные картинки открытки,Butterfly Glitter Graphics for MySpace"/>
          <p:cNvPicPr/>
          <p:nvPr/>
        </p:nvPicPr>
        <p:blipFill>
          <a:blip r:embed="rId2"/>
          <a:stretch/>
        </p:blipFill>
        <p:spPr>
          <a:xfrm rot="1590600">
            <a:off x="244440" y="34416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23" descr="Птицы,попугаи картинки фото открытки аниамшки блестяшки"/>
          <p:cNvPicPr/>
          <p:nvPr/>
        </p:nvPicPr>
        <p:blipFill>
          <a:blip r:embed="rId3"/>
          <a:stretch/>
        </p:blipFill>
        <p:spPr>
          <a:xfrm rot="700800">
            <a:off x="0" y="453384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831" name="TextBox 6"/>
          <p:cNvSpPr/>
          <p:nvPr/>
        </p:nvSpPr>
        <p:spPr>
          <a:xfrm>
            <a:off x="9207360" y="43434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Прямоугольник 7"/>
          <p:cNvSpPr/>
          <p:nvPr/>
        </p:nvSpPr>
        <p:spPr>
          <a:xfrm>
            <a:off x="762120" y="685800"/>
            <a:ext cx="83818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сказывания великих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ши дети – это наша старость. Правильное воспитание – это наша счастливая старость, плохое воспитание – это наше будущее горе, это наши слезы, это наша вина перед другими людьми, перед всей стран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.С.Макаренко - советский педаг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итание- это менее всего слова, то есть слова в последнюю очередь, а прежде поступок, действие, 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. Маркуша - пис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ворожденные везде плачут одинаково. Когда же они вырастают, у них оказываются неодинаковые привычки. Это результат воспитания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юньцзы - китайский филосо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т ничего труднее, как перевоспитать человека, плохо воспитанного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.Коменский-основоположник педагог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всех творений самое прекрасное- получивший прекрасное воспитание человек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пиктет - древнегреческий филосо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834" name="Picture 2" descr="C:\Documents and Settings\пользователь\Мои документы\Фон для прехзентациии\orange2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1" descr="Бабочки Анимационные картинки открытки,Butterfly Glitter Graphics for MySpace"/>
          <p:cNvPicPr/>
          <p:nvPr/>
        </p:nvPicPr>
        <p:blipFill>
          <a:blip r:embed="rId2"/>
          <a:stretch/>
        </p:blipFill>
        <p:spPr>
          <a:xfrm rot="1590600">
            <a:off x="15840" y="34416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3" descr="Птицы,попугаи картинки фото открытки аниамшки блестяшки"/>
          <p:cNvPicPr/>
          <p:nvPr/>
        </p:nvPicPr>
        <p:blipFill>
          <a:blip r:embed="rId3"/>
          <a:stretch/>
        </p:blipFill>
        <p:spPr>
          <a:xfrm rot="700800">
            <a:off x="0" y="453384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6"/>
          <p:cNvSpPr/>
          <p:nvPr/>
        </p:nvSpPr>
        <p:spPr>
          <a:xfrm>
            <a:off x="9207360" y="43434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Прямоугольник 7"/>
          <p:cNvSpPr/>
          <p:nvPr/>
        </p:nvSpPr>
        <p:spPr>
          <a:xfrm>
            <a:off x="762120" y="685800"/>
            <a:ext cx="83818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КНО - очень короткие нов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хотим дать вам несколько рекомендаций по проведению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ечера в сем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ставлены с учетом последних исследований в области психологии и детской педагог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ые этические разговоры с ребенком не переносите на позднее врем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авайте перед сном ребенку кофе, крепкий чай, острые блю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ладывайте ребенка в одно и то же время, но не позже 21 ча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рассказывайте перед сном страшных историй, не смотрите остросюжетные филь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разрешайте конфликты взрослых при де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опускайте перевозбуждение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чиняйте и рассказывайте ребенку перед сном сказки о том, какой он умный, добрый, некапризный, вежлив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840" name="Picture 2" descr="C:\Documents and Settings\пользователь\Мои документы\Фон для прехзентациии\orange2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1" descr="Бабочки Анимационные картинки открытки,Butterfly Glitter Graphics for MySpace"/>
          <p:cNvPicPr/>
          <p:nvPr/>
        </p:nvPicPr>
        <p:blipFill>
          <a:blip r:embed="rId2"/>
          <a:stretch/>
        </p:blipFill>
        <p:spPr>
          <a:xfrm rot="1590600">
            <a:off x="701640" y="270648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3" descr="Птицы,попугаи картинки фото открытки аниамшки блестяшки"/>
          <p:cNvPicPr/>
          <p:nvPr/>
        </p:nvPicPr>
        <p:blipFill>
          <a:blip r:embed="rId3"/>
          <a:stretch/>
        </p:blipFill>
        <p:spPr>
          <a:xfrm rot="700800">
            <a:off x="2098440" y="4156200"/>
            <a:ext cx="3962160" cy="23238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6"/>
          <p:cNvSpPr/>
          <p:nvPr/>
        </p:nvSpPr>
        <p:spPr>
          <a:xfrm>
            <a:off x="9207360" y="43434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Прямоугольник 7"/>
          <p:cNvSpPr/>
          <p:nvPr/>
        </p:nvSpPr>
        <p:spPr>
          <a:xfrm>
            <a:off x="762120" y="6858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важаемые родите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йчас мы предлагаем вам нарисовать своего ребенка, каким вы его види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Picture 4" descr="34c196b8adb4"/>
          <p:cNvPicPr/>
          <p:nvPr/>
        </p:nvPicPr>
        <p:blipFill>
          <a:blip r:embed="rId4"/>
          <a:stretch/>
        </p:blipFill>
        <p:spPr>
          <a:xfrm rot="20089800">
            <a:off x="5913360" y="233172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847" name="Picture 2" descr="C:\Documents and Settings\пользователь\Мои документы\Фон для прехзентациии\orange2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1" descr="Бабочки Анимационные картинки открытки,Butterfly Glitter Graphics for MySpace"/>
          <p:cNvPicPr/>
          <p:nvPr/>
        </p:nvPicPr>
        <p:blipFill>
          <a:blip r:embed="rId2"/>
          <a:stretch/>
        </p:blipFill>
        <p:spPr>
          <a:xfrm rot="1590600">
            <a:off x="244440" y="34416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3" descr="Птицы,попугаи картинки фото открытки аниамшки блестяшки"/>
          <p:cNvPicPr/>
          <p:nvPr/>
        </p:nvPicPr>
        <p:blipFill>
          <a:blip r:embed="rId3"/>
          <a:stretch/>
        </p:blipFill>
        <p:spPr>
          <a:xfrm rot="700800">
            <a:off x="0" y="453384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6"/>
          <p:cNvSpPr/>
          <p:nvPr/>
        </p:nvSpPr>
        <p:spPr>
          <a:xfrm>
            <a:off x="9207360" y="43434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Прямоугольник 7"/>
          <p:cNvSpPr/>
          <p:nvPr/>
        </p:nvSpPr>
        <p:spPr>
          <a:xfrm>
            <a:off x="762120" y="685800"/>
            <a:ext cx="8381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ж сегодня у нас появилась уверенность в том, что мы можем помочь нашим детям преодолеть капризы, а значит помочь им обрести радость дружбы, союза с нами, понимание разумной любв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5" descr="Мультфильмы Анимации Картинки обои,поздравления фото мультипликации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2"/>
          <p:cNvSpPr/>
          <p:nvPr/>
        </p:nvSpPr>
        <p:spPr>
          <a:xfrm>
            <a:off x="18720" y="3808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754" name="Picture 4" descr="backgrounds_0004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6"/>
          <p:cNvSpPr/>
          <p:nvPr/>
        </p:nvSpPr>
        <p:spPr>
          <a:xfrm>
            <a:off x="1336680" y="762120"/>
            <a:ext cx="25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Детский са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«Светлячо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8" descr="animated_cartoon_0056[1]"/>
          <p:cNvPicPr/>
          <p:nvPr/>
        </p:nvPicPr>
        <p:blipFill>
          <a:blip r:embed="rId2"/>
          <a:stretch/>
        </p:blipFill>
        <p:spPr>
          <a:xfrm>
            <a:off x="380880" y="434340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9" descr="bird8[1]"/>
          <p:cNvPicPr/>
          <p:nvPr/>
        </p:nvPicPr>
        <p:blipFill>
          <a:blip r:embed="rId3"/>
          <a:stretch/>
        </p:blipFill>
        <p:spPr>
          <a:xfrm>
            <a:off x="5943600" y="114300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758" name="TextBox 8"/>
          <p:cNvSpPr/>
          <p:nvPr/>
        </p:nvSpPr>
        <p:spPr>
          <a:xfrm>
            <a:off x="4655160" y="30492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когда не обещайте ребенк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нельзя выполни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никогда не обманывайте ег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Д. Ушин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Рисунок 8" descr="P1040458.JPG"/>
          <p:cNvPicPr/>
          <p:nvPr/>
        </p:nvPicPr>
        <p:blipFill>
          <a:blip r:embed="rId4"/>
          <a:stretch/>
        </p:blipFill>
        <p:spPr>
          <a:xfrm>
            <a:off x="3581280" y="2895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C:\Documents and Settings\пользователь\Мои документы\Фон для прехзентациии\limon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34c196b8adb4"/>
          <p:cNvPicPr/>
          <p:nvPr/>
        </p:nvPicPr>
        <p:blipFill>
          <a:blip r:embed="rId2"/>
          <a:stretch/>
        </p:blipFill>
        <p:spPr>
          <a:xfrm rot="20089800">
            <a:off x="503280" y="73152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B_Fly02"/>
          <p:cNvPicPr/>
          <p:nvPr/>
        </p:nvPicPr>
        <p:blipFill>
          <a:blip r:embed="rId3"/>
          <a:stretch/>
        </p:blipFill>
        <p:spPr>
          <a:xfrm>
            <a:off x="533520" y="434340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763" name="TextBox 5"/>
          <p:cNvSpPr/>
          <p:nvPr/>
        </p:nvSpPr>
        <p:spPr>
          <a:xfrm>
            <a:off x="2286000" y="609480"/>
            <a:ext cx="639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ете ли Вы,  какой самый верный спосо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делать вашего ребенка несчаст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приучить его не встречать ни в чем отказ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.Ж.Русс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Box 6"/>
          <p:cNvSpPr/>
          <p:nvPr/>
        </p:nvSpPr>
        <p:spPr>
          <a:xfrm rot="19916400">
            <a:off x="-80280" y="86724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РУГЛЫЙ СТО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7"/>
          <p:cNvSpPr/>
          <p:nvPr/>
        </p:nvSpPr>
        <p:spPr>
          <a:xfrm>
            <a:off x="304920" y="3657600"/>
            <a:ext cx="842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ребенок бывает капризны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ы, на ваш взгляд, главные причины возникновения истерик у реб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ем проявляются капризы Вашего реб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ам удается преодолевать капризы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767" name="Picture 2" descr="C:\Documents and Settings\пользователь\Мои документы\Фон для прехзентациии\orange2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1" descr="Бабочки Анимационные картинки открытки,Butterfly Glitter Graphics for MySpace"/>
          <p:cNvPicPr/>
          <p:nvPr/>
        </p:nvPicPr>
        <p:blipFill>
          <a:blip r:embed="rId2"/>
          <a:stretch/>
        </p:blipFill>
        <p:spPr>
          <a:xfrm rot="1590600">
            <a:off x="3505320" y="30492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3" descr="Птицы,попугаи картинки фото открытки аниамшки блестяшки"/>
          <p:cNvPicPr/>
          <p:nvPr/>
        </p:nvPicPr>
        <p:blipFill>
          <a:blip r:embed="rId3"/>
          <a:stretch/>
        </p:blipFill>
        <p:spPr>
          <a:xfrm rot="700800">
            <a:off x="0" y="453384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770" name="TextBox 5"/>
          <p:cNvSpPr/>
          <p:nvPr/>
        </p:nvSpPr>
        <p:spPr>
          <a:xfrm>
            <a:off x="304920" y="152388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р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фр. –прихоть, причу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тремление дет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иваться чего-то запретног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ижимого или невозможного в данный моме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ризы обычно сопровождаются плачем, криком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паньем ног, разбрасыванием подвернувшихся под руку игруш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6"/>
          <p:cNvSpPr/>
          <p:nvPr/>
        </p:nvSpPr>
        <p:spPr>
          <a:xfrm>
            <a:off x="2363760" y="4267080"/>
            <a:ext cx="649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читать, что капризы и упрям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 сопутствуют детств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вершенно неправиль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773" name="~PP3314.WAV" descr=""/>
          <p:cNvPicPr/>
          <p:nvPr/>
        </p:nvPicPr>
        <p:blipFill>
          <a:blip r:embed="rId1"/>
          <a:stretch/>
        </p:blipFill>
        <p:spPr>
          <a:xfrm>
            <a:off x="2654280" y="3859200"/>
            <a:ext cx="297000" cy="2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74" name=""/>
          <p:cNvSpPr txBox="1"/>
          <p:nvPr/>
        </p:nvSpPr>
        <p:spPr>
          <a:xfrm>
            <a:off x="4916520" y="1905120"/>
            <a:ext cx="3929040" cy="2023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916520" y="4070520"/>
            <a:ext cx="3929040" cy="202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Picture 4" descr="smile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TextBox 8"/>
          <p:cNvSpPr/>
          <p:nvPr/>
        </p:nvSpPr>
        <p:spPr>
          <a:xfrm>
            <a:off x="1855080" y="457200"/>
            <a:ext cx="593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КАПРИЗ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Box 10"/>
          <p:cNvSpPr/>
          <p:nvPr/>
        </p:nvSpPr>
        <p:spPr>
          <a:xfrm>
            <a:off x="152280" y="137160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довлетворение естественных потребн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лод, усталость, сонлив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щущение физического дискомф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олодно, жарко, тесная обувь, одежда,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добная пост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ризы могут быть предвестниками болезн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ыш  ощущает физическое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могание, просит то одно, то другое , но ничего не облегчает боль, поэтому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чет и капризнич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ризы могут быть и в период выздоровлени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енок за время болезни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ыкает к повышенному вниманию и не хочет от этого отказыва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лие новых впечатлений или их перенасыщ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Picture 4" descr="smile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2" name="TextBox 5"/>
          <p:cNvSpPr/>
          <p:nvPr/>
        </p:nvSpPr>
        <p:spPr>
          <a:xfrm>
            <a:off x="0" y="60948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мер из практики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ежа часто остается вечером вдвоем с бабушкой. Основное его занятие в это время – смотреть все телевизионные передачи. Только возвращаясь поздно вечером домой родители укладывают его сп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льчик, перевозбудившись, долго не засыпает, хнычет. Ночью спит неспокойно, утром с трудом встает. В детский сад приходит хмурым, невеселым, ест плохо, капризничает, с детьми ссор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й ум, воображение нельзя перегружать множеством развлечений. Даже самые приятные впечатления, но в большом количестве, не принесут ребенку тех удовольствий, на которые рассчитывают взрослы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я уже о получении совершенно ненужной информации из телевизионных пере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4" descr="smile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6" name="TextBox 5"/>
          <p:cNvSpPr/>
          <p:nvPr/>
        </p:nvSpPr>
        <p:spPr>
          <a:xfrm>
            <a:off x="0" y="609480"/>
            <a:ext cx="89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 все ж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й распространенной причи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особенно в среднем возрас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 наших де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алее в старшем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вляется неправильное поведение родителе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ризы могут возникнуть в ответ на слишком потакающие действия взрослых, на их противоречивые  требования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ку все разрешают, выполняют все его требования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бы он не расстроился, не заплак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 последствия такого воспитания – обычная капризность, избалованность, вседозволен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м мамам не удается ничего придумать в такой сложной  ситуации и они предпочитают уступить, лишь бы он замолчал. Это, конечно вынужденный , но опасный путь. Он ведет к тому, что реакции детей закрепляются и в следующий раз повторится нечто подобное, но с еще большей сил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4" descr="smile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0" name="TextBox 5"/>
          <p:cNvSpPr/>
          <p:nvPr/>
        </p:nvSpPr>
        <p:spPr>
          <a:xfrm>
            <a:off x="0" y="609480"/>
            <a:ext cx="896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6"/>
          <p:cNvSpPr/>
          <p:nvPr/>
        </p:nvSpPr>
        <p:spPr>
          <a:xfrm>
            <a:off x="609480" y="91440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так, по мере роста ребенка и развития его сознания капризы и упрямство начинают приобретать преднамеренный характер, становятся привычным способом достижения цел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4" descr="Копия smile50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9" descr="p10"/>
          <p:cNvPicPr/>
          <p:nvPr/>
        </p:nvPicPr>
        <p:blipFill>
          <a:blip r:embed="rId2"/>
          <a:stretch/>
        </p:blipFill>
        <p:spPr>
          <a:xfrm>
            <a:off x="7772400" y="5419800"/>
            <a:ext cx="1171440" cy="14382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1" descr="sun-old"/>
          <p:cNvPicPr/>
          <p:nvPr/>
        </p:nvPicPr>
        <p:blipFill>
          <a:blip r:embed="rId3"/>
          <a:stretch/>
        </p:blipFill>
        <p:spPr>
          <a:xfrm rot="20410200">
            <a:off x="259920" y="174240"/>
            <a:ext cx="1219320" cy="1189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3" descr="butterfly_20014[1]"/>
          <p:cNvPicPr/>
          <p:nvPr/>
        </p:nvPicPr>
        <p:blipFill>
          <a:blip r:embed="rId4"/>
          <a:stretch/>
        </p:blipFill>
        <p:spPr>
          <a:xfrm rot="19456200">
            <a:off x="640080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98" name="TextBox 8"/>
          <p:cNvSpPr/>
          <p:nvPr/>
        </p:nvSpPr>
        <p:spPr>
          <a:xfrm>
            <a:off x="1753560" y="457200"/>
            <a:ext cx="57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Прямоугольник 9"/>
          <p:cNvSpPr/>
          <p:nvPr/>
        </p:nvSpPr>
        <p:spPr>
          <a:xfrm>
            <a:off x="609480" y="15238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ма пришла домой с 4-летней Наташей. Девочка громко требуе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чу на улицу! Хочу еще погулять!! Хочу кататься на качелях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ма уговаривает, объясняет ей, что пора обедать и спать, что все дети ушли домой. Девочка с визгом бросается на пол, стучит ногами. Мама кидается к ней, старается поднять  Наташу, у нее не получается. Мама сама чуть не плача, продолжает уговаривать свою дочь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ше мнение, род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в такой ситуации поступили бы в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ие ошибки были допущены взрослы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сенал</cp:lastModifiedBy>
  <dcterms:modified xsi:type="dcterms:W3CDTF">2013-11-05T16:57:0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