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00F5-3C05-45AB-B705-B0EF3D8ACC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презентация демонстрирует новые возможности PowerPoint. Ее рекомендуется просматривать в режиме показа слайдов. Эти слайды должны дать вам представление о том, какие эффектные презентации можно создать с помощью PowerPoint 20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упа к другим образцам шаблонов перейдите на вкладку "Файл", а затем щелкните "Образцы слайдов" на вкладке "Созд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1DF2-7F49-4108-BD84-2570E1FA7B2C}" type="slidenum">
              <a:rPr b="0" lang="ru-RU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A0B-D40B-4B18-8D08-E2292B52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339-AA98-4636-BE0D-25FDF6D0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B58-72CC-41DC-A377-5B1FBA96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77E-98BD-459B-9A58-31891221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94BB-627E-4AFC-B74D-3D9288A9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D2E4-BD71-47E5-8E67-B29C92AD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34EE-E60D-4773-BC12-DC728DAD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3149-DA82-436B-A3E0-8DF86D32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6620-E8E0-4924-891F-1856C6B8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E81F-CAF6-478D-98D4-14761765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3615-4F27-495A-8764-5A758C04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191-F663-4B9D-B7FA-9AC5F5E3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7B19-A3FD-4A0E-B6D8-8C46D095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3410-F25D-4BE2-953E-B2CB5F9F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27DC-04D9-4E90-B1FD-904BB80A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6967-96F6-48B6-BF3E-67014C56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D410-2061-46D8-B013-5C8B2E36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2B5F-90B5-4A59-A514-4B65CC16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8042-EEEB-422F-B7EB-859A1987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FA9B-F14D-4C7C-9F50-4878CA62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88A3-4CFC-4C76-95FD-D465F2DA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9C842-64F9-44E9-99D8-A42A6BAF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48DB-6012-41E6-9948-0BA1995C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D53B-E58B-4806-BBA4-2AFE1F94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0874-5002-4459-B46E-895A843A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CE34B-418E-45E7-A065-784BFB8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78CE-FA0E-4B62-BBFF-DF1884B7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5223-6D4C-4822-BB76-9D82CA8F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9501-EA11-43DF-B48A-7538B078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B04B-4A94-41E1-A8B1-656368A2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A454-06C4-472B-965C-1D143C07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80061-11F6-47F1-A9CC-8CA0F12A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2DA0F-B9E4-4CD4-AF64-9ADBF36D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AFD-8D60-4B5F-B634-CEF4B364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EE228-07F1-4647-86C6-5AF60336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2FAE-BA8C-47F8-B1B8-2F356032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EFCD2-326F-442E-B753-1F9A3324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B3016-30BB-4982-8562-3D21BEA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1DF51-4012-49B9-8D3D-0AA3B768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A905-DA72-4F6F-9CE4-F5C36F18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61471-A8A2-4480-8427-787EDE0E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C9F6A-1F09-473D-AC02-19067813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1199-74A6-4B2F-A32C-7085CF64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26A-60CC-4F6C-96D2-DB99AC9D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49E-E433-4FD3-894F-18365244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0B1-FF18-42F0-9DEB-EE501EA8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877-0ADC-4A3A-AFB8-5F73D365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27F-6BC8-4E15-9F6A-ADFCE7C0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29E5-66FF-44C5-BABB-11CA0BCAEE48}" type="slidenum">
              <a:rPr b="0" lang="en-US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3AD0-7272-4143-8BAC-23FB208CAC09}" type="slidenum">
              <a:rPr b="0" lang="en-US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FC19-6214-478C-A77C-205CE1E27F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1371-2B22-415A-88C5-F9CBE402EAC4}" type="slidenum">
              <a:rPr b="0" lang="en-US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11e09"/>
                </a:solidFill>
                <a:latin typeface="Arial Black"/>
              </a:rPr>
              <a:t>Государственное образовательное учреждение детский сад № 880 общеразвивающего вида с приоритетным осуществлением художественно-эстетического направления развития воспитанников ВАО г. Москвы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57146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Monotype Corsiva"/>
              </a:rPr>
              <a:t>Автор: Кухарева Ольга Анатольевна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2502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Monotype Corsiva"/>
              </a:rPr>
              <a:t>Учитель-логопед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43000" y="2438280"/>
            <a:ext cx="7086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8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 Е М И Ц В Е Т И К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9625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вторское логопедическое пособие для занятий с детьми 4 – 7 лет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ext Placeholder 2" descr=""/>
          <p:cNvPicPr/>
          <p:nvPr/>
        </p:nvPicPr>
        <p:blipFill>
          <a:blip r:embed="rId2"/>
          <a:srcRect l="13211" t="0" r="7550" b="0"/>
          <a:stretch/>
        </p:blipFill>
        <p:spPr>
          <a:xfrm>
            <a:off x="380880" y="1828800"/>
            <a:ext cx="4038840" cy="4272120"/>
          </a:xfrm>
          <a:prstGeom prst="rect">
            <a:avLst/>
          </a:prstGeom>
          <a:ln w="0">
            <a:noFill/>
          </a:ln>
        </p:spPr>
      </p:pic>
      <p:pic>
        <p:nvPicPr>
          <p:cNvPr id="197" name="Text Placeholder 2" descr=""/>
          <p:cNvPicPr/>
          <p:nvPr/>
        </p:nvPicPr>
        <p:blipFill>
          <a:blip r:embed="rId3"/>
          <a:srcRect l="9431" t="0" r="7550" b="0"/>
          <a:stretch/>
        </p:blipFill>
        <p:spPr>
          <a:xfrm>
            <a:off x="4495680" y="1866960"/>
            <a:ext cx="4191120" cy="4228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280" y="304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1e09"/>
                </a:solidFill>
                <a:latin typeface="Arial Black"/>
              </a:rPr>
              <a:t>Обогащение словарного запаса по данной лексической теме</a:t>
            </a:r>
            <a:r>
              <a:rPr b="1" lang="en-US" sz="3600" spc="-1" strike="noStrike">
                <a:solidFill>
                  <a:srgbClr val="e11e09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ext Placeholder 2" descr=""/>
          <p:cNvPicPr/>
          <p:nvPr/>
        </p:nvPicPr>
        <p:blipFill>
          <a:blip r:embed="rId2"/>
          <a:srcRect l="13209" t="0" r="5663" b="0"/>
          <a:stretch/>
        </p:blipFill>
        <p:spPr>
          <a:xfrm>
            <a:off x="1905120" y="2378160"/>
            <a:ext cx="4724280" cy="4327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8600" y="685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1e09"/>
                </a:solidFill>
                <a:latin typeface="Arial Black"/>
              </a:rPr>
              <a:t>Обогащение словарного запаса, формирование навыков образования относительных прилагательных</a:t>
            </a:r>
            <a:r>
              <a:rPr b="1" lang="en-US" sz="3200" spc="-1" strike="noStrike">
                <a:solidFill>
                  <a:srgbClr val="e11e0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ext Placeholder 2" descr=""/>
          <p:cNvPicPr/>
          <p:nvPr/>
        </p:nvPicPr>
        <p:blipFill>
          <a:blip r:embed="rId2"/>
          <a:srcRect l="15914" t="0" r="14625" b="14135"/>
          <a:stretch/>
        </p:blipFill>
        <p:spPr>
          <a:xfrm>
            <a:off x="2133720" y="2395440"/>
            <a:ext cx="4647960" cy="4310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8600" y="228600"/>
            <a:ext cx="8763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11e09"/>
                </a:solidFill>
                <a:latin typeface="Arial Black"/>
              </a:rPr>
              <a:t>Формирование навыков согласования существительных с числительными, </a:t>
            </a:r>
            <a:br>
              <a:rPr sz="3200"/>
            </a:br>
            <a:r>
              <a:rPr b="0" lang="ru-RU" sz="3200" spc="-1" strike="noStrike">
                <a:solidFill>
                  <a:srgbClr val="e11e09"/>
                </a:solidFill>
                <a:latin typeface="Arial Black"/>
              </a:rPr>
              <a:t>автоматизация звука</a:t>
            </a:r>
            <a:r>
              <a:rPr b="0" lang="en-US" sz="3200" spc="-1" strike="noStrike">
                <a:solidFill>
                  <a:srgbClr val="e11e0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ext Placeholder 2" descr=""/>
          <p:cNvPicPr/>
          <p:nvPr/>
        </p:nvPicPr>
        <p:blipFill>
          <a:blip r:embed="rId2"/>
          <a:srcRect l="16978" t="0" r="15098" b="14000"/>
          <a:stretch/>
        </p:blipFill>
        <p:spPr>
          <a:xfrm>
            <a:off x="4876920" y="2508120"/>
            <a:ext cx="3733560" cy="3544920"/>
          </a:xfrm>
          <a:prstGeom prst="rect">
            <a:avLst/>
          </a:prstGeom>
          <a:ln w="0">
            <a:noFill/>
          </a:ln>
        </p:spPr>
      </p:pic>
      <p:pic>
        <p:nvPicPr>
          <p:cNvPr id="204" name="Text Placeholder 2" descr=""/>
          <p:cNvPicPr/>
          <p:nvPr/>
        </p:nvPicPr>
        <p:blipFill>
          <a:blip r:embed="rId3"/>
          <a:srcRect l="15100" t="0" r="5660" b="0"/>
          <a:stretch/>
        </p:blipFill>
        <p:spPr>
          <a:xfrm>
            <a:off x="457200" y="2438280"/>
            <a:ext cx="3809880" cy="3605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3049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11e09"/>
                </a:solidFill>
                <a:latin typeface="Arial Black"/>
              </a:rPr>
              <a:t>Закрепление навыков употребления предложно-падежных конструкций</a:t>
            </a:r>
            <a:r>
              <a:rPr b="0" lang="en-US" sz="3200" spc="-1" strike="noStrike">
                <a:solidFill>
                  <a:srgbClr val="e11e0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ext Placeholder 2" descr=""/>
          <p:cNvPicPr/>
          <p:nvPr/>
        </p:nvPicPr>
        <p:blipFill>
          <a:blip r:embed="rId2"/>
          <a:stretch/>
        </p:blipFill>
        <p:spPr>
          <a:xfrm>
            <a:off x="152280" y="211932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07" name="Text Placeholder 2" descr=""/>
          <p:cNvPicPr/>
          <p:nvPr/>
        </p:nvPicPr>
        <p:blipFill>
          <a:blip r:embed="rId3"/>
          <a:stretch/>
        </p:blipFill>
        <p:spPr>
          <a:xfrm>
            <a:off x="4648320" y="211932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352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11e09"/>
                </a:solidFill>
                <a:latin typeface="Arial Black"/>
              </a:rPr>
              <a:t>Командное выполнение задания</a:t>
            </a:r>
            <a:r>
              <a:rPr b="0" lang="en-US" sz="3600" spc="-1" strike="noStrike">
                <a:solidFill>
                  <a:srgbClr val="e11e09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609480" y="2590920"/>
            <a:ext cx="77439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buClr>
                <a:srgbClr val="e11e0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1e09"/>
                </a:solidFill>
                <a:latin typeface="Monotype Corsiva"/>
              </a:rPr>
              <a:t>Фото автора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e11e0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1e09"/>
                </a:solidFill>
                <a:latin typeface="Monotype Corsiva"/>
              </a:rPr>
              <a:t>На фото воспитанники детского   сада № 880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765000"/>
            <a:ext cx="82296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11e09"/>
                </a:solidFill>
                <a:latin typeface="Arial Black"/>
              </a:rPr>
              <a:t>Список используемых источников</a:t>
            </a:r>
            <a:r>
              <a:rPr b="0" lang="en-US" sz="3200" spc="-1" strike="noStrike">
                <a:solidFill>
                  <a:srgbClr val="e11e09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ext Placeholder 2" descr=""/>
          <p:cNvPicPr/>
          <p:nvPr/>
        </p:nvPicPr>
        <p:blipFill>
          <a:blip r:embed="rId2"/>
          <a:srcRect l="17543" t="0" r="12284" b="0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419720" y="160020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e11e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1e09"/>
                </a:solidFill>
                <a:latin typeface="Monotype Corsiva"/>
              </a:rPr>
              <a:t>Пособие изготовлено из листовой фанеры, окрашено акриловыми красками, покрыто декоративным лаком</a:t>
            </a:r>
            <a:r>
              <a:rPr b="1" lang="en-US" sz="3200" spc="-1" strike="noStrike">
                <a:solidFill>
                  <a:srgbClr val="e11e0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В центре и на лепестках цветка имеются металлические пластины для крепления картинок на магнитах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11e09"/>
                </a:solidFill>
                <a:latin typeface="Arial Black"/>
              </a:rPr>
              <a:t>Пособие является универсальным, позволяет проводить коррекционную работу над всеми сторонами речи детей</a:t>
            </a:r>
            <a:r>
              <a:rPr b="0" lang="en-US" sz="3200" spc="-1" strike="noStrike">
                <a:solidFill>
                  <a:srgbClr val="e11e0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Может использоваться воспитателями на занятиях по развитию речи и обучению грамоте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1e09"/>
                </a:solidFill>
                <a:latin typeface="Arial Black"/>
              </a:rPr>
              <a:t>Автоматизация звука в речи, развитие фонематических процессов</a:t>
            </a:r>
            <a:r>
              <a:rPr b="1" lang="en-US" sz="3200" spc="-1" strike="noStrike">
                <a:solidFill>
                  <a:srgbClr val="e11e0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81" name="Text Placeholder 2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Text Placeholder 2" descr=""/>
          <p:cNvPicPr/>
          <p:nvPr/>
        </p:nvPicPr>
        <p:blipFill>
          <a:blip r:embed="rId2"/>
          <a:srcRect l="16982" t="1720" r="15092" b="6900"/>
          <a:stretch/>
        </p:blipFill>
        <p:spPr>
          <a:xfrm>
            <a:off x="380880" y="213372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1e09"/>
                </a:solidFill>
                <a:latin typeface="Arial Black"/>
              </a:rPr>
              <a:t>Автоматизация звука в речи, развитие фонематических процессов</a:t>
            </a:r>
            <a:r>
              <a:rPr b="1" lang="en-US" sz="3200" spc="-1" strike="noStrike">
                <a:solidFill>
                  <a:srgbClr val="e11e0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84" name="Text Placeholder 2" descr=""/>
          <p:cNvPicPr/>
          <p:nvPr/>
        </p:nvPicPr>
        <p:blipFill>
          <a:blip r:embed="rId3"/>
          <a:srcRect l="13211" t="0" r="9431" b="0"/>
          <a:stretch/>
        </p:blipFill>
        <p:spPr>
          <a:xfrm>
            <a:off x="4648320" y="2139840"/>
            <a:ext cx="4114800" cy="39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ext Placeholder 2" descr=""/>
          <p:cNvPicPr/>
          <p:nvPr/>
        </p:nvPicPr>
        <p:blipFill>
          <a:blip r:embed="rId2"/>
          <a:srcRect l="11321" t="3395" r="15092" b="0"/>
          <a:stretch/>
        </p:blipFill>
        <p:spPr>
          <a:xfrm>
            <a:off x="304920" y="23353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920" y="6858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1e09"/>
                </a:solidFill>
                <a:latin typeface="Arial Black"/>
              </a:rPr>
              <a:t>Развитие фонематического восприятия, звукового анализа и синтеза</a:t>
            </a:r>
            <a:r>
              <a:rPr b="1" lang="en-US" sz="3200" spc="-1" strike="noStrike">
                <a:solidFill>
                  <a:srgbClr val="e11e0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87" name="Text Placeholder 2" descr=""/>
          <p:cNvPicPr/>
          <p:nvPr/>
        </p:nvPicPr>
        <p:blipFill>
          <a:blip r:embed="rId3"/>
          <a:srcRect l="13208" t="-214" r="9434" b="0"/>
          <a:stretch/>
        </p:blipFill>
        <p:spPr>
          <a:xfrm>
            <a:off x="4572000" y="2330280"/>
            <a:ext cx="4267080" cy="41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Text Placeholder 2" descr=""/>
          <p:cNvPicPr/>
          <p:nvPr/>
        </p:nvPicPr>
        <p:blipFill>
          <a:blip r:embed="rId2"/>
          <a:srcRect l="15093" t="0" r="16983" b="8769"/>
          <a:stretch/>
        </p:blipFill>
        <p:spPr>
          <a:xfrm>
            <a:off x="228600" y="2209680"/>
            <a:ext cx="4311720" cy="4343400"/>
          </a:xfrm>
          <a:prstGeom prst="rect">
            <a:avLst/>
          </a:prstGeom>
          <a:ln w="0">
            <a:noFill/>
          </a:ln>
        </p:spPr>
      </p:pic>
      <p:pic>
        <p:nvPicPr>
          <p:cNvPr id="189" name="Text Placeholder 2" descr=""/>
          <p:cNvPicPr/>
          <p:nvPr/>
        </p:nvPicPr>
        <p:blipFill>
          <a:blip r:embed="rId3"/>
          <a:srcRect l="11322" t="5263" r="18872" b="0"/>
          <a:stretch/>
        </p:blipFill>
        <p:spPr>
          <a:xfrm>
            <a:off x="4726080" y="2209680"/>
            <a:ext cx="4189320" cy="4343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8600" y="685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1e09"/>
                </a:solidFill>
                <a:latin typeface="Arial Black"/>
              </a:rPr>
              <a:t>Развитие звуко-буквенного анализа, закрепление навыка слогового чтения</a:t>
            </a:r>
            <a:r>
              <a:rPr b="1" lang="en-US" sz="3200" spc="-1" strike="noStrike">
                <a:solidFill>
                  <a:srgbClr val="e11e0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ext Placeholder 2" descr=""/>
          <p:cNvPicPr/>
          <p:nvPr/>
        </p:nvPicPr>
        <p:blipFill>
          <a:blip r:embed="rId2"/>
          <a:stretch/>
        </p:blipFill>
        <p:spPr>
          <a:xfrm>
            <a:off x="1600200" y="211464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28600" y="6094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1e09"/>
                </a:solidFill>
                <a:latin typeface="Arial Black"/>
              </a:rPr>
              <a:t>Развитие слогового анализа и синтеза, формирование произвольного внимания</a:t>
            </a:r>
            <a:r>
              <a:rPr b="1" lang="en-US" sz="3200" spc="-1" strike="noStrike">
                <a:solidFill>
                  <a:srgbClr val="e11e0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257800" y="18288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1e09"/>
                </a:solidFill>
                <a:latin typeface="Arial Black"/>
              </a:rPr>
              <a:t>  </a:t>
            </a:r>
            <a:r>
              <a:rPr b="1" lang="ru-RU" sz="3200" spc="-1" strike="noStrike">
                <a:solidFill>
                  <a:srgbClr val="e11e09"/>
                </a:solidFill>
                <a:latin typeface="Arial Black"/>
              </a:rPr>
              <a:t>Развитие слогового анализа и синтеза, </a:t>
            </a: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развитие внимания, памяти, мышления</a:t>
            </a: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94" name="Text Placeholder 2" descr=""/>
          <p:cNvPicPr/>
          <p:nvPr/>
        </p:nvPicPr>
        <p:blipFill>
          <a:blip r:embed="rId2"/>
          <a:srcRect l="7142" t="0" r="11909" b="0"/>
          <a:stretch/>
        </p:blipFill>
        <p:spPr>
          <a:xfrm>
            <a:off x="380880" y="1490760"/>
            <a:ext cx="4876920" cy="451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95280" y="289080"/>
            <a:ext cx="64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1e09"/>
                </a:solidFill>
                <a:latin typeface="Arial Black"/>
              </a:rPr>
              <a:t>Найди лишнюю картинку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1-12-01T17:23:47Z</dcterms:modified>
  <cp:revision>3</cp:revision>
  <dc:subject/>
  <dc:title>Государственное образовательное учреждение детский сад № 880 общеразвивающего вида с приоритетным осуществлением художественно-эстетического направления развития воспитанников ВАО г. Москвы</dc:title>
</cp:coreProperties>
</file>