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E84-F731-45A6-8B7B-D5013AF1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D93-AD38-4B12-B15B-EA084E4C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285-CAA3-4218-9A22-E6B2681B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9EA-41B1-4E60-BF6C-B37D5CD9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C65-F9D6-46B2-8B27-34D2E93C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29D-55AB-44D6-B8DA-41AD8944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276-D653-490E-849B-86FB43B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9D9-9DA8-485E-A425-8736A99A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441-4D57-4822-81BE-6ADA70F7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EA3-4514-4DA6-B90B-FB899641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D50-F26D-4CBC-9C1A-51970B8E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E5D-9965-46A8-97FC-A0A3EC67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A864-D358-48A3-8369-44DCC9D4F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wisdoms.ru/avt/b186.html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30556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Музыка воодушевляет весь мир, снабжает душу крыльями, способствует полету воображения; музыка придает жизнь и веселье всему существующему... Ее можно назвать воплощением всего прекрасного и всего возвышенного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_x000b_ Пла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2405160" cy="1768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533412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14800" y="2742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лушание музыки и игра на детских музыкальных инструмен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Танцы, хоро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486400" cy="406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ощ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81080" y="1447920"/>
            <a:ext cx="4953240" cy="3714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ренажерный зал для детей с ограниченными физическими возможн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3962520" cy="2840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0" y="3200400"/>
            <a:ext cx="421632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581280" cy="2629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86000" y="3657600"/>
            <a:ext cx="4038480" cy="2935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91320" y="533520"/>
            <a:ext cx="25700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14800" y="609480"/>
            <a:ext cx="4648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виг ван Бетхов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удучи известным композитором полностью потерял слух , но именно с этого времени композитор создал свои самые известные произведени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оическую симфо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у "Фиделио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тепианные сона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сонаты для виолонче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рт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кальный цикл "К возлюбленной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ва самых монументальных сочинения - Торжественную мессу и Девятую симфонию с х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2674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53080" y="4876920"/>
            <a:ext cx="2217960" cy="1576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00200" y="762120"/>
            <a:ext cx="5943600" cy="340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59040" y="4419720"/>
            <a:ext cx="9007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АОУ СОШ 5 структурное подразд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Детский сад № 1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 2004 году открывается первая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етей с ограниченными физическими возможн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Роль музыки в  коррекции функциональных нарушений у  детей с ограниченными физическими возможност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62320" y="327672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28600"/>
            <a:ext cx="8381880" cy="30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Программа специальных (коррекционных) образовательных учреждений для детей с нарушением зр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 редакцией  Л.И.Плакс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Программа воспитания 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детском са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 редакцией М.А.Васильевой, В.В.Гербовой, Т.С.Комар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ль :</a:t>
            </a:r>
            <a:br>
              <a:rPr sz="24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лучить эстетически воспитанную и развитую, умеющую эмоционально воспринимать содержание музыкального произведения личность, с учетом отклонений в физическом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657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новные задачи: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витие и коррекция психических процессов (воображения, восприятия), творческих  способностей детей средствами  музыкальной деятельности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Формирование музыкальной культуры, и зарождение общей духовной культуры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Создание  условий для успешного обучения, воспитания и адаптации в социуме  ребенка с ограниченными физическими возмож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Формы организации музыкальной деятельности в детском с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1600200"/>
            <a:ext cx="3200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ыкально-коррек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28600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групповы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228600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86000"/>
            <a:ext cx="2362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онт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емат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3200400"/>
            <a:ext cx="2895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енные ситу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809880"/>
            <a:ext cx="2362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809880"/>
            <a:ext cx="25146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3809880"/>
            <a:ext cx="2362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азных жизн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800600"/>
            <a:ext cx="2743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638680"/>
            <a:ext cx="23619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жетно-ро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5638680"/>
            <a:ext cx="2362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ык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5638680"/>
            <a:ext cx="2362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иц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297180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4495680"/>
            <a:ext cx="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541008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5410080"/>
            <a:ext cx="22860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047760" y="5410080"/>
            <a:ext cx="22860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узыкально-коррекционного заня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Приветствие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«Свободное движение»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Ритмическая разминка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Пение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Слушание музыки и игра на детских музыкальных инструментах;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Танцы, хороводы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Подвижные игры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Прощание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ривет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6324840" cy="474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39625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Свободное движ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90920" y="5638680"/>
            <a:ext cx="38862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итмическая разм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GIRL</cp:lastModifiedBy>
  <dcterms:modified xsi:type="dcterms:W3CDTF">2011-11-11T15:00:2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