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http://s40.radikal.ru/i090/1202/0a/d0b89f77a148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БДОУ ЦРР детский сад №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спользование мнемотехники при заучивании стихотворений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Я слышу и забываю.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Я вижу и запоминаю.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Я делаю и понимаю.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Конфу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: Кайтукова Ю.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http://almaty.economiser.ru/files/upload/coupons/Almaty/obuchenie/9ff7c7e9f71f8ab7634d55e89e528739.jpg"/>
          <p:cNvPicPr/>
          <p:nvPr/>
        </p:nvPicPr>
        <p:blipFill>
          <a:blip r:embed="rId2"/>
          <a:stretch/>
        </p:blipFill>
        <p:spPr>
          <a:xfrm>
            <a:off x="990720" y="2165400"/>
            <a:ext cx="3124080" cy="2806560"/>
          </a:xfrm>
          <a:prstGeom prst="rect">
            <a:avLst/>
          </a:prstGeom>
          <a:ln w="9360">
            <a:solidFill>
              <a:srgbClr val="224b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432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апоминаем стихи, рису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0a59c9677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8076960" cy="62103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НЕМОТЕХНИК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греч. - искусство запоминания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немотехника</a:t>
            </a:r>
            <a:r>
              <a:rPr b="0" lang="ru-RU" sz="4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– это специально разработа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риёмы и способы, облегчающие процесс запоминания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6" descr="j0232133"/>
          <p:cNvPicPr/>
          <p:nvPr/>
        </p:nvPicPr>
        <p:blipFill>
          <a:blip r:embed="rId2"/>
          <a:stretch/>
        </p:blipFill>
        <p:spPr>
          <a:xfrm>
            <a:off x="5943600" y="228600"/>
            <a:ext cx="2311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0a59c9677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Мнемо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t">
            <a:normAutofit fontScale="9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рганиз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тихотворение удоб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в виде таб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аждая ячейка э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таблицы мо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оответствов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дному слову или целой фраз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з стихотвор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1371600"/>
          <a:ext cx="2666880" cy="33526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a59c9677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пример,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800280"/>
            <a:ext cx="8001000" cy="56577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ко, не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чка, кастрю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ело, улы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на, н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Ёлка, 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чет, пры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752480" y="1143000"/>
            <a:ext cx="1219320" cy="476280"/>
          </a:xfrm>
          <a:prstGeom prst="cloudCallout">
            <a:avLst>
              <a:gd name="adj1" fmla="val -45833"/>
              <a:gd name="adj2" fmla="val -11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209680" y="2057400"/>
            <a:ext cx="60984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1337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286000" y="3886200"/>
            <a:ext cx="4572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ree"/>
          <p:cNvSpPr/>
          <p:nvPr/>
        </p:nvSpPr>
        <p:spPr>
          <a:xfrm>
            <a:off x="1981080" y="4800600"/>
            <a:ext cx="1219320" cy="609480"/>
          </a:xfrm>
          <a:custGeom>
            <a:avLst/>
            <a:gdLst>
              <a:gd name="textAreaLeft" fmla="*/ 42840 w 1219320"/>
              <a:gd name="textAreaRight" fmla="*/ 1189440 w 1219320"/>
              <a:gd name="textAreaTop" fmla="*/ 633600 h 609480"/>
              <a:gd name="textAreaBottom" fmla="*/ 7984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2133720" y="5715000"/>
            <a:ext cx="812520" cy="533520"/>
          </a:xfrm>
          <a:custGeom>
            <a:avLst/>
            <a:gdLst>
              <a:gd name="textAreaLeft" fmla="*/ 118800 w 812520"/>
              <a:gd name="textAreaRight" fmla="*/ 693720 w 812520"/>
              <a:gd name="textAreaTop" fmla="*/ 78120 h 533520"/>
              <a:gd name="textAreaBottom" fmla="*/ 45540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a59c9677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игрушки"/>
          <p:cNvPicPr/>
          <p:nvPr/>
        </p:nvPicPr>
        <p:blipFill>
          <a:blip r:embed="rId2"/>
          <a:stretch/>
        </p:blipFill>
        <p:spPr>
          <a:xfrm>
            <a:off x="1219320" y="0"/>
            <a:ext cx="6324480" cy="41148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1" name="Прямоугольник 8"/>
          <p:cNvSpPr/>
          <p:nvPr/>
        </p:nvSpPr>
        <p:spPr>
          <a:xfrm>
            <a:off x="914400" y="411480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 большом диване в р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Куклы Катины сид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Два медведя, Буратино и весёлый Чиполл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 котенок и слон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,2,3,4,5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Помогаем нашей Кате, мы игрушки со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0a59c96772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В нашем ДС"/>
          <p:cNvPicPr/>
          <p:nvPr/>
        </p:nvPicPr>
        <p:blipFill>
          <a:blip r:embed="rId2"/>
          <a:stretch/>
        </p:blipFill>
        <p:spPr>
          <a:xfrm>
            <a:off x="1066680" y="304920"/>
            <a:ext cx="6934320" cy="39621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64" name="Прямоугольник 7"/>
          <p:cNvSpPr/>
          <p:nvPr/>
        </p:nvSpPr>
        <p:spPr>
          <a:xfrm>
            <a:off x="1066680" y="434340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шем детском саду – маленькие стол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шем детском саду – голуби и крол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шем детском саду – песенки и ска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шем детском саду – кубики и кра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2" descr="http://tashcult.ru/wp-content/uploads/2013/05/1265903667_shiny-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0a59c96772c1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йтук</dc:creator>
  <dc:description/>
  <dc:language>en-US</dc:language>
  <cp:lastModifiedBy>кайтук</cp:lastModifiedBy>
  <dcterms:modified xsi:type="dcterms:W3CDTF">2014-04-08T17:26:01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