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8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7.png" ContentType="image/png"/>
  <Override PartName="/ppt/media/image22.jpeg" ContentType="image/jpeg"/>
  <Override PartName="/ppt/media/image5.jpeg" ContentType="image/jpeg"/>
  <Override PartName="/ppt/media/image8.gif" ContentType="image/gif"/>
  <Override PartName="/ppt/media/image27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1.png" ContentType="image/png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619-31CC-41F8-968A-96FC0564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158-F108-417D-95CB-AAACE15C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F1A-1965-48C1-9E88-2F8958CF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CFF-1264-4AA1-9F70-78CCC567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9826-4B74-4111-A9F4-34D9A117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0632-4B39-40DC-9045-F060306F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4171-C9EB-4473-BBB0-88B13036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565C-F21C-4E70-A4D8-68591B1B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49A6-C7DD-4780-9346-72FE72F7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A72D-973C-439F-B965-DC317BD6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0DF5-2D5B-4AA4-B400-EC899A5B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B45-3303-4527-9956-883E288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B06E-C43E-4176-9B5D-D7155A5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7209-647D-48DF-8018-C5A6A990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B5D9-0FA8-4DB1-A730-EEB32B33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43EA-AB89-483A-B0BD-7A82D372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3A84-2086-4209-AF57-DB5B3218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426-A6F4-4877-9330-0B20B53E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F8E-DEAE-4EA0-9A0E-C45DFAB4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D02-9F49-4F7F-AAFC-2629C7AB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9C6-611E-456E-B7C3-280134F8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377-31A6-4CAF-B681-074AF57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4EC-F157-45D1-959F-6F1E4B9F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68C-18BC-4D01-AD45-2124F599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62BC-EE1E-427D-A15B-CAD1832A0D8B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0FEB-273E-40D1-9CFC-E2C95ABED4DF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orta.org.tr/reshims/data/20090520_2928_2387964130.jpg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.deseretnews.com/images/article/sidebar/590104003/image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890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719280" y="549360"/>
            <a:ext cx="8100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Неблагоприятные факторы, воздействующие на здоровье ребенк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72428"/>
                </a:solidFill>
                <a:latin typeface="Constantia"/>
              </a:rPr>
              <a:t>Недостаток витаминов, микроэлементов в рационе питания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8" descr="vegetarianstvo-9"/>
          <p:cNvPicPr/>
          <p:nvPr/>
        </p:nvPicPr>
        <p:blipFill>
          <a:blip r:embed="rId1"/>
          <a:stretch/>
        </p:blipFill>
        <p:spPr>
          <a:xfrm>
            <a:off x="3203640" y="328464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7" descr=""/>
          <p:cNvPicPr/>
          <p:nvPr/>
        </p:nvPicPr>
        <p:blipFill>
          <a:blip r:embed="rId1"/>
          <a:stretch/>
        </p:blipFill>
        <p:spPr>
          <a:xfrm>
            <a:off x="244440" y="828720"/>
            <a:ext cx="5699160" cy="325584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9 из 84000">
            <a:hlinkClick r:id="rId2"/>
          </p:cNvPr>
          <p:cNvPicPr/>
          <p:nvPr/>
        </p:nvPicPr>
        <p:blipFill>
          <a:blip r:embed="rId3"/>
          <a:srcRect l="0" t="0" r="15206" b="0"/>
          <a:stretch/>
        </p:blipFill>
        <p:spPr>
          <a:xfrm>
            <a:off x="900000" y="3860640"/>
            <a:ext cx="2880000" cy="2559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{495E71C2-BA69-41ED-B50A-5E1A310A13A6}"/>
          <p:cNvPicPr/>
          <p:nvPr/>
        </p:nvPicPr>
        <p:blipFill>
          <a:blip r:embed="rId4"/>
          <a:stretch/>
        </p:blipFill>
        <p:spPr>
          <a:xfrm>
            <a:off x="6372360" y="260280"/>
            <a:ext cx="2520720" cy="33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рпо"/>
          <p:cNvPicPr/>
          <p:nvPr/>
        </p:nvPicPr>
        <p:blipFill>
          <a:blip r:embed="rId5"/>
          <a:stretch/>
        </p:blipFill>
        <p:spPr>
          <a:xfrm>
            <a:off x="4572000" y="4005360"/>
            <a:ext cx="1928880" cy="2305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Неблагополучная семья 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i-main-pic" descr="Картинка 49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205000"/>
            <a:ext cx="1916280" cy="325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6786720" y="1928880"/>
            <a:ext cx="206028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J0343487"/>
          <p:cNvPicPr/>
          <p:nvPr/>
        </p:nvPicPr>
        <p:blipFill>
          <a:blip r:embed="rId4"/>
          <a:stretch/>
        </p:blipFill>
        <p:spPr>
          <a:xfrm>
            <a:off x="2916360" y="1700280"/>
            <a:ext cx="280800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"/>
          <p:cNvPicPr/>
          <p:nvPr/>
        </p:nvPicPr>
        <p:blipFill>
          <a:blip r:embed="rId5"/>
          <a:stretch/>
        </p:blipFill>
        <p:spPr>
          <a:xfrm>
            <a:off x="3419640" y="3789360"/>
            <a:ext cx="2000160" cy="2314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Constantia"/>
              </a:rPr>
              <a:t>Нельзя требовать от ребенка выполнения тех правил, которые мы сами не соблюдаем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Если родители  выполняют утреннюю зарядку или посещают какие-либо спортивные занятия, а не падают на диван перед телевизором или усаживаются за компьютер, то ребенок будет перенимать их привычки и манеру поведения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8" name="Рисунок 5" descr=""/>
          <p:cNvPicPr/>
          <p:nvPr/>
        </p:nvPicPr>
        <p:blipFill>
          <a:blip r:embed="rId1"/>
          <a:stretch/>
        </p:blipFill>
        <p:spPr>
          <a:xfrm>
            <a:off x="3564000" y="1916280"/>
            <a:ext cx="2376360" cy="1873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2428"/>
                </a:solidFill>
                <a:latin typeface="Garamond"/>
              </a:rPr>
              <a:t>Чтобы привить ребенку     любовь к физическим упражнениям, нужно выполнять все это самому, ведь научить кого-то можно только тому, что умеешь сам.</a:t>
            </a:r>
            <a:br>
              <a:rPr sz="2400"/>
            </a:br>
            <a:r>
              <a:rPr b="1" lang="en-US" sz="2400" spc="-1" strike="noStrike">
                <a:solidFill>
                  <a:srgbClr val="072428"/>
                </a:solidFill>
                <a:latin typeface="Garamond"/>
              </a:rPr>
              <a:t>Если мы действительно беспокоимся о том, чтобы вырастить наших детей крепкими и здоровыми, давайте будем для них достойным примером для подражания!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2987640" y="3573360"/>
            <a:ext cx="3384720" cy="2257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8218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onstantia"/>
              </a:rPr>
              <a:t>Любите  своего ребенка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Constantia"/>
              </a:rPr>
              <a:t>При  желании и труде в каждой семье можно создать обстановку, в которой дети будут здоровыми</a:t>
            </a:r>
            <a:r>
              <a:rPr b="0" lang="en-US" sz="2800" spc="-1" strike="noStrike">
                <a:solidFill>
                  <a:srgbClr val="cc0066"/>
                </a:solidFill>
                <a:latin typeface="Constanti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86000" y="2009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  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2771640" y="2997360"/>
            <a:ext cx="32133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5435640" y="3429000"/>
            <a:ext cx="3384360" cy="2257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Times New Roman"/>
              </a:rPr>
              <a:t>ЗДОРОВЫЕ ДЕТИ –</a:t>
            </a: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Times New Roman"/>
              </a:rPr>
              <a:t>ВЕЛИКОЕ СЧАСТЬЕ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8" name="Picture 6" descr="&amp;Zcy;&amp;dcy;&amp;ocy;&amp;rcy;&amp;ocy;&amp;vcy;&amp;ycy;&amp;iecy; &amp;rcy;&amp;ocy;&amp;dcy;&amp;icy;&amp;tcy;&amp;iecy;&amp;lcy;&amp;icy; – &amp;zcy;&amp;dcy;&amp;ocy;&amp;rcy;&amp;ocy;&amp;vcy;&amp;ycy;&amp;iecy; &amp;dcy;&amp;iecy;&amp;tcy;&amp;icy;. (&amp;Kcy;&amp;ocy;&amp;ncy;&amp;kcy;&amp;ucy;&amp;rcy;&amp;scy;&amp;ncy;&amp;acy;&amp;yacy; &amp;scy;&amp;tcy;&amp;acy;&amp;tcy;&amp;softcy;&amp;yacy;)"/>
          <p:cNvPicPr/>
          <p:nvPr/>
        </p:nvPicPr>
        <p:blipFill>
          <a:blip r:embed="rId1"/>
          <a:stretch/>
        </p:blipFill>
        <p:spPr>
          <a:xfrm>
            <a:off x="5003640" y="3860640"/>
            <a:ext cx="3333960" cy="250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&amp;Zcy;&amp;dcy;&amp;ocy;&amp;rcy;&amp;ocy;&amp;vcy;&amp;ycy;&amp;iecy; &amp;rcy;&amp;ocy;&amp;dcy;&amp;icy;&amp;tcy;&amp;iecy;&amp;lcy;&amp;icy; – &amp;zcy;&amp;dcy;&amp;ocy;&amp;rcy;&amp;ocy;&amp;vcy;&amp;ycy;&amp;iecy; &amp;dcy;&amp;iecy;&amp;tcy;&amp;icy;. (&amp;Kcy;&amp;ocy;&amp;ncy;&amp;kcy;&amp;ucy;&amp;rcy;&amp;scy;&amp;ncy;&amp;acy;&amp;yacy; &amp;scy;&amp;tcy;&amp;acy;&amp;tcy;&amp;softcy;&amp;yacy;)"/>
          <p:cNvPicPr/>
          <p:nvPr/>
        </p:nvPicPr>
        <p:blipFill>
          <a:blip r:embed="rId2"/>
          <a:stretch/>
        </p:blipFill>
        <p:spPr>
          <a:xfrm>
            <a:off x="826920" y="3933720"/>
            <a:ext cx="3333960" cy="25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&amp;Zcy;&amp;dcy;&amp;ocy;&amp;rcy;&amp;ocy;&amp;vcy;&amp;ycy;&amp;iecy; &amp;rcy;&amp;ocy;&amp;dcy;&amp;icy;&amp;tcy;&amp;iecy;&amp;lcy;&amp;icy; – &amp;zcy;&amp;dcy;&amp;ocy;&amp;rcy;&amp;ocy;&amp;vcy;&amp;ycy;&amp;iecy; &amp;dcy;&amp;iecy;&amp;tcy;&amp;icy;. (&amp;Kcy;&amp;ocy;&amp;ncy;&amp;kcy;&amp;ucy;&amp;rcy;&amp;scy;&amp;ncy;&amp;acy;&amp;yacy; &amp;scy;&amp;tcy;&amp;acy;&amp;tcy;&amp;softcy;&amp;yacy;)"/>
          <p:cNvPicPr/>
          <p:nvPr/>
        </p:nvPicPr>
        <p:blipFill>
          <a:blip r:embed="rId3"/>
          <a:stretch/>
        </p:blipFill>
        <p:spPr>
          <a:xfrm>
            <a:off x="2995560" y="2381400"/>
            <a:ext cx="3152880" cy="209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684360" y="1268280"/>
            <a:ext cx="817236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ДОРОВЬЕ  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    СОСТОЯНИЕ       ПОЛНОГО         ФИЗИЧЕСКОГО,   ПСИХИЧЕСКОГ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 СОЦИАЛЬНОГО    БЛАГОПОЛУЧИ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Е ПРОСТО ОТСУТСТВИЕ ДЕФЕК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пределение Всемир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здравоохранен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3564000" y="4724280"/>
            <a:ext cx="260496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User\Desktop\Новая папка\03843268.gif"/>
          <p:cNvPicPr/>
          <p:nvPr/>
        </p:nvPicPr>
        <p:blipFill>
          <a:blip r:embed="rId2"/>
          <a:stretch/>
        </p:blipFill>
        <p:spPr>
          <a:xfrm>
            <a:off x="250920" y="333360"/>
            <a:ext cx="1425600" cy="194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620640"/>
            <a:ext cx="88678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 последнее время в нашей стране идет активная работа по формированию здорового образа жизни среди населения.   Здоровая нация является признаком сильного государства. Одним из главных факторов процветания нации является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доровая семь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nstantia"/>
              </a:rPr>
              <a:t>Семья — это  очень важная социальная единиц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nstantia"/>
              </a:rPr>
              <a:t>которая находится под охраной закона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В Статье 38 Конституции РФ четко изложено, что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. Материнство и детство, семья находятся под защитой государств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. Забота о детях, их воспитание —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авное право и обязанность родител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7" name="Picture 4" descr="40061Big"/>
          <p:cNvPicPr/>
          <p:nvPr/>
        </p:nvPicPr>
        <p:blipFill>
          <a:blip r:embed="rId1"/>
          <a:stretch/>
        </p:blipFill>
        <p:spPr>
          <a:xfrm>
            <a:off x="5940360" y="4941720"/>
            <a:ext cx="2952720" cy="15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72428"/>
                </a:solidFill>
                <a:latin typeface="Constantia"/>
              </a:rPr>
              <a:t>Каждый родитель хочет видеть своих детей здоровыми и счастливыми, но не задумывается о том, как сделать, чтобы их дети жили в ладу с собой, с окружающим их миром, с людьми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Секрет этой гармонии прост —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здоровый образ жизни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303e"/>
                </a:solidFill>
                <a:latin typeface="Constantia"/>
              </a:rPr>
              <a:t>поддержание физического здоровья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303e"/>
                </a:solidFill>
                <a:latin typeface="Constantia"/>
              </a:rPr>
              <a:t>отсутствие вредных привычек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303e"/>
                </a:solidFill>
                <a:latin typeface="Constantia"/>
              </a:rPr>
              <a:t>правильное питани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303e"/>
                </a:solidFill>
                <a:latin typeface="Constantia"/>
              </a:rPr>
              <a:t>радостное ощущение своего существования в этом мир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2664000" cy="1598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 ФАКТОРЫ,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УЮЩИЕ ЗДОРОВЬ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465200" y="1827360"/>
          <a:ext cx="712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1827360"/>
                    <a:ext cx="712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Показатели здоровья учащихся МБОУ «Крутовская ООШ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Вс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сего обучающихся  - 36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сновная группа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- 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  <a:ea typeface="Arial"/>
              </a:rPr>
              <a:t>30 обучающихс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дготовительная групп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  <a:ea typeface="Arial"/>
              </a:rPr>
              <a:t>2 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  <a:ea typeface="Arial"/>
              </a:rPr>
              <a:t>обучающихс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пециальная групп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  <a:ea typeface="Arial"/>
              </a:rPr>
              <a:t>4 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  <a:ea typeface="Arial"/>
              </a:rPr>
              <a:t>обучающихс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11" descr="fiz-ra"/>
          <p:cNvPicPr/>
          <p:nvPr/>
        </p:nvPicPr>
        <p:blipFill>
          <a:blip r:embed="rId1"/>
          <a:stretch/>
        </p:blipFill>
        <p:spPr>
          <a:xfrm>
            <a:off x="6516720" y="4336920"/>
            <a:ext cx="2308320" cy="252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Показатели здоровья и физического состояния подростков в Росс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иод обучения в школ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етей с нервно-психическими отклонениями и расстройствами увеличилось в 4 раза, близорукость возросла в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25-30% детей, приходящих в 1-е классы, имеют те или иные отклонения в состоянии здоровья, а среди выпускников школ уж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-80% нельзя назвать абсолютно здоровы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4" descr="PE07261_"/>
          <p:cNvPicPr/>
          <p:nvPr/>
        </p:nvPicPr>
        <p:blipFill>
          <a:blip r:embed="rId1"/>
          <a:stretch/>
        </p:blipFill>
        <p:spPr>
          <a:xfrm>
            <a:off x="6912000" y="4892760"/>
            <a:ext cx="2232000" cy="1965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истематические занятия физкультурой и спортом способствуют всестороннему физическому совершенствованию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0" name="Picture 6" descr="C:\Users\User\Desktop\Работа\Фото\Школа фото\Фото школа\7 апреля фото\7 апреля 017.jpg"/>
          <p:cNvPicPr/>
          <p:nvPr/>
        </p:nvPicPr>
        <p:blipFill>
          <a:blip r:embed="rId1"/>
          <a:stretch/>
        </p:blipFill>
        <p:spPr>
          <a:xfrm>
            <a:off x="900000" y="1916280"/>
            <a:ext cx="3241800" cy="21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Users\User\Desktop\Работа\Фото\Школа фото\Фото школа\Масленица  фото 2013\Масленица 047.jpg"/>
          <p:cNvPicPr/>
          <p:nvPr/>
        </p:nvPicPr>
        <p:blipFill>
          <a:blip r:embed="rId2"/>
          <a:stretch/>
        </p:blipFill>
        <p:spPr>
          <a:xfrm>
            <a:off x="900000" y="4100400"/>
            <a:ext cx="3260880" cy="2173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9" descr="C:\Users\User\Desktop\Работа\Фото\фото школьное\Школа\Школа 071.jpg"/>
          <p:cNvPicPr/>
          <p:nvPr/>
        </p:nvPicPr>
        <p:blipFill>
          <a:blip r:embed="rId3"/>
          <a:stretch/>
        </p:blipFill>
        <p:spPr>
          <a:xfrm>
            <a:off x="5292720" y="1916280"/>
            <a:ext cx="2879640" cy="431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38:06Z</dcterms:created>
  <dc:creator>I`m</dc:creator>
  <dc:description/>
  <dc:language>en-US</dc:language>
  <cp:lastModifiedBy>Учитель</cp:lastModifiedBy>
  <dcterms:modified xsi:type="dcterms:W3CDTF">2013-10-29T08:58:27Z</dcterms:modified>
  <cp:revision>38</cp:revision>
  <dc:subject/>
  <dc:title>Слайд 1</dc:title>
</cp:coreProperties>
</file>