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AA9C-5F5A-451D-84BA-D8681A32B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вным-давно в глухом лесу рядом с деревушкой жили гномы, обладающие несметными богатствами. Узнав о них, люди стали искать легендарные клады и гномам пришлось уйти далеко в лес, спасаясь от незваных гостей. Бедные гномы голодали, и никто не протягивал им руку помощи. Однажды маленький куст черники приютил их, накормил своими ягодками и закрыл веточками от непогоды. В благодарность ему гномы расселили черничку по всем лесам. Теперь и мы можем лакомиться ей, разгадывая загадки о ягодах черники, которые сочинили сами гно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щищая себя от животных и птиц, кусты шиповника переплетаются между собой, выпуская шипы и охраняя заветные лечебные плоды. Только самым добрым детям, с чистой душой, они позволяют срывать свои ягодки. Загадки про ягоды шиповника сравнивают со сказкой о спящей красавице: они точно также смиренно ждут своего спас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арбарис относится к роду кустарниковых, реже деревьев, семейству Барбарисовых. Это листопадные, полувечнозеленые (листва частично опадает), вечнозеленые кустарники либо маленькие деревца, с ребристыми прямостоящими побегами, которые ветвятся под острым углом. Кора бывает буровато-серого или коричневато-серого цвета. У него есть и другое название 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карамельное дерев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ая ласточка спустилась с неба, неся в клювике несколько капель волшебной воды, которая могла бы сделать людей бессмертными. Позавидовала ей злобная оса, не знающая добра и ужалила, а ласточка уронила капельки на елку и бруснику, потому они теперь всегда остаются зелеными. Вот так толкуется загадка о ягодах брусники и её листоч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940-2832-4D0D-B673-DEB5AA08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D689-E37F-4210-A568-559935A5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1E8-2F23-4A85-A305-3D5B63A3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0A7-5C7C-447E-B330-E5608DCC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E0B-BE38-4A97-BEF9-58AEAB0A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A58-3869-4A17-8689-9B73619E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255-D0F4-45FF-BB9E-1F45711F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372-08B4-4675-99BE-8A8B020A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2E4-D522-47CA-A5E5-B929CD63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E80-25E4-4095-B947-D98BF429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54C-0748-4560-86AA-64B9738B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302-FCD2-454E-B9A2-FCAE37B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A906-3AE7-47A1-B393-DA3F95132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6;&#1083;&#1086;&#1090;&#1086;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76;&#1086;&#1105;&#1084;" TargetMode="External"/><Relationship Id="rId2" Type="http://schemas.openxmlformats.org/officeDocument/2006/relationships/hyperlink" Target="http://ru.wikipedia.org/wiki/&#1055;&#1086;&#1081;&#1084;&#1072;" TargetMode="External"/><Relationship Id="rId3" Type="http://schemas.openxmlformats.org/officeDocument/2006/relationships/hyperlink" Target="http://ru.wikipedia.org/wiki/&#1054;&#1073;&#1083;&#1077;&#1087;&#1080;&#1093;&#1086;&#1074;&#1086;&#1077;_&#1084;&#1072;&#1089;&#1083;&#1086;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7;&#1091;&#1096;&#1082;&#1072;" TargetMode="External"/><Relationship Id="rId2" Type="http://schemas.openxmlformats.org/officeDocument/2006/relationships/hyperlink" Target="http://ru.wikipedia.org/wiki/&#1051;&#1077;&#1089;" TargetMode="External"/><Relationship Id="rId3" Type="http://schemas.openxmlformats.org/officeDocument/2006/relationships/hyperlink" Target="http://ru.wikipedia.org/wiki/&#1042;&#1099;&#1088;&#1091;&#1073;&#1082;&#1072;" TargetMode="External"/><Relationship Id="rId4" Type="http://schemas.openxmlformats.org/officeDocument/2006/relationships/hyperlink" Target="http://ru.wikipedia.org/wiki/&#1050;&#1091;&#1089;&#1090;&#1072;&#1088;&#1085;&#1080;&#1082;" TargetMode="External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43;&#1088;&#1077;&#1095;&#1077;&#1089;&#1082;&#1080;&#1081;_&#1103;&#1079;&#1099;&#1082;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893080" cy="6467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24000" y="549360"/>
            <a:ext cx="266364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г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24360" y="5229360"/>
            <a:ext cx="3743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лесу и в сад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ро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древности называли «болотный янтарь», «очи болотного», «болотный стражник». На севере укоренилось название «царская ягода». Встречается на торфяных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олотах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заболоченных лес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73080"/>
            <a:ext cx="3168360" cy="3168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лепи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ут по берегам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одоёмов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 в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оймах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рек и ручьёв,  кусты большей частью колючие. Плоды оранжевые или красноватые, их много, они густо расположены и как бы «облепляют» ветви (отсюда и русское название растения). Плод имеет шарообразную или вытянутую форму. Плоды съедобные, используются для получения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блепихового мас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24000" y="260280"/>
            <a:ext cx="4113000" cy="308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р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сское название «черника» произошло от цвета ягод и того, что они чернят руки и рот. В природе произрастает преимущественно в северных районах — в лесах, главным образом сосновых, и на боло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Черника"/>
          <p:cNvPicPr/>
          <p:nvPr/>
        </p:nvPicPr>
        <p:blipFill>
          <a:blip r:embed="rId2"/>
          <a:stretch/>
        </p:blipFill>
        <p:spPr>
          <a:xfrm>
            <a:off x="971640" y="0"/>
            <a:ext cx="1801800" cy="2303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79280" y="2303640"/>
            <a:ext cx="3621240" cy="455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ипо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ущие на территории нашей страны шиповники в основном представляют из себя кустарники. Отвар шиповника особенно эффективен для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офилактики ОР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в зимнее время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423864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221000" cy="281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рбар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ошо растет при слабом затенении на опушках леса, среди кустарников и в долинах рек. обладают приятным вкусом, утоляют жажду, содержат глюкозу» фруктозу, яблочную кислоту и витамин С.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омендуется собирать их поздней осенью слегка подмороженными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Барбарис"/>
          <p:cNvPicPr/>
          <p:nvPr/>
        </p:nvPicPr>
        <p:blipFill>
          <a:blip r:embed="rId1"/>
          <a:stretch/>
        </p:blipFill>
        <p:spPr>
          <a:xfrm>
            <a:off x="611280" y="333360"/>
            <a:ext cx="2522520" cy="253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809880" cy="359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рус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ус сочная, слад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т в сухих и сырых хвойных лесах, в лиственных лесах, иногда на торфяных болотах; сочная, сладк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Брусника фото 5"/>
          <p:cNvPicPr/>
          <p:nvPr/>
        </p:nvPicPr>
        <p:blipFill>
          <a:blip r:embed="rId1"/>
          <a:stretch/>
        </p:blipFill>
        <p:spPr>
          <a:xfrm>
            <a:off x="179280" y="342108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Брусника фото 1"/>
          <p:cNvPicPr/>
          <p:nvPr/>
        </p:nvPicPr>
        <p:blipFill>
          <a:blip r:embed="rId2"/>
          <a:stretch/>
        </p:blipFill>
        <p:spPr>
          <a:xfrm>
            <a:off x="179280" y="135000"/>
            <a:ext cx="4403880" cy="3292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92720" y="4370400"/>
            <a:ext cx="3384720" cy="24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луб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т на малопригодных кислых почвах, на торфяных болотах, в сырых лесах,  сочная, слад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822760" cy="3527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381636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Ежев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ет на лесных полянах, по берегам рек, на заливных лугах, у дорожных канав, вблизи болот, во влажных лесах. Плоды по внешнему виду напоминают малину, но не имеют такого приятного аромата и не отделяются от плодоножек, состоят из небольшого числа костяночек с крупными приплюснутыми косточками, черные,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Ежевика, плоды, фото"/>
          <p:cNvPicPr/>
          <p:nvPr/>
        </p:nvPicPr>
        <p:blipFill>
          <a:blip r:embed="rId1"/>
          <a:stretch/>
        </p:blipFill>
        <p:spPr>
          <a:xfrm>
            <a:off x="0" y="3114720"/>
            <a:ext cx="5003640" cy="3743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108000"/>
            <a:ext cx="4321080" cy="296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емл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мляника лесная растёт на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пушк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в осветлённых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ес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на лесных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ырубк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 и среди 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устарни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79280" y="476280"/>
            <a:ext cx="4427640" cy="297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84360" y="3573360"/>
            <a:ext cx="3456000" cy="317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у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якоть сладкая, нежная, очень ароматная, растет в с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Клубника"/>
          <p:cNvPicPr/>
          <p:nvPr/>
        </p:nvPicPr>
        <p:blipFill>
          <a:blip r:embed="rId1"/>
          <a:stretch/>
        </p:blipFill>
        <p:spPr>
          <a:xfrm>
            <a:off x="179280" y="0"/>
            <a:ext cx="3552840" cy="293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Клубника (земляника) садовая, безусая, ремонтантная"/>
          <p:cNvPicPr/>
          <p:nvPr/>
        </p:nvPicPr>
        <p:blipFill>
          <a:blip r:embed="rId2"/>
          <a:stretch/>
        </p:blipFill>
        <p:spPr>
          <a:xfrm>
            <a:off x="468360" y="2924280"/>
            <a:ext cx="37447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ю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ὀξύ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«кислый») и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греч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όκκο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(«ягода»), по вкусу плодов. Первые европейские поселенцы называли клюкву «Сraneberry» (букв. ягода-журавль), так как раскрытые цветки на стеблях напоминали им шею и голову журавля. В 17 веке Новой Англии клюкву иногда называли «медвежья ягода», так как люди часто видели, как медведи поедали её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Клюква"/>
          <p:cNvPicPr/>
          <p:nvPr/>
        </p:nvPicPr>
        <p:blipFill>
          <a:blip r:embed="rId3"/>
          <a:stretch/>
        </p:blipFill>
        <p:spPr>
          <a:xfrm>
            <a:off x="0" y="260280"/>
            <a:ext cx="4859280" cy="2444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4427640" cy="295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ёт по вырубкам, лесам, кустарникам, берегам рек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4500720" cy="3840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4105440" cy="2733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2955600" cy="253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8T06:55:20Z</dcterms:created>
  <dc:creator>User</dc:creator>
  <dc:description/>
  <dc:language>en-US</dc:language>
  <cp:lastModifiedBy>User</cp:lastModifiedBy>
  <dcterms:modified xsi:type="dcterms:W3CDTF">2013-10-13T19:14:46Z</dcterms:modified>
  <cp:revision>9</cp:revision>
  <dc:subject/>
  <dc:title>Слайд 1</dc:title>
</cp:coreProperties>
</file>