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2.png" ContentType="image/png"/>
  <Override PartName="/ppt/media/image31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4FC-B26C-469D-8F92-6CC8209A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CCD-883E-4986-B564-625BFCCF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19A-F1FD-445D-B6EB-BFC5B4C2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FF8-F891-4A0D-9C6A-904A5B88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159-7C1D-4DC5-8F06-62F25D1D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1177-CEC5-4272-B6B1-E472FE87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08C8-0C4F-4BC1-A9B8-A833F784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FC8F-8932-4A4F-A666-FCBE603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24B-8E45-493A-8BF2-7EFD31BE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414F-23F2-4B59-A09D-211A6334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1E4-1DD2-4887-BC63-84131D2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049-F51D-4E0A-952B-BED156C3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F3E9-614A-4F17-8762-4400E05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B0E-0A68-4A34-846B-CE182D7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3681-A976-449F-9846-17B8C2C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4A0B-337D-4BDD-892B-B0FCE4B0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B04-4961-4D15-ADA9-201760B0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ABD-AACE-4FFA-AD95-0B41DCB3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00C-32DB-4F82-84B7-FF55BDD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9B5-8677-4ADE-A168-F9590D0F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8A6-0D2D-48C5-9448-724CCEC2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8BE-0B1F-473D-B904-8CB3571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89C-BB0A-4813-8FF6-C229C8D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F17-EC7F-415E-83BE-19E4C022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3DF4-87AD-4E03-BC0C-285A9A8AA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BDD-37F6-488A-8593-597B9C6A2A43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Garamond"/>
              </a:rPr>
              <a:t>Сказка – ложь, да в ней намёк…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( сказочная викторина)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Garamond"/>
              </a:rPr>
              <a:t>Разработала Александрова Т.Ю.,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Garamond"/>
              </a:rPr>
              <a:t>учитель русского языка и литературы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286160" y="1857240"/>
            <a:ext cx="4286520" cy="4286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"/>
          <p:cNvSpPr/>
          <p:nvPr/>
        </p:nvSpPr>
        <p:spPr>
          <a:xfrm>
            <a:off x="571680" y="2357280"/>
            <a:ext cx="807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за зверь на свете ж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н с хозяином друж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ным, хитрым  зверь тот бы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сапогах всегда ходи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580320" y="5857920"/>
            <a:ext cx="37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т в сап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Zolotaja_ribka9.jpg"/>
          <p:cNvPicPr/>
          <p:nvPr/>
        </p:nvPicPr>
        <p:blipFill>
          <a:blip r:embed="rId1"/>
          <a:stretch/>
        </p:blipFill>
        <p:spPr>
          <a:xfrm>
            <a:off x="3643200" y="2571840"/>
            <a:ext cx="5143680" cy="30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Box 2"/>
          <p:cNvSpPr/>
          <p:nvPr/>
        </p:nvSpPr>
        <p:spPr>
          <a:xfrm>
            <a:off x="285840" y="185724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какими словами обраща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 стар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тарух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714240" y="578628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урачина ты, простофил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3554280"/>
            <a:ext cx="3765600" cy="3303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131760" y="1928880"/>
            <a:ext cx="858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л-был принц, который влюб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инцессу и подарил ей самое дорогое,что у него было: соловья и ро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принцесса отверг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подар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сделал прин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бы же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капризной прин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929040" y="5929200"/>
            <a:ext cx="461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ал свинопас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Группа 19"/>
          <p:cNvGrpSpPr/>
          <p:nvPr/>
        </p:nvGrpSpPr>
        <p:grpSpPr>
          <a:xfrm>
            <a:off x="5643720" y="2428920"/>
            <a:ext cx="2714400" cy="3571920"/>
            <a:chOff x="5643720" y="2428920"/>
            <a:chExt cx="2714400" cy="3571920"/>
          </a:xfrm>
        </p:grpSpPr>
        <p:pic>
          <p:nvPicPr>
            <p:cNvPr id="140" name="Picture 18" descr="D:\Мои рисунки\сказки\Пушкин\художник Виктор Корольков\ск_25.jpg"/>
            <p:cNvPicPr/>
            <p:nvPr/>
          </p:nvPicPr>
          <p:blipFill>
            <a:blip r:embed="rId1"/>
            <a:stretch/>
          </p:blipFill>
          <p:spPr>
            <a:xfrm>
              <a:off x="5837400" y="2491560"/>
              <a:ext cx="2260800" cy="34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ramka_03y"/>
            <p:cNvPicPr/>
            <p:nvPr/>
          </p:nvPicPr>
          <p:blipFill>
            <a:blip r:embed="rId2"/>
            <a:stretch/>
          </p:blipFill>
          <p:spPr>
            <a:xfrm>
              <a:off x="5643720" y="2428920"/>
              <a:ext cx="2714400" cy="357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Box 4"/>
          <p:cNvSpPr/>
          <p:nvPr/>
        </p:nvSpPr>
        <p:spPr>
          <a:xfrm>
            <a:off x="285840" y="2357280"/>
            <a:ext cx="61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даное царицы и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Сказки о мёртвой царе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82240" y="4857840"/>
            <a:ext cx="651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Ей в приданое да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было зеркальце о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85840" y="2000160"/>
            <a:ext cx="4857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к звали п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еми богатыр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i.jpeg"/>
          <p:cNvPicPr/>
          <p:nvPr/>
        </p:nvPicPr>
        <p:blipFill>
          <a:blip r:embed="rId1"/>
          <a:stretch/>
        </p:blipFill>
        <p:spPr>
          <a:xfrm>
            <a:off x="4143240" y="2571840"/>
            <a:ext cx="4305600" cy="3244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928800" y="5000760"/>
            <a:ext cx="29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кол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00720" y="314316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0" y="15717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таль женского туалет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которую легко помещаются рек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зёра,  лебе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друг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250560" y="5357880"/>
            <a:ext cx="236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укав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429160" y="2643120"/>
            <a:ext cx="2935440" cy="3932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214200" y="2071800"/>
            <a:ext cx="8115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имя от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юдмилы, геро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эмы 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4643280"/>
            <a:ext cx="60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ладимир-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1214053819_20944311_1206127372_dd99e7a7df509c0f617e"/>
          <p:cNvPicPr/>
          <p:nvPr/>
        </p:nvPicPr>
        <p:blipFill>
          <a:blip r:embed="rId1"/>
          <a:stretch/>
        </p:blipFill>
        <p:spPr>
          <a:xfrm>
            <a:off x="4572000" y="2214720"/>
            <a:ext cx="4064040" cy="4174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0" y="2286000"/>
            <a:ext cx="55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чём Лаплан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пис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исьмо  Фи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3" descr=""/>
          <p:cNvPicPr/>
          <p:nvPr/>
        </p:nvPicPr>
        <p:blipFill>
          <a:blip r:embed="rId2"/>
          <a:stretch/>
        </p:blipFill>
        <p:spPr>
          <a:xfrm>
            <a:off x="390600" y="5089680"/>
            <a:ext cx="5834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643720" y="2071800"/>
            <a:ext cx="3038400" cy="4033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151560" y="2000160"/>
            <a:ext cx="611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ой сказочный 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еврат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грев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бор в транспор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ред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811440" y="571500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м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0" y="150012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чём заключалась  сила Черном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714840" y="2357280"/>
            <a:ext cx="4867200" cy="3500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1166760" y="5715000"/>
            <a:ext cx="27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 бо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86280" y="0"/>
            <a:ext cx="2706840" cy="364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373350"/>
          <p:cNvPicPr/>
          <p:nvPr/>
        </p:nvPicPr>
        <p:blipFill>
          <a:blip r:embed="rId2"/>
          <a:stretch/>
        </p:blipFill>
        <p:spPr>
          <a:xfrm>
            <a:off x="214200" y="0"/>
            <a:ext cx="2998800" cy="4046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5001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Литературная викторин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о сказкам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96" name="Picture 123" descr="images_88918"/>
          <p:cNvPicPr/>
          <p:nvPr/>
        </p:nvPicPr>
        <p:blipFill>
          <a:blip r:embed="rId3"/>
          <a:stretch/>
        </p:blipFill>
        <p:spPr>
          <a:xfrm>
            <a:off x="2286000" y="214308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film_2010_08"/>
          <p:cNvPicPr/>
          <p:nvPr/>
        </p:nvPicPr>
        <p:blipFill>
          <a:blip r:embed="rId1"/>
          <a:stretch/>
        </p:blipFill>
        <p:spPr>
          <a:xfrm>
            <a:off x="4071960" y="2143080"/>
            <a:ext cx="4751280" cy="374508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1" descr=""/>
          <p:cNvPicPr/>
          <p:nvPr/>
        </p:nvPicPr>
        <p:blipFill>
          <a:blip r:embed="rId2"/>
          <a:stretch/>
        </p:blipFill>
        <p:spPr>
          <a:xfrm>
            <a:off x="-189000" y="1908000"/>
            <a:ext cx="6809040" cy="3517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367920" y="6072120"/>
            <a:ext cx="65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аленькая разбой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429160" y="2143080"/>
            <a:ext cx="3457800" cy="3678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357120" y="1928880"/>
            <a:ext cx="76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му был равен р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юймов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пере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санти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428760" y="5214960"/>
            <a:ext cx="509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2, 54 сантим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6143760" y="2614680"/>
            <a:ext cx="267804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223560" y="1928880"/>
            <a:ext cx="892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 называется сказка Братьев Грим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которой геро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шлось из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х сил  взбивать перин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тобы пошёл снег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833760" y="5357880"/>
            <a:ext cx="59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Госпожа Метел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033960" y="2428920"/>
            <a:ext cx="3110040" cy="4127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214200" y="1785960"/>
            <a:ext cx="872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какой сказке расск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 попытке  домаш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рганизовать квар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личных музыкан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0" y="54291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Бременские музыка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1143000" y="214200"/>
            <a:ext cx="70722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Сказоч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428840" y="1643040"/>
            <a:ext cx="4843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Сопер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1714680" y="2714760"/>
            <a:ext cx="22478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Брат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1714680" y="3786120"/>
            <a:ext cx="3963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Лингви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214720" y="2500200"/>
            <a:ext cx="142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500040" y="171468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т великий поэт и сказочник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зывал на поэтические состя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его младшего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я этим соревн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явились прекраснейши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овите  имена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0" y="4857840"/>
            <a:ext cx="864396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Василий Андреевич Жу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 и 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0" y="11430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 Франции жили пять братьев. Жан – адвокат, Пьер – сборщик налогов, Клод – врач, Никола – математик, Шарль – чинов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то из них стал известным сказочником? Назовите его полное и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3714840" y="54291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Шарль Пер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357120" y="1571760"/>
            <a:ext cx="8780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самой ранней юности они бы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вязаны узами дружбы, кото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е прерывалась в течение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изни. Вместе они состав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ервый словарь немецкого языка и выпустили книгу сказ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то он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785960" y="5715000"/>
            <a:ext cx="64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коб и Вильгельм Гри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770200" y="2428920"/>
            <a:ext cx="30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кров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м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ё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714680" y="21420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Подумай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0" y="2286000"/>
            <a:ext cx="1215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поэме «Руслан и Людми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дежда героев украшена яхон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это за драгоценные кам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2701800" y="5357880"/>
            <a:ext cx="54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убины и сапф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1856880"/>
            <a:ext cx="6429600" cy="20005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 чем пришё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невод к старику во второй раз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4429080" y="2285640"/>
            <a:ext cx="4372200" cy="3509640"/>
            <a:chOff x="4429080" y="2285640"/>
            <a:chExt cx="4372200" cy="3509640"/>
          </a:xfrm>
        </p:grpSpPr>
        <p:grpSp>
          <p:nvGrpSpPr>
            <p:cNvPr id="100" name="Group 12"/>
            <p:cNvGrpSpPr/>
            <p:nvPr/>
          </p:nvGrpSpPr>
          <p:grpSpPr>
            <a:xfrm>
              <a:off x="4429080" y="2435760"/>
              <a:ext cx="4301640" cy="3211200"/>
              <a:chOff x="4429080" y="2435760"/>
              <a:chExt cx="4301640" cy="3211200"/>
            </a:xfrm>
          </p:grpSpPr>
          <p:sp>
            <p:nvSpPr>
              <p:cNvPr id="101" name="Rectangle 13"/>
              <p:cNvSpPr/>
              <p:nvPr/>
            </p:nvSpPr>
            <p:spPr>
              <a:xfrm>
                <a:off x="4429080" y="2435760"/>
                <a:ext cx="4301640" cy="3211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14" descr="старик"/>
              <p:cNvPicPr/>
              <p:nvPr/>
            </p:nvPicPr>
            <p:blipFill>
              <a:blip r:embed="rId1"/>
              <a:stretch/>
            </p:blipFill>
            <p:spPr>
              <a:xfrm>
                <a:off x="4774320" y="2659320"/>
                <a:ext cx="3606840" cy="271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15" descr="ramka_03y"/>
            <p:cNvPicPr/>
            <p:nvPr/>
          </p:nvPicPr>
          <p:blipFill>
            <a:blip r:embed="rId2"/>
            <a:stretch/>
          </p:blipFill>
          <p:spPr>
            <a:xfrm rot="16200000">
              <a:off x="4860360" y="1854360"/>
              <a:ext cx="3509640" cy="437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Box 9"/>
          <p:cNvSpPr/>
          <p:nvPr/>
        </p:nvSpPr>
        <p:spPr>
          <a:xfrm>
            <a:off x="1071720" y="578628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 морскою трав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14200" y="17146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о Франции она Сандрильон, в немецких сказках - Ашенпуттель. Английским детям она известна, как Синдерелла.На Украине-Попелюшка. А под каким именем знаем её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052080" y="528624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ол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85840" y="1571760"/>
            <a:ext cx="9066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произведениях 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стречаются два героя с од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тем же именем. Один из них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лодей, другой – во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овите имя гер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3206520" y="5786280"/>
            <a:ext cx="27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ерно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2004480" y="2786040"/>
            <a:ext cx="37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одствен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54480" y="2143080"/>
            <a:ext cx="869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 берегу какой реки Русл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 своими соперн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правился на поиски Людми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3706200" y="5214960"/>
            <a:ext cx="17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неп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0" y="150012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ем был брат Черномора? Что их связывало помимо род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214200" y="335772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олова – брат Черном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х связывал один меч, лишивший Голову тела, а Черномора - бо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068200" y="2214720"/>
            <a:ext cx="32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мя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285840" y="135720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й сказочной героине поставлен памятни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авший символом города, родины великого сказочника. Кто эта героиня и в каком городе стоит памятн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177"/>
          <p:cNvPicPr/>
          <p:nvPr/>
        </p:nvPicPr>
        <p:blipFill>
          <a:blip r:embed="rId1"/>
          <a:srcRect l="49445" t="48831" r="0" b="0"/>
          <a:stretch/>
        </p:blipFill>
        <p:spPr>
          <a:xfrm>
            <a:off x="3143160" y="2857680"/>
            <a:ext cx="4508640" cy="30715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817920" y="2000160"/>
            <a:ext cx="73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мятник Русалочке в Копенгаг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428760" y="23572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7030a0"/>
                </a:solidFill>
                <a:latin typeface="Comic Sans MS"/>
              </a:rPr>
              <a:t>Молодцы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snejnaya_koroleva_001"/>
          <p:cNvPicPr/>
          <p:nvPr/>
        </p:nvPicPr>
        <p:blipFill>
          <a:blip r:embed="rId1"/>
          <a:stretch/>
        </p:blipFill>
        <p:spPr>
          <a:xfrm>
            <a:off x="3714840" y="1714680"/>
            <a:ext cx="5016240" cy="4179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4000680" cy="35719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уда Каю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попали осколки зеркала троллей?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000160" y="5786280"/>
            <a:ext cx="50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глаз и в сер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2214720"/>
            <a:ext cx="3807000" cy="4429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1928880" y="1571760"/>
            <a:ext cx="72151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остом был он очень ма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о братьев от  беды спаса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злого людоеда см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тавить без его сапо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336480" y="5214960"/>
            <a:ext cx="54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альчик-с-п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19"/>
          <p:cNvGrpSpPr/>
          <p:nvPr/>
        </p:nvGrpSpPr>
        <p:grpSpPr>
          <a:xfrm>
            <a:off x="285840" y="2786040"/>
            <a:ext cx="4786200" cy="3429000"/>
            <a:chOff x="285840" y="2786040"/>
            <a:chExt cx="4786200" cy="3429000"/>
          </a:xfrm>
        </p:grpSpPr>
        <p:pic>
          <p:nvPicPr>
            <p:cNvPr id="112" name="Picture 18" descr="D:\Мои рисунки\сказки\Пушкин\художник Виктор Корольков\ск_07.gif"/>
            <p:cNvPicPr/>
            <p:nvPr/>
          </p:nvPicPr>
          <p:blipFill>
            <a:blip r:embed="rId1"/>
            <a:stretch/>
          </p:blipFill>
          <p:spPr>
            <a:xfrm>
              <a:off x="285840" y="2786040"/>
              <a:ext cx="4786200" cy="33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ramka_03y"/>
            <p:cNvPicPr/>
            <p:nvPr/>
          </p:nvPicPr>
          <p:blipFill>
            <a:blip r:embed="rId2"/>
            <a:stretch/>
          </p:blipFill>
          <p:spPr>
            <a:xfrm>
              <a:off x="364680" y="2786040"/>
              <a:ext cx="466452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4"/>
          <p:cNvSpPr/>
          <p:nvPr/>
        </p:nvSpPr>
        <p:spPr>
          <a:xfrm>
            <a:off x="214200" y="150012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кую песню пела белочка, когда грызла ореш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643720" y="421488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2000160" y="571500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 саду ли в огород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c5a8e3acaae1"/>
          <p:cNvPicPr/>
          <p:nvPr/>
        </p:nvPicPr>
        <p:blipFill>
          <a:blip r:embed="rId1"/>
          <a:stretch/>
        </p:blipFill>
        <p:spPr>
          <a:xfrm>
            <a:off x="3929040" y="1857240"/>
            <a:ext cx="4876920" cy="4016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0" y="171468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е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ладывал К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 зам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нежной короле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71680" y="535788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веч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3130560" cy="44290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214800" y="1571760"/>
            <a:ext cx="5929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дин укол веретен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погрузилась в сон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 волшебн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олгий-долгий со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олетье буд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литься 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928960" y="60008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пящ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2"/>
          <p:cNvGrpSpPr/>
          <p:nvPr/>
        </p:nvGrpSpPr>
        <p:grpSpPr>
          <a:xfrm>
            <a:off x="500040" y="1571760"/>
            <a:ext cx="4103280" cy="3958560"/>
            <a:chOff x="500040" y="1571760"/>
            <a:chExt cx="4103280" cy="3958560"/>
          </a:xfrm>
        </p:grpSpPr>
        <p:grpSp>
          <p:nvGrpSpPr>
            <p:cNvPr id="124" name="Group 13"/>
            <p:cNvGrpSpPr/>
            <p:nvPr/>
          </p:nvGrpSpPr>
          <p:grpSpPr>
            <a:xfrm>
              <a:off x="646200" y="1720080"/>
              <a:ext cx="3831840" cy="3402360"/>
              <a:chOff x="646200" y="1720080"/>
              <a:chExt cx="3831840" cy="3402360"/>
            </a:xfrm>
          </p:grpSpPr>
          <p:sp>
            <p:nvSpPr>
              <p:cNvPr id="125" name="Rectangle 14"/>
              <p:cNvSpPr/>
              <p:nvPr/>
            </p:nvSpPr>
            <p:spPr>
              <a:xfrm>
                <a:off x="646200" y="1720080"/>
                <a:ext cx="3831840" cy="3402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15" descr="Балда_02"/>
              <p:cNvPicPr/>
              <p:nvPr/>
            </p:nvPicPr>
            <p:blipFill>
              <a:blip r:embed="rId1"/>
              <a:stretch/>
            </p:blipFill>
            <p:spPr>
              <a:xfrm>
                <a:off x="941760" y="2163960"/>
                <a:ext cx="3240360" cy="2774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Picture 16" descr="ramka_03y"/>
            <p:cNvPicPr/>
            <p:nvPr/>
          </p:nvPicPr>
          <p:blipFill>
            <a:blip r:embed="rId2"/>
            <a:stretch/>
          </p:blipFill>
          <p:spPr>
            <a:xfrm rot="16200000">
              <a:off x="572400" y="1499400"/>
              <a:ext cx="3958560" cy="41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7"/>
          <p:cNvSpPr/>
          <p:nvPr/>
        </p:nvSpPr>
        <p:spPr>
          <a:xfrm>
            <a:off x="4857840" y="1714680"/>
            <a:ext cx="392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 какую плату подряд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ал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аботать у по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708840" y="6072120"/>
            <a:ext cx="63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три щелчка по лб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5:53:58Z</dcterms:created>
  <dc:creator/>
  <dc:description/>
  <dc:language>en-US</dc:language>
  <cp:lastModifiedBy>Татьяна Юрьевна</cp:lastModifiedBy>
  <dcterms:modified xsi:type="dcterms:W3CDTF">2013-12-22T08:47:13Z</dcterms:modified>
  <cp:revision>23</cp:revision>
  <dc:subject/>
  <dc:title>Классный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