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4FF-709C-4EFC-94FC-3F846DC9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488-0212-436A-AC1B-E5E8EAE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E64-13C7-4307-A0EC-4CE55E72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40A-775B-4739-8ED1-B83F6A89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48F26-06C2-4218-89FF-664D47D1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9DC10-328F-4DDB-9BD3-4355C774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78932-C6BD-4314-856F-A1F8D1A0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2D69F-0127-4B12-942F-F6E6ABD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C0962-F3D9-4917-B011-9E969E8A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A0048-0F61-4EA9-8C61-0D8D9A8B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AA4A3-ADF0-4950-AA5A-F1320976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CD4-3EA7-4AA6-B729-D133A023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B5A69-87DD-44E1-B11C-FE50870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94E98-F386-4B86-B2F5-531B6B2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ABA9C-C90E-45FF-BE59-A1519147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F4DC9-71C3-4568-83B8-56012CC3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0AF73-8820-4B70-A07A-6E806ABD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8847-CE68-4302-8E9D-B36B350E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7C4E-8DCA-4698-BF27-927D8302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63D9-5109-4295-A3DB-52B358B2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0201-9A1E-4932-BF73-AD4D7A22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C936-D567-4410-8491-06A94AA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75E-062F-4494-BEDF-A1A8375E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7E3B-DEE3-47C9-BF21-851B9FB9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4D5F-1EFE-4C34-8AE6-87A268C0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05D3-39A4-42BA-ACA1-84FA5594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E120-A3C1-4768-8352-40C42CC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00C4-B302-43A7-B2A3-AADB892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01EE-340E-40BC-8157-472426C6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309E-08FB-4CBC-BF0C-A162EF19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BEB01-D4F3-44E7-8A82-2B222277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DC73BD-D0FA-4F7D-9B6E-22D82BDB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DBA37-B55A-4E81-B725-8CE1D281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7A0-BD61-4C67-9445-BCAF8FA2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AD25A-7C5A-44B1-AB14-0F6C8C92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33B8C-810F-45B0-8A76-3417EA6F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5644B-DCFE-4005-8BF8-8C001375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8F14B-2CF3-417D-8453-5DD39CC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0140D-DFC1-4D91-813F-78297554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2F2FE-827C-4CD9-930C-FB478474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52BF1-ECE4-415A-8D1F-E4DD8310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F85FE-27D2-4ADB-96FA-3163483F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72188-65A4-4291-9898-82E06A34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F3EDA-3601-497C-A277-CEE66B40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DF4-2EC1-4B9B-B8A1-B1AD131F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108E6-9725-4297-9C0D-A112B09F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F46AB-BBD6-4E12-BF90-EED64A0C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8D200-B1EC-4D9C-BE11-A4E0F9C2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5E1E7-E6E6-4DE4-871E-6A7643B3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CA51-101C-427D-A952-032087BE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11D8-BAB9-4506-9974-6F79666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4E740-830B-4C43-A66C-798FD4CD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32FA3-B08A-4FC7-BC78-A939009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A2E3C-258C-4A30-B552-051BCAC3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A88CC-286C-4295-BF44-848FB69F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882-B69C-4F29-A985-6FCBAD50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9CEE-7642-488D-B4E0-23C754F6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F4FCE-5E6F-46FE-B94E-45824540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98FFA-E5FC-446B-B009-E43E69A7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FE1FB-9315-4B15-A917-1089018F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6C5BB-3074-47C1-BACA-3AFCF751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911A8-E5B4-4F8A-9C3B-C203D264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9375-E49A-40A0-BC02-D421ED73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280D3-9C2E-4BBD-A7E3-687A91A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1175-A4F3-4076-9207-D57B5E4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6F60B-09CA-49D0-B562-79F941F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7DC-C22B-4038-805D-22CD0D67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388A7-9B9E-43B5-A992-936A8885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C9106-707A-435D-9057-C031EA50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F99B3-4CBE-4EFE-88A9-6721E31C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1A4-6AC7-4BA0-9DF8-A858F62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F61-4718-4D7C-8489-FE40116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0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8700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8e9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B575-A026-4C25-98BE-61022A0D38EA}" type="slidenum">
              <a:rPr b="0" lang="ru-RU" sz="1600" spc="-1" strike="noStrike">
                <a:solidFill>
                  <a:srgbClr val="e8e9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be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be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09a08"/>
          </a:solidFill>
          <a:ln w="38160">
            <a:solidFill>
              <a:srgbClr val="d09a08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0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8700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8e9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2E8E-F616-4FB8-9A8D-FAD874351686}" type="slidenum">
              <a:rPr b="0" lang="ru-RU" sz="1600" spc="-1" strike="noStrike">
                <a:solidFill>
                  <a:srgbClr val="e8e9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0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8700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8e9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4BF9-6DA3-4977-A569-285C2702622E}" type="slidenum">
              <a:rPr b="0" lang="ru-RU" sz="1600" spc="-1" strike="noStrike">
                <a:solidFill>
                  <a:srgbClr val="e8e9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be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be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0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8700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8e9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B7EE-0B73-4373-9E84-84E86982E36F}" type="slidenum">
              <a:rPr b="0" lang="ru-RU" sz="1600" spc="-1" strike="noStrike">
                <a:solidFill>
                  <a:srgbClr val="e8e9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0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8700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8e9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7696-FD95-4B13-A32B-6860F2F32181}" type="slidenum">
              <a:rPr b="0" lang="ru-RU" sz="1600" spc="-1" strike="noStrike">
                <a:solidFill>
                  <a:srgbClr val="e8e9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0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8700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787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8e9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2F9A-D69D-4EA9-9E28-CDF868B634D8}" type="slidenum">
              <a:rPr b="0" lang="ru-RU" sz="1600" spc="-1" strike="noStrike">
                <a:solidFill>
                  <a:srgbClr val="e8e9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senin.ru/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73080" y="92160"/>
            <a:ext cx="5456160" cy="1792080"/>
          </a:xfrm>
          <a:prstGeom prst="rect">
            <a:avLst/>
          </a:prstGeom>
          <a:ln w="0">
            <a:noFill/>
          </a:ln>
        </p:spPr>
      </p:pic>
      <p:pic>
        <p:nvPicPr>
          <p:cNvPr id="253" name="Изображение 1" descr="Esenin1.jpg"/>
          <p:cNvPicPr/>
          <p:nvPr/>
        </p:nvPicPr>
        <p:blipFill>
          <a:blip r:embed="rId2"/>
          <a:stretch/>
        </p:blipFill>
        <p:spPr>
          <a:xfrm>
            <a:off x="5148360" y="1197000"/>
            <a:ext cx="3686040" cy="5661000"/>
          </a:xfrm>
          <a:prstGeom prst="rect">
            <a:avLst/>
          </a:prstGeom>
          <a:ln w="0">
            <a:noFill/>
          </a:ln>
        </p:spPr>
      </p:pic>
      <p:pic>
        <p:nvPicPr>
          <p:cNvPr id="254" name="Изображение 2" descr="S.A.Esenin.1921.jpg"/>
          <p:cNvPicPr/>
          <p:nvPr/>
        </p:nvPicPr>
        <p:blipFill>
          <a:blip r:embed="rId3"/>
          <a:stretch/>
        </p:blipFill>
        <p:spPr>
          <a:xfrm>
            <a:off x="395280" y="2259000"/>
            <a:ext cx="28814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reih"/>
          <p:cNvPicPr/>
          <p:nvPr/>
        </p:nvPicPr>
        <p:blipFill>
          <a:blip r:embed="rId1"/>
          <a:stretch/>
        </p:blipFill>
        <p:spPr>
          <a:xfrm>
            <a:off x="3203640" y="1484280"/>
            <a:ext cx="2960640" cy="3986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1770120" y="5515920"/>
            <a:ext cx="6313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З.Райх с детьми - Таней и Костей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527120" y="496800"/>
            <a:ext cx="61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инаида Райх – актриса, жена С.Есе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dunkan_a_3"/>
          <p:cNvPicPr/>
          <p:nvPr/>
        </p:nvPicPr>
        <p:blipFill>
          <a:blip r:embed="rId1"/>
          <a:stretch/>
        </p:blipFill>
        <p:spPr>
          <a:xfrm>
            <a:off x="395280" y="189000"/>
            <a:ext cx="3311640" cy="23619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6"/>
          <p:cNvSpPr/>
          <p:nvPr/>
        </p:nvSpPr>
        <p:spPr>
          <a:xfrm>
            <a:off x="3708720" y="404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 Дунка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7" descr="dunkan"/>
          <p:cNvPicPr/>
          <p:nvPr/>
        </p:nvPicPr>
        <p:blipFill>
          <a:blip r:embed="rId2"/>
          <a:stretch/>
        </p:blipFill>
        <p:spPr>
          <a:xfrm>
            <a:off x="6588000" y="260280"/>
            <a:ext cx="2349720" cy="32418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8"/>
          <p:cNvSpPr/>
          <p:nvPr/>
        </p:nvSpPr>
        <p:spPr>
          <a:xfrm>
            <a:off x="6804000" y="372420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А. Дункан. Берлин. 1922г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0" descr="dunkan2"/>
          <p:cNvPicPr/>
          <p:nvPr/>
        </p:nvPicPr>
        <p:blipFill>
          <a:blip r:embed="rId3"/>
          <a:stretch/>
        </p:blipFill>
        <p:spPr>
          <a:xfrm>
            <a:off x="395280" y="2852640"/>
            <a:ext cx="1959120" cy="30686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1"/>
          <p:cNvSpPr/>
          <p:nvPr/>
        </p:nvSpPr>
        <p:spPr>
          <a:xfrm>
            <a:off x="250920" y="595008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.Есенин и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А.Дункан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в Америке 1922 г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2" descr="dunkan2"/>
          <p:cNvPicPr/>
          <p:nvPr/>
        </p:nvPicPr>
        <p:blipFill>
          <a:blip r:embed="rId4"/>
          <a:stretch/>
        </p:blipFill>
        <p:spPr>
          <a:xfrm>
            <a:off x="4716360" y="3309840"/>
            <a:ext cx="2054160" cy="35481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3"/>
          <p:cNvSpPr/>
          <p:nvPr/>
        </p:nvSpPr>
        <p:spPr>
          <a:xfrm>
            <a:off x="6804000" y="5459400"/>
            <a:ext cx="216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Дункан. Берлин. 1922г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 rot="20370600">
            <a:off x="3000960" y="2185560"/>
            <a:ext cx="37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Я покинул родимый д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олубую оставил Рус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konst"/>
          <p:cNvPicPr/>
          <p:nvPr/>
        </p:nvPicPr>
        <p:blipFill>
          <a:blip r:embed="rId1"/>
          <a:stretch/>
        </p:blipFill>
        <p:spPr>
          <a:xfrm>
            <a:off x="2449440" y="714240"/>
            <a:ext cx="6378480" cy="44294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 flipV="1">
            <a:off x="4859280" y="33300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95280" y="544500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м-музей С.Есенина в с. Константин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828720" y="5445000"/>
            <a:ext cx="75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Московский государственный музей С.Есе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7" descr="esenin"/>
          <p:cNvPicPr/>
          <p:nvPr/>
        </p:nvPicPr>
        <p:blipFill>
          <a:blip r:embed="rId1"/>
          <a:stretch/>
        </p:blipFill>
        <p:spPr>
          <a:xfrm>
            <a:off x="2771640" y="692280"/>
            <a:ext cx="5472360" cy="3851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http://www.vladkurochkin.ru/img/1031382/1032997.jpg"/>
          <p:cNvPicPr/>
          <p:nvPr/>
        </p:nvPicPr>
        <p:blipFill>
          <a:blip r:embed="rId2"/>
          <a:stretch/>
        </p:blipFill>
        <p:spPr>
          <a:xfrm>
            <a:off x="611280" y="3068640"/>
            <a:ext cx="21891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bereza"/>
          <p:cNvPicPr/>
          <p:nvPr/>
        </p:nvPicPr>
        <p:blipFill>
          <a:blip r:embed="rId1"/>
          <a:stretch/>
        </p:blipFill>
        <p:spPr>
          <a:xfrm>
            <a:off x="324000" y="260280"/>
            <a:ext cx="2371680" cy="3789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klen2"/>
          <p:cNvPicPr/>
          <p:nvPr/>
        </p:nvPicPr>
        <p:blipFill>
          <a:blip r:embed="rId2"/>
          <a:stretch/>
        </p:blipFill>
        <p:spPr>
          <a:xfrm>
            <a:off x="2050920" y="1341360"/>
            <a:ext cx="2622600" cy="3456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p112"/>
          <p:cNvPicPr/>
          <p:nvPr/>
        </p:nvPicPr>
        <p:blipFill>
          <a:blip r:embed="rId3"/>
          <a:stretch/>
        </p:blipFill>
        <p:spPr>
          <a:xfrm>
            <a:off x="3924360" y="2708280"/>
            <a:ext cx="3816360" cy="2671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27645"/>
          <p:cNvPicPr/>
          <p:nvPr/>
        </p:nvPicPr>
        <p:blipFill>
          <a:blip r:embed="rId4"/>
          <a:stretch/>
        </p:blipFill>
        <p:spPr>
          <a:xfrm>
            <a:off x="6372360" y="4508640"/>
            <a:ext cx="2592360" cy="19015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8"/>
          <p:cNvSpPr/>
          <p:nvPr/>
        </p:nvSpPr>
        <p:spPr>
          <a:xfrm>
            <a:off x="3471840" y="42372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ай любимый! Сердцу сн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ирды солнца в водах лонных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5148360" y="119700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 Русь, взмахни крыл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тавь иную крепь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487840" y="2152800"/>
            <a:ext cx="30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5435640" y="206064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вени, звени, златая Рус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лнуйся, неуемный ветер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68360" y="5068800"/>
            <a:ext cx="35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Я последний поэт деревн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.Есен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3635280" y="5650200"/>
            <a:ext cx="280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оссия! Сердцу милый край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уша сжимается от боли…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0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Narrow"/>
              </a:rPr>
              <a:t>«Небо – как колоко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 Narrow"/>
              </a:rPr>
              <a:t>Месяц – язык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 Narrow"/>
              </a:rPr>
              <a:t>Мать моя – родина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 Narrow"/>
              </a:rPr>
              <a:t>Я – большевик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4" name="Picture 6" descr="есенин стих 001"/>
          <p:cNvPicPr/>
          <p:nvPr/>
        </p:nvPicPr>
        <p:blipFill>
          <a:blip r:embed="rId1"/>
          <a:stretch/>
        </p:blipFill>
        <p:spPr>
          <a:xfrm>
            <a:off x="4427640" y="1844640"/>
            <a:ext cx="4492440" cy="2662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есенин стих"/>
          <p:cNvPicPr/>
          <p:nvPr/>
        </p:nvPicPr>
        <p:blipFill>
          <a:blip r:embed="rId2"/>
          <a:stretch/>
        </p:blipFill>
        <p:spPr>
          <a:xfrm>
            <a:off x="685800" y="3581280"/>
            <a:ext cx="3505320" cy="19684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8"/>
          <p:cNvSpPr/>
          <p:nvPr/>
        </p:nvSpPr>
        <p:spPr>
          <a:xfrm>
            <a:off x="762120" y="5791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енин выступает на открытии памятника поэту Алексею Кольцову в Москве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WordArt 12"/>
          <p:cNvSpPr txBox="1"/>
          <p:nvPr/>
        </p:nvSpPr>
        <p:spPr>
          <a:xfrm>
            <a:off x="1523880" y="609480"/>
            <a:ext cx="6248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оммуной вздыбленная Рус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0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Narrow"/>
              </a:rPr>
              <a:t>В очередной раз пытается начать семейную жизнь, но его союз с С. А. Толстой (внучкой Л. Н. Толстого) не был счастливым. В конце ноября 1925 измученный скитальчеством и бивуачным бытом поэт попадает в психоневрологическую клини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09a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Narrow"/>
              </a:rPr>
              <a:t>Одним из последних его произведений стала поэма «Черный человек» («Друг мой, друг мой, Я очень и очень болен...»), в которой прошедшая жизнь предстает частью ночного кошмар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0" name="Picture 4" descr="есенин бюст"/>
          <p:cNvPicPr/>
          <p:nvPr/>
        </p:nvPicPr>
        <p:blipFill>
          <a:blip r:embed="rId2"/>
          <a:stretch/>
        </p:blipFill>
        <p:spPr>
          <a:xfrm>
            <a:off x="5029200" y="1828800"/>
            <a:ext cx="3657600" cy="30924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5"/>
          <p:cNvSpPr/>
          <p:nvPr/>
        </p:nvSpPr>
        <p:spPr>
          <a:xfrm>
            <a:off x="5029200" y="4952880"/>
            <a:ext cx="380988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ервав курс леч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3 декабря Есенин поехал в Ленинград, где в ночь на 28 декабря в состоянии глубокой душевной депрессии в гостинице «Англетер» покончил с соб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esenin6"/>
          <p:cNvPicPr/>
          <p:nvPr/>
        </p:nvPicPr>
        <p:blipFill>
          <a:blip r:embed="rId1"/>
          <a:stretch/>
        </p:blipFill>
        <p:spPr>
          <a:xfrm>
            <a:off x="684360" y="404640"/>
            <a:ext cx="5113080" cy="361476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3132000" y="5084640"/>
            <a:ext cx="50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се встречаю, все приемл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д и счастлив душу вы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пришел на эту земл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тоб скорей её поки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6" descr="esenin16"/>
          <p:cNvPicPr/>
          <p:nvPr/>
        </p:nvPicPr>
        <p:blipFill>
          <a:blip r:embed="rId2"/>
          <a:stretch/>
        </p:blipFill>
        <p:spPr>
          <a:xfrm>
            <a:off x="5378400" y="1052640"/>
            <a:ext cx="29750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5580000" y="3221640"/>
            <a:ext cx="281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думаю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Как прекрасна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Земл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И на ней человек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6" descr="27642"/>
          <p:cNvPicPr/>
          <p:nvPr/>
        </p:nvPicPr>
        <p:blipFill>
          <a:blip r:embed="rId1"/>
          <a:stretch/>
        </p:blipFill>
        <p:spPr>
          <a:xfrm>
            <a:off x="5148360" y="260280"/>
            <a:ext cx="3600360" cy="2546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esenin001"/>
          <p:cNvPicPr/>
          <p:nvPr/>
        </p:nvPicPr>
        <p:blipFill>
          <a:blip r:embed="rId2"/>
          <a:stretch/>
        </p:blipFill>
        <p:spPr>
          <a:xfrm>
            <a:off x="971640" y="836640"/>
            <a:ext cx="3811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3927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 октября 1895 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одился великий русский поэт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ерг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ександрович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ЕНИН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11" descr="esenin001"/>
          <p:cNvPicPr/>
          <p:nvPr/>
        </p:nvPicPr>
        <p:blipFill>
          <a:blip r:embed="rId1"/>
          <a:stretch/>
        </p:blipFill>
        <p:spPr>
          <a:xfrm>
            <a:off x="4859280" y="333360"/>
            <a:ext cx="3811680" cy="5111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755640" y="43848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684360" y="4013280"/>
            <a:ext cx="301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я с песн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авном одеял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Зори меня веш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дугу свивал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14" descr="27642"/>
          <p:cNvPicPr/>
          <p:nvPr/>
        </p:nvPicPr>
        <p:blipFill>
          <a:blip r:embed="rId2"/>
          <a:stretch/>
        </p:blipFill>
        <p:spPr>
          <a:xfrm>
            <a:off x="3635280" y="4521240"/>
            <a:ext cx="3024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7" descr="konst"/>
          <p:cNvPicPr/>
          <p:nvPr/>
        </p:nvPicPr>
        <p:blipFill>
          <a:blip r:embed="rId1"/>
          <a:stretch/>
        </p:blipFill>
        <p:spPr>
          <a:xfrm>
            <a:off x="0" y="142920"/>
            <a:ext cx="5472000" cy="38005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1384200" y="4600440"/>
            <a:ext cx="46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Rectangle 9" descr=""/>
          <p:cNvPicPr/>
          <p:nvPr/>
        </p:nvPicPr>
        <p:blipFill>
          <a:blip r:embed="rId2"/>
          <a:stretch/>
        </p:blipFill>
        <p:spPr>
          <a:xfrm>
            <a:off x="0" y="4925880"/>
            <a:ext cx="6534000" cy="5050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0"/>
          <p:cNvSpPr/>
          <p:nvPr/>
        </p:nvSpPr>
        <p:spPr>
          <a:xfrm>
            <a:off x="4716360" y="5157720"/>
            <a:ext cx="426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Родился в 1895 год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1 сентября, в Рязанской губернии, Рязанского уезда, Козьминской волости, в селе Константиново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L01_06_02_03_12_p"/>
          <p:cNvPicPr/>
          <p:nvPr/>
        </p:nvPicPr>
        <p:blipFill>
          <a:blip r:embed="rId3"/>
          <a:stretch/>
        </p:blipFill>
        <p:spPr>
          <a:xfrm>
            <a:off x="4514760" y="1285920"/>
            <a:ext cx="46292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Родители Сергея Есенина - Александр Никитич и &lt;br&gt;Татьяна Федоровна.  1905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950840" cy="30686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2268360" y="477720"/>
            <a:ext cx="2951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Родители Сергея Есенина - Александр Никитич и </a:t>
            </a:r>
            <a:br>
              <a:rPr sz="1600"/>
            </a:b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Татьяна Федоровна. 1905г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042920" y="4005360"/>
            <a:ext cx="419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С двух лет был отдан на воспитание довольно зажиточному деду по матери, у которого было трое взрослых неженатых сыновей, с которыми протекло почти все мое детство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9" descr="esenin007"/>
          <p:cNvPicPr/>
          <p:nvPr/>
        </p:nvPicPr>
        <p:blipFill>
          <a:blip r:embed="rId3"/>
          <a:stretch/>
        </p:blipFill>
        <p:spPr>
          <a:xfrm>
            <a:off x="6227640" y="2708280"/>
            <a:ext cx="2411640" cy="3672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0"/>
          <p:cNvSpPr/>
          <p:nvPr/>
        </p:nvSpPr>
        <p:spPr>
          <a:xfrm>
            <a:off x="5656320" y="63079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Родители С.Есенина. 1924 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2" descr="esenin014"/>
          <p:cNvPicPr/>
          <p:nvPr/>
        </p:nvPicPr>
        <p:blipFill>
          <a:blip r:embed="rId4"/>
          <a:stretch/>
        </p:blipFill>
        <p:spPr>
          <a:xfrm>
            <a:off x="2916360" y="1557360"/>
            <a:ext cx="3457440" cy="21016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3"/>
          <p:cNvSpPr/>
          <p:nvPr/>
        </p:nvSpPr>
        <p:spPr>
          <a:xfrm>
            <a:off x="5219640" y="1125360"/>
            <a:ext cx="30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Есенин с матер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34"/>
          <p:cNvSpPr/>
          <p:nvPr/>
        </p:nvSpPr>
        <p:spPr>
          <a:xfrm>
            <a:off x="395280" y="430056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с сестрами Катей и Шурой. 1912г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36" descr="esenin006"/>
          <p:cNvPicPr/>
          <p:nvPr/>
        </p:nvPicPr>
        <p:blipFill>
          <a:blip r:embed="rId1"/>
          <a:stretch/>
        </p:blipFill>
        <p:spPr>
          <a:xfrm>
            <a:off x="395280" y="260280"/>
            <a:ext cx="2522520" cy="400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8" descr="esenin25"/>
          <p:cNvPicPr/>
          <p:nvPr/>
        </p:nvPicPr>
        <p:blipFill>
          <a:blip r:embed="rId2"/>
          <a:stretch/>
        </p:blipFill>
        <p:spPr>
          <a:xfrm>
            <a:off x="5940360" y="404640"/>
            <a:ext cx="25448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39"/>
          <p:cNvSpPr/>
          <p:nvPr/>
        </p:nvSpPr>
        <p:spPr>
          <a:xfrm>
            <a:off x="6084720" y="4366080"/>
            <a:ext cx="25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с сест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Е.А. Есениной на Пречистинском бульваре в Москве. 1925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40" descr="esenin005"/>
          <p:cNvPicPr/>
          <p:nvPr/>
        </p:nvPicPr>
        <p:blipFill>
          <a:blip r:embed="rId3"/>
          <a:stretch/>
        </p:blipFill>
        <p:spPr>
          <a:xfrm>
            <a:off x="3132000" y="2637000"/>
            <a:ext cx="2465640" cy="3456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41"/>
          <p:cNvSpPr/>
          <p:nvPr/>
        </p:nvSpPr>
        <p:spPr>
          <a:xfrm>
            <a:off x="2987640" y="169992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Есенин с отцом и дядей. 1913 г.</a:t>
            </a: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y1"/>
          <p:cNvPicPr/>
          <p:nvPr/>
        </p:nvPicPr>
        <p:blipFill>
          <a:blip r:embed="rId1"/>
          <a:stretch/>
        </p:blipFill>
        <p:spPr>
          <a:xfrm>
            <a:off x="2195640" y="2276640"/>
            <a:ext cx="6408720" cy="35305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879480" y="423720"/>
            <a:ext cx="63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гда же я подрос, из меня очень захотели сделать сельского учителя и потому отдали в церковно-учительскую школ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771640" y="602064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Школа, которую с отличием закончил С.Есен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6" descr="esenin002"/>
          <p:cNvPicPr/>
          <p:nvPr/>
        </p:nvPicPr>
        <p:blipFill>
          <a:blip r:embed="rId1"/>
          <a:stretch/>
        </p:blipFill>
        <p:spPr>
          <a:xfrm>
            <a:off x="539640" y="260280"/>
            <a:ext cx="3456000" cy="23274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/>
          <p:cNvSpPr/>
          <p:nvPr/>
        </p:nvSpPr>
        <p:spPr>
          <a:xfrm>
            <a:off x="324000" y="2923560"/>
            <a:ext cx="40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 Есенин и Николай Клюев. Фотография 19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esenin8"/>
          <p:cNvPicPr/>
          <p:nvPr/>
        </p:nvPicPr>
        <p:blipFill>
          <a:blip r:embed="rId2"/>
          <a:stretch/>
        </p:blipFill>
        <p:spPr>
          <a:xfrm>
            <a:off x="5796000" y="549360"/>
            <a:ext cx="2835360" cy="37432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9"/>
          <p:cNvSpPr/>
          <p:nvPr/>
        </p:nvSpPr>
        <p:spPr>
          <a:xfrm>
            <a:off x="6588000" y="42987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М. Городецкий. 1915 год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0" descr="esenin19"/>
          <p:cNvPicPr/>
          <p:nvPr/>
        </p:nvPicPr>
        <p:blipFill>
          <a:blip r:embed="rId3"/>
          <a:stretch/>
        </p:blipFill>
        <p:spPr>
          <a:xfrm>
            <a:off x="971640" y="3645000"/>
            <a:ext cx="2808360" cy="1873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1"/>
          <p:cNvSpPr/>
          <p:nvPr/>
        </p:nvSpPr>
        <p:spPr>
          <a:xfrm>
            <a:off x="900000" y="558972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Н.А. Клюев, С.А. Есенин, Всеволод Иванов. 1924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2" descr="esenin18"/>
          <p:cNvPicPr/>
          <p:nvPr/>
        </p:nvPicPr>
        <p:blipFill>
          <a:blip r:embed="rId4"/>
          <a:stretch/>
        </p:blipFill>
        <p:spPr>
          <a:xfrm>
            <a:off x="4067280" y="3357720"/>
            <a:ext cx="2455920" cy="30956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3"/>
          <p:cNvSpPr/>
          <p:nvPr/>
        </p:nvSpPr>
        <p:spPr>
          <a:xfrm>
            <a:off x="6659640" y="5344200"/>
            <a:ext cx="235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Л.М. Леонов. 1924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4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2"/>
          <p:cNvSpPr/>
          <p:nvPr/>
        </p:nvSpPr>
        <p:spPr>
          <a:xfrm>
            <a:off x="4356000" y="3333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енин - cанитар поезда В первой половине 1916 г. Есенин призывается в армию, но благодаря хлопотам друзей получает назначение ("с высочайшего соизволения") санитаром в Царскосельский военно-санитарный поезд N 143 Ее Императорского Величества Государыни Императрицы Александры Федоровны, что позволяет ему беспрепятственно посещать литературные салоны, бывать на приемах у меценатов, выступать на концерт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3"/>
          <p:cNvSpPr/>
          <p:nvPr/>
        </p:nvSpPr>
        <p:spPr>
          <a:xfrm>
            <a:off x="179280" y="4941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одном из концертов в лазарете, к которому он был прикомандирован (здесь же несли службу сестер милосердия императрица и царевны), происходит его встреча с царской семьей. Тогда же вместе с Н. Клюевым они выступают, одетые в древнерусские костюмы, сшитые по эскизам В. Васнецова, на вечерах "Общества возрождения художественной Руси" при Феодоровском городке в Царском Селе, а также приглашаются в Москве к великой княгине Елизав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5"/>
          <p:cNvSpPr/>
          <p:nvPr/>
        </p:nvSpPr>
        <p:spPr>
          <a:xfrm>
            <a:off x="5024520" y="155520"/>
            <a:ext cx="4041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етства слагавший стихи (в основном в подражание А. В. Кольцову, И. С. Никитину, С. Д. Дрожжину), Есенин обретает единомышленников в "Суриковском литературно-музыкальном кружке", членом которого он становится в 1912. Печататься начинает в 1914 в московских детских журналах (дебют стихотворение "Береза"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395280" y="4808520"/>
            <a:ext cx="8077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сной 1915 Есенин приезжает в Петроград, где знакомится с А. А. Блоком, С. М. Городецким, А. М. Ремизовым, Н. С. Гумилевым и др., сближается с Н. А. Клюевым, оказавшим на него значительное влияние. Их совместные выступления со стихами и частушками, стилизованными под "крестьянскую", "народную" манеру (Есенин являлся публике златокудрым молодцем в расшитой рубашке и сафьяновых сапожках), имели большой успе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Изображение 1" descr="esenin01.jpg"/>
          <p:cNvPicPr/>
          <p:nvPr/>
        </p:nvPicPr>
        <p:blipFill>
          <a:blip r:embed="rId1"/>
          <a:stretch/>
        </p:blipFill>
        <p:spPr>
          <a:xfrm>
            <a:off x="755640" y="189000"/>
            <a:ext cx="345600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05:27:39Z</dcterms:created>
  <dc:creator>Дима</dc:creator>
  <dc:description/>
  <dc:language>en-US</dc:language>
  <cp:lastModifiedBy>Яна Колычева</cp:lastModifiedBy>
  <dcterms:modified xsi:type="dcterms:W3CDTF">2014-05-18T13:52:15Z</dcterms:modified>
  <cp:revision>21</cp:revision>
  <dc:subject/>
  <dc:title>Сергей Есенин (1895 – 1926)</dc:title>
</cp:coreProperties>
</file>